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402-EB07-4DEE-8A35-977F014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D66-43D9-4BB5-8844-FA35C6DF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B19-C92D-4E72-8A45-6E96DED4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13E-A436-46B6-809D-79F63B7C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5CD-F6BD-4DB5-A59A-A6837C7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BDD-B6C4-430F-B07E-4CF029C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45A-430D-4A18-8E73-4E7C0487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FEE-173B-4F1A-AC39-BDA8C046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AFC-87A1-4C38-BFDA-09E6D8EF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133-C159-4211-9DF1-243910C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03B-2117-4132-9637-FDC3CA6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DD5-E3E1-4680-8056-ECDDDCC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230-67D5-4EE1-839D-63B8011B5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11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619280" y="189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Страна Смешариков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19280" y="112536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овой трена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тработки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ых случаев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1870200" y="4724280"/>
            <a:ext cx="72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>
            <a:hlinkClick r:id="" action="ppaction://hlinkshowjump?jump=nextslide"/>
          </p:cNvPr>
          <p:cNvSpPr/>
          <p:nvPr/>
        </p:nvSpPr>
        <p:spPr>
          <a:xfrm>
            <a:off x="4284720" y="609300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1638360" cy="176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"/>
          <p:cNvPicPr/>
          <p:nvPr/>
        </p:nvPicPr>
        <p:blipFill>
          <a:blip r:embed="rId6"/>
          <a:stretch/>
        </p:blipFill>
        <p:spPr>
          <a:xfrm>
            <a:off x="3419640" y="2781360"/>
            <a:ext cx="1419120" cy="1771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"/>
          <p:cNvPicPr/>
          <p:nvPr/>
        </p:nvPicPr>
        <p:blipFill>
          <a:blip r:embed="rId7"/>
          <a:stretch/>
        </p:blipFill>
        <p:spPr>
          <a:xfrm>
            <a:off x="4643280" y="3141720"/>
            <a:ext cx="1300320" cy="165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8"/>
          <a:stretch/>
        </p:blipFill>
        <p:spPr>
          <a:xfrm>
            <a:off x="7629480" y="4653000"/>
            <a:ext cx="151452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Лопатыч.wma" descr=""/>
          <p:cNvPicPr/>
          <p:nvPr/>
        </p:nvPicPr>
        <p:blipFill>
          <a:blip r:embed="rId1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укуси меня пчела звку.wma" descr=""/>
          <p:cNvPicPr/>
          <p:nvPr/>
        </p:nvPicPr>
        <p:blipFill>
          <a:blip r:embed="rId2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427640" y="4437000"/>
            <a:ext cx="230508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>
            <a:off x="7236000" y="566100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>
            <a:off x="7236000" y="566100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1547640" y="5589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5"/>
          <p:cNvSpPr/>
          <p:nvPr/>
        </p:nvSpPr>
        <p:spPr>
          <a:xfrm>
            <a:off x="1547640" y="5589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586980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5796000" y="4437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942880" y="4437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4"/>
          <p:cNvSpPr/>
          <p:nvPr/>
        </p:nvSpPr>
        <p:spPr>
          <a:xfrm>
            <a:off x="2268360" y="422100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5"/>
          <p:cNvSpPr/>
          <p:nvPr/>
        </p:nvSpPr>
        <p:spPr>
          <a:xfrm>
            <a:off x="2268360" y="422100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6"/>
          <p:cNvSpPr/>
          <p:nvPr/>
        </p:nvSpPr>
        <p:spPr>
          <a:xfrm>
            <a:off x="4067280" y="573408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7"/>
          <p:cNvSpPr/>
          <p:nvPr/>
        </p:nvSpPr>
        <p:spPr>
          <a:xfrm>
            <a:off x="4067280" y="573408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8352000" y="508464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8352000" y="508464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270036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270036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2"/>
          <p:cNvSpPr/>
          <p:nvPr/>
        </p:nvSpPr>
        <p:spPr>
          <a:xfrm>
            <a:off x="601200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601200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"/>
          <p:cNvSpPr/>
          <p:nvPr/>
        </p:nvSpPr>
        <p:spPr>
          <a:xfrm>
            <a:off x="6948360" y="458136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5"/>
          <p:cNvSpPr/>
          <p:nvPr/>
        </p:nvSpPr>
        <p:spPr>
          <a:xfrm>
            <a:off x="6948360" y="458136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3" descr=""/>
          <p:cNvPicPr/>
          <p:nvPr/>
        </p:nvPicPr>
        <p:blipFill>
          <a:blip r:embed="rId4"/>
          <a:stretch/>
        </p:blipFill>
        <p:spPr>
          <a:xfrm>
            <a:off x="5715000" y="2000160"/>
            <a:ext cx="2019240" cy="2571840"/>
          </a:xfrm>
          <a:prstGeom prst="rect">
            <a:avLst/>
          </a:prstGeom>
          <a:ln w="0">
            <a:noFill/>
          </a:ln>
        </p:spPr>
      </p:pic>
      <p:sp>
        <p:nvSpPr>
          <p:cNvPr id="334" name="Управляющая кнопка: домой 41"/>
          <p:cNvSpPr/>
          <p:nvPr/>
        </p:nvSpPr>
        <p:spPr>
          <a:xfrm>
            <a:off x="8143920" y="6072120"/>
            <a:ext cx="1000080" cy="785880"/>
          </a:xfrm>
          <a:custGeom>
            <a:avLst/>
            <a:gdLst>
              <a:gd name="textAreaLeft" fmla="*/ 50760 w 1000080"/>
              <a:gd name="textAreaRight" fmla="*/ 949320 w 10000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5" h="21600">
                <a:moveTo>
                  <a:pt x="13742" y="3837"/>
                </a:moveTo>
                <a:lnTo>
                  <a:pt x="16319" y="6448"/>
                </a:lnTo>
                <a:lnTo>
                  <a:pt x="16319" y="4707"/>
                </a:lnTo>
                <a:lnTo>
                  <a:pt x="18094" y="4707"/>
                </a:lnTo>
                <a:lnTo>
                  <a:pt x="18094" y="8224"/>
                </a:lnTo>
                <a:lnTo>
                  <a:pt x="20705" y="10800"/>
                </a:lnTo>
                <a:lnTo>
                  <a:pt x="19052" y="10800"/>
                </a:lnTo>
                <a:lnTo>
                  <a:pt x="19052" y="17989"/>
                </a:lnTo>
                <a:lnTo>
                  <a:pt x="8433" y="17989"/>
                </a:lnTo>
                <a:lnTo>
                  <a:pt x="8433" y="10800"/>
                </a:lnTo>
                <a:lnTo>
                  <a:pt x="6779" y="10800"/>
                </a:lnTo>
                <a:close/>
              </a:path>
              <a:path fill="darkenLess" w="27485" h="21600">
                <a:moveTo>
                  <a:pt x="16319" y="6448"/>
                </a:moveTo>
                <a:lnTo>
                  <a:pt x="16319" y="4707"/>
                </a:lnTo>
                <a:lnTo>
                  <a:pt x="18094" y="4707"/>
                </a:lnTo>
                <a:lnTo>
                  <a:pt x="18094" y="8224"/>
                </a:lnTo>
                <a:close/>
              </a:path>
              <a:path fill="darkenLess" w="27485" h="21600">
                <a:moveTo>
                  <a:pt x="12820" y="14299"/>
                </a:moveTo>
                <a:lnTo>
                  <a:pt x="14665" y="14299"/>
                </a:lnTo>
                <a:lnTo>
                  <a:pt x="14665" y="17989"/>
                </a:lnTo>
                <a:lnTo>
                  <a:pt x="19052" y="17989"/>
                </a:lnTo>
                <a:lnTo>
                  <a:pt x="19052" y="10800"/>
                </a:lnTo>
                <a:lnTo>
                  <a:pt x="8433" y="10800"/>
                </a:lnTo>
                <a:lnTo>
                  <a:pt x="8433" y="17989"/>
                </a:lnTo>
                <a:lnTo>
                  <a:pt x="1282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Лопатыч.wma" descr=""/>
          <p:cNvPicPr/>
          <p:nvPr/>
        </p:nvPicPr>
        <p:blipFill>
          <a:blip r:embed="rId5"/>
          <a:stretch/>
        </p:blipFill>
        <p:spPr>
          <a:xfrm>
            <a:off x="77151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nodeType="clickEffect" fill="hold">
                      <p:stCondLst>
                        <p:cond delay="0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8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842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6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874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87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7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911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916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0" dur="25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6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5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94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1" dur="500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5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8" dur="50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4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026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3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5" dur="50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9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0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06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068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2" dur="50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102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1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5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6" dur="3668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Лося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я восхищаюсь как здорово вы расставили все точки над и.wma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219640" y="5516640"/>
            <a:ext cx="23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66180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666180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51664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 flipV="1" rot="10848600">
            <a:off x="6588000" y="551556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6590520" y="5516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0"/>
          <p:cNvSpPr/>
          <p:nvPr/>
        </p:nvSpPr>
        <p:spPr>
          <a:xfrm>
            <a:off x="5940360" y="3500280"/>
            <a:ext cx="792360" cy="648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/>
          <p:cNvSpPr/>
          <p:nvPr/>
        </p:nvSpPr>
        <p:spPr>
          <a:xfrm>
            <a:off x="5940360" y="3500280"/>
            <a:ext cx="792360" cy="648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>
            <a:off x="1619280" y="436572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3"/>
          <p:cNvSpPr/>
          <p:nvPr/>
        </p:nvSpPr>
        <p:spPr>
          <a:xfrm>
            <a:off x="1619280" y="436572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4"/>
          <p:cNvSpPr/>
          <p:nvPr/>
        </p:nvSpPr>
        <p:spPr>
          <a:xfrm>
            <a:off x="8101080" y="5084640"/>
            <a:ext cx="792000" cy="648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5"/>
          <p:cNvSpPr/>
          <p:nvPr/>
        </p:nvSpPr>
        <p:spPr>
          <a:xfrm>
            <a:off x="8101080" y="5084640"/>
            <a:ext cx="792000" cy="648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960 h 648000"/>
              <a:gd name="textAreaBottom" fmla="*/ 5000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3348000" y="573408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7"/>
          <p:cNvSpPr/>
          <p:nvPr/>
        </p:nvSpPr>
        <p:spPr>
          <a:xfrm>
            <a:off x="3348000" y="573408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8"/>
          <p:cNvSpPr/>
          <p:nvPr/>
        </p:nvSpPr>
        <p:spPr>
          <a:xfrm>
            <a:off x="2124000" y="335772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2124000" y="335772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7380360" y="321300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80360" y="321300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6732720" y="429264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3"/>
          <p:cNvSpPr/>
          <p:nvPr/>
        </p:nvSpPr>
        <p:spPr>
          <a:xfrm>
            <a:off x="6732720" y="4292640"/>
            <a:ext cx="792000" cy="647640"/>
          </a:xfrm>
          <a:custGeom>
            <a:avLst/>
            <a:gdLst>
              <a:gd name="textAreaLeft" fmla="*/ 180720 w 792000"/>
              <a:gd name="textAreaRight" fmla="*/ 611280 w 792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4"/>
          <p:cNvSpPr/>
          <p:nvPr/>
        </p:nvSpPr>
        <p:spPr>
          <a:xfrm>
            <a:off x="1547640" y="566100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5"/>
          <p:cNvSpPr/>
          <p:nvPr/>
        </p:nvSpPr>
        <p:spPr>
          <a:xfrm>
            <a:off x="1547640" y="5661000"/>
            <a:ext cx="792360" cy="647640"/>
          </a:xfrm>
          <a:custGeom>
            <a:avLst/>
            <a:gdLst>
              <a:gd name="textAreaLeft" fmla="*/ 180720 w 792360"/>
              <a:gd name="textAreaRight" fmla="*/ 611640 w 79236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4" descr=""/>
          <p:cNvPicPr/>
          <p:nvPr/>
        </p:nvPicPr>
        <p:blipFill>
          <a:blip r:embed="rId4"/>
          <a:stretch/>
        </p:blipFill>
        <p:spPr>
          <a:xfrm>
            <a:off x="3571920" y="2928960"/>
            <a:ext cx="2143080" cy="265572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домой 43"/>
          <p:cNvSpPr/>
          <p:nvPr/>
        </p:nvSpPr>
        <p:spPr>
          <a:xfrm>
            <a:off x="8143920" y="600084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Лосяш.wma" descr=""/>
          <p:cNvPicPr/>
          <p:nvPr/>
        </p:nvPicPr>
        <p:blipFill>
          <a:blip r:embed="rId5"/>
          <a:stretch/>
        </p:blipFill>
        <p:spPr>
          <a:xfrm>
            <a:off x="76438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nodeType="clickEffect" fill="hold">
                      <p:stCondLst>
                        <p:cond delay="0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1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5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6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5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6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7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8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179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184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3" dur="50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8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9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21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0" dur="50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258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26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7" dur="50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1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29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300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4" dur="50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9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9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0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332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337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1" dur="50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7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3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374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8" dur="50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2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406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411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5" dur="50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0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0" dur="5072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мешарики_0001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4211640" y="6165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3794"/>
                </a:moveTo>
                <a:lnTo>
                  <a:pt x="29855" y="10800"/>
                </a:lnTo>
                <a:lnTo>
                  <a:pt x="15842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476360" y="1052640"/>
            <a:ext cx="6191280" cy="475272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мешарики_0001.wmv" descr=""/>
          <p:cNvPicPr/>
          <p:nvPr/>
        </p:nvPicPr>
        <p:blipFill>
          <a:blip r:embed="rId2"/>
          <a:stretch/>
        </p:blipFill>
        <p:spPr>
          <a:xfrm>
            <a:off x="1500120" y="1071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46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Oval 3">
            <a:hlinkClick r:id="rId2" action="ppaction://hlinksldjump"/>
          </p:cNvPr>
          <p:cNvSpPr/>
          <p:nvPr/>
        </p:nvSpPr>
        <p:spPr>
          <a:xfrm>
            <a:off x="1042920" y="3860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3" action="ppaction://hlinksldjump"/>
          </p:cNvPr>
          <p:cNvSpPr/>
          <p:nvPr/>
        </p:nvSpPr>
        <p:spPr>
          <a:xfrm>
            <a:off x="1835280" y="256536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4" action="ppaction://hlinksldjump"/>
          </p:cNvPr>
          <p:cNvSpPr/>
          <p:nvPr/>
        </p:nvSpPr>
        <p:spPr>
          <a:xfrm>
            <a:off x="3780000" y="5373720"/>
            <a:ext cx="86328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5" action="ppaction://hlinksldjump"/>
          </p:cNvPr>
          <p:cNvSpPr/>
          <p:nvPr/>
        </p:nvSpPr>
        <p:spPr>
          <a:xfrm>
            <a:off x="4859280" y="3068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>
            <a:hlinkClick r:id="rId6" action="ppaction://hlinksldjump"/>
          </p:cNvPr>
          <p:cNvSpPr/>
          <p:nvPr/>
        </p:nvSpPr>
        <p:spPr>
          <a:xfrm>
            <a:off x="6732720" y="836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>
            <a:hlinkClick r:id="rId7" action="ppaction://hlinksldjump"/>
          </p:cNvPr>
          <p:cNvSpPr/>
          <p:nvPr/>
        </p:nvSpPr>
        <p:spPr>
          <a:xfrm>
            <a:off x="6732720" y="494172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>
            <a:hlinkClick r:id="rId8" action="ppaction://hlinksldjump"/>
          </p:cNvPr>
          <p:cNvSpPr/>
          <p:nvPr/>
        </p:nvSpPr>
        <p:spPr>
          <a:xfrm>
            <a:off x="1908000" y="126828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5796000" y="350028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0" y="189000"/>
            <a:ext cx="6156360" cy="1008000"/>
          </a:xfrm>
          <a:custGeom>
            <a:avLst/>
            <a:gdLst>
              <a:gd name="textAreaLeft" fmla="*/ 1539000 w 6156360"/>
              <a:gd name="textAreaRight" fmla="*/ 4617360 w 615636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ff33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меша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ин.wma" descr=""/>
          <p:cNvPicPr/>
          <p:nvPr/>
        </p:nvPicPr>
        <p:blipFill>
          <a:blip r:embed="rId1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замечательно ут ебя уже получается.wma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45416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427640" y="5877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4427640" y="5877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451640" y="4724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5435640" y="299736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453800" y="4724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796000" y="4724280"/>
            <a:ext cx="2592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7451640" y="47242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7524720" y="47242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738252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738252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7311240" y="4724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9"/>
          <p:cNvSpPr/>
          <p:nvPr/>
        </p:nvSpPr>
        <p:spPr>
          <a:xfrm>
            <a:off x="7643880" y="357192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0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1"/>
          <p:cNvSpPr/>
          <p:nvPr/>
        </p:nvSpPr>
        <p:spPr>
          <a:xfrm>
            <a:off x="4716360" y="414972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2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3"/>
          <p:cNvSpPr/>
          <p:nvPr/>
        </p:nvSpPr>
        <p:spPr>
          <a:xfrm>
            <a:off x="7885080" y="134136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4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5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6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7"/>
          <p:cNvSpPr/>
          <p:nvPr/>
        </p:nvSpPr>
        <p:spPr>
          <a:xfrm>
            <a:off x="1692360" y="220500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8"/>
          <p:cNvSpPr/>
          <p:nvPr/>
        </p:nvSpPr>
        <p:spPr>
          <a:xfrm>
            <a:off x="3419640" y="249228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9"/>
          <p:cNvSpPr/>
          <p:nvPr/>
        </p:nvSpPr>
        <p:spPr>
          <a:xfrm>
            <a:off x="3419640" y="2492280"/>
            <a:ext cx="71892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0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1"/>
          <p:cNvSpPr/>
          <p:nvPr/>
        </p:nvSpPr>
        <p:spPr>
          <a:xfrm>
            <a:off x="6300720" y="5734080"/>
            <a:ext cx="719280" cy="620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1" descr=""/>
          <p:cNvPicPr/>
          <p:nvPr/>
        </p:nvPicPr>
        <p:blipFill>
          <a:blip r:embed="rId4"/>
          <a:stretch/>
        </p:blipFill>
        <p:spPr>
          <a:xfrm>
            <a:off x="6072120" y="1857240"/>
            <a:ext cx="1822680" cy="2224080"/>
          </a:xfrm>
          <a:prstGeom prst="rect">
            <a:avLst/>
          </a:prstGeom>
          <a:ln w="0">
            <a:noFill/>
          </a:ln>
        </p:spPr>
      </p:pic>
      <p:sp>
        <p:nvSpPr>
          <p:cNvPr id="108" name="Управляющая кнопка: домой 47"/>
          <p:cNvSpPr/>
          <p:nvPr/>
        </p:nvSpPr>
        <p:spPr>
          <a:xfrm>
            <a:off x="80010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ин.wma" descr=""/>
          <p:cNvPicPr/>
          <p:nvPr/>
        </p:nvPicPr>
        <p:blipFill>
          <a:blip r:embed="rId5"/>
          <a:stretch/>
        </p:blipFill>
        <p:spPr>
          <a:xfrm>
            <a:off x="7500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1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1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1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544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8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>
            <a:off x="586728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86728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95280" y="981000"/>
            <a:ext cx="1152360" cy="647640"/>
          </a:xfrm>
          <a:prstGeom prst="cloudCallout">
            <a:avLst>
              <a:gd name="adj1" fmla="val -40495"/>
              <a:gd name="adj2" fmla="val 46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95280" y="981000"/>
            <a:ext cx="1152360" cy="647640"/>
          </a:xfrm>
          <a:prstGeom prst="cloudCallout">
            <a:avLst>
              <a:gd name="adj1" fmla="val -40083"/>
              <a:gd name="adj2" fmla="val 4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61928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59636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9236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7740720" y="2349360"/>
            <a:ext cx="115236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1763640" y="26028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1763640" y="26028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292720" y="1125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3924360" y="1125360"/>
            <a:ext cx="23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551052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43780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36652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43780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536616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7812000" y="404640"/>
            <a:ext cx="115272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7812000" y="404640"/>
            <a:ext cx="1152720" cy="648000"/>
          </a:xfrm>
          <a:prstGeom prst="cloudCallout">
            <a:avLst>
              <a:gd name="adj1" fmla="val -31680"/>
              <a:gd name="adj2" fmla="val 36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7740720" y="2349360"/>
            <a:ext cx="1152360" cy="64800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3492360" y="189000"/>
            <a:ext cx="115272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7596360" y="1484280"/>
            <a:ext cx="1152360" cy="647640"/>
          </a:xfrm>
          <a:prstGeom prst="cloudCallout">
            <a:avLst>
              <a:gd name="adj1" fmla="val -27962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1619280" y="1484280"/>
            <a:ext cx="1152360" cy="647640"/>
          </a:xfrm>
          <a:prstGeom prst="cloudCallout">
            <a:avLst>
              <a:gd name="adj1" fmla="val -31268"/>
              <a:gd name="adj2" fmla="val 41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536652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5294880" y="112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3"/>
          <a:stretch/>
        </p:blipFill>
        <p:spPr>
          <a:xfrm>
            <a:off x="428760" y="3286080"/>
            <a:ext cx="2722320" cy="292896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омой 40"/>
          <p:cNvSpPr/>
          <p:nvPr/>
        </p:nvSpPr>
        <p:spPr>
          <a:xfrm>
            <a:off x="7286760" y="5715000"/>
            <a:ext cx="1071360" cy="928800"/>
          </a:xfrm>
          <a:custGeom>
            <a:avLst/>
            <a:gdLst>
              <a:gd name="textAreaLeft" fmla="*/ 60120 w 1071360"/>
              <a:gd name="textAreaRight" fmla="*/ 1011240 w 107136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4914" h="21600">
                <a:moveTo>
                  <a:pt x="0" y="0"/>
                </a:moveTo>
                <a:lnTo>
                  <a:pt x="24914" y="0"/>
                </a:lnTo>
                <a:lnTo>
                  <a:pt x="24914" y="21600"/>
                </a:lnTo>
                <a:lnTo>
                  <a:pt x="0" y="21600"/>
                </a:lnTo>
                <a:close/>
              </a:path>
              <a:path fill="lightenLess" w="24914" h="21600">
                <a:moveTo>
                  <a:pt x="0" y="0"/>
                </a:moveTo>
                <a:lnTo>
                  <a:pt x="24914" y="0"/>
                </a:lnTo>
                <a:lnTo>
                  <a:pt x="23514" y="1400"/>
                </a:lnTo>
                <a:lnTo>
                  <a:pt x="1400" y="1400"/>
                </a:lnTo>
                <a:close/>
              </a:path>
              <a:path fill="darken" w="24914" h="21600">
                <a:moveTo>
                  <a:pt x="24914" y="0"/>
                </a:moveTo>
                <a:lnTo>
                  <a:pt x="24914" y="21600"/>
                </a:lnTo>
                <a:lnTo>
                  <a:pt x="23514" y="20200"/>
                </a:lnTo>
                <a:lnTo>
                  <a:pt x="23514" y="1400"/>
                </a:lnTo>
                <a:close/>
              </a:path>
              <a:path fill="darkenLess" w="24914" h="21600">
                <a:moveTo>
                  <a:pt x="24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4" y="20200"/>
                </a:lnTo>
                <a:close/>
              </a:path>
              <a:path fill="lighten" w="24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4" h="21600">
                <a:moveTo>
                  <a:pt x="12457" y="3837"/>
                </a:moveTo>
                <a:lnTo>
                  <a:pt x="15033" y="6448"/>
                </a:ln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lnTo>
                  <a:pt x="19420" y="10800"/>
                </a:lnTo>
                <a:lnTo>
                  <a:pt x="17766" y="10800"/>
                </a:lnTo>
                <a:lnTo>
                  <a:pt x="17766" y="17989"/>
                </a:lnTo>
                <a:lnTo>
                  <a:pt x="7148" y="17989"/>
                </a:lnTo>
                <a:lnTo>
                  <a:pt x="7148" y="10800"/>
                </a:lnTo>
                <a:lnTo>
                  <a:pt x="5494" y="10800"/>
                </a:lnTo>
                <a:close/>
              </a:path>
              <a:path fill="darkenLess" w="24914" h="21600">
                <a:moveTo>
                  <a:pt x="15033" y="6448"/>
                </a:moveTo>
                <a:lnTo>
                  <a:pt x="15033" y="4707"/>
                </a:lnTo>
                <a:lnTo>
                  <a:pt x="16809" y="4707"/>
                </a:lnTo>
                <a:lnTo>
                  <a:pt x="16809" y="8224"/>
                </a:lnTo>
                <a:close/>
              </a:path>
              <a:path fill="darkenLess" w="24914" h="21600">
                <a:moveTo>
                  <a:pt x="11534" y="14299"/>
                </a:moveTo>
                <a:lnTo>
                  <a:pt x="13380" y="14299"/>
                </a:lnTo>
                <a:lnTo>
                  <a:pt x="13380" y="17989"/>
                </a:lnTo>
                <a:lnTo>
                  <a:pt x="17766" y="17989"/>
                </a:lnTo>
                <a:lnTo>
                  <a:pt x="17766" y="10800"/>
                </a:lnTo>
                <a:lnTo>
                  <a:pt x="7148" y="10800"/>
                </a:lnTo>
                <a:lnTo>
                  <a:pt x="7148" y="17989"/>
                </a:lnTo>
                <a:lnTo>
                  <a:pt x="1153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3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Барашек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красота всякие мысли возвышенные в голову лезут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27640" y="5734080"/>
            <a:ext cx="2305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3995640" y="105264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3995640" y="1052640"/>
            <a:ext cx="1081080" cy="792000"/>
          </a:xfrm>
          <a:prstGeom prst="cloudCallout">
            <a:avLst>
              <a:gd name="adj1" fmla="val -26800"/>
              <a:gd name="adj2" fmla="val 3657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7667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7667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39640" y="1197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942520" y="5734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>
            <a:off x="161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2"/>
          <p:cNvSpPr/>
          <p:nvPr/>
        </p:nvSpPr>
        <p:spPr>
          <a:xfrm>
            <a:off x="161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3"/>
          <p:cNvSpPr/>
          <p:nvPr/>
        </p:nvSpPr>
        <p:spPr>
          <a:xfrm>
            <a:off x="5003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4"/>
          <p:cNvSpPr/>
          <p:nvPr/>
        </p:nvSpPr>
        <p:spPr>
          <a:xfrm>
            <a:off x="500364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3059280" y="189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6156360" y="620640"/>
            <a:ext cx="1081080" cy="792360"/>
          </a:xfrm>
          <a:prstGeom prst="cloudCallout">
            <a:avLst>
              <a:gd name="adj1" fmla="val -32083"/>
              <a:gd name="adj2" fmla="val 3276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8"/>
          <p:cNvSpPr/>
          <p:nvPr/>
        </p:nvSpPr>
        <p:spPr>
          <a:xfrm>
            <a:off x="6156360" y="620640"/>
            <a:ext cx="1081080" cy="792360"/>
          </a:xfrm>
          <a:prstGeom prst="cloudCallout">
            <a:avLst>
              <a:gd name="adj1" fmla="val -38986"/>
              <a:gd name="adj2" fmla="val 3677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288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0"/>
          <p:cNvSpPr/>
          <p:nvPr/>
        </p:nvSpPr>
        <p:spPr>
          <a:xfrm>
            <a:off x="3059280" y="189000"/>
            <a:ext cx="1081080" cy="792000"/>
          </a:xfrm>
          <a:prstGeom prst="cloudCallout">
            <a:avLst>
              <a:gd name="adj1" fmla="val -32527"/>
              <a:gd name="adj2" fmla="val 4058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94288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2"/>
          <p:cNvSpPr/>
          <p:nvPr/>
        </p:nvSpPr>
        <p:spPr>
          <a:xfrm>
            <a:off x="6443640" y="162864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3"/>
          <p:cNvSpPr/>
          <p:nvPr/>
        </p:nvSpPr>
        <p:spPr>
          <a:xfrm>
            <a:off x="6443640" y="162864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869800" y="5734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539640" y="1197000"/>
            <a:ext cx="1081080" cy="792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2" descr=""/>
          <p:cNvPicPr/>
          <p:nvPr/>
        </p:nvPicPr>
        <p:blipFill>
          <a:blip r:embed="rId4"/>
          <a:stretch/>
        </p:blipFill>
        <p:spPr>
          <a:xfrm>
            <a:off x="928800" y="3643200"/>
            <a:ext cx="2286000" cy="285444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41"/>
          <p:cNvSpPr/>
          <p:nvPr/>
        </p:nvSpPr>
        <p:spPr>
          <a:xfrm>
            <a:off x="7858080" y="5643720"/>
            <a:ext cx="1071720" cy="857160"/>
          </a:xfrm>
          <a:custGeom>
            <a:avLst/>
            <a:gdLst>
              <a:gd name="textAreaLeft" fmla="*/ 55440 w 1071720"/>
              <a:gd name="textAreaRight" fmla="*/ 1016280 w 10717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7005" h="21600">
                <a:moveTo>
                  <a:pt x="0" y="0"/>
                </a:moveTo>
                <a:lnTo>
                  <a:pt x="27005" y="0"/>
                </a:lnTo>
                <a:lnTo>
                  <a:pt x="27005" y="21600"/>
                </a:lnTo>
                <a:lnTo>
                  <a:pt x="0" y="21600"/>
                </a:lnTo>
                <a:close/>
              </a:path>
              <a:path fill="lightenLess" w="27005" h="21600">
                <a:moveTo>
                  <a:pt x="0" y="0"/>
                </a:moveTo>
                <a:lnTo>
                  <a:pt x="27005" y="0"/>
                </a:lnTo>
                <a:lnTo>
                  <a:pt x="25605" y="1400"/>
                </a:lnTo>
                <a:lnTo>
                  <a:pt x="1400" y="1400"/>
                </a:lnTo>
                <a:close/>
              </a:path>
              <a:path fill="darken" w="27005" h="21600">
                <a:moveTo>
                  <a:pt x="27005" y="0"/>
                </a:moveTo>
                <a:lnTo>
                  <a:pt x="27005" y="21600"/>
                </a:lnTo>
                <a:lnTo>
                  <a:pt x="25605" y="20200"/>
                </a:lnTo>
                <a:lnTo>
                  <a:pt x="25605" y="1400"/>
                </a:lnTo>
                <a:close/>
              </a:path>
              <a:path fill="darkenLess" w="27005" h="21600">
                <a:moveTo>
                  <a:pt x="27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5" y="20200"/>
                </a:lnTo>
                <a:close/>
              </a:path>
              <a:path fill="lighten" w="27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5" h="21600">
                <a:moveTo>
                  <a:pt x="13502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4" y="4707"/>
                </a:lnTo>
                <a:lnTo>
                  <a:pt x="17854" y="8224"/>
                </a:lnTo>
                <a:lnTo>
                  <a:pt x="20465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3" y="17989"/>
                </a:lnTo>
                <a:lnTo>
                  <a:pt x="8193" y="10800"/>
                </a:lnTo>
                <a:lnTo>
                  <a:pt x="6539" y="10800"/>
                </a:lnTo>
                <a:close/>
              </a:path>
              <a:path fill="darkenLess" w="27005" h="21600">
                <a:moveTo>
                  <a:pt x="16079" y="6448"/>
                </a:moveTo>
                <a:lnTo>
                  <a:pt x="16079" y="4707"/>
                </a:lnTo>
                <a:lnTo>
                  <a:pt x="17854" y="4707"/>
                </a:lnTo>
                <a:lnTo>
                  <a:pt x="17854" y="8224"/>
                </a:lnTo>
                <a:close/>
              </a:path>
              <a:path fill="darkenLess" w="27005" h="21600">
                <a:moveTo>
                  <a:pt x="12580" y="14299"/>
                </a:moveTo>
                <a:lnTo>
                  <a:pt x="14425" y="14299"/>
                </a:lnTo>
                <a:lnTo>
                  <a:pt x="14425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3" y="10800"/>
                </a:lnTo>
                <a:lnTo>
                  <a:pt x="8193" y="17989"/>
                </a:lnTo>
                <a:lnTo>
                  <a:pt x="1258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Барашек.wma" descr=""/>
          <p:cNvPicPr/>
          <p:nvPr/>
        </p:nvPicPr>
        <p:blipFill>
          <a:blip r:embed="rId5"/>
          <a:stretch/>
        </p:blipFill>
        <p:spPr>
          <a:xfrm>
            <a:off x="7500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7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7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849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Нюша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ты меня просто поражаешь нюша.wma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212400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212400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804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804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125892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1258920" y="558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3059280" y="4797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3059280" y="4797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5"/>
          <p:cNvSpPr/>
          <p:nvPr/>
        </p:nvSpPr>
        <p:spPr>
          <a:xfrm>
            <a:off x="6372360" y="472428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/>
          <p:cNvSpPr/>
          <p:nvPr/>
        </p:nvSpPr>
        <p:spPr>
          <a:xfrm>
            <a:off x="6372360" y="472428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8"/>
          <p:cNvSpPr/>
          <p:nvPr/>
        </p:nvSpPr>
        <p:spPr>
          <a:xfrm>
            <a:off x="3132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3132000" y="587700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/>
          <p:cNvSpPr/>
          <p:nvPr/>
        </p:nvSpPr>
        <p:spPr>
          <a:xfrm>
            <a:off x="179280" y="494172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179280" y="494172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817236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5"/>
          <p:cNvSpPr/>
          <p:nvPr/>
        </p:nvSpPr>
        <p:spPr>
          <a:xfrm>
            <a:off x="8172360" y="5373720"/>
            <a:ext cx="792360" cy="79200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4"/>
          <a:stretch/>
        </p:blipFill>
        <p:spPr>
          <a:xfrm>
            <a:off x="4357800" y="2643120"/>
            <a:ext cx="1928880" cy="2970360"/>
          </a:xfrm>
          <a:prstGeom prst="rect">
            <a:avLst/>
          </a:prstGeom>
          <a:ln w="0">
            <a:noFill/>
          </a:ln>
        </p:spPr>
      </p:pic>
      <p:sp>
        <p:nvSpPr>
          <p:cNvPr id="220" name="Управляющая кнопка: домой 41"/>
          <p:cNvSpPr/>
          <p:nvPr/>
        </p:nvSpPr>
        <p:spPr>
          <a:xfrm>
            <a:off x="8143920" y="6143760"/>
            <a:ext cx="1000080" cy="714240"/>
          </a:xfrm>
          <a:custGeom>
            <a:avLst/>
            <a:gdLst>
              <a:gd name="textAreaLeft" fmla="*/ 46080 w 1000080"/>
              <a:gd name="textAreaRight" fmla="*/ 954000 w 10000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15120" y="3837"/>
                </a:moveTo>
                <a:lnTo>
                  <a:pt x="17696" y="6448"/>
                </a:ln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lnTo>
                  <a:pt x="22083" y="10800"/>
                </a:lnTo>
                <a:lnTo>
                  <a:pt x="20429" y="10800"/>
                </a:lnTo>
                <a:lnTo>
                  <a:pt x="20429" y="17989"/>
                </a:lnTo>
                <a:lnTo>
                  <a:pt x="9811" y="17989"/>
                </a:lnTo>
                <a:lnTo>
                  <a:pt x="9811" y="10800"/>
                </a:lnTo>
                <a:lnTo>
                  <a:pt x="8157" y="10800"/>
                </a:lnTo>
                <a:close/>
              </a:path>
              <a:path fill="darkenLess" w="30240" h="21600">
                <a:moveTo>
                  <a:pt x="17696" y="6448"/>
                </a:moveTo>
                <a:lnTo>
                  <a:pt x="17696" y="4707"/>
                </a:lnTo>
                <a:lnTo>
                  <a:pt x="19472" y="4707"/>
                </a:lnTo>
                <a:lnTo>
                  <a:pt x="19472" y="8224"/>
                </a:lnTo>
                <a:close/>
              </a:path>
              <a:path fill="darkenLess" w="30240" h="21600">
                <a:moveTo>
                  <a:pt x="14197" y="14299"/>
                </a:moveTo>
                <a:lnTo>
                  <a:pt x="16043" y="14299"/>
                </a:lnTo>
                <a:lnTo>
                  <a:pt x="16043" y="17989"/>
                </a:lnTo>
                <a:lnTo>
                  <a:pt x="20429" y="17989"/>
                </a:lnTo>
                <a:lnTo>
                  <a:pt x="20429" y="10800"/>
                </a:lnTo>
                <a:lnTo>
                  <a:pt x="9811" y="10800"/>
                </a:lnTo>
                <a:lnTo>
                  <a:pt x="9811" y="17989"/>
                </a:lnTo>
                <a:lnTo>
                  <a:pt x="1419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Нюша.wma" descr=""/>
          <p:cNvPicPr/>
          <p:nvPr/>
        </p:nvPicPr>
        <p:blipFill>
          <a:blip r:embed="rId5"/>
          <a:stretch/>
        </p:blipFill>
        <p:spPr>
          <a:xfrm>
            <a:off x="7786800" y="6429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944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50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017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50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8" dur="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08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09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4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2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50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50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9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0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4" dur="50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8" dur="279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Кро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крош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140360" y="5950080"/>
            <a:ext cx="230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651640" y="1268280"/>
            <a:ext cx="1224000" cy="720720"/>
          </a:xfrm>
          <a:prstGeom prst="cloudCallout">
            <a:avLst>
              <a:gd name="adj1" fmla="val -42865"/>
              <a:gd name="adj2" fmla="val 3127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5651640" y="1268280"/>
            <a:ext cx="1224000" cy="720720"/>
          </a:xfrm>
          <a:prstGeom prst="cloudCallout">
            <a:avLst>
              <a:gd name="adj1" fmla="val -38328"/>
              <a:gd name="adj2" fmla="val 2863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65380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5582520" y="5950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468360" y="1844640"/>
            <a:ext cx="1224000" cy="720720"/>
          </a:xfrm>
          <a:prstGeom prst="cloudCallout">
            <a:avLst>
              <a:gd name="adj1" fmla="val -36250"/>
              <a:gd name="adj2" fmla="val 361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3"/>
          <p:cNvSpPr/>
          <p:nvPr/>
        </p:nvSpPr>
        <p:spPr>
          <a:xfrm>
            <a:off x="468360" y="1844640"/>
            <a:ext cx="1224000" cy="720720"/>
          </a:xfrm>
          <a:prstGeom prst="cloudCallout">
            <a:avLst>
              <a:gd name="adj1" fmla="val -38587"/>
              <a:gd name="adj2" fmla="val 3810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4"/>
          <p:cNvSpPr/>
          <p:nvPr/>
        </p:nvSpPr>
        <p:spPr>
          <a:xfrm>
            <a:off x="716436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716436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6"/>
          <p:cNvSpPr/>
          <p:nvPr/>
        </p:nvSpPr>
        <p:spPr>
          <a:xfrm>
            <a:off x="313200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>
            <a:off x="313200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8"/>
          <p:cNvSpPr/>
          <p:nvPr/>
        </p:nvSpPr>
        <p:spPr>
          <a:xfrm>
            <a:off x="25092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9"/>
          <p:cNvSpPr/>
          <p:nvPr/>
        </p:nvSpPr>
        <p:spPr>
          <a:xfrm>
            <a:off x="250920" y="189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0"/>
          <p:cNvSpPr/>
          <p:nvPr/>
        </p:nvSpPr>
        <p:spPr>
          <a:xfrm>
            <a:off x="7740720" y="1197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1"/>
          <p:cNvSpPr/>
          <p:nvPr/>
        </p:nvSpPr>
        <p:spPr>
          <a:xfrm>
            <a:off x="7740720" y="119700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5076720" y="40464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3"/>
          <p:cNvSpPr/>
          <p:nvPr/>
        </p:nvSpPr>
        <p:spPr>
          <a:xfrm>
            <a:off x="5076720" y="404640"/>
            <a:ext cx="1224000" cy="72072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4"/>
          <p:cNvSpPr/>
          <p:nvPr/>
        </p:nvSpPr>
        <p:spPr>
          <a:xfrm>
            <a:off x="1908000" y="1125360"/>
            <a:ext cx="1224000" cy="72108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5"/>
          <p:cNvSpPr/>
          <p:nvPr/>
        </p:nvSpPr>
        <p:spPr>
          <a:xfrm>
            <a:off x="1908000" y="1125360"/>
            <a:ext cx="1224000" cy="721080"/>
          </a:xfrm>
          <a:prstGeom prst="cloudCallout">
            <a:avLst>
              <a:gd name="adj1" fmla="val -38587"/>
              <a:gd name="adj2" fmla="val 3832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6000840" y="2714760"/>
            <a:ext cx="2071440" cy="309240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домой 41"/>
          <p:cNvSpPr/>
          <p:nvPr/>
        </p:nvSpPr>
        <p:spPr>
          <a:xfrm>
            <a:off x="807228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Крош.wma" descr=""/>
          <p:cNvPicPr/>
          <p:nvPr/>
        </p:nvPicPr>
        <p:blipFill>
          <a:blip r:embed="rId5"/>
          <a:stretch/>
        </p:blipFill>
        <p:spPr>
          <a:xfrm>
            <a:off x="7572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0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3" dur="5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7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9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2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80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9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6" dur="50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454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5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8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494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8" dur="5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3" dur="10320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525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Ёжик.wma" descr=""/>
          <p:cNvPicPr/>
          <p:nvPr/>
        </p:nvPicPr>
        <p:blipFill>
          <a:blip r:embed="rId1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1" name="я быстро схожу и вернусь обратно.wma" descr=""/>
          <p:cNvPicPr/>
          <p:nvPr/>
        </p:nvPicPr>
        <p:blipFill>
          <a:blip r:embed="rId2"/>
          <a:stretch/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181080" y="0"/>
            <a:ext cx="9325080" cy="7104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9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8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6443640" y="5805360"/>
            <a:ext cx="230508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8496360" y="450864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8496360" y="450864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3132000" y="602136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5"/>
          <p:cNvSpPr/>
          <p:nvPr/>
        </p:nvSpPr>
        <p:spPr>
          <a:xfrm>
            <a:off x="4572000" y="580536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781452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887240" y="5805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3132000" y="602136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5651640" y="566100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5651640" y="566100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7"/>
          <p:cNvSpPr/>
          <p:nvPr/>
        </p:nvSpPr>
        <p:spPr>
          <a:xfrm>
            <a:off x="395280" y="515772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8"/>
          <p:cNvSpPr/>
          <p:nvPr/>
        </p:nvSpPr>
        <p:spPr>
          <a:xfrm>
            <a:off x="395280" y="5157720"/>
            <a:ext cx="64764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9"/>
          <p:cNvSpPr/>
          <p:nvPr/>
        </p:nvSpPr>
        <p:spPr>
          <a:xfrm>
            <a:off x="7308720" y="486900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0"/>
          <p:cNvSpPr/>
          <p:nvPr/>
        </p:nvSpPr>
        <p:spPr>
          <a:xfrm>
            <a:off x="7308720" y="4869000"/>
            <a:ext cx="648000" cy="620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1"/>
          <p:cNvSpPr/>
          <p:nvPr/>
        </p:nvSpPr>
        <p:spPr>
          <a:xfrm>
            <a:off x="1692360" y="544500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1692360" y="544500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3059280" y="494172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3059280" y="494172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4572000" y="5805360"/>
            <a:ext cx="647640" cy="621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4"/>
          <a:stretch/>
        </p:blipFill>
        <p:spPr>
          <a:xfrm>
            <a:off x="6000840" y="2000160"/>
            <a:ext cx="2309760" cy="2786040"/>
          </a:xfrm>
          <a:prstGeom prst="rect">
            <a:avLst/>
          </a:prstGeom>
          <a:ln w="0">
            <a:noFill/>
          </a:ln>
        </p:spPr>
      </p:pic>
      <p:sp>
        <p:nvSpPr>
          <p:cNvPr id="296" name="Управляющая кнопка: домой 41"/>
          <p:cNvSpPr/>
          <p:nvPr/>
        </p:nvSpPr>
        <p:spPr>
          <a:xfrm>
            <a:off x="0" y="621504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Ёжик.wma" descr=""/>
          <p:cNvPicPr/>
          <p:nvPr/>
        </p:nvPicPr>
        <p:blipFill>
          <a:blip r:embed="rId5"/>
          <a:stretch/>
        </p:blipFill>
        <p:spPr>
          <a:xfrm>
            <a:off x="1000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0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53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3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576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0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2" dur="50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65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9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3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6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692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6" dur="25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3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729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3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7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0" dur="250" autoRev="1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7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1" dur="404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Черкасова С</cp:lastModifiedBy>
  <dcterms:modified xsi:type="dcterms:W3CDTF">2020-09-06T13:36:46Z</dcterms:modified>
  <cp:revision>43</cp:revision>
  <dc:subject/>
  <dc:title>Слайд 1</dc:title>
</cp:coreProperties>
</file>