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4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4E8-A3FE-4980-9CEB-3858A463D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4DF0-3D5D-4E03-913D-42F6393FE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83C-ED0D-47FE-A369-F1B1FB05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81C-B051-4402-B8D8-14F960C9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C56-9A69-424F-AB88-69E3C05D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44B-2183-48A9-A5B1-190C2077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15A-CCB8-4B36-B79F-15C8415A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246-75A0-4DFC-8110-2DEC9093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3A0B-04D6-4182-A356-56581B87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0053-E15B-48D5-B228-ABA6A5E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50B-A02A-4F9F-BB43-47ABE02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5D4B-0CB7-445D-8923-44DE78B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2165-6F8E-4176-84E1-79AA98A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C2B-55F2-4963-B55C-BD64ECEE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3203-EB78-4DC7-BA83-E87E30F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A014-F199-48D3-B513-CFBD734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E3F-871C-47B1-8F91-89E4D776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21C-D7C5-4744-BB5A-04A9FD57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1055-763C-4BFE-A74B-D75C97F9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BE41-3179-434C-A8C5-5A757642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DFA6-BEA6-4621-9A44-5047B4C8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0541-4B3D-4B45-B328-52D893B8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D8C2-40A4-416A-8647-D6E5966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B0BD-2207-48CC-B4AC-F0BDB3EF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B98-50F9-4492-BA06-1AFCFCF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158A-FB93-47E0-BDE3-2981AAC1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9648-35D3-429E-9EFF-E231379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0D4F-6E0C-45CC-8A35-962800F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BAE1-E215-49D6-A31C-8009CDA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EB62-ACC2-45C3-99F4-CA6AEDF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5CD2-4685-491F-A9F7-F4AEE92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60D3-F9D0-4041-8579-F9E001A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70E8A-6B36-4267-827D-9018BC3C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1B47-A18B-495F-B59D-F31A777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DFB7-1B60-4B59-A689-9AE93D9D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CEC-35FD-4EAD-AC78-C1F4F39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786A-B0C8-432A-A66C-E1FBD23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C1E9-D67A-48E6-AF17-CDC4722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061F-BF46-4DDB-876A-9D01290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D947-EC3E-4AB9-86CC-E3252BF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8D7E-3A7F-4AA7-A850-D917329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C637-A556-4315-827F-0C83E7C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C7F5-05BF-4E54-8A66-05640A4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B8BE-3B69-4854-83CC-0E72D3A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C777-4AAE-4AEA-A884-A55F1207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859-F52F-4654-9AA1-96721D1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4ED-FFAA-4604-8322-8D6377A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20B-9228-4F48-8EE5-0CF6A05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22D-A782-4BE6-8D9D-0CCF6B5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94C-0851-4207-95A0-EDA31F0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54F-DF40-4C64-BDA8-120DC602F0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C99-1871-419C-BB93-36DE909596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4CD-25D0-40CD-A909-E9443EA906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038D-B682-4364-8CE6-FE70DB454F0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3120" y="5373720"/>
            <a:ext cx="6483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           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Подготовила воспитатель: Николаева Е.В.    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865080"/>
            <a:ext cx="7175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137800" cy="1360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68000" y="1557000"/>
            <a:ext cx="835164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 процессе работы нами были определены основные принципы, которые легли в основу исследования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направленности.  Мы  учитываем, что цели и задачи нашей работы строятся на единой концепции государственной политики в области дошкольного образовани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системности и последовательности. Начиная с раннего дошкольного возраста «учу-играя», прививая знания, умения и навыки на практике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доступности. Опираясь на него, мы учитываем  возрастные особенности, потребности, интересы, уровень  подготовленности детей, их небольшой жизненный опыт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наглядности обучения.  Мы  продумываем: дидактические цели исследования наглядности, методику показа, количество наглядности и последовательности демонстрации, сочетание определенных видов наглядности, включение детей в анализ наблюдения объектов, соблюдение требований культуры показа и к оформлению наглядност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интегрированного подхода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воспитывающего и развивающего обучения. Определяем  ведущие цели обучения: познавательную, воспитательную, развивающу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прочности. Все сформированные умения и навыки применяем на практике, осуществляя индивидуально - дифференцированный подход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925040" cy="117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68360" y="1197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психофизических способностей (мимики, пантомимики); психических процессов (восприятия, воображения, фантазии, мышления, внимания, памяти и др.), речи (монолог, диалог); творческих способностей (умение перевоплощаться, импровизировать, брать на себя роль)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духовно-богатой личности ребёнк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творческого потенциала, активной, самостоятельной, эмоционально – отзывчивой, социально – компетентной и развивающейся личност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нравственно – коммуникативных и волевых качеств (общительность, вежливость, добро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богащение театрального опыта: знаний детей о театре, его истории, театральных профессиях, костюмах, атрибутах, театральной терминологи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амостоятельное исполнение и передача образа сказочных персонаже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ешение основных задач образовательных областей в соответствии с ФГОС (любая задача любой образовательной деятельности решается детьми легче, проще и быстрее, если дети ее обыгрывают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целесообразное включение элементов театрализации в образовательную деятельность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желания придумать, рассказать сказку, историю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63680" y="407880"/>
            <a:ext cx="7924680" cy="1401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95280" y="1628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рганизация педагогического поиска через реализацию инновационных программ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вышение теоретического уровня  и профессионализма педаго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недрение инновационных технологий;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представлений о создании игровой среды для полноценног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творческого развития ребенк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вышение знаний по театрализованной деятельности у детей дошкольного возрас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активное участие в жизни детского сад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лучение возможности наблюдать за своими детьми, что даёт возможность лучше разобраться в вопросах развития дете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более высокой оценки достижения своих детей и гордость за 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более глубокого понимания процесса обучения детей дошкольного возраст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озникновение доверия к воспитателям и другим сотрудникам детского сад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878040" y="262080"/>
            <a:ext cx="6681600" cy="1358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395280" y="1341000"/>
            <a:ext cx="835344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1. Агапова, М.А. Давыдова И.А. «Театральные занятия в детском саду» Развитие, управление, тренинги, сценарии. М.; АРКТИ, 2010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2. Артемова Л.В. Театрализованные игры дошкольников. – М.: Просвещение, 1991. – 127 с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3.Веракса Н.Е., Комарова Т.С., Васильева М.А. Программа «От рождения до школы» М.: МОЗАИКА-СИНТЕЗ 2014г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4.Доронова Т.Н. Играем в театр: театрализованная деятельность детей 4-6 лет: методическое пособие для воспитателей дошкольных образовательных учреждений. М. Просвещение, 2005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5.Куцакова Л.В., Мерзлякова С.И. Воспитание ребенка дошкольника: Программно-методическое пособие. М.: Гуманит. изд. центр Владос, 2004г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6.С. И. Мерзлякова, «Волшебный мир театра» (для детей 5-7 лет).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7.Маханева М.Д. Театрализованные занятия в детском саду: Пособие для работников дошкольных учреждений. М.: ТЦ Сфера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8.Петрова Т.И., Сергеева Е.Л., Петрова Е.С. Театрализованные игры в детском саду: Разработки занятий для всех возрастных групп с методическими рекомендациями. М.: Школьная Пресса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9.Сорокина Н.Ф. Играем в кукольный театр: Программа «Театр-творчество-дети»: Пособие для воспитателей, педагогов дополнительного образования и музыкальных руководителей детских садов. М.: АРКТИ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10. Щеткин А.В. «Театральная деятельность в детском саду» Библиотека воспитателя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6" descr=""/>
          <p:cNvPicPr/>
          <p:nvPr/>
        </p:nvPicPr>
        <p:blipFill>
          <a:blip r:embed="rId1"/>
          <a:stretch/>
        </p:blipFill>
        <p:spPr>
          <a:xfrm>
            <a:off x="969840" y="560520"/>
            <a:ext cx="6516720" cy="1377720"/>
          </a:xfrm>
          <a:prstGeom prst="rect">
            <a:avLst/>
          </a:prstGeom>
          <a:ln w="0">
            <a:noFill/>
          </a:ln>
        </p:spPr>
      </p:pic>
      <p:pic>
        <p:nvPicPr>
          <p:cNvPr id="248" name="Объект 8" descr=""/>
          <p:cNvPicPr/>
          <p:nvPr/>
        </p:nvPicPr>
        <p:blipFill>
          <a:blip r:embed="rId2"/>
          <a:stretch/>
        </p:blipFill>
        <p:spPr>
          <a:xfrm>
            <a:off x="1327320" y="2133720"/>
            <a:ext cx="597852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969840" y="530280"/>
            <a:ext cx="6516720" cy="1096920"/>
          </a:xfrm>
          <a:prstGeom prst="rect">
            <a:avLst/>
          </a:prstGeom>
          <a:ln w="0">
            <a:noFill/>
          </a:ln>
        </p:spPr>
      </p:pic>
      <p:pic>
        <p:nvPicPr>
          <p:cNvPr id="250" name="Объект 3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4392720" cy="35607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311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7991640" cy="11401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3" descr=""/>
          <p:cNvPicPr/>
          <p:nvPr/>
        </p:nvPicPr>
        <p:blipFill>
          <a:blip r:embed="rId2"/>
          <a:stretch/>
        </p:blipFill>
        <p:spPr>
          <a:xfrm>
            <a:off x="219240" y="1484280"/>
            <a:ext cx="3840120" cy="50086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682560" y="560520"/>
            <a:ext cx="7851960" cy="1274760"/>
          </a:xfrm>
          <a:prstGeom prst="rect">
            <a:avLst/>
          </a:prstGeom>
          <a:ln w="0">
            <a:noFill/>
          </a:ln>
        </p:spPr>
      </p:pic>
      <p:pic>
        <p:nvPicPr>
          <p:cNvPr id="256" name="Объект 3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4824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600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969840" y="4705200"/>
            <a:ext cx="7338960" cy="124488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5616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969840" y="5072040"/>
            <a:ext cx="733896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Объект 3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58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189080" y="401760"/>
            <a:ext cx="6510240" cy="1811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611280" y="1628640"/>
            <a:ext cx="7921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ажной задачей эстетического воспитания у детей с ОВЗ является формирование эстетических интересов, потребностей, эстетического вкуса, а также творческих способностей. Богатейшее поле для эстетического развития и коррекционной помощи детям с ОВЗ, а также развития их творческих способностей, представляет театрализованная деятельность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на является источником развития чувств, глубоких переживаний и открытий ребёнка, приобщает его к духовным ценностям и остаётся, пожалуй, самой популярной, увлекательной деятельностью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так, интересным, увлекательным и актуальным направлением в дошкольном воспитании детей с ОВЗ в условиях инклюзии, является театрализованная деятельность. Это самый распространенный вид детского творчества. Она близка и понятна ребенку, глубоко лежит в его природе и находит свое отражение стихийно, потому что связана с игрой. Дети любят играть, их не нужно заставлять это дела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138560" y="4376880"/>
            <a:ext cx="4462560" cy="2146320"/>
          </a:xfrm>
          <a:prstGeom prst="rect">
            <a:avLst/>
          </a:prstGeom>
          <a:ln w="0">
            <a:noFill/>
          </a:ln>
        </p:spPr>
      </p:pic>
      <p:pic>
        <p:nvPicPr>
          <p:cNvPr id="263" name="Объект 3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475272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31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901800" y="4883040"/>
            <a:ext cx="769932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Объект 3" descr=""/>
          <p:cNvPicPr/>
          <p:nvPr/>
        </p:nvPicPr>
        <p:blipFill>
          <a:blip r:embed="rId2"/>
          <a:stretch/>
        </p:blipFill>
        <p:spPr>
          <a:xfrm>
            <a:off x="1547640" y="731880"/>
            <a:ext cx="6409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510240" cy="793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611280" y="1341360"/>
            <a:ext cx="792144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частники проект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ети группы комбинированной направленности 5-7 лет, родители, воспитател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Тип проекта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ворче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одолжительность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лгосрочный -1 год (сентябрь - ма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разовательные области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художественно-эстетическ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социально – коммуникативн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речев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познавательн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физическ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116000" y="615960"/>
            <a:ext cx="6510240" cy="14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7280" y="263700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ормирование творческой личности дошкольников с ОВЗ средствами театрализованной деятельности, в условиях группы комбинированной направлен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69840" y="401760"/>
            <a:ext cx="6516720" cy="1500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86920" y="1916280"/>
            <a:ext cx="72723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истематизировать знания детей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тимулировать у детей интерес к знакомству с историей тетра, с его особенностями, видами и традициями, профессия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 у детей устойчивый интерес к театрализованной деятельности, умение воспринимать художественное слово и понимать его значени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ктивизировать и совершенствовать словарный запас, грамматический строй речи, звукопроизношение, навыки связной реч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 эмоциональные, интеллектуальные, коммуникативные особенности ребенка средствами детского театр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 артистизм и навыки сценического искус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116000" y="444600"/>
            <a:ext cx="6510240" cy="140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84360" y="2276640"/>
            <a:ext cx="77752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рактический метод: практические задания, разные виды игр, постановка сказок, организация выставок, викторины, творческие работы, презентации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ловесный метод: беседа, чтение художественных произведений, рассказывание, пересказ; слушание музыкальных произведений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Наглядный метод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 рассматривание наглядно-иллюстративного материала; подбор разных видов атрибутов и костюмов для постановки театральной деятельности, демонстрация мультфильмов и видеофильм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етоды исследования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: педагогическое наблюдение; анкетирование; опрос; диагностирование (педагогическая диагностика театрализованной деятельности (Т.С. Комарова)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682560" y="695160"/>
            <a:ext cx="7851960" cy="146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16000" y="2204640"/>
            <a:ext cx="712800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Его цель – определение целей и форм рабо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оставление плана мероприятий по работе с детьми и родителям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бор и накопление материала, изучение литерату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рганизация развивающей предметно-пространственной сред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ониторинг творческих способностей детей, их умений и навык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нкетирование родите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131320" cy="1358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39640" y="1700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Его цель – реализация проек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Беседы с детьми о театр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тение художественной литературы, аппликация, лепка, рис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Театрализованные игры, игры – драмат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Совершенствование навыков использования мимики, жестов, голос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разучивание текстов сказ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астольно-печатные игры, сюжетно-ролевые игры, пальчиковый 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астольный театры, магнитный , и теневой театр, театр би - ба - б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Организация и проведение образовательной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«Творческая мастерская» (совместно с родителями создание необходимых костюмов или элементов костюмов, декорации, и т.д.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189080" y="476280"/>
            <a:ext cx="6510240" cy="1359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84360" y="2205000"/>
            <a:ext cx="74167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Его цель: - подведение итого проделанной работ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ление опыта работы по театрализованной деятельности детей дошкольников через презентацию проект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оказ домашних театров с участием детей и родителе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7:01:42Z</dcterms:created>
  <dc:creator>Lena</dc:creator>
  <dc:description/>
  <dc:language>en-US</dc:language>
  <cp:lastModifiedBy>Lena</cp:lastModifiedBy>
  <dcterms:modified xsi:type="dcterms:W3CDTF">2020-09-06T19:31:17Z</dcterms:modified>
  <cp:revision>28</cp:revision>
  <dc:subject/>
  <dc:title>Презентация PowerPoint</dc:title>
</cp:coreProperties>
</file>