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40.jpeg" ContentType="image/jpeg"/>
  <Override PartName="/ppt/media/image33.jpeg" ContentType="image/jpeg"/>
  <Override PartName="/ppt/media/image27.jpeg" ContentType="image/jpeg"/>
  <Override PartName="/ppt/media/image4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B98A-B876-4D4C-94B5-85FE9617B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5483-3BFE-4A2D-909F-69493710B7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B39-3B33-46CC-AA94-4F5D2D94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A98-779D-4DEC-8773-15664624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D8B-419D-406E-A70E-7656BF6F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029-BD24-4C85-BA77-BBCCA5D9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F4DC-1323-4F24-B762-BC5E225C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A717-974C-449A-A876-58B2362E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1948-BE33-47EB-8E72-DC42CB2C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3C4B-5DA9-4988-9043-558DA872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D1FF-C922-48DC-AA6A-B99F4AC8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452E-D15E-4B31-A2F0-3FBCE71A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64D2-EF22-45FA-AB79-0CF3985C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2B0-3573-4559-9D5B-DB975D10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5178-766F-4973-8495-B6246CE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9A42-4A58-4C62-82F4-A835031E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DA1C-3743-4386-A792-CBB0F8F2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9E72-F3BB-4E1F-A6EE-E652AC9D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7E0F-37E1-4127-A76A-4502DAC7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3465-87E4-45AB-94E3-84297D4E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BADD-60BB-42CA-A277-1CB674F5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9550-621F-4CBB-B3A7-73D4397C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5C65-4015-41CA-B201-DB55CA4F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F10B-6F59-45BB-BD4C-BE4EFCAC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A34-5484-444F-8EB1-B002B5DF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1E85-3218-4267-852C-74F29330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19C8-E89A-472D-ADA3-4128608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A4D8-E36D-4BD1-B801-FA1A5616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48AE-B4DC-4FA1-921E-A11C39B5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5864-F7A0-492A-97D1-6F45FFD2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32946-744A-4E5B-818A-4CB15022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D4C8-95B2-4A66-8BC8-6CE29A61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86BC-2537-4061-9E91-9B8247A7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3D2B-4419-4371-84F3-6744B9B1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0223-1B4A-498F-9DB8-C1989F57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896-4695-4164-9FE5-0D85C8AC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DDE39-8B3A-4B8B-8232-989C3A42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A0028-FEA0-4940-9971-AA9CEB7C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2E25-C469-4A61-B70F-7F9C4DC1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E28D8-677C-4D28-BABF-167B6EE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133D-E73F-4485-BDFB-8AC9DF87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17D6-3933-48A8-9084-7D5034C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46A22-CCC0-46E1-BC00-2BB81626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4C21-0884-4FFC-B2F2-87C1D643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4D1F2-8991-4664-B153-6B4A4D0F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917-EF96-46E6-9D0E-517E3D1E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0D9-6880-489C-B0E5-E183B199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213-D106-42BA-BCD5-A71661B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30C-5973-4842-94D4-AA6A4EF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39E-F40F-4A4E-B0AB-9CF957C1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D2EA-B49F-42A9-B1C1-DA57466700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EF57-548E-4982-A9BA-5C151D8561B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C956-9DB7-479F-B3A1-0FE33BAC7E4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215E-1CD0-473C-8B3C-DB71006019A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73120" y="5373720"/>
            <a:ext cx="6483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           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Подготовила воспитатель: Николаева Е.В.    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901800" y="865080"/>
            <a:ext cx="7175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8137800" cy="1360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68000" y="1557000"/>
            <a:ext cx="835164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 процессе работы нами были определены основные принципы, которые легли в основу исследования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направленности.  Мы  учитываем, что цели и задачи нашей работы строятся на единой концепции государственной политики в области дошкольного образования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системности и последовательности. Начиная с раннего дошкольного возраста «учу-играя», прививая знания, умения и навыки на практике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доступности. Опираясь на него, мы учитываем  возрастные особенности, потребности, интересы, уровень  подготовленности детей, их небольшой жизненный опыт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наглядности обучения.  Мы  продумываем: дидактические цели исследования наглядности, методику показа, количество наглядности и последовательности демонстрации, сочетание определенных видов наглядности, включение детей в анализ наблюдения объектов, соблюдение требований культуры показа и к оформлению наглядност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интегрированного подхода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воспитывающего и развивающего обучения. Определяем  ведущие цели обучения: познавательную, воспитательную, развивающу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инцип прочности. Все сформированные умения и навыки применяем на практике, осуществляя индивидуально - дифференцированный подход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925040" cy="1170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68360" y="119700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звитие психофизических способностей (мимики, пантомимики); психических процессов (восприятия, воображения, фантазии, мышления, внимания, памяти и др.), речи (монолог, диалог); творческих способностей (умение перевоплощаться, импровизировать, брать на себя роль)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формированность духовно-богатой личности ребёнк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формированность творческого потенциала, активной, самостоятельной, эмоционально – отзывчивой, социально – компетентной и развивающейся личност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формированность нравственно – коммуникативных и волевых качеств (общительность, вежливость, добро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богащение театрального опыта: знаний детей о театре, его истории, театральных профессиях, костюмах, атрибутах, театральной терминологи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амостоятельное исполнение и передача образа сказочных персонаже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ешение основных задач образовательных областей в соответствии с ФГОС (любая задача любой образовательной деятельности решается детьми легче, проще и быстрее, если дети ее обыгрывают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целесообразное включение элементов театрализации в образовательную деятельность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звитие желания придумать, рассказать сказку, историю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63680" y="407880"/>
            <a:ext cx="7924680" cy="1401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95280" y="162864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рганизация педагогического поиска через реализацию инновационных программ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овышение теоретического уровня  и профессионализма педагог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недрение инновационных технологий;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формирование представлений о создании игровой среды для полноценног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творческого развития ребенк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овышение знаний по театрализованной деятельности у детей дошкольного возраст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активное участие в жизни детского сада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олучение возможности наблюдать за своими детьми, что даёт возможность лучше разобраться в вопросах развития детей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формирование более высокой оценки достижения своих детей и гордость за 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звитие более глубокого понимания процесса обучения детей дошкольного возраст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озникновение доверия к воспитателям и другим сотрудникам детского сад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878040" y="262080"/>
            <a:ext cx="6681600" cy="1358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395280" y="1341000"/>
            <a:ext cx="835344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1. Агапова, М.А. Давыдова И.А. «Театральные занятия в детском саду» Развитие, управление, тренинги, сценарии. М.; АРКТИ, 2010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2. Артемова Л.В. Театрализованные игры дошкольников. – М.: Просвещение, 1991. – 127 с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3.Веракса Н.Е., Комарова Т.С., Васильева М.А. Программа «От рождения до школы» М.: МОЗАИКА-СИНТЕЗ 2014г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4.Доронова Т.Н. Играем в театр: театрализованная деятельность детей 4-6 лет: методическое пособие для воспитателей дошкольных образовательных учреждений. М. Просвещение, 2005г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5.Куцакова Л.В., Мерзлякова С.И. Воспитание ребенка дошкольника: Программно-методическое пособие. М.: Гуманит. изд. центр Владос, 2004г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6.С. И. Мерзлякова, «Волшебный мир театра» (для детей 5-7 лет). 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7.Маханева М.Д. Театрализованные занятия в детском саду: Пособие для работников дошкольных учреждений. М.: ТЦ Сфера, 2004г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8.Петрова Т.И., Сергеева Е.Л., Петрова Е.С. Театрализованные игры в детском саду: Разработки занятий для всех возрастных групп с методическими рекомендациями. М.: Школьная Пресса, 2004г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9.Сорокина Н.Ф. Играем в кукольный театр: Программа «Театр-творчество-дети»: Пособие для воспитателей, педагогов дополнительного образования и музыкальных руководителей детских садов. М.: АРКТИ, 2004г.</a:t>
            </a:r>
            <a:br>
              <a:rPr sz="1500"/>
            </a:b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10. Щеткин А.В. «Театральная деятельность в детском саду» Библиотека воспитателя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6" descr=""/>
          <p:cNvPicPr/>
          <p:nvPr/>
        </p:nvPicPr>
        <p:blipFill>
          <a:blip r:embed="rId1"/>
          <a:stretch/>
        </p:blipFill>
        <p:spPr>
          <a:xfrm>
            <a:off x="969840" y="560520"/>
            <a:ext cx="6516720" cy="1377720"/>
          </a:xfrm>
          <a:prstGeom prst="rect">
            <a:avLst/>
          </a:prstGeom>
          <a:ln w="0">
            <a:noFill/>
          </a:ln>
        </p:spPr>
      </p:pic>
      <p:pic>
        <p:nvPicPr>
          <p:cNvPr id="248" name="Объект 8" descr=""/>
          <p:cNvPicPr/>
          <p:nvPr/>
        </p:nvPicPr>
        <p:blipFill>
          <a:blip r:embed="rId2"/>
          <a:stretch/>
        </p:blipFill>
        <p:spPr>
          <a:xfrm>
            <a:off x="1327320" y="2133720"/>
            <a:ext cx="597852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969840" y="530280"/>
            <a:ext cx="6516720" cy="1096920"/>
          </a:xfrm>
          <a:prstGeom prst="rect">
            <a:avLst/>
          </a:prstGeom>
          <a:ln w="0">
            <a:noFill/>
          </a:ln>
        </p:spPr>
      </p:pic>
      <p:pic>
        <p:nvPicPr>
          <p:cNvPr id="250" name="Объект 3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4392720" cy="35607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311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42880" y="334800"/>
            <a:ext cx="7991640" cy="1140120"/>
          </a:xfrm>
          <a:prstGeom prst="rect">
            <a:avLst/>
          </a:prstGeom>
          <a:ln w="0">
            <a:noFill/>
          </a:ln>
        </p:spPr>
      </p:pic>
      <p:pic>
        <p:nvPicPr>
          <p:cNvPr id="253" name="Объект 3" descr=""/>
          <p:cNvPicPr/>
          <p:nvPr/>
        </p:nvPicPr>
        <p:blipFill>
          <a:blip r:embed="rId2"/>
          <a:stretch/>
        </p:blipFill>
        <p:spPr>
          <a:xfrm>
            <a:off x="219240" y="1484280"/>
            <a:ext cx="3840120" cy="50086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6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356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682560" y="560520"/>
            <a:ext cx="7851960" cy="1274760"/>
          </a:xfrm>
          <a:prstGeom prst="rect">
            <a:avLst/>
          </a:prstGeom>
          <a:ln w="0">
            <a:noFill/>
          </a:ln>
        </p:spPr>
      </p:pic>
      <p:pic>
        <p:nvPicPr>
          <p:cNvPr id="256" name="Объект 3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527640" cy="48243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3600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969840" y="4705200"/>
            <a:ext cx="7338960" cy="1244880"/>
          </a:xfrm>
          <a:prstGeom prst="rect">
            <a:avLst/>
          </a:prstGeom>
          <a:ln w="0">
            <a:noFill/>
          </a:ln>
        </p:spPr>
      </p:pic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5616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969840" y="5072040"/>
            <a:ext cx="733896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Объект 3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58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189080" y="401760"/>
            <a:ext cx="6510240" cy="1811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611280" y="1628640"/>
            <a:ext cx="79214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Важной задачей эстетического воспитания у детей с ОВЗ является формирование эстетических интересов, потребностей, эстетического вкуса, а также творческих способностей. Богатейшее поле для эстетического развития и коррекционной помощи детям с ОВЗ, а также развития их творческих способностей, представляет театрализованная деятельность.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на является источником развития чувств, глубоких переживаний и открытий ребёнка, приобщает его к духовным ценностям и остаётся, пожалуй, самой популярной, увлекательной деятельностью.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Итак, интересным, увлекательным и актуальным направлением в дошкольном воспитании детей с ОВЗ в условиях инклюзии, является театрализованная деятельность. Это самый распространенный вид детского творчества. Она близка и понятна ребенку, глубоко лежит в его природе и находит свое отражение стихийно, потому что связана с игрой. Дети любят играть, их не нужно заставлять это делат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138560" y="4376880"/>
            <a:ext cx="4462560" cy="2146320"/>
          </a:xfrm>
          <a:prstGeom prst="rect">
            <a:avLst/>
          </a:prstGeom>
          <a:ln w="0">
            <a:noFill/>
          </a:ln>
        </p:spPr>
      </p:pic>
      <p:pic>
        <p:nvPicPr>
          <p:cNvPr id="263" name="Объект 3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475272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31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901800" y="4883040"/>
            <a:ext cx="7699320" cy="1371600"/>
          </a:xfrm>
          <a:prstGeom prst="rect">
            <a:avLst/>
          </a:prstGeom>
          <a:ln w="0">
            <a:noFill/>
          </a:ln>
        </p:spPr>
      </p:pic>
      <p:pic>
        <p:nvPicPr>
          <p:cNvPr id="266" name="Объект 3" descr=""/>
          <p:cNvPicPr/>
          <p:nvPr/>
        </p:nvPicPr>
        <p:blipFill>
          <a:blip r:embed="rId2"/>
          <a:stretch/>
        </p:blipFill>
        <p:spPr>
          <a:xfrm>
            <a:off x="1547640" y="731880"/>
            <a:ext cx="64090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116000" y="401760"/>
            <a:ext cx="6510240" cy="793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611280" y="1341360"/>
            <a:ext cx="792144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Участники проект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д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ети группы комбинированной направленности 5-7 лет, родители, воспитател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Тип проекта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: 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творческ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родолжительность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: 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олгосрочный -1 год (сентябрь - май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бразовательные области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художественно-эстетическ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социально – коммуникативн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речев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познавательн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- физическое развит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116000" y="615960"/>
            <a:ext cx="6510240" cy="14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87280" y="2637000"/>
            <a:ext cx="640080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Формирование творческой личности дошкольников с ОВЗ средствами театрализованной деятельности, в условиях группы комбинированной направленнос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969840" y="401760"/>
            <a:ext cx="6516720" cy="1500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186920" y="1916280"/>
            <a:ext cx="72723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истематизировать знания детей по теме проект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тимулировать у детей интерес к знакомству с историей тетра, с его особенностями, видами и традициями, профессиям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вать у детей устойчивый интерес к театрализованной деятельности, умение воспринимать художественное слово и понимать его значение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Активизировать и совершенствовать словарный запас, грамматический строй речи, звукопроизношение, навыки связной реч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вать эмоциональные, интеллектуальные, коммуникативные особенности ребенка средствами детского театр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вать артистизм и навыки сценического искус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1116000" y="444600"/>
            <a:ext cx="6510240" cy="1403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684360" y="2276640"/>
            <a:ext cx="777528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рактический метод: практические задания, разные виды игр, постановка сказок, организация выставок, викторины, творческие работы, презентации по теме проект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ловесный метод: беседа, чтение художественных произведений, рассказывание, пересказ; слушание музыкальных произведений по теме проект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Наглядный метод</a:t>
            </a: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 рассматривание наглядно-иллюстративного материала; подбор разных видов атрибутов и костюмов для постановки театральной деятельности, демонстрация мультфильмов и видеофильм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Методы исследования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: педагогическое наблюдение; анкетирование; опрос; диагностирование (педагогическая диагностика театрализованной деятельности (Т.С. Комарова)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682560" y="695160"/>
            <a:ext cx="7851960" cy="146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116000" y="2204640"/>
            <a:ext cx="712800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Его цель – определение целей и форм работ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Задачи данного этапа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оставление плана мероприятий по работе с детьми и родителям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бор и накопление материала, изучение литератур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рганизация развивающей предметно-пространственной сред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Мониторинг творческих способностей детей, их умений и навык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Анкетирование родите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131320" cy="1358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39640" y="1700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Его цель – реализация проект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Задачи данного этап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Беседы с детьми о театр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Чтение художественной литературы, аппликация, лепка, рис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Театрализованные игры, игры – драмат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Совершенствование навыков использования мимики, жестов, голос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разучивание текстов сказ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Настольно-печатные игры, сюжетно-ролевые игры, пальчиковый 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настольный театры, магнитный , и теневой театр, театр би - ба - б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5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Организация и проведение образовательной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5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«Творческая мастерская» (совместно с родителями создание необходимых костюмов или элементов костюмов, декорации, и т.д.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189080" y="476280"/>
            <a:ext cx="6510240" cy="1359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84360" y="2205000"/>
            <a:ext cx="741672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Его цель: - подведение итого проделанной работ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Задачи данного этапа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Представление опыта работы по театрализованной деятельности детей дошкольников через презентацию проект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Показ домашних театров с участием детей и родителе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7:01:42Z</dcterms:created>
  <dc:creator>Lena</dc:creator>
  <dc:description/>
  <dc:language>en-US</dc:language>
  <cp:lastModifiedBy>Lena</cp:lastModifiedBy>
  <dcterms:modified xsi:type="dcterms:W3CDTF">2020-09-06T19:31:17Z</dcterms:modified>
  <cp:revision>28</cp:revision>
  <dc:subject/>
  <dc:title>Презентация PowerPoint</dc:title>
</cp:coreProperties>
</file>