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31.wmf" ContentType="image/x-wmf"/>
  <Override PartName="/ppt/media/image26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4.jpeg" ContentType="image/jpeg"/>
  <Override PartName="/ppt/media/image6.png" ContentType="image/png"/>
  <Override PartName="/ppt/media/image3.gif" ContentType="image/gif"/>
  <Override PartName="/ppt/media/image20.png" ContentType="image/png"/>
  <Override PartName="/ppt/media/image15.gif" ContentType="image/gif"/>
  <Override PartName="/ppt/media/image11.gif" ContentType="image/gif"/>
  <Override PartName="/ppt/media/image12.gif" ContentType="image/gif"/>
  <Override PartName="/ppt/media/image13.gif" ContentType="image/gif"/>
  <Override PartName="/ppt/media/image36.wmf" ContentType="image/x-wmf"/>
  <Override PartName="/ppt/media/image30.png" ContentType="image/png"/>
  <Override PartName="/ppt/media/image33.png" ContentType="image/png"/>
  <Override PartName="/ppt/media/image38.wmf" ContentType="image/x-wmf"/>
  <Override PartName="/ppt/media/image8.wmf" ContentType="image/x-wmf"/>
  <Override PartName="/ppt/media/image10.gif" ContentType="image/gif"/>
  <Override PartName="/ppt/media/image37.wmf" ContentType="image/x-wmf"/>
  <Override PartName="/ppt/media/image14.gif" ContentType="image/gif"/>
  <Override PartName="/ppt/media/image35.wmf" ContentType="image/x-wmf"/>
  <Override PartName="/ppt/media/image5.wmf" ContentType="image/x-wmf"/>
  <Override PartName="/ppt/media/image9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4.wmf" ContentType="image/x-wmf"/>
  <Override PartName="/ppt/media/image4.wmf" ContentType="image/x-wmf"/>
  <Override PartName="/ppt/media/image16.gif" ContentType="image/gif"/>
  <Override PartName="/ppt/media/image19.png" ContentType="image/png"/>
  <Override PartName="/ppt/media/image27.jpeg" ContentType="image/jpeg"/>
  <Override PartName="/ppt/media/image17.gif" ContentType="image/gi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5DE-C036-4DD5-8985-36C3D37A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A14-39D9-42EC-B0BF-E17AA34B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952-A68B-4D75-A0C6-35ED4C70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1F9-B9DA-4B5B-9831-AF8068A5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5D6-28EC-4DEA-9A66-3E21F76B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39A-5086-4240-9211-5C147929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76B-7199-4B6E-805C-AEFE6DA9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B5C-27E4-4051-891E-D8E1E1F1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4F2-9B38-417C-AA86-41D920F5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1DD-BBAC-4C2B-8715-895EE725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911-25FD-4301-B016-8EDE66D0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51F-629F-48F6-BDBF-4847436F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21B5-AF69-408F-A5C6-B2F44CD1E9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1628640"/>
            <a:ext cx="748836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Маска откройся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79280" y="2637000"/>
            <a:ext cx="4608720" cy="208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НЕОРГАНИЧЕСКИЕ-</a:t>
            </a:r>
            <a:r>
              <a:rPr b="1" i="1" lang="ru-RU" sz="2800" spc="-1" strike="noStrike">
                <a:solidFill>
                  <a:srgbClr val="d6009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Tahoma"/>
              </a:rPr>
              <a:t>СЕРНАЯ, СОЛЯНАЯ, ПЛАВИКОВАЯ, ФОСФОРНАЯ, АЗОТ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men"/>
          <p:cNvPicPr/>
          <p:nvPr/>
        </p:nvPicPr>
        <p:blipFill>
          <a:blip r:embed="rId1"/>
          <a:stretch/>
        </p:blipFill>
        <p:spPr>
          <a:xfrm flipH="1" rot="21581400">
            <a:off x="4932000" y="1988280"/>
            <a:ext cx="4035600" cy="464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J0286860"/>
          <p:cNvPicPr/>
          <p:nvPr/>
        </p:nvPicPr>
        <p:blipFill>
          <a:blip r:embed="rId2"/>
          <a:stretch/>
        </p:blipFill>
        <p:spPr>
          <a:xfrm>
            <a:off x="250920" y="260280"/>
            <a:ext cx="20206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68360" y="4508640"/>
            <a:ext cx="52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Соляная кислота, находящаяся в желудке, помогает переваривать пищ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456000" y="1484280"/>
            <a:ext cx="54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66"/>
                </a:solidFill>
                <a:latin typeface="Arial"/>
              </a:rPr>
              <a:t>Молочная кислота образуется в мышцах при физической нагруз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E01981_"/>
          <p:cNvPicPr/>
          <p:nvPr/>
        </p:nvPicPr>
        <p:blipFill>
          <a:blip r:embed="rId1"/>
          <a:stretch/>
        </p:blipFill>
        <p:spPr>
          <a:xfrm>
            <a:off x="179280" y="1341360"/>
            <a:ext cx="3178440" cy="3024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0"/>
          <p:cNvPicPr/>
          <p:nvPr/>
        </p:nvPicPr>
        <p:blipFill>
          <a:blip r:embed="rId2"/>
          <a:stretch/>
        </p:blipFill>
        <p:spPr>
          <a:xfrm>
            <a:off x="5580000" y="3789360"/>
            <a:ext cx="3210120" cy="2762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Tahoma"/>
              </a:rPr>
              <a:t>КИСЛОТЫ СОДЕРЖАТСЯ В ОРГАНИЗМАХ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Organization Chart 4"/>
          <p:cNvGrpSpPr/>
          <p:nvPr/>
        </p:nvGrpSpPr>
        <p:grpSpPr>
          <a:xfrm>
            <a:off x="539640" y="1773360"/>
            <a:ext cx="8160480" cy="3649680"/>
            <a:chOff x="539640" y="1773360"/>
            <a:chExt cx="8160480" cy="3649680"/>
          </a:xfrm>
        </p:grpSpPr>
        <p:cxnSp>
          <p:nvCxnSpPr>
            <p:cNvPr id="77" name="_s1028"/>
            <p:cNvCxnSpPr>
              <a:stCxn id="78" idx="0"/>
              <a:endCxn id="79" idx="2"/>
            </p:cNvCxnSpPr>
            <p:nvPr/>
          </p:nvCxnSpPr>
          <p:spPr>
            <a:xfrm flipV="1" rot="16200000">
              <a:off x="5353200" y="2498400"/>
              <a:ext cx="730080" cy="2198160"/>
            </a:xfrm>
            <a:prstGeom prst="bentConnector3">
              <a:avLst>
                <a:gd name="adj1" fmla="val 14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1029"/>
            <p:cNvCxnSpPr>
              <a:stCxn id="81" idx="0"/>
              <a:endCxn id="79" idx="2"/>
            </p:cNvCxnSpPr>
            <p:nvPr/>
          </p:nvCxnSpPr>
          <p:spPr>
            <a:xfrm flipH="1" flipV="1" rot="5400000">
              <a:off x="3155400" y="2499480"/>
              <a:ext cx="730080" cy="2196720"/>
            </a:xfrm>
            <a:prstGeom prst="bentConnector3">
              <a:avLst>
                <a:gd name="adj1" fmla="val 14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1030"/>
            <p:cNvSpPr/>
            <p:nvPr/>
          </p:nvSpPr>
          <p:spPr>
            <a:xfrm>
              <a:off x="2736000" y="1773360"/>
              <a:ext cx="3766320" cy="1459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900" spc="-1" strike="noStrike">
                  <a:solidFill>
                    <a:srgbClr val="ff5050"/>
                  </a:solidFill>
                  <a:latin typeface="Arial"/>
                </a:rPr>
                <a:t>Кислоты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1"/>
            <p:cNvSpPr/>
            <p:nvPr/>
          </p:nvSpPr>
          <p:spPr>
            <a:xfrm>
              <a:off x="539640" y="3963240"/>
              <a:ext cx="3766320" cy="1459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Жидкие.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НС</a:t>
              </a: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l, 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2"/>
            <p:cNvSpPr/>
            <p:nvPr/>
          </p:nvSpPr>
          <p:spPr>
            <a:xfrm>
              <a:off x="4933800" y="3963240"/>
              <a:ext cx="3766320" cy="1459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Твёрдые.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11"/>
          <p:cNvSpPr/>
          <p:nvPr/>
        </p:nvSpPr>
        <p:spPr>
          <a:xfrm>
            <a:off x="684360" y="549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о агрегатному состояни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324000" y="3213000"/>
            <a:ext cx="381636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бескислородные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F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Br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I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54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По содержанию кислор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643280" y="3284640"/>
            <a:ext cx="424836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кислородсодержа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2484360" y="1341360"/>
            <a:ext cx="4175280" cy="1224000"/>
          </a:xfrm>
          <a:prstGeom prst="leftRightArrow">
            <a:avLst>
              <a:gd name="adj1" fmla="val 50000"/>
              <a:gd name="adj2" fmla="val 67907"/>
            </a:avLst>
          </a:prstGeom>
          <a:solidFill>
            <a:srgbClr val="99ff33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68360" y="333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По количеству атомов вод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 rot="10800000">
            <a:off x="2700000" y="1052280"/>
            <a:ext cx="4032360" cy="2520720"/>
          </a:xfrm>
          <a:prstGeom prst="pie">
            <a:avLst/>
          </a:prstGeom>
          <a:solidFill>
            <a:srgbClr val="99ff33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39640" y="1341360"/>
            <a:ext cx="244800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одно-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419640" y="3789360"/>
            <a:ext cx="244764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двух-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588000" y="1341360"/>
            <a:ext cx="230364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трех-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620280"/>
            <a:ext cx="7775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о растворимости в во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Organization Chart 4"/>
          <p:cNvGrpSpPr/>
          <p:nvPr/>
        </p:nvGrpSpPr>
        <p:grpSpPr>
          <a:xfrm>
            <a:off x="468360" y="1700280"/>
            <a:ext cx="8160120" cy="4032360"/>
            <a:chOff x="468360" y="1700280"/>
            <a:chExt cx="8160120" cy="4032360"/>
          </a:xfrm>
        </p:grpSpPr>
        <p:cxnSp>
          <p:nvCxnSpPr>
            <p:cNvPr id="95" name="_s2052"/>
            <p:cNvCxnSpPr>
              <a:stCxn id="96" idx="0"/>
              <a:endCxn id="97" idx="2"/>
            </p:cNvCxnSpPr>
            <p:nvPr/>
          </p:nvCxnSpPr>
          <p:spPr>
            <a:xfrm flipV="1" rot="16200000">
              <a:off x="5243040" y="2616840"/>
              <a:ext cx="807120" cy="2198160"/>
            </a:xfrm>
            <a:prstGeom prst="bentConnector3">
              <a:avLst>
                <a:gd name="adj1" fmla="val 141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2053"/>
            <p:cNvCxnSpPr>
              <a:stCxn id="99" idx="0"/>
              <a:endCxn id="97" idx="2"/>
            </p:cNvCxnSpPr>
            <p:nvPr/>
          </p:nvCxnSpPr>
          <p:spPr>
            <a:xfrm flipH="1" flipV="1" rot="5400000">
              <a:off x="3045600" y="2617920"/>
              <a:ext cx="807120" cy="2196720"/>
            </a:xfrm>
            <a:prstGeom prst="bentConnector3">
              <a:avLst>
                <a:gd name="adj1" fmla="val 141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7" name="_s2054"/>
            <p:cNvSpPr/>
            <p:nvPr/>
          </p:nvSpPr>
          <p:spPr>
            <a:xfrm>
              <a:off x="2664720" y="1700280"/>
              <a:ext cx="3766320" cy="161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33cccc"/>
                  </a:solidFill>
                  <a:latin typeface="Arial"/>
                </a:rPr>
                <a:t>Кислот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5"/>
            <p:cNvSpPr/>
            <p:nvPr/>
          </p:nvSpPr>
          <p:spPr>
            <a:xfrm>
              <a:off x="468360" y="4119840"/>
              <a:ext cx="3766320" cy="161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Растворим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НС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, HN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6"/>
            <p:cNvSpPr/>
            <p:nvPr/>
          </p:nvSpPr>
          <p:spPr>
            <a:xfrm>
              <a:off x="4862160" y="4119840"/>
              <a:ext cx="3766320" cy="161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Нерастворим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692280"/>
            <a:ext cx="785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По летуче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rganization Chart 4"/>
          <p:cNvGrpSpPr/>
          <p:nvPr/>
        </p:nvGrpSpPr>
        <p:grpSpPr>
          <a:xfrm>
            <a:off x="468360" y="1844640"/>
            <a:ext cx="8160120" cy="3649680"/>
            <a:chOff x="468360" y="1844640"/>
            <a:chExt cx="8160120" cy="3649680"/>
          </a:xfrm>
        </p:grpSpPr>
        <p:cxnSp>
          <p:nvCxnSpPr>
            <p:cNvPr id="103" name="_s3076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281560" y="2569680"/>
              <a:ext cx="730080" cy="2198160"/>
            </a:xfrm>
            <a:prstGeom prst="bentConnector3">
              <a:avLst>
                <a:gd name="adj1" fmla="val 14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3077"/>
            <p:cNvCxnSpPr>
              <a:stCxn id="107" idx="0"/>
              <a:endCxn id="105" idx="2"/>
            </p:cNvCxnSpPr>
            <p:nvPr/>
          </p:nvCxnSpPr>
          <p:spPr>
            <a:xfrm flipH="1" flipV="1" rot="5400000">
              <a:off x="3084120" y="2570760"/>
              <a:ext cx="730080" cy="2196720"/>
            </a:xfrm>
            <a:prstGeom prst="bentConnector3">
              <a:avLst>
                <a:gd name="adj1" fmla="val 14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3078"/>
            <p:cNvSpPr/>
            <p:nvPr/>
          </p:nvSpPr>
          <p:spPr>
            <a:xfrm>
              <a:off x="2664720" y="1844640"/>
              <a:ext cx="3766320" cy="1459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33cccc"/>
                  </a:solidFill>
                  <a:latin typeface="Arial"/>
                </a:rPr>
                <a:t>Кислоты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3079"/>
            <p:cNvSpPr/>
            <p:nvPr/>
          </p:nvSpPr>
          <p:spPr>
            <a:xfrm>
              <a:off x="468360" y="4034520"/>
              <a:ext cx="3766320" cy="1459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Летучие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, HCl, HN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080"/>
            <p:cNvSpPr/>
            <p:nvPr/>
          </p:nvSpPr>
          <p:spPr>
            <a:xfrm>
              <a:off x="4862160" y="4034520"/>
              <a:ext cx="3766320" cy="1459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Нелетучие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549360"/>
            <a:ext cx="785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о степени электролитической диссоци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Organization Chart 4"/>
          <p:cNvGrpSpPr/>
          <p:nvPr/>
        </p:nvGrpSpPr>
        <p:grpSpPr>
          <a:xfrm>
            <a:off x="468360" y="1989000"/>
            <a:ext cx="8160120" cy="3330000"/>
            <a:chOff x="468360" y="1989000"/>
            <a:chExt cx="8160120" cy="3330000"/>
          </a:xfrm>
        </p:grpSpPr>
        <p:cxnSp>
          <p:nvCxnSpPr>
            <p:cNvPr id="111" name="_s4100"/>
            <p:cNvCxnSpPr>
              <a:stCxn id="112" idx="0"/>
              <a:endCxn id="113" idx="2"/>
            </p:cNvCxnSpPr>
            <p:nvPr/>
          </p:nvCxnSpPr>
          <p:spPr>
            <a:xfrm flipV="1" rot="16200000">
              <a:off x="5313240" y="2554560"/>
              <a:ext cx="666720" cy="2198160"/>
            </a:xfrm>
            <a:prstGeom prst="bentConnector3">
              <a:avLst>
                <a:gd name="adj1" fmla="val 183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4101"/>
            <p:cNvCxnSpPr>
              <a:stCxn id="115" idx="0"/>
              <a:endCxn id="113" idx="2"/>
            </p:cNvCxnSpPr>
            <p:nvPr/>
          </p:nvCxnSpPr>
          <p:spPr>
            <a:xfrm flipH="1" flipV="1" rot="5400000">
              <a:off x="3115800" y="2555640"/>
              <a:ext cx="666720" cy="2196720"/>
            </a:xfrm>
            <a:prstGeom prst="bentConnector3">
              <a:avLst>
                <a:gd name="adj1" fmla="val 183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4102"/>
            <p:cNvSpPr/>
            <p:nvPr/>
          </p:nvSpPr>
          <p:spPr>
            <a:xfrm>
              <a:off x="2664720" y="1989000"/>
              <a:ext cx="3766320" cy="13320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33cccc"/>
                  </a:solidFill>
                  <a:latin typeface="Arial"/>
                </a:rPr>
                <a:t>Кислоты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103"/>
            <p:cNvSpPr/>
            <p:nvPr/>
          </p:nvSpPr>
          <p:spPr>
            <a:xfrm>
              <a:off x="468360" y="3987000"/>
              <a:ext cx="3766320" cy="13320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Силь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Cl, HN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, Н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104"/>
            <p:cNvSpPr/>
            <p:nvPr/>
          </p:nvSpPr>
          <p:spPr>
            <a:xfrm>
              <a:off x="4862160" y="3987000"/>
              <a:ext cx="3766320" cy="13320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Слаб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,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692280"/>
            <a:ext cx="7775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По стаби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Organization Chart 4"/>
          <p:cNvGrpSpPr/>
          <p:nvPr/>
        </p:nvGrpSpPr>
        <p:grpSpPr>
          <a:xfrm>
            <a:off x="539640" y="1773360"/>
            <a:ext cx="8160480" cy="3362760"/>
            <a:chOff x="539640" y="1773360"/>
            <a:chExt cx="8160480" cy="3362760"/>
          </a:xfrm>
        </p:grpSpPr>
        <p:cxnSp>
          <p:nvCxnSpPr>
            <p:cNvPr id="119" name="_s5124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5381640" y="2355120"/>
              <a:ext cx="673200" cy="2198160"/>
            </a:xfrm>
            <a:prstGeom prst="bentConnector3">
              <a:avLst>
                <a:gd name="adj1" fmla="val 141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5125"/>
            <p:cNvCxnSpPr>
              <a:stCxn id="123" idx="0"/>
              <a:endCxn id="121" idx="2"/>
            </p:cNvCxnSpPr>
            <p:nvPr/>
          </p:nvCxnSpPr>
          <p:spPr>
            <a:xfrm flipH="1" flipV="1" rot="5400000">
              <a:off x="3183840" y="2356200"/>
              <a:ext cx="673200" cy="2196720"/>
            </a:xfrm>
            <a:prstGeom prst="bentConnector3">
              <a:avLst>
                <a:gd name="adj1" fmla="val 141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1" name="_s5126"/>
            <p:cNvSpPr/>
            <p:nvPr/>
          </p:nvSpPr>
          <p:spPr>
            <a:xfrm>
              <a:off x="2736000" y="1773360"/>
              <a:ext cx="3766320" cy="134496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33cccc"/>
                  </a:solidFill>
                  <a:latin typeface="Arial"/>
                </a:rPr>
                <a:t>Кислоты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5127"/>
            <p:cNvSpPr/>
            <p:nvPr/>
          </p:nvSpPr>
          <p:spPr>
            <a:xfrm>
              <a:off x="539640" y="3791160"/>
              <a:ext cx="3766320" cy="134496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Стабильн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Cl, HN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, Н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5128"/>
            <p:cNvSpPr/>
            <p:nvPr/>
          </p:nvSpPr>
          <p:spPr>
            <a:xfrm>
              <a:off x="4933800" y="3791160"/>
              <a:ext cx="3766320" cy="134496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Нестабильн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596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Tahoma"/>
              </a:rPr>
              <a:t>КИСЛОТЫ                            ПРИМЕНЯЮТСЯ  В МЕДИЦ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P1040635"/>
          <p:cNvPicPr/>
          <p:nvPr/>
        </p:nvPicPr>
        <p:blipFill>
          <a:blip r:embed="rId1"/>
          <a:stretch/>
        </p:blipFill>
        <p:spPr>
          <a:xfrm>
            <a:off x="179280" y="1916280"/>
            <a:ext cx="4680000" cy="424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5003640" y="2492280"/>
            <a:ext cx="3961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33"/>
                </a:solidFill>
                <a:latin typeface="Tahoma"/>
              </a:rPr>
              <a:t>Аскорбинов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33"/>
                </a:solidFill>
                <a:latin typeface="Tahoma"/>
              </a:rPr>
              <a:t>фолиев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33"/>
                </a:solidFill>
                <a:latin typeface="Tahoma"/>
              </a:rPr>
              <a:t>липоев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33"/>
                </a:solidFill>
                <a:latin typeface="Tahoma"/>
              </a:rPr>
              <a:t>ацетилсалицил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3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J0286856"/>
          <p:cNvPicPr/>
          <p:nvPr/>
        </p:nvPicPr>
        <p:blipFill>
          <a:blip r:embed="rId2"/>
          <a:stretch/>
        </p:blipFill>
        <p:spPr>
          <a:xfrm>
            <a:off x="7020000" y="260280"/>
            <a:ext cx="19796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Задание для первой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М. В.Ломоносов  в статье, опубликованной в 1745 г., писал : «При растворении какого – либо неблагородного металла, особенно железа, в кислотах из отверстия склянки вырывается горючий пар.» Что это за веще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420880" y="5557680"/>
            <a:ext cx="17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6"/>
          <p:cNvPicPr/>
          <p:nvPr/>
        </p:nvPicPr>
        <p:blipFill>
          <a:blip r:embed="rId1"/>
          <a:stretch/>
        </p:blipFill>
        <p:spPr>
          <a:xfrm>
            <a:off x="5076720" y="1341360"/>
            <a:ext cx="3719520" cy="5040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ahoma"/>
              </a:rPr>
              <a:t>КИСЛОТЫ ПРИМЕНЯЮТСЯ В КУЛИНАРИИ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95280" y="2708280"/>
            <a:ext cx="42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ahoma"/>
              </a:rPr>
              <a:t>Уксусная и лимо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ahoma"/>
              </a:rPr>
              <a:t>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0254477"/>
          <p:cNvPicPr/>
          <p:nvPr/>
        </p:nvPicPr>
        <p:blipFill>
          <a:blip r:embed="rId2"/>
          <a:stretch/>
        </p:blipFill>
        <p:spPr>
          <a:xfrm>
            <a:off x="539640" y="4653000"/>
            <a:ext cx="20876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ru-RU" sz="5900" spc="-1" strike="noStrike">
                <a:solidFill>
                  <a:srgbClr val="33cccc"/>
                </a:solidFill>
                <a:latin typeface="Arial"/>
              </a:rPr>
              <a:t>Составить портрет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Дайте классификац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уксусной кислоте(1В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серной  кислоте(2В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по всем известным признакам классиф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Напишите уравнение диссоциации серной кисл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612144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00cc"/>
                </a:solidFill>
                <a:latin typeface="Arial"/>
              </a:rPr>
              <a:t>Содержится в желудочном соке, в соленых огурцах. Применяется при дублении кожи, для подкисления безалкогольных напитков, ее соли называются лактат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2421000"/>
          <a:ext cx="8964720" cy="4486320"/>
        </p:xfrm>
        <a:graphic>
          <a:graphicData uri="http://schemas.openxmlformats.org/drawingml/2006/table">
            <a:tbl>
              <a:tblPr/>
              <a:tblGrid>
                <a:gridCol w="2484360"/>
                <a:gridCol w="3537000"/>
                <a:gridCol w="2943360"/>
              </a:tblGrid>
              <a:tr h="22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C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H-COO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C- 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17" descr="778 (75)"/>
          <p:cNvPicPr/>
          <p:nvPr/>
        </p:nvPicPr>
        <p:blipFill>
          <a:blip r:embed="rId1"/>
          <a:stretch/>
        </p:blipFill>
        <p:spPr>
          <a:xfrm>
            <a:off x="7419960" y="981000"/>
            <a:ext cx="1724040" cy="752400"/>
          </a:xfrm>
          <a:prstGeom prst="rect">
            <a:avLst/>
          </a:prstGeom>
          <a:ln w="0">
            <a:noFill/>
          </a:ln>
        </p:spPr>
      </p:pic>
      <p:sp>
        <p:nvSpPr>
          <p:cNvPr id="137" name="Line 18"/>
          <p:cNvSpPr/>
          <p:nvPr/>
        </p:nvSpPr>
        <p:spPr>
          <a:xfrm>
            <a:off x="7164360" y="38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9" descr="778 (102)"/>
          <p:cNvPicPr/>
          <p:nvPr/>
        </p:nvPicPr>
        <p:blipFill>
          <a:blip r:embed="rId2"/>
          <a:stretch/>
        </p:blipFill>
        <p:spPr>
          <a:xfrm>
            <a:off x="0" y="779400"/>
            <a:ext cx="17636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Правильный ответ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4920" y="2060640"/>
          <a:ext cx="8929800" cy="4797360"/>
        </p:xfrm>
        <a:graphic>
          <a:graphicData uri="http://schemas.openxmlformats.org/drawingml/2006/table">
            <a:tbl>
              <a:tblPr/>
              <a:tblGrid>
                <a:gridCol w="2736720"/>
                <a:gridCol w="2592360"/>
                <a:gridCol w="3600720"/>
              </a:tblGrid>
              <a:tr h="28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H-COOH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олочная кисл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Picture 4" descr="6"/>
          <p:cNvPicPr/>
          <p:nvPr/>
        </p:nvPicPr>
        <p:blipFill>
          <a:blip r:embed="rId1"/>
          <a:stretch/>
        </p:blipFill>
        <p:spPr>
          <a:xfrm>
            <a:off x="8028000" y="227664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778 (102)"/>
          <p:cNvPicPr/>
          <p:nvPr/>
        </p:nvPicPr>
        <p:blipFill>
          <a:blip r:embed="rId2"/>
          <a:stretch/>
        </p:blipFill>
        <p:spPr>
          <a:xfrm>
            <a:off x="0" y="384120"/>
            <a:ext cx="1620720" cy="1009800"/>
          </a:xfrm>
          <a:prstGeom prst="rect">
            <a:avLst/>
          </a:prstGeom>
          <a:ln w="0">
            <a:noFill/>
          </a:ln>
        </p:spPr>
      </p:pic>
      <p:sp>
        <p:nvSpPr>
          <p:cNvPr id="143" name="Line 19"/>
          <p:cNvSpPr/>
          <p:nvPr/>
        </p:nvSpPr>
        <p:spPr>
          <a:xfrm>
            <a:off x="673272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0"/>
          <p:cNvSpPr/>
          <p:nvPr/>
        </p:nvSpPr>
        <p:spPr>
          <a:xfrm>
            <a:off x="680400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 flipV="1">
            <a:off x="6732720" y="3500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6732720" y="35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3" descr="778 (75)"/>
          <p:cNvPicPr/>
          <p:nvPr/>
        </p:nvPicPr>
        <p:blipFill>
          <a:blip r:embed="rId3"/>
          <a:stretch/>
        </p:blipFill>
        <p:spPr>
          <a:xfrm>
            <a:off x="7236000" y="189000"/>
            <a:ext cx="17236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7956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В природе встречается в виде кислых солей калия и натрия в щавеле, кислице, лишайниках. Ее соли называют оксола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2421000"/>
          <a:ext cx="9036000" cy="4248000"/>
        </p:xfrm>
        <a:graphic>
          <a:graphicData uri="http://schemas.openxmlformats.org/drawingml/2006/table">
            <a:tbl>
              <a:tblPr/>
              <a:tblGrid>
                <a:gridCol w="2556000"/>
                <a:gridCol w="3528720"/>
                <a:gridCol w="2951280"/>
              </a:tblGrid>
              <a:tr h="21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C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H-COO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C- 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Line 17"/>
          <p:cNvSpPr/>
          <p:nvPr/>
        </p:nvSpPr>
        <p:spPr>
          <a:xfrm>
            <a:off x="7164360" y="38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8" descr="27"/>
          <p:cNvPicPr/>
          <p:nvPr/>
        </p:nvPicPr>
        <p:blipFill>
          <a:blip r:embed="rId1"/>
          <a:stretch/>
        </p:blipFill>
        <p:spPr>
          <a:xfrm>
            <a:off x="7867800" y="333360"/>
            <a:ext cx="1276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Правильный ответ №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1981080"/>
          <a:ext cx="9144000" cy="4687920"/>
        </p:xfrm>
        <a:graphic>
          <a:graphicData uri="http://schemas.openxmlformats.org/drawingml/2006/table">
            <a:tbl>
              <a:tblPr/>
              <a:tblGrid>
                <a:gridCol w="2843280"/>
                <a:gridCol w="3241440"/>
                <a:gridCol w="3059280"/>
              </a:tblGrid>
              <a:tr h="23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OC- COOH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Щавелевая кисло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5" descr="48686"/>
          <p:cNvPicPr/>
          <p:nvPr/>
        </p:nvPicPr>
        <p:blipFill>
          <a:blip r:embed="rId1"/>
          <a:stretch/>
        </p:blipFill>
        <p:spPr>
          <a:xfrm>
            <a:off x="250920" y="549360"/>
            <a:ext cx="14000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7160" y="274320"/>
            <a:ext cx="693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Находится в выделениях желез муравьев, в иглах ели, в ворсинках жгучей крапивы и в поте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2421000"/>
          <a:ext cx="9036000" cy="4437000"/>
        </p:xfrm>
        <a:graphic>
          <a:graphicData uri="http://schemas.openxmlformats.org/drawingml/2006/table">
            <a:tbl>
              <a:tblPr/>
              <a:tblGrid>
                <a:gridCol w="2496960"/>
                <a:gridCol w="3587760"/>
                <a:gridCol w="2951280"/>
              </a:tblGrid>
              <a:tr h="24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C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H-COO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C- 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Picture 4" descr="465"/>
          <p:cNvPicPr/>
          <p:nvPr/>
        </p:nvPicPr>
        <p:blipFill>
          <a:blip r:embed="rId1"/>
          <a:stretch/>
        </p:blipFill>
        <p:spPr>
          <a:xfrm>
            <a:off x="179280" y="189000"/>
            <a:ext cx="1143000" cy="1743120"/>
          </a:xfrm>
          <a:prstGeom prst="rect">
            <a:avLst/>
          </a:prstGeom>
          <a:ln w="0">
            <a:noFill/>
          </a:ln>
        </p:spPr>
      </p:pic>
      <p:sp>
        <p:nvSpPr>
          <p:cNvPr id="158" name="Line 18"/>
          <p:cNvSpPr/>
          <p:nvPr/>
        </p:nvSpPr>
        <p:spPr>
          <a:xfrm>
            <a:off x="7164360" y="38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9" descr="1532"/>
          <p:cNvPicPr/>
          <p:nvPr/>
        </p:nvPicPr>
        <p:blipFill>
          <a:blip r:embed="rId2"/>
          <a:stretch/>
        </p:blipFill>
        <p:spPr>
          <a:xfrm>
            <a:off x="7524720" y="1535040"/>
            <a:ext cx="14400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Правильный ответ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1989000"/>
          <a:ext cx="8785440" cy="4608720"/>
        </p:xfrm>
        <a:graphic>
          <a:graphicData uri="http://schemas.openxmlformats.org/drawingml/2006/table">
            <a:tbl>
              <a:tblPr/>
              <a:tblGrid>
                <a:gridCol w="2976840"/>
                <a:gridCol w="3022560"/>
                <a:gridCol w="2786040"/>
              </a:tblGrid>
              <a:tr h="23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COO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уравьиная кисл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Picture 17" descr="muravey"/>
          <p:cNvPicPr/>
          <p:nvPr/>
        </p:nvPicPr>
        <p:blipFill>
          <a:blip r:embed="rId1"/>
          <a:stretch/>
        </p:blipFill>
        <p:spPr>
          <a:xfrm>
            <a:off x="7020000" y="189000"/>
            <a:ext cx="1809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усочек   лимона  капните 1-2 капли лакмуса. Что наблюд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http://im0-tub.yandex.net/i?id=84255533-09"/>
          <p:cNvPicPr/>
          <p:nvPr/>
        </p:nvPicPr>
        <p:blipFill>
          <a:blip r:embed="rId2"/>
          <a:stretch/>
        </p:blipFill>
        <p:spPr>
          <a:xfrm>
            <a:off x="341280" y="2914560"/>
            <a:ext cx="3425760" cy="240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im7-tub.yandex.net/i?id=104327673-03"/>
          <p:cNvPicPr/>
          <p:nvPr/>
        </p:nvPicPr>
        <p:blipFill>
          <a:blip r:embed="rId3"/>
          <a:stretch/>
        </p:blipFill>
        <p:spPr>
          <a:xfrm>
            <a:off x="5000760" y="3071880"/>
            <a:ext cx="3070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ждую из трёх пробирок, где находятся металлы – цинк, железо, медь прилейте 1-2 мл. соляной кислоты(1в)и уксусную кислоту(2в) . Что наблюд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357120" y="264312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http://im2-tub.yandex.net/i?id=37945715-01"/>
          <p:cNvPicPr/>
          <p:nvPr/>
        </p:nvPicPr>
        <p:blipFill>
          <a:blip r:embed="rId2"/>
          <a:stretch/>
        </p:blipFill>
        <p:spPr>
          <a:xfrm>
            <a:off x="714240" y="3392640"/>
            <a:ext cx="3857760" cy="2833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 "/>
          <p:cNvPicPr/>
          <p:nvPr/>
        </p:nvPicPr>
        <p:blipFill>
          <a:blip r:embed="rId3"/>
          <a:stretch/>
        </p:blipFill>
        <p:spPr>
          <a:xfrm>
            <a:off x="4932360" y="3357720"/>
            <a:ext cx="380196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Задание для второй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Семен Исаакович Вольфкович (1896 – 1980)  в одной из лабораторий Московского университета на Моховой получал это вещество  в электрической печи при электротермической возгонки фосфоритов. Когда он поздно возвращался домой по почти не освещенным в то время улицам Москвы, его одежда излучала голубоватое свечение, а из – под ботинок высекались искры. Вскоре среди жителей Моховой улицы стали передаваться рассказы о «светящемся монахе». Назовите вещество, которое получал Вольфк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064200" y="586728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Фосф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39280" y="11970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ждую из двух пробирок, где находятся оксид кальция и оксид меди, добавьте 1-2 мл. соляной кислоты(1в)и уксусную кислоту(2в). Что наблюд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714240" y="278604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http://im2-tub.yandex.net/i?id=109086036-07"/>
          <p:cNvPicPr/>
          <p:nvPr/>
        </p:nvPicPr>
        <p:blipFill>
          <a:blip r:embed="rId2"/>
          <a:stretch/>
        </p:blipFill>
        <p:spPr>
          <a:xfrm>
            <a:off x="755640" y="3860640"/>
            <a:ext cx="3498840" cy="2859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http://im2-tub.yandex.net/i?id=46193736-01"/>
          <p:cNvPicPr/>
          <p:nvPr/>
        </p:nvPicPr>
        <p:blipFill>
          <a:blip r:embed="rId3"/>
          <a:stretch/>
        </p:blipFill>
        <p:spPr>
          <a:xfrm>
            <a:off x="4716360" y="3789360"/>
            <a:ext cx="38721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бирку с гидроксидом натрия добавьте 1-2 мл. соляной кислоты(1в)и уксусную кислоту (2в). Что наблюд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785880" y="2714760"/>
            <a:ext cx="7286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 "/>
          <p:cNvPicPr/>
          <p:nvPr/>
        </p:nvPicPr>
        <p:blipFill>
          <a:blip r:embed="rId2"/>
          <a:stretch/>
        </p:blipFill>
        <p:spPr>
          <a:xfrm>
            <a:off x="4067280" y="3068640"/>
            <a:ext cx="43513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05000" indent="-304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бирку с раствором соляной кислоты(1в) добавьте 1-2 мл. нитрата серебра. Что наблюд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000" indent="-304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бирку с раствором  уксусной кислоты(2в) добавьте карбонат кальция. Что наблюд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000" indent="-304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000" indent="-304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000" indent="-304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000" indent="-304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000" indent="-304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000" indent="-304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714240" y="278604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 "/>
          <p:cNvPicPr/>
          <p:nvPr/>
        </p:nvPicPr>
        <p:blipFill>
          <a:blip r:embed="rId2"/>
          <a:stretch/>
        </p:blipFill>
        <p:spPr>
          <a:xfrm>
            <a:off x="5651640" y="4302000"/>
            <a:ext cx="34923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8" descr="j0240727"/>
          <p:cNvPicPr/>
          <p:nvPr/>
        </p:nvPicPr>
        <p:blipFill>
          <a:blip r:embed="rId1"/>
          <a:stretch/>
        </p:blipFill>
        <p:spPr>
          <a:xfrm>
            <a:off x="6588000" y="2060640"/>
            <a:ext cx="2301840" cy="31464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"/>
              </a:rPr>
              <a:t>Общие химические свойства   у неорганических и неорганических   кисл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568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Диссоци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Взаимодействие с индикато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Взаимодействие с метал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Взаимодействие с основными окси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Взаимодействие с основ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Взаимодействие с солями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476280" y="-165240"/>
            <a:ext cx="8229600" cy="11401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0" y="90756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ыбери правиль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А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С какими из приведённых веществ  не будет взаимодействовать соляная кисло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а) 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б) 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) 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А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В какой цвет окрасится лакмус в растворе соляной кисл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а) си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б) малин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) кра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А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Реакция взаимодействия кислот со щелочами назыв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а) зам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б) нейтр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) со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684360" y="981000"/>
            <a:ext cx="76327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А 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 результате взаимодействия соляной кислоты с нитратом серебра выпадает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а) чёрный оса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) красный оса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в) белый оса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А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За общие свойства кислот отвеч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а) ион вод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) ион мет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в) ион кислотного оста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900000" y="333360"/>
            <a:ext cx="2735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ве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168560" y="1908000"/>
            <a:ext cx="639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167760" y="1555920"/>
            <a:ext cx="8806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1. С какими веществами реагирует уксусная кисло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А) оксид магния        б) углекислый газ     в) солян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2.Реакция этерификации – взаимодействие кислоты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А) металлом    б) спиртом      в) осно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3 первые представители кислот при н.у. по агрегатному состоя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А)твердые      б)газы      в) жид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4.кислотные остатки карбоновых кислот имеют зар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А)-2         б)+1          в)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5.Кислотам изоме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А)спирты        б)сложные эфиры          в) альдег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6.самая сильная предельная одноосновная 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А)муравьиная       б)уксусная        в) пропионо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39640" y="2012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Решение теста « Фотография на память».  На  доске нарисовано лицо, но вместо рта – буквы: шесть столбиков по три ряд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38448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0" y="1484280"/>
            <a:ext cx="914400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Tahoma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П. 20 упр.1-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1.Подготовьте интересные сообщения о кисло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2.Сделайте свою презентацию о кисло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J0287294"/>
          <p:cNvPicPr/>
          <p:nvPr/>
        </p:nvPicPr>
        <p:blipFill>
          <a:blip r:embed="rId1"/>
          <a:stretch/>
        </p:blipFill>
        <p:spPr>
          <a:xfrm>
            <a:off x="7308720" y="404640"/>
            <a:ext cx="1300320" cy="2087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J0287289"/>
          <p:cNvPicPr/>
          <p:nvPr/>
        </p:nvPicPr>
        <p:blipFill>
          <a:blip r:embed="rId2"/>
          <a:stretch/>
        </p:blipFill>
        <p:spPr>
          <a:xfrm>
            <a:off x="2050920" y="4221000"/>
            <a:ext cx="839880" cy="1792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J0199367"/>
          <p:cNvPicPr/>
          <p:nvPr/>
        </p:nvPicPr>
        <p:blipFill>
          <a:blip r:embed="rId3"/>
          <a:stretch/>
        </p:blipFill>
        <p:spPr>
          <a:xfrm>
            <a:off x="395280" y="4724280"/>
            <a:ext cx="155736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Задание для третьей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Шведский химик так описал один свой опыт, выполненный в 1774 г.: «Я поместил смесь черной магнезии (оксид марганца) с муриевой кислотой (соляной) в реторту, к горлышку которой присоединил пузырь, лишенный воздуха, и поставил ее на песчаную баню. Пузырь наполнился газом. Газ имел желто-зеленный цвет, пронзительный запах». Назовите этот г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064920" y="572436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Хл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cc"/>
                </a:solidFill>
                <a:latin typeface="Comic Sans MS"/>
              </a:rPr>
              <a:t>СПАСИБО ЗА  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4"/>
          <p:cNvGraphicFramePr/>
          <p:nvPr/>
        </p:nvGraphicFramePr>
        <p:xfrm>
          <a:off x="5796000" y="3213000"/>
          <a:ext cx="276696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3213000"/>
                    <a:ext cx="276696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Picture 4" descr="j0233971"/>
          <p:cNvPicPr/>
          <p:nvPr/>
        </p:nvPicPr>
        <p:blipFill>
          <a:blip r:embed="rId3"/>
          <a:stretch/>
        </p:blipFill>
        <p:spPr>
          <a:xfrm>
            <a:off x="1403280" y="2637000"/>
            <a:ext cx="32479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Задание для четвертой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У Куртуа  был любимый кот, который во время обеда сидел обычно на плече своего хозяина. Куртуа часто обедал в лаборатории. В один из дней во время обеда кот, чего-то испугавшись, прыгнул на пол, но попал на бутылки, стоявшие около стола. В одной из бутылок находилась суспензия золы водорослей, а в другой – концентрированная серная кислота. Бутылки разбились и с пола стали подниматься клубы сине-фиолетового пара, которые оседали на окружающих предметах в виде черно-фиолетовых кристаллов с металлическим блеском. Так был открыт новый элемен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922360" y="5629320"/>
            <a:ext cx="8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И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1116000" y="1700280"/>
            <a:ext cx="700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Какой неметалл ценится дороже золота, и когда платят деньги за то, чтобы от него избав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826560" y="404640"/>
            <a:ext cx="742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Задание для  пятой 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778000" y="3397320"/>
            <a:ext cx="16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Угле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564000" y="2637000"/>
            <a:ext cx="491472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« Я слушаю - и забыв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Я вижу - и запомин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Я делаю -   и понима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755640" y="765000"/>
            <a:ext cx="82105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48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ислоты </a:t>
            </a:r>
            <a:endParaRPr b="0" lang="en-US" sz="4800" spc="1" strike="noStrike">
              <a:ln w="12600">
                <a:solidFill>
                  <a:srgbClr val="9933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органические и органические</a:t>
            </a:r>
            <a:endParaRPr b="0" lang="en-US" sz="4800" spc="1" strike="noStrike">
              <a:ln w="12600">
                <a:solidFill>
                  <a:srgbClr val="9933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4191120" y="5373720"/>
            <a:ext cx="43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вела учитель химии Бердова Н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1413000"/>
            <a:ext cx="7696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2997360"/>
            <a:ext cx="83739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Кислоты с точки зрения ТЭД – это электролиты, которые при диссоциации образуют катионы водорода и анионы кислотного оста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2484360" y="260280"/>
            <a:ext cx="4464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ртрет кисло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06960" y="1341360"/>
            <a:ext cx="818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Кислоты сложные вещества состоящ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из атомов водорода и кислотного оста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817200" y="5197320"/>
            <a:ext cx="690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В состав органических кислот вход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карбоксильная груп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39640" y="907920"/>
            <a:ext cx="8209080" cy="165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ОРГАНИЧЕСКИЕ 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Tahoma"/>
              </a:rPr>
              <a:t>ЛИМОННАЯ, ЯБЛОЧНАЯ, УКСУСНАЯ, ЩАВЕЛЕВАЯ, МУРАВЬИНАЯ.</a:t>
            </a:r>
            <a:r>
              <a:rPr b="1" lang="ru-RU" sz="2800" spc="-1" strike="noStrike">
                <a:solidFill>
                  <a:srgbClr val="d6009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12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По происхожд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"/>
          <p:cNvPicPr/>
          <p:nvPr/>
        </p:nvPicPr>
        <p:blipFill>
          <a:blip r:embed="rId1"/>
          <a:stretch/>
        </p:blipFill>
        <p:spPr>
          <a:xfrm>
            <a:off x="539640" y="2681280"/>
            <a:ext cx="82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9:57:05Z</dcterms:created>
  <dc:creator>Admin</dc:creator>
  <dc:description/>
  <dc:language>en-US</dc:language>
  <cp:lastModifiedBy>Бердова Наталья</cp:lastModifiedBy>
  <dcterms:modified xsi:type="dcterms:W3CDTF">2013-03-26T17:08:34Z</dcterms:modified>
  <cp:revision>11</cp:revision>
  <dc:subject/>
  <dc:title>Слайд 1</dc:title>
</cp:coreProperties>
</file>