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1.wmf" ContentType="image/x-wmf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6.png" ContentType="image/png"/>
  <Override PartName="/ppt/media/image3.gif" ContentType="image/gif"/>
  <Override PartName="/ppt/media/image20.png" ContentType="image/png"/>
  <Override PartName="/ppt/media/image15.gif" ContentType="image/gif"/>
  <Override PartName="/ppt/media/image11.gif" ContentType="image/gif"/>
  <Override PartName="/ppt/media/image12.gif" ContentType="image/gif"/>
  <Override PartName="/ppt/media/image13.gif" ContentType="image/gif"/>
  <Override PartName="/ppt/media/image36.wmf" ContentType="image/x-wmf"/>
  <Override PartName="/ppt/media/image30.png" ContentType="image/png"/>
  <Override PartName="/ppt/media/image33.png" ContentType="image/png"/>
  <Override PartName="/ppt/media/image38.wmf" ContentType="image/x-wmf"/>
  <Override PartName="/ppt/media/image8.wmf" ContentType="image/x-wmf"/>
  <Override PartName="/ppt/media/image10.gif" ContentType="image/gif"/>
  <Override PartName="/ppt/media/image37.wmf" ContentType="image/x-wmf"/>
  <Override PartName="/ppt/media/image14.gif" ContentType="image/gif"/>
  <Override PartName="/ppt/media/image35.wmf" ContentType="image/x-wmf"/>
  <Override PartName="/ppt/media/image5.wmf" ContentType="image/x-wmf"/>
  <Override PartName="/ppt/media/image9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wmf" ContentType="image/x-wmf"/>
  <Override PartName="/ppt/media/image4.wmf" ContentType="image/x-wmf"/>
  <Override PartName="/ppt/media/image16.gif" ContentType="image/gif"/>
  <Override PartName="/ppt/media/image19.png" ContentType="image/pn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7F9-FFC5-405E-BE01-E692F4FE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4CF-6F89-40D2-9EE0-832896F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B0A-EBAD-4A4D-AC57-F2484D12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E0E-1196-45A1-BC56-2322E14D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BC2-CA2C-4D9F-912E-385E99A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846-180B-42D9-9609-F3DD39D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C41-4B73-4C2C-A640-6BE7945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639-CA0B-45FE-8BFB-7C163EA2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60A-54AD-44CB-9273-A63A7C98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E6C-1A2A-4895-A565-E09D3DC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785-496E-41A1-95D2-F08EB7D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4AB-7B59-4CCC-8DDB-8833C25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19A-94FA-4B64-83D6-940832460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628640"/>
            <a:ext cx="7488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ска откройс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9280" y="2637000"/>
            <a:ext cx="4608720" cy="208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НЕОРГАНИЧЕСКИЕ-</a:t>
            </a: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СЕРНАЯ, СОЛЯНАЯ, ПЛАВИКОВАЯ, ФОСФОРНАЯ, АЗО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en"/>
          <p:cNvPicPr/>
          <p:nvPr/>
        </p:nvPicPr>
        <p:blipFill>
          <a:blip r:embed="rId1"/>
          <a:stretch/>
        </p:blipFill>
        <p:spPr>
          <a:xfrm flipH="1" rot="21581400">
            <a:off x="4932000" y="1988280"/>
            <a:ext cx="4035600" cy="46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0286860"/>
          <p:cNvPicPr/>
          <p:nvPr/>
        </p:nvPicPr>
        <p:blipFill>
          <a:blip r:embed="rId2"/>
          <a:stretch/>
        </p:blipFill>
        <p:spPr>
          <a:xfrm>
            <a:off x="250920" y="260280"/>
            <a:ext cx="2020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оляная кислота, находящаяся в желудке,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Молочная кислота образуется в мышцах при физической нагруз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E01981_"/>
          <p:cNvPicPr/>
          <p:nvPr/>
        </p:nvPicPr>
        <p:blipFill>
          <a:blip r:embed="rId1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0"/>
          <p:cNvPicPr/>
          <p:nvPr/>
        </p:nvPicPr>
        <p:blipFill>
          <a:blip r:embed="rId2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ahoma"/>
              </a:rPr>
              <a:t>КИСЛОТЫ СОДЕРЖАТСЯ В ОРГАНИЗМА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Organization Chart 4"/>
          <p:cNvGrpSpPr/>
          <p:nvPr/>
        </p:nvGrpSpPr>
        <p:grpSpPr>
          <a:xfrm>
            <a:off x="539640" y="1773360"/>
            <a:ext cx="8160480" cy="3649680"/>
            <a:chOff x="539640" y="1773360"/>
            <a:chExt cx="8160480" cy="36496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 rot="16200000">
              <a:off x="5353200" y="2498400"/>
              <a:ext cx="730080" cy="219816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3155400" y="2499480"/>
              <a:ext cx="730080" cy="219672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1030"/>
            <p:cNvSpPr/>
            <p:nvPr/>
          </p:nvSpPr>
          <p:spPr>
            <a:xfrm>
              <a:off x="2736000" y="177336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5050"/>
                  </a:solidFill>
                  <a:latin typeface="Arial"/>
                </a:rPr>
                <a:t>Кислоты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539640" y="39632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Жидкие.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НС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l, 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4933800" y="39632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Твёрдые.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11"/>
          <p:cNvSpPr/>
          <p:nvPr/>
        </p:nvSpPr>
        <p:spPr>
          <a:xfrm>
            <a:off x="684360" y="549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агрегатному состоя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4000" y="3213000"/>
            <a:ext cx="3816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F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Br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содержанию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43280" y="3284640"/>
            <a:ext cx="42483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484360" y="1341360"/>
            <a:ext cx="4175280" cy="1224000"/>
          </a:xfrm>
          <a:prstGeom prst="leftRightArrow">
            <a:avLst>
              <a:gd name="adj1" fmla="val 50000"/>
              <a:gd name="adj2" fmla="val 67907"/>
            </a:avLst>
          </a:prstGeom>
          <a:solidFill>
            <a:srgbClr val="99ff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количеству атомов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2700000" y="1052280"/>
            <a:ext cx="4032360" cy="2520720"/>
          </a:xfrm>
          <a:prstGeom prst="pie">
            <a:avLst/>
          </a:prstGeom>
          <a:solidFill>
            <a:srgbClr val="99ff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9640" y="1341360"/>
            <a:ext cx="244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дно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3789360"/>
            <a:ext cx="244764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ву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588000" y="1341360"/>
            <a:ext cx="23036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тре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620280"/>
            <a:ext cx="7775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растворимости в во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Organization Chart 4"/>
          <p:cNvGrpSpPr/>
          <p:nvPr/>
        </p:nvGrpSpPr>
        <p:grpSpPr>
          <a:xfrm>
            <a:off x="468360" y="1700280"/>
            <a:ext cx="8160120" cy="4032360"/>
            <a:chOff x="468360" y="1700280"/>
            <a:chExt cx="8160120" cy="4032360"/>
          </a:xfrm>
        </p:grpSpPr>
        <p:cxnSp>
          <p:nvCxnSpPr>
            <p:cNvPr id="95" name="_s2052"/>
            <p:cNvCxnSpPr>
              <a:stCxn id="96" idx="0"/>
              <a:endCxn id="97" idx="2"/>
            </p:cNvCxnSpPr>
            <p:nvPr/>
          </p:nvCxnSpPr>
          <p:spPr>
            <a:xfrm flipV="1" rot="16200000">
              <a:off x="5243040" y="2616840"/>
              <a:ext cx="807120" cy="2198160"/>
            </a:xfrm>
            <a:prstGeom prst="bentConnector3">
              <a:avLst>
                <a:gd name="adj1" fmla="val 141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53"/>
            <p:cNvCxnSpPr>
              <a:stCxn id="99" idx="0"/>
              <a:endCxn id="97" idx="2"/>
            </p:cNvCxnSpPr>
            <p:nvPr/>
          </p:nvCxnSpPr>
          <p:spPr>
            <a:xfrm flipH="1" flipV="1" rot="5400000">
              <a:off x="3045600" y="2617920"/>
              <a:ext cx="807120" cy="2196720"/>
            </a:xfrm>
            <a:prstGeom prst="bentConnector3">
              <a:avLst>
                <a:gd name="adj1" fmla="val 141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7" name="_s2054"/>
            <p:cNvSpPr/>
            <p:nvPr/>
          </p:nvSpPr>
          <p:spPr>
            <a:xfrm>
              <a:off x="2664720" y="170028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33cccc"/>
                  </a:solidFill>
                  <a:latin typeface="Arial"/>
                </a:rPr>
                <a:t>Кислот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5"/>
            <p:cNvSpPr/>
            <p:nvPr/>
          </p:nvSpPr>
          <p:spPr>
            <a:xfrm>
              <a:off x="468360" y="411984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Растворим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НС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6"/>
            <p:cNvSpPr/>
            <p:nvPr/>
          </p:nvSpPr>
          <p:spPr>
            <a:xfrm>
              <a:off x="4862160" y="411984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растворим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692280"/>
            <a:ext cx="785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о летуче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rganization Chart 4"/>
          <p:cNvGrpSpPr/>
          <p:nvPr/>
        </p:nvGrpSpPr>
        <p:grpSpPr>
          <a:xfrm>
            <a:off x="468360" y="1844640"/>
            <a:ext cx="8160120" cy="3649680"/>
            <a:chOff x="468360" y="1844640"/>
            <a:chExt cx="8160120" cy="3649680"/>
          </a:xfrm>
        </p:grpSpPr>
        <p:cxnSp>
          <p:nvCxnSpPr>
            <p:cNvPr id="103" name="_s3076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281560" y="2569680"/>
              <a:ext cx="730080" cy="219816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077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3084120" y="2570760"/>
              <a:ext cx="730080" cy="219672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078"/>
            <p:cNvSpPr/>
            <p:nvPr/>
          </p:nvSpPr>
          <p:spPr>
            <a:xfrm>
              <a:off x="2664720" y="18446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79"/>
            <p:cNvSpPr/>
            <p:nvPr/>
          </p:nvSpPr>
          <p:spPr>
            <a:xfrm>
              <a:off x="468360" y="403452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етуч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, 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80"/>
            <p:cNvSpPr/>
            <p:nvPr/>
          </p:nvSpPr>
          <p:spPr>
            <a:xfrm>
              <a:off x="4862160" y="403452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Нелетуч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549360"/>
            <a:ext cx="785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степени электролитической диссоци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rganization Chart 4"/>
          <p:cNvGrpSpPr/>
          <p:nvPr/>
        </p:nvGrpSpPr>
        <p:grpSpPr>
          <a:xfrm>
            <a:off x="468360" y="1989000"/>
            <a:ext cx="8160120" cy="3330000"/>
            <a:chOff x="468360" y="1989000"/>
            <a:chExt cx="8160120" cy="3330000"/>
          </a:xfrm>
        </p:grpSpPr>
        <p:cxnSp>
          <p:nvCxnSpPr>
            <p:cNvPr id="111" name="_s410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313240" y="2554560"/>
              <a:ext cx="666720" cy="2198160"/>
            </a:xfrm>
            <a:prstGeom prst="bentConnector3">
              <a:avLst>
                <a:gd name="adj1" fmla="val 18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4101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115800" y="2555640"/>
              <a:ext cx="666720" cy="2196720"/>
            </a:xfrm>
            <a:prstGeom prst="bentConnector3">
              <a:avLst>
                <a:gd name="adj1" fmla="val 18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4102"/>
            <p:cNvSpPr/>
            <p:nvPr/>
          </p:nvSpPr>
          <p:spPr>
            <a:xfrm>
              <a:off x="2664720" y="1989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103"/>
            <p:cNvSpPr/>
            <p:nvPr/>
          </p:nvSpPr>
          <p:spPr>
            <a:xfrm>
              <a:off x="468360" y="3987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, 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04"/>
            <p:cNvSpPr/>
            <p:nvPr/>
          </p:nvSpPr>
          <p:spPr>
            <a:xfrm>
              <a:off x="4862160" y="3987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,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692280"/>
            <a:ext cx="7775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По стаби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Organization Chart 4"/>
          <p:cNvGrpSpPr/>
          <p:nvPr/>
        </p:nvGrpSpPr>
        <p:grpSpPr>
          <a:xfrm>
            <a:off x="539640" y="1773360"/>
            <a:ext cx="8160480" cy="3362760"/>
            <a:chOff x="539640" y="1773360"/>
            <a:chExt cx="8160480" cy="3362760"/>
          </a:xfrm>
        </p:grpSpPr>
        <p:cxnSp>
          <p:nvCxnSpPr>
            <p:cNvPr id="119" name="_s5124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381640" y="2355120"/>
              <a:ext cx="673200" cy="2198160"/>
            </a:xfrm>
            <a:prstGeom prst="bentConnector3">
              <a:avLst>
                <a:gd name="adj1" fmla="val 141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5125"/>
            <p:cNvCxnSpPr>
              <a:stCxn id="123" idx="0"/>
              <a:endCxn id="121" idx="2"/>
            </p:cNvCxnSpPr>
            <p:nvPr/>
          </p:nvCxnSpPr>
          <p:spPr>
            <a:xfrm flipH="1" flipV="1" rot="5400000">
              <a:off x="3183840" y="2356200"/>
              <a:ext cx="673200" cy="2196720"/>
            </a:xfrm>
            <a:prstGeom prst="bentConnector3">
              <a:avLst>
                <a:gd name="adj1" fmla="val 141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5126"/>
            <p:cNvSpPr/>
            <p:nvPr/>
          </p:nvSpPr>
          <p:spPr>
            <a:xfrm>
              <a:off x="2736000" y="17733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5127"/>
            <p:cNvSpPr/>
            <p:nvPr/>
          </p:nvSpPr>
          <p:spPr>
            <a:xfrm>
              <a:off x="539640" y="37911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таби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, 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128"/>
            <p:cNvSpPr/>
            <p:nvPr/>
          </p:nvSpPr>
          <p:spPr>
            <a:xfrm>
              <a:off x="4933800" y="37911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стаби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596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ahoma"/>
              </a:rPr>
              <a:t>КИСЛОТЫ                            ПРИМЕНЯЮТСЯ  В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P1040635"/>
          <p:cNvPicPr/>
          <p:nvPr/>
        </p:nvPicPr>
        <p:blipFill>
          <a:blip r:embed="rId1"/>
          <a:stretch/>
        </p:blipFill>
        <p:spPr>
          <a:xfrm>
            <a:off x="179280" y="1916280"/>
            <a:ext cx="4680000" cy="424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003640" y="2492280"/>
            <a:ext cx="39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Аскорбинов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фолие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липое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ацетилсалици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0286856"/>
          <p:cNvPicPr/>
          <p:nvPr/>
        </p:nvPicPr>
        <p:blipFill>
          <a:blip r:embed="rId2"/>
          <a:stretch/>
        </p:blipFill>
        <p:spPr>
          <a:xfrm>
            <a:off x="7020000" y="260280"/>
            <a:ext cx="19796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перв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М. В.Ломоносов  в статье, опубликованной в 1745 г., писал : «При растворении какого – либо неблагородного металла, особенно железа, в кислотах из отверстия склянки вырывается горючий пар.» 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420880" y="55576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"/>
          <p:cNvPicPr/>
          <p:nvPr/>
        </p:nvPicPr>
        <p:blipFill>
          <a:blip r:embed="rId1"/>
          <a:stretch/>
        </p:blipFill>
        <p:spPr>
          <a:xfrm>
            <a:off x="5076720" y="1341360"/>
            <a:ext cx="371952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ahoma"/>
              </a:rPr>
              <a:t>КИСЛОТЫ ПРИМЕНЯЮТСЯ В КУЛИНАРИ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270828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Уксусная и лим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254477"/>
          <p:cNvPicPr/>
          <p:nvPr/>
        </p:nvPicPr>
        <p:blipFill>
          <a:blip r:embed="rId2"/>
          <a:stretch/>
        </p:blipFill>
        <p:spPr>
          <a:xfrm>
            <a:off x="539640" y="4653000"/>
            <a:ext cx="2087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ru-RU" sz="5900" spc="-1" strike="noStrike">
                <a:solidFill>
                  <a:srgbClr val="33cccc"/>
                </a:solidFill>
                <a:latin typeface="Arial"/>
              </a:rPr>
              <a:t>Составить портре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айте классифик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уксусной кислоте(1В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серной  кислоте(2В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по всем известным признакам класс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Напишите уравнение диссоциации серной 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1214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cc"/>
                </a:solidFill>
                <a:latin typeface="Arial"/>
              </a:rPr>
              <a:t>Содержится в желудочном соке, в соленых огурцах. Применяется при дублении кожи, для подкисления безалкогольных напитков, ее соли называются лактат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2421000"/>
          <a:ext cx="8964720" cy="4486320"/>
        </p:xfrm>
        <a:graphic>
          <a:graphicData uri="http://schemas.openxmlformats.org/drawingml/2006/table">
            <a:tbl>
              <a:tblPr/>
              <a:tblGrid>
                <a:gridCol w="2484360"/>
                <a:gridCol w="3537000"/>
                <a:gridCol w="2943360"/>
              </a:tblGrid>
              <a:tr h="22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7" descr="778 (75)"/>
          <p:cNvPicPr/>
          <p:nvPr/>
        </p:nvPicPr>
        <p:blipFill>
          <a:blip r:embed="rId1"/>
          <a:stretch/>
        </p:blipFill>
        <p:spPr>
          <a:xfrm>
            <a:off x="7419960" y="981000"/>
            <a:ext cx="1724040" cy="752400"/>
          </a:xfrm>
          <a:prstGeom prst="rect">
            <a:avLst/>
          </a:prstGeom>
          <a:ln w="0">
            <a:noFill/>
          </a:ln>
        </p:spPr>
      </p:pic>
      <p:sp>
        <p:nvSpPr>
          <p:cNvPr id="137" name="Line 18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" descr="778 (102)"/>
          <p:cNvPicPr/>
          <p:nvPr/>
        </p:nvPicPr>
        <p:blipFill>
          <a:blip r:embed="rId2"/>
          <a:stretch/>
        </p:blipFill>
        <p:spPr>
          <a:xfrm>
            <a:off x="0" y="779400"/>
            <a:ext cx="1763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4920" y="2060640"/>
          <a:ext cx="8929800" cy="479736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3600720"/>
              </a:tblGrid>
              <a:tr h="28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лочная кис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4" descr="6"/>
          <p:cNvPicPr/>
          <p:nvPr/>
        </p:nvPicPr>
        <p:blipFill>
          <a:blip r:embed="rId1"/>
          <a:stretch/>
        </p:blipFill>
        <p:spPr>
          <a:xfrm>
            <a:off x="8028000" y="22766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778 (102)"/>
          <p:cNvPicPr/>
          <p:nvPr/>
        </p:nvPicPr>
        <p:blipFill>
          <a:blip r:embed="rId2"/>
          <a:stretch/>
        </p:blipFill>
        <p:spPr>
          <a:xfrm>
            <a:off x="0" y="384120"/>
            <a:ext cx="1620720" cy="10098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6732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6804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3272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73272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3" descr="778 (75)"/>
          <p:cNvPicPr/>
          <p:nvPr/>
        </p:nvPicPr>
        <p:blipFill>
          <a:blip r:embed="rId3"/>
          <a:stretch/>
        </p:blipFill>
        <p:spPr>
          <a:xfrm>
            <a:off x="7236000" y="189000"/>
            <a:ext cx="1723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956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В природе встречается в виде кислых солей калия и натрия в щавеле, кислице, лишайниках. Ее соли называют оксол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421000"/>
          <a:ext cx="9036000" cy="4248000"/>
        </p:xfrm>
        <a:graphic>
          <a:graphicData uri="http://schemas.openxmlformats.org/drawingml/2006/table">
            <a:tbl>
              <a:tblPr/>
              <a:tblGrid>
                <a:gridCol w="2556000"/>
                <a:gridCol w="3528720"/>
                <a:gridCol w="2951280"/>
              </a:tblGrid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Line 17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8" descr="27"/>
          <p:cNvPicPr/>
          <p:nvPr/>
        </p:nvPicPr>
        <p:blipFill>
          <a:blip r:embed="rId1"/>
          <a:stretch/>
        </p:blipFill>
        <p:spPr>
          <a:xfrm>
            <a:off x="7867800" y="333360"/>
            <a:ext cx="127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981080"/>
          <a:ext cx="9144000" cy="4687920"/>
        </p:xfrm>
        <a:graphic>
          <a:graphicData uri="http://schemas.openxmlformats.org/drawingml/2006/table">
            <a:tbl>
              <a:tblPr/>
              <a:tblGrid>
                <a:gridCol w="2843280"/>
                <a:gridCol w="3241440"/>
                <a:gridCol w="3059280"/>
              </a:tblGrid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OC- COOH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Щавелевая кисло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" descr="48686"/>
          <p:cNvPicPr/>
          <p:nvPr/>
        </p:nvPicPr>
        <p:blipFill>
          <a:blip r:embed="rId1"/>
          <a:stretch/>
        </p:blipFill>
        <p:spPr>
          <a:xfrm>
            <a:off x="250920" y="549360"/>
            <a:ext cx="1400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7160" y="274320"/>
            <a:ext cx="693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Находится в выделениях желез муравьев, в иглах ели, в ворсинках жгучей крапивы и в поте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421000"/>
          <a:ext cx="9036000" cy="4437000"/>
        </p:xfrm>
        <a:graphic>
          <a:graphicData uri="http://schemas.openxmlformats.org/drawingml/2006/table">
            <a:tbl>
              <a:tblPr/>
              <a:tblGrid>
                <a:gridCol w="2496960"/>
                <a:gridCol w="3587760"/>
                <a:gridCol w="2951280"/>
              </a:tblGrid>
              <a:tr h="24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4" descr="465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743120"/>
          </a:xfrm>
          <a:prstGeom prst="rect">
            <a:avLst/>
          </a:prstGeom>
          <a:ln w="0">
            <a:noFill/>
          </a:ln>
        </p:spPr>
      </p:pic>
      <p:sp>
        <p:nvSpPr>
          <p:cNvPr id="158" name="Line 18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9" descr="1532"/>
          <p:cNvPicPr/>
          <p:nvPr/>
        </p:nvPicPr>
        <p:blipFill>
          <a:blip r:embed="rId2"/>
          <a:stretch/>
        </p:blipFill>
        <p:spPr>
          <a:xfrm>
            <a:off x="7524720" y="1535040"/>
            <a:ext cx="1440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1989000"/>
          <a:ext cx="8785440" cy="4608720"/>
        </p:xfrm>
        <a:graphic>
          <a:graphicData uri="http://schemas.openxmlformats.org/drawingml/2006/table">
            <a:tbl>
              <a:tblPr/>
              <a:tblGrid>
                <a:gridCol w="2976840"/>
                <a:gridCol w="3022560"/>
                <a:gridCol w="27860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OO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равьиная кис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17" descr="muravey"/>
          <p:cNvPicPr/>
          <p:nvPr/>
        </p:nvPicPr>
        <p:blipFill>
          <a:blip r:embed="rId1"/>
          <a:stretch/>
        </p:blipFill>
        <p:spPr>
          <a:xfrm>
            <a:off x="7020000" y="189000"/>
            <a:ext cx="180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усочек   лимона  капните 1-2 капли лакмуса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0-tub.yandex.net/i?id=84255533-09"/>
          <p:cNvPicPr/>
          <p:nvPr/>
        </p:nvPicPr>
        <p:blipFill>
          <a:blip r:embed="rId2"/>
          <a:stretch/>
        </p:blipFill>
        <p:spPr>
          <a:xfrm>
            <a:off x="341280" y="2914560"/>
            <a:ext cx="3425760" cy="240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im7-tub.yandex.net/i?id=104327673-03"/>
          <p:cNvPicPr/>
          <p:nvPr/>
        </p:nvPicPr>
        <p:blipFill>
          <a:blip r:embed="rId3"/>
          <a:stretch/>
        </p:blipFill>
        <p:spPr>
          <a:xfrm>
            <a:off x="5000760" y="3071880"/>
            <a:ext cx="3070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ждую из трёх пробирок, где находятся металлы – цинк, железо, медь прилейте 1-2 мл. соляной кислоты(1в)и уксусную кислоту(2в) . Что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57120" y="26431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im2-tub.yandex.net/i?id=37945715-01"/>
          <p:cNvPicPr/>
          <p:nvPr/>
        </p:nvPicPr>
        <p:blipFill>
          <a:blip r:embed="rId2"/>
          <a:stretch/>
        </p:blipFill>
        <p:spPr>
          <a:xfrm>
            <a:off x="714240" y="3392640"/>
            <a:ext cx="3857760" cy="28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 "/>
          <p:cNvPicPr/>
          <p:nvPr/>
        </p:nvPicPr>
        <p:blipFill>
          <a:blip r:embed="rId3"/>
          <a:stretch/>
        </p:blipFill>
        <p:spPr>
          <a:xfrm>
            <a:off x="4932360" y="3357720"/>
            <a:ext cx="38019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втор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Семен Исаакович Вольфкович (1896 – 1980)  в одной из лабораторий Московского университета на Моховой получал это вещество  в электрической печи при электротермической возгонки фосфоритов. Когда он поздно возвращался домой по почти не освещенным в то время улицам Москвы, его одежда излучала голубоватое свечение, а из – под ботинок высекались искры. Вскоре среди жителей Моховой улицы стали передаваться рассказы о «светящемся монахе». Назовите вещество, которое получал Вольфк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64200" y="586728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280" y="1197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ую из двух пробирок, где находятся оксид кальция и оксид меди, добавьте 1-2 мл. соляной кислоты(1в)и уксусную кислоту(2в)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714240" y="2786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://im2-tub.yandex.net/i?id=109086036-07"/>
          <p:cNvPicPr/>
          <p:nvPr/>
        </p:nvPicPr>
        <p:blipFill>
          <a:blip r:embed="rId2"/>
          <a:stretch/>
        </p:blipFill>
        <p:spPr>
          <a:xfrm>
            <a:off x="755640" y="3860640"/>
            <a:ext cx="3498840" cy="285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im2-tub.yandex.net/i?id=46193736-01"/>
          <p:cNvPicPr/>
          <p:nvPr/>
        </p:nvPicPr>
        <p:blipFill>
          <a:blip r:embed="rId3"/>
          <a:stretch/>
        </p:blipFill>
        <p:spPr>
          <a:xfrm>
            <a:off x="4716360" y="3789360"/>
            <a:ext cx="38721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бирку с гидроксидом натрия добавьте 1-2 мл. соляной кислоты(1в)и уксусную кислоту (2в). Что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785880" y="2714760"/>
            <a:ext cx="7286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 "/>
          <p:cNvPicPr/>
          <p:nvPr/>
        </p:nvPicPr>
        <p:blipFill>
          <a:blip r:embed="rId2"/>
          <a:stretch/>
        </p:blipFill>
        <p:spPr>
          <a:xfrm>
            <a:off x="4067280" y="3068640"/>
            <a:ext cx="43513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ирку с раствором соляной кислоты(1в) добавьте 1-2 мл. нитрата серебра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ирку с раствором  уксусной кислоты(2в) добавьте карбонат кальция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714240" y="27860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 "/>
          <p:cNvPicPr/>
          <p:nvPr/>
        </p:nvPicPr>
        <p:blipFill>
          <a:blip r:embed="rId2"/>
          <a:stretch/>
        </p:blipFill>
        <p:spPr>
          <a:xfrm>
            <a:off x="5651640" y="4302000"/>
            <a:ext cx="3492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j0240727"/>
          <p:cNvPicPr/>
          <p:nvPr/>
        </p:nvPicPr>
        <p:blipFill>
          <a:blip r:embed="rId1"/>
          <a:stretch/>
        </p:blipFill>
        <p:spPr>
          <a:xfrm>
            <a:off x="6588000" y="2060640"/>
            <a:ext cx="2301840" cy="3146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Общие химические свойства   у неорганических и неорганических  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568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Диссоци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индика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метал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основными окси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основ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солями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76280" y="-16524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0" y="90756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ыбери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 какими из приведённых веществ  не будет взаимодействовать соляная кисл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 какой цвет окрасится лакмус в растворе соляной кисл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мали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акция взаимодействия кислот со щелочами наз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за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нейтр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4360" y="981000"/>
            <a:ext cx="7632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результате взаимодействия соляной кислоты с нитратом серебра выпада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) чёрн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) красн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) бел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 общие свойства кислот отве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) ион 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) ион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) ион кислотного оста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900000" y="333360"/>
            <a:ext cx="2735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168560" y="1908000"/>
            <a:ext cx="63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67760" y="1555920"/>
            <a:ext cx="8806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. С какими веществами реагирует уксусная кисл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 оксид магния        б) углекислый газ     в) соля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.Реакция этерификации – взаимодействие кислоты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 металлом    б) спиртом      в) осн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3 первые представители кислот при н.у. по агрегатному состоя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твердые      б)газы      в) 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4.кислотные остатки карбоновых кислот имеют за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-2         б)+1          в)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5.Кислотам изом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спирты        б)сложные эфиры          в) альдег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6.самая сильная предельная одноосновная 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муравьиная       б)уксусная        в) пропион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2012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Решение теста « Фотография на память».  На  доске нарисовано лицо, но вместо рта – буквы: шесть столбиков по три ря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8448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484280"/>
            <a:ext cx="9144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П. 20 упр.1-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.Подготовьте интересные сообщения о кисл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2.Сделайте свою презентацию о кисл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J0287294"/>
          <p:cNvPicPr/>
          <p:nvPr/>
        </p:nvPicPr>
        <p:blipFill>
          <a:blip r:embed="rId1"/>
          <a:stretch/>
        </p:blipFill>
        <p:spPr>
          <a:xfrm>
            <a:off x="7308720" y="404640"/>
            <a:ext cx="1300320" cy="208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J0287289"/>
          <p:cNvPicPr/>
          <p:nvPr/>
        </p:nvPicPr>
        <p:blipFill>
          <a:blip r:embed="rId2"/>
          <a:stretch/>
        </p:blipFill>
        <p:spPr>
          <a:xfrm>
            <a:off x="2050920" y="4221000"/>
            <a:ext cx="839880" cy="179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199367"/>
          <p:cNvPicPr/>
          <p:nvPr/>
        </p:nvPicPr>
        <p:blipFill>
          <a:blip r:embed="rId3"/>
          <a:stretch/>
        </p:blipFill>
        <p:spPr>
          <a:xfrm>
            <a:off x="395280" y="4724280"/>
            <a:ext cx="15573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третье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Шведский химик так описал один свой опыт, выполненный в 1774 г.: «Я поместил смесь черной магнезии (оксид марганца) с муриевой кислотой (соляной) в реторту, к горлышку которой присоединил пузырь, лишенный воздуха, и поставил ее на песчаную баню. Пузырь наполнился газом. Газ имел желто-зеленный цвет, пронзительный запах». Назовите этот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64920" y="572436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Хл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cc"/>
                </a:solidFill>
                <a:latin typeface="Comic Sans MS"/>
              </a:rPr>
              <a:t>СПАСИБО ЗА  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5796000" y="3213000"/>
          <a:ext cx="276696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213000"/>
                    <a:ext cx="276696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Picture 4" descr="j0233971"/>
          <p:cNvPicPr/>
          <p:nvPr/>
        </p:nvPicPr>
        <p:blipFill>
          <a:blip r:embed="rId3"/>
          <a:stretch/>
        </p:blipFill>
        <p:spPr>
          <a:xfrm>
            <a:off x="1403280" y="2637000"/>
            <a:ext cx="32479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четверт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У Куртуа  был любимый кот, который во время обеда сидел обычно на плече своего хозяина. Куртуа часто обедал в лаборатории. В один из дней во время обеда кот, чего-то испугавшись, прыгнул на пол, но попал на бутылки, стоявшие около стола. В одной из бутылок находилась суспензия золы водорослей, а в другой – концентрированная серная кислота. Бутылки разбились и с пола стали подниматься клубы сине-фиолетового пара, которые оседали на окружающих предметах в виде черно-фиолетовых кристаллов с металлическим блеском. Так был открыт новый элемен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922360" y="562932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116000" y="1700280"/>
            <a:ext cx="70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акой неметалл ценится дороже золота, и когда платят деньги за то, чтобы от него избав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26560" y="404640"/>
            <a:ext cx="742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 пятой 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0" y="339732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гле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64000" y="2637000"/>
            <a:ext cx="491472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« Я слушаю - и заб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вижу - и запоми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делаю -   и поним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755640" y="765000"/>
            <a:ext cx="8210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слоты </a:t>
            </a:r>
            <a:endParaRPr b="0" lang="en-US" sz="48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органические и органические</a:t>
            </a:r>
            <a:endParaRPr b="0" lang="en-US" sz="48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191120" y="537372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ла учитель химии Бердова Н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413000"/>
            <a:ext cx="7696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373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ислоты с точки зрения ТЭД – это электролиты, которые при диссоциации образуют катионы водорода и анионы кислотного оста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484360" y="260280"/>
            <a:ext cx="446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трет кисл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6960" y="1341360"/>
            <a:ext cx="81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ислоты сложные вещества состоя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из атомов водорода и кислотного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17200" y="5197320"/>
            <a:ext cx="690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 состав органических кислот в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рбоксильна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9640" y="907920"/>
            <a:ext cx="8209080" cy="165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ОРГАНИЧЕСКИЕ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ЛИМОННАЯ, ЯБЛОЧНАЯ, УКСУСНАЯ, ЩАВЕЛЕВАЯ, МУРАВЬИНАЯ.</a:t>
            </a:r>
            <a:r>
              <a:rPr b="1" lang="ru-RU" sz="2800" spc="-1" strike="noStrike">
                <a:solidFill>
                  <a:srgbClr val="d6009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1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происхо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"/>
          <p:cNvPicPr/>
          <p:nvPr/>
        </p:nvPicPr>
        <p:blipFill>
          <a:blip r:embed="rId1"/>
          <a:stretch/>
        </p:blipFill>
        <p:spPr>
          <a:xfrm>
            <a:off x="539640" y="2681280"/>
            <a:ext cx="82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9:57:05Z</dcterms:created>
  <dc:creator>Admin</dc:creator>
  <dc:description/>
  <dc:language>en-US</dc:language>
  <cp:lastModifiedBy>Бердова Наталья</cp:lastModifiedBy>
  <dcterms:modified xsi:type="dcterms:W3CDTF">2013-03-26T17:08:34Z</dcterms:modified>
  <cp:revision>11</cp:revision>
  <dc:subject/>
  <dc:title>Слайд 1</dc:title>
</cp:coreProperties>
</file>