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6.png" ContentType="image/png"/>
  <Override PartName="/ppt/media/image24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13.png" ContentType="image/png"/>
  <Override PartName="/ppt/media/image31.png" ContentType="image/png"/>
  <Override PartName="/ppt/media/image33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28.jpeg" ContentType="image/jpeg"/>
  <Override PartName="/ppt/media/image34.jpeg" ContentType="image/jpeg"/>
  <Override PartName="/ppt/media/image44.gif" ContentType="image/gif"/>
  <Override PartName="/ppt/media/image40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1.jpeg" ContentType="image/jpeg"/>
  <Override PartName="/ppt/media/image42.jpeg" ContentType="image/jpeg"/>
  <Override PartName="/ppt/media/image46.jpeg" ContentType="image/jpeg"/>
  <Override PartName="/ppt/media/image43.jpeg" ContentType="image/jpeg"/>
  <Override PartName="/ppt/media/image47.gif" ContentType="image/gif"/>
  <Override PartName="/ppt/media/image37.jpeg" ContentType="image/jpeg"/>
  <Override PartName="/ppt/media/image30.png" ContentType="image/png"/>
  <Override PartName="/ppt/media/image8.jpeg" ContentType="image/jpeg"/>
  <Override PartName="/ppt/media/image29.jpeg" ContentType="image/jpeg"/>
  <Override PartName="/ppt/media/image5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2AAB-BAD8-44AD-B67F-065C95A245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BE78-2591-4048-87AC-0593A7F2A2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83EB-5D91-4547-9452-698E2A5B77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78E6-C3E9-4FE8-95E8-D544DE51A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233F-C36E-4DC7-BCE9-60BBA2F6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07E6-F8FB-4750-856C-FA2FC6F0F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5A11-78D0-407B-9DBD-B2A29250E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80D0-63E3-4AF2-BD13-722D6EB0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AB5B-C563-40F0-803D-AC1CDB2F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9671-48B7-4717-A57E-6AFE5187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FF58-6F53-43B7-B69D-D72268EC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557F-7474-421E-8DAE-0B691AB4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FAB3-6157-4860-8D0B-AC7B35A5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E0BE-839D-4B03-B69B-2D4F768C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6E0B-D139-480B-BFCE-80E88818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0AD1-FC60-4205-95C3-97CF112FD7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pn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image" Target="../media/image38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gif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-360" y="428400"/>
            <a:ext cx="66438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Юбилейный День рож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Отмечает Детский сад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И об этом, без сомненья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Все сегодня говорят!!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857680" y="3214800"/>
            <a:ext cx="4429080" cy="3322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Users\user\Desktop\embl.png"/>
          <p:cNvPicPr/>
          <p:nvPr/>
        </p:nvPicPr>
        <p:blipFill>
          <a:blip r:embed="rId2"/>
          <a:stretch/>
        </p:blipFill>
        <p:spPr>
          <a:xfrm>
            <a:off x="7000920" y="642960"/>
            <a:ext cx="1768320" cy="185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302 -0.01273 C 0.06441 -0.00047 0.06684 0.01064 0.071 0.02152 C 0.07291 0.02685 0.07326 0.03194 0.07569 0.03703 C 0.07812 0.04977 0.07986 0.06296 0.08264 0.07569 C 0.0835 0.09236 0.08507 0.10602 0.08628 0.12222 C 0.08593 0.14652 0.08611 0.17083 0.08507 0.19514 C 0.08489 0.19953 0.08264 0.20764 0.08264 0.20787 C 0.08229 0.23078 0.08229 0.25416 0.08159 0.27731 C 0.08107 0.29259 0.07725 0.30856 0.07569 0.32384 C 0.07413 0.33912 0.07378 0.35625 0.06875 0.37037 C 0.06597 0.39467 0.06475 0.42268 0.0559 0.44467 C 0.05468 0.45393 0.05208 0.45902 0.04791 0.46643 C 0.04618 0.47569 0.04323 0.48379 0.0408 0.49282 C 0.03958 0.50393 0.03611 0.51227 0.03264 0.52222 C 0.03038 0.5287 0.02951 0.53611 0.02691 0.54236 C 0.02309 0.55162 0.01805 0.56203 0.01302 0.57037 C 0.00729 0.57986 -0.0007 0.58634 -0.00573 0.59676 C -0.01285 0.6118 -0.02049 0.63426 -0.03473 0.64004 C -0.04653 0.65092 -0.029 0.63541 -0.04289 0.64467 C -0.04532 0.64629 -0.04705 0.65 -0.04983 0.65092 C -0.06094 0.65486 -0.07101 0.65856 -0.08247 0.66018 C -0.09063 0.66389 -0.08698 0.6625 -0.09289 0.66481 C -0.10417 0.67546 -0.1217 0.67361 -0.13473 0.67731 C -0.14792 0.68102 -0.15834 0.69074 -0.17084 0.69583 C -0.18837 0.70301 -0.20712 0.70532 -0.22552 0.70671 C -0.25608 0.7118 -0.28664 0.71527 -0.31736 0.71759 C -0.36823 0.7162 -0.41528 0.71597 -0.46493 0.70995 C -0.47691 0.70856 -0.48924 0.70902 -0.50105 0.70532 C -0.52778 0.69676 -0.54931 0.67291 -0.57431 0.65879 C -0.59184 0.64884 -0.60955 0.6375 -0.62657 0.62615 C -0.63837 0.61828 -0.64757 0.60162 -0.65573 0.58889 C -0.65799 0.58541 -0.66111 0.58402 -0.66372 0.58125 C -0.67396 0.57037 -0.68716 0.55625 -0.69636 0.54398 C -0.69879 0.53703 -0.70243 0.53287 -0.70573 0.52685 C -0.71059 0.51805 -0.71511 0.50972 -0.72084 0.50208 C -0.72379 0.48912 -0.71962 0.50486 -0.72431 0.49444 C -0.725 0.49305 -0.72483 0.4912 -0.72535 0.48981 C -0.72605 0.48796 -0.72691 0.48657 -0.72778 0.48495 C -0.73073 0.47037 -0.72691 0.48564 -0.73125 0.47569 C -0.73195 0.4743 -0.73247 0.47106 -0.73247 0.47129 E">
                                      <p:cBhvr>
                                        <p:cTn id="23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D:\для сайта\81fdc93e7f6b89c4d6ec65c4f4c23f65.gif"/>
          <p:cNvPicPr/>
          <p:nvPr/>
        </p:nvPicPr>
        <p:blipFill>
          <a:blip r:embed="rId2"/>
          <a:stretch/>
        </p:blipFill>
        <p:spPr>
          <a:xfrm>
            <a:off x="857160" y="4929120"/>
            <a:ext cx="14256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7786800" y="785880"/>
            <a:ext cx="1017360" cy="107928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2"/>
          <p:cNvSpPr/>
          <p:nvPr/>
        </p:nvSpPr>
        <p:spPr>
          <a:xfrm>
            <a:off x="285840" y="214200"/>
            <a:ext cx="457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Есть одна страна на свете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Не найти другой так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Не отмечена на карт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И размер – то небольш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Но живет в стране той слав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Замечательный на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И куда кинешь взглядом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Рядом друг с тобой идё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В той стране такой поряд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Всё во власти у  ребя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И живут они все друж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Как семья – один отря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13" descr="1969 001.jpg"/>
          <p:cNvPicPr/>
          <p:nvPr/>
        </p:nvPicPr>
        <p:blipFill>
          <a:blip r:embed="rId2"/>
          <a:stretch/>
        </p:blipFill>
        <p:spPr>
          <a:xfrm>
            <a:off x="3357720" y="142920"/>
            <a:ext cx="4000320" cy="28875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4" descr="1970 001.jpg"/>
          <p:cNvPicPr/>
          <p:nvPr/>
        </p:nvPicPr>
        <p:blipFill>
          <a:blip r:embed="rId3"/>
          <a:stretch/>
        </p:blipFill>
        <p:spPr>
          <a:xfrm>
            <a:off x="5072040" y="3500280"/>
            <a:ext cx="3871800" cy="30369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5" descr="1976 001.jpg"/>
          <p:cNvPicPr/>
          <p:nvPr/>
        </p:nvPicPr>
        <p:blipFill>
          <a:blip r:embed="rId4"/>
          <a:stretch/>
        </p:blipFill>
        <p:spPr>
          <a:xfrm>
            <a:off x="150840" y="3643200"/>
            <a:ext cx="4235400" cy="2924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5"/>
          <a:stretch/>
        </p:blipFill>
        <p:spPr>
          <a:xfrm>
            <a:off x="4143240" y="3143160"/>
            <a:ext cx="1017720" cy="10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0" descr="001 (2).jpg"/>
          <p:cNvPicPr/>
          <p:nvPr/>
        </p:nvPicPr>
        <p:blipFill>
          <a:blip r:embed="rId1"/>
          <a:stretch/>
        </p:blipFill>
        <p:spPr>
          <a:xfrm>
            <a:off x="5357880" y="4071960"/>
            <a:ext cx="3429000" cy="24908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1" descr="1975 001.jpg"/>
          <p:cNvPicPr/>
          <p:nvPr/>
        </p:nvPicPr>
        <p:blipFill>
          <a:blip r:embed="rId2"/>
          <a:stretch/>
        </p:blipFill>
        <p:spPr>
          <a:xfrm>
            <a:off x="214200" y="285840"/>
            <a:ext cx="3695760" cy="23986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3" descr="1978 001.jpg"/>
          <p:cNvPicPr/>
          <p:nvPr/>
        </p:nvPicPr>
        <p:blipFill>
          <a:blip r:embed="rId3"/>
          <a:stretch/>
        </p:blipFill>
        <p:spPr>
          <a:xfrm>
            <a:off x="214200" y="3643200"/>
            <a:ext cx="3689640" cy="30448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4" descr="1979 001.jpg"/>
          <p:cNvPicPr/>
          <p:nvPr/>
        </p:nvPicPr>
        <p:blipFill>
          <a:blip r:embed="rId4"/>
          <a:stretch/>
        </p:blipFill>
        <p:spPr>
          <a:xfrm>
            <a:off x="5143680" y="214200"/>
            <a:ext cx="3755880" cy="2749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user\Desktop\embl.png"/>
          <p:cNvPicPr/>
          <p:nvPr/>
        </p:nvPicPr>
        <p:blipFill>
          <a:blip r:embed="rId5"/>
          <a:stretch/>
        </p:blipFill>
        <p:spPr>
          <a:xfrm>
            <a:off x="3643200" y="2143080"/>
            <a:ext cx="2108160" cy="2214720"/>
          </a:xfrm>
          <a:prstGeom prst="rect">
            <a:avLst/>
          </a:prstGeom>
          <a:ln w="0">
            <a:noFill/>
          </a:ln>
        </p:spPr>
      </p:pic>
      <p:sp>
        <p:nvSpPr>
          <p:cNvPr id="62" name="TextBox 15"/>
          <p:cNvSpPr/>
          <p:nvPr/>
        </p:nvSpPr>
        <p:spPr>
          <a:xfrm>
            <a:off x="-573120" y="3000240"/>
            <a:ext cx="511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Наши ребята весёлые, обаятельны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6"/>
          <p:cNvSpPr/>
          <p:nvPr/>
        </p:nvSpPr>
        <p:spPr>
          <a:xfrm>
            <a:off x="5271120" y="3214800"/>
            <a:ext cx="37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активные, трудолюбив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и очень любозна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1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340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440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54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6400"/>
                            </p:stCondLst>
                            <p:childTnLst>
                              <p:par>
                                <p:cTn id="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619280" y="765000"/>
          <a:ext cx="163440" cy="274680"/>
        </p:xfrm>
        <a:graphic>
          <a:graphicData uri="http://schemas.openxmlformats.org/drawingml/2006/table">
            <a:tbl>
              <a:tblPr/>
              <a:tblGrid>
                <a:gridCol w="174240"/>
              </a:tblGrid>
              <a:tr h="274680">
                <a:tc>
                  <a:txBody>
                    <a:bodyPr lIns="69120" rIns="69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9120" marR="69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5" name="Picture 15" descr="10083"/>
          <p:cNvPicPr/>
          <p:nvPr/>
        </p:nvPicPr>
        <p:blipFill>
          <a:blip r:embed="rId1"/>
          <a:stretch/>
        </p:blipFill>
        <p:spPr>
          <a:xfrm>
            <a:off x="428760" y="0"/>
            <a:ext cx="2016000" cy="1236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5929200" y="6005520"/>
            <a:ext cx="785880" cy="852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3"/>
          <a:stretch/>
        </p:blipFill>
        <p:spPr>
          <a:xfrm>
            <a:off x="3643200" y="5692680"/>
            <a:ext cx="1073160" cy="1165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4"/>
          <a:stretch/>
        </p:blipFill>
        <p:spPr>
          <a:xfrm>
            <a:off x="8354880" y="6000840"/>
            <a:ext cx="789120" cy="85716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2" descr="1982 001 (2).jpg"/>
          <p:cNvPicPr/>
          <p:nvPr/>
        </p:nvPicPr>
        <p:blipFill>
          <a:blip r:embed="rId5"/>
          <a:stretch/>
        </p:blipFill>
        <p:spPr>
          <a:xfrm>
            <a:off x="5715000" y="142920"/>
            <a:ext cx="3246480" cy="23382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3" descr="1982 001.jpg"/>
          <p:cNvPicPr/>
          <p:nvPr/>
        </p:nvPicPr>
        <p:blipFill>
          <a:blip r:embed="rId6"/>
          <a:stretch/>
        </p:blipFill>
        <p:spPr>
          <a:xfrm>
            <a:off x="214200" y="4286160"/>
            <a:ext cx="3292560" cy="2387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7"/>
          <a:stretch/>
        </p:blipFill>
        <p:spPr>
          <a:xfrm>
            <a:off x="142920" y="6143760"/>
            <a:ext cx="657360" cy="7142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4" descr="1984 001.jpg"/>
          <p:cNvPicPr/>
          <p:nvPr/>
        </p:nvPicPr>
        <p:blipFill>
          <a:blip r:embed="rId8"/>
          <a:stretch/>
        </p:blipFill>
        <p:spPr>
          <a:xfrm>
            <a:off x="976320" y="1366920"/>
            <a:ext cx="3475080" cy="240336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5" descr="1988 001.jpg"/>
          <p:cNvPicPr/>
          <p:nvPr/>
        </p:nvPicPr>
        <p:blipFill>
          <a:blip r:embed="rId9"/>
          <a:stretch/>
        </p:blipFill>
        <p:spPr>
          <a:xfrm>
            <a:off x="5072040" y="3714840"/>
            <a:ext cx="3565440" cy="2476440"/>
          </a:xfrm>
          <a:prstGeom prst="rect">
            <a:avLst/>
          </a:prstGeom>
          <a:ln w="0">
            <a:noFill/>
          </a:ln>
        </p:spPr>
      </p:pic>
      <p:sp>
        <p:nvSpPr>
          <p:cNvPr id="74" name="TextBox 16"/>
          <p:cNvSpPr/>
          <p:nvPr/>
        </p:nvSpPr>
        <p:spPr>
          <a:xfrm>
            <a:off x="4263840" y="2500200"/>
            <a:ext cx="358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Каждый малый ребенок,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Только, выскочив с пеленок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Устремиться в детский сад,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Лучший свой, одев, наря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6600"/>
                            </p:stCondLst>
                            <p:childTnLst>
                              <p:par>
                                <p:cTn id="2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7600"/>
                            </p:stCondLst>
                            <p:childTnLst>
                              <p:par>
                                <p:cTn id="2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8600"/>
                            </p:stCondLst>
                            <p:childTnLst>
                              <p:par>
                                <p:cTn id="2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1" descr="1990 001.jpg"/>
          <p:cNvPicPr/>
          <p:nvPr/>
        </p:nvPicPr>
        <p:blipFill>
          <a:blip r:embed="rId1"/>
          <a:stretch/>
        </p:blipFill>
        <p:spPr>
          <a:xfrm>
            <a:off x="5643720" y="4000680"/>
            <a:ext cx="3217680" cy="27111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2" descr="1991 год 001.jpg"/>
          <p:cNvPicPr/>
          <p:nvPr/>
        </p:nvPicPr>
        <p:blipFill>
          <a:blip r:embed="rId2"/>
          <a:stretch/>
        </p:blipFill>
        <p:spPr>
          <a:xfrm>
            <a:off x="1214280" y="142920"/>
            <a:ext cx="3584880" cy="21254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3" descr="1992 001 (2).jpg"/>
          <p:cNvPicPr/>
          <p:nvPr/>
        </p:nvPicPr>
        <p:blipFill>
          <a:blip r:embed="rId3"/>
          <a:stretch/>
        </p:blipFill>
        <p:spPr>
          <a:xfrm>
            <a:off x="2000160" y="4500720"/>
            <a:ext cx="3446640" cy="219708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14" descr="1992 001.jpg"/>
          <p:cNvPicPr/>
          <p:nvPr/>
        </p:nvPicPr>
        <p:blipFill>
          <a:blip r:embed="rId4"/>
          <a:stretch/>
        </p:blipFill>
        <p:spPr>
          <a:xfrm>
            <a:off x="428760" y="2357280"/>
            <a:ext cx="3000240" cy="201636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15"/>
          <p:cNvSpPr/>
          <p:nvPr/>
        </p:nvSpPr>
        <p:spPr>
          <a:xfrm>
            <a:off x="5429160" y="21420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Детский садик, детский сад!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Малыши туда спеш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Посмотреть я в сад иду –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Что растёт в таком са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Может, груши, виноград?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Их всегда я видеть рад!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– </a:t>
            </a: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Что ты, дядя, не смеши! –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Говорят мне малы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И кричат вдесятером: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«Это мы в саду растём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5"/>
          <a:stretch/>
        </p:blipFill>
        <p:spPr>
          <a:xfrm>
            <a:off x="285840" y="5214960"/>
            <a:ext cx="1285920" cy="129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19" descr="1999 001.jpg"/>
          <p:cNvPicPr/>
          <p:nvPr/>
        </p:nvPicPr>
        <p:blipFill>
          <a:blip r:embed="rId1"/>
          <a:stretch/>
        </p:blipFill>
        <p:spPr>
          <a:xfrm>
            <a:off x="5072040" y="3929040"/>
            <a:ext cx="3867120" cy="27399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20" descr="без даты 001 (3).jpg"/>
          <p:cNvPicPr/>
          <p:nvPr/>
        </p:nvPicPr>
        <p:blipFill>
          <a:blip r:embed="rId2"/>
          <a:stretch/>
        </p:blipFill>
        <p:spPr>
          <a:xfrm>
            <a:off x="214200" y="142920"/>
            <a:ext cx="3881520" cy="25718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21" descr="без даты 001.jpg"/>
          <p:cNvPicPr/>
          <p:nvPr/>
        </p:nvPicPr>
        <p:blipFill>
          <a:blip r:embed="rId3"/>
          <a:stretch/>
        </p:blipFill>
        <p:spPr>
          <a:xfrm>
            <a:off x="5000760" y="214200"/>
            <a:ext cx="3925800" cy="2857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user\Desktop\embl.png"/>
          <p:cNvPicPr/>
          <p:nvPr/>
        </p:nvPicPr>
        <p:blipFill>
          <a:blip r:embed="rId4"/>
          <a:stretch/>
        </p:blipFill>
        <p:spPr>
          <a:xfrm>
            <a:off x="3571920" y="2357280"/>
            <a:ext cx="2108160" cy="221472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23"/>
          <p:cNvSpPr/>
          <p:nvPr/>
        </p:nvSpPr>
        <p:spPr>
          <a:xfrm>
            <a:off x="142920" y="321480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Нас в Саду всегда встречает,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Учит нас и развлекает.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Если надо – пожурит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И заботой окруж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В тихий час уложит спать,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Как заботливая мать.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Очень мил и деликатен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Наш любимый воспитател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3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2600"/>
                            </p:stCondLst>
                            <p:childTnLst>
                              <p:par>
                                <p:cTn id="3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3600"/>
                            </p:stCondLst>
                            <p:childTnLst>
                              <p:par>
                                <p:cTn id="3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4600"/>
                            </p:stCondLst>
                            <p:childTnLst>
                              <p:par>
                                <p:cTn id="3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2" descr=""/>
          <p:cNvPicPr/>
          <p:nvPr/>
        </p:nvPicPr>
        <p:blipFill>
          <a:blip r:embed="rId1"/>
          <a:stretch/>
        </p:blipFill>
        <p:spPr>
          <a:xfrm>
            <a:off x="142920" y="214200"/>
            <a:ext cx="2011320" cy="12384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"/>
          <p:cNvPicPr/>
          <p:nvPr/>
        </p:nvPicPr>
        <p:blipFill>
          <a:blip r:embed="rId2"/>
          <a:stretch/>
        </p:blipFill>
        <p:spPr>
          <a:xfrm>
            <a:off x="7072200" y="2143080"/>
            <a:ext cx="1103400" cy="11890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9" descr="2015 001.jpg"/>
          <p:cNvPicPr/>
          <p:nvPr/>
        </p:nvPicPr>
        <p:blipFill>
          <a:blip r:embed="rId3"/>
          <a:stretch/>
        </p:blipFill>
        <p:spPr>
          <a:xfrm>
            <a:off x="142920" y="4786200"/>
            <a:ext cx="2728800" cy="192888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20" descr="001.jpg"/>
          <p:cNvPicPr/>
          <p:nvPr/>
        </p:nvPicPr>
        <p:blipFill>
          <a:blip r:embed="rId4">
            <a:lum bright="-20000"/>
          </a:blip>
          <a:stretch/>
        </p:blipFill>
        <p:spPr>
          <a:xfrm>
            <a:off x="6715080" y="3500280"/>
            <a:ext cx="2328840" cy="32054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21" descr="2018 001.jpg"/>
          <p:cNvPicPr/>
          <p:nvPr/>
        </p:nvPicPr>
        <p:blipFill>
          <a:blip r:embed="rId5"/>
          <a:stretch/>
        </p:blipFill>
        <p:spPr>
          <a:xfrm>
            <a:off x="357120" y="1571760"/>
            <a:ext cx="2103480" cy="29826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22" descr="2017 001.jpg"/>
          <p:cNvPicPr/>
          <p:nvPr/>
        </p:nvPicPr>
        <p:blipFill>
          <a:blip r:embed="rId6"/>
          <a:stretch/>
        </p:blipFill>
        <p:spPr>
          <a:xfrm>
            <a:off x="2714760" y="142920"/>
            <a:ext cx="3539880" cy="257184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23" descr="2006 001.jpg"/>
          <p:cNvPicPr/>
          <p:nvPr/>
        </p:nvPicPr>
        <p:blipFill>
          <a:blip r:embed="rId7"/>
          <a:stretch/>
        </p:blipFill>
        <p:spPr>
          <a:xfrm>
            <a:off x="6429240" y="214200"/>
            <a:ext cx="2714760" cy="19605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24" descr="2005 001.jpg"/>
          <p:cNvPicPr/>
          <p:nvPr/>
        </p:nvPicPr>
        <p:blipFill>
          <a:blip r:embed="rId8"/>
          <a:stretch/>
        </p:blipFill>
        <p:spPr>
          <a:xfrm>
            <a:off x="3071880" y="2857680"/>
            <a:ext cx="3143160" cy="2255760"/>
          </a:xfrm>
          <a:prstGeom prst="rect">
            <a:avLst/>
          </a:prstGeom>
          <a:ln w="0">
            <a:noFill/>
          </a:ln>
        </p:spPr>
      </p:pic>
      <p:sp>
        <p:nvSpPr>
          <p:cNvPr id="94" name="TextBox 25"/>
          <p:cNvSpPr/>
          <p:nvPr/>
        </p:nvSpPr>
        <p:spPr>
          <a:xfrm>
            <a:off x="2185200" y="5226120"/>
            <a:ext cx="5263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Monotype Corsiva"/>
              </a:rPr>
              <a:t>Дом, в котором все окна распахнуты в детство,</a:t>
            </a: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Monotype Corsiva"/>
              </a:rPr>
              <a:t>Я любуюсь тобой, не могу наглядеться.</a:t>
            </a: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Monotype Corsiva"/>
              </a:rPr>
              <a:t>Мне милее и краше всех зданий на свете</a:t>
            </a: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Monotype Corsiva"/>
              </a:rPr>
              <a:t>Дом, в котором с утра собираются дети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4100"/>
                            </p:stCondLst>
                            <p:childTnLst>
                              <p:par>
                                <p:cTn id="4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5100"/>
                            </p:stCondLst>
                            <p:childTnLst>
                              <p:par>
                                <p:cTn id="4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4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17100"/>
                            </p:stCondLst>
                            <p:childTnLst>
                              <p:par>
                                <p:cTn id="4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8100"/>
                            </p:stCondLst>
                            <p:childTnLst>
                              <p:par>
                                <p:cTn id="4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9100"/>
                            </p:stCondLst>
                            <p:childTnLst>
                              <p:par>
                                <p:cTn id="4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D:\для сайта\cvety33.gif"/>
          <p:cNvPicPr/>
          <p:nvPr/>
        </p:nvPicPr>
        <p:blipFill>
          <a:blip r:embed="rId1"/>
          <a:stretch/>
        </p:blipFill>
        <p:spPr>
          <a:xfrm>
            <a:off x="0" y="4676760"/>
            <a:ext cx="1844640" cy="2181240"/>
          </a:xfrm>
          <a:prstGeom prst="rect">
            <a:avLst/>
          </a:prstGeom>
          <a:ln w="0">
            <a:noFill/>
          </a:ln>
        </p:spPr>
      </p:pic>
      <p:sp>
        <p:nvSpPr>
          <p:cNvPr id="97" name="TextBox 8"/>
          <p:cNvSpPr/>
          <p:nvPr/>
        </p:nvSpPr>
        <p:spPr>
          <a:xfrm>
            <a:off x="2143080" y="571680"/>
            <a:ext cx="578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Шли годы…. Менялся коллект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9" descr="1975 001 (2).jpg"/>
          <p:cNvPicPr/>
          <p:nvPr/>
        </p:nvPicPr>
        <p:blipFill>
          <a:blip r:embed="rId2"/>
          <a:stretch/>
        </p:blipFill>
        <p:spPr>
          <a:xfrm>
            <a:off x="142920" y="1285920"/>
            <a:ext cx="3308400" cy="22604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0" descr="1987 001.jpg"/>
          <p:cNvPicPr/>
          <p:nvPr/>
        </p:nvPicPr>
        <p:blipFill>
          <a:blip r:embed="rId3"/>
          <a:stretch/>
        </p:blipFill>
        <p:spPr>
          <a:xfrm>
            <a:off x="3071880" y="3643200"/>
            <a:ext cx="4124160" cy="305136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1" descr="1991 001 (2).jpg"/>
          <p:cNvPicPr/>
          <p:nvPr/>
        </p:nvPicPr>
        <p:blipFill>
          <a:blip r:embed="rId4"/>
          <a:stretch/>
        </p:blipFill>
        <p:spPr>
          <a:xfrm>
            <a:off x="5214960" y="1270080"/>
            <a:ext cx="3714840" cy="2249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"/>
          <p:cNvPicPr/>
          <p:nvPr/>
        </p:nvPicPr>
        <p:blipFill>
          <a:blip r:embed="rId5"/>
          <a:stretch/>
        </p:blipFill>
        <p:spPr>
          <a:xfrm>
            <a:off x="3714840" y="2071800"/>
            <a:ext cx="1017360" cy="1079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6"/>
          <a:stretch/>
        </p:blipFill>
        <p:spPr>
          <a:xfrm>
            <a:off x="7786800" y="5357880"/>
            <a:ext cx="1017360" cy="107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5" descr="коллектив 2013.jpg"/>
          <p:cNvPicPr/>
          <p:nvPr/>
        </p:nvPicPr>
        <p:blipFill>
          <a:blip r:embed="rId1"/>
          <a:stretch/>
        </p:blipFill>
        <p:spPr>
          <a:xfrm>
            <a:off x="2714760" y="1428840"/>
            <a:ext cx="6289560" cy="44463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0360" y="3560760"/>
            <a:ext cx="4114800" cy="20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3" descr="C:\Users\user\Desktop\20e3ae683c46.gif"/>
          <p:cNvPicPr/>
          <p:nvPr/>
        </p:nvPicPr>
        <p:blipFill>
          <a:blip r:embed="rId2"/>
          <a:stretch/>
        </p:blipFill>
        <p:spPr>
          <a:xfrm>
            <a:off x="0" y="0"/>
            <a:ext cx="4105440" cy="3816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D:\для сайта\g06108.gif"/>
          <p:cNvPicPr/>
          <p:nvPr/>
        </p:nvPicPr>
        <p:blipFill>
          <a:blip r:embed="rId3"/>
          <a:stretch/>
        </p:blipFill>
        <p:spPr>
          <a:xfrm>
            <a:off x="8072280" y="428760"/>
            <a:ext cx="781200" cy="8287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8"/>
          <p:cNvSpPr/>
          <p:nvPr/>
        </p:nvSpPr>
        <p:spPr>
          <a:xfrm>
            <a:off x="-345960" y="3357720"/>
            <a:ext cx="3824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Отмечает детский садик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Свой сегодня юбилей,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Коллективу пожелаем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Много планов и идей,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Дети с радостью пусть ходят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В свой любимый детский сад,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Каждый маленький ребенок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Будет весел, сыт и рад,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Воспитатели и няни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Будут счастливы всегда,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Пусть работает наш садик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Еще долгие года!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0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4050"/>
                            </p:stCondLst>
                            <p:childTnLst>
                              <p:par>
                                <p:cTn id="49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01 0.01527 C -0.0625 0.02338 -0.08976 0.01782 -0.11059 0.0074 C -0.11684 0.00416 -0.11424 0.00301 -0.12222 0.00115 C -0.14566 -0.00463 -0.1684 -0.01482 -0.1908 -0.02523 C -0.19514 -0.02732 -0.2 -0.02639 -0.20469 -0.02662 C -0.21753 -0.02732 -0.23021 -0.02778 -0.24305 -0.02824 C -0.26771 -0.03241 -0.25573 -0.03102 -0.30243 -0.02824 C -0.31094 -0.02778 -0.32031 -0.01736 -0.32674 -0.01111 C -0.33785 -0.00047 -0.35226 0.01227 -0.36632 0.01527 C -0.38368 0.01898 -0.4 0.02245 -0.41753 0.02453 C -0.42413 0.02546 -0.43733 0.02754 -0.43733 0.02777 C -0.44375 0.02986 -0.44983 0.02986 -0.4559 0.03379 C -0.4691 0.03333 -0.48229 0.0331 -0.49549 0.03217 C -0.50069 0.03194 -0.50573 0.02916 -0.51059 0.02754 C -0.5217 0.02361 -0.53316 0.02222 -0.54427 0.01828 C -0.54635 0.01643 -0.54774 0.01365 -0.55 0.01203 C -0.56076 0.00439 -0.57795 0.00439 -0.58958 -0.00023 C -0.6191 0.00208 -0.60121 0.00486 -0.63958 0.00277 C -0.66042 -0.00139 -0.6816 -0.00278 -0.70243 -0.00648 C -0.72691 -0.00533 -0.7441 -0.00186 -0.76753 -0.00023 C -0.77135 0.00139 -0.77569 0.00208 -0.77917 0.00439 C -0.78871 0.01088 -0.78108 0.00787 -0.78958 0.01041 C -0.79375 0.01458 -0.79844 0.01689 -0.80243 0.02129 C -0.80833 0.02777 -0.81128 0.03842 -0.81632 0.04629 C -0.82135 0.05416 -0.81614 0.04352 -0.82101 0.05393 C -0.82292 0.0581 -0.82674 0.06643 -0.82674 0.06666 C -0.82795 0.07245 -0.83003 0.07477 -0.83142 0.08009 C -0.83212 0.08333 -0.83385 0.08958 -0.83385 0.08958 C -0.83212 0.1118 -0.83507 0.10208 -0.82326 0.10972 C -0.81979 0.11921 -0.81858 0.12986 -0.8151 0.13912 C -0.81007 0.15254 -0.79739 0.15949 -0.78733 0.16412 C -0.78125 0.17014 -0.77378 0.17291 -0.76632 0.17477 C -0.75868 0.18125 -0.75121 0.18657 -0.74305 0.19189 C -0.73594 0.20602 -0.71458 0.2206 -0.70243 0.22592 C -0.7 0.23078 -0.69479 0.23495 -0.6908 0.23842 C -0.68472 0.25416 -0.68455 0.25162 -0.68958 0.27106 C -0.69045 0.28171 -0.69097 0.30046 -0.69653 0.30926 C -0.69861 0.31319 -0.70069 0.3162 -0.70347 0.31852 C -0.70469 0.3199 -0.70608 0.32037 -0.70712 0.32199 C -0.71215 0.32847 -0.71719 0.33518 -0.72222 0.34189 C -0.72587 0.35254 -0.73351 0.36088 -0.73958 0.36875 C -0.74149 0.37129 -0.74358 0.37384 -0.74549 0.37639 C -0.74635 0.37754 -0.74774 0.37963 -0.74774 0.37986 C -0.7533 0.40046 -0.76458 0.41666 -0.77326 0.43541 C -0.78021 0.45046 -0.78802 0.46481 -0.79896 0.47546 C -0.79965 0.47847 -0.80208 0.48009 -0.80243 0.4831 C -0.80347 0.49514 -0.80278 0.50717 -0.80347 0.51898 C -0.80382 0.52477 -0.80503 0.53032 -0.8059 0.53611 C -0.80972 0.59027 -0.80799 0.56898 -0.81059 0.59953 C -0.81024 0.62291 -0.81007 0.64629 -0.80937 0.66921 C -0.80903 0.68055 -0.79809 0.69305 -0.79201 0.70046 C -0.78472 0.70833 -0.77621 0.71435 -0.76875 0.72222 C -0.75555 0.73564 -0.7434 0.75046 -0.72917 0.76227 C -0.72743 0.77152 -0.72083 0.77847 -0.71406 0.78055 C -0.70278 0.79606 -0.6809 0.79907 -0.6651 0.7993 C -0.63489 0.80069 -0.60469 0.80069 -0.57448 0.80115 C -0.54028 0.80532 -0.50434 0.80764 -0.47222 0.79652 C -0.46163 0.7868 -0.44705 0.78449 -0.43489 0.7824 C -0.42587 0.77939 -0.41753 0.77314 -0.40816 0.77152 C -0.3842 0.76736 -0.39201 0.7706 -0.37795 0.76689 C -0.3684 0.76435 -0.34896 0.76227 -0.34896 0.76227 C -0.29531 0.76435 -0.32274 0.76342 -0.29549 0.76852 C -0.28611 0.7699 -0.27691 0.77152 -0.26753 0.77314 C -0.26163 0.77384 -0.25 0.77592 -0.25 0.77615 C -0.24219 0.78287 -0.23437 0.79074 -0.22569 0.7949 C -0.20139 0.81782 -0.1816 0.82037 -0.15347 0.82592 C -0.12795 0.82546 -0.10226 0.82592 -0.07674 0.82453 C -0.07049 0.82407 -0.05642 0.8162 -0.04774 0.81527 C -0.03889 0.81227 -0.02986 0.80995 -0.02101 0.8074 C -0.01771 0.80393 -0.01493 0.80115 -0.01163 0.79814 C -0.01024 0.79189 -0.00868 0.79074 -0.00469 0.7868 C -0.00434 0.78564 -0.00347 0.7824 -0.00347 0.7824 E">
                                      <p:cBhvr>
                                        <p:cTn id="499" dur="10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9T07:18:14Z</dcterms:created>
  <dc:creator>user</dc:creator>
  <dc:description/>
  <dc:language>en-US</dc:language>
  <cp:lastModifiedBy>Камила</cp:lastModifiedBy>
  <dcterms:modified xsi:type="dcterms:W3CDTF">2020-09-06T07:09:45Z</dcterms:modified>
  <cp:revision>169</cp:revision>
  <dc:subject/>
  <dc:title>С Днём рождения,  Детский сад!</dc:title>
</cp:coreProperties>
</file>