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F52D3-FE3D-424E-B9B8-2A5D16825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76CC6-942F-4527-9DA6-EFA88967A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64A7F-E6AD-4387-8C4B-78CB61846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F7527-53B3-4FA3-BC1D-5AAC866AE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8F3B8-039D-48A3-AFA4-D132C0755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09145-275A-43E2-BFBF-F3F1857B2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4AF89-2897-40E9-B997-89450A404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F5D53-7144-463A-A6E1-1E00BEAA9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57C30-A126-4B89-AED0-BA00A9CAB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2E9C6-BF51-4199-BB59-20B4A9D51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B260A-0710-4FC4-9486-F319F3989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21B18-39F4-4A2F-A9E4-A36BCAD7E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A5835-4598-422A-8203-818EBFA48E8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60-12"/>
          <p:cNvPicPr/>
          <p:nvPr/>
        </p:nvPicPr>
        <p:blipFill>
          <a:blip r:embed="rId1"/>
          <a:stretch/>
        </p:blipFill>
        <p:spPr>
          <a:xfrm>
            <a:off x="104760" y="-684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3419640" y="4721400"/>
            <a:ext cx="6156000" cy="223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Составил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Сахно Татьяна Викторо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Музыкальный руководите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МБДОУ «Детский сад № 21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г. Сыктывка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Прямоугольник 1"/>
          <p:cNvSpPr/>
          <p:nvPr/>
        </p:nvSpPr>
        <p:spPr>
          <a:xfrm>
            <a:off x="324000" y="1052640"/>
            <a:ext cx="792000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  <a:ea typeface="Arial"/>
              </a:rPr>
              <a:t>    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  <a:ea typeface="Arial"/>
              </a:rPr>
              <a:t>Развитие ритмического слух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у детей дошкольного возрас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в условиях рабо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  <a:ea typeface="Arial"/>
              </a:rPr>
              <a:t>с ансамблем «Ложкари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6" descr="C:\Users\Пользователь\Desktop\20140409-oshkamoshka-15 (1).jpg"/>
          <p:cNvPicPr/>
          <p:nvPr/>
        </p:nvPicPr>
        <p:blipFill>
          <a:blip r:embed="rId2"/>
          <a:stretch/>
        </p:blipFill>
        <p:spPr>
          <a:xfrm>
            <a:off x="212760" y="3260880"/>
            <a:ext cx="4408560" cy="289080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60-12"/>
          <p:cNvPicPr/>
          <p:nvPr/>
        </p:nvPicPr>
        <p:blipFill>
          <a:blip r:embed="rId1"/>
          <a:stretch/>
        </p:blipFill>
        <p:spPr>
          <a:xfrm>
            <a:off x="0" y="-457200"/>
            <a:ext cx="9144000" cy="731520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10"/>
          <p:cNvSpPr/>
          <p:nvPr/>
        </p:nvSpPr>
        <p:spPr>
          <a:xfrm>
            <a:off x="0" y="-175680"/>
            <a:ext cx="9144000" cy="68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Ожидаемый результа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Средняя группа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♦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Уметь ритмично передавать заданный ритм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♦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Владеть простейшими приемами игры на ложках и других шумовых  музыкальных инструментах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♦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Сопровождать пение игрой на шумовых музыкальных инструментах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♦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Изображать в движении свое отношение к музыкальному образу, используя средства музыкальной выразительности: темп, ритм, а также выразительную мимику, осанк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Старшая групп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♦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Играть в ансамбле соблюдая ритм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♦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Владеть приемами игры на двух ложках, народных и самодельных музыкальных    инструментах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♦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Легко петь и двигаться под народную музыку, выразительно передавая в движении характер, настроение песн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♦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Своевременно начинать и заканчивать свою партию в ансамбле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♦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Проявлять творческую инициативу в создании музыкально-инструментальных композиций, в создании самодельных музыкальных инструмент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Подготовительная групп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♦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Играть индивидуально и в ансамбле, соблюдая ритм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♦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Владеть приемами игры на двух ложках, ложках-станках, веерных ложках и других шумовых музыкальных инструментах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♦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Выразительно и эмоционально петь и двигаться соблюдая колорит и удаль русской душ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♦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Понимать и чувствовать ответственность за правильное исполнение своей партии в ансамбле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♦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Создавать творческие музыкально-инструментальные композиции и танцевальные миниатюры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♦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Находить новые приемы игры на ложках, народных и самодельных музыкальных инструмента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60-12"/>
          <p:cNvPicPr/>
          <p:nvPr/>
        </p:nvPicPr>
        <p:blipFill>
          <a:blip r:embed="rId1"/>
          <a:stretch/>
        </p:blipFill>
        <p:spPr>
          <a:xfrm>
            <a:off x="0" y="-214200"/>
            <a:ext cx="9705960" cy="731520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7"/>
          <p:cNvSpPr/>
          <p:nvPr/>
        </p:nvSpPr>
        <p:spPr>
          <a:xfrm>
            <a:off x="1143000" y="28440"/>
            <a:ext cx="8001000" cy="61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Критерии результатив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♦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Средняя групп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- Интерес к игре на русских народных инструмент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- Целостное восприятие музыки в исполнении на русских народных инструмент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- Восприятие средств музыкальной выразительности и способов звукоизвлечения на двух ложк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♦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Старшая групп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-  Интерес к игре на русских народных инструмент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- Объем исполняемых произведе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- Выразительность исполн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4752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Техничность исполнения: правильность приемов игры на двух ложках и других русских , коми народных инструментах, ритмический ансамбл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- Легкое, непринужденное сочетание игры на ложках, русских народных музыкальных инструментах с пением и движени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♦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Подготовительная групп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- Эмоциональность исполн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Техничность, ритмичность исполнения приемов игры на двух, трех ложках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русских народных и самодельных музыкальных инструмент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- Творческие проявл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5" descr="3"/>
          <p:cNvPicPr/>
          <p:nvPr/>
        </p:nvPicPr>
        <p:blipFill>
          <a:blip r:embed="rId2"/>
          <a:stretch/>
        </p:blipFill>
        <p:spPr>
          <a:xfrm>
            <a:off x="357120" y="5786280"/>
            <a:ext cx="1289160" cy="714600"/>
          </a:xfrm>
          <a:prstGeom prst="rect">
            <a:avLst/>
          </a:prstGeom>
          <a:ln w="0">
            <a:noFill/>
          </a:ln>
        </p:spPr>
      </p:pic>
    </p:spTree>
  </p:cSld>
  <p:transition>
    <p:push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ударный инструмент, ранее применявшийся пастухами как сигнальны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4" descr="60-12"/>
          <p:cNvPicPr/>
          <p:nvPr/>
        </p:nvPicPr>
        <p:blipFill>
          <a:blip r:embed="rId1"/>
          <a:stretch/>
        </p:blipFill>
        <p:spPr>
          <a:xfrm>
            <a:off x="0" y="0"/>
            <a:ext cx="9705960" cy="731520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6"/>
          <p:cNvSpPr/>
          <p:nvPr/>
        </p:nvSpPr>
        <p:spPr>
          <a:xfrm>
            <a:off x="1188720" y="3247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8"/>
          <p:cNvSpPr/>
          <p:nvPr/>
        </p:nvSpPr>
        <p:spPr>
          <a:xfrm>
            <a:off x="2733480" y="428760"/>
            <a:ext cx="318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Список литерату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14" descr="IMG_0739"/>
          <p:cNvPicPr/>
          <p:nvPr/>
        </p:nvPicPr>
        <p:blipFill>
          <a:blip r:embed="rId2"/>
          <a:stretch/>
        </p:blipFill>
        <p:spPr>
          <a:xfrm>
            <a:off x="7439040" y="5676840"/>
            <a:ext cx="1704960" cy="118116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0" y="743760"/>
            <a:ext cx="914400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1.  Булей С. Детский оркестр изд. Музыка», 1983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2. Дошкольное воспитание: Научно-методический журнал. – М.: ООО Издательский дом  «Воспитание дошкольника», 2003-2007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3. Девятова Т.Н. Звук – волшебник: материалы образовательной программы по музыкальному воспитанию детей старшего дошкольного возраста. – М.: ЛИНКА-ПРЕСС,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2006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4. Захарова С.Н. Сценарии праздников для старших дошкольников. – М.: Гуманитар. изд. центр ВЛАДОС, 2006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5. Кононова Н.  Обучение игре дошкольниковна детских музыкальных инструментах. Изд. «Просвещение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6. Корчаловская Н.В., Посевина Г.Д. Праздник в детском саду. (Сценарии детских праздников) – Ростов н/Д: изд-во  «Феникс», 200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7. Куцакова Л.В., Мерзлякова С.И.  Воспитание ребенка-дошкольника: развитого, образованного, самостоятельного, инициативного,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неповторимого, культурного, активно-творческого: В мире прекрасного: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Программно-методическое  пособие. – М.: Гуманитарное издательство центр ВЛАДОС, 2004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8. Музыкальный руководитель: Иллюстрированный методический журнал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для музыкального руководителя. – М.: ООО Издательский дом «Воспитание дошкольника», 2012-2014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9. Михайлова М.А. А у наших у ворот- развеселый хоровод. Народные праздники, игры и развлечения. – Ярославль: Академия развития, 200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10. Михайлова М.А. Развитие музыкальных способностей у детей. Изд «Академия развития», 199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11. Рытов Д.А. Традиции народной культуры в музыкальном воспитании детей: Русские народные инструменты: Учебно-методическое пособие. – М.: Гуманитарный издательский центр ВЛАДОС, 200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12. Рытов Д.А. Русская ложка. Музыкально-игровая энциклопедия.-М: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13. Савина Л. Пальчиковая гимнастик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14. Цвынтарный. Пальчиковая гимнастик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15. Юдина Е. Первые уроки музыки и творчества, изд. Аквариум, 1999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60-1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4" descr="IMG_0739"/>
          <p:cNvPicPr/>
          <p:nvPr/>
        </p:nvPicPr>
        <p:blipFill>
          <a:blip r:embed="rId2"/>
          <a:stretch/>
        </p:blipFill>
        <p:spPr>
          <a:xfrm>
            <a:off x="0" y="285840"/>
            <a:ext cx="9144000" cy="6337080"/>
          </a:xfrm>
          <a:prstGeom prst="rect">
            <a:avLst/>
          </a:prstGeom>
          <a:ln w="0">
            <a:noFill/>
          </a:ln>
        </p:spPr>
      </p:pic>
      <p:sp>
        <p:nvSpPr>
          <p:cNvPr id="114" name="TextBox 7"/>
          <p:cNvSpPr/>
          <p:nvPr/>
        </p:nvSpPr>
        <p:spPr>
          <a:xfrm>
            <a:off x="15480" y="571680"/>
            <a:ext cx="481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Спасибо за внимание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60-12"/>
          <p:cNvPicPr/>
          <p:nvPr/>
        </p:nvPicPr>
        <p:blipFill>
          <a:blip r:embed="rId1"/>
          <a:stretch/>
        </p:blipFill>
        <p:spPr>
          <a:xfrm>
            <a:off x="-114480" y="-15840"/>
            <a:ext cx="9174240" cy="69152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8" descr=""/>
          <p:cNvPicPr/>
          <p:nvPr/>
        </p:nvPicPr>
        <p:blipFill>
          <a:blip r:embed="rId2"/>
          <a:stretch/>
        </p:blipFill>
        <p:spPr>
          <a:xfrm>
            <a:off x="101520" y="4724280"/>
            <a:ext cx="2525760" cy="1508400"/>
          </a:xfrm>
          <a:prstGeom prst="rect">
            <a:avLst/>
          </a:prstGeom>
          <a:ln w="0">
            <a:noFill/>
          </a:ln>
        </p:spPr>
      </p:pic>
      <p:sp>
        <p:nvSpPr>
          <p:cNvPr id="49" name="TextBox 1"/>
          <p:cNvSpPr/>
          <p:nvPr/>
        </p:nvSpPr>
        <p:spPr>
          <a:xfrm>
            <a:off x="2640240" y="379440"/>
            <a:ext cx="312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Актуальнос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3"/>
          <p:cNvSpPr/>
          <p:nvPr/>
        </p:nvSpPr>
        <p:spPr>
          <a:xfrm>
            <a:off x="81000" y="903240"/>
            <a:ext cx="881064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ажное место в жизни любого человека занимает музыкальная деятельность. В дошкольном возрасте именно музыка наиболее непосредственно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воздействует  на развитие творческих способносте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 этот период жизни ребёнок эмоционально открыт, у него преобладает образное восприятие окружающего ми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Но бывают затруднения, возникающие у детей дошкольного возраста при восприятии музыки. Это объясняется отсутствием у  них первоначального музыкального опыта, несформированность эмоционально-слуховых представлений и мотивации к познанию, тем самым происходит обеднение художественного восприятия, что сказывается на духовном развитии лич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5"/>
          <p:cNvSpPr/>
          <p:nvPr/>
        </p:nvSpPr>
        <p:spPr>
          <a:xfrm>
            <a:off x="3059280" y="4365720"/>
            <a:ext cx="5832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оэтому в процесс музыкального воспитания детей дошкольного возраста оправдано включение ударных шумовых инструментов и прежде всего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ЛОЖЕ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60-12"/>
          <p:cNvPicPr/>
          <p:nvPr/>
        </p:nvPicPr>
        <p:blipFill>
          <a:blip r:embed="rId1"/>
          <a:stretch/>
        </p:blipFill>
        <p:spPr>
          <a:xfrm>
            <a:off x="-281160" y="-228600"/>
            <a:ext cx="9706320" cy="7315200"/>
          </a:xfrm>
          <a:prstGeom prst="rect">
            <a:avLst/>
          </a:prstGeom>
          <a:ln w="0">
            <a:noFill/>
          </a:ln>
        </p:spPr>
      </p:pic>
      <p:sp>
        <p:nvSpPr>
          <p:cNvPr id="55" name="TextBox 5"/>
          <p:cNvSpPr/>
          <p:nvPr/>
        </p:nvSpPr>
        <p:spPr>
          <a:xfrm>
            <a:off x="184320" y="458640"/>
            <a:ext cx="8858160" cy="66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  <a:ea typeface="Arial"/>
              </a:rPr>
              <a:t>Ритм, как известно, имеет эмоциональную природу. Поэтому любая ритмическая деятельность  ребёнка прекрасно соотносится с его возрастными психоэмоциональным состоянием. Знакомство с различными ритмическими соотношениями с помощью ударных инструментов позволяет ребёнку накопить и развить первоначальный опыт слухового восприятия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  <a:ea typeface="Arial"/>
              </a:rPr>
              <a:t>Напрягая органы слуха, сперва только для восприятия и повторения разнообразных ритмов, он постепенно получает представление и о других видах музыкальных  соотношений: динамических, темповых, тембровых, так как ударный инструмент имеет свой неповторимый тембр, силу звучания, которые рождаются под воздействием многих факторов (порода дерева, технология изготовления и т.д.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  <a:ea typeface="Arial"/>
              </a:rPr>
              <a:t>У ребёнка формируется потребность к самостоятельной творческой деятельности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6" descr=""/>
          <p:cNvPicPr/>
          <p:nvPr/>
        </p:nvPicPr>
        <p:blipFill>
          <a:blip r:embed="rId2"/>
          <a:stretch/>
        </p:blipFill>
        <p:spPr>
          <a:xfrm>
            <a:off x="6948360" y="-387360"/>
            <a:ext cx="1932120" cy="19573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7" descr=""/>
          <p:cNvPicPr/>
          <p:nvPr/>
        </p:nvPicPr>
        <p:blipFill>
          <a:blip r:embed="rId3"/>
          <a:stretch/>
        </p:blipFill>
        <p:spPr>
          <a:xfrm rot="8882400">
            <a:off x="863280" y="-354240"/>
            <a:ext cx="2070000" cy="20890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60-12"/>
          <p:cNvPicPr/>
          <p:nvPr/>
        </p:nvPicPr>
        <p:blipFill>
          <a:blip r:embed="rId1"/>
          <a:stretch/>
        </p:blipFill>
        <p:spPr>
          <a:xfrm>
            <a:off x="0" y="0"/>
            <a:ext cx="9705960" cy="731520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8"/>
          <p:cNvSpPr/>
          <p:nvPr/>
        </p:nvSpPr>
        <p:spPr>
          <a:xfrm>
            <a:off x="4005720" y="476280"/>
            <a:ext cx="120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Цель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1"/>
          <p:cNvSpPr/>
          <p:nvPr/>
        </p:nvSpPr>
        <p:spPr>
          <a:xfrm>
            <a:off x="179280" y="938160"/>
            <a:ext cx="896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Развитие у детей дошкольного возраста музыкально - ритмического слуха непосредственно в работе с шумовыми инструмент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2"/>
          <p:cNvSpPr/>
          <p:nvPr/>
        </p:nvSpPr>
        <p:spPr>
          <a:xfrm>
            <a:off x="3922920" y="2330280"/>
            <a:ext cx="156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Задач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3"/>
          <p:cNvSpPr/>
          <p:nvPr/>
        </p:nvSpPr>
        <p:spPr>
          <a:xfrm>
            <a:off x="179280" y="2874960"/>
            <a:ext cx="885852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ормирование личностных качеств  и развитие способностей ребён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средством сольного  и аккомпанирующего музицирования в ансамбле ложкар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Создание в детском коллективе активного поля взаимодействия способствующего формированию умения  объективно оценивать детьми свои результаты для  стимулирования музыкального развит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 Освоение детьми дошкольного возраста различных ритмических последовательностей  при помощи игры на шумовых инструмент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   Развитие слухового и зрительного восприятия, музыкальной памяти и чувства форм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.     Освоение на ложках темповых, тембровых, динамических соотноше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.   Развитие координации движений и быстроты реакции, а так же мелкой моторики ру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60-12"/>
          <p:cNvPicPr/>
          <p:nvPr/>
        </p:nvPicPr>
        <p:blipFill>
          <a:blip r:embed="rId1"/>
          <a:stretch/>
        </p:blipFill>
        <p:spPr>
          <a:xfrm>
            <a:off x="-281160" y="-228600"/>
            <a:ext cx="9706320" cy="7315200"/>
          </a:xfrm>
          <a:prstGeom prst="rect">
            <a:avLst/>
          </a:prstGeom>
          <a:ln w="0">
            <a:noFill/>
          </a:ln>
        </p:spPr>
      </p:pic>
      <p:sp>
        <p:nvSpPr>
          <p:cNvPr id="68" name="TextBox 1"/>
          <p:cNvSpPr/>
          <p:nvPr/>
        </p:nvSpPr>
        <p:spPr>
          <a:xfrm>
            <a:off x="477360" y="428760"/>
            <a:ext cx="55922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70c0"/>
                </a:solidFill>
                <a:latin typeface="Arial"/>
              </a:rPr>
              <a:t>Целевая группа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спитатели ДО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спитанники ДО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одители (законные представители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9"/>
          <p:cNvSpPr/>
          <p:nvPr/>
        </p:nvSpPr>
        <p:spPr>
          <a:xfrm>
            <a:off x="491400" y="2286000"/>
            <a:ext cx="509076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0070c0"/>
                </a:solidFill>
                <a:latin typeface="Arial"/>
              </a:rPr>
              <a:t>Рабочая группа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дминистрация ДО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узыкальный руководитель ДО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10"/>
          <p:cNvSpPr/>
          <p:nvPr/>
        </p:nvSpPr>
        <p:spPr>
          <a:xfrm>
            <a:off x="584280" y="4786200"/>
            <a:ext cx="7386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Arial"/>
                <a:ea typeface="Arial"/>
              </a:rPr>
              <a:t>Место реализации проект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Arial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МБДОУ «Детский сад №21» г. Сыктывка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11"/>
          <p:cNvSpPr/>
          <p:nvPr/>
        </p:nvSpPr>
        <p:spPr>
          <a:xfrm>
            <a:off x="504360" y="3643200"/>
            <a:ext cx="2628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Arial"/>
                <a:ea typeface="Arial"/>
              </a:rPr>
              <a:t>Тип проект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Arial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долгосроч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9" descr="C:\Users\Людмила\Desktop\DSC04783.JPG"/>
          <p:cNvPicPr/>
          <p:nvPr/>
        </p:nvPicPr>
        <p:blipFill>
          <a:blip r:embed="rId2"/>
          <a:stretch/>
        </p:blipFill>
        <p:spPr>
          <a:xfrm>
            <a:off x="5907240" y="360360"/>
            <a:ext cx="3236760" cy="242568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60-12"/>
          <p:cNvPicPr/>
          <p:nvPr/>
        </p:nvPicPr>
        <p:blipFill>
          <a:blip r:embed="rId1"/>
          <a:stretch/>
        </p:blipFill>
        <p:spPr>
          <a:xfrm>
            <a:off x="0" y="0"/>
            <a:ext cx="9166320" cy="690876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7"/>
          <p:cNvSpPr/>
          <p:nvPr/>
        </p:nvSpPr>
        <p:spPr>
          <a:xfrm>
            <a:off x="2646720" y="609120"/>
            <a:ext cx="420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План реализации проект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1"/>
          <p:cNvSpPr/>
          <p:nvPr/>
        </p:nvSpPr>
        <p:spPr>
          <a:xfrm>
            <a:off x="973800" y="1484280"/>
            <a:ext cx="24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316080" y="1143000"/>
          <a:ext cx="8827920" cy="5450040"/>
        </p:xfrm>
        <a:graphic>
          <a:graphicData uri="http://schemas.openxmlformats.org/drawingml/2006/table">
            <a:tbl>
              <a:tblPr/>
              <a:tblGrid>
                <a:gridCol w="431640"/>
                <a:gridCol w="5211720"/>
                <a:gridCol w="3184560"/>
              </a:tblGrid>
              <a:tr h="6458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Содержание де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Назв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88880">
                <a:tc gridSpan="3"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дготовительный   (средняя группа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89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узыкально – дидактические игры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дленно – быстро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ромко – тихо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ишка – зайчик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ошадка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»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 т.д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189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гровые ситуации, освоение простейших приёмов игры на ложках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ы знакомимся с ложкой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 чего состоит ложка?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к правильно держать ложку?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6458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гры на ритмических палочках, простукивание на барабанах, коробочках, погремушках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усские и коми народные мелод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6458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ёмы игры на барабана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рш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6454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альчиковая гимнаст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60-12"/>
          <p:cNvPicPr/>
          <p:nvPr/>
        </p:nvPicPr>
        <p:blipFill>
          <a:blip r:embed="rId1"/>
          <a:stretch/>
        </p:blipFill>
        <p:spPr>
          <a:xfrm>
            <a:off x="-285840" y="-214200"/>
            <a:ext cx="9705960" cy="7315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2" name=""/>
          <p:cNvGraphicFramePr/>
          <p:nvPr/>
        </p:nvGraphicFramePr>
        <p:xfrm>
          <a:off x="0" y="428760"/>
          <a:ext cx="8827920" cy="5578200"/>
        </p:xfrm>
        <a:graphic>
          <a:graphicData uri="http://schemas.openxmlformats.org/drawingml/2006/table">
            <a:tbl>
              <a:tblPr/>
              <a:tblGrid>
                <a:gridCol w="428760"/>
                <a:gridCol w="5214960"/>
                <a:gridCol w="3184200"/>
              </a:tblGrid>
              <a:tr h="1189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сультации для родител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стём, играя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»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узыкально-дидактические игры в младших группах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»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737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сультации для педагог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комендации по изготовлению народных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 самодельных музыкальных инструментов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», «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ти и музыка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»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 т.д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66480">
                <a:tc gridSpan="3"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новной этап (старшая, подготовительная группы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426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мерный перспективный план работы в старшей групп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ложение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11422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мерный перспективный план работы в подготовительной групп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ложение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60-12"/>
          <p:cNvPicPr/>
          <p:nvPr/>
        </p:nvPicPr>
        <p:blipFill>
          <a:blip r:embed="rId1"/>
          <a:stretch/>
        </p:blipFill>
        <p:spPr>
          <a:xfrm>
            <a:off x="-252360" y="-243000"/>
            <a:ext cx="9705960" cy="7315200"/>
          </a:xfrm>
          <a:prstGeom prst="rect">
            <a:avLst/>
          </a:prstGeom>
          <a:ln w="0">
            <a:noFill/>
          </a:ln>
        </p:spPr>
      </p:pic>
      <p:sp>
        <p:nvSpPr>
          <p:cNvPr id="86" name="Прямоугольник 7"/>
          <p:cNvSpPr/>
          <p:nvPr/>
        </p:nvSpPr>
        <p:spPr>
          <a:xfrm>
            <a:off x="2286000" y="31050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Примерный перспективный план работы в подготовительной групп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316080" y="285840"/>
          <a:ext cx="8832600" cy="5597280"/>
        </p:xfrm>
        <a:graphic>
          <a:graphicData uri="http://schemas.openxmlformats.org/drawingml/2006/table">
            <a:tbl>
              <a:tblPr/>
              <a:tblGrid>
                <a:gridCol w="541080"/>
                <a:gridCol w="5106960"/>
                <a:gridCol w="3184560"/>
              </a:tblGrid>
              <a:tr h="7858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мерный план занят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ложение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428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седы с детьм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усские народные праздники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»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и т.д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3836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бота с родителям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вместное изготовление самодельных музыкальных инструментов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комендации родителям к использованию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граммы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ожкари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»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условиях семь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апки-передвиж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сульта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формационные стенд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сьбы и поруч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цер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" descr="60-12"/>
          <p:cNvPicPr/>
          <p:nvPr/>
        </p:nvPicPr>
        <p:blipFill>
          <a:blip r:embed="rId1"/>
          <a:stretch/>
        </p:blipFill>
        <p:spPr>
          <a:xfrm>
            <a:off x="0" y="-228600"/>
            <a:ext cx="9144000" cy="7086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1" name=""/>
          <p:cNvGraphicFramePr/>
          <p:nvPr/>
        </p:nvGraphicFramePr>
        <p:xfrm>
          <a:off x="285840" y="428760"/>
          <a:ext cx="8547120" cy="5857920"/>
        </p:xfrm>
        <a:graphic>
          <a:graphicData uri="http://schemas.openxmlformats.org/drawingml/2006/table">
            <a:tbl>
              <a:tblPr/>
              <a:tblGrid>
                <a:gridCol w="500040"/>
                <a:gridCol w="4965480"/>
                <a:gridCol w="3081600"/>
              </a:tblGrid>
              <a:tr h="253836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бота с педагогам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сульта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сьбы, поруч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астия в открытых мероприятия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апки-передвиж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формационные стенд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актикумы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76280">
                <a:tc gridSpan="3"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ключительный эта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4328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 gridSpan="2"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Создание ансамбля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ожкари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»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Выступление на праздничных мероприятиях в ДО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утренники,  фольклорные праздники)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Выступление на родительских собраниях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Выступление в СОШ № 8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Отчётный концерт ансамбля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ожкари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»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Участие в смотрах – конкурсах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униципального уровн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Выпускной бал в подготовительной группе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92" name="Picture 2" descr="C:\Users\Людмила\Desktop\ST831698.JPG"/>
          <p:cNvPicPr/>
          <p:nvPr/>
        </p:nvPicPr>
        <p:blipFill>
          <a:blip r:embed="rId2"/>
          <a:stretch/>
        </p:blipFill>
        <p:spPr>
          <a:xfrm>
            <a:off x="5784840" y="3932280"/>
            <a:ext cx="3359160" cy="251784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31T13:29:15Z</dcterms:created>
  <dc:creator>1</dc:creator>
  <dc:description/>
  <dc:language>en-US</dc:language>
  <cp:lastModifiedBy>Пользователь</cp:lastModifiedBy>
  <dcterms:modified xsi:type="dcterms:W3CDTF">2020-09-06T17:51:48Z</dcterms:modified>
  <cp:revision>84</cp:revision>
  <dc:subject/>
  <dc:title>Слайд 1</dc:title>
</cp:coreProperties>
</file>