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A4F-6B6E-4AAC-A3AC-2717237A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FD9-29EF-40FE-B385-D8AC4198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464-9456-45F2-9C98-51357EC1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6B6-1699-411F-B843-E2C9FC83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610-3EC4-41F4-A9AD-4F79013E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463-803E-4A7D-944B-4FDC8286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2EC-9EFD-4CDD-9AF0-DDC7F7E1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3C0-E398-4BAB-A5E8-7EC4E2ED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64C-DCF1-4C33-BA94-06E57842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F3E-EF12-47B3-BA90-E3924619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1DD-DFFC-42ED-A777-394AA764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5AF-1F67-4A57-B218-EC11CE6A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8F5B-9463-4A9D-9EBA-C77693961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0-12"/>
          <p:cNvPicPr/>
          <p:nvPr/>
        </p:nvPicPr>
        <p:blipFill>
          <a:blip r:embed="rId1"/>
          <a:stretch/>
        </p:blipFill>
        <p:spPr>
          <a:xfrm>
            <a:off x="104760" y="-68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419640" y="4721400"/>
            <a:ext cx="61560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ста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ахно Татья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БДОУ «Детский сад № 2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. Сыктывк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324000" y="1052640"/>
            <a:ext cx="7920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азвитие ритмического слух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 детей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в условия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с ансамблем «Ложка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Users\Пользователь\Desktop\20140409-oshkamoshka-15 (1).jpg"/>
          <p:cNvPicPr/>
          <p:nvPr/>
        </p:nvPicPr>
        <p:blipFill>
          <a:blip r:embed="rId2"/>
          <a:stretch/>
        </p:blipFill>
        <p:spPr>
          <a:xfrm>
            <a:off x="212760" y="3260880"/>
            <a:ext cx="4408560" cy="2890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60-12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0" y="-175680"/>
            <a:ext cx="9144000" cy="68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Ожидаемый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групп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ритмично передавать заданный рит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ть простейшими приемами игры на ложках и других шумовых  музыкальных инструмен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ровождать пение игрой на шумовых музыкальных инструмен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бражать в движении свое отношение к музыкальному образу, используя средства музыкальной выразительности: темп, ритм, а также выразительную мимику, осан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ая груп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ть в ансамбле соблюдая рит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ть приемами игры на двух ложках, народных и самодельных музыкальных    инструмен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гко петь и двигаться под народную музыку, выразительно передавая в движении характер, настроение пес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евременно начинать и заканчивать свою партию в ансамб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являть творческую инициативу в создании музыкально-инструментальных композиций, в создании самодельных музыкальных инстру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тельная груп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ть индивидуально и в ансамбле, соблюдая рит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ть приемами игры на двух ложках, ложках-станках, веерных ложках и других шумовых музыкальных инструмен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зительно и эмоционально петь и двигаться соблюдая колорит и удаль русской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и чувствовать ответственность за правильное исполнение своей партии в ансамб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вать творческие музыкально-инструментальные композиции и танцевальные миниатю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ходить новые приемы игры на ложках, народных и самодельных музыкальных инструмен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60-12"/>
          <p:cNvPicPr/>
          <p:nvPr/>
        </p:nvPicPr>
        <p:blipFill>
          <a:blip r:embed="rId1"/>
          <a:stretch/>
        </p:blipFill>
        <p:spPr>
          <a:xfrm>
            <a:off x="0" y="-2142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1143000" y="28440"/>
            <a:ext cx="80010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Критерии результа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Интерес к игре на русских народн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Целостное восприятие музыки в исполнении на русских народн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Восприятие средств музыкальной выразительности и способов звукоизвлечения на двух лож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 Интерес к игре на русских народн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Объем исполняемых произ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Выразительность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7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ичность исполнения: правильность приемов игры на двух ложках и других русских , коми народных инструментах, ритмический ансамб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Легкое, непринужденное сочетание игры на ложках, русских народных музыкальных инструментах с пением и дви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те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Эмоциональность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ичность, ритмичность исполнения приемов игры на двух, трех ложках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усских народных и самодельных музыкальн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Творческие проя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3"/>
          <p:cNvPicPr/>
          <p:nvPr/>
        </p:nvPicPr>
        <p:blipFill>
          <a:blip r:embed="rId2"/>
          <a:stretch/>
        </p:blipFill>
        <p:spPr>
          <a:xfrm>
            <a:off x="357120" y="5786280"/>
            <a:ext cx="1289160" cy="7146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дарный инструмент, ранее применявшийся пастухами как сигн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60-12"/>
          <p:cNvPicPr/>
          <p:nvPr/>
        </p:nvPicPr>
        <p:blipFill>
          <a:blip r:embed="rId1"/>
          <a:stretch/>
        </p:blipFill>
        <p:spPr>
          <a:xfrm>
            <a:off x="0" y="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1188720" y="324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2733480" y="42876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IMG_0739"/>
          <p:cNvPicPr/>
          <p:nvPr/>
        </p:nvPicPr>
        <p:blipFill>
          <a:blip r:embed="rId2"/>
          <a:stretch/>
        </p:blipFill>
        <p:spPr>
          <a:xfrm>
            <a:off x="7439040" y="5676840"/>
            <a:ext cx="1704960" cy="1181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74376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 Булей С. Детский оркестр изд. Музыка», 198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Дошкольное воспитание: Научно-методический журнал. – М.: ООО Издательский дом  «Воспитание дошкольника», 2003-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Девятова Т.Н. Звук – волшебник: материалы образовательной программы по музыкальному воспитанию детей старшего дошкольного возраста. – М.: ЛИНКА-ПРЕСС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 Захарова С.Н. Сценарии праздников для старших дошкольников. – М.: Гуманитар. изд. центр ВЛАДОС, 2006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5. Кононова Н.  Обучение игре дошкольниковна детских музыкальных инструментах. Изд. «Просвещение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 Корчаловская Н.В., Посевина Г.Д. Праздник в детском саду. (Сценарии детских праздников) – Ростов н/Д: изд-во  «Феникс»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 Куцакова Л.В., Мерзлякова С.И.  Воспитание ребенка-дошкольника: развитого, образованного, самостоятельного, инициативного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овторимого, культурного, активно-творческого: В мире прекрасного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но-методическое  пособие. – М.: Гуманитарное издательство центр ВЛАДОС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 Музыкальный руководитель: Иллюстрированный методический журна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музыкального руководителя. – М.: ООО Издательский дом «Воспитание дошкольника», 2012-20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 Михайлова М.А. А у наших у ворот- развеселый хоровод. Народные праздники, игры и развлечения. – Ярославль: Академия развития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0. Михайлова М.А. Развитие музыкальных способностей у детей. Изд «Академия развития»,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. Рытов Д.А. Традиции народной культуры в музыкальном воспитании детей: Русские народные инструменты: Учебно-методическое пособие. – М.: Гуманитарный издательский центр ВЛАДОС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. Рытов Д.А. Русская ложка. Музыкально-игровая энциклопедия.-М: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3. Савина Л. Пальчиковая гимнаст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4. Цвынтарный. Пальчиковая гимнаст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5. Юдина Е. Первые уроки музыки и творчества, изд. Аквариум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60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IMG_0739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3370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15480" y="571680"/>
            <a:ext cx="48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60-12"/>
          <p:cNvPicPr/>
          <p:nvPr/>
        </p:nvPicPr>
        <p:blipFill>
          <a:blip r:embed="rId1"/>
          <a:stretch/>
        </p:blipFill>
        <p:spPr>
          <a:xfrm>
            <a:off x="-114480" y="-1584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101520" y="4724280"/>
            <a:ext cx="2525760" cy="1508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2640240" y="379440"/>
            <a:ext cx="31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Актуа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81000" y="903240"/>
            <a:ext cx="8810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жное место в жизни любого человека занимает музыкальная деятельность. В дошкольном возрасте именно музыка наиболее непосредственн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здействует  на развитие творческих способно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этот период жизни ребёнок эмоционально открыт, у него преобладает образное восприятие окружающ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бывают затруднения, возникающие у детей дошкольного возраста при восприятии музыки. Это объясняется отсутствием у  них первоначального музыкального опыта, несформированность эмоционально-слуховых представлений и мотивации к познанию, тем самым происходит обеднение художественного восприятия, что сказывается на духовном развитии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059280" y="436572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этому в процесс музыкального воспитания детей дошкольного возраста оправдано включение ударных шумовых инструментов и прежде всег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Л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60-12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184320" y="458640"/>
            <a:ext cx="8858160" cy="66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Ритм, как известно, имеет эмоциональную природу. Поэтому любая ритмическая деятельность  ребёнка прекрасно соотносится с его возрастными психоэмоциональным состоянием. Знакомство с различными ритмическими соотношениями с помощью ударных инструментов позволяет ребёнку накопить и развить первоначальный опыт слухового восприят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Напрягая органы слуха, сперва только для восприятия и повторения разнообразных ритмов, он постепенно получает представление и о других видах музыкальных  соотношений: динамических, темповых, тембровых, так как ударный инструмент имеет свой неповторимый тембр, силу звучания, которые рождаются под воздействием многих факторов (порода дерева, технология изготовления и т.д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У ребёнка формируется потребность к самостоятельной творческой деятель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6948360" y="-387360"/>
            <a:ext cx="1932120" cy="195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 rot="8882400">
            <a:off x="863280" y="-354240"/>
            <a:ext cx="2070000" cy="208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60-12"/>
          <p:cNvPicPr/>
          <p:nvPr/>
        </p:nvPicPr>
        <p:blipFill>
          <a:blip r:embed="rId1"/>
          <a:stretch/>
        </p:blipFill>
        <p:spPr>
          <a:xfrm>
            <a:off x="0" y="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005720" y="476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179280" y="9381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у детей дошкольного возраста музыкально - ритмического слуха непосредственно в работе с шумовыми инстру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922920" y="233028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79280" y="2874960"/>
            <a:ext cx="8858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личностных качеств  и развитие способностей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ством сольного  и аккомпанирующего музицирования в ансамбле ложка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оздание в детском коллективе активного поля взаимодействия способствующего формированию умения  объективно оценивать детьми свои результаты для  стимулирования музыкальн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своение детьми дошкольного возраста различных ритмических последовательностей  при помощи игры на шумов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 Развитие слухового и зрительного восприятия, музыкальной памяти и чувства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 Освоение на ложках темповых, тембровых, динамических со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 Развитие координации движений и быстроты реакции, а так же мелкой моторики р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60-12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77360" y="428760"/>
            <a:ext cx="5592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Целевая групп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и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ники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(законные представител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491400" y="2286000"/>
            <a:ext cx="50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Рабочая групп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ция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ый руководитель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584280" y="4786200"/>
            <a:ext cx="73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Место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БДОУ «Детский сад №21» г. Сыктывк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504360" y="3643200"/>
            <a:ext cx="262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Тип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ср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:\Users\Людмила\Desktop\DSC04783.JPG"/>
          <p:cNvPicPr/>
          <p:nvPr/>
        </p:nvPicPr>
        <p:blipFill>
          <a:blip r:embed="rId2"/>
          <a:stretch/>
        </p:blipFill>
        <p:spPr>
          <a:xfrm>
            <a:off x="5907240" y="360360"/>
            <a:ext cx="3236760" cy="2425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60-12"/>
          <p:cNvPicPr/>
          <p:nvPr/>
        </p:nvPicPr>
        <p:blipFill>
          <a:blip r:embed="rId1"/>
          <a:stretch/>
        </p:blipFill>
        <p:spPr>
          <a:xfrm>
            <a:off x="0" y="0"/>
            <a:ext cx="9166320" cy="6908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2646720" y="60912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лан реал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973800" y="148428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6080" y="1143000"/>
          <a:ext cx="8827920" cy="5450040"/>
        </p:xfrm>
        <a:graphic>
          <a:graphicData uri="http://schemas.openxmlformats.org/drawingml/2006/table">
            <a:tbl>
              <a:tblPr/>
              <a:tblGrid>
                <a:gridCol w="431640"/>
                <a:gridCol w="5211720"/>
                <a:gridCol w="3184560"/>
              </a:tblGrid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держание 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88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ый   (средняя групп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о – дидактические иг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ленно – быстр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 – тих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ка – зайчи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ад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ые ситуации, освоение простейших приёмов игры на ложк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знакомимся с ложко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чего состоит ложка?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правильно держать ложку?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ы на ритмических палочках, простукивание на барабанах, коробочках, погремушк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е и коми народные мело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ёмы игры на барабан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чиковая гимна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60-12"/>
          <p:cNvPicPr/>
          <p:nvPr/>
        </p:nvPicPr>
        <p:blipFill>
          <a:blip r:embed="rId1"/>
          <a:stretch/>
        </p:blipFill>
        <p:spPr>
          <a:xfrm>
            <a:off x="-285840" y="-214200"/>
            <a:ext cx="970596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0" y="428760"/>
          <a:ext cx="8827920" cy="5578200"/>
        </p:xfrm>
        <a:graphic>
          <a:graphicData uri="http://schemas.openxmlformats.org/drawingml/2006/table">
            <a:tbl>
              <a:tblPr/>
              <a:tblGrid>
                <a:gridCol w="428760"/>
                <a:gridCol w="5214960"/>
                <a:gridCol w="31842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и для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ём, игра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о-дидактические игры в младших группа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и для педаг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 по изготовлению народны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амодельных музыкальных инструменто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, 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и музы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4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тап (старшая, подготовительная групп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ый перспективный план работы в старшей груп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ожение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4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ый перспективный план работы в подготовительной груп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ожение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60-12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ный перспективный план работы в подготовительно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16080" y="285840"/>
          <a:ext cx="8832600" cy="5597280"/>
        </p:xfrm>
        <a:graphic>
          <a:graphicData uri="http://schemas.openxmlformats.org/drawingml/2006/table">
            <a:tbl>
              <a:tblPr/>
              <a:tblGrid>
                <a:gridCol w="541080"/>
                <a:gridCol w="5106960"/>
                <a:gridCol w="3184560"/>
              </a:tblGrid>
              <a:tr h="78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ый план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ожение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ы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е народные праздник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8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ое изготовление самодельных музыкальных инструмен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 родителям к использова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ы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кар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условиях семь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ки-передви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сте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ьбы и пор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60-12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85840" y="428760"/>
          <a:ext cx="8547120" cy="5857920"/>
        </p:xfrm>
        <a:graphic>
          <a:graphicData uri="http://schemas.openxmlformats.org/drawingml/2006/table">
            <a:tbl>
              <a:tblPr/>
              <a:tblGrid>
                <a:gridCol w="500040"/>
                <a:gridCol w="4965480"/>
                <a:gridCol w="3081600"/>
              </a:tblGrid>
              <a:tr h="2538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 педаго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ьбы, пор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я в открытых мероприят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ки-передви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сте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280"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ый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3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оздание ансамбл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кар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ыступление на праздничных мероприятиях в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тренники,  фольклорные праздники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ыступление на родительских собрания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ыступление в СОШ № 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Отчётный концерт ансамбл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кар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Участие в смотрах – конкурс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ого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ыпускной бал в подготовительной групп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2" name="Picture 2" descr="C:\Users\Людмила\Desktop\ST831698.JPG"/>
          <p:cNvPicPr/>
          <p:nvPr/>
        </p:nvPicPr>
        <p:blipFill>
          <a:blip r:embed="rId2"/>
          <a:stretch/>
        </p:blipFill>
        <p:spPr>
          <a:xfrm>
            <a:off x="5784840" y="3932280"/>
            <a:ext cx="3359160" cy="2517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9:15Z</dcterms:created>
  <dc:creator>1</dc:creator>
  <dc:description/>
  <dc:language>en-US</dc:language>
  <cp:lastModifiedBy>Пользователь</cp:lastModifiedBy>
  <dcterms:modified xsi:type="dcterms:W3CDTF">2020-09-06T17:51:48Z</dcterms:modified>
  <cp:revision>84</cp:revision>
  <dc:subject/>
  <dc:title>Слайд 1</dc:title>
</cp:coreProperties>
</file>