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F111-63BB-4479-9B84-DF4E151A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377D-AFC9-4044-8546-D2EB3912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FDC2-8070-4EA6-B12B-D3E8C444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CD17-DBFA-4CEA-8385-0D29E855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B3E3-DE1E-4E4B-9A45-E859B331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0094-9878-4A48-9E6F-D651F882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32B8-2A6A-47E1-9B90-81333F51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BD1E-69F1-4F62-8410-635D6330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1130-0568-4DCC-B310-F5FCFFDF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2E1E-DD28-4AA5-9145-C163F2A5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5EF9-C75B-44CF-84C7-44CAC3D6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9958-DB5F-4D14-9F8A-7DB45C70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FFCE-DB0B-4118-BAED-4D324DD75A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3760" y="44280"/>
          <a:ext cx="9144000" cy="70027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2428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28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284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>
            <a:off x="6084720" y="2467080"/>
            <a:ext cx="3083040" cy="230328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2" descr=""/>
          <p:cNvPicPr/>
          <p:nvPr/>
        </p:nvPicPr>
        <p:blipFill>
          <a:blip r:embed="rId2"/>
          <a:stretch/>
        </p:blipFill>
        <p:spPr>
          <a:xfrm>
            <a:off x="0" y="2492280"/>
            <a:ext cx="3059280" cy="22780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3" descr=""/>
          <p:cNvPicPr/>
          <p:nvPr/>
        </p:nvPicPr>
        <p:blipFill>
          <a:blip r:embed="rId3"/>
          <a:stretch/>
        </p:blipFill>
        <p:spPr>
          <a:xfrm>
            <a:off x="3059280" y="2492280"/>
            <a:ext cx="3025440" cy="2303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987640" y="0"/>
            <a:ext cx="1584360" cy="2492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4572000" y="0"/>
            <a:ext cx="1584360" cy="2492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4500720" y="4797360"/>
            <a:ext cx="1584000" cy="1295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4140360" y="6093000"/>
            <a:ext cx="938160" cy="936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5076720" y="6093000"/>
            <a:ext cx="1008000" cy="936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3059280" y="4797360"/>
            <a:ext cx="1441440" cy="1295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3059280" y="6093000"/>
            <a:ext cx="10810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4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1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31T05:41:18Z</dcterms:created>
  <dc:creator>Администратор</dc:creator>
  <dc:description/>
  <dc:language>en-US</dc:language>
  <cp:lastModifiedBy>Администратор</cp:lastModifiedBy>
  <dcterms:modified xsi:type="dcterms:W3CDTF">2018-02-04T10:48:36Z</dcterms:modified>
  <cp:revision>9</cp:revision>
  <dc:subject/>
  <dc:title>Слайд 1</dc:title>
</cp:coreProperties>
</file>