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C17-8EF7-40BE-841B-D2FD0FBC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E9D-11B2-4D90-B85A-D113CB7D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C8A-F505-45B3-BA95-186DBFB4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9DE-03FC-41BD-8E22-9C2AE71A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D93-557C-4131-B899-1802E2EC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E7E-13BF-4527-AB8A-D9E75B2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0E8-EABB-4533-B6E4-229611BE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2B6-3D53-41A5-9BCF-77B9E1F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A3B-C11C-48C8-AB90-76146AAD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89A-4B68-4052-A850-7DCDC25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896-2804-41F9-A150-7CCCF06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947-BB45-49CC-A73D-341392D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A0C-E741-4ECE-B1CD-D55689219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760" y="44280"/>
          <a:ext cx="9144000" cy="7002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42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6084720" y="2467080"/>
            <a:ext cx="3083040" cy="2303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0" y="2492280"/>
            <a:ext cx="305928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3"/>
          <a:stretch/>
        </p:blipFill>
        <p:spPr>
          <a:xfrm>
            <a:off x="3059280" y="2492280"/>
            <a:ext cx="3025440" cy="230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87640" y="0"/>
            <a:ext cx="15843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158436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797360"/>
            <a:ext cx="15840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140360" y="6093000"/>
            <a:ext cx="93816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076720" y="6093000"/>
            <a:ext cx="1008000" cy="93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059280" y="479736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059280" y="6093000"/>
            <a:ext cx="1081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5:41:18Z</dcterms:created>
  <dc:creator>Администратор</dc:creator>
  <dc:description/>
  <dc:language>en-US</dc:language>
  <cp:lastModifiedBy>Администратор</cp:lastModifiedBy>
  <dcterms:modified xsi:type="dcterms:W3CDTF">2018-02-04T10:48:36Z</dcterms:modified>
  <cp:revision>9</cp:revision>
  <dc:subject/>
  <dc:title>Слайд 1</dc:title>
</cp:coreProperties>
</file>