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F81-69DB-43E1-A3E9-DD0A15BD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8EE-8F3B-4F7E-9B41-60A87FD7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6E3-595E-4FE3-89D0-277CEFDC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469-C5AF-4B32-A14F-39E25F68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049-5E4E-43B9-8F49-9F95C0DD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757-16D8-4055-AE2C-4BF63999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FC9-47ED-4A71-9256-F41D3B56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6D9-C43E-460B-8440-E119516E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710-54C0-4755-AD3D-C8E42C71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417-0141-4433-A7D1-11A9F6C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5F0-CB6B-4459-82CB-DB96A440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4FB-3EF5-4C51-BB65-6E0EE325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9FF7-D858-4E7B-8ACE-06E31CA60E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53800" y="260280"/>
            <a:ext cx="889344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Интегрированный урок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по русскому языку и развитию речи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«Правописание родовых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окончаний имен прилагательных.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Толерантность»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"/>
          <p:cNvPicPr/>
          <p:nvPr/>
        </p:nvPicPr>
        <p:blipFill>
          <a:blip r:embed="rId2"/>
          <a:stretch/>
        </p:blipFill>
        <p:spPr>
          <a:xfrm>
            <a:off x="2717640" y="3944880"/>
            <a:ext cx="4375440" cy="2913120"/>
          </a:xfrm>
          <a:prstGeom prst="rect">
            <a:avLst/>
          </a:prstGeom>
          <a:ln w="0">
            <a:noFill/>
          </a:ln>
        </p:spPr>
      </p:pic>
      <p:pic>
        <p:nvPicPr>
          <p:cNvPr id="46" name="клевая музыка - Спокойная мелодия....mp3" descr=""/>
          <p:cNvPicPr/>
          <p:nvPr/>
        </p:nvPicPr>
        <p:blipFill>
          <a:blip r:embed="rId3"/>
          <a:stretch/>
        </p:blipFill>
        <p:spPr>
          <a:xfrm>
            <a:off x="32400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457200" y="554040"/>
            <a:ext cx="82296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Выпишите словосочетания по родам из тек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брота – это прежде всего хорошее чувство к окружающим. Дома нас окружают самые дорогие нам люди. Счастье – это здоровая душа, потому что когда человек добрый, он всегда будет счастлив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Рисунок 5" descr=""/>
          <p:cNvPicPr/>
          <p:nvPr/>
        </p:nvPicPr>
        <p:blipFill>
          <a:blip r:embed="rId2"/>
          <a:stretch/>
        </p:blipFill>
        <p:spPr>
          <a:xfrm>
            <a:off x="5694480" y="4923000"/>
            <a:ext cx="34210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5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324000" y="334800"/>
            <a:ext cx="82296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ндивидуально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Определите род имени прилагательного, выделите оконч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1 карточка                 2 карт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имательный            равнодуш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раведливая                 жест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ушевное                         з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брый                       злоб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асковая                      лени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324000" y="404640"/>
            <a:ext cx="8640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Составьте и запишите словосоче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в соответствии с темой урока со словами</a:t>
            </a:r>
            <a:r>
              <a:rPr b="1" i="1" lang="ru-RU" sz="36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олнеч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ир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орош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адостн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Рисунок 5" descr=""/>
          <p:cNvPicPr/>
          <p:nvPr/>
        </p:nvPicPr>
        <p:blipFill>
          <a:blip r:embed="rId2"/>
          <a:stretch/>
        </p:blipFill>
        <p:spPr>
          <a:xfrm>
            <a:off x="0" y="3284640"/>
            <a:ext cx="3525840" cy="35258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6" descr=""/>
          <p:cNvPicPr/>
          <p:nvPr/>
        </p:nvPicPr>
        <p:blipFill>
          <a:blip r:embed="rId3"/>
          <a:stretch/>
        </p:blipFill>
        <p:spPr>
          <a:xfrm>
            <a:off x="5932440" y="4157640"/>
            <a:ext cx="32115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6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5"/>
          <p:cNvSpPr/>
          <p:nvPr/>
        </p:nvSpPr>
        <p:spPr>
          <a:xfrm>
            <a:off x="395280" y="202248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Напишите мини – сочин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о выбор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Доброта – это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Счастье – это…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Мир – это…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19540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"/>
          <p:cNvPicPr/>
          <p:nvPr/>
        </p:nvPicPr>
        <p:blipFill>
          <a:blip r:embed="rId3"/>
          <a:stretch/>
        </p:blipFill>
        <p:spPr>
          <a:xfrm>
            <a:off x="6053040" y="4797360"/>
            <a:ext cx="3090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6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223920" y="189000"/>
            <a:ext cx="881208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Цел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1. Образовательны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ть навыки правописания окончаний имён прилагательных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звивать умения распознавать имена прилагательные в тексте, устанавливать связь имён прилагательных с именами существительными, определять род, число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2. Развивающи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ширять словарный запас учащихс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3. Воспитательны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оспитывать чувство гуманного отношения друг к другу, любовь к своей Родин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чить толерантно выражать свои негативные чувства, такие как недовольство, обида, огорч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17360" y="873000"/>
            <a:ext cx="88585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Я – св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Я – любов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Я – мир и соглас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Я не буду бояться никого и ниче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Я буду делить любовь с теми, кто меня люб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бо любовь – всепобеждающая си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5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57200" y="260280"/>
            <a:ext cx="82296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                      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7"/>
          <p:cNvSpPr/>
          <p:nvPr/>
        </p:nvSpPr>
        <p:spPr>
          <a:xfrm>
            <a:off x="611280" y="765000"/>
            <a:ext cx="2749320" cy="10717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руж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11"/>
          <p:cNvSpPr/>
          <p:nvPr/>
        </p:nvSpPr>
        <p:spPr>
          <a:xfrm>
            <a:off x="2627280" y="2338560"/>
            <a:ext cx="2736720" cy="1069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репк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12"/>
          <p:cNvSpPr/>
          <p:nvPr/>
        </p:nvSpPr>
        <p:spPr>
          <a:xfrm>
            <a:off x="4572000" y="3860640"/>
            <a:ext cx="2664000" cy="10717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хорош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13"/>
          <p:cNvSpPr/>
          <p:nvPr/>
        </p:nvSpPr>
        <p:spPr>
          <a:xfrm>
            <a:off x="6443640" y="5238720"/>
            <a:ext cx="2700360" cy="1069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любящ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7"/>
          <p:cNvSpPr/>
          <p:nvPr/>
        </p:nvSpPr>
        <p:spPr>
          <a:xfrm rot="10800000">
            <a:off x="-360" y="5373360"/>
            <a:ext cx="5148360" cy="1081080"/>
          </a:xfrm>
          <a:prstGeom prst="wedgeRoundRectCallout">
            <a:avLst>
              <a:gd name="adj1" fmla="val -31171"/>
              <a:gd name="adj2" fmla="val 127972"/>
              <a:gd name="adj3" fmla="val 16667"/>
            </a:avLst>
          </a:prstGeom>
          <a:solidFill>
            <a:srgbClr val="ccc1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ногонациональ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7ff1c2a8152"/>
          <p:cNvPicPr/>
          <p:nvPr/>
        </p:nvPicPr>
        <p:blipFill>
          <a:blip r:embed="rId2"/>
          <a:stretch/>
        </p:blipFill>
        <p:spPr>
          <a:xfrm>
            <a:off x="6032520" y="0"/>
            <a:ext cx="3111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UpRibbonSharp"/>
          <p:cNvSpPr/>
          <p:nvPr/>
        </p:nvSpPr>
        <p:spPr>
          <a:xfrm>
            <a:off x="0" y="549360"/>
            <a:ext cx="6300720" cy="273528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«Умей видеть рядом с собой человека, умей читать его душу, увидеть в его глазах радость, беду, несчастье, гор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В. Сухомлин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UpRibbonSharp"/>
          <p:cNvSpPr/>
          <p:nvPr/>
        </p:nvSpPr>
        <p:spPr>
          <a:xfrm>
            <a:off x="2987640" y="3860640"/>
            <a:ext cx="5688000" cy="252108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«Будем беспощадны к себе и милостивы даже к тем, кто умеет быть снисходительными только к себ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Пли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-38160" y="0"/>
            <a:ext cx="9202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Группа 6"/>
          <p:cNvGrpSpPr/>
          <p:nvPr/>
        </p:nvGrpSpPr>
        <p:grpSpPr>
          <a:xfrm>
            <a:off x="228600" y="1300320"/>
            <a:ext cx="8631360" cy="3851280"/>
            <a:chOff x="228600" y="1300320"/>
            <a:chExt cx="8631360" cy="3851280"/>
          </a:xfrm>
        </p:grpSpPr>
        <p:grpSp>
          <p:nvGrpSpPr>
            <p:cNvPr id="75" name="Группа 7"/>
            <p:cNvGrpSpPr/>
            <p:nvPr/>
          </p:nvGrpSpPr>
          <p:grpSpPr>
            <a:xfrm>
              <a:off x="731520" y="4177800"/>
              <a:ext cx="507600" cy="487080"/>
              <a:chOff x="731520" y="4177800"/>
              <a:chExt cx="507600" cy="487080"/>
            </a:xfrm>
          </p:grpSpPr>
          <p:sp>
            <p:nvSpPr>
              <p:cNvPr id="76" name="Прямоугольник 161"/>
              <p:cNvSpPr/>
              <p:nvPr/>
            </p:nvSpPr>
            <p:spPr>
              <a:xfrm>
                <a:off x="73152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Надпись 2"/>
              <p:cNvSpPr/>
              <p:nvPr/>
            </p:nvSpPr>
            <p:spPr>
              <a:xfrm>
                <a:off x="83808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о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Группа 8"/>
            <p:cNvGrpSpPr/>
            <p:nvPr/>
          </p:nvGrpSpPr>
          <p:grpSpPr>
            <a:xfrm>
              <a:off x="1245240" y="4177800"/>
              <a:ext cx="507600" cy="487080"/>
              <a:chOff x="1245240" y="4177800"/>
              <a:chExt cx="507600" cy="487080"/>
            </a:xfrm>
          </p:grpSpPr>
          <p:sp>
            <p:nvSpPr>
              <p:cNvPr id="79" name="Прямоугольник 159"/>
              <p:cNvSpPr/>
              <p:nvPr/>
            </p:nvSpPr>
            <p:spPr>
              <a:xfrm>
                <a:off x="124524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Надпись 2"/>
              <p:cNvSpPr/>
              <p:nvPr/>
            </p:nvSpPr>
            <p:spPr>
              <a:xfrm>
                <a:off x="132624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л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" name="Группа 9"/>
            <p:cNvGrpSpPr/>
            <p:nvPr/>
          </p:nvGrpSpPr>
          <p:grpSpPr>
            <a:xfrm>
              <a:off x="1753560" y="4177800"/>
              <a:ext cx="507600" cy="487080"/>
              <a:chOff x="1753560" y="4177800"/>
              <a:chExt cx="507600" cy="487080"/>
            </a:xfrm>
          </p:grpSpPr>
          <p:sp>
            <p:nvSpPr>
              <p:cNvPr id="82" name="Прямоугольник 157"/>
              <p:cNvSpPr/>
              <p:nvPr/>
            </p:nvSpPr>
            <p:spPr>
              <a:xfrm>
                <a:off x="175356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Надпись 2"/>
              <p:cNvSpPr/>
              <p:nvPr/>
            </p:nvSpPr>
            <p:spPr>
              <a:xfrm>
                <a:off x="183852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л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" name="Группа 10"/>
            <p:cNvGrpSpPr/>
            <p:nvPr/>
          </p:nvGrpSpPr>
          <p:grpSpPr>
            <a:xfrm>
              <a:off x="2261880" y="4177800"/>
              <a:ext cx="507600" cy="487080"/>
              <a:chOff x="2261880" y="4177800"/>
              <a:chExt cx="507600" cy="487080"/>
            </a:xfrm>
          </p:grpSpPr>
          <p:sp>
            <p:nvSpPr>
              <p:cNvPr id="85" name="Прямоугольник 155"/>
              <p:cNvSpPr/>
              <p:nvPr/>
            </p:nvSpPr>
            <p:spPr>
              <a:xfrm>
                <a:off x="226188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Надпись 2"/>
              <p:cNvSpPr/>
              <p:nvPr/>
            </p:nvSpPr>
            <p:spPr>
              <a:xfrm>
                <a:off x="235800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е</a:t>
                </a:r>
                <a:r>
                  <a:rPr b="1" i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" name="Группа 11"/>
            <p:cNvGrpSpPr/>
            <p:nvPr/>
          </p:nvGrpSpPr>
          <p:grpSpPr>
            <a:xfrm>
              <a:off x="2759760" y="4177800"/>
              <a:ext cx="507600" cy="487080"/>
              <a:chOff x="2759760" y="4177800"/>
              <a:chExt cx="507600" cy="487080"/>
            </a:xfrm>
          </p:grpSpPr>
          <p:sp>
            <p:nvSpPr>
              <p:cNvPr id="88" name="Прямоугольник 153"/>
              <p:cNvSpPr/>
              <p:nvPr/>
            </p:nvSpPr>
            <p:spPr>
              <a:xfrm>
                <a:off x="275976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Надпись 2"/>
              <p:cNvSpPr/>
              <p:nvPr/>
            </p:nvSpPr>
            <p:spPr>
              <a:xfrm>
                <a:off x="285660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к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" name="Группа 12"/>
            <p:cNvGrpSpPr/>
            <p:nvPr/>
          </p:nvGrpSpPr>
          <p:grpSpPr>
            <a:xfrm>
              <a:off x="3273480" y="4177800"/>
              <a:ext cx="507600" cy="487080"/>
              <a:chOff x="3273480" y="4177800"/>
              <a:chExt cx="507600" cy="487080"/>
            </a:xfrm>
          </p:grpSpPr>
          <p:sp>
            <p:nvSpPr>
              <p:cNvPr id="91" name="Прямоугольник 151"/>
              <p:cNvSpPr/>
              <p:nvPr/>
            </p:nvSpPr>
            <p:spPr>
              <a:xfrm>
                <a:off x="327348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Надпись 2"/>
              <p:cNvSpPr/>
              <p:nvPr/>
            </p:nvSpPr>
            <p:spPr>
              <a:xfrm>
                <a:off x="3364200" y="424476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т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" name="Группа 13"/>
            <p:cNvGrpSpPr/>
            <p:nvPr/>
          </p:nvGrpSpPr>
          <p:grpSpPr>
            <a:xfrm>
              <a:off x="1239840" y="1300320"/>
              <a:ext cx="7620120" cy="3851280"/>
              <a:chOff x="1239840" y="1300320"/>
              <a:chExt cx="7620120" cy="3851280"/>
            </a:xfrm>
          </p:grpSpPr>
          <p:grpSp>
            <p:nvGrpSpPr>
              <p:cNvPr id="94" name="Группа 17"/>
              <p:cNvGrpSpPr/>
              <p:nvPr/>
            </p:nvGrpSpPr>
            <p:grpSpPr>
              <a:xfrm>
                <a:off x="1239840" y="1300320"/>
                <a:ext cx="7620120" cy="3851280"/>
                <a:chOff x="1239840" y="1300320"/>
                <a:chExt cx="7620120" cy="3851280"/>
              </a:xfrm>
            </p:grpSpPr>
            <p:grpSp>
              <p:nvGrpSpPr>
                <p:cNvPr id="95" name="Группа 19"/>
                <p:cNvGrpSpPr/>
                <p:nvPr/>
              </p:nvGrpSpPr>
              <p:grpSpPr>
                <a:xfrm>
                  <a:off x="1239840" y="1300320"/>
                  <a:ext cx="7620120" cy="3851280"/>
                  <a:chOff x="1239840" y="1300320"/>
                  <a:chExt cx="7620120" cy="3851280"/>
                </a:xfrm>
              </p:grpSpPr>
              <p:grpSp>
                <p:nvGrpSpPr>
                  <p:cNvPr id="96" name="Группа 21"/>
                  <p:cNvGrpSpPr/>
                  <p:nvPr/>
                </p:nvGrpSpPr>
                <p:grpSpPr>
                  <a:xfrm>
                    <a:off x="1239840" y="1300320"/>
                    <a:ext cx="7620120" cy="3851280"/>
                    <a:chOff x="1239840" y="1300320"/>
                    <a:chExt cx="7620120" cy="3851280"/>
                  </a:xfrm>
                </p:grpSpPr>
                <p:grpSp>
                  <p:nvGrpSpPr>
                    <p:cNvPr id="97" name="Группа 23"/>
                    <p:cNvGrpSpPr/>
                    <p:nvPr/>
                  </p:nvGrpSpPr>
                  <p:grpSpPr>
                    <a:xfrm>
                      <a:off x="1239840" y="1300320"/>
                      <a:ext cx="7620120" cy="3851280"/>
                      <a:chOff x="1239840" y="1300320"/>
                      <a:chExt cx="7620120" cy="3851280"/>
                    </a:xfrm>
                  </p:grpSpPr>
                  <p:grpSp>
                    <p:nvGrpSpPr>
                      <p:cNvPr id="98" name="Группа 25"/>
                      <p:cNvGrpSpPr/>
                      <p:nvPr/>
                    </p:nvGrpSpPr>
                    <p:grpSpPr>
                      <a:xfrm>
                        <a:off x="1239840" y="1300320"/>
                        <a:ext cx="7620120" cy="3851280"/>
                        <a:chOff x="1239840" y="1300320"/>
                        <a:chExt cx="7620120" cy="3851280"/>
                      </a:xfrm>
                    </p:grpSpPr>
                    <p:grpSp>
                      <p:nvGrpSpPr>
                        <p:cNvPr id="99" name="Группа 27"/>
                        <p:cNvGrpSpPr/>
                        <p:nvPr/>
                      </p:nvGrpSpPr>
                      <p:grpSpPr>
                        <a:xfrm>
                          <a:off x="1239840" y="1300320"/>
                          <a:ext cx="7620120" cy="3851280"/>
                          <a:chOff x="1239840" y="1300320"/>
                          <a:chExt cx="7620120" cy="3851280"/>
                        </a:xfrm>
                      </p:grpSpPr>
                      <p:grpSp>
                        <p:nvGrpSpPr>
                          <p:cNvPr id="100" name="Группа 29"/>
                          <p:cNvGrpSpPr/>
                          <p:nvPr/>
                        </p:nvGrpSpPr>
                        <p:grpSpPr>
                          <a:xfrm>
                            <a:off x="1239840" y="1300320"/>
                            <a:ext cx="7620120" cy="3851280"/>
                            <a:chOff x="1239840" y="1300320"/>
                            <a:chExt cx="7620120" cy="3851280"/>
                          </a:xfrm>
                        </p:grpSpPr>
                        <p:grpSp>
                          <p:nvGrpSpPr>
                            <p:cNvPr id="101" name="Группа 31"/>
                            <p:cNvGrpSpPr/>
                            <p:nvPr/>
                          </p:nvGrpSpPr>
                          <p:grpSpPr>
                            <a:xfrm>
                              <a:off x="1239840" y="1300320"/>
                              <a:ext cx="7620120" cy="3851280"/>
                              <a:chOff x="1239840" y="1300320"/>
                              <a:chExt cx="7620120" cy="3851280"/>
                            </a:xfrm>
                          </p:grpSpPr>
                          <p:grpSp>
                            <p:nvGrpSpPr>
                              <p:cNvPr id="102" name="Группа 33"/>
                              <p:cNvGrpSpPr/>
                              <p:nvPr/>
                            </p:nvGrpSpPr>
                            <p:grpSpPr>
                              <a:xfrm>
                                <a:off x="1239840" y="1300320"/>
                                <a:ext cx="7620120" cy="3851280"/>
                                <a:chOff x="1239840" y="1300320"/>
                                <a:chExt cx="7620120" cy="3851280"/>
                              </a:xfrm>
                            </p:grpSpPr>
                            <p:grpSp>
                              <p:nvGrpSpPr>
                                <p:cNvPr id="103" name="Группа 35"/>
                                <p:cNvGrpSpPr/>
                                <p:nvPr/>
                              </p:nvGrpSpPr>
                              <p:grpSpPr>
                                <a:xfrm>
                                  <a:off x="1239840" y="1300320"/>
                                  <a:ext cx="7620120" cy="3851280"/>
                                  <a:chOff x="1239840" y="1300320"/>
                                  <a:chExt cx="7620120" cy="3851280"/>
                                </a:xfrm>
                              </p:grpSpPr>
                              <p:grpSp>
                                <p:nvGrpSpPr>
                                  <p:cNvPr id="104" name="Группа 37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39840" y="1300320"/>
                                    <a:ext cx="7620120" cy="3851280"/>
                                    <a:chOff x="1239840" y="1300320"/>
                                    <a:chExt cx="7620120" cy="3851280"/>
                                  </a:xfrm>
                                </p:grpSpPr>
                                <p:grpSp>
                                  <p:nvGrpSpPr>
                                    <p:cNvPr id="105" name="Группа 39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39840" y="1300320"/>
                                      <a:ext cx="7620120" cy="3851280"/>
                                      <a:chOff x="1239840" y="1300320"/>
                                      <a:chExt cx="7620120" cy="3851280"/>
                                    </a:xfrm>
                                  </p:grpSpPr>
                                  <p:grpSp>
                                    <p:nvGrpSpPr>
                                      <p:cNvPr id="106" name="Группа 41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39840" y="1300320"/>
                                        <a:ext cx="7620120" cy="3851280"/>
                                        <a:chOff x="1239840" y="1300320"/>
                                        <a:chExt cx="7620120" cy="3851280"/>
                                      </a:xfrm>
                                    </p:grpSpPr>
                                    <p:grpSp>
                                      <p:nvGrpSpPr>
                                        <p:cNvPr id="107" name="Группа 43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39840" y="1300320"/>
                                          <a:ext cx="7620120" cy="3851280"/>
                                          <a:chOff x="1239840" y="1300320"/>
                                          <a:chExt cx="7620120" cy="3851280"/>
                                        </a:xfrm>
                                      </p:grpSpPr>
                                      <p:sp>
                                        <p:nvSpPr>
                                          <p:cNvPr id="108" name="Прямоугольник 4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810400" y="3692880"/>
                                            <a:ext cx="507960" cy="48708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255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ctr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9" name="Прямоугольник 46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302080" y="3692880"/>
                                            <a:ext cx="507960" cy="48708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255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ctr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0" name="Прямоугольник 4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792680" y="3692880"/>
                                            <a:ext cx="507960" cy="48708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255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ctr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1" name="Прямоугольник 4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289400" y="3692880"/>
                                            <a:ext cx="507960" cy="48708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255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ctr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2" name="Прямоугольник 4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289400" y="4178520"/>
                                            <a:ext cx="507960" cy="48564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255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ctr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13" name="Группа 50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239840" y="1300320"/>
                                            <a:ext cx="7620120" cy="3851280"/>
                                            <a:chOff x="1239840" y="1300320"/>
                                            <a:chExt cx="7620120" cy="3851280"/>
                                          </a:xfrm>
                                        </p:grpSpPr>
                                        <p:sp>
                                          <p:nvSpPr>
                                            <p:cNvPr id="114" name="Прямоугольник 5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82632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15" name="Прямоугольник 5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31836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16" name="Прямоугольник 5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81040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17" name="Прямоугольник 5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9596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18" name="Прямоугольник 5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78800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19" name="Прямоугольник 56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27968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20" name="Прямоугольник 5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835200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21" name="Прямоугольник 5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84404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22" name="Прямоугольник 5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336080" y="2713320"/>
                                              <a:ext cx="507960" cy="48708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ffffff"/>
                                            </a:solidFill>
                                            <a:ln w="255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ctr">
                                              <a:noAutofit/>
                                            </a:bodyPr>
                                            <a:p>
                                              <a:pPr>
                                                <a:tabLst>
                                                  <a:tab algn="l" pos="0"/>
                                                  <a:tab algn="l" pos="914400"/>
                                                  <a:tab algn="l" pos="1828800"/>
                                                  <a:tab algn="l" pos="2743200"/>
                                                  <a:tab algn="l" pos="3657600"/>
                                                  <a:tab algn="l" pos="4572000"/>
                                                  <a:tab algn="l" pos="5486400"/>
                                                  <a:tab algn="l" pos="6400800"/>
                                                  <a:tab algn="l" pos="7315200"/>
                                                  <a:tab algn="l" pos="8229600"/>
                                                  <a:tab algn="l" pos="9144000"/>
                                                  <a:tab algn="l" pos="10058400"/>
                                                </a:tabLst>
                                              </a:pPr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Calibri"/>
                                              </a:endParaRPr>
                                            </a:p>
                                          </p:txBody>
                                        </p:sp>
                                        <p:grpSp>
                                          <p:nvGrpSpPr>
                                            <p:cNvPr id="123" name="Группа 6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239840" y="1300320"/>
                                              <a:ext cx="7620120" cy="3851280"/>
                                              <a:chOff x="1239840" y="1300320"/>
                                              <a:chExt cx="7620120" cy="385128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124" name="Группа 61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1239840" y="1300320"/>
                                                <a:ext cx="5587560" cy="3851280"/>
                                                <a:chOff x="1239840" y="1300320"/>
                                                <a:chExt cx="5587560" cy="385128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125" name="Группа 90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1239840" y="1300320"/>
                                                  <a:ext cx="5587560" cy="3851280"/>
                                                  <a:chOff x="1239840" y="1300320"/>
                                                  <a:chExt cx="5587560" cy="385128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126" name="Группа 92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1239840" y="1300320"/>
                                                    <a:ext cx="5587560" cy="3851280"/>
                                                    <a:chOff x="1239840" y="1300320"/>
                                                    <a:chExt cx="5587560" cy="385128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127" name="Группа 94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1239840" y="1300320"/>
                                                      <a:ext cx="5587560" cy="3851280"/>
                                                      <a:chOff x="1239840" y="1300320"/>
                                                      <a:chExt cx="5587560" cy="385128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128" name="Группа 96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1239840" y="1300320"/>
                                                        <a:ext cx="5587560" cy="3851280"/>
                                                        <a:chOff x="1239840" y="1300320"/>
                                                        <a:chExt cx="5587560" cy="385128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129" name="Группа 98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1239840" y="1300320"/>
                                                          <a:ext cx="5587560" cy="3851280"/>
                                                          <a:chOff x="1239840" y="1300320"/>
                                                          <a:chExt cx="5587560" cy="385128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130" name="Группа 100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1239840" y="1300320"/>
                                                            <a:ext cx="5587560" cy="3851280"/>
                                                            <a:chOff x="1239840" y="1300320"/>
                                                            <a:chExt cx="5587560" cy="3851280"/>
                                                          </a:xfrm>
                                                        </p:grpSpPr>
                                                        <p:grpSp>
                                                          <p:nvGrpSpPr>
                                                            <p:cNvPr id="131" name="Группа 102"/>
                                                            <p:cNvGrpSpPr/>
                                                            <p:nvPr/>
                                                          </p:nvGrpSpPr>
                                                          <p:grpSpPr>
                                                            <a:xfrm>
                                                              <a:off x="1239840" y="1300320"/>
                                                              <a:ext cx="5587560" cy="3851280"/>
                                                              <a:chOff x="1239840" y="1300320"/>
                                                              <a:chExt cx="5587560" cy="3851280"/>
                                                            </a:xfrm>
                                                          </p:grpSpPr>
                                                          <p:grpSp>
                                                            <p:nvGrpSpPr>
                                                              <p:cNvPr id="132" name="Группа 104"/>
                                                              <p:cNvGrpSpPr/>
                                                              <p:nvPr/>
                                                            </p:nvGrpSpPr>
                                                            <p:grpSpPr>
                                                              <a:xfrm>
                                                                <a:off x="1239840" y="1300320"/>
                                                                <a:ext cx="5587560" cy="3851280"/>
                                                                <a:chOff x="1239840" y="1300320"/>
                                                                <a:chExt cx="5587560" cy="3851280"/>
                                                              </a:xfrm>
                                                            </p:grpSpPr>
                                                            <p:grpSp>
                                                              <p:nvGrpSpPr>
                                                                <p:cNvPr id="133" name="Группа 106"/>
                                                                <p:cNvGrpSpPr/>
                                                                <p:nvPr/>
                                                              </p:nvGrpSpPr>
                                                              <p:grpSpPr>
                                                                <a:xfrm>
                                                                  <a:off x="1239840" y="1300320"/>
                                                                  <a:ext cx="5587560" cy="3851280"/>
                                                                  <a:chOff x="1239840" y="1300320"/>
                                                                  <a:chExt cx="5587560" cy="3851280"/>
                                                                </a:xfrm>
                                                              </p:grpSpPr>
                                                              <p:sp>
                                                                <p:nvSpPr>
                                                                  <p:cNvPr id="134" name="Прямоугольник 108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178740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grpSp>
                                                                <p:nvGrpSpPr>
                                                                  <p:cNvPr id="135" name="Группа 109"/>
                                                                  <p:cNvGrpSpPr/>
                                                                  <p:nvPr/>
                                                                </p:nvGrpSpPr>
                                                                <p:grpSpPr>
                                                                  <a:xfrm>
                                                                    <a:off x="1239840" y="1300320"/>
                                                                    <a:ext cx="5587560" cy="487080"/>
                                                                    <a:chOff x="1239840" y="1300320"/>
                                                                    <a:chExt cx="5587560" cy="487080"/>
                                                                  </a:xfrm>
                                                                </p:grpSpPr>
                                                                <p:grpSp>
                                                                  <p:nvGrpSpPr>
                                                                    <p:cNvPr id="136" name="Группа 118"/>
                                                                    <p:cNvGrpSpPr/>
                                                                    <p:nvPr/>
                                                                  </p:nvGrpSpPr>
                                                                  <p:grpSpPr>
                                                                    <a:xfrm>
                                                                      <a:off x="1239840" y="1300320"/>
                                                                      <a:ext cx="5587560" cy="487080"/>
                                                                      <a:chOff x="1239840" y="1300320"/>
                                                                      <a:chExt cx="5587560" cy="487080"/>
                                                                    </a:xfrm>
                                                                  </p:grpSpPr>
                                                                  <p:grpSp>
                                                                    <p:nvGrpSpPr>
                                                                      <p:cNvPr id="137" name="Группа 120"/>
                                                                      <p:cNvGrpSpPr/>
                                                                      <p:nvPr/>
                                                                    </p:nvGrpSpPr>
                                                                    <p:grpSpPr>
                                                                      <a:xfrm>
                                                                        <a:off x="1239840" y="1300320"/>
                                                                        <a:ext cx="5587560" cy="487080"/>
                                                                        <a:chOff x="1239840" y="1300320"/>
                                                                        <a:chExt cx="5587560" cy="487080"/>
                                                                      </a:xfrm>
                                                                    </p:grpSpPr>
                                                                    <p:grpSp>
                                                                      <p:nvGrpSpPr>
                                                                        <p:cNvPr id="138" name="Группа 122"/>
                                                                        <p:cNvGrpSpPr/>
                                                                        <p:nvPr/>
                                                                      </p:nvGrpSpPr>
                                                                      <p:grpSpPr>
                                                                        <a:xfrm>
                                                                          <a:off x="1239840" y="1300320"/>
                                                                          <a:ext cx="5587560" cy="487080"/>
                                                                          <a:chOff x="1239840" y="1300320"/>
                                                                          <a:chExt cx="5587560" cy="487080"/>
                                                                        </a:xfrm>
                                                                      </p:grpSpPr>
                                                                      <p:grpSp>
                                                                        <p:nvGrpSpPr>
                                                                          <p:cNvPr id="139" name="Группа 124"/>
                                                                          <p:cNvGrpSpPr/>
                                                                          <p:nvPr/>
                                                                        </p:nvGrpSpPr>
                                                                        <p:grpSpPr>
                                                                          <a:xfrm>
                                                                            <a:off x="1239840" y="1300320"/>
                                                                            <a:ext cx="5587560" cy="487080"/>
                                                                            <a:chOff x="1239840" y="1300320"/>
                                                                            <a:chExt cx="5587560" cy="487080"/>
                                                                          </a:xfrm>
                                                                        </p:grpSpPr>
                                                                        <p:grpSp>
                                                                          <p:nvGrpSpPr>
                                                                            <p:cNvPr id="140" name="Группа 126"/>
                                                                            <p:cNvGrpSpPr/>
                                                                            <p:nvPr/>
                                                                          </p:nvGrpSpPr>
                                                                          <p:grpSpPr>
                                                                            <a:xfrm>
                                                                              <a:off x="1239840" y="1300320"/>
                                                                              <a:ext cx="5587560" cy="487080"/>
                                                                              <a:chOff x="1239840" y="1300320"/>
                                                                              <a:chExt cx="5587560" cy="487080"/>
                                                                            </a:xfrm>
                                                                          </p:grpSpPr>
                                                                          <p:grpSp>
                                                                            <p:nvGrpSpPr>
                                                                              <p:cNvPr id="141" name="Группа 128"/>
                                                                              <p:cNvGrpSpPr/>
                                                                              <p:nvPr/>
                                                                            </p:nvGrpSpPr>
                                                                            <p:grpSpPr>
                                                                              <a:xfrm>
                                                                                <a:off x="1239840" y="1300320"/>
                                                                                <a:ext cx="5587560" cy="487080"/>
                                                                                <a:chOff x="1239840" y="1300320"/>
                                                                                <a:chExt cx="5587560" cy="487080"/>
                                                                              </a:xfrm>
                                                                            </p:grpSpPr>
                                                                            <p:grpSp>
                                                                              <p:nvGrpSpPr>
                                                                                <p:cNvPr id="142" name="Группа 130"/>
                                                                                <p:cNvGrpSpPr/>
                                                                                <p:nvPr/>
                                                                              </p:nvGrpSpPr>
                                                                              <p:grpSpPr>
                                                                                <a:xfrm>
                                                                                  <a:off x="1239840" y="1300320"/>
                                                                                  <a:ext cx="5587560" cy="487080"/>
                                                                                  <a:chOff x="1239840" y="1300320"/>
                                                                                  <a:chExt cx="5587560" cy="487080"/>
                                                                                </a:xfrm>
                                                                              </p:grpSpPr>
                                                                              <p:grpSp>
                                                                                <p:nvGrpSpPr>
                                                                                  <p:cNvPr id="143" name="Группа 132"/>
                                                                                  <p:cNvGrpSpPr/>
                                                                                  <p:nvPr/>
                                                                                </p:nvGrpSpPr>
                                                                                <p:grpSpPr>
                                                                                  <a:xfrm>
                                                                                    <a:off x="1239840" y="1300320"/>
                                                                                    <a:ext cx="5587560" cy="487080"/>
                                                                                    <a:chOff x="1239840" y="1300320"/>
                                                                                    <a:chExt cx="5587560" cy="487080"/>
                                                                                  </a:xfrm>
                                                                                </p:grpSpPr>
                                                                                <p:grpSp>
                                                                                  <p:nvGrpSpPr>
                                                                                    <p:cNvPr id="144" name="Группа 134"/>
                                                                                    <p:cNvGrpSpPr/>
                                                                                    <p:nvPr/>
                                                                                  </p:nvGrpSpPr>
                                                                                  <p:grpSpPr>
                                                                                    <a:xfrm>
                                                                                      <a:off x="1239840" y="1300320"/>
                                                                                      <a:ext cx="5587560" cy="487080"/>
                                                                                      <a:chOff x="1239840" y="1300320"/>
                                                                                      <a:chExt cx="5587560" cy="487080"/>
                                                                                    </a:xfrm>
                                                                                  </p:grpSpPr>
                                                                                  <p:grpSp>
                                                                                    <p:nvGrpSpPr>
                                                                                      <p:cNvPr id="145" name="Группа 136"/>
                                                                                      <p:cNvGrpSpPr/>
                                                                                      <p:nvPr/>
                                                                                    </p:nvGrpSpPr>
                                                                                    <p:grpSpPr>
                                                                                      <a:xfrm>
                                                                                        <a:off x="1239840" y="1300320"/>
                                                                                        <a:ext cx="5587560" cy="487080"/>
                                                                                        <a:chOff x="1239840" y="1300320"/>
                                                                                        <a:chExt cx="5587560" cy="487080"/>
                                                                                      </a:xfrm>
                                                                                    </p:grpSpPr>
                                                                                    <p:grpSp>
                                                                                      <p:nvGrpSpPr>
                                                                                        <p:cNvPr id="146" name="Группа 138"/>
                                                                                        <p:cNvGrpSpPr/>
                                                                                        <p:nvPr/>
                                                                                      </p:nvGrpSpPr>
                                                                                      <p:grpSpPr>
                                                                                        <a:xfrm>
                                                                                          <a:off x="1239840" y="1300320"/>
                                                                                          <a:ext cx="5587560" cy="487080"/>
                                                                                          <a:chOff x="1239840" y="1300320"/>
                                                                                          <a:chExt cx="5587560" cy="487080"/>
                                                                                        </a:xfrm>
                                                                                      </p:grpSpPr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47" name="Прямоугольник 140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174780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48" name="Прямоугольник 141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225576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49" name="Прямоугольник 142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276372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0" name="Прямоугольник 143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327168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1" name="Прямоугольник 144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377964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2" name="Прямоугольник 145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428760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3" name="Прямоугольник 146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479556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4" name="Прямоугольник 147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530352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5" name="Прямоугольник 148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581148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6" name="Прямоугольник 149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631944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  <p:sp>
                                                                                        <p:nvSpPr>
                                                                                          <p:cNvPr id="157" name="Прямоугольник 150"/>
                                                                                          <p:cNvSpPr/>
                                                                                          <p:nvPr/>
                                                                                        </p:nvSpPr>
                                                                                        <p:spPr>
                                                                                          <a:xfrm>
                                                                                            <a:off x="1239840" y="1300320"/>
                                                                                            <a:ext cx="507960" cy="487080"/>
                                                                                          </a:xfrm>
                                                                                          <a:prstGeom prst="rect">
                                                                                            <a:avLst/>
                                                                                          </a:prstGeom>
                                                                                          <a:solidFill>
                                                                                            <a:srgbClr val="ffffff"/>
                                                                                          </a:solidFill>
                                                                                          <a:ln w="25560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miter/>
                                                                                          </a:ln>
                                                                                        </p:spPr>
                                                                                        <p:style>
                                                                                          <a:lnRef idx="0"/>
                                                                                          <a:fillRef idx="0"/>
                                                                                          <a:effectRef idx="0"/>
                                                                                          <a:fontRef idx="minor"/>
                                                                                        </p:style>
                                                                                        <p:txBody>
                                                                                          <a:bodyPr lIns="90000" rIns="90000" tIns="46800" bIns="46800" anchor="ctr">
                                                                                            <a:noAutofit/>
                                                                                          </a:bodyPr>
                                                                                          <a:p>
                                                                                            <a:pPr>
                                                                                              <a:tabLst>
                                                                                                <a:tab algn="l" pos="0"/>
                                                                                                <a:tab algn="l" pos="914400"/>
                                                                                                <a:tab algn="l" pos="1828800"/>
                                                                                                <a:tab algn="l" pos="2743200"/>
                                                                                                <a:tab algn="l" pos="3657600"/>
                                                                                                <a:tab algn="l" pos="4572000"/>
                                                                                                <a:tab algn="l" pos="5486400"/>
                                                                                                <a:tab algn="l" pos="6400800"/>
                                                                                                <a:tab algn="l" pos="7315200"/>
                                                                                                <a:tab algn="l" pos="8229600"/>
                                                                                                <a:tab algn="l" pos="9144000"/>
                                                                                                <a:tab algn="l" pos="10058400"/>
                                                                                              </a:tabLst>
                                                                                            </a:pPr>
                                                                                            <a:endParaRPr b="0" lang="en-US" sz="18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</a:endParaRPr>
                                                                                          </a:p>
                                                                                        </p:txBody>
                                                                                      </p:sp>
                                                                                    </p:grpSp>
                                                                                    <p:sp>
                                                                                      <p:nvSpPr>
                                                                                        <p:cNvPr id="158" name="Надпись 2"/>
                                                                                        <p:cNvSpPr/>
                                                                                        <p:nvPr/>
                                                                                      </p:nvSpPr>
                                                                                      <p:spPr>
                                                                                        <a:xfrm>
                                                                                          <a:off x="1329480" y="1347480"/>
                                                                                          <a:ext cx="328680" cy="400680"/>
                                                                                        </a:xfrm>
                                                                                        <a:prstGeom prst="rect">
                                                                                          <a:avLst/>
                                                                                        </a:prstGeom>
                                                                                        <a:solidFill>
                                                                                          <a:srgbClr val="ffffff"/>
                                                                                        </a:solidFill>
                                                                                        <a:ln w="0">
                                                                                          <a:noFill/>
                                                                                        </a:ln>
                                                                                      </p:spPr>
                                                                                      <p:style>
                                                                                        <a:lnRef idx="0"/>
                                                                                        <a:fillRef idx="0"/>
                                                                                        <a:effectRef idx="0"/>
                                                                                        <a:fontRef idx="minor"/>
                                                                                      </p:style>
                                                                                      <p:txBody>
                                                                                        <a:bodyPr lIns="90000" rIns="90000" tIns="46800" bIns="46800" anchor="t">
                                                                                          <a:noAutofit/>
                                                                                        </a:bodyPr>
                                                                                        <a:p>
                                                                                          <a:pPr>
                                                                                            <a:lnSpc>
                                                                                              <a:spcPct val="115000"/>
                                                                                            </a:lnSpc>
                                                                                            <a:spcAft>
                                                                                              <a:spcPts val="1001"/>
                                                                                            </a:spcAft>
                                                                                            <a:tabLst>
                                                                                              <a:tab algn="l" pos="0"/>
                                                                                              <a:tab algn="l" pos="914400"/>
                                                                                              <a:tab algn="l" pos="1828800"/>
                                                                                              <a:tab algn="l" pos="2743200"/>
                                                                                              <a:tab algn="l" pos="3657600"/>
                                                                                              <a:tab algn="l" pos="4572000"/>
                                                                                              <a:tab algn="l" pos="5486400"/>
                                                                                              <a:tab algn="l" pos="6400800"/>
                                                                                              <a:tab algn="l" pos="7315200"/>
                                                                                              <a:tab algn="l" pos="8229600"/>
                                                                                              <a:tab algn="l" pos="9144000"/>
                                                                                              <a:tab algn="l" pos="10058400"/>
                                                                                            </a:tabLst>
                                                                                          </a:pPr>
                                                                                          <a:r>
                                                                                            <a:rPr b="1" lang="ru-RU" sz="2600" spc="-1" strike="noStrike">
                                                                                              <a:solidFill>
                                                                                                <a:srgbClr val="000000"/>
                                                                                              </a:solidFill>
                                                                                              <a:latin typeface="Calibri"/>
                                                                                              <a:ea typeface="Calibri"/>
                                                                                            </a:rPr>
                                                                                            <a:t>п</a:t>
                                                                                          </a:r>
                                                                                          <a:endParaRPr b="0" lang="en-US" sz="2600" spc="-1" strike="noStrike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latin typeface="Calibri"/>
                                                                                          </a:endParaRPr>
                                                                                        </a:p>
                                                                                      </p:txBody>
                                                                                    </p:sp>
                                                                                  </p:grpSp>
                                                                                  <p:sp>
                                                                                    <p:nvSpPr>
                                                                                      <p:cNvPr id="159" name="Надпись 2"/>
                                                                                      <p:cNvSpPr/>
                                                                                      <p:nvPr/>
                                                                                    </p:nvSpPr>
                                                                                    <p:spPr>
                                                                                      <a:xfrm>
                                                                                        <a:off x="1882080" y="1347480"/>
                                                                                        <a:ext cx="328680" cy="400680"/>
                                                                                      </a:xfrm>
                                                                                      <a:prstGeom prst="rect">
                                                                                        <a:avLst/>
                                                                                      </a:prstGeom>
                                                                                      <a:solidFill>
                                                                                        <a:srgbClr val="ffffff"/>
                                                                                      </a:solidFill>
                                                                                      <a:ln w="0">
                                                                                        <a:noFill/>
                                                                                      </a:ln>
                                                                                    </p:spPr>
                                                                                    <p:style>
                                                                                      <a:lnRef idx="0"/>
                                                                                      <a:fillRef idx="0"/>
                                                                                      <a:effectRef idx="0"/>
                                                                                      <a:fontRef idx="minor"/>
                                                                                    </p:style>
                                                                                    <p:txBody>
                                                                                      <a:bodyPr lIns="90000" rIns="90000" tIns="46800" bIns="46800" anchor="t">
                                                                                        <a:noAutofit/>
                                                                                      </a:bodyPr>
                                                                                      <a:p>
                                                                                        <a:pPr>
                                                                                          <a:lnSpc>
                                                                                            <a:spcPct val="115000"/>
                                                                                          </a:lnSpc>
                                                                                          <a:spcAft>
                                                                                            <a:spcPts val="1001"/>
                                                                                          </a:spcAft>
                                                                                          <a:tabLst>
                                                                                            <a:tab algn="l" pos="0"/>
                                                                                            <a:tab algn="l" pos="914400"/>
                                                                                            <a:tab algn="l" pos="1828800"/>
                                                                                            <a:tab algn="l" pos="2743200"/>
                                                                                            <a:tab algn="l" pos="3657600"/>
                                                                                            <a:tab algn="l" pos="4572000"/>
                                                                                            <a:tab algn="l" pos="5486400"/>
                                                                                            <a:tab algn="l" pos="6400800"/>
                                                                                            <a:tab algn="l" pos="7315200"/>
                                                                                            <a:tab algn="l" pos="8229600"/>
                                                                                            <a:tab algn="l" pos="9144000"/>
                                                                                            <a:tab algn="l" pos="10058400"/>
                                                                                          </a:tabLst>
                                                                                        </a:pPr>
                                                                                        <a:r>
                                                                                          <a:rPr b="1" lang="ru-RU" sz="2600" spc="-1" strike="noStrike">
                                                                                            <a:solidFill>
                                                                                              <a:srgbClr val="000000"/>
                                                                                            </a:solidFill>
                                                                                            <a:latin typeface="Calibri"/>
                                                                                            <a:ea typeface="Calibri"/>
                                                                                          </a:rPr>
                                                                                          <a:t>р</a:t>
                                                                                        </a:r>
                                                                                        <a:endParaRPr b="0" lang="en-US" sz="2600" spc="-1" strike="noStrike">
                                                                                          <a:solidFill>
                                                                                            <a:srgbClr val="000000"/>
                                                                                          </a:solidFill>
                                                                                          <a:latin typeface="Calibri"/>
                                                                                        </a:endParaRPr>
                                                                                      </a:p>
                                                                                    </p:txBody>
                                                                                  </p:sp>
                                                                                </p:grpSp>
                                                                                <p:sp>
                                                                                  <p:nvSpPr>
                                                                                    <p:cNvPr id="160" name="Надпись 2"/>
                                                                                    <p:cNvSpPr/>
                                                                                    <p:nvPr/>
                                                                                  </p:nvSpPr>
                                                                                  <p:spPr>
                                                                                    <a:xfrm>
                                                                                      <a:off x="2360160" y="1347480"/>
                                                                                      <a:ext cx="328680" cy="400680"/>
                                                                                    </a:xfrm>
                                                                                    <a:prstGeom prst="rect">
                                                                                      <a:avLst/>
                                                                                    </a:prstGeom>
                                                                                    <a:solidFill>
                                                                                      <a:srgbClr val="ffffff"/>
                                                                                    </a:solidFill>
                                                                                    <a:ln w="0">
                                                                                      <a:noFill/>
                                                                                    </a:ln>
                                                                                  </p:spPr>
                                                                                  <p:style>
                                                                                    <a:lnRef idx="0"/>
                                                                                    <a:fillRef idx="0"/>
                                                                                    <a:effectRef idx="0"/>
                                                                                    <a:fontRef idx="minor"/>
                                                                                  </p:style>
                                                                                  <p:txBody>
                                                                                    <a:bodyPr lIns="90000" rIns="90000" tIns="46800" bIns="46800" anchor="t">
                                                                                      <a:noAutofit/>
                                                                                    </a:bodyPr>
                                                                                    <a:p>
                                                                                      <a:pPr>
                                                                                        <a:lnSpc>
                                                                                          <a:spcPct val="115000"/>
                                                                                        </a:lnSpc>
                                                                                        <a:spcAft>
                                                                                          <a:spcPts val="1001"/>
                                                                                        </a:spcAft>
                                                                                        <a:tabLst>
                                                                                          <a:tab algn="l" pos="0"/>
                                                                                          <a:tab algn="l" pos="914400"/>
                                                                                          <a:tab algn="l" pos="1828800"/>
                                                                                          <a:tab algn="l" pos="2743200"/>
                                                                                          <a:tab algn="l" pos="3657600"/>
                                                                                          <a:tab algn="l" pos="4572000"/>
                                                                                          <a:tab algn="l" pos="5486400"/>
                                                                                          <a:tab algn="l" pos="6400800"/>
                                                                                          <a:tab algn="l" pos="7315200"/>
                                                                                          <a:tab algn="l" pos="8229600"/>
                                                                                          <a:tab algn="l" pos="9144000"/>
                                                                                          <a:tab algn="l" pos="10058400"/>
                                                                                        </a:tabLst>
                                                                                      </a:pPr>
                                                                                      <a:r>
                                                                                        <a:rPr b="1" lang="ru-RU" sz="2600" spc="-1" strike="noStrike">
                                                                                          <a:solidFill>
                                                                                            <a:srgbClr val="000000"/>
                                                                                          </a:solidFill>
                                                                                          <a:latin typeface="Calibri"/>
                                                                                          <a:ea typeface="Calibri"/>
                                                                                        </a:rPr>
                                                                                        <a:t>и</a:t>
                                                                                      </a:r>
                                                                                      <a:endParaRPr b="0" lang="en-US" sz="2600" spc="-1" strike="noStrike">
                                                                                        <a:solidFill>
                                                                                          <a:srgbClr val="000000"/>
                                                                                        </a:solidFill>
                                                                                        <a:latin typeface="Calibri"/>
                                                                                      </a:endParaRPr>
                                                                                    </a:p>
                                                                                  </p:txBody>
                                                                                </p:sp>
                                                                              </p:grpSp>
                                                                              <p:sp>
                                                                                <p:nvSpPr>
                                                                                  <p:cNvPr id="161" name="Надпись 2"/>
                                                                                  <p:cNvSpPr/>
                                                                                  <p:nvPr/>
                                                                                </p:nvSpPr>
                                                                                <p:spPr>
                                                                                  <a:xfrm>
                                                                                    <a:off x="2883240" y="1347480"/>
                                                                                    <a:ext cx="328680" cy="400680"/>
                                                                                  </a:xfrm>
                                                                                  <a:prstGeom prst="rect">
                                                                                    <a:avLst/>
                                                                                  </a:prstGeom>
                                                                                  <a:solidFill>
                                                                                    <a:srgbClr val="ffffff"/>
                                                                                  </a:solidFill>
                                                                                  <a:ln w="0">
                                                                                    <a:noFill/>
                                                                                  </a:ln>
                                                                                </p:spPr>
                                                                                <p:style>
                                                                                  <a:lnRef idx="0"/>
                                                                                  <a:fillRef idx="0"/>
                                                                                  <a:effectRef idx="0"/>
                                                                                  <a:fontRef idx="minor"/>
                                                                                </p:style>
                                                                                <p:txBody>
                                                                                  <a:bodyPr lIns="90000" rIns="90000" tIns="46800" bIns="46800" anchor="t">
                                                                                    <a:noAutofit/>
                                                                                  </a:bodyPr>
                                                                                  <a:p>
                                                                                    <a:pPr>
                                                                                      <a:lnSpc>
                                                                                        <a:spcPct val="115000"/>
                                                                                      </a:lnSpc>
                                                                                      <a:spcAft>
                                                                                        <a:spcPts val="1001"/>
                                                                                      </a:spcAft>
                                                                                      <a:tabLst>
                                                                                        <a:tab algn="l" pos="0"/>
                                                                                        <a:tab algn="l" pos="914400"/>
                                                                                        <a:tab algn="l" pos="1828800"/>
                                                                                        <a:tab algn="l" pos="2743200"/>
                                                                                        <a:tab algn="l" pos="3657600"/>
                                                                                        <a:tab algn="l" pos="4572000"/>
                                                                                        <a:tab algn="l" pos="5486400"/>
                                                                                        <a:tab algn="l" pos="6400800"/>
                                                                                        <a:tab algn="l" pos="7315200"/>
                                                                                        <a:tab algn="l" pos="8229600"/>
                                                                                        <a:tab algn="l" pos="9144000"/>
                                                                                        <a:tab algn="l" pos="10058400"/>
                                                                                      </a:tabLst>
                                                                                    </a:pPr>
                                                                                    <a:r>
                                                                                      <a:rPr b="1" lang="ru-RU" sz="2600" spc="-1" strike="noStrike">
                                                                                        <a:solidFill>
                                                                                          <a:srgbClr val="000000"/>
                                                                                        </a:solidFill>
                                                                                        <a:latin typeface="Calibri"/>
                                                                                        <a:ea typeface="Calibri"/>
                                                                                      </a:rPr>
                                                                                      <a:t>в</a:t>
                                                                                    </a:r>
                                                                                    <a:endParaRPr b="0" lang="en-US" sz="2600" spc="-1" strike="noStrike">
                                                                                      <a:solidFill>
                                                                                        <a:srgbClr val="000000"/>
                                                                                      </a:solidFill>
                                                                                      <a:latin typeface="Calibri"/>
                                                                                    </a:endParaRPr>
                                                                                  </a:p>
                                                                                </p:txBody>
                                                                              </p:sp>
                                                                            </p:grpSp>
                                                                            <p:sp>
                                                                              <p:nvSpPr>
                                                                                <p:cNvPr id="162" name="Надпись 2"/>
                                                                                <p:cNvSpPr/>
                                                                                <p:nvPr/>
                                                                              </p:nvSpPr>
                                                                              <p:spPr>
                                                                                <a:xfrm>
                                                                                  <a:off x="3368880" y="1355040"/>
                                                                                  <a:ext cx="328680" cy="400680"/>
                                                                                </a:xfrm>
                                                                                <a:prstGeom prst="rect">
                                                                                  <a:avLst/>
                                                                                </a:prstGeom>
                                                                                <a:solidFill>
                                                                                  <a:srgbClr val="ffffff"/>
                                                                                </a:solidFill>
                                                                                <a:ln w="0">
                                                                                  <a:noFill/>
                                                                                </a:ln>
                                                                              </p:spPr>
                                                                              <p:style>
                                                                                <a:lnRef idx="0"/>
                                                                                <a:fillRef idx="0"/>
                                                                                <a:effectRef idx="0"/>
                                                                                <a:fontRef idx="minor"/>
                                                                              </p:style>
                                                                              <p:txBody>
                                                                                <a:bodyPr lIns="90000" rIns="90000" tIns="46800" bIns="46800" anchor="t">
                                                                                  <a:noAutofit/>
                                                                                </a:bodyPr>
                                                                                <a:p>
                                                                                  <a:pPr>
                                                                                    <a:lnSpc>
                                                                                      <a:spcPct val="115000"/>
                                                                                    </a:lnSpc>
                                                                                    <a:spcAft>
                                                                                      <a:spcPts val="1001"/>
                                                                                    </a:spcAft>
                                                                                    <a:tabLst>
                                                                                      <a:tab algn="l" pos="0"/>
                                                                                      <a:tab algn="l" pos="914400"/>
                                                                                      <a:tab algn="l" pos="1828800"/>
                                                                                      <a:tab algn="l" pos="2743200"/>
                                                                                      <a:tab algn="l" pos="3657600"/>
                                                                                      <a:tab algn="l" pos="4572000"/>
                                                                                      <a:tab algn="l" pos="5486400"/>
                                                                                      <a:tab algn="l" pos="6400800"/>
                                                                                      <a:tab algn="l" pos="7315200"/>
                                                                                      <a:tab algn="l" pos="8229600"/>
                                                                                      <a:tab algn="l" pos="9144000"/>
                                                                                      <a:tab algn="l" pos="10058400"/>
                                                                                    </a:tabLst>
                                                                                  </a:pPr>
                                                                                  <a:r>
                                                                                    <a:rPr b="1" lang="ru-RU" sz="2600" spc="-1" strike="noStrike">
                                                                                      <a:solidFill>
                                                                                        <a:srgbClr val="000000"/>
                                                                                      </a:solidFill>
                                                                                      <a:latin typeface="Calibri"/>
                                                                                      <a:ea typeface="Calibri"/>
                                                                                    </a:rPr>
                                                                                    <a:t>е</a:t>
                                                                                  </a:r>
                                                                                  <a:endParaRPr b="0" lang="en-US" sz="2600" spc="-1" strike="noStrike">
                                                                                    <a:solidFill>
                                                                                      <a:srgbClr val="000000"/>
                                                                                    </a:solidFill>
                                                                                    <a:latin typeface="Calibri"/>
                                                                                  </a:endParaRPr>
                                                                                </a:p>
                                                                              </p:txBody>
                                                                            </p:sp>
                                                                          </p:grpSp>
                                                                          <p:sp>
                                                                            <p:nvSpPr>
                                                                              <p:cNvPr id="163" name="Надпись 2"/>
                                                                              <p:cNvSpPr/>
                                                                              <p:nvPr/>
                                                                            </p:nvSpPr>
                                                                            <p:spPr>
                                                                              <a:xfrm>
                                                                                <a:off x="3891600" y="1355040"/>
                                                                                <a:ext cx="328680" cy="400680"/>
                                                                              </a:xfrm>
                                                                              <a:prstGeom prst="rect">
                                                                                <a:avLst/>
                                                                              </a:prstGeom>
                                                                              <a:solidFill>
                                                                                <a:srgbClr val="ffffff"/>
                                                                              </a:solidFill>
                                                                              <a:ln w="0">
                                                                                <a:noFill/>
                                                                              </a:ln>
                                                                            </p:spPr>
                                                                            <p:style>
                                                                              <a:lnRef idx="0"/>
                                                                              <a:fillRef idx="0"/>
                                                                              <a:effectRef idx="0"/>
                                                                              <a:fontRef idx="minor"/>
                                                                            </p:style>
                                                                            <p:txBody>
                                                                              <a:bodyPr lIns="90000" rIns="90000" tIns="46800" bIns="46800" anchor="t">
                                                                                <a:noAutofit/>
                                                                              </a:bodyPr>
                                                                              <a:p>
                                                                                <a:pPr>
                                                                                  <a:lnSpc>
                                                                                    <a:spcPct val="115000"/>
                                                                                  </a:lnSpc>
                                                                                  <a:spcAft>
                                                                                    <a:spcPts val="1001"/>
                                                                                  </a:spcAft>
                                                                                  <a:tabLst>
                                                                                    <a:tab algn="l" pos="0"/>
                                                                                    <a:tab algn="l" pos="914400"/>
                                                                                    <a:tab algn="l" pos="1828800"/>
                                                                                    <a:tab algn="l" pos="2743200"/>
                                                                                    <a:tab algn="l" pos="3657600"/>
                                                                                    <a:tab algn="l" pos="4572000"/>
                                                                                    <a:tab algn="l" pos="5486400"/>
                                                                                    <a:tab algn="l" pos="6400800"/>
                                                                                    <a:tab algn="l" pos="7315200"/>
                                                                                    <a:tab algn="l" pos="8229600"/>
                                                                                    <a:tab algn="l" pos="9144000"/>
                                                                                    <a:tab algn="l" pos="10058400"/>
                                                                                  </a:tabLst>
                                                                                </a:pPr>
                                                                                <a:r>
                                                                                  <a:rPr b="1" lang="ru-RU" sz="2600" spc="-1" strike="noStrike">
                                                                                    <a:solidFill>
                                                                                      <a:srgbClr val="ff0000"/>
                                                                                    </a:solidFill>
                                                                                    <a:latin typeface="Calibri"/>
                                                                                    <a:ea typeface="Calibri"/>
                                                                                  </a:rPr>
                                                                                  <a:t>т</a:t>
                                                                                </a:r>
                                                                                <a:endParaRPr b="0" lang="en-US" sz="2600" spc="-1" strike="noStrike">
                                                                                  <a:solidFill>
                                                                                    <a:srgbClr val="000000"/>
                                                                                  </a:solidFill>
                                                                                  <a:latin typeface="Calibri"/>
                                                                                </a:endParaRPr>
                                                                              </a:p>
                                                                            </p:txBody>
                                                                          </p:sp>
                                                                        </p:grpSp>
                                                                        <p:sp>
                                                                          <p:nvSpPr>
                                                                            <p:cNvPr id="164" name="Надпись 2"/>
                                                                            <p:cNvSpPr/>
                                                                            <p:nvPr/>
                                                                          </p:nvSpPr>
                                                                          <p:spPr>
                                                                            <a:xfrm>
                                                                              <a:off x="4377240" y="1355040"/>
                                                                              <a:ext cx="328680" cy="400680"/>
                                                                            </a:xfrm>
                                                                            <a:prstGeom prst="rect">
                                                                              <a:avLst/>
                                                                            </a:prstGeom>
                                                                            <a:solidFill>
                                                                              <a:srgbClr val="ffffff"/>
                                                                            </a:solidFill>
                                                                            <a:ln w="0">
                                                                              <a:noFill/>
                                                                            </a:ln>
                                                                          </p:spPr>
                                                                          <p:style>
                                                                            <a:lnRef idx="0"/>
                                                                            <a:fillRef idx="0"/>
                                                                            <a:effectRef idx="0"/>
                                                                            <a:fontRef idx="minor"/>
                                                                          </p:style>
                                                                          <p:txBody>
                                                                            <a:bodyPr lIns="90000" rIns="90000" tIns="46800" bIns="46800" anchor="t">
                                                                              <a:noAutofit/>
                                                                            </a:bodyPr>
                                                                            <a:p>
                                                                              <a:pPr>
                                                                                <a:lnSpc>
                                                                                  <a:spcPct val="115000"/>
                                                                                </a:lnSpc>
                                                                                <a:spcAft>
                                                                                  <a:spcPts val="1001"/>
                                                                                </a:spcAft>
                                                                                <a:tabLst>
                                                                                  <a:tab algn="l" pos="0"/>
                                                                                  <a:tab algn="l" pos="914400"/>
                                                                                  <a:tab algn="l" pos="1828800"/>
                                                                                  <a:tab algn="l" pos="2743200"/>
                                                                                  <a:tab algn="l" pos="3657600"/>
                                                                                  <a:tab algn="l" pos="4572000"/>
                                                                                  <a:tab algn="l" pos="5486400"/>
                                                                                  <a:tab algn="l" pos="6400800"/>
                                                                                  <a:tab algn="l" pos="7315200"/>
                                                                                  <a:tab algn="l" pos="8229600"/>
                                                                                  <a:tab algn="l" pos="9144000"/>
                                                                                  <a:tab algn="l" pos="10058400"/>
                                                                                </a:tabLst>
                                                                              </a:pPr>
                                                                              <a:r>
                                                                                <a:rPr b="1" lang="ru-RU" sz="2600" spc="-1" strike="noStrike">
                                                                                  <a:solidFill>
                                                                                    <a:srgbClr val="000000"/>
                                                                                  </a:solidFill>
                                                                                  <a:latin typeface="Calibri"/>
                                                                                  <a:ea typeface="Calibri"/>
                                                                                </a:rPr>
                                                                                <a:t>л</a:t>
                                                                              </a:r>
                                                                              <a:endParaRPr b="0" lang="en-US" sz="2600" spc="-1" strike="noStrike">
                                                                                <a:solidFill>
                                                                                  <a:srgbClr val="000000"/>
                                                                                </a:solidFill>
                                                                                <a:latin typeface="Calibri"/>
                                                                              </a:endParaRPr>
                                                                            </a:p>
                                                                          </p:txBody>
                                                                        </p:sp>
                                                                      </p:grpSp>
                                                                      <p:sp>
                                                                        <p:nvSpPr>
                                                                          <p:cNvPr id="165" name="Надпись 2"/>
                                                                          <p:cNvSpPr/>
                                                                          <p:nvPr/>
                                                                        </p:nvSpPr>
                                                                        <p:spPr>
                                                                          <a:xfrm>
                                                                            <a:off x="4900320" y="1347480"/>
                                                                            <a:ext cx="328680" cy="400680"/>
                                                                          </a:xfrm>
                                                                          <a:prstGeom prst="rect">
                                                                            <a:avLst/>
                                                                          </a:prstGeom>
                                                                          <a:solidFill>
                                                                            <a:srgbClr val="ffffff"/>
                                                                          </a:solidFill>
                                                                          <a:ln w="0">
                                                                            <a:noFill/>
                                                                          </a:ln>
                                                                        </p:spPr>
                                                                        <p:style>
                                                                          <a:lnRef idx="0"/>
                                                                          <a:fillRef idx="0"/>
                                                                          <a:effectRef idx="0"/>
                                                                          <a:fontRef idx="minor"/>
                                                                        </p:style>
                                                                        <p:txBody>
                                                                          <a:bodyPr lIns="90000" rIns="90000" tIns="46800" bIns="46800" anchor="t">
                                                                            <a:noAutofit/>
                                                                          </a:bodyPr>
                                                                          <a:p>
                                                                            <a:pPr>
                                                                              <a:lnSpc>
                                                                                <a:spcPct val="115000"/>
                                                                              </a:lnSpc>
                                                                              <a:spcAft>
                                                                                <a:spcPts val="1001"/>
                                                                              </a:spcAft>
                                                                              <a:tabLst>
                                                                                <a:tab algn="l" pos="0"/>
                                                                                <a:tab algn="l" pos="914400"/>
                                                                                <a:tab algn="l" pos="1828800"/>
                                                                                <a:tab algn="l" pos="2743200"/>
                                                                                <a:tab algn="l" pos="3657600"/>
                                                                                <a:tab algn="l" pos="4572000"/>
                                                                                <a:tab algn="l" pos="5486400"/>
                                                                                <a:tab algn="l" pos="6400800"/>
                                                                                <a:tab algn="l" pos="7315200"/>
                                                                                <a:tab algn="l" pos="8229600"/>
                                                                                <a:tab algn="l" pos="9144000"/>
                                                                                <a:tab algn="l" pos="10058400"/>
                                                                              </a:tabLst>
                                                                            </a:pPr>
                                                                            <a:r>
                                                                              <a:rPr b="1" lang="ru-RU" sz="2600" spc="-1" strike="noStrike">
                                                                                <a:solidFill>
                                                                                  <a:srgbClr val="000000"/>
                                                                                </a:solidFill>
                                                                                <a:latin typeface="Calibri"/>
                                                                                <a:ea typeface="Calibri"/>
                                                                              </a:rPr>
                                                                              <a:t>и</a:t>
                                                                            </a:r>
                                                                            <a:endParaRPr b="0" lang="en-US" sz="2600" spc="-1" strike="noStrike">
                                                                              <a:solidFill>
                                                                                <a:srgbClr val="000000"/>
                                                                              </a:solidFill>
                                                                              <a:latin typeface="Calibri"/>
                                                                            </a:endParaRPr>
                                                                          </a:p>
                                                                        </p:txBody>
                                                                      </p:sp>
                                                                    </p:grpSp>
                                                                    <p:sp>
                                                                      <p:nvSpPr>
                                                                        <p:cNvPr id="166" name="Надпись 2"/>
                                                                        <p:cNvSpPr/>
                                                                        <p:nvPr/>
                                                                      </p:nvSpPr>
                                                                      <p:spPr>
                                                                        <a:xfrm>
                                                                          <a:off x="5423040" y="1355040"/>
                                                                          <a:ext cx="328680" cy="400680"/>
                                                                        </a:xfrm>
                                                                        <a:prstGeom prst="rect">
                                                                          <a:avLst/>
                                                                        </a:prstGeom>
                                                                        <a:solidFill>
                                                                          <a:srgbClr val="ffffff"/>
                                                                        </a:solidFill>
                                                                        <a:ln w="0">
                                                                          <a:noFill/>
                                                                        </a:ln>
                                                                      </p:spPr>
                                                                      <p:style>
                                                                        <a:lnRef idx="0"/>
                                                                        <a:fillRef idx="0"/>
                                                                        <a:effectRef idx="0"/>
                                                                        <a:fontRef idx="minor"/>
                                                                      </p:style>
                                                                      <p:txBody>
                                                                        <a:bodyPr lIns="90000" rIns="90000" tIns="46800" bIns="46800" anchor="t">
                                                                          <a:noAutofit/>
                                                                        </a:bodyPr>
                                                                        <a:p>
                                                                          <a:pPr>
                                                                            <a:lnSpc>
                                                                              <a:spcPct val="115000"/>
                                                                            </a:lnSpc>
                                                                            <a:spcAft>
                                                                              <a:spcPts val="1001"/>
                                                                            </a:spcAft>
                                                                            <a:tabLst>
                                                                              <a:tab algn="l" pos="0"/>
                                                                              <a:tab algn="l" pos="914400"/>
                                                                              <a:tab algn="l" pos="1828800"/>
                                                                              <a:tab algn="l" pos="2743200"/>
                                                                              <a:tab algn="l" pos="3657600"/>
                                                                              <a:tab algn="l" pos="4572000"/>
                                                                              <a:tab algn="l" pos="5486400"/>
                                                                              <a:tab algn="l" pos="6400800"/>
                                                                              <a:tab algn="l" pos="7315200"/>
                                                                              <a:tab algn="l" pos="8229600"/>
                                                                              <a:tab algn="l" pos="9144000"/>
                                                                              <a:tab algn="l" pos="10058400"/>
                                                                            </a:tabLst>
                                                                          </a:pPr>
                                                                          <a:r>
                                                                            <a:rPr b="1" lang="ru-RU" sz="2600" spc="-1" strike="noStrike">
                                                                              <a:solidFill>
                                                                                <a:srgbClr val="000000"/>
                                                                              </a:solidFill>
                                                                              <a:latin typeface="Calibri"/>
                                                                              <a:ea typeface="Calibri"/>
                                                                            </a:rPr>
                                                                            <a:t>в</a:t>
                                                                          </a:r>
                                                                          <a:endParaRPr b="0" lang="en-US" sz="2600" spc="-1" strike="noStrike">
                                                                            <a:solidFill>
                                                                              <a:srgbClr val="000000"/>
                                                                            </a:solidFill>
                                                                            <a:latin typeface="Calibri"/>
                                                                          </a:endParaRPr>
                                                                        </a:p>
                                                                      </p:txBody>
                                                                    </p:sp>
                                                                  </p:grpSp>
                                                                  <p:sp>
                                                                    <p:nvSpPr>
                                                                      <p:cNvPr id="167" name="Надпись 2"/>
                                                                      <p:cNvSpPr/>
                                                                      <p:nvPr/>
                                                                    </p:nvSpPr>
                                                                    <p:spPr>
                                                                      <a:xfrm>
                                                                        <a:off x="5938560" y="1370880"/>
                                                                        <a:ext cx="328680" cy="400680"/>
                                                                      </a:xfrm>
                                                                      <a:prstGeom prst="rect">
                                                                        <a:avLst/>
                                                                      </a:prstGeom>
                                                                      <a:solidFill>
                                                                        <a:srgbClr val="ffffff"/>
                                                                      </a:solidFill>
                                                                      <a:ln w="0">
                                                                        <a:noFill/>
                                                                      </a:ln>
                                                                    </p:spPr>
                                                                    <p:style>
                                                                      <a:lnRef idx="0"/>
                                                                      <a:fillRef idx="0"/>
                                                                      <a:effectRef idx="0"/>
                                                                      <a:fontRef idx="minor"/>
                                                                    </p:style>
                                                                    <p:txBody>
                                                                      <a:bodyPr lIns="90000" rIns="90000" tIns="46800" bIns="46800" anchor="t">
                                                                        <a:noAutofit/>
                                                                      </a:bodyPr>
                                                                      <a:p>
                                                                        <a:pPr>
                                                                          <a:lnSpc>
                                                                            <a:spcPct val="115000"/>
                                                                          </a:lnSpc>
                                                                          <a:spcAft>
                                                                            <a:spcPts val="1001"/>
                                                                          </a:spcAft>
                                                                          <a:tabLst>
                                                                            <a:tab algn="l" pos="0"/>
                                                                            <a:tab algn="l" pos="914400"/>
                                                                            <a:tab algn="l" pos="1828800"/>
                                                                            <a:tab algn="l" pos="2743200"/>
                                                                            <a:tab algn="l" pos="3657600"/>
                                                                            <a:tab algn="l" pos="4572000"/>
                                                                            <a:tab algn="l" pos="5486400"/>
                                                                            <a:tab algn="l" pos="6400800"/>
                                                                            <a:tab algn="l" pos="7315200"/>
                                                                            <a:tab algn="l" pos="8229600"/>
                                                                            <a:tab algn="l" pos="9144000"/>
                                                                            <a:tab algn="l" pos="10058400"/>
                                                                          </a:tabLst>
                                                                        </a:pPr>
                                                                        <a:r>
                                                                          <a:rPr b="1" lang="ru-RU" sz="2600" spc="-1" strike="noStrike">
                                                                            <a:solidFill>
                                                                              <a:srgbClr val="000000"/>
                                                                            </a:solidFill>
                                                                            <a:latin typeface="Calibri"/>
                                                                            <a:ea typeface="Calibri"/>
                                                                          </a:rPr>
                                                                          <a:t>ы</a:t>
                                                                        </a:r>
                                                                        <a:endParaRPr b="0" lang="en-US" sz="2600" spc="-1" strike="noStrike">
                                                                          <a:solidFill>
                                                                            <a:srgbClr val="000000"/>
                                                                          </a:solidFill>
                                                                          <a:latin typeface="Calibri"/>
                                                                        </a:endParaRPr>
                                                                      </a:p>
                                                                    </p:txBody>
                                                                  </p:sp>
                                                                </p:grpSp>
                                                                <p:sp>
                                                                  <p:nvSpPr>
                                                                    <p:cNvPr id="168" name="Надпись 2"/>
                                                                    <p:cNvSpPr/>
                                                                    <p:nvPr/>
                                                                  </p:nvSpPr>
                                                                  <p:spPr>
                                                                    <a:xfrm>
                                                                      <a:off x="6446520" y="1355040"/>
                                                                      <a:ext cx="328680" cy="400680"/>
                                                                    </a:xfrm>
                                                                    <a:prstGeom prst="rect">
                                                                      <a:avLst/>
                                                                    </a:prstGeom>
                                                                    <a:solidFill>
                                                                      <a:srgbClr val="ffffff"/>
                                                                    </a:solidFill>
                                                                    <a:ln w="0">
                                                                      <a:noFill/>
                                                                    </a:ln>
                                                                  </p:spPr>
                                                                  <p:style>
                                                                    <a:lnRef idx="0"/>
                                                                    <a:fillRef idx="0"/>
                                                                    <a:effectRef idx="0"/>
                                                                    <a:fontRef idx="minor"/>
                                                                  </p:style>
                                                                  <p:txBody>
                                                                    <a:bodyPr lIns="90000" rIns="90000" tIns="46800" bIns="46800" anchor="t">
                                                                      <a:noAutofit/>
                                                                    </a:bodyPr>
                                                                    <a:p>
                                                                      <a:pPr>
                                                                        <a:lnSpc>
                                                                          <a:spcPct val="115000"/>
                                                                        </a:lnSpc>
                                                                        <a:spcAft>
                                                                          <a:spcPts val="1001"/>
                                                                        </a:spcAft>
                                                                        <a:tabLst>
                                                                          <a:tab algn="l" pos="0"/>
                                                                          <a:tab algn="l" pos="914400"/>
                                                                          <a:tab algn="l" pos="1828800"/>
                                                                          <a:tab algn="l" pos="2743200"/>
                                                                          <a:tab algn="l" pos="3657600"/>
                                                                          <a:tab algn="l" pos="4572000"/>
                                                                          <a:tab algn="l" pos="5486400"/>
                                                                          <a:tab algn="l" pos="6400800"/>
                                                                          <a:tab algn="l" pos="7315200"/>
                                                                          <a:tab algn="l" pos="8229600"/>
                                                                          <a:tab algn="l" pos="9144000"/>
                                                                          <a:tab algn="l" pos="10058400"/>
                                                                        </a:tabLst>
                                                                      </a:pPr>
                                                                      <a:r>
                                                                        <a:rPr b="1" lang="ru-RU" sz="2600" spc="-1" strike="noStrike">
                                                                          <a:solidFill>
                                                                            <a:srgbClr val="000000"/>
                                                                          </a:solidFill>
                                                                          <a:latin typeface="Calibri"/>
                                                                          <a:ea typeface="Calibri"/>
                                                                        </a:rPr>
                                                                        <a:t>й</a:t>
                                                                      </a:r>
                                                                      <a:endParaRPr b="0" lang="en-US" sz="2600" spc="-1" strike="noStrike">
                                                                        <a:solidFill>
                                                                          <a:srgbClr val="000000"/>
                                                                        </a:solidFill>
                                                                        <a:latin typeface="Calibri"/>
                                                                      </a:endParaRPr>
                                                                    </a:p>
                                                                  </p:txBody>
                                                                </p:sp>
                                                              </p:grpSp>
                                                              <p:sp>
                                                                <p:nvSpPr>
                                                                  <p:cNvPr id="169" name="Прямоугольник 110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222732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0" name="Прямоугольник 111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271476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1" name="Прямоугольник 112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320220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2" name="Прямоугольник 113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368964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3" name="Прямоугольник 114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41770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4" name="Прямоугольник 115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779640" y="466452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5" name="Прямоугольник 116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3271680" y="222732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76" name="Прямоугольник 117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2763720" y="222732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</p:grpSp>
                                                            <p:sp>
                                                              <p:nvSpPr>
                                                                <p:cNvPr id="177" name="Надпись 2"/>
                                                                <p:cNvSpPr/>
                                                                <p:nvPr/>
                                                              </p:nvSpPr>
                                                              <p:spPr>
                                                                <a:xfrm>
                                                                  <a:off x="3867840" y="1787400"/>
                                                                  <a:ext cx="411480" cy="416520"/>
                                                                </a:xfrm>
                                                                <a:prstGeom prst="rect">
                                                                  <a:avLst/>
                                                                </a:prstGeom>
                                                                <a:solidFill>
                                                                  <a:srgbClr val="ffffff"/>
                                                                </a:solidFill>
                                                                <a:ln w="0">
                                                                  <a:noFill/>
                                                                </a:ln>
                                                              </p:spPr>
                                                              <p:style>
                                                                <a:lnRef idx="0"/>
                                                                <a:fillRef idx="0"/>
                                                                <a:effectRef idx="0"/>
                                                                <a:fontRef idx="minor"/>
                                                              </p:style>
                                                              <p:txBody>
                                                                <a:bodyPr lIns="90000" rIns="90000" tIns="46800" bIns="46800" anchor="t">
                                                                  <a:noAutofit/>
                                                                </a:bodyPr>
                                                                <a:p>
                                                                  <a:pPr>
                                                                    <a:lnSpc>
                                                                      <a:spcPct val="115000"/>
                                                                    </a:lnSpc>
                                                                    <a:spcAft>
                                                                      <a:spcPts val="1001"/>
                                                                    </a:spcAft>
                                                                    <a:tabLst>
                                                                      <a:tab algn="l" pos="0"/>
                                                                      <a:tab algn="l" pos="914400"/>
                                                                      <a:tab algn="l" pos="1828800"/>
                                                                      <a:tab algn="l" pos="2743200"/>
                                                                      <a:tab algn="l" pos="3657600"/>
                                                                      <a:tab algn="l" pos="4572000"/>
                                                                      <a:tab algn="l" pos="5486400"/>
                                                                      <a:tab algn="l" pos="6400800"/>
                                                                      <a:tab algn="l" pos="7315200"/>
                                                                      <a:tab algn="l" pos="8229600"/>
                                                                      <a:tab algn="l" pos="9144000"/>
                                                                      <a:tab algn="l" pos="10058400"/>
                                                                    </a:tabLst>
                                                                  </a:pPr>
                                                                  <a:r>
                                                                    <a:rPr b="1" lang="ru-RU" sz="2600" spc="-1" strike="noStrike">
                                                                      <a:solidFill>
                                                                        <a:srgbClr val="ff0000"/>
                                                                      </a:solidFill>
                                                                      <a:latin typeface="Calibri"/>
                                                                      <a:ea typeface="Calibri"/>
                                                                    </a:rPr>
                                                                    <a:t>е</a:t>
                                                                  </a:r>
                                                                  <a:endParaRPr b="0" lang="en-US" sz="2600" spc="-1" strike="noStrike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latin typeface="Calibri"/>
                                                                  </a:endParaRPr>
                                                                </a:p>
                                                              </p:txBody>
                                                            </p:sp>
                                                          </p:grpSp>
                                                          <p:sp>
                                                            <p:nvSpPr>
                                                              <p:cNvPr id="178" name="Надпись 2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>
                                                                <a:off x="3867480" y="2285640"/>
                                                                <a:ext cx="328680" cy="400680"/>
                                                              </a:xfrm>
                                                              <a:prstGeom prst="rect">
                                                                <a:avLst/>
                                                              </a:prstGeom>
                                                              <a:solidFill>
                                                                <a:srgbClr val="ffffff"/>
                                                              </a:solidFill>
                                                              <a:ln w="0">
                                                                <a:noFill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pPr>
                                                                  <a:lnSpc>
                                                                    <a:spcPct val="115000"/>
                                                                  </a:lnSpc>
                                                                  <a:spcAft>
                                                                    <a:spcPts val="1001"/>
                                                                  </a:spcAft>
                                                                  <a:tabLst>
                                                                    <a:tab algn="l" pos="0"/>
                                                                    <a:tab algn="l" pos="914400"/>
                                                                    <a:tab algn="l" pos="1828800"/>
                                                                    <a:tab algn="l" pos="2743200"/>
                                                                    <a:tab algn="l" pos="3657600"/>
                                                                    <a:tab algn="l" pos="4572000"/>
                                                                    <a:tab algn="l" pos="5486400"/>
                                                                    <a:tab algn="l" pos="6400800"/>
                                                                    <a:tab algn="l" pos="7315200"/>
                                                                    <a:tab algn="l" pos="8229600"/>
                                                                    <a:tab algn="l" pos="9144000"/>
                                                                    <a:tab algn="l" pos="10058400"/>
                                                                  </a:tabLst>
                                                                </a:pPr>
                                                                <a:r>
                                                                  <a:rPr b="1" lang="ru-RU" sz="2600" spc="-1" strike="noStrike">
                                                                    <a:solidFill>
                                                                      <a:srgbClr val="ff0000"/>
                                                                    </a:solidFill>
                                                                    <a:latin typeface="Calibri"/>
                                                                    <a:ea typeface="Calibri"/>
                                                                  </a:rPr>
                                                                  <a:t>р</a:t>
                                                                </a:r>
                                                                <a:endParaRPr b="0" lang="en-US" sz="26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Calibri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</p:grpSp>
                                                        <p:sp>
                                                          <p:nvSpPr>
                                                            <p:cNvPr id="179" name="Надпись 2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3888720" y="2764440"/>
                                                              <a:ext cx="328680" cy="4006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ffffff"/>
                                                            </a:solidFill>
                                                            <a:ln w="0">
                                                              <a:noFill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pPr>
                                                                <a:lnSpc>
                                                                  <a:spcPct val="115000"/>
                                                                </a:lnSpc>
                                                                <a:spcAft>
                                                                  <a:spcPts val="1001"/>
                                                                </a:spcAft>
                                                                <a:tabLst>
                                                                  <a:tab algn="l" pos="0"/>
                                                                  <a:tab algn="l" pos="914400"/>
                                                                  <a:tab algn="l" pos="1828800"/>
                                                                  <a:tab algn="l" pos="2743200"/>
                                                                  <a:tab algn="l" pos="3657600"/>
                                                                  <a:tab algn="l" pos="4572000"/>
                                                                  <a:tab algn="l" pos="5486400"/>
                                                                  <a:tab algn="l" pos="6400800"/>
                                                                  <a:tab algn="l" pos="7315200"/>
                                                                  <a:tab algn="l" pos="8229600"/>
                                                                  <a:tab algn="l" pos="9144000"/>
                                                                  <a:tab algn="l" pos="10058400"/>
                                                                </a:tabLst>
                                                              </a:pPr>
                                                              <a:r>
                                                                <a:rPr b="1" lang="ru-RU" sz="2600" spc="-1" strike="noStrike">
                                                                  <a:solidFill>
                                                                    <a:srgbClr val="ff0000"/>
                                                                  </a:solidFill>
                                                                  <a:latin typeface="Calibri"/>
                                                                  <a:ea typeface="Calibri"/>
                                                                </a:rPr>
                                                                <a:t>п</a:t>
                                                              </a:r>
                                                              <a:endParaRPr b="0" lang="en-US" sz="26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Calibri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180" name="Надпись 2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3888720" y="3276720"/>
                                                            <a:ext cx="328680" cy="4006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ffffff"/>
                                                          </a:solidFill>
                                                          <a:ln w="0">
                                                            <a:noFill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pPr>
                                                              <a:lnSpc>
                                                                <a:spcPct val="115000"/>
                                                              </a:lnSpc>
                                                              <a:spcAft>
                                                                <a:spcPts val="1001"/>
                                                              </a:spcAft>
                                                              <a:tabLst>
                                                                <a:tab algn="l" pos="0"/>
                                                                <a:tab algn="l" pos="914400"/>
                                                                <a:tab algn="l" pos="1828800"/>
                                                                <a:tab algn="l" pos="2743200"/>
                                                                <a:tab algn="l" pos="3657600"/>
                                                                <a:tab algn="l" pos="4572000"/>
                                                                <a:tab algn="l" pos="5486400"/>
                                                                <a:tab algn="l" pos="6400800"/>
                                                                <a:tab algn="l" pos="7315200"/>
                                                                <a:tab algn="l" pos="8229600"/>
                                                                <a:tab algn="l" pos="9144000"/>
                                                                <a:tab algn="l" pos="10058400"/>
                                                              </a:tabLst>
                                                            </a:pPr>
                                                            <a:r>
                                                              <a:rPr b="1" lang="ru-RU" sz="2600" spc="-1" strike="noStrike">
                                                                <a:solidFill>
                                                                  <a:srgbClr val="ff0000"/>
                                                                </a:solidFill>
                                                                <a:latin typeface="Calibri"/>
                                                                <a:ea typeface="Calibri"/>
                                                              </a:rPr>
                                                              <a:t>е</a:t>
                                                            </a:r>
                                                            <a:endParaRPr b="0" lang="en-US" sz="26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Calibri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181" name="Надпись 2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3867480" y="3693600"/>
                                                          <a:ext cx="328680" cy="4006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ffffff"/>
                                                        </a:solidFill>
                                                        <a:ln w="0">
                                                          <a:noFill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pPr>
                                                            <a:lnSpc>
                                                              <a:spcPct val="115000"/>
                                                            </a:lnSpc>
                                                            <a:spcAft>
                                                              <a:spcPts val="1001"/>
                                                            </a:spcAft>
                                                            <a:tabLst>
                                                              <a:tab algn="l" pos="0"/>
                                                              <a:tab algn="l" pos="914400"/>
                                                              <a:tab algn="l" pos="1828800"/>
                                                              <a:tab algn="l" pos="2743200"/>
                                                              <a:tab algn="l" pos="3657600"/>
                                                              <a:tab algn="l" pos="4572000"/>
                                                              <a:tab algn="l" pos="5486400"/>
                                                              <a:tab algn="l" pos="6400800"/>
                                                              <a:tab algn="l" pos="7315200"/>
                                                              <a:tab algn="l" pos="8229600"/>
                                                              <a:tab algn="l" pos="9144000"/>
                                                              <a:tab algn="l" pos="10058400"/>
                                                            </a:tabLst>
                                                          </a:pPr>
                                                          <a:r>
                                                            <a:rPr b="1" lang="ru-RU" sz="2600" spc="-1" strike="noStrike">
                                                              <a:solidFill>
                                                                <a:srgbClr val="ff0000"/>
                                                              </a:solidFill>
                                                              <a:latin typeface="Calibri"/>
                                                              <a:ea typeface="Calibri"/>
                                                            </a:rPr>
                                                            <a:t>н</a:t>
                                                          </a:r>
                                                          <a:endParaRPr b="0" lang="en-US" sz="26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Calibri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182" name="Надпись 2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3862080" y="4228560"/>
                                                        <a:ext cx="328680" cy="4006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ffffff"/>
                                                      </a:solidFill>
                                                      <a:ln w="0">
                                                        <a:noFill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pPr>
                                                          <a:lnSpc>
                                                            <a:spcPct val="115000"/>
                                                          </a:lnSpc>
                                                          <a:spcAft>
                                                            <a:spcPts val="1001"/>
                                                          </a:spcAft>
                                                          <a:tabLst>
                                                            <a:tab algn="l" pos="0"/>
                                                            <a:tab algn="l" pos="914400"/>
                                                            <a:tab algn="l" pos="1828800"/>
                                                            <a:tab algn="l" pos="2743200"/>
                                                            <a:tab algn="l" pos="3657600"/>
                                                            <a:tab algn="l" pos="4572000"/>
                                                            <a:tab algn="l" pos="5486400"/>
                                                            <a:tab algn="l" pos="6400800"/>
                                                            <a:tab algn="l" pos="7315200"/>
                                                            <a:tab algn="l" pos="8229600"/>
                                                            <a:tab algn="l" pos="9144000"/>
                                                            <a:tab algn="l" pos="10058400"/>
                                                          </a:tabLst>
                                                        </a:pPr>
                                                        <a:r>
                                                          <a:rPr b="1" lang="ru-RU" sz="2600" spc="-1" strike="noStrike">
                                                            <a:solidFill>
                                                              <a:srgbClr val="ff0000"/>
                                                            </a:solidFill>
                                                            <a:latin typeface="Calibri"/>
                                                            <a:ea typeface="Calibri"/>
                                                          </a:rPr>
                                                          <a:t>и</a:t>
                                                        </a:r>
                                                        <a:endParaRPr b="0" lang="en-US" sz="26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Calibri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183" name="Надпись 2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3888720" y="4735440"/>
                                                      <a:ext cx="328680" cy="4006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ffffff"/>
                                                    </a:solidFill>
                                                    <a:ln w="0">
                                                      <a:noFill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pPr>
                                                        <a:lnSpc>
                                                          <a:spcPct val="115000"/>
                                                        </a:lnSpc>
                                                        <a:spcAft>
                                                          <a:spcPts val="1001"/>
                                                        </a:spcAft>
                                                        <a:tabLst>
                                                          <a:tab algn="l" pos="0"/>
                                                          <a:tab algn="l" pos="914400"/>
                                                          <a:tab algn="l" pos="1828800"/>
                                                          <a:tab algn="l" pos="2743200"/>
                                                          <a:tab algn="l" pos="3657600"/>
                                                          <a:tab algn="l" pos="4572000"/>
                                                          <a:tab algn="l" pos="5486400"/>
                                                          <a:tab algn="l" pos="6400800"/>
                                                          <a:tab algn="l" pos="7315200"/>
                                                          <a:tab algn="l" pos="8229600"/>
                                                          <a:tab algn="l" pos="9144000"/>
                                                          <a:tab algn="l" pos="10058400"/>
                                                        </a:tabLst>
                                                      </a:pPr>
                                                      <a:r>
                                                        <a:rPr b="1" lang="ru-RU" sz="2600" spc="-1" strike="noStrike">
                                                          <a:solidFill>
                                                            <a:srgbClr val="ff0000"/>
                                                          </a:solidFill>
                                                          <a:latin typeface="Calibri"/>
                                                          <a:ea typeface="Calibri"/>
                                                        </a:rPr>
                                                        <a:t>е</a:t>
                                                      </a:r>
                                                      <a:endParaRPr b="0" lang="en-US" sz="26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Calibri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184" name="Надпись 2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2882880" y="2302560"/>
                                                    <a:ext cx="328680" cy="40068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ffffff"/>
                                                  </a:solidFill>
                                                  <a:ln w="0">
                                                    <a:noFill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pPr>
                                                      <a:lnSpc>
                                                        <a:spcPct val="115000"/>
                                                      </a:lnSpc>
                                                      <a:spcAft>
                                                        <a:spcPts val="1001"/>
                                                      </a:spcAft>
                                                      <a:tabLst>
                                                        <a:tab algn="l" pos="0"/>
                                                        <a:tab algn="l" pos="914400"/>
                                                        <a:tab algn="l" pos="1828800"/>
                                                        <a:tab algn="l" pos="2743200"/>
                                                        <a:tab algn="l" pos="3657600"/>
                                                        <a:tab algn="l" pos="4572000"/>
                                                        <a:tab algn="l" pos="5486400"/>
                                                        <a:tab algn="l" pos="6400800"/>
                                                        <a:tab algn="l" pos="7315200"/>
                                                        <a:tab algn="l" pos="8229600"/>
                                                        <a:tab algn="l" pos="9144000"/>
                                                        <a:tab algn="l" pos="10058400"/>
                                                      </a:tabLst>
                                                    </a:pPr>
                                                    <a:r>
                                                      <a:rPr b="1" lang="ru-RU" sz="26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Calibri"/>
                                                        <a:ea typeface="Calibri"/>
                                                      </a:rPr>
                                                      <a:t>з</a:t>
                                                    </a:r>
                                                    <a:endParaRPr b="0" lang="en-US" sz="26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Calibri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185" name="Надпись 2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3359160" y="2279880"/>
                                                  <a:ext cx="328680" cy="40068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ffffff"/>
                                                </a:solidFill>
                                                <a:ln w="0">
                                                  <a:noFill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pPr>
                                                    <a:lnSpc>
                                                      <a:spcPct val="115000"/>
                                                    </a:lnSpc>
                                                    <a:spcAft>
                                                      <a:spcPts val="1001"/>
                                                    </a:spcAft>
                                                    <a:tabLst>
                                                      <a:tab algn="l" pos="0"/>
                                                      <a:tab algn="l" pos="914400"/>
                                                      <a:tab algn="l" pos="1828800"/>
                                                      <a:tab algn="l" pos="2743200"/>
                                                      <a:tab algn="l" pos="3657600"/>
                                                      <a:tab algn="l" pos="4572000"/>
                                                      <a:tab algn="l" pos="5486400"/>
                                                      <a:tab algn="l" pos="6400800"/>
                                                      <a:tab algn="l" pos="7315200"/>
                                                      <a:tab algn="l" pos="8229600"/>
                                                      <a:tab algn="l" pos="9144000"/>
                                                      <a:tab algn="l" pos="10058400"/>
                                                    </a:tabLst>
                                                  </a:pPr>
                                                  <a:r>
                                                    <a:rPr b="1" lang="ru-RU" sz="26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Calibri"/>
                                                      <a:ea typeface="Calibri"/>
                                                    </a:rPr>
                                                    <a:t>д</a:t>
                                                  </a:r>
                                                  <a:endParaRPr b="0" lang="en-US" sz="26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Calibri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186" name="Группа 62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284720" y="2229480"/>
                                                <a:ext cx="4575240" cy="487080"/>
                                                <a:chOff x="4284720" y="2229480"/>
                                                <a:chExt cx="4575240" cy="48708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187" name="Группа 63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284720" y="2229480"/>
                                                  <a:ext cx="4575240" cy="487080"/>
                                                  <a:chOff x="4284720" y="2229480"/>
                                                  <a:chExt cx="4575240" cy="48708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188" name="Группа 65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4284720" y="2229480"/>
                                                    <a:ext cx="4575240" cy="487080"/>
                                                    <a:chOff x="4284720" y="2229480"/>
                                                    <a:chExt cx="4575240" cy="48708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189" name="Группа 67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4284720" y="2229480"/>
                                                      <a:ext cx="4575240" cy="487080"/>
                                                      <a:chOff x="4284720" y="2229480"/>
                                                      <a:chExt cx="4575240" cy="48708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190" name="Группа 69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4284720" y="2229480"/>
                                                        <a:ext cx="4575240" cy="487080"/>
                                                        <a:chOff x="4284720" y="2229480"/>
                                                        <a:chExt cx="4575240" cy="48708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191" name="Группа 71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4284720" y="2229480"/>
                                                          <a:ext cx="4575240" cy="487080"/>
                                                          <a:chOff x="4284720" y="2229480"/>
                                                          <a:chExt cx="4575240" cy="48708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192" name="Группа 73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4284720" y="2229480"/>
                                                            <a:ext cx="4575240" cy="487080"/>
                                                            <a:chOff x="4284720" y="2229480"/>
                                                            <a:chExt cx="4575240" cy="487080"/>
                                                          </a:xfrm>
                                                        </p:grpSpPr>
                                                        <p:grpSp>
                                                          <p:nvGrpSpPr>
                                                            <p:cNvPr id="193" name="Группа 75"/>
                                                            <p:cNvGrpSpPr/>
                                                            <p:nvPr/>
                                                          </p:nvGrpSpPr>
                                                          <p:grpSpPr>
                                                            <a:xfrm>
                                                              <a:off x="4284720" y="2229480"/>
                                                              <a:ext cx="4575240" cy="487080"/>
                                                              <a:chOff x="4284720" y="2229480"/>
                                                              <a:chExt cx="4575240" cy="487080"/>
                                                            </a:xfrm>
                                                          </p:grpSpPr>
                                                          <p:grpSp>
                                                            <p:nvGrpSpPr>
                                                              <p:cNvPr id="194" name="Группа 77"/>
                                                              <p:cNvGrpSpPr/>
                                                              <p:nvPr/>
                                                            </p:nvGrpSpPr>
                                                            <p:grpSpPr>
                                                              <a:xfrm>
                                                                <a:off x="4284720" y="2229480"/>
                                                                <a:ext cx="4575240" cy="487080"/>
                                                                <a:chOff x="4284720" y="2229480"/>
                                                                <a:chExt cx="4575240" cy="487080"/>
                                                              </a:xfrm>
                                                            </p:grpSpPr>
                                                            <p:grpSp>
                                                              <p:nvGrpSpPr>
                                                                <p:cNvPr id="195" name="Группа 79"/>
                                                                <p:cNvGrpSpPr/>
                                                                <p:nvPr/>
                                                              </p:nvGrpSpPr>
                                                              <p:grpSpPr>
                                                                <a:xfrm>
                                                                  <a:off x="4284720" y="2229480"/>
                                                                  <a:ext cx="4575240" cy="487080"/>
                                                                  <a:chOff x="4284720" y="2229480"/>
                                                                  <a:chExt cx="4575240" cy="487080"/>
                                                                </a:xfrm>
                                                              </p:grpSpPr>
                                                              <p:sp>
                                                                <p:nvSpPr>
                                                                  <p:cNvPr id="196" name="Прямоугольник 81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428472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97" name="Прямоугольник 82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479268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98" name="Прямоугольник 83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5302080" y="2229480"/>
                                                                    <a:ext cx="5061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199" name="Прямоугольник 84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581040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200" name="Прямоугольник 85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631836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201" name="Прямоугольник 86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682632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202" name="Прямоугольник 87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7336080" y="2229480"/>
                                                                    <a:ext cx="5061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203" name="Прямоугольник 88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784404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  <p:sp>
                                                                <p:nvSpPr>
                                                                  <p:cNvPr id="204" name="Прямоугольник 89"/>
                                                                  <p:cNvSpPr/>
                                                                  <p:nvPr/>
                                                                </p:nvSpPr>
                                                                <p:spPr>
                                                                  <a:xfrm>
                                                                    <a:off x="8352000" y="2229480"/>
                                                                    <a:ext cx="507960" cy="487080"/>
                                                                  </a:xfrm>
                                                                  <a:prstGeom prst="rect">
                                                                    <a:avLst/>
                                                                  </a:prstGeom>
                                                                  <a:solidFill>
                                                                    <a:srgbClr val="ffffff"/>
                                                                  </a:solidFill>
                                                                  <a:ln w="25560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miter/>
                                                                  </a:ln>
                                                                </p:spPr>
                                                                <p:style>
                                                                  <a:lnRef idx="0"/>
                                                                  <a:fillRef idx="0"/>
                                                                  <a:effectRef idx="0"/>
                                                                  <a:fontRef idx="minor"/>
                                                                </p:style>
                                                                <p:txBody>
                                                                  <a:bodyPr lIns="90000" rIns="90000" tIns="46800" bIns="46800" anchor="ctr">
                                                                    <a:noAutofit/>
                                                                  </a:bodyPr>
                                                                  <a:p>
                                                                    <a:pPr>
                                                                      <a:tabLst>
                                                                        <a:tab algn="l" pos="0"/>
                                                                        <a:tab algn="l" pos="914400"/>
                                                                        <a:tab algn="l" pos="1828800"/>
                                                                        <a:tab algn="l" pos="2743200"/>
                                                                        <a:tab algn="l" pos="3657600"/>
                                                                        <a:tab algn="l" pos="4572000"/>
                                                                        <a:tab algn="l" pos="5486400"/>
                                                                        <a:tab algn="l" pos="6400800"/>
                                                                        <a:tab algn="l" pos="7315200"/>
                                                                        <a:tab algn="l" pos="8229600"/>
                                                                        <a:tab algn="l" pos="9144000"/>
                                                                        <a:tab algn="l" pos="10058400"/>
                                                                      </a:tabLst>
                                                                    </a:pPr>
                                                                    <a:endParaRPr b="0" lang="en-US" sz="18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</a:endParaRPr>
                                                                  </a:p>
                                                                </p:txBody>
                                                              </p:sp>
                                                            </p:grpSp>
                                                            <p:sp>
                                                              <p:nvSpPr>
                                                                <p:cNvPr id="205" name="Надпись 2"/>
                                                                <p:cNvSpPr/>
                                                                <p:nvPr/>
                                                              </p:nvSpPr>
                                                              <p:spPr>
                                                                <a:xfrm>
                                                                  <a:off x="4348800" y="2274480"/>
                                                                  <a:ext cx="328680" cy="400680"/>
                                                                </a:xfrm>
                                                                <a:prstGeom prst="rect">
                                                                  <a:avLst/>
                                                                </a:prstGeom>
                                                                <a:solidFill>
                                                                  <a:srgbClr val="ffffff"/>
                                                                </a:solidFill>
                                                                <a:ln w="0">
                                                                  <a:noFill/>
                                                                </a:ln>
                                                              </p:spPr>
                                                              <p:style>
                                                                <a:lnRef idx="0"/>
                                                                <a:fillRef idx="0"/>
                                                                <a:effectRef idx="0"/>
                                                                <a:fontRef idx="minor"/>
                                                              </p:style>
                                                              <p:txBody>
                                                                <a:bodyPr lIns="90000" rIns="90000" tIns="46800" bIns="46800" anchor="t">
                                                                  <a:noAutofit/>
                                                                </a:bodyPr>
                                                                <a:p>
                                                                  <a:pPr>
                                                                    <a:lnSpc>
                                                                      <a:spcPct val="115000"/>
                                                                    </a:lnSpc>
                                                                    <a:spcAft>
                                                                      <a:spcPts val="1001"/>
                                                                    </a:spcAft>
                                                                    <a:tabLst>
                                                                      <a:tab algn="l" pos="0"/>
                                                                      <a:tab algn="l" pos="914400"/>
                                                                      <a:tab algn="l" pos="1828800"/>
                                                                      <a:tab algn="l" pos="2743200"/>
                                                                      <a:tab algn="l" pos="3657600"/>
                                                                      <a:tab algn="l" pos="4572000"/>
                                                                      <a:tab algn="l" pos="5486400"/>
                                                                      <a:tab algn="l" pos="6400800"/>
                                                                      <a:tab algn="l" pos="7315200"/>
                                                                      <a:tab algn="l" pos="8229600"/>
                                                                      <a:tab algn="l" pos="9144000"/>
                                                                      <a:tab algn="l" pos="10058400"/>
                                                                    </a:tabLst>
                                                                  </a:pPr>
                                                                  <a:r>
                                                                    <a:rPr b="1" lang="ru-RU" sz="2600" spc="-1" strike="noStrike">
                                                                      <a:solidFill>
                                                                        <a:srgbClr val="000000"/>
                                                                      </a:solidFill>
                                                                      <a:latin typeface="Calibri"/>
                                                                      <a:ea typeface="Calibri"/>
                                                                    </a:rPr>
                                                                    <a:t>а</a:t>
                                                                  </a:r>
                                                                  <a:endParaRPr b="0" lang="en-US" sz="2600" spc="-1" strike="noStrike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latin typeface="Calibri"/>
                                                                  </a:endParaRPr>
                                                                </a:p>
                                                              </p:txBody>
                                                            </p:sp>
                                                          </p:grpSp>
                                                          <p:sp>
                                                            <p:nvSpPr>
                                                              <p:cNvPr id="206" name="Надпись 2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>
                                                                <a:off x="4878720" y="2291400"/>
                                                                <a:ext cx="328680" cy="400680"/>
                                                              </a:xfrm>
                                                              <a:prstGeom prst="rect">
                                                                <a:avLst/>
                                                              </a:prstGeom>
                                                              <a:solidFill>
                                                                <a:srgbClr val="ffffff"/>
                                                              </a:solidFill>
                                                              <a:ln w="0">
                                                                <a:noFill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pPr>
                                                                  <a:lnSpc>
                                                                    <a:spcPct val="115000"/>
                                                                  </a:lnSpc>
                                                                  <a:spcAft>
                                                                    <a:spcPts val="1001"/>
                                                                  </a:spcAft>
                                                                  <a:tabLst>
                                                                    <a:tab algn="l" pos="0"/>
                                                                    <a:tab algn="l" pos="914400"/>
                                                                    <a:tab algn="l" pos="1828800"/>
                                                                    <a:tab algn="l" pos="2743200"/>
                                                                    <a:tab algn="l" pos="3657600"/>
                                                                    <a:tab algn="l" pos="4572000"/>
                                                                    <a:tab algn="l" pos="5486400"/>
                                                                    <a:tab algn="l" pos="6400800"/>
                                                                    <a:tab algn="l" pos="7315200"/>
                                                                    <a:tab algn="l" pos="8229600"/>
                                                                    <a:tab algn="l" pos="9144000"/>
                                                                    <a:tab algn="l" pos="10058400"/>
                                                                  </a:tabLst>
                                                                </a:pPr>
                                                                <a:r>
                                                                  <a:rPr b="1" lang="ru-RU" sz="2600" spc="-1" strike="noStrike">
                                                                    <a:solidFill>
                                                                      <a:srgbClr val="000000"/>
                                                                    </a:solidFill>
                                                                    <a:latin typeface="Calibri"/>
                                                                    <a:ea typeface="Calibri"/>
                                                                  </a:rPr>
                                                                  <a:t>в</a:t>
                                                                </a:r>
                                                                <a:endParaRPr b="0" lang="en-US" sz="26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Calibri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</p:grpSp>
                                                        <p:sp>
                                                          <p:nvSpPr>
                                                            <p:cNvPr id="207" name="Надпись 2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424480" y="2291400"/>
                                                              <a:ext cx="328680" cy="4006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ffffff"/>
                                                            </a:solidFill>
                                                            <a:ln w="0">
                                                              <a:noFill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pPr>
                                                                <a:lnSpc>
                                                                  <a:spcPct val="115000"/>
                                                                </a:lnSpc>
                                                                <a:spcAft>
                                                                  <a:spcPts val="1001"/>
                                                                </a:spcAft>
                                                                <a:tabLst>
                                                                  <a:tab algn="l" pos="0"/>
                                                                  <a:tab algn="l" pos="914400"/>
                                                                  <a:tab algn="l" pos="1828800"/>
                                                                  <a:tab algn="l" pos="2743200"/>
                                                                  <a:tab algn="l" pos="3657600"/>
                                                                  <a:tab algn="l" pos="4572000"/>
                                                                  <a:tab algn="l" pos="5486400"/>
                                                                  <a:tab algn="l" pos="6400800"/>
                                                                  <a:tab algn="l" pos="7315200"/>
                                                                  <a:tab algn="l" pos="8229600"/>
                                                                  <a:tab algn="l" pos="9144000"/>
                                                                  <a:tab algn="l" pos="10058400"/>
                                                                </a:tabLst>
                                                              </a:pPr>
                                                              <a:r>
                                                                <a:rPr b="1" lang="ru-RU" sz="26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Calibri"/>
                                                                  <a:ea typeface="Calibri"/>
                                                                </a:rPr>
                                                                <a:t>с</a:t>
                                                              </a:r>
                                                              <a:endParaRPr b="0" lang="en-US" sz="26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Calibri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208" name="Надпись 2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916960" y="2308320"/>
                                                            <a:ext cx="328680" cy="4006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ffffff"/>
                                                          </a:solidFill>
                                                          <a:ln w="0">
                                                            <a:noFill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pPr>
                                                              <a:lnSpc>
                                                                <a:spcPct val="115000"/>
                                                              </a:lnSpc>
                                                              <a:spcAft>
                                                                <a:spcPts val="1001"/>
                                                              </a:spcAft>
                                                              <a:tabLst>
                                                                <a:tab algn="l" pos="0"/>
                                                                <a:tab algn="l" pos="914400"/>
                                                                <a:tab algn="l" pos="1828800"/>
                                                                <a:tab algn="l" pos="2743200"/>
                                                                <a:tab algn="l" pos="3657600"/>
                                                                <a:tab algn="l" pos="4572000"/>
                                                                <a:tab algn="l" pos="5486400"/>
                                                                <a:tab algn="l" pos="6400800"/>
                                                                <a:tab algn="l" pos="7315200"/>
                                                                <a:tab algn="l" pos="8229600"/>
                                                                <a:tab algn="l" pos="9144000"/>
                                                                <a:tab algn="l" pos="10058400"/>
                                                              </a:tabLst>
                                                            </a:pPr>
                                                            <a:r>
                                                              <a:rPr b="1" lang="ru-RU" sz="26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Calibri"/>
                                                                <a:ea typeface="Calibri"/>
                                                              </a:rPr>
                                                              <a:t>т</a:t>
                                                            </a:r>
                                                            <a:endParaRPr b="0" lang="en-US" sz="26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Calibri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209" name="Надпись 2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6436080" y="2296800"/>
                                                          <a:ext cx="328680" cy="4006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ffffff"/>
                                                        </a:solidFill>
                                                        <a:ln w="0">
                                                          <a:noFill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pPr>
                                                            <a:lnSpc>
                                                              <a:spcPct val="115000"/>
                                                            </a:lnSpc>
                                                            <a:spcAft>
                                                              <a:spcPts val="1001"/>
                                                            </a:spcAft>
                                                            <a:tabLst>
                                                              <a:tab algn="l" pos="0"/>
                                                              <a:tab algn="l" pos="914400"/>
                                                              <a:tab algn="l" pos="1828800"/>
                                                              <a:tab algn="l" pos="2743200"/>
                                                              <a:tab algn="l" pos="3657600"/>
                                                              <a:tab algn="l" pos="4572000"/>
                                                              <a:tab algn="l" pos="5486400"/>
                                                              <a:tab algn="l" pos="6400800"/>
                                                              <a:tab algn="l" pos="7315200"/>
                                                              <a:tab algn="l" pos="8229600"/>
                                                              <a:tab algn="l" pos="9144000"/>
                                                              <a:tab algn="l" pos="10058400"/>
                                                            </a:tabLst>
                                                          </a:pPr>
                                                          <a:r>
                                                            <a:rPr b="1" lang="ru-RU" sz="26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Calibri"/>
                                                              <a:ea typeface="Calibri"/>
                                                            </a:rPr>
                                                            <a:t>в</a:t>
                                                          </a:r>
                                                          <a:endParaRPr b="0" lang="en-US" sz="26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Calibri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210" name="Надпись 2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6928560" y="2274480"/>
                                                        <a:ext cx="328680" cy="32796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ffffff"/>
                                                      </a:solidFill>
                                                      <a:ln w="0">
                                                        <a:noFill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pPr>
                                                          <a:lnSpc>
                                                            <a:spcPct val="115000"/>
                                                          </a:lnSpc>
                                                          <a:spcAft>
                                                            <a:spcPts val="1001"/>
                                                          </a:spcAft>
                                                          <a:tabLst>
                                                            <a:tab algn="l" pos="0"/>
                                                            <a:tab algn="l" pos="914400"/>
                                                            <a:tab algn="l" pos="1828800"/>
                                                            <a:tab algn="l" pos="2743200"/>
                                                            <a:tab algn="l" pos="3657600"/>
                                                            <a:tab algn="l" pos="4572000"/>
                                                            <a:tab algn="l" pos="5486400"/>
                                                            <a:tab algn="l" pos="6400800"/>
                                                            <a:tab algn="l" pos="7315200"/>
                                                            <a:tab algn="l" pos="8229600"/>
                                                            <a:tab algn="l" pos="9144000"/>
                                                            <a:tab algn="l" pos="10058400"/>
                                                          </a:tabLst>
                                                        </a:pPr>
                                                        <a:r>
                                                          <a:rPr b="1" lang="ru-RU" sz="26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Calibri"/>
                                                            <a:ea typeface="Calibri"/>
                                                          </a:rPr>
                                                          <a:t>у</a:t>
                                                        </a:r>
                                                        <a:endParaRPr b="0" lang="en-US" sz="26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Calibri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211" name="Надпись 2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453080" y="2274480"/>
                                                      <a:ext cx="328680" cy="4006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ffffff"/>
                                                    </a:solidFill>
                                                    <a:ln w="0">
                                                      <a:noFill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pPr>
                                                        <a:lnSpc>
                                                          <a:spcPct val="115000"/>
                                                        </a:lnSpc>
                                                        <a:spcAft>
                                                          <a:spcPts val="1001"/>
                                                        </a:spcAft>
                                                        <a:tabLst>
                                                          <a:tab algn="l" pos="0"/>
                                                          <a:tab algn="l" pos="914400"/>
                                                          <a:tab algn="l" pos="1828800"/>
                                                          <a:tab algn="l" pos="2743200"/>
                                                          <a:tab algn="l" pos="3657600"/>
                                                          <a:tab algn="l" pos="4572000"/>
                                                          <a:tab algn="l" pos="5486400"/>
                                                          <a:tab algn="l" pos="6400800"/>
                                                          <a:tab algn="l" pos="7315200"/>
                                                          <a:tab algn="l" pos="8229600"/>
                                                          <a:tab algn="l" pos="9144000"/>
                                                          <a:tab algn="l" pos="10058400"/>
                                                        </a:tabLst>
                                                      </a:pPr>
                                                      <a:r>
                                                        <a:rPr b="1" lang="ru-RU" sz="26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Calibri"/>
                                                          <a:ea typeface="Calibri"/>
                                                        </a:rPr>
                                                        <a:t>й</a:t>
                                                      </a:r>
                                                      <a:endParaRPr b="0" lang="en-US" sz="26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Calibri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212" name="Надпись 2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940160" y="2285640"/>
                                                    <a:ext cx="328680" cy="40068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ffffff"/>
                                                  </a:solidFill>
                                                  <a:ln w="0">
                                                    <a:noFill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pPr>
                                                      <a:lnSpc>
                                                        <a:spcPct val="115000"/>
                                                      </a:lnSpc>
                                                      <a:spcAft>
                                                        <a:spcPts val="1001"/>
                                                      </a:spcAft>
                                                      <a:tabLst>
                                                        <a:tab algn="l" pos="0"/>
                                                        <a:tab algn="l" pos="914400"/>
                                                        <a:tab algn="l" pos="1828800"/>
                                                        <a:tab algn="l" pos="2743200"/>
                                                        <a:tab algn="l" pos="3657600"/>
                                                        <a:tab algn="l" pos="4572000"/>
                                                        <a:tab algn="l" pos="5486400"/>
                                                        <a:tab algn="l" pos="6400800"/>
                                                        <a:tab algn="l" pos="7315200"/>
                                                        <a:tab algn="l" pos="8229600"/>
                                                        <a:tab algn="l" pos="9144000"/>
                                                        <a:tab algn="l" pos="10058400"/>
                                                      </a:tabLst>
                                                    </a:pPr>
                                                    <a:r>
                                                      <a:rPr b="1" lang="ru-RU" sz="26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Calibri"/>
                                                        <a:ea typeface="Calibri"/>
                                                      </a:rPr>
                                                      <a:t>т</a:t>
                                                    </a:r>
                                                    <a:endParaRPr b="0" lang="en-US" sz="26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Calibri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213" name="Надпись 2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8437680" y="2274480"/>
                                                  <a:ext cx="328680" cy="40068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ffffff"/>
                                                </a:solidFill>
                                                <a:ln w="0">
                                                  <a:noFill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pPr>
                                                    <a:lnSpc>
                                                      <a:spcPct val="115000"/>
                                                    </a:lnSpc>
                                                    <a:spcAft>
                                                      <a:spcPts val="1001"/>
                                                    </a:spcAft>
                                                    <a:tabLst>
                                                      <a:tab algn="l" pos="0"/>
                                                      <a:tab algn="l" pos="914400"/>
                                                      <a:tab algn="l" pos="1828800"/>
                                                      <a:tab algn="l" pos="2743200"/>
                                                      <a:tab algn="l" pos="3657600"/>
                                                      <a:tab algn="l" pos="4572000"/>
                                                      <a:tab algn="l" pos="5486400"/>
                                                      <a:tab algn="l" pos="6400800"/>
                                                      <a:tab algn="l" pos="7315200"/>
                                                      <a:tab algn="l" pos="8229600"/>
                                                      <a:tab algn="l" pos="9144000"/>
                                                      <a:tab algn="l" pos="10058400"/>
                                                    </a:tabLst>
                                                  </a:pPr>
                                                  <a:r>
                                                    <a:rPr b="1" lang="ru-RU" sz="26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Calibri"/>
                                                      <a:ea typeface="Calibri"/>
                                                    </a:rPr>
                                                    <a:t>е</a:t>
                                                  </a:r>
                                                  <a:endParaRPr b="0" lang="en-US" sz="26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Calibri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</p:grpSp>
                                    </p:grpSp>
                                    <p:sp>
                                      <p:nvSpPr>
                                        <p:cNvPr id="214" name="Надпись 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4354560" y="2764440"/>
                                          <a:ext cx="328680" cy="400680"/>
                                        </a:xfrm>
                                        <a:prstGeom prst="rect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lnSpc>
                                              <a:spcPct val="115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1" lang="ru-RU" sz="26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Calibri"/>
                                              <a:ea typeface="Calibri"/>
                                            </a:rPr>
                                            <a:t>р</a:t>
                                          </a:r>
                                          <a:endParaRPr b="0" lang="en-US" sz="26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alibri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215" name="Надпись 2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878720" y="2764440"/>
                                        <a:ext cx="328680" cy="400680"/>
                                      </a:xfrm>
                                      <a:prstGeom prst="rect">
                                        <a:avLst/>
                                      </a:prstGeom>
                                      <a:solidFill>
                                        <a:srgbClr val="ffffff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lnSpc>
                                            <a:spcPct val="115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ru-RU" sz="26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alibri"/>
                                            <a:ea typeface="Calibri"/>
                                          </a:rPr>
                                          <a:t>е</a:t>
                                        </a:r>
                                        <a:endParaRPr b="0" lang="en-US" sz="2600" spc="-1" strike="noStrike">
                                          <a:solidFill>
                                            <a:srgbClr val="000000"/>
                                          </a:solidFill>
                                          <a:latin typeface="Calibri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216" name="Надпись 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419440" y="2758680"/>
                                      <a:ext cx="328680" cy="40068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ffffff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lnSpc>
                                          <a:spcPct val="115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ru-RU" sz="2600" spc="-1" strike="noStrike">
                                          <a:solidFill>
                                            <a:srgbClr val="000000"/>
                                          </a:solidFill>
                                          <a:latin typeface="Calibri"/>
                                          <a:ea typeface="Calibri"/>
                                        </a:rPr>
                                        <a:t>к</a:t>
                                      </a:r>
                                      <a:endParaRPr b="0" lang="en-US" sz="2600" spc="-1" strike="noStrike">
                                        <a:solidFill>
                                          <a:srgbClr val="000000"/>
                                        </a:solidFill>
                                        <a:latin typeface="Calibri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217" name="Надпись 2"/>
                                  <p:cNvSpPr/>
                                  <p:nvPr/>
                                </p:nvSpPr>
                                <p:spPr>
                                  <a:xfrm>
                                    <a:off x="5938560" y="2758680"/>
                                    <a:ext cx="328680" cy="40068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fff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15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2600" spc="-1" strike="noStrike">
                                        <a:solidFill>
                                          <a:srgbClr val="000000"/>
                                        </a:solidFill>
                                        <a:latin typeface="Calibri"/>
                                        <a:ea typeface="Calibri"/>
                                      </a:rPr>
                                      <a:t>р</a:t>
                                    </a:r>
                                    <a:endParaRPr b="0" lang="en-US" sz="2600" spc="-1" strike="noStrike">
                                      <a:solidFill>
                                        <a:srgbClr val="000000"/>
                                      </a:solidFill>
                                      <a:latin typeface="Calibri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18" name="Надпись 2"/>
                                <p:cNvSpPr/>
                                <p:nvPr/>
                              </p:nvSpPr>
                              <p:spPr>
                                <a:xfrm>
                                  <a:off x="6404040" y="2764440"/>
                                  <a:ext cx="328680" cy="4006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>
                                    <a:lnSpc>
                                      <a:spcPct val="115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600" spc="-1" strike="noStrike">
                                      <a:solidFill>
                                        <a:srgbClr val="000000"/>
                                      </a:solidFill>
                                      <a:latin typeface="Calibri"/>
                                      <a:ea typeface="Calibri"/>
                                    </a:rPr>
                                    <a:t>а</a:t>
                                  </a:r>
                                  <a:endParaRPr b="0" lang="en-US" sz="26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19" name="Надпись 2"/>
                              <p:cNvSpPr/>
                              <p:nvPr/>
                            </p:nvSpPr>
                            <p:spPr>
                              <a:xfrm>
                                <a:off x="6928560" y="2758680"/>
                                <a:ext cx="328680" cy="40068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lnSpc>
                                    <a:spcPct val="115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600" spc="-1" strike="noStrike">
                                    <a:solidFill>
                                      <a:srgbClr val="000000"/>
                                    </a:solidFill>
                                    <a:latin typeface="Calibri"/>
                                    <a:ea typeface="Calibri"/>
                                  </a:rPr>
                                  <a:t>с</a:t>
                                </a:r>
                                <a:endParaRPr b="0" lang="en-US" sz="2600" spc="-1" strike="noStrike">
                                  <a:solidFill>
                                    <a:srgbClr val="000000"/>
                                  </a:solidFill>
                                  <a:latin typeface="Calibri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20" name="Надпись 2"/>
                            <p:cNvSpPr/>
                            <p:nvPr/>
                          </p:nvSpPr>
                          <p:spPr>
                            <a:xfrm>
                              <a:off x="7453080" y="2764440"/>
                              <a:ext cx="328680" cy="40068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15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ru-RU" sz="2600" spc="-1" strike="noStrike">
                                  <a:solidFill>
                                    <a:srgbClr val="000000"/>
                                  </a:solidFill>
                                  <a:latin typeface="Calibri"/>
                                  <a:ea typeface="Calibri"/>
                                </a:rPr>
                                <a:t>н</a:t>
                              </a:r>
                              <a:endParaRPr b="0" lang="en-US" sz="26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21" name="Надпись 2"/>
                          <p:cNvSpPr/>
                          <p:nvPr/>
                        </p:nvSpPr>
                        <p:spPr>
                          <a:xfrm>
                            <a:off x="7940160" y="2781360"/>
                            <a:ext cx="328680" cy="40068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lnSpc>
                                <a:spcPct val="115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600" spc="-1" strike="noStrike">
                                <a:solidFill>
                                  <a:srgbClr val="000000"/>
                                </a:solidFill>
                                <a:latin typeface="Calibri"/>
                                <a:ea typeface="Calibri"/>
                              </a:rPr>
                              <a:t>ы</a:t>
                            </a:r>
                            <a:endParaRPr b="0" lang="en-US" sz="26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sp>
                      <p:nvSpPr>
                        <p:cNvPr id="222" name="Надпись 2"/>
                        <p:cNvSpPr/>
                        <p:nvPr/>
                      </p:nvSpPr>
                      <p:spPr>
                        <a:xfrm>
                          <a:off x="8437680" y="2758680"/>
                          <a:ext cx="328680" cy="4006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15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26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Calibri"/>
                            </a:rPr>
                            <a:t>й</a:t>
                          </a:r>
                          <a:endParaRPr b="0" lang="en-US" sz="2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223" name="Надпись 2"/>
                      <p:cNvSpPr/>
                      <p:nvPr/>
                    </p:nvSpPr>
                    <p:spPr>
                      <a:xfrm>
                        <a:off x="4375800" y="3760920"/>
                        <a:ext cx="328680" cy="400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15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600" spc="-1" strike="noStrike">
                            <a:solidFill>
                              <a:srgbClr val="000000"/>
                            </a:solidFill>
                            <a:latin typeface="Calibri"/>
                            <a:ea typeface="Calibri"/>
                          </a:rPr>
                          <a:t>а</a:t>
                        </a:r>
                        <a:endPara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224" name="Надпись 2"/>
                    <p:cNvSpPr/>
                    <p:nvPr/>
                  </p:nvSpPr>
                  <p:spPr>
                    <a:xfrm>
                      <a:off x="4878720" y="3760920"/>
                      <a:ext cx="328680" cy="400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25" name="Надпись 2"/>
                  <p:cNvSpPr/>
                  <p:nvPr/>
                </p:nvSpPr>
                <p:spPr>
                  <a:xfrm>
                    <a:off x="5419440" y="3766680"/>
                    <a:ext cx="328680" cy="400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6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26" name="Надпись 2"/>
                <p:cNvSpPr/>
                <p:nvPr/>
              </p:nvSpPr>
              <p:spPr>
                <a:xfrm>
                  <a:off x="5916960" y="3755520"/>
                  <a:ext cx="328680" cy="400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6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д</a:t>
                  </a:r>
                  <a:endParaRPr b="0" lang="en-US" sz="2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7" name="Надпись 2"/>
              <p:cNvSpPr/>
              <p:nvPr/>
            </p:nvSpPr>
            <p:spPr>
              <a:xfrm>
                <a:off x="4402440" y="4228560"/>
                <a:ext cx="328680" cy="40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в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8" name="Группа 14"/>
            <p:cNvGrpSpPr/>
            <p:nvPr/>
          </p:nvGrpSpPr>
          <p:grpSpPr>
            <a:xfrm>
              <a:off x="228600" y="4177800"/>
              <a:ext cx="507600" cy="487080"/>
              <a:chOff x="228600" y="4177800"/>
              <a:chExt cx="507600" cy="487080"/>
            </a:xfrm>
          </p:grpSpPr>
          <p:sp>
            <p:nvSpPr>
              <p:cNvPr id="229" name="Прямоугольник 15"/>
              <p:cNvSpPr/>
              <p:nvPr/>
            </p:nvSpPr>
            <p:spPr>
              <a:xfrm>
                <a:off x="228600" y="4177800"/>
                <a:ext cx="507600" cy="48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Надпись 2"/>
              <p:cNvSpPr/>
              <p:nvPr/>
            </p:nvSpPr>
            <p:spPr>
              <a:xfrm>
                <a:off x="356760" y="4227840"/>
                <a:ext cx="328320" cy="40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к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3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TextBox 4" descr=""/>
          <p:cNvPicPr/>
          <p:nvPr/>
        </p:nvPicPr>
        <p:blipFill>
          <a:blip r:embed="rId2"/>
          <a:stretch/>
        </p:blipFill>
        <p:spPr>
          <a:xfrm>
            <a:off x="158760" y="201600"/>
            <a:ext cx="8862840" cy="3243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"/>
          <p:cNvPicPr/>
          <p:nvPr/>
        </p:nvPicPr>
        <p:blipFill>
          <a:blip r:embed="rId3"/>
          <a:stretch/>
        </p:blipFill>
        <p:spPr>
          <a:xfrm>
            <a:off x="2249640" y="3429000"/>
            <a:ext cx="46447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инамическая пауза с мыслительной нагруз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.р. – 1 ряд, ж.р. – 2 ряд, с.р. – 3 ря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брый                   заботлив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лосердная        любим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зывчивое             радостн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рпеливые             ласков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216000" y="509760"/>
            <a:ext cx="8712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1. Младший брат порвал твою кни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) Ты прощаешь 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) Ты ударяешь е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2. Ты поссорился с друг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) Ты попытаешься объясн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) Ты обижаешься и мстиш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3. С тобой поступают жесто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) Ты отвечаешь тем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) Ты говоришь «нет» и стремишься заруч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мощ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4) Ты недоволен со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) Ты говоришь, что людей без недостатков 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ыв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) Ты сваливаешь всё на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1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82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2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2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2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96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08:35:10Z</dcterms:created>
  <dc:creator>Татьяна</dc:creator>
  <dc:description/>
  <dc:language>en-US</dc:language>
  <cp:lastModifiedBy>Татьяна</cp:lastModifiedBy>
  <dcterms:modified xsi:type="dcterms:W3CDTF">2016-11-13T10:38:15Z</dcterms:modified>
  <cp:revision>9</cp:revision>
  <dc:subject/>
  <dc:title>Презентация PowerPoint</dc:title>
</cp:coreProperties>
</file>