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2FE7-1DAE-4EE8-BF43-1BA17E96D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CE83-06F1-4E84-9F9B-EBD708266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5B73-E2A7-40C3-8AEC-46A523AC4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107E-ED51-4177-9D44-824952114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189F-429F-4EEA-8AC1-7F24EE51A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478C-8CBC-4A86-85ED-315487B5A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DAF1-3AF3-42D1-88FA-747DF23D4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E949-04B0-4E63-94AE-B14A61BB0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E9EE-8B7B-494F-9CC3-D06935452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AFBE-E9B1-4AC4-B535-64542F90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811B-D10C-4696-9C81-0CC05B05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3565-644A-4D6C-A724-C0E03D6B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D9176-09B7-46C9-872F-B9A5BD070D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253800" y="260280"/>
            <a:ext cx="8893440" cy="33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000000"/>
                </a:solidFill>
                <a:latin typeface="Calibri"/>
              </a:rPr>
              <a:t>Интегрированный урок 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000000"/>
                </a:solidFill>
                <a:latin typeface="Calibri"/>
              </a:rPr>
              <a:t>по русскому языку и развитию речи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000000"/>
                </a:solidFill>
                <a:latin typeface="Calibri"/>
              </a:rPr>
              <a:t>«Правописание родовых 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000000"/>
                </a:solidFill>
                <a:latin typeface="Calibri"/>
              </a:rPr>
              <a:t>окончаний имен прилагательных. 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000000"/>
                </a:solidFill>
                <a:latin typeface="Calibri"/>
              </a:rPr>
              <a:t>Толерантность»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5" descr=""/>
          <p:cNvPicPr/>
          <p:nvPr/>
        </p:nvPicPr>
        <p:blipFill>
          <a:blip r:embed="rId2"/>
          <a:stretch/>
        </p:blipFill>
        <p:spPr>
          <a:xfrm>
            <a:off x="2717640" y="3944880"/>
            <a:ext cx="4375440" cy="2913120"/>
          </a:xfrm>
          <a:prstGeom prst="rect">
            <a:avLst/>
          </a:prstGeom>
          <a:ln w="0">
            <a:noFill/>
          </a:ln>
        </p:spPr>
      </p:pic>
      <p:pic>
        <p:nvPicPr>
          <p:cNvPr id="46" name="клевая музыка - Спокойная мелодия....mp3" descr=""/>
          <p:cNvPicPr/>
          <p:nvPr/>
        </p:nvPicPr>
        <p:blipFill>
          <a:blip r:embed="rId3"/>
          <a:stretch/>
        </p:blipFill>
        <p:spPr>
          <a:xfrm>
            <a:off x="324000" y="6021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246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3"/>
          <p:cNvSpPr/>
          <p:nvPr/>
        </p:nvSpPr>
        <p:spPr>
          <a:xfrm>
            <a:off x="457200" y="554040"/>
            <a:ext cx="822960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Выпишите словосочетания по родам из текс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Доброта – это прежде всего хорошее чувство к окружающим. Дома нас окружают самые дорогие нам люди. Счастье – это здоровая душа, потому что когда человек добрый, он всегда будет счастливы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Рисунок 5" descr=""/>
          <p:cNvPicPr/>
          <p:nvPr/>
        </p:nvPicPr>
        <p:blipFill>
          <a:blip r:embed="rId2"/>
          <a:stretch/>
        </p:blipFill>
        <p:spPr>
          <a:xfrm>
            <a:off x="5694480" y="4923000"/>
            <a:ext cx="3421080" cy="19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28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8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251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3"/>
          <p:cNvSpPr/>
          <p:nvPr/>
        </p:nvSpPr>
        <p:spPr>
          <a:xfrm>
            <a:off x="324000" y="334800"/>
            <a:ext cx="8229600" cy="56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i="1" lang="ru-RU" sz="3200" spc="-1" strike="noStrike">
                <a:solidFill>
                  <a:srgbClr val="cc0000"/>
                </a:solidFill>
                <a:latin typeface="Calibri"/>
              </a:rPr>
              <a:t>Индивидуальное зад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Calibri"/>
              </a:rPr>
              <a:t>Определите род имени прилагательного, выделите оконча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Calibri"/>
              </a:rPr>
              <a:t>       </a:t>
            </a:r>
            <a:r>
              <a:rPr b="1" lang="ru-RU" sz="3200" spc="-1" strike="noStrike">
                <a:solidFill>
                  <a:srgbClr val="009900"/>
                </a:solidFill>
                <a:latin typeface="Calibri"/>
              </a:rPr>
              <a:t>1 карточка                 2 карточ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  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нимательный            равнодуш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праведливая                 жесто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душевное                         зл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добрый                       злоб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ласковая                      ленив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0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2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3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7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255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3"/>
          <p:cNvSpPr/>
          <p:nvPr/>
        </p:nvSpPr>
        <p:spPr>
          <a:xfrm>
            <a:off x="324000" y="404640"/>
            <a:ext cx="864072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Calibri"/>
              </a:rPr>
              <a:t>Составьте и запишите словосочет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i="1" lang="ru-RU" sz="3600" spc="-1" strike="noStrike">
                <a:solidFill>
                  <a:srgbClr val="cc0000"/>
                </a:solidFill>
                <a:latin typeface="Calibri"/>
              </a:rPr>
              <a:t>в соответствии с темой урока со словами</a:t>
            </a:r>
            <a:r>
              <a:rPr b="1" i="1" lang="ru-RU" sz="3600" spc="-1" strike="noStrike">
                <a:solidFill>
                  <a:srgbClr val="898989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Calibri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Солнечн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Мирна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Хороша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Радостные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Рисунок 5" descr=""/>
          <p:cNvPicPr/>
          <p:nvPr/>
        </p:nvPicPr>
        <p:blipFill>
          <a:blip r:embed="rId2"/>
          <a:stretch/>
        </p:blipFill>
        <p:spPr>
          <a:xfrm>
            <a:off x="0" y="3284640"/>
            <a:ext cx="3525840" cy="352584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6" descr=""/>
          <p:cNvPicPr/>
          <p:nvPr/>
        </p:nvPicPr>
        <p:blipFill>
          <a:blip r:embed="rId3"/>
          <a:stretch/>
        </p:blipFill>
        <p:spPr>
          <a:xfrm>
            <a:off x="5932440" y="4157640"/>
            <a:ext cx="3211560" cy="27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8" dur="2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2" dur="2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6" dur="20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0" dur="20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4" dur="20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8" dur="2000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261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Прямоугольник 5"/>
          <p:cNvSpPr/>
          <p:nvPr/>
        </p:nvSpPr>
        <p:spPr>
          <a:xfrm>
            <a:off x="395280" y="2022480"/>
            <a:ext cx="835344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Напишите мини – сочине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по выбору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«Доброта – это…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«Счастье – это….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«Мир – это….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3419640" cy="195408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7" descr=""/>
          <p:cNvPicPr/>
          <p:nvPr/>
        </p:nvPicPr>
        <p:blipFill>
          <a:blip r:embed="rId3"/>
          <a:stretch/>
        </p:blipFill>
        <p:spPr>
          <a:xfrm>
            <a:off x="6053040" y="4797360"/>
            <a:ext cx="309096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267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270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9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223920" y="189000"/>
            <a:ext cx="8812080" cy="56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Calibri"/>
              </a:rPr>
              <a:t>Цели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Calibri"/>
              </a:rPr>
              <a:t>1. Образовательные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формировать навыки правописания окончаний имён прилагательных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развивать умения распознавать имена прилагательные в тексте, устанавливать связь имён прилагательных с именами существительными, определять род, число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Calibri"/>
              </a:rPr>
              <a:t>2. Развивающие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расширять словарный запас учащихся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Calibri"/>
              </a:rPr>
              <a:t>3. Воспитательные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воспитывать чувство гуманного отношения друг к другу, любовь к своей Родине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учить толерантно выражать свои негативные чувства, такие как недовольство, обида, огорчени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1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1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10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10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3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117360" y="873000"/>
            <a:ext cx="885852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Я – свет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Я – любовь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Я – мир и согласи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Я не буду бояться никого и ничего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Я буду делить любовь с теми, кто меня любит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Ибо любовь – всепобеждающая сил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5" descr=""/>
          <p:cNvPicPr/>
          <p:nvPr/>
        </p:nvPicPr>
        <p:blipFill>
          <a:blip r:embed="rId2"/>
          <a:stretch/>
        </p:blipFill>
        <p:spPr>
          <a:xfrm>
            <a:off x="4859280" y="0"/>
            <a:ext cx="428472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9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1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5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8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457200" y="260280"/>
            <a:ext cx="8229600" cy="57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                                           </a:t>
            </a: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Семь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Скругленный прямоугольник 7"/>
          <p:cNvSpPr/>
          <p:nvPr/>
        </p:nvSpPr>
        <p:spPr>
          <a:xfrm>
            <a:off x="611280" y="765000"/>
            <a:ext cx="2749320" cy="1071720"/>
          </a:xfrm>
          <a:prstGeom prst="roundRect">
            <a:avLst>
              <a:gd name="adj" fmla="val 16667"/>
            </a:avLst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дружна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Скругленный прямоугольник 11"/>
          <p:cNvSpPr/>
          <p:nvPr/>
        </p:nvSpPr>
        <p:spPr>
          <a:xfrm>
            <a:off x="2627280" y="2338560"/>
            <a:ext cx="2736720" cy="1069920"/>
          </a:xfrm>
          <a:prstGeom prst="roundRect">
            <a:avLst>
              <a:gd name="adj" fmla="val 16667"/>
            </a:avLst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крепка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Скругленный прямоугольник 12"/>
          <p:cNvSpPr/>
          <p:nvPr/>
        </p:nvSpPr>
        <p:spPr>
          <a:xfrm>
            <a:off x="4572000" y="3860640"/>
            <a:ext cx="2664000" cy="1071720"/>
          </a:xfrm>
          <a:prstGeom prst="roundRect">
            <a:avLst>
              <a:gd name="adj" fmla="val 16667"/>
            </a:avLst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хороша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Скругленный прямоугольник 13"/>
          <p:cNvSpPr/>
          <p:nvPr/>
        </p:nvSpPr>
        <p:spPr>
          <a:xfrm>
            <a:off x="6443640" y="5238720"/>
            <a:ext cx="2700360" cy="1069920"/>
          </a:xfrm>
          <a:prstGeom prst="roundRect">
            <a:avLst>
              <a:gd name="adj" fmla="val 16667"/>
            </a:avLst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любяща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AutoShape 7"/>
          <p:cNvSpPr/>
          <p:nvPr/>
        </p:nvSpPr>
        <p:spPr>
          <a:xfrm rot="10800000">
            <a:off x="-360" y="5373360"/>
            <a:ext cx="5148360" cy="1081080"/>
          </a:xfrm>
          <a:prstGeom prst="wedgeRoundRectCallout">
            <a:avLst>
              <a:gd name="adj1" fmla="val -31171"/>
              <a:gd name="adj2" fmla="val 127972"/>
              <a:gd name="adj3" fmla="val 16667"/>
            </a:avLst>
          </a:prstGeom>
          <a:solidFill>
            <a:srgbClr val="ccc1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ногонациональна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7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d7ff1c2a8152"/>
          <p:cNvPicPr/>
          <p:nvPr/>
        </p:nvPicPr>
        <p:blipFill>
          <a:blip r:embed="rId2"/>
          <a:stretch/>
        </p:blipFill>
        <p:spPr>
          <a:xfrm>
            <a:off x="6032520" y="0"/>
            <a:ext cx="3111480" cy="3068640"/>
          </a:xfrm>
          <a:prstGeom prst="rect">
            <a:avLst/>
          </a:prstGeom>
          <a:ln w="0">
            <a:noFill/>
          </a:ln>
        </p:spPr>
      </p:pic>
      <p:sp>
        <p:nvSpPr>
          <p:cNvPr id="69" name="UpRibbonSharp"/>
          <p:cNvSpPr/>
          <p:nvPr/>
        </p:nvSpPr>
        <p:spPr>
          <a:xfrm>
            <a:off x="0" y="549360"/>
            <a:ext cx="6300720" cy="2735280"/>
          </a:xfrm>
          <a:prstGeom prst="pi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Calibri"/>
              </a:rPr>
              <a:t>«Умей видеть рядом с собой человека, умей читать его душу, увидеть в его глазах радость, беду, несчастье, горе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Calibri"/>
              </a:rPr>
              <a:t>В. Сухомлинск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UpRibbonSharp"/>
          <p:cNvSpPr/>
          <p:nvPr/>
        </p:nvSpPr>
        <p:spPr>
          <a:xfrm>
            <a:off x="2987640" y="3860640"/>
            <a:ext cx="5688000" cy="2521080"/>
          </a:xfrm>
          <a:prstGeom prst="pi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Calibri"/>
              </a:rPr>
              <a:t>«Будем беспощадны к себе и милостивы даже к тем, кто умеет быть снисходительными только к себе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Calibri"/>
              </a:rPr>
              <a:t>           </a:t>
            </a:r>
            <a:r>
              <a:rPr b="1" i="1" lang="ru-RU" sz="2000" spc="-1" strike="noStrike">
                <a:solidFill>
                  <a:srgbClr val="ffff00"/>
                </a:solidFill>
                <a:latin typeface="Calibri"/>
              </a:rPr>
              <a:t>Плин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3" name="Рисунок 3" descr=""/>
          <p:cNvPicPr/>
          <p:nvPr/>
        </p:nvPicPr>
        <p:blipFill>
          <a:blip r:embed="rId1"/>
          <a:stretch/>
        </p:blipFill>
        <p:spPr>
          <a:xfrm>
            <a:off x="-38160" y="0"/>
            <a:ext cx="92026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4" name="Группа 6"/>
          <p:cNvGrpSpPr/>
          <p:nvPr/>
        </p:nvGrpSpPr>
        <p:grpSpPr>
          <a:xfrm>
            <a:off x="228600" y="1300320"/>
            <a:ext cx="8631360" cy="3851280"/>
            <a:chOff x="228600" y="1300320"/>
            <a:chExt cx="8631360" cy="3851280"/>
          </a:xfrm>
        </p:grpSpPr>
        <p:grpSp>
          <p:nvGrpSpPr>
            <p:cNvPr id="75" name="Группа 7"/>
            <p:cNvGrpSpPr/>
            <p:nvPr/>
          </p:nvGrpSpPr>
          <p:grpSpPr>
            <a:xfrm>
              <a:off x="731520" y="4177800"/>
              <a:ext cx="507600" cy="487080"/>
              <a:chOff x="731520" y="4177800"/>
              <a:chExt cx="507600" cy="487080"/>
            </a:xfrm>
          </p:grpSpPr>
          <p:sp>
            <p:nvSpPr>
              <p:cNvPr id="76" name="Прямоугольник 161"/>
              <p:cNvSpPr/>
              <p:nvPr/>
            </p:nvSpPr>
            <p:spPr>
              <a:xfrm>
                <a:off x="731520" y="4177800"/>
                <a:ext cx="507600" cy="487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" name="Надпись 2"/>
              <p:cNvSpPr/>
              <p:nvPr/>
            </p:nvSpPr>
            <p:spPr>
              <a:xfrm>
                <a:off x="838080" y="4227840"/>
                <a:ext cx="328320" cy="402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5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6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о</a:t>
                </a:r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8" name="Группа 8"/>
            <p:cNvGrpSpPr/>
            <p:nvPr/>
          </p:nvGrpSpPr>
          <p:grpSpPr>
            <a:xfrm>
              <a:off x="1245240" y="4177800"/>
              <a:ext cx="507600" cy="487080"/>
              <a:chOff x="1245240" y="4177800"/>
              <a:chExt cx="507600" cy="487080"/>
            </a:xfrm>
          </p:grpSpPr>
          <p:sp>
            <p:nvSpPr>
              <p:cNvPr id="79" name="Прямоугольник 159"/>
              <p:cNvSpPr/>
              <p:nvPr/>
            </p:nvSpPr>
            <p:spPr>
              <a:xfrm>
                <a:off x="1245240" y="4177800"/>
                <a:ext cx="507600" cy="487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" name="Надпись 2"/>
              <p:cNvSpPr/>
              <p:nvPr/>
            </p:nvSpPr>
            <p:spPr>
              <a:xfrm>
                <a:off x="1326240" y="4227840"/>
                <a:ext cx="328320" cy="402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5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6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л</a:t>
                </a:r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1" name="Группа 9"/>
            <p:cNvGrpSpPr/>
            <p:nvPr/>
          </p:nvGrpSpPr>
          <p:grpSpPr>
            <a:xfrm>
              <a:off x="1753560" y="4177800"/>
              <a:ext cx="507600" cy="487080"/>
              <a:chOff x="1753560" y="4177800"/>
              <a:chExt cx="507600" cy="487080"/>
            </a:xfrm>
          </p:grpSpPr>
          <p:sp>
            <p:nvSpPr>
              <p:cNvPr id="82" name="Прямоугольник 157"/>
              <p:cNvSpPr/>
              <p:nvPr/>
            </p:nvSpPr>
            <p:spPr>
              <a:xfrm>
                <a:off x="1753560" y="4177800"/>
                <a:ext cx="507600" cy="487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" name="Надпись 2"/>
              <p:cNvSpPr/>
              <p:nvPr/>
            </p:nvSpPr>
            <p:spPr>
              <a:xfrm>
                <a:off x="1838520" y="4227840"/>
                <a:ext cx="328320" cy="402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5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6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л</a:t>
                </a:r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4" name="Группа 10"/>
            <p:cNvGrpSpPr/>
            <p:nvPr/>
          </p:nvGrpSpPr>
          <p:grpSpPr>
            <a:xfrm>
              <a:off x="2261880" y="4177800"/>
              <a:ext cx="507600" cy="487080"/>
              <a:chOff x="2261880" y="4177800"/>
              <a:chExt cx="507600" cy="487080"/>
            </a:xfrm>
          </p:grpSpPr>
          <p:sp>
            <p:nvSpPr>
              <p:cNvPr id="85" name="Прямоугольник 155"/>
              <p:cNvSpPr/>
              <p:nvPr/>
            </p:nvSpPr>
            <p:spPr>
              <a:xfrm>
                <a:off x="2261880" y="4177800"/>
                <a:ext cx="507600" cy="487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Надпись 2"/>
              <p:cNvSpPr/>
              <p:nvPr/>
            </p:nvSpPr>
            <p:spPr>
              <a:xfrm>
                <a:off x="2358000" y="4227840"/>
                <a:ext cx="328320" cy="402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5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6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е</a:t>
                </a:r>
                <a:r>
                  <a:rPr b="1" i="1" lang="ru-RU" sz="26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 </a:t>
                </a:r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7" name="Группа 11"/>
            <p:cNvGrpSpPr/>
            <p:nvPr/>
          </p:nvGrpSpPr>
          <p:grpSpPr>
            <a:xfrm>
              <a:off x="2759760" y="4177800"/>
              <a:ext cx="507600" cy="487080"/>
              <a:chOff x="2759760" y="4177800"/>
              <a:chExt cx="507600" cy="487080"/>
            </a:xfrm>
          </p:grpSpPr>
          <p:sp>
            <p:nvSpPr>
              <p:cNvPr id="88" name="Прямоугольник 153"/>
              <p:cNvSpPr/>
              <p:nvPr/>
            </p:nvSpPr>
            <p:spPr>
              <a:xfrm>
                <a:off x="2759760" y="4177800"/>
                <a:ext cx="507600" cy="487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" name="Надпись 2"/>
              <p:cNvSpPr/>
              <p:nvPr/>
            </p:nvSpPr>
            <p:spPr>
              <a:xfrm>
                <a:off x="2856600" y="4227840"/>
                <a:ext cx="328320" cy="402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5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6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к</a:t>
                </a:r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0" name="Группа 12"/>
            <p:cNvGrpSpPr/>
            <p:nvPr/>
          </p:nvGrpSpPr>
          <p:grpSpPr>
            <a:xfrm>
              <a:off x="3273480" y="4177800"/>
              <a:ext cx="507600" cy="487080"/>
              <a:chOff x="3273480" y="4177800"/>
              <a:chExt cx="507600" cy="487080"/>
            </a:xfrm>
          </p:grpSpPr>
          <p:sp>
            <p:nvSpPr>
              <p:cNvPr id="91" name="Прямоугольник 151"/>
              <p:cNvSpPr/>
              <p:nvPr/>
            </p:nvSpPr>
            <p:spPr>
              <a:xfrm>
                <a:off x="3273480" y="4177800"/>
                <a:ext cx="507600" cy="487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" name="Надпись 2"/>
              <p:cNvSpPr/>
              <p:nvPr/>
            </p:nvSpPr>
            <p:spPr>
              <a:xfrm>
                <a:off x="3364200" y="4244760"/>
                <a:ext cx="328320" cy="402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5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6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т</a:t>
                </a:r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3" name="Группа 13"/>
            <p:cNvGrpSpPr/>
            <p:nvPr/>
          </p:nvGrpSpPr>
          <p:grpSpPr>
            <a:xfrm>
              <a:off x="1239840" y="1300320"/>
              <a:ext cx="7620120" cy="3851280"/>
              <a:chOff x="1239840" y="1300320"/>
              <a:chExt cx="7620120" cy="3851280"/>
            </a:xfrm>
          </p:grpSpPr>
          <p:grpSp>
            <p:nvGrpSpPr>
              <p:cNvPr id="94" name="Группа 17"/>
              <p:cNvGrpSpPr/>
              <p:nvPr/>
            </p:nvGrpSpPr>
            <p:grpSpPr>
              <a:xfrm>
                <a:off x="1239840" y="1300320"/>
                <a:ext cx="7620120" cy="3851280"/>
                <a:chOff x="1239840" y="1300320"/>
                <a:chExt cx="7620120" cy="3851280"/>
              </a:xfrm>
            </p:grpSpPr>
            <p:grpSp>
              <p:nvGrpSpPr>
                <p:cNvPr id="95" name="Группа 19"/>
                <p:cNvGrpSpPr/>
                <p:nvPr/>
              </p:nvGrpSpPr>
              <p:grpSpPr>
                <a:xfrm>
                  <a:off x="1239840" y="1300320"/>
                  <a:ext cx="7620120" cy="3851280"/>
                  <a:chOff x="1239840" y="1300320"/>
                  <a:chExt cx="7620120" cy="3851280"/>
                </a:xfrm>
              </p:grpSpPr>
              <p:grpSp>
                <p:nvGrpSpPr>
                  <p:cNvPr id="96" name="Группа 21"/>
                  <p:cNvGrpSpPr/>
                  <p:nvPr/>
                </p:nvGrpSpPr>
                <p:grpSpPr>
                  <a:xfrm>
                    <a:off x="1239840" y="1300320"/>
                    <a:ext cx="7620120" cy="3851280"/>
                    <a:chOff x="1239840" y="1300320"/>
                    <a:chExt cx="7620120" cy="3851280"/>
                  </a:xfrm>
                </p:grpSpPr>
                <p:grpSp>
                  <p:nvGrpSpPr>
                    <p:cNvPr id="97" name="Группа 23"/>
                    <p:cNvGrpSpPr/>
                    <p:nvPr/>
                  </p:nvGrpSpPr>
                  <p:grpSpPr>
                    <a:xfrm>
                      <a:off x="1239840" y="1300320"/>
                      <a:ext cx="7620120" cy="3851280"/>
                      <a:chOff x="1239840" y="1300320"/>
                      <a:chExt cx="7620120" cy="3851280"/>
                    </a:xfrm>
                  </p:grpSpPr>
                  <p:grpSp>
                    <p:nvGrpSpPr>
                      <p:cNvPr id="98" name="Группа 25"/>
                      <p:cNvGrpSpPr/>
                      <p:nvPr/>
                    </p:nvGrpSpPr>
                    <p:grpSpPr>
                      <a:xfrm>
                        <a:off x="1239840" y="1300320"/>
                        <a:ext cx="7620120" cy="3851280"/>
                        <a:chOff x="1239840" y="1300320"/>
                        <a:chExt cx="7620120" cy="3851280"/>
                      </a:xfrm>
                    </p:grpSpPr>
                    <p:grpSp>
                      <p:nvGrpSpPr>
                        <p:cNvPr id="99" name="Группа 27"/>
                        <p:cNvGrpSpPr/>
                        <p:nvPr/>
                      </p:nvGrpSpPr>
                      <p:grpSpPr>
                        <a:xfrm>
                          <a:off x="1239840" y="1300320"/>
                          <a:ext cx="7620120" cy="3851280"/>
                          <a:chOff x="1239840" y="1300320"/>
                          <a:chExt cx="7620120" cy="3851280"/>
                        </a:xfrm>
                      </p:grpSpPr>
                      <p:grpSp>
                        <p:nvGrpSpPr>
                          <p:cNvPr id="100" name="Группа 29"/>
                          <p:cNvGrpSpPr/>
                          <p:nvPr/>
                        </p:nvGrpSpPr>
                        <p:grpSpPr>
                          <a:xfrm>
                            <a:off x="1239840" y="1300320"/>
                            <a:ext cx="7620120" cy="3851280"/>
                            <a:chOff x="1239840" y="1300320"/>
                            <a:chExt cx="7620120" cy="3851280"/>
                          </a:xfrm>
                        </p:grpSpPr>
                        <p:grpSp>
                          <p:nvGrpSpPr>
                            <p:cNvPr id="101" name="Группа 31"/>
                            <p:cNvGrpSpPr/>
                            <p:nvPr/>
                          </p:nvGrpSpPr>
                          <p:grpSpPr>
                            <a:xfrm>
                              <a:off x="1239840" y="1300320"/>
                              <a:ext cx="7620120" cy="3851280"/>
                              <a:chOff x="1239840" y="1300320"/>
                              <a:chExt cx="7620120" cy="3851280"/>
                            </a:xfrm>
                          </p:grpSpPr>
                          <p:grpSp>
                            <p:nvGrpSpPr>
                              <p:cNvPr id="102" name="Группа 33"/>
                              <p:cNvGrpSpPr/>
                              <p:nvPr/>
                            </p:nvGrpSpPr>
                            <p:grpSpPr>
                              <a:xfrm>
                                <a:off x="1239840" y="1300320"/>
                                <a:ext cx="7620120" cy="3851280"/>
                                <a:chOff x="1239840" y="1300320"/>
                                <a:chExt cx="7620120" cy="3851280"/>
                              </a:xfrm>
                            </p:grpSpPr>
                            <p:grpSp>
                              <p:nvGrpSpPr>
                                <p:cNvPr id="103" name="Группа 35"/>
                                <p:cNvGrpSpPr/>
                                <p:nvPr/>
                              </p:nvGrpSpPr>
                              <p:grpSpPr>
                                <a:xfrm>
                                  <a:off x="1239840" y="1300320"/>
                                  <a:ext cx="7620120" cy="3851280"/>
                                  <a:chOff x="1239840" y="1300320"/>
                                  <a:chExt cx="7620120" cy="3851280"/>
                                </a:xfrm>
                              </p:grpSpPr>
                              <p:grpSp>
                                <p:nvGrpSpPr>
                                  <p:cNvPr id="104" name="Группа 37"/>
                                  <p:cNvGrpSpPr/>
                                  <p:nvPr/>
                                </p:nvGrpSpPr>
                                <p:grpSpPr>
                                  <a:xfrm>
                                    <a:off x="1239840" y="1300320"/>
                                    <a:ext cx="7620120" cy="3851280"/>
                                    <a:chOff x="1239840" y="1300320"/>
                                    <a:chExt cx="7620120" cy="3851280"/>
                                  </a:xfrm>
                                </p:grpSpPr>
                                <p:grpSp>
                                  <p:nvGrpSpPr>
                                    <p:cNvPr id="105" name="Группа 39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1239840" y="1300320"/>
                                      <a:ext cx="7620120" cy="3851280"/>
                                      <a:chOff x="1239840" y="1300320"/>
                                      <a:chExt cx="7620120" cy="3851280"/>
                                    </a:xfrm>
                                  </p:grpSpPr>
                                  <p:grpSp>
                                    <p:nvGrpSpPr>
                                      <p:cNvPr id="106" name="Группа 41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1239840" y="1300320"/>
                                        <a:ext cx="7620120" cy="3851280"/>
                                        <a:chOff x="1239840" y="1300320"/>
                                        <a:chExt cx="7620120" cy="3851280"/>
                                      </a:xfrm>
                                    </p:grpSpPr>
                                    <p:grpSp>
                                      <p:nvGrpSpPr>
                                        <p:cNvPr id="107" name="Группа 43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1239840" y="1300320"/>
                                          <a:ext cx="7620120" cy="3851280"/>
                                          <a:chOff x="1239840" y="1300320"/>
                                          <a:chExt cx="7620120" cy="3851280"/>
                                        </a:xfrm>
                                      </p:grpSpPr>
                                      <p:sp>
                                        <p:nvSpPr>
                                          <p:cNvPr id="108" name="Прямоугольник 45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5810400" y="3692880"/>
                                            <a:ext cx="507960" cy="487080"/>
                                          </a:xfrm>
                                          <a:prstGeom prst="rect">
                                            <a:avLst/>
                                          </a:prstGeom>
                                          <a:solidFill>
                                            <a:srgbClr val="ffffff"/>
                                          </a:solidFill>
                                          <a:ln w="2556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ctr">
                                            <a:noAutofit/>
                                          </a:bodyPr>
                                          <a:p>
                                            <a:pPr>
                                              <a:tabLst>
                                                <a:tab algn="l" pos="0"/>
                                                <a:tab algn="l" pos="914400"/>
                                                <a:tab algn="l" pos="1828800"/>
                                                <a:tab algn="l" pos="2743200"/>
                                                <a:tab algn="l" pos="3657600"/>
                                                <a:tab algn="l" pos="4572000"/>
                                                <a:tab algn="l" pos="5486400"/>
                                                <a:tab algn="l" pos="6400800"/>
                                                <a:tab algn="l" pos="7315200"/>
                                                <a:tab algn="l" pos="8229600"/>
                                                <a:tab algn="l" pos="9144000"/>
                                                <a:tab algn="l" pos="10058400"/>
                                              </a:tabLst>
                                            </a:pPr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Calibri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109" name="Прямоугольник 46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5302080" y="3692880"/>
                                            <a:ext cx="507960" cy="487080"/>
                                          </a:xfrm>
                                          <a:prstGeom prst="rect">
                                            <a:avLst/>
                                          </a:prstGeom>
                                          <a:solidFill>
                                            <a:srgbClr val="ffffff"/>
                                          </a:solidFill>
                                          <a:ln w="2556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ctr">
                                            <a:noAutofit/>
                                          </a:bodyPr>
                                          <a:p>
                                            <a:pPr>
                                              <a:tabLst>
                                                <a:tab algn="l" pos="0"/>
                                                <a:tab algn="l" pos="914400"/>
                                                <a:tab algn="l" pos="1828800"/>
                                                <a:tab algn="l" pos="2743200"/>
                                                <a:tab algn="l" pos="3657600"/>
                                                <a:tab algn="l" pos="4572000"/>
                                                <a:tab algn="l" pos="5486400"/>
                                                <a:tab algn="l" pos="6400800"/>
                                                <a:tab algn="l" pos="7315200"/>
                                                <a:tab algn="l" pos="8229600"/>
                                                <a:tab algn="l" pos="9144000"/>
                                                <a:tab algn="l" pos="10058400"/>
                                              </a:tabLst>
                                            </a:pPr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Calibri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110" name="Прямоугольник 47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4792680" y="3692880"/>
                                            <a:ext cx="507960" cy="487080"/>
                                          </a:xfrm>
                                          <a:prstGeom prst="rect">
                                            <a:avLst/>
                                          </a:prstGeom>
                                          <a:solidFill>
                                            <a:srgbClr val="ffffff"/>
                                          </a:solidFill>
                                          <a:ln w="2556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ctr">
                                            <a:noAutofit/>
                                          </a:bodyPr>
                                          <a:p>
                                            <a:pPr>
                                              <a:tabLst>
                                                <a:tab algn="l" pos="0"/>
                                                <a:tab algn="l" pos="914400"/>
                                                <a:tab algn="l" pos="1828800"/>
                                                <a:tab algn="l" pos="2743200"/>
                                                <a:tab algn="l" pos="3657600"/>
                                                <a:tab algn="l" pos="4572000"/>
                                                <a:tab algn="l" pos="5486400"/>
                                                <a:tab algn="l" pos="6400800"/>
                                                <a:tab algn="l" pos="7315200"/>
                                                <a:tab algn="l" pos="8229600"/>
                                                <a:tab algn="l" pos="9144000"/>
                                                <a:tab algn="l" pos="10058400"/>
                                              </a:tabLst>
                                            </a:pPr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Calibri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111" name="Прямоугольник 48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4289400" y="3692880"/>
                                            <a:ext cx="507960" cy="487080"/>
                                          </a:xfrm>
                                          <a:prstGeom prst="rect">
                                            <a:avLst/>
                                          </a:prstGeom>
                                          <a:solidFill>
                                            <a:srgbClr val="ffffff"/>
                                          </a:solidFill>
                                          <a:ln w="2556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ctr">
                                            <a:noAutofit/>
                                          </a:bodyPr>
                                          <a:p>
                                            <a:pPr>
                                              <a:tabLst>
                                                <a:tab algn="l" pos="0"/>
                                                <a:tab algn="l" pos="914400"/>
                                                <a:tab algn="l" pos="1828800"/>
                                                <a:tab algn="l" pos="2743200"/>
                                                <a:tab algn="l" pos="3657600"/>
                                                <a:tab algn="l" pos="4572000"/>
                                                <a:tab algn="l" pos="5486400"/>
                                                <a:tab algn="l" pos="6400800"/>
                                                <a:tab algn="l" pos="7315200"/>
                                                <a:tab algn="l" pos="8229600"/>
                                                <a:tab algn="l" pos="9144000"/>
                                                <a:tab algn="l" pos="10058400"/>
                                              </a:tabLst>
                                            </a:pPr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Calibri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112" name="Прямоугольник 49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4289400" y="4178520"/>
                                            <a:ext cx="507960" cy="485640"/>
                                          </a:xfrm>
                                          <a:prstGeom prst="rect">
                                            <a:avLst/>
                                          </a:prstGeom>
                                          <a:solidFill>
                                            <a:srgbClr val="ffffff"/>
                                          </a:solidFill>
                                          <a:ln w="2556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ctr">
                                            <a:noAutofit/>
                                          </a:bodyPr>
                                          <a:p>
                                            <a:pPr>
                                              <a:tabLst>
                                                <a:tab algn="l" pos="0"/>
                                                <a:tab algn="l" pos="914400"/>
                                                <a:tab algn="l" pos="1828800"/>
                                                <a:tab algn="l" pos="2743200"/>
                                                <a:tab algn="l" pos="3657600"/>
                                                <a:tab algn="l" pos="4572000"/>
                                                <a:tab algn="l" pos="5486400"/>
                                                <a:tab algn="l" pos="6400800"/>
                                                <a:tab algn="l" pos="7315200"/>
                                                <a:tab algn="l" pos="8229600"/>
                                                <a:tab algn="l" pos="9144000"/>
                                                <a:tab algn="l" pos="10058400"/>
                                              </a:tabLst>
                                            </a:pPr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Calibri"/>
                                            </a:endParaRPr>
                                          </a:p>
                                        </p:txBody>
                                      </p:sp>
                                      <p:grpSp>
                                        <p:nvGrpSpPr>
                                          <p:cNvPr id="113" name="Группа 50"/>
                                          <p:cNvGrpSpPr/>
                                          <p:nvPr/>
                                        </p:nvGrpSpPr>
                                        <p:grpSpPr>
                                          <a:xfrm>
                                            <a:off x="1239840" y="1300320"/>
                                            <a:ext cx="7620120" cy="3851280"/>
                                            <a:chOff x="1239840" y="1300320"/>
                                            <a:chExt cx="7620120" cy="3851280"/>
                                          </a:xfrm>
                                        </p:grpSpPr>
                                        <p:sp>
                                          <p:nvSpPr>
                                            <p:cNvPr id="114" name="Прямоугольник 51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6826320" y="2713320"/>
                                              <a:ext cx="507960" cy="487080"/>
                                            </a:xfrm>
                                            <a:prstGeom prst="rect">
                                              <a:avLst/>
                                            </a:prstGeom>
                                            <a:solidFill>
                                              <a:srgbClr val="ffffff"/>
                                            </a:solidFill>
                                            <a:ln w="2556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ctr">
                                              <a:noAutofit/>
                                            </a:bodyPr>
                                            <a:p>
                                              <a:pPr>
                                                <a:tabLst>
                                                  <a:tab algn="l" pos="0"/>
                                                  <a:tab algn="l" pos="914400"/>
                                                  <a:tab algn="l" pos="1828800"/>
                                                  <a:tab algn="l" pos="2743200"/>
                                                  <a:tab algn="l" pos="3657600"/>
                                                  <a:tab algn="l" pos="4572000"/>
                                                  <a:tab algn="l" pos="5486400"/>
                                                  <a:tab algn="l" pos="6400800"/>
                                                  <a:tab algn="l" pos="7315200"/>
                                                  <a:tab algn="l" pos="8229600"/>
                                                  <a:tab algn="l" pos="9144000"/>
                                                  <a:tab algn="l" pos="10058400"/>
                                                </a:tabLst>
                                              </a:pPr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Calibri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15" name="Прямоугольник 52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6318360" y="2713320"/>
                                              <a:ext cx="507960" cy="487080"/>
                                            </a:xfrm>
                                            <a:prstGeom prst="rect">
                                              <a:avLst/>
                                            </a:prstGeom>
                                            <a:solidFill>
                                              <a:srgbClr val="ffffff"/>
                                            </a:solidFill>
                                            <a:ln w="2556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ctr">
                                              <a:noAutofit/>
                                            </a:bodyPr>
                                            <a:p>
                                              <a:pPr>
                                                <a:tabLst>
                                                  <a:tab algn="l" pos="0"/>
                                                  <a:tab algn="l" pos="914400"/>
                                                  <a:tab algn="l" pos="1828800"/>
                                                  <a:tab algn="l" pos="2743200"/>
                                                  <a:tab algn="l" pos="3657600"/>
                                                  <a:tab algn="l" pos="4572000"/>
                                                  <a:tab algn="l" pos="5486400"/>
                                                  <a:tab algn="l" pos="6400800"/>
                                                  <a:tab algn="l" pos="7315200"/>
                                                  <a:tab algn="l" pos="8229600"/>
                                                  <a:tab algn="l" pos="9144000"/>
                                                  <a:tab algn="l" pos="10058400"/>
                                                </a:tabLst>
                                              </a:pPr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Calibri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16" name="Прямоугольник 53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5810400" y="2713320"/>
                                              <a:ext cx="507960" cy="487080"/>
                                            </a:xfrm>
                                            <a:prstGeom prst="rect">
                                              <a:avLst/>
                                            </a:prstGeom>
                                            <a:solidFill>
                                              <a:srgbClr val="ffffff"/>
                                            </a:solidFill>
                                            <a:ln w="2556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ctr">
                                              <a:noAutofit/>
                                            </a:bodyPr>
                                            <a:p>
                                              <a:pPr>
                                                <a:tabLst>
                                                  <a:tab algn="l" pos="0"/>
                                                  <a:tab algn="l" pos="914400"/>
                                                  <a:tab algn="l" pos="1828800"/>
                                                  <a:tab algn="l" pos="2743200"/>
                                                  <a:tab algn="l" pos="3657600"/>
                                                  <a:tab algn="l" pos="4572000"/>
                                                  <a:tab algn="l" pos="5486400"/>
                                                  <a:tab algn="l" pos="6400800"/>
                                                  <a:tab algn="l" pos="7315200"/>
                                                  <a:tab algn="l" pos="8229600"/>
                                                  <a:tab algn="l" pos="9144000"/>
                                                  <a:tab algn="l" pos="10058400"/>
                                                </a:tabLst>
                                              </a:pPr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Calibri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17" name="Прямоугольник 54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5295960" y="2713320"/>
                                              <a:ext cx="507960" cy="487080"/>
                                            </a:xfrm>
                                            <a:prstGeom prst="rect">
                                              <a:avLst/>
                                            </a:prstGeom>
                                            <a:solidFill>
                                              <a:srgbClr val="ffffff"/>
                                            </a:solidFill>
                                            <a:ln w="2556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ctr">
                                              <a:noAutofit/>
                                            </a:bodyPr>
                                            <a:p>
                                              <a:pPr>
                                                <a:tabLst>
                                                  <a:tab algn="l" pos="0"/>
                                                  <a:tab algn="l" pos="914400"/>
                                                  <a:tab algn="l" pos="1828800"/>
                                                  <a:tab algn="l" pos="2743200"/>
                                                  <a:tab algn="l" pos="3657600"/>
                                                  <a:tab algn="l" pos="4572000"/>
                                                  <a:tab algn="l" pos="5486400"/>
                                                  <a:tab algn="l" pos="6400800"/>
                                                  <a:tab algn="l" pos="7315200"/>
                                                  <a:tab algn="l" pos="8229600"/>
                                                  <a:tab algn="l" pos="9144000"/>
                                                  <a:tab algn="l" pos="10058400"/>
                                                </a:tabLst>
                                              </a:pPr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Calibri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18" name="Прямоугольник 55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4788000" y="2713320"/>
                                              <a:ext cx="507960" cy="487080"/>
                                            </a:xfrm>
                                            <a:prstGeom prst="rect">
                                              <a:avLst/>
                                            </a:prstGeom>
                                            <a:solidFill>
                                              <a:srgbClr val="ffffff"/>
                                            </a:solidFill>
                                            <a:ln w="2556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ctr">
                                              <a:noAutofit/>
                                            </a:bodyPr>
                                            <a:p>
                                              <a:pPr>
                                                <a:tabLst>
                                                  <a:tab algn="l" pos="0"/>
                                                  <a:tab algn="l" pos="914400"/>
                                                  <a:tab algn="l" pos="1828800"/>
                                                  <a:tab algn="l" pos="2743200"/>
                                                  <a:tab algn="l" pos="3657600"/>
                                                  <a:tab algn="l" pos="4572000"/>
                                                  <a:tab algn="l" pos="5486400"/>
                                                  <a:tab algn="l" pos="6400800"/>
                                                  <a:tab algn="l" pos="7315200"/>
                                                  <a:tab algn="l" pos="8229600"/>
                                                  <a:tab algn="l" pos="9144000"/>
                                                  <a:tab algn="l" pos="10058400"/>
                                                </a:tabLst>
                                              </a:pPr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Calibri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19" name="Прямоугольник 56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4279680" y="2713320"/>
                                              <a:ext cx="507960" cy="487080"/>
                                            </a:xfrm>
                                            <a:prstGeom prst="rect">
                                              <a:avLst/>
                                            </a:prstGeom>
                                            <a:solidFill>
                                              <a:srgbClr val="ffffff"/>
                                            </a:solidFill>
                                            <a:ln w="2556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ctr">
                                              <a:noAutofit/>
                                            </a:bodyPr>
                                            <a:p>
                                              <a:pPr>
                                                <a:tabLst>
                                                  <a:tab algn="l" pos="0"/>
                                                  <a:tab algn="l" pos="914400"/>
                                                  <a:tab algn="l" pos="1828800"/>
                                                  <a:tab algn="l" pos="2743200"/>
                                                  <a:tab algn="l" pos="3657600"/>
                                                  <a:tab algn="l" pos="4572000"/>
                                                  <a:tab algn="l" pos="5486400"/>
                                                  <a:tab algn="l" pos="6400800"/>
                                                  <a:tab algn="l" pos="7315200"/>
                                                  <a:tab algn="l" pos="8229600"/>
                                                  <a:tab algn="l" pos="9144000"/>
                                                  <a:tab algn="l" pos="10058400"/>
                                                </a:tabLst>
                                              </a:pPr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Calibri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20" name="Прямоугольник 57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8352000" y="2713320"/>
                                              <a:ext cx="507960" cy="487080"/>
                                            </a:xfrm>
                                            <a:prstGeom prst="rect">
                                              <a:avLst/>
                                            </a:prstGeom>
                                            <a:solidFill>
                                              <a:srgbClr val="ffffff"/>
                                            </a:solidFill>
                                            <a:ln w="2556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ctr">
                                              <a:noAutofit/>
                                            </a:bodyPr>
                                            <a:p>
                                              <a:pPr>
                                                <a:tabLst>
                                                  <a:tab algn="l" pos="0"/>
                                                  <a:tab algn="l" pos="914400"/>
                                                  <a:tab algn="l" pos="1828800"/>
                                                  <a:tab algn="l" pos="2743200"/>
                                                  <a:tab algn="l" pos="3657600"/>
                                                  <a:tab algn="l" pos="4572000"/>
                                                  <a:tab algn="l" pos="5486400"/>
                                                  <a:tab algn="l" pos="6400800"/>
                                                  <a:tab algn="l" pos="7315200"/>
                                                  <a:tab algn="l" pos="8229600"/>
                                                  <a:tab algn="l" pos="9144000"/>
                                                  <a:tab algn="l" pos="10058400"/>
                                                </a:tabLst>
                                              </a:pPr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Calibri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21" name="Прямоугольник 58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7844040" y="2713320"/>
                                              <a:ext cx="507960" cy="487080"/>
                                            </a:xfrm>
                                            <a:prstGeom prst="rect">
                                              <a:avLst/>
                                            </a:prstGeom>
                                            <a:solidFill>
                                              <a:srgbClr val="ffffff"/>
                                            </a:solidFill>
                                            <a:ln w="2556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ctr">
                                              <a:noAutofit/>
                                            </a:bodyPr>
                                            <a:p>
                                              <a:pPr>
                                                <a:tabLst>
                                                  <a:tab algn="l" pos="0"/>
                                                  <a:tab algn="l" pos="914400"/>
                                                  <a:tab algn="l" pos="1828800"/>
                                                  <a:tab algn="l" pos="2743200"/>
                                                  <a:tab algn="l" pos="3657600"/>
                                                  <a:tab algn="l" pos="4572000"/>
                                                  <a:tab algn="l" pos="5486400"/>
                                                  <a:tab algn="l" pos="6400800"/>
                                                  <a:tab algn="l" pos="7315200"/>
                                                  <a:tab algn="l" pos="8229600"/>
                                                  <a:tab algn="l" pos="9144000"/>
                                                  <a:tab algn="l" pos="10058400"/>
                                                </a:tabLst>
                                              </a:pPr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Calibri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22" name="Прямоугольник 59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7336080" y="2713320"/>
                                              <a:ext cx="507960" cy="487080"/>
                                            </a:xfrm>
                                            <a:prstGeom prst="rect">
                                              <a:avLst/>
                                            </a:prstGeom>
                                            <a:solidFill>
                                              <a:srgbClr val="ffffff"/>
                                            </a:solidFill>
                                            <a:ln w="2556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ctr">
                                              <a:noAutofit/>
                                            </a:bodyPr>
                                            <a:p>
                                              <a:pPr>
                                                <a:tabLst>
                                                  <a:tab algn="l" pos="0"/>
                                                  <a:tab algn="l" pos="914400"/>
                                                  <a:tab algn="l" pos="1828800"/>
                                                  <a:tab algn="l" pos="2743200"/>
                                                  <a:tab algn="l" pos="3657600"/>
                                                  <a:tab algn="l" pos="4572000"/>
                                                  <a:tab algn="l" pos="5486400"/>
                                                  <a:tab algn="l" pos="6400800"/>
                                                  <a:tab algn="l" pos="7315200"/>
                                                  <a:tab algn="l" pos="8229600"/>
                                                  <a:tab algn="l" pos="9144000"/>
                                                  <a:tab algn="l" pos="10058400"/>
                                                </a:tabLst>
                                              </a:pPr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Calibri"/>
                                              </a:endParaRPr>
                                            </a:p>
                                          </p:txBody>
                                        </p:sp>
                                        <p:grpSp>
                                          <p:nvGrpSpPr>
                                            <p:cNvPr id="123" name="Группа 60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1239840" y="1300320"/>
                                              <a:ext cx="7620120" cy="3851280"/>
                                              <a:chOff x="1239840" y="1300320"/>
                                              <a:chExt cx="7620120" cy="3851280"/>
                                            </a:xfrm>
                                          </p:grpSpPr>
                                          <p:grpSp>
                                            <p:nvGrpSpPr>
                                              <p:cNvPr id="124" name="Группа 61"/>
                                              <p:cNvGrpSpPr/>
                                              <p:nvPr/>
                                            </p:nvGrpSpPr>
                                            <p:grpSpPr>
                                              <a:xfrm>
                                                <a:off x="1239840" y="1300320"/>
                                                <a:ext cx="5587560" cy="3851280"/>
                                                <a:chOff x="1239840" y="1300320"/>
                                                <a:chExt cx="5587560" cy="3851280"/>
                                              </a:xfrm>
                                            </p:grpSpPr>
                                            <p:grpSp>
                                              <p:nvGrpSpPr>
                                                <p:cNvPr id="125" name="Группа 90"/>
                                                <p:cNvGrpSpPr/>
                                                <p:nvPr/>
                                              </p:nvGrpSpPr>
                                              <p:grpSpPr>
                                                <a:xfrm>
                                                  <a:off x="1239840" y="1300320"/>
                                                  <a:ext cx="5587560" cy="3851280"/>
                                                  <a:chOff x="1239840" y="1300320"/>
                                                  <a:chExt cx="5587560" cy="3851280"/>
                                                </a:xfrm>
                                              </p:grpSpPr>
                                              <p:grpSp>
                                                <p:nvGrpSpPr>
                                                  <p:cNvPr id="126" name="Группа 92"/>
                                                  <p:cNvGrpSpPr/>
                                                  <p:nvPr/>
                                                </p:nvGrpSpPr>
                                                <p:grpSpPr>
                                                  <a:xfrm>
                                                    <a:off x="1239840" y="1300320"/>
                                                    <a:ext cx="5587560" cy="3851280"/>
                                                    <a:chOff x="1239840" y="1300320"/>
                                                    <a:chExt cx="5587560" cy="3851280"/>
                                                  </a:xfrm>
                                                </p:grpSpPr>
                                                <p:grpSp>
                                                  <p:nvGrpSpPr>
                                                    <p:cNvPr id="127" name="Группа 94"/>
                                                    <p:cNvGrpSpPr/>
                                                    <p:nvPr/>
                                                  </p:nvGrpSpPr>
                                                  <p:grpSpPr>
                                                    <a:xfrm>
                                                      <a:off x="1239840" y="1300320"/>
                                                      <a:ext cx="5587560" cy="3851280"/>
                                                      <a:chOff x="1239840" y="1300320"/>
                                                      <a:chExt cx="5587560" cy="3851280"/>
                                                    </a:xfrm>
                                                  </p:grpSpPr>
                                                  <p:grpSp>
                                                    <p:nvGrpSpPr>
                                                      <p:cNvPr id="128" name="Группа 96"/>
                                                      <p:cNvGrpSpPr/>
                                                      <p:nvPr/>
                                                    </p:nvGrpSpPr>
                                                    <p:grpSpPr>
                                                      <a:xfrm>
                                                        <a:off x="1239840" y="1300320"/>
                                                        <a:ext cx="5587560" cy="3851280"/>
                                                        <a:chOff x="1239840" y="1300320"/>
                                                        <a:chExt cx="5587560" cy="3851280"/>
                                                      </a:xfrm>
                                                    </p:grpSpPr>
                                                    <p:grpSp>
                                                      <p:nvGrpSpPr>
                                                        <p:cNvPr id="129" name="Группа 98"/>
                                                        <p:cNvGrpSpPr/>
                                                        <p:nvPr/>
                                                      </p:nvGrpSpPr>
                                                      <p:grpSpPr>
                                                        <a:xfrm>
                                                          <a:off x="1239840" y="1300320"/>
                                                          <a:ext cx="5587560" cy="3851280"/>
                                                          <a:chOff x="1239840" y="1300320"/>
                                                          <a:chExt cx="5587560" cy="3851280"/>
                                                        </a:xfrm>
                                                      </p:grpSpPr>
                                                      <p:grpSp>
                                                        <p:nvGrpSpPr>
                                                          <p:cNvPr id="130" name="Группа 100"/>
                                                          <p:cNvGrpSpPr/>
                                                          <p:nvPr/>
                                                        </p:nvGrpSpPr>
                                                        <p:grpSpPr>
                                                          <a:xfrm>
                                                            <a:off x="1239840" y="1300320"/>
                                                            <a:ext cx="5587560" cy="3851280"/>
                                                            <a:chOff x="1239840" y="1300320"/>
                                                            <a:chExt cx="5587560" cy="3851280"/>
                                                          </a:xfrm>
                                                        </p:grpSpPr>
                                                        <p:grpSp>
                                                          <p:nvGrpSpPr>
                                                            <p:cNvPr id="131" name="Группа 102"/>
                                                            <p:cNvGrpSpPr/>
                                                            <p:nvPr/>
                                                          </p:nvGrpSpPr>
                                                          <p:grpSpPr>
                                                            <a:xfrm>
                                                              <a:off x="1239840" y="1300320"/>
                                                              <a:ext cx="5587560" cy="3851280"/>
                                                              <a:chOff x="1239840" y="1300320"/>
                                                              <a:chExt cx="5587560" cy="3851280"/>
                                                            </a:xfrm>
                                                          </p:grpSpPr>
                                                          <p:grpSp>
                                                            <p:nvGrpSpPr>
                                                              <p:cNvPr id="132" name="Группа 104"/>
                                                              <p:cNvGrpSpPr/>
                                                              <p:nvPr/>
                                                            </p:nvGrpSpPr>
                                                            <p:grpSpPr>
                                                              <a:xfrm>
                                                                <a:off x="1239840" y="1300320"/>
                                                                <a:ext cx="5587560" cy="3851280"/>
                                                                <a:chOff x="1239840" y="1300320"/>
                                                                <a:chExt cx="5587560" cy="3851280"/>
                                                              </a:xfrm>
                                                            </p:grpSpPr>
                                                            <p:grpSp>
                                                              <p:nvGrpSpPr>
                                                                <p:cNvPr id="133" name="Группа 106"/>
                                                                <p:cNvGrpSpPr/>
                                                                <p:nvPr/>
                                                              </p:nvGrpSpPr>
                                                              <p:grpSpPr>
                                                                <a:xfrm>
                                                                  <a:off x="1239840" y="1300320"/>
                                                                  <a:ext cx="5587560" cy="3851280"/>
                                                                  <a:chOff x="1239840" y="1300320"/>
                                                                  <a:chExt cx="5587560" cy="3851280"/>
                                                                </a:xfrm>
                                                              </p:grpSpPr>
                                                              <p:sp>
                                                                <p:nvSpPr>
                                                                  <p:cNvPr id="134" name="Прямоугольник 108"/>
                                                                  <p:cNvSpPr/>
                                                                  <p:nvPr/>
                                                                </p:nvSpPr>
                                                                <p:spPr>
                                                                  <a:xfrm>
                                                                    <a:off x="3779640" y="1787400"/>
                                                                    <a:ext cx="507960" cy="487080"/>
                                                                  </a:xfrm>
                                                                  <a:prstGeom prst="rect">
                                                                    <a:avLst/>
                                                                  </a:prstGeom>
                                                                  <a:solidFill>
                                                                    <a:srgbClr val="ffffff"/>
                                                                  </a:solidFill>
                                                                  <a:ln w="25560">
                                                                    <a:solidFill>
                                                                      <a:srgbClr val="000000"/>
                                                                    </a:solidFill>
                                                                    <a:miter/>
                                                                  </a:ln>
                                                                </p:spPr>
                                                                <p:style>
                                                                  <a:lnRef idx="0"/>
                                                                  <a:fillRef idx="0"/>
                                                                  <a:effectRef idx="0"/>
                                                                  <a:fontRef idx="minor"/>
                                                                </p:style>
                                                                <p:txBody>
                                                                  <a:bodyPr lIns="90000" rIns="90000" tIns="46800" bIns="46800" anchor="ctr">
                                                                    <a:noAutofit/>
                                                                  </a:bodyPr>
                                                                  <a:p>
                                                                    <a:pPr>
                                                                      <a:tabLst>
                                                                        <a:tab algn="l" pos="0"/>
                                                                        <a:tab algn="l" pos="914400"/>
                                                                        <a:tab algn="l" pos="1828800"/>
                                                                        <a:tab algn="l" pos="2743200"/>
                                                                        <a:tab algn="l" pos="3657600"/>
                                                                        <a:tab algn="l" pos="4572000"/>
                                                                        <a:tab algn="l" pos="5486400"/>
                                                                        <a:tab algn="l" pos="6400800"/>
                                                                        <a:tab algn="l" pos="7315200"/>
                                                                        <a:tab algn="l" pos="8229600"/>
                                                                        <a:tab algn="l" pos="9144000"/>
                                                                        <a:tab algn="l" pos="10058400"/>
                                                                      </a:tabLst>
                                                                    </a:pPr>
                                                                    <a:endParaRPr b="0" lang="en-US" sz="1800" spc="-1" strike="noStrike">
                                                                      <a:solidFill>
                                                                        <a:srgbClr val="000000"/>
                                                                      </a:solidFill>
                                                                      <a:latin typeface="Calibri"/>
                                                                    </a:endParaRPr>
                                                                  </a:p>
                                                                </p:txBody>
                                                              </p:sp>
                                                              <p:grpSp>
                                                                <p:nvGrpSpPr>
                                                                  <p:cNvPr id="135" name="Группа 109"/>
                                                                  <p:cNvGrpSpPr/>
                                                                  <p:nvPr/>
                                                                </p:nvGrpSpPr>
                                                                <p:grpSpPr>
                                                                  <a:xfrm>
                                                                    <a:off x="1239840" y="1300320"/>
                                                                    <a:ext cx="5587560" cy="487080"/>
                                                                    <a:chOff x="1239840" y="1300320"/>
                                                                    <a:chExt cx="5587560" cy="487080"/>
                                                                  </a:xfrm>
                                                                </p:grpSpPr>
                                                                <p:grpSp>
                                                                  <p:nvGrpSpPr>
                                                                    <p:cNvPr id="136" name="Группа 118"/>
                                                                    <p:cNvGrpSpPr/>
                                                                    <p:nvPr/>
                                                                  </p:nvGrpSpPr>
                                                                  <p:grpSpPr>
                                                                    <a:xfrm>
                                                                      <a:off x="1239840" y="1300320"/>
                                                                      <a:ext cx="5587560" cy="487080"/>
                                                                      <a:chOff x="1239840" y="1300320"/>
                                                                      <a:chExt cx="5587560" cy="487080"/>
                                                                    </a:xfrm>
                                                                  </p:grpSpPr>
                                                                  <p:grpSp>
                                                                    <p:nvGrpSpPr>
                                                                      <p:cNvPr id="137" name="Группа 120"/>
                                                                      <p:cNvGrpSpPr/>
                                                                      <p:nvPr/>
                                                                    </p:nvGrpSpPr>
                                                                    <p:grpSpPr>
                                                                      <a:xfrm>
                                                                        <a:off x="1239840" y="1300320"/>
                                                                        <a:ext cx="5587560" cy="487080"/>
                                                                        <a:chOff x="1239840" y="1300320"/>
                                                                        <a:chExt cx="5587560" cy="487080"/>
                                                                      </a:xfrm>
                                                                    </p:grpSpPr>
                                                                    <p:grpSp>
                                                                      <p:nvGrpSpPr>
                                                                        <p:cNvPr id="138" name="Группа 122"/>
                                                                        <p:cNvGrpSpPr/>
                                                                        <p:nvPr/>
                                                                      </p:nvGrpSpPr>
                                                                      <p:grpSpPr>
                                                                        <a:xfrm>
                                                                          <a:off x="1239840" y="1300320"/>
                                                                          <a:ext cx="5587560" cy="487080"/>
                                                                          <a:chOff x="1239840" y="1300320"/>
                                                                          <a:chExt cx="5587560" cy="487080"/>
                                                                        </a:xfrm>
                                                                      </p:grpSpPr>
                                                                      <p:grpSp>
                                                                        <p:nvGrpSpPr>
                                                                          <p:cNvPr id="139" name="Группа 124"/>
                                                                          <p:cNvGrpSpPr/>
                                                                          <p:nvPr/>
                                                                        </p:nvGrpSpPr>
                                                                        <p:grpSpPr>
                                                                          <a:xfrm>
                                                                            <a:off x="1239840" y="1300320"/>
                                                                            <a:ext cx="5587560" cy="487080"/>
                                                                            <a:chOff x="1239840" y="1300320"/>
                                                                            <a:chExt cx="5587560" cy="487080"/>
                                                                          </a:xfrm>
                                                                        </p:grpSpPr>
                                                                        <p:grpSp>
                                                                          <p:nvGrpSpPr>
                                                                            <p:cNvPr id="140" name="Группа 126"/>
                                                                            <p:cNvGrpSpPr/>
                                                                            <p:nvPr/>
                                                                          </p:nvGrpSpPr>
                                                                          <p:grpSpPr>
                                                                            <a:xfrm>
                                                                              <a:off x="1239840" y="1300320"/>
                                                                              <a:ext cx="5587560" cy="487080"/>
                                                                              <a:chOff x="1239840" y="1300320"/>
                                                                              <a:chExt cx="5587560" cy="487080"/>
                                                                            </a:xfrm>
                                                                          </p:grpSpPr>
                                                                          <p:grpSp>
                                                                            <p:nvGrpSpPr>
                                                                              <p:cNvPr id="141" name="Группа 128"/>
                                                                              <p:cNvGrpSpPr/>
                                                                              <p:nvPr/>
                                                                            </p:nvGrpSpPr>
                                                                            <p:grpSpPr>
                                                                              <a:xfrm>
                                                                                <a:off x="1239840" y="1300320"/>
                                                                                <a:ext cx="5587560" cy="487080"/>
                                                                                <a:chOff x="1239840" y="1300320"/>
                                                                                <a:chExt cx="5587560" cy="487080"/>
                                                                              </a:xfrm>
                                                                            </p:grpSpPr>
                                                                            <p:grpSp>
                                                                              <p:nvGrpSpPr>
                                                                                <p:cNvPr id="142" name="Группа 130"/>
                                                                                <p:cNvGrpSpPr/>
                                                                                <p:nvPr/>
                                                                              </p:nvGrpSpPr>
                                                                              <p:grpSpPr>
                                                                                <a:xfrm>
                                                                                  <a:off x="1239840" y="1300320"/>
                                                                                  <a:ext cx="5587560" cy="487080"/>
                                                                                  <a:chOff x="1239840" y="1300320"/>
                                                                                  <a:chExt cx="5587560" cy="487080"/>
                                                                                </a:xfrm>
                                                                              </p:grpSpPr>
                                                                              <p:grpSp>
                                                                                <p:nvGrpSpPr>
                                                                                  <p:cNvPr id="143" name="Группа 132"/>
                                                                                  <p:cNvGrpSpPr/>
                                                                                  <p:nvPr/>
                                                                                </p:nvGrpSpPr>
                                                                                <p:grpSpPr>
                                                                                  <a:xfrm>
                                                                                    <a:off x="1239840" y="1300320"/>
                                                                                    <a:ext cx="5587560" cy="487080"/>
                                                                                    <a:chOff x="1239840" y="1300320"/>
                                                                                    <a:chExt cx="5587560" cy="487080"/>
                                                                                  </a:xfrm>
                                                                                </p:grpSpPr>
                                                                                <p:grpSp>
                                                                                  <p:nvGrpSpPr>
                                                                                    <p:cNvPr id="144" name="Группа 134"/>
                                                                                    <p:cNvGrpSpPr/>
                                                                                    <p:nvPr/>
                                                                                  </p:nvGrpSpPr>
                                                                                  <p:grpSpPr>
                                                                                    <a:xfrm>
                                                                                      <a:off x="1239840" y="1300320"/>
                                                                                      <a:ext cx="5587560" cy="487080"/>
                                                                                      <a:chOff x="1239840" y="1300320"/>
                                                                                      <a:chExt cx="5587560" cy="487080"/>
                                                                                    </a:xfrm>
                                                                                  </p:grpSpPr>
                                                                                  <p:grpSp>
                                                                                    <p:nvGrpSpPr>
                                                                                      <p:cNvPr id="145" name="Группа 136"/>
                                                                                      <p:cNvGrpSpPr/>
                                                                                      <p:nvPr/>
                                                                                    </p:nvGrpSpPr>
                                                                                    <p:grpSpPr>
                                                                                      <a:xfrm>
                                                                                        <a:off x="1239840" y="1300320"/>
                                                                                        <a:ext cx="5587560" cy="487080"/>
                                                                                        <a:chOff x="1239840" y="1300320"/>
                                                                                        <a:chExt cx="5587560" cy="487080"/>
                                                                                      </a:xfrm>
                                                                                    </p:grpSpPr>
                                                                                    <p:grpSp>
                                                                                      <p:nvGrpSpPr>
                                                                                        <p:cNvPr id="146" name="Группа 138"/>
                                                                                        <p:cNvGrpSpPr/>
                                                                                        <p:nvPr/>
                                                                                      </p:nvGrpSpPr>
                                                                                      <p:grpSpPr>
                                                                                        <a:xfrm>
                                                                                          <a:off x="1239840" y="1300320"/>
                                                                                          <a:ext cx="5587560" cy="487080"/>
                                                                                          <a:chOff x="1239840" y="1300320"/>
                                                                                          <a:chExt cx="5587560" cy="487080"/>
                                                                                        </a:xfrm>
                                                                                      </p:grpSpPr>
                                                                                      <p:sp>
                                                                                        <p:nvSpPr>
                                                                                          <p:cNvPr id="147" name="Прямоугольник 140"/>
                                                                                          <p:cNvSpPr/>
                                                                                          <p:nvPr/>
                                                                                        </p:nvSpPr>
                                                                                        <p:spPr>
                                                                                          <a:xfrm>
                                                                                            <a:off x="1747800" y="1300320"/>
                                                                                            <a:ext cx="507960" cy="487080"/>
                                                                                          </a:xfrm>
                                                                                          <a:prstGeom prst="rect">
                                                                                            <a:avLst/>
                                                                                          </a:prstGeom>
                                                                                          <a:solidFill>
                                                                                            <a:srgbClr val="ffffff"/>
                                                                                          </a:solidFill>
                                                                                          <a:ln w="25560">
                                                                                            <a:solidFill>
                                                                                              <a:srgbClr val="000000"/>
                                                                                            </a:solidFill>
                                                                                            <a:miter/>
                                                                                          </a:ln>
                                                                                        </p:spPr>
                                                                                        <p:style>
                                                                                          <a:lnRef idx="0"/>
                                                                                          <a:fillRef idx="0"/>
                                                                                          <a:effectRef idx="0"/>
                                                                                          <a:fontRef idx="minor"/>
                                                                                        </p:style>
                                                                                        <p:txBody>
                                                                                          <a:bodyPr lIns="90000" rIns="90000" tIns="46800" bIns="46800" anchor="ctr">
                                                                                            <a:noAutofit/>
                                                                                          </a:bodyPr>
                                                                                          <a:p>
                                                                                            <a:pPr>
                                                                                              <a:tabLst>
                                                                                                <a:tab algn="l" pos="0"/>
                                                                                                <a:tab algn="l" pos="914400"/>
                                                                                                <a:tab algn="l" pos="1828800"/>
                                                                                                <a:tab algn="l" pos="2743200"/>
                                                                                                <a:tab algn="l" pos="3657600"/>
                                                                                                <a:tab algn="l" pos="4572000"/>
                                                                                                <a:tab algn="l" pos="5486400"/>
                                                                                                <a:tab algn="l" pos="6400800"/>
                                                                                                <a:tab algn="l" pos="7315200"/>
                                                                                                <a:tab algn="l" pos="8229600"/>
                                                                                                <a:tab algn="l" pos="9144000"/>
                                                                                                <a:tab algn="l" pos="10058400"/>
                                                                                              </a:tabLst>
                                                                                            </a:pPr>
                                                                                            <a:endParaRPr b="0" lang="en-US" sz="1800" spc="-1" strike="noStrike">
                                                                                              <a:solidFill>
                                                                                                <a:srgbClr val="000000"/>
                                                                                              </a:solidFill>
                                                                                              <a:latin typeface="Calibri"/>
                                                                                            </a:endParaRPr>
                                                                                          </a:p>
                                                                                        </p:txBody>
                                                                                      </p:sp>
                                                                                      <p:sp>
                                                                                        <p:nvSpPr>
                                                                                          <p:cNvPr id="148" name="Прямоугольник 141"/>
                                                                                          <p:cNvSpPr/>
                                                                                          <p:nvPr/>
                                                                                        </p:nvSpPr>
                                                                                        <p:spPr>
                                                                                          <a:xfrm>
                                                                                            <a:off x="2255760" y="1300320"/>
                                                                                            <a:ext cx="507960" cy="487080"/>
                                                                                          </a:xfrm>
                                                                                          <a:prstGeom prst="rect">
                                                                                            <a:avLst/>
                                                                                          </a:prstGeom>
                                                                                          <a:solidFill>
                                                                                            <a:srgbClr val="ffffff"/>
                                                                                          </a:solidFill>
                                                                                          <a:ln w="25560">
                                                                                            <a:solidFill>
                                                                                              <a:srgbClr val="000000"/>
                                                                                            </a:solidFill>
                                                                                            <a:miter/>
                                                                                          </a:ln>
                                                                                        </p:spPr>
                                                                                        <p:style>
                                                                                          <a:lnRef idx="0"/>
                                                                                          <a:fillRef idx="0"/>
                                                                                          <a:effectRef idx="0"/>
                                                                                          <a:fontRef idx="minor"/>
                                                                                        </p:style>
                                                                                        <p:txBody>
                                                                                          <a:bodyPr lIns="90000" rIns="90000" tIns="46800" bIns="46800" anchor="ctr">
                                                                                            <a:noAutofit/>
                                                                                          </a:bodyPr>
                                                                                          <a:p>
                                                                                            <a:pPr>
                                                                                              <a:tabLst>
                                                                                                <a:tab algn="l" pos="0"/>
                                                                                                <a:tab algn="l" pos="914400"/>
                                                                                                <a:tab algn="l" pos="1828800"/>
                                                                                                <a:tab algn="l" pos="2743200"/>
                                                                                                <a:tab algn="l" pos="3657600"/>
                                                                                                <a:tab algn="l" pos="4572000"/>
                                                                                                <a:tab algn="l" pos="5486400"/>
                                                                                                <a:tab algn="l" pos="6400800"/>
                                                                                                <a:tab algn="l" pos="7315200"/>
                                                                                                <a:tab algn="l" pos="8229600"/>
                                                                                                <a:tab algn="l" pos="9144000"/>
                                                                                                <a:tab algn="l" pos="10058400"/>
                                                                                              </a:tabLst>
                                                                                            </a:pPr>
                                                                                            <a:endParaRPr b="0" lang="en-US" sz="1800" spc="-1" strike="noStrike">
                                                                                              <a:solidFill>
                                                                                                <a:srgbClr val="000000"/>
                                                                                              </a:solidFill>
                                                                                              <a:latin typeface="Calibri"/>
                                                                                            </a:endParaRPr>
                                                                                          </a:p>
                                                                                        </p:txBody>
                                                                                      </p:sp>
                                                                                      <p:sp>
                                                                                        <p:nvSpPr>
                                                                                          <p:cNvPr id="149" name="Прямоугольник 142"/>
                                                                                          <p:cNvSpPr/>
                                                                                          <p:nvPr/>
                                                                                        </p:nvSpPr>
                                                                                        <p:spPr>
                                                                                          <a:xfrm>
                                                                                            <a:off x="2763720" y="1300320"/>
                                                                                            <a:ext cx="507960" cy="487080"/>
                                                                                          </a:xfrm>
                                                                                          <a:prstGeom prst="rect">
                                                                                            <a:avLst/>
                                                                                          </a:prstGeom>
                                                                                          <a:solidFill>
                                                                                            <a:srgbClr val="ffffff"/>
                                                                                          </a:solidFill>
                                                                                          <a:ln w="25560">
                                                                                            <a:solidFill>
                                                                                              <a:srgbClr val="000000"/>
                                                                                            </a:solidFill>
                                                                                            <a:miter/>
                                                                                          </a:ln>
                                                                                        </p:spPr>
                                                                                        <p:style>
                                                                                          <a:lnRef idx="0"/>
                                                                                          <a:fillRef idx="0"/>
                                                                                          <a:effectRef idx="0"/>
                                                                                          <a:fontRef idx="minor"/>
                                                                                        </p:style>
                                                                                        <p:txBody>
                                                                                          <a:bodyPr lIns="90000" rIns="90000" tIns="46800" bIns="46800" anchor="ctr">
                                                                                            <a:noAutofit/>
                                                                                          </a:bodyPr>
                                                                                          <a:p>
                                                                                            <a:pPr>
                                                                                              <a:tabLst>
                                                                                                <a:tab algn="l" pos="0"/>
                                                                                                <a:tab algn="l" pos="914400"/>
                                                                                                <a:tab algn="l" pos="1828800"/>
                                                                                                <a:tab algn="l" pos="2743200"/>
                                                                                                <a:tab algn="l" pos="3657600"/>
                                                                                                <a:tab algn="l" pos="4572000"/>
                                                                                                <a:tab algn="l" pos="5486400"/>
                                                                                                <a:tab algn="l" pos="6400800"/>
                                                                                                <a:tab algn="l" pos="7315200"/>
                                                                                                <a:tab algn="l" pos="8229600"/>
                                                                                                <a:tab algn="l" pos="9144000"/>
                                                                                                <a:tab algn="l" pos="10058400"/>
                                                                                              </a:tabLst>
                                                                                            </a:pPr>
                                                                                            <a:endParaRPr b="0" lang="en-US" sz="1800" spc="-1" strike="noStrike">
                                                                                              <a:solidFill>
                                                                                                <a:srgbClr val="000000"/>
                                                                                              </a:solidFill>
                                                                                              <a:latin typeface="Calibri"/>
                                                                                            </a:endParaRPr>
                                                                                          </a:p>
                                                                                        </p:txBody>
                                                                                      </p:sp>
                                                                                      <p:sp>
                                                                                        <p:nvSpPr>
                                                                                          <p:cNvPr id="150" name="Прямоугольник 143"/>
                                                                                          <p:cNvSpPr/>
                                                                                          <p:nvPr/>
                                                                                        </p:nvSpPr>
                                                                                        <p:spPr>
                                                                                          <a:xfrm>
                                                                                            <a:off x="3271680" y="1300320"/>
                                                                                            <a:ext cx="507960" cy="487080"/>
                                                                                          </a:xfrm>
                                                                                          <a:prstGeom prst="rect">
                                                                                            <a:avLst/>
                                                                                          </a:prstGeom>
                                                                                          <a:solidFill>
                                                                                            <a:srgbClr val="ffffff"/>
                                                                                          </a:solidFill>
                                                                                          <a:ln w="25560">
                                                                                            <a:solidFill>
                                                                                              <a:srgbClr val="000000"/>
                                                                                            </a:solidFill>
                                                                                            <a:miter/>
                                                                                          </a:ln>
                                                                                        </p:spPr>
                                                                                        <p:style>
                                                                                          <a:lnRef idx="0"/>
                                                                                          <a:fillRef idx="0"/>
                                                                                          <a:effectRef idx="0"/>
                                                                                          <a:fontRef idx="minor"/>
                                                                                        </p:style>
                                                                                        <p:txBody>
                                                                                          <a:bodyPr lIns="90000" rIns="90000" tIns="46800" bIns="46800" anchor="ctr">
                                                                                            <a:noAutofit/>
                                                                                          </a:bodyPr>
                                                                                          <a:p>
                                                                                            <a:pPr>
                                                                                              <a:tabLst>
                                                                                                <a:tab algn="l" pos="0"/>
                                                                                                <a:tab algn="l" pos="914400"/>
                                                                                                <a:tab algn="l" pos="1828800"/>
                                                                                                <a:tab algn="l" pos="2743200"/>
                                                                                                <a:tab algn="l" pos="3657600"/>
                                                                                                <a:tab algn="l" pos="4572000"/>
                                                                                                <a:tab algn="l" pos="5486400"/>
                                                                                                <a:tab algn="l" pos="6400800"/>
                                                                                                <a:tab algn="l" pos="7315200"/>
                                                                                                <a:tab algn="l" pos="8229600"/>
                                                                                                <a:tab algn="l" pos="9144000"/>
                                                                                                <a:tab algn="l" pos="10058400"/>
                                                                                              </a:tabLst>
                                                                                            </a:pPr>
                                                                                            <a:endParaRPr b="0" lang="en-US" sz="1800" spc="-1" strike="noStrike">
                                                                                              <a:solidFill>
                                                                                                <a:srgbClr val="000000"/>
                                                                                              </a:solidFill>
                                                                                              <a:latin typeface="Calibri"/>
                                                                                            </a:endParaRPr>
                                                                                          </a:p>
                                                                                        </p:txBody>
                                                                                      </p:sp>
                                                                                      <p:sp>
                                                                                        <p:nvSpPr>
                                                                                          <p:cNvPr id="151" name="Прямоугольник 144"/>
                                                                                          <p:cNvSpPr/>
                                                                                          <p:nvPr/>
                                                                                        </p:nvSpPr>
                                                                                        <p:spPr>
                                                                                          <a:xfrm>
                                                                                            <a:off x="3779640" y="1300320"/>
                                                                                            <a:ext cx="507960" cy="487080"/>
                                                                                          </a:xfrm>
                                                                                          <a:prstGeom prst="rect">
                                                                                            <a:avLst/>
                                                                                          </a:prstGeom>
                                                                                          <a:solidFill>
                                                                                            <a:srgbClr val="ffffff"/>
                                                                                          </a:solidFill>
                                                                                          <a:ln w="25560">
                                                                                            <a:solidFill>
                                                                                              <a:srgbClr val="000000"/>
                                                                                            </a:solidFill>
                                                                                            <a:miter/>
                                                                                          </a:ln>
                                                                                        </p:spPr>
                                                                                        <p:style>
                                                                                          <a:lnRef idx="0"/>
                                                                                          <a:fillRef idx="0"/>
                                                                                          <a:effectRef idx="0"/>
                                                                                          <a:fontRef idx="minor"/>
                                                                                        </p:style>
                                                                                        <p:txBody>
                                                                                          <a:bodyPr lIns="90000" rIns="90000" tIns="46800" bIns="46800" anchor="ctr">
                                                                                            <a:noAutofit/>
                                                                                          </a:bodyPr>
                                                                                          <a:p>
                                                                                            <a:pPr>
                                                                                              <a:tabLst>
                                                                                                <a:tab algn="l" pos="0"/>
                                                                                                <a:tab algn="l" pos="914400"/>
                                                                                                <a:tab algn="l" pos="1828800"/>
                                                                                                <a:tab algn="l" pos="2743200"/>
                                                                                                <a:tab algn="l" pos="3657600"/>
                                                                                                <a:tab algn="l" pos="4572000"/>
                                                                                                <a:tab algn="l" pos="5486400"/>
                                                                                                <a:tab algn="l" pos="6400800"/>
                                                                                                <a:tab algn="l" pos="7315200"/>
                                                                                                <a:tab algn="l" pos="8229600"/>
                                                                                                <a:tab algn="l" pos="9144000"/>
                                                                                                <a:tab algn="l" pos="10058400"/>
                                                                                              </a:tabLst>
                                                                                            </a:pPr>
                                                                                            <a:endParaRPr b="0" lang="en-US" sz="1800" spc="-1" strike="noStrike">
                                                                                              <a:solidFill>
                                                                                                <a:srgbClr val="000000"/>
                                                                                              </a:solidFill>
                                                                                              <a:latin typeface="Calibri"/>
                                                                                            </a:endParaRPr>
                                                                                          </a:p>
                                                                                        </p:txBody>
                                                                                      </p:sp>
                                                                                      <p:sp>
                                                                                        <p:nvSpPr>
                                                                                          <p:cNvPr id="152" name="Прямоугольник 145"/>
                                                                                          <p:cNvSpPr/>
                                                                                          <p:nvPr/>
                                                                                        </p:nvSpPr>
                                                                                        <p:spPr>
                                                                                          <a:xfrm>
                                                                                            <a:off x="4287600" y="1300320"/>
                                                                                            <a:ext cx="507960" cy="487080"/>
                                                                                          </a:xfrm>
                                                                                          <a:prstGeom prst="rect">
                                                                                            <a:avLst/>
                                                                                          </a:prstGeom>
                                                                                          <a:solidFill>
                                                                                            <a:srgbClr val="ffffff"/>
                                                                                          </a:solidFill>
                                                                                          <a:ln w="25560">
                                                                                            <a:solidFill>
                                                                                              <a:srgbClr val="000000"/>
                                                                                            </a:solidFill>
                                                                                            <a:miter/>
                                                                                          </a:ln>
                                                                                        </p:spPr>
                                                                                        <p:style>
                                                                                          <a:lnRef idx="0"/>
                                                                                          <a:fillRef idx="0"/>
                                                                                          <a:effectRef idx="0"/>
                                                                                          <a:fontRef idx="minor"/>
                                                                                        </p:style>
                                                                                        <p:txBody>
                                                                                          <a:bodyPr lIns="90000" rIns="90000" tIns="46800" bIns="46800" anchor="ctr">
                                                                                            <a:noAutofit/>
                                                                                          </a:bodyPr>
                                                                                          <a:p>
                                                                                            <a:pPr>
                                                                                              <a:tabLst>
                                                                                                <a:tab algn="l" pos="0"/>
                                                                                                <a:tab algn="l" pos="914400"/>
                                                                                                <a:tab algn="l" pos="1828800"/>
                                                                                                <a:tab algn="l" pos="2743200"/>
                                                                                                <a:tab algn="l" pos="3657600"/>
                                                                                                <a:tab algn="l" pos="4572000"/>
                                                                                                <a:tab algn="l" pos="5486400"/>
                                                                                                <a:tab algn="l" pos="6400800"/>
                                                                                                <a:tab algn="l" pos="7315200"/>
                                                                                                <a:tab algn="l" pos="8229600"/>
                                                                                                <a:tab algn="l" pos="9144000"/>
                                                                                                <a:tab algn="l" pos="10058400"/>
                                                                                              </a:tabLst>
                                                                                            </a:pPr>
                                                                                            <a:endParaRPr b="0" lang="en-US" sz="1800" spc="-1" strike="noStrike">
                                                                                              <a:solidFill>
                                                                                                <a:srgbClr val="000000"/>
                                                                                              </a:solidFill>
                                                                                              <a:latin typeface="Calibri"/>
                                                                                            </a:endParaRPr>
                                                                                          </a:p>
                                                                                        </p:txBody>
                                                                                      </p:sp>
                                                                                      <p:sp>
                                                                                        <p:nvSpPr>
                                                                                          <p:cNvPr id="153" name="Прямоугольник 146"/>
                                                                                          <p:cNvSpPr/>
                                                                                          <p:nvPr/>
                                                                                        </p:nvSpPr>
                                                                                        <p:spPr>
                                                                                          <a:xfrm>
                                                                                            <a:off x="4795560" y="1300320"/>
                                                                                            <a:ext cx="507960" cy="487080"/>
                                                                                          </a:xfrm>
                                                                                          <a:prstGeom prst="rect">
                                                                                            <a:avLst/>
                                                                                          </a:prstGeom>
                                                                                          <a:solidFill>
                                                                                            <a:srgbClr val="ffffff"/>
                                                                                          </a:solidFill>
                                                                                          <a:ln w="25560">
                                                                                            <a:solidFill>
                                                                                              <a:srgbClr val="000000"/>
                                                                                            </a:solidFill>
                                                                                            <a:miter/>
                                                                                          </a:ln>
                                                                                        </p:spPr>
                                                                                        <p:style>
                                                                                          <a:lnRef idx="0"/>
                                                                                          <a:fillRef idx="0"/>
                                                                                          <a:effectRef idx="0"/>
                                                                                          <a:fontRef idx="minor"/>
                                                                                        </p:style>
                                                                                        <p:txBody>
                                                                                          <a:bodyPr lIns="90000" rIns="90000" tIns="46800" bIns="46800" anchor="ctr">
                                                                                            <a:noAutofit/>
                                                                                          </a:bodyPr>
                                                                                          <a:p>
                                                                                            <a:pPr>
                                                                                              <a:tabLst>
                                                                                                <a:tab algn="l" pos="0"/>
                                                                                                <a:tab algn="l" pos="914400"/>
                                                                                                <a:tab algn="l" pos="1828800"/>
                                                                                                <a:tab algn="l" pos="2743200"/>
                                                                                                <a:tab algn="l" pos="3657600"/>
                                                                                                <a:tab algn="l" pos="4572000"/>
                                                                                                <a:tab algn="l" pos="5486400"/>
                                                                                                <a:tab algn="l" pos="6400800"/>
                                                                                                <a:tab algn="l" pos="7315200"/>
                                                                                                <a:tab algn="l" pos="8229600"/>
                                                                                                <a:tab algn="l" pos="9144000"/>
                                                                                                <a:tab algn="l" pos="10058400"/>
                                                                                              </a:tabLst>
                                                                                            </a:pPr>
                                                                                            <a:endParaRPr b="0" lang="en-US" sz="1800" spc="-1" strike="noStrike">
                                                                                              <a:solidFill>
                                                                                                <a:srgbClr val="000000"/>
                                                                                              </a:solidFill>
                                                                                              <a:latin typeface="Calibri"/>
                                                                                            </a:endParaRPr>
                                                                                          </a:p>
                                                                                        </p:txBody>
                                                                                      </p:sp>
                                                                                      <p:sp>
                                                                                        <p:nvSpPr>
                                                                                          <p:cNvPr id="154" name="Прямоугольник 147"/>
                                                                                          <p:cNvSpPr/>
                                                                                          <p:nvPr/>
                                                                                        </p:nvSpPr>
                                                                                        <p:spPr>
                                                                                          <a:xfrm>
                                                                                            <a:off x="5303520" y="1300320"/>
                                                                                            <a:ext cx="507960" cy="487080"/>
                                                                                          </a:xfrm>
                                                                                          <a:prstGeom prst="rect">
                                                                                            <a:avLst/>
                                                                                          </a:prstGeom>
                                                                                          <a:solidFill>
                                                                                            <a:srgbClr val="ffffff"/>
                                                                                          </a:solidFill>
                                                                                          <a:ln w="25560">
                                                                                            <a:solidFill>
                                                                                              <a:srgbClr val="000000"/>
                                                                                            </a:solidFill>
                                                                                            <a:miter/>
                                                                                          </a:ln>
                                                                                        </p:spPr>
                                                                                        <p:style>
                                                                                          <a:lnRef idx="0"/>
                                                                                          <a:fillRef idx="0"/>
                                                                                          <a:effectRef idx="0"/>
                                                                                          <a:fontRef idx="minor"/>
                                                                                        </p:style>
                                                                                        <p:txBody>
                                                                                          <a:bodyPr lIns="90000" rIns="90000" tIns="46800" bIns="46800" anchor="ctr">
                                                                                            <a:noAutofit/>
                                                                                          </a:bodyPr>
                                                                                          <a:p>
                                                                                            <a:pPr>
                                                                                              <a:tabLst>
                                                                                                <a:tab algn="l" pos="0"/>
                                                                                                <a:tab algn="l" pos="914400"/>
                                                                                                <a:tab algn="l" pos="1828800"/>
                                                                                                <a:tab algn="l" pos="2743200"/>
                                                                                                <a:tab algn="l" pos="3657600"/>
                                                                                                <a:tab algn="l" pos="4572000"/>
                                                                                                <a:tab algn="l" pos="5486400"/>
                                                                                                <a:tab algn="l" pos="6400800"/>
                                                                                                <a:tab algn="l" pos="7315200"/>
                                                                                                <a:tab algn="l" pos="8229600"/>
                                                                                                <a:tab algn="l" pos="9144000"/>
                                                                                                <a:tab algn="l" pos="10058400"/>
                                                                                              </a:tabLst>
                                                                                            </a:pPr>
                                                                                            <a:endParaRPr b="0" lang="en-US" sz="1800" spc="-1" strike="noStrike">
                                                                                              <a:solidFill>
                                                                                                <a:srgbClr val="000000"/>
                                                                                              </a:solidFill>
                                                                                              <a:latin typeface="Calibri"/>
                                                                                            </a:endParaRPr>
                                                                                          </a:p>
                                                                                        </p:txBody>
                                                                                      </p:sp>
                                                                                      <p:sp>
                                                                                        <p:nvSpPr>
                                                                                          <p:cNvPr id="155" name="Прямоугольник 148"/>
                                                                                          <p:cNvSpPr/>
                                                                                          <p:nvPr/>
                                                                                        </p:nvSpPr>
                                                                                        <p:spPr>
                                                                                          <a:xfrm>
                                                                                            <a:off x="5811480" y="1300320"/>
                                                                                            <a:ext cx="507960" cy="487080"/>
                                                                                          </a:xfrm>
                                                                                          <a:prstGeom prst="rect">
                                                                                            <a:avLst/>
                                                                                          </a:prstGeom>
                                                                                          <a:solidFill>
                                                                                            <a:srgbClr val="ffffff"/>
                                                                                          </a:solidFill>
                                                                                          <a:ln w="25560">
                                                                                            <a:solidFill>
                                                                                              <a:srgbClr val="000000"/>
                                                                                            </a:solidFill>
                                                                                            <a:miter/>
                                                                                          </a:ln>
                                                                                        </p:spPr>
                                                                                        <p:style>
                                                                                          <a:lnRef idx="0"/>
                                                                                          <a:fillRef idx="0"/>
                                                                                          <a:effectRef idx="0"/>
                                                                                          <a:fontRef idx="minor"/>
                                                                                        </p:style>
                                                                                        <p:txBody>
                                                                                          <a:bodyPr lIns="90000" rIns="90000" tIns="46800" bIns="46800" anchor="ctr">
                                                                                            <a:noAutofit/>
                                                                                          </a:bodyPr>
                                                                                          <a:p>
                                                                                            <a:pPr>
                                                                                              <a:tabLst>
                                                                                                <a:tab algn="l" pos="0"/>
                                                                                                <a:tab algn="l" pos="914400"/>
                                                                                                <a:tab algn="l" pos="1828800"/>
                                                                                                <a:tab algn="l" pos="2743200"/>
                                                                                                <a:tab algn="l" pos="3657600"/>
                                                                                                <a:tab algn="l" pos="4572000"/>
                                                                                                <a:tab algn="l" pos="5486400"/>
                                                                                                <a:tab algn="l" pos="6400800"/>
                                                                                                <a:tab algn="l" pos="7315200"/>
                                                                                                <a:tab algn="l" pos="8229600"/>
                                                                                                <a:tab algn="l" pos="9144000"/>
                                                                                                <a:tab algn="l" pos="10058400"/>
                                                                                              </a:tabLst>
                                                                                            </a:pPr>
                                                                                            <a:endParaRPr b="0" lang="en-US" sz="1800" spc="-1" strike="noStrike">
                                                                                              <a:solidFill>
                                                                                                <a:srgbClr val="000000"/>
                                                                                              </a:solidFill>
                                                                                              <a:latin typeface="Calibri"/>
                                                                                            </a:endParaRPr>
                                                                                          </a:p>
                                                                                        </p:txBody>
                                                                                      </p:sp>
                                                                                      <p:sp>
                                                                                        <p:nvSpPr>
                                                                                          <p:cNvPr id="156" name="Прямоугольник 149"/>
                                                                                          <p:cNvSpPr/>
                                                                                          <p:nvPr/>
                                                                                        </p:nvSpPr>
                                                                                        <p:spPr>
                                                                                          <a:xfrm>
                                                                                            <a:off x="6319440" y="1300320"/>
                                                                                            <a:ext cx="507960" cy="487080"/>
                                                                                          </a:xfrm>
                                                                                          <a:prstGeom prst="rect">
                                                                                            <a:avLst/>
                                                                                          </a:prstGeom>
                                                                                          <a:solidFill>
                                                                                            <a:srgbClr val="ffffff"/>
                                                                                          </a:solidFill>
                                                                                          <a:ln w="25560">
                                                                                            <a:solidFill>
                                                                                              <a:srgbClr val="000000"/>
                                                                                            </a:solidFill>
                                                                                            <a:miter/>
                                                                                          </a:ln>
                                                                                        </p:spPr>
                                                                                        <p:style>
                                                                                          <a:lnRef idx="0"/>
                                                                                          <a:fillRef idx="0"/>
                                                                                          <a:effectRef idx="0"/>
                                                                                          <a:fontRef idx="minor"/>
                                                                                        </p:style>
                                                                                        <p:txBody>
                                                                                          <a:bodyPr lIns="90000" rIns="90000" tIns="46800" bIns="46800" anchor="ctr">
                                                                                            <a:noAutofit/>
                                                                                          </a:bodyPr>
                                                                                          <a:p>
                                                                                            <a:pPr>
                                                                                              <a:tabLst>
                                                                                                <a:tab algn="l" pos="0"/>
                                                                                                <a:tab algn="l" pos="914400"/>
                                                                                                <a:tab algn="l" pos="1828800"/>
                                                                                                <a:tab algn="l" pos="2743200"/>
                                                                                                <a:tab algn="l" pos="3657600"/>
                                                                                                <a:tab algn="l" pos="4572000"/>
                                                                                                <a:tab algn="l" pos="5486400"/>
                                                                                                <a:tab algn="l" pos="6400800"/>
                                                                                                <a:tab algn="l" pos="7315200"/>
                                                                                                <a:tab algn="l" pos="8229600"/>
                                                                                                <a:tab algn="l" pos="9144000"/>
                                                                                                <a:tab algn="l" pos="10058400"/>
                                                                                              </a:tabLst>
                                                                                            </a:pPr>
                                                                                            <a:endParaRPr b="0" lang="en-US" sz="1800" spc="-1" strike="noStrike">
                                                                                              <a:solidFill>
                                                                                                <a:srgbClr val="000000"/>
                                                                                              </a:solidFill>
                                                                                              <a:latin typeface="Calibri"/>
                                                                                            </a:endParaRPr>
                                                                                          </a:p>
                                                                                        </p:txBody>
                                                                                      </p:sp>
                                                                                      <p:sp>
                                                                                        <p:nvSpPr>
                                                                                          <p:cNvPr id="157" name="Прямоугольник 150"/>
                                                                                          <p:cNvSpPr/>
                                                                                          <p:nvPr/>
                                                                                        </p:nvSpPr>
                                                                                        <p:spPr>
                                                                                          <a:xfrm>
                                                                                            <a:off x="1239840" y="1300320"/>
                                                                                            <a:ext cx="507960" cy="487080"/>
                                                                                          </a:xfrm>
                                                                                          <a:prstGeom prst="rect">
                                                                                            <a:avLst/>
                                                                                          </a:prstGeom>
                                                                                          <a:solidFill>
                                                                                            <a:srgbClr val="ffffff"/>
                                                                                          </a:solidFill>
                                                                                          <a:ln w="25560">
                                                                                            <a:solidFill>
                                                                                              <a:srgbClr val="000000"/>
                                                                                            </a:solidFill>
                                                                                            <a:miter/>
                                                                                          </a:ln>
                                                                                        </p:spPr>
                                                                                        <p:style>
                                                                                          <a:lnRef idx="0"/>
                                                                                          <a:fillRef idx="0"/>
                                                                                          <a:effectRef idx="0"/>
                                                                                          <a:fontRef idx="minor"/>
                                                                                        </p:style>
                                                                                        <p:txBody>
                                                                                          <a:bodyPr lIns="90000" rIns="90000" tIns="46800" bIns="46800" anchor="ctr">
                                                                                            <a:noAutofit/>
                                                                                          </a:bodyPr>
                                                                                          <a:p>
                                                                                            <a:pPr>
                                                                                              <a:tabLst>
                                                                                                <a:tab algn="l" pos="0"/>
                                                                                                <a:tab algn="l" pos="914400"/>
                                                                                                <a:tab algn="l" pos="1828800"/>
                                                                                                <a:tab algn="l" pos="2743200"/>
                                                                                                <a:tab algn="l" pos="3657600"/>
                                                                                                <a:tab algn="l" pos="4572000"/>
                                                                                                <a:tab algn="l" pos="5486400"/>
                                                                                                <a:tab algn="l" pos="6400800"/>
                                                                                                <a:tab algn="l" pos="7315200"/>
                                                                                                <a:tab algn="l" pos="8229600"/>
                                                                                                <a:tab algn="l" pos="9144000"/>
                                                                                                <a:tab algn="l" pos="10058400"/>
                                                                                              </a:tabLst>
                                                                                            </a:pPr>
                                                                                            <a:endParaRPr b="0" lang="en-US" sz="1800" spc="-1" strike="noStrike">
                                                                                              <a:solidFill>
                                                                                                <a:srgbClr val="000000"/>
                                                                                              </a:solidFill>
                                                                                              <a:latin typeface="Calibri"/>
                                                                                            </a:endParaRPr>
                                                                                          </a:p>
                                                                                        </p:txBody>
                                                                                      </p:sp>
                                                                                    </p:grpSp>
                                                                                    <p:sp>
                                                                                      <p:nvSpPr>
                                                                                        <p:cNvPr id="158" name="Надпись 2"/>
                                                                                        <p:cNvSpPr/>
                                                                                        <p:nvPr/>
                                                                                      </p:nvSpPr>
                                                                                      <p:spPr>
                                                                                        <a:xfrm>
                                                                                          <a:off x="1329480" y="1347480"/>
                                                                                          <a:ext cx="328680" cy="400680"/>
                                                                                        </a:xfrm>
                                                                                        <a:prstGeom prst="rect">
                                                                                          <a:avLst/>
                                                                                        </a:prstGeom>
                                                                                        <a:solidFill>
                                                                                          <a:srgbClr val="ffffff"/>
                                                                                        </a:solidFill>
                                                                                        <a:ln w="0">
                                                                                          <a:noFill/>
                                                                                        </a:ln>
                                                                                      </p:spPr>
                                                                                      <p:style>
                                                                                        <a:lnRef idx="0"/>
                                                                                        <a:fillRef idx="0"/>
                                                                                        <a:effectRef idx="0"/>
                                                                                        <a:fontRef idx="minor"/>
                                                                                      </p:style>
                                                                                      <p:txBody>
                                                                                        <a:bodyPr lIns="90000" rIns="90000" tIns="46800" bIns="46800" anchor="t">
                                                                                          <a:noAutofit/>
                                                                                        </a:bodyPr>
                                                                                        <a:p>
                                                                                          <a:pPr>
                                                                                            <a:lnSpc>
                                                                                              <a:spcPct val="115000"/>
                                                                                            </a:lnSpc>
                                                                                            <a:spcAft>
                                                                                              <a:spcPts val="1001"/>
                                                                                            </a:spcAft>
                                                                                            <a:tabLst>
                                                                                              <a:tab algn="l" pos="0"/>
                                                                                              <a:tab algn="l" pos="914400"/>
                                                                                              <a:tab algn="l" pos="1828800"/>
                                                                                              <a:tab algn="l" pos="2743200"/>
                                                                                              <a:tab algn="l" pos="3657600"/>
                                                                                              <a:tab algn="l" pos="4572000"/>
                                                                                              <a:tab algn="l" pos="5486400"/>
                                                                                              <a:tab algn="l" pos="6400800"/>
                                                                                              <a:tab algn="l" pos="7315200"/>
                                                                                              <a:tab algn="l" pos="8229600"/>
                                                                                              <a:tab algn="l" pos="9144000"/>
                                                                                              <a:tab algn="l" pos="10058400"/>
                                                                                            </a:tabLst>
                                                                                          </a:pPr>
                                                                                          <a:r>
                                                                                            <a:rPr b="1" lang="ru-RU" sz="2600" spc="-1" strike="noStrike">
                                                                                              <a:solidFill>
                                                                                                <a:srgbClr val="000000"/>
                                                                                              </a:solidFill>
                                                                                              <a:latin typeface="Calibri"/>
                                                                                              <a:ea typeface="Calibri"/>
                                                                                            </a:rPr>
                                                                                            <a:t>п</a:t>
                                                                                          </a:r>
                                                                                          <a:endParaRPr b="0" lang="en-US" sz="2600" spc="-1" strike="noStrike">
                                                                                            <a:solidFill>
                                                                                              <a:srgbClr val="000000"/>
                                                                                            </a:solidFill>
                                                                                            <a:latin typeface="Calibri"/>
                                                                                          </a:endParaRPr>
                                                                                        </a:p>
                                                                                      </p:txBody>
                                                                                    </p:sp>
                                                                                  </p:grpSp>
                                                                                  <p:sp>
                                                                                    <p:nvSpPr>
                                                                                      <p:cNvPr id="159" name="Надпись 2"/>
                                                                                      <p:cNvSpPr/>
                                                                                      <p:nvPr/>
                                                                                    </p:nvSpPr>
                                                                                    <p:spPr>
                                                                                      <a:xfrm>
                                                                                        <a:off x="1882080" y="1347480"/>
                                                                                        <a:ext cx="328680" cy="400680"/>
                                                                                      </a:xfrm>
                                                                                      <a:prstGeom prst="rect">
                                                                                        <a:avLst/>
                                                                                      </a:prstGeom>
                                                                                      <a:solidFill>
                                                                                        <a:srgbClr val="ffffff"/>
                                                                                      </a:solidFill>
                                                                                      <a:ln w="0">
                                                                                        <a:noFill/>
                                                                                      </a:ln>
                                                                                    </p:spPr>
                                                                                    <p:style>
                                                                                      <a:lnRef idx="0"/>
                                                                                      <a:fillRef idx="0"/>
                                                                                      <a:effectRef idx="0"/>
                                                                                      <a:fontRef idx="minor"/>
                                                                                    </p:style>
                                                                                    <p:txBody>
                                                                                      <a:bodyPr lIns="90000" rIns="90000" tIns="46800" bIns="46800" anchor="t">
                                                                                        <a:noAutofit/>
                                                                                      </a:bodyPr>
                                                                                      <a:p>
                                                                                        <a:pPr>
                                                                                          <a:lnSpc>
                                                                                            <a:spcPct val="115000"/>
                                                                                          </a:lnSpc>
                                                                                          <a:spcAft>
                                                                                            <a:spcPts val="1001"/>
                                                                                          </a:spcAft>
                                                                                          <a:tabLst>
                                                                                            <a:tab algn="l" pos="0"/>
                                                                                            <a:tab algn="l" pos="914400"/>
                                                                                            <a:tab algn="l" pos="1828800"/>
                                                                                            <a:tab algn="l" pos="2743200"/>
                                                                                            <a:tab algn="l" pos="3657600"/>
                                                                                            <a:tab algn="l" pos="4572000"/>
                                                                                            <a:tab algn="l" pos="5486400"/>
                                                                                            <a:tab algn="l" pos="6400800"/>
                                                                                            <a:tab algn="l" pos="7315200"/>
                                                                                            <a:tab algn="l" pos="8229600"/>
                                                                                            <a:tab algn="l" pos="9144000"/>
                                                                                            <a:tab algn="l" pos="10058400"/>
                                                                                          </a:tabLst>
                                                                                        </a:pPr>
                                                                                        <a:r>
                                                                                          <a:rPr b="1" lang="ru-RU" sz="2600" spc="-1" strike="noStrike">
                                                                                            <a:solidFill>
                                                                                              <a:srgbClr val="000000"/>
                                                                                            </a:solidFill>
                                                                                            <a:latin typeface="Calibri"/>
                                                                                            <a:ea typeface="Calibri"/>
                                                                                          </a:rPr>
                                                                                          <a:t>р</a:t>
                                                                                        </a:r>
                                                                                        <a:endParaRPr b="0" lang="en-US" sz="2600" spc="-1" strike="noStrike">
                                                                                          <a:solidFill>
                                                                                            <a:srgbClr val="000000"/>
                                                                                          </a:solidFill>
                                                                                          <a:latin typeface="Calibri"/>
                                                                                        </a:endParaRPr>
                                                                                      </a:p>
                                                                                    </p:txBody>
                                                                                  </p:sp>
                                                                                </p:grpSp>
                                                                                <p:sp>
                                                                                  <p:nvSpPr>
                                                                                    <p:cNvPr id="160" name="Надпись 2"/>
                                                                                    <p:cNvSpPr/>
                                                                                    <p:nvPr/>
                                                                                  </p:nvSpPr>
                                                                                  <p:spPr>
                                                                                    <a:xfrm>
                                                                                      <a:off x="2360160" y="1347480"/>
                                                                                      <a:ext cx="328680" cy="400680"/>
                                                                                    </a:xfrm>
                                                                                    <a:prstGeom prst="rect">
                                                                                      <a:avLst/>
                                                                                    </a:prstGeom>
                                                                                    <a:solidFill>
                                                                                      <a:srgbClr val="ffffff"/>
                                                                                    </a:solidFill>
                                                                                    <a:ln w="0">
                                                                                      <a:noFill/>
                                                                                    </a:ln>
                                                                                  </p:spPr>
                                                                                  <p:style>
                                                                                    <a:lnRef idx="0"/>
                                                                                    <a:fillRef idx="0"/>
                                                                                    <a:effectRef idx="0"/>
                                                                                    <a:fontRef idx="minor"/>
                                                                                  </p:style>
                                                                                  <p:txBody>
                                                                                    <a:bodyPr lIns="90000" rIns="90000" tIns="46800" bIns="46800" anchor="t">
                                                                                      <a:noAutofit/>
                                                                                    </a:bodyPr>
                                                                                    <a:p>
                                                                                      <a:pPr>
                                                                                        <a:lnSpc>
                                                                                          <a:spcPct val="115000"/>
                                                                                        </a:lnSpc>
                                                                                        <a:spcAft>
                                                                                          <a:spcPts val="1001"/>
                                                                                        </a:spcAft>
                                                                                        <a:tabLst>
                                                                                          <a:tab algn="l" pos="0"/>
                                                                                          <a:tab algn="l" pos="914400"/>
                                                                                          <a:tab algn="l" pos="1828800"/>
                                                                                          <a:tab algn="l" pos="2743200"/>
                                                                                          <a:tab algn="l" pos="3657600"/>
                                                                                          <a:tab algn="l" pos="4572000"/>
                                                                                          <a:tab algn="l" pos="5486400"/>
                                                                                          <a:tab algn="l" pos="6400800"/>
                                                                                          <a:tab algn="l" pos="7315200"/>
                                                                                          <a:tab algn="l" pos="8229600"/>
                                                                                          <a:tab algn="l" pos="9144000"/>
                                                                                          <a:tab algn="l" pos="10058400"/>
                                                                                        </a:tabLst>
                                                                                      </a:pPr>
                                                                                      <a:r>
                                                                                        <a:rPr b="1" lang="ru-RU" sz="2600" spc="-1" strike="noStrike">
                                                                                          <a:solidFill>
                                                                                            <a:srgbClr val="000000"/>
                                                                                          </a:solidFill>
                                                                                          <a:latin typeface="Calibri"/>
                                                                                          <a:ea typeface="Calibri"/>
                                                                                        </a:rPr>
                                                                                        <a:t>и</a:t>
                                                                                      </a:r>
                                                                                      <a:endParaRPr b="0" lang="en-US" sz="2600" spc="-1" strike="noStrike">
                                                                                        <a:solidFill>
                                                                                          <a:srgbClr val="000000"/>
                                                                                        </a:solidFill>
                                                                                        <a:latin typeface="Calibri"/>
                                                                                      </a:endParaRPr>
                                                                                    </a:p>
                                                                                  </p:txBody>
                                                                                </p:sp>
                                                                              </p:grpSp>
                                                                              <p:sp>
                                                                                <p:nvSpPr>
                                                                                  <p:cNvPr id="161" name="Надпись 2"/>
                                                                                  <p:cNvSpPr/>
                                                                                  <p:nvPr/>
                                                                                </p:nvSpPr>
                                                                                <p:spPr>
                                                                                  <a:xfrm>
                                                                                    <a:off x="2883240" y="1347480"/>
                                                                                    <a:ext cx="328680" cy="400680"/>
                                                                                  </a:xfrm>
                                                                                  <a:prstGeom prst="rect">
                                                                                    <a:avLst/>
                                                                                  </a:prstGeom>
                                                                                  <a:solidFill>
                                                                                    <a:srgbClr val="ffffff"/>
                                                                                  </a:solidFill>
                                                                                  <a:ln w="0">
                                                                                    <a:noFill/>
                                                                                  </a:ln>
                                                                                </p:spPr>
                                                                                <p:style>
                                                                                  <a:lnRef idx="0"/>
                                                                                  <a:fillRef idx="0"/>
                                                                                  <a:effectRef idx="0"/>
                                                                                  <a:fontRef idx="minor"/>
                                                                                </p:style>
                                                                                <p:txBody>
                                                                                  <a:bodyPr lIns="90000" rIns="90000" tIns="46800" bIns="46800" anchor="t">
                                                                                    <a:noAutofit/>
                                                                                  </a:bodyPr>
                                                                                  <a:p>
                                                                                    <a:pPr>
                                                                                      <a:lnSpc>
                                                                                        <a:spcPct val="115000"/>
                                                                                      </a:lnSpc>
                                                                                      <a:spcAft>
                                                                                        <a:spcPts val="1001"/>
                                                                                      </a:spcAft>
                                                                                      <a:tabLst>
                                                                                        <a:tab algn="l" pos="0"/>
                                                                                        <a:tab algn="l" pos="914400"/>
                                                                                        <a:tab algn="l" pos="1828800"/>
                                                                                        <a:tab algn="l" pos="2743200"/>
                                                                                        <a:tab algn="l" pos="3657600"/>
                                                                                        <a:tab algn="l" pos="4572000"/>
                                                                                        <a:tab algn="l" pos="5486400"/>
                                                                                        <a:tab algn="l" pos="6400800"/>
                                                                                        <a:tab algn="l" pos="7315200"/>
                                                                                        <a:tab algn="l" pos="8229600"/>
                                                                                        <a:tab algn="l" pos="9144000"/>
                                                                                        <a:tab algn="l" pos="10058400"/>
                                                                                      </a:tabLst>
                                                                                    </a:pPr>
                                                                                    <a:r>
                                                                                      <a:rPr b="1" lang="ru-RU" sz="2600" spc="-1" strike="noStrike">
                                                                                        <a:solidFill>
                                                                                          <a:srgbClr val="000000"/>
                                                                                        </a:solidFill>
                                                                                        <a:latin typeface="Calibri"/>
                                                                                        <a:ea typeface="Calibri"/>
                                                                                      </a:rPr>
                                                                                      <a:t>в</a:t>
                                                                                    </a:r>
                                                                                    <a:endParaRPr b="0" lang="en-US" sz="2600" spc="-1" strike="noStrike">
                                                                                      <a:solidFill>
                                                                                        <a:srgbClr val="000000"/>
                                                                                      </a:solidFill>
                                                                                      <a:latin typeface="Calibri"/>
                                                                                    </a:endParaRPr>
                                                                                  </a:p>
                                                                                </p:txBody>
                                                                              </p:sp>
                                                                            </p:grpSp>
                                                                            <p:sp>
                                                                              <p:nvSpPr>
                                                                                <p:cNvPr id="162" name="Надпись 2"/>
                                                                                <p:cNvSpPr/>
                                                                                <p:nvPr/>
                                                                              </p:nvSpPr>
                                                                              <p:spPr>
                                                                                <a:xfrm>
                                                                                  <a:off x="3368880" y="1355040"/>
                                                                                  <a:ext cx="328680" cy="400680"/>
                                                                                </a:xfrm>
                                                                                <a:prstGeom prst="rect">
                                                                                  <a:avLst/>
                                                                                </a:prstGeom>
                                                                                <a:solidFill>
                                                                                  <a:srgbClr val="ffffff"/>
                                                                                </a:solidFill>
                                                                                <a:ln w="0">
                                                                                  <a:noFill/>
                                                                                </a:ln>
                                                                              </p:spPr>
                                                                              <p:style>
                                                                                <a:lnRef idx="0"/>
                                                                                <a:fillRef idx="0"/>
                                                                                <a:effectRef idx="0"/>
                                                                                <a:fontRef idx="minor"/>
                                                                              </p:style>
                                                                              <p:txBody>
                                                                                <a:bodyPr lIns="90000" rIns="90000" tIns="46800" bIns="46800" anchor="t">
                                                                                  <a:noAutofit/>
                                                                                </a:bodyPr>
                                                                                <a:p>
                                                                                  <a:pPr>
                                                                                    <a:lnSpc>
                                                                                      <a:spcPct val="115000"/>
                                                                                    </a:lnSpc>
                                                                                    <a:spcAft>
                                                                                      <a:spcPts val="1001"/>
                                                                                    </a:spcAft>
                                                                                    <a:tabLst>
                                                                                      <a:tab algn="l" pos="0"/>
                                                                                      <a:tab algn="l" pos="914400"/>
                                                                                      <a:tab algn="l" pos="1828800"/>
                                                                                      <a:tab algn="l" pos="2743200"/>
                                                                                      <a:tab algn="l" pos="3657600"/>
                                                                                      <a:tab algn="l" pos="4572000"/>
                                                                                      <a:tab algn="l" pos="5486400"/>
                                                                                      <a:tab algn="l" pos="6400800"/>
                                                                                      <a:tab algn="l" pos="7315200"/>
                                                                                      <a:tab algn="l" pos="8229600"/>
                                                                                      <a:tab algn="l" pos="9144000"/>
                                                                                      <a:tab algn="l" pos="10058400"/>
                                                                                    </a:tabLst>
                                                                                  </a:pPr>
                                                                                  <a:r>
                                                                                    <a:rPr b="1" lang="ru-RU" sz="2600" spc="-1" strike="noStrike">
                                                                                      <a:solidFill>
                                                                                        <a:srgbClr val="000000"/>
                                                                                      </a:solidFill>
                                                                                      <a:latin typeface="Calibri"/>
                                                                                      <a:ea typeface="Calibri"/>
                                                                                    </a:rPr>
                                                                                    <a:t>е</a:t>
                                                                                  </a:r>
                                                                                  <a:endParaRPr b="0" lang="en-US" sz="2600" spc="-1" strike="noStrike">
                                                                                    <a:solidFill>
                                                                                      <a:srgbClr val="000000"/>
                                                                                    </a:solidFill>
                                                                                    <a:latin typeface="Calibri"/>
                                                                                  </a:endParaRPr>
                                                                                </a:p>
                                                                              </p:txBody>
                                                                            </p:sp>
                                                                          </p:grpSp>
                                                                          <p:sp>
                                                                            <p:nvSpPr>
                                                                              <p:cNvPr id="163" name="Надпись 2"/>
                                                                              <p:cNvSpPr/>
                                                                              <p:nvPr/>
                                                                            </p:nvSpPr>
                                                                            <p:spPr>
                                                                              <a:xfrm>
                                                                                <a:off x="3891600" y="1355040"/>
                                                                                <a:ext cx="328680" cy="400680"/>
                                                                              </a:xfrm>
                                                                              <a:prstGeom prst="rect">
                                                                                <a:avLst/>
                                                                              </a:prstGeom>
                                                                              <a:solidFill>
                                                                                <a:srgbClr val="ffffff"/>
                                                                              </a:solidFill>
                                                                              <a:ln w="0">
                                                                                <a:noFill/>
                                                                              </a:ln>
                                                                            </p:spPr>
                                                                            <p:style>
                                                                              <a:lnRef idx="0"/>
                                                                              <a:fillRef idx="0"/>
                                                                              <a:effectRef idx="0"/>
                                                                              <a:fontRef idx="minor"/>
                                                                            </p:style>
                                                                            <p:txBody>
                                                                              <a:bodyPr lIns="90000" rIns="90000" tIns="46800" bIns="46800" anchor="t">
                                                                                <a:noAutofit/>
                                                                              </a:bodyPr>
                                                                              <a:p>
                                                                                <a:pPr>
                                                                                  <a:lnSpc>
                                                                                    <a:spcPct val="115000"/>
                                                                                  </a:lnSpc>
                                                                                  <a:spcAft>
                                                                                    <a:spcPts val="1001"/>
                                                                                  </a:spcAft>
                                                                                  <a:tabLst>
                                                                                    <a:tab algn="l" pos="0"/>
                                                                                    <a:tab algn="l" pos="914400"/>
                                                                                    <a:tab algn="l" pos="1828800"/>
                                                                                    <a:tab algn="l" pos="2743200"/>
                                                                                    <a:tab algn="l" pos="3657600"/>
                                                                                    <a:tab algn="l" pos="4572000"/>
                                                                                    <a:tab algn="l" pos="5486400"/>
                                                                                    <a:tab algn="l" pos="6400800"/>
                                                                                    <a:tab algn="l" pos="7315200"/>
                                                                                    <a:tab algn="l" pos="8229600"/>
                                                                                    <a:tab algn="l" pos="9144000"/>
                                                                                    <a:tab algn="l" pos="10058400"/>
                                                                                  </a:tabLst>
                                                                                </a:pPr>
                                                                                <a:r>
                                                                                  <a:rPr b="1" lang="ru-RU" sz="2600" spc="-1" strike="noStrike">
                                                                                    <a:solidFill>
                                                                                      <a:srgbClr val="ff0000"/>
                                                                                    </a:solidFill>
                                                                                    <a:latin typeface="Calibri"/>
                                                                                    <a:ea typeface="Calibri"/>
                                                                                  </a:rPr>
                                                                                  <a:t>т</a:t>
                                                                                </a:r>
                                                                                <a:endParaRPr b="0" lang="en-US" sz="2600" spc="-1" strike="noStrike">
                                                                                  <a:solidFill>
                                                                                    <a:srgbClr val="000000"/>
                                                                                  </a:solidFill>
                                                                                  <a:latin typeface="Calibri"/>
                                                                                </a:endParaRPr>
                                                                              </a:p>
                                                                            </p:txBody>
                                                                          </p:sp>
                                                                        </p:grpSp>
                                                                        <p:sp>
                                                                          <p:nvSpPr>
                                                                            <p:cNvPr id="164" name="Надпись 2"/>
                                                                            <p:cNvSpPr/>
                                                                            <p:nvPr/>
                                                                          </p:nvSpPr>
                                                                          <p:spPr>
                                                                            <a:xfrm>
                                                                              <a:off x="4377240" y="1355040"/>
                                                                              <a:ext cx="328680" cy="400680"/>
                                                                            </a:xfrm>
                                                                            <a:prstGeom prst="rect">
                                                                              <a:avLst/>
                                                                            </a:prstGeom>
                                                                            <a:solidFill>
                                                                              <a:srgbClr val="ffffff"/>
                                                                            </a:solidFill>
                                                                            <a:ln w="0">
                                                                              <a:noFill/>
                                                                            </a:ln>
                                                                          </p:spPr>
                                                                          <p:style>
                                                                            <a:lnRef idx="0"/>
                                                                            <a:fillRef idx="0"/>
                                                                            <a:effectRef idx="0"/>
                                                                            <a:fontRef idx="minor"/>
                                                                          </p:style>
                                                                          <p:txBody>
                                                                            <a:bodyPr lIns="90000" rIns="90000" tIns="46800" bIns="46800" anchor="t">
                                                                              <a:noAutofit/>
                                                                            </a:bodyPr>
                                                                            <a:p>
                                                                              <a:pPr>
                                                                                <a:lnSpc>
                                                                                  <a:spcPct val="115000"/>
                                                                                </a:lnSpc>
                                                                                <a:spcAft>
                                                                                  <a:spcPts val="1001"/>
                                                                                </a:spcAft>
                                                                                <a:tabLst>
                                                                                  <a:tab algn="l" pos="0"/>
                                                                                  <a:tab algn="l" pos="914400"/>
                                                                                  <a:tab algn="l" pos="1828800"/>
                                                                                  <a:tab algn="l" pos="2743200"/>
                                                                                  <a:tab algn="l" pos="3657600"/>
                                                                                  <a:tab algn="l" pos="4572000"/>
                                                                                  <a:tab algn="l" pos="5486400"/>
                                                                                  <a:tab algn="l" pos="6400800"/>
                                                                                  <a:tab algn="l" pos="7315200"/>
                                                                                  <a:tab algn="l" pos="8229600"/>
                                                                                  <a:tab algn="l" pos="9144000"/>
                                                                                  <a:tab algn="l" pos="10058400"/>
                                                                                </a:tabLst>
                                                                              </a:pPr>
                                                                              <a:r>
                                                                                <a:rPr b="1" lang="ru-RU" sz="2600" spc="-1" strike="noStrike">
                                                                                  <a:solidFill>
                                                                                    <a:srgbClr val="000000"/>
                                                                                  </a:solidFill>
                                                                                  <a:latin typeface="Calibri"/>
                                                                                  <a:ea typeface="Calibri"/>
                                                                                </a:rPr>
                                                                                <a:t>л</a:t>
                                                                              </a:r>
                                                                              <a:endParaRPr b="0" lang="en-US" sz="2600" spc="-1" strike="noStrike">
                                                                                <a:solidFill>
                                                                                  <a:srgbClr val="000000"/>
                                                                                </a:solidFill>
                                                                                <a:latin typeface="Calibri"/>
                                                                              </a:endParaRPr>
                                                                            </a:p>
                                                                          </p:txBody>
                                                                        </p:sp>
                                                                      </p:grpSp>
                                                                      <p:sp>
                                                                        <p:nvSpPr>
                                                                          <p:cNvPr id="165" name="Надпись 2"/>
                                                                          <p:cNvSpPr/>
                                                                          <p:nvPr/>
                                                                        </p:nvSpPr>
                                                                        <p:spPr>
                                                                          <a:xfrm>
                                                                            <a:off x="4900320" y="1347480"/>
                                                                            <a:ext cx="328680" cy="400680"/>
                                                                          </a:xfrm>
                                                                          <a:prstGeom prst="rect">
                                                                            <a:avLst/>
                                                                          </a:prstGeom>
                                                                          <a:solidFill>
                                                                            <a:srgbClr val="ffffff"/>
                                                                          </a:solidFill>
                                                                          <a:ln w="0">
                                                                            <a:noFill/>
                                                                          </a:ln>
                                                                        </p:spPr>
                                                                        <p:style>
                                                                          <a:lnRef idx="0"/>
                                                                          <a:fillRef idx="0"/>
                                                                          <a:effectRef idx="0"/>
                                                                          <a:fontRef idx="minor"/>
                                                                        </p:style>
                                                                        <p:txBody>
                                                                          <a:bodyPr lIns="90000" rIns="90000" tIns="46800" bIns="46800" anchor="t">
                                                                            <a:noAutofit/>
                                                                          </a:bodyPr>
                                                                          <a:p>
                                                                            <a:pPr>
                                                                              <a:lnSpc>
                                                                                <a:spcPct val="115000"/>
                                                                              </a:lnSpc>
                                                                              <a:spcAft>
                                                                                <a:spcPts val="1001"/>
                                                                              </a:spcAft>
                                                                              <a:tabLst>
                                                                                <a:tab algn="l" pos="0"/>
                                                                                <a:tab algn="l" pos="914400"/>
                                                                                <a:tab algn="l" pos="1828800"/>
                                                                                <a:tab algn="l" pos="2743200"/>
                                                                                <a:tab algn="l" pos="3657600"/>
                                                                                <a:tab algn="l" pos="4572000"/>
                                                                                <a:tab algn="l" pos="5486400"/>
                                                                                <a:tab algn="l" pos="6400800"/>
                                                                                <a:tab algn="l" pos="7315200"/>
                                                                                <a:tab algn="l" pos="8229600"/>
                                                                                <a:tab algn="l" pos="9144000"/>
                                                                                <a:tab algn="l" pos="10058400"/>
                                                                              </a:tabLst>
                                                                            </a:pPr>
                                                                            <a:r>
                                                                              <a:rPr b="1" lang="ru-RU" sz="2600" spc="-1" strike="noStrike">
                                                                                <a:solidFill>
                                                                                  <a:srgbClr val="000000"/>
                                                                                </a:solidFill>
                                                                                <a:latin typeface="Calibri"/>
                                                                                <a:ea typeface="Calibri"/>
                                                                              </a:rPr>
                                                                              <a:t>и</a:t>
                                                                            </a:r>
                                                                            <a:endParaRPr b="0" lang="en-US" sz="2600" spc="-1" strike="noStrike">
                                                                              <a:solidFill>
                                                                                <a:srgbClr val="000000"/>
                                                                              </a:solidFill>
                                                                              <a:latin typeface="Calibri"/>
                                                                            </a:endParaRPr>
                                                                          </a:p>
                                                                        </p:txBody>
                                                                      </p:sp>
                                                                    </p:grpSp>
                                                                    <p:sp>
                                                                      <p:nvSpPr>
                                                                        <p:cNvPr id="166" name="Надпись 2"/>
                                                                        <p:cNvSpPr/>
                                                                        <p:nvPr/>
                                                                      </p:nvSpPr>
                                                                      <p:spPr>
                                                                        <a:xfrm>
                                                                          <a:off x="5423040" y="1355040"/>
                                                                          <a:ext cx="328680" cy="400680"/>
                                                                        </a:xfrm>
                                                                        <a:prstGeom prst="rect">
                                                                          <a:avLst/>
                                                                        </a:prstGeom>
                                                                        <a:solidFill>
                                                                          <a:srgbClr val="ffffff"/>
                                                                        </a:solidFill>
                                                                        <a:ln w="0">
                                                                          <a:noFill/>
                                                                        </a:ln>
                                                                      </p:spPr>
                                                                      <p:style>
                                                                        <a:lnRef idx="0"/>
                                                                        <a:fillRef idx="0"/>
                                                                        <a:effectRef idx="0"/>
                                                                        <a:fontRef idx="minor"/>
                                                                      </p:style>
                                                                      <p:txBody>
                                                                        <a:bodyPr lIns="90000" rIns="90000" tIns="46800" bIns="46800" anchor="t">
                                                                          <a:noAutofit/>
                                                                        </a:bodyPr>
                                                                        <a:p>
                                                                          <a:pPr>
                                                                            <a:lnSpc>
                                                                              <a:spcPct val="115000"/>
                                                                            </a:lnSpc>
                                                                            <a:spcAft>
                                                                              <a:spcPts val="1001"/>
                                                                            </a:spcAft>
                                                                            <a:tabLst>
                                                                              <a:tab algn="l" pos="0"/>
                                                                              <a:tab algn="l" pos="914400"/>
                                                                              <a:tab algn="l" pos="1828800"/>
                                                                              <a:tab algn="l" pos="2743200"/>
                                                                              <a:tab algn="l" pos="3657600"/>
                                                                              <a:tab algn="l" pos="4572000"/>
                                                                              <a:tab algn="l" pos="5486400"/>
                                                                              <a:tab algn="l" pos="6400800"/>
                                                                              <a:tab algn="l" pos="7315200"/>
                                                                              <a:tab algn="l" pos="8229600"/>
                                                                              <a:tab algn="l" pos="9144000"/>
                                                                              <a:tab algn="l" pos="10058400"/>
                                                                            </a:tabLst>
                                                                          </a:pPr>
                                                                          <a:r>
                                                                            <a:rPr b="1" lang="ru-RU" sz="2600" spc="-1" strike="noStrike">
                                                                              <a:solidFill>
                                                                                <a:srgbClr val="000000"/>
                                                                              </a:solidFill>
                                                                              <a:latin typeface="Calibri"/>
                                                                              <a:ea typeface="Calibri"/>
                                                                            </a:rPr>
                                                                            <a:t>в</a:t>
                                                                          </a:r>
                                                                          <a:endParaRPr b="0" lang="en-US" sz="2600" spc="-1" strike="noStrike">
                                                                            <a:solidFill>
                                                                              <a:srgbClr val="000000"/>
                                                                            </a:solidFill>
                                                                            <a:latin typeface="Calibri"/>
                                                                          </a:endParaRPr>
                                                                        </a:p>
                                                                      </p:txBody>
                                                                    </p:sp>
                                                                  </p:grpSp>
                                                                  <p:sp>
                                                                    <p:nvSpPr>
                                                                      <p:cNvPr id="167" name="Надпись 2"/>
                                                                      <p:cNvSpPr/>
                                                                      <p:nvPr/>
                                                                    </p:nvSpPr>
                                                                    <p:spPr>
                                                                      <a:xfrm>
                                                                        <a:off x="5938560" y="1370880"/>
                                                                        <a:ext cx="328680" cy="400680"/>
                                                                      </a:xfrm>
                                                                      <a:prstGeom prst="rect">
                                                                        <a:avLst/>
                                                                      </a:prstGeom>
                                                                      <a:solidFill>
                                                                        <a:srgbClr val="ffffff"/>
                                                                      </a:solidFill>
                                                                      <a:ln w="0">
                                                                        <a:noFill/>
                                                                      </a:ln>
                                                                    </p:spPr>
                                                                    <p:style>
                                                                      <a:lnRef idx="0"/>
                                                                      <a:fillRef idx="0"/>
                                                                      <a:effectRef idx="0"/>
                                                                      <a:fontRef idx="minor"/>
                                                                    </p:style>
                                                                    <p:txBody>
                                                                      <a:bodyPr lIns="90000" rIns="90000" tIns="46800" bIns="46800" anchor="t">
                                                                        <a:noAutofit/>
                                                                      </a:bodyPr>
                                                                      <a:p>
                                                                        <a:pPr>
                                                                          <a:lnSpc>
                                                                            <a:spcPct val="115000"/>
                                                                          </a:lnSpc>
                                                                          <a:spcAft>
                                                                            <a:spcPts val="1001"/>
                                                                          </a:spcAft>
                                                                          <a:tabLst>
                                                                            <a:tab algn="l" pos="0"/>
                                                                            <a:tab algn="l" pos="914400"/>
                                                                            <a:tab algn="l" pos="1828800"/>
                                                                            <a:tab algn="l" pos="2743200"/>
                                                                            <a:tab algn="l" pos="3657600"/>
                                                                            <a:tab algn="l" pos="4572000"/>
                                                                            <a:tab algn="l" pos="5486400"/>
                                                                            <a:tab algn="l" pos="6400800"/>
                                                                            <a:tab algn="l" pos="7315200"/>
                                                                            <a:tab algn="l" pos="8229600"/>
                                                                            <a:tab algn="l" pos="9144000"/>
                                                                            <a:tab algn="l" pos="10058400"/>
                                                                          </a:tabLst>
                                                                        </a:pPr>
                                                                        <a:r>
                                                                          <a:rPr b="1" lang="ru-RU" sz="2600" spc="-1" strike="noStrike">
                                                                            <a:solidFill>
                                                                              <a:srgbClr val="000000"/>
                                                                            </a:solidFill>
                                                                            <a:latin typeface="Calibri"/>
                                                                            <a:ea typeface="Calibri"/>
                                                                          </a:rPr>
                                                                          <a:t>ы</a:t>
                                                                        </a:r>
                                                                        <a:endParaRPr b="0" lang="en-US" sz="2600" spc="-1" strike="noStrike">
                                                                          <a:solidFill>
                                                                            <a:srgbClr val="000000"/>
                                                                          </a:solidFill>
                                                                          <a:latin typeface="Calibri"/>
                                                                        </a:endParaRPr>
                                                                      </a:p>
                                                                    </p:txBody>
                                                                  </p:sp>
                                                                </p:grpSp>
                                                                <p:sp>
                                                                  <p:nvSpPr>
                                                                    <p:cNvPr id="168" name="Надпись 2"/>
                                                                    <p:cNvSpPr/>
                                                                    <p:nvPr/>
                                                                  </p:nvSpPr>
                                                                  <p:spPr>
                                                                    <a:xfrm>
                                                                      <a:off x="6446520" y="1355040"/>
                                                                      <a:ext cx="328680" cy="400680"/>
                                                                    </a:xfrm>
                                                                    <a:prstGeom prst="rect">
                                                                      <a:avLst/>
                                                                    </a:prstGeom>
                                                                    <a:solidFill>
                                                                      <a:srgbClr val="ffffff"/>
                                                                    </a:solidFill>
                                                                    <a:ln w="0">
                                                                      <a:noFill/>
                                                                    </a:ln>
                                                                  </p:spPr>
                                                                  <p:style>
                                                                    <a:lnRef idx="0"/>
                                                                    <a:fillRef idx="0"/>
                                                                    <a:effectRef idx="0"/>
                                                                    <a:fontRef idx="minor"/>
                                                                  </p:style>
                                                                  <p:txBody>
                                                                    <a:bodyPr lIns="90000" rIns="90000" tIns="46800" bIns="46800" anchor="t">
                                                                      <a:noAutofit/>
                                                                    </a:bodyPr>
                                                                    <a:p>
                                                                      <a:pPr>
                                                                        <a:lnSpc>
                                                                          <a:spcPct val="115000"/>
                                                                        </a:lnSpc>
                                                                        <a:spcAft>
                                                                          <a:spcPts val="1001"/>
                                                                        </a:spcAft>
                                                                        <a:tabLst>
                                                                          <a:tab algn="l" pos="0"/>
                                                                          <a:tab algn="l" pos="914400"/>
                                                                          <a:tab algn="l" pos="1828800"/>
                                                                          <a:tab algn="l" pos="2743200"/>
                                                                          <a:tab algn="l" pos="3657600"/>
                                                                          <a:tab algn="l" pos="4572000"/>
                                                                          <a:tab algn="l" pos="5486400"/>
                                                                          <a:tab algn="l" pos="6400800"/>
                                                                          <a:tab algn="l" pos="7315200"/>
                                                                          <a:tab algn="l" pos="8229600"/>
                                                                          <a:tab algn="l" pos="9144000"/>
                                                                          <a:tab algn="l" pos="10058400"/>
                                                                        </a:tabLst>
                                                                      </a:pPr>
                                                                      <a:r>
                                                                        <a:rPr b="1" lang="ru-RU" sz="2600" spc="-1" strike="noStrike">
                                                                          <a:solidFill>
                                                                            <a:srgbClr val="000000"/>
                                                                          </a:solidFill>
                                                                          <a:latin typeface="Calibri"/>
                                                                          <a:ea typeface="Calibri"/>
                                                                        </a:rPr>
                                                                        <a:t>й</a:t>
                                                                      </a:r>
                                                                      <a:endParaRPr b="0" lang="en-US" sz="2600" spc="-1" strike="noStrike">
                                                                        <a:solidFill>
                                                                          <a:srgbClr val="000000"/>
                                                                        </a:solidFill>
                                                                        <a:latin typeface="Calibri"/>
                                                                      </a:endParaRPr>
                                                                    </a:p>
                                                                  </p:txBody>
                                                                </p:sp>
                                                              </p:grpSp>
                                                              <p:sp>
                                                                <p:nvSpPr>
                                                                  <p:cNvPr id="169" name="Прямоугольник 110"/>
                                                                  <p:cNvSpPr/>
                                                                  <p:nvPr/>
                                                                </p:nvSpPr>
                                                                <p:spPr>
                                                                  <a:xfrm>
                                                                    <a:off x="3779640" y="2227320"/>
                                                                    <a:ext cx="507960" cy="487080"/>
                                                                  </a:xfrm>
                                                                  <a:prstGeom prst="rect">
                                                                    <a:avLst/>
                                                                  </a:prstGeom>
                                                                  <a:solidFill>
                                                                    <a:srgbClr val="ffffff"/>
                                                                  </a:solidFill>
                                                                  <a:ln w="25560">
                                                                    <a:solidFill>
                                                                      <a:srgbClr val="000000"/>
                                                                    </a:solidFill>
                                                                    <a:miter/>
                                                                  </a:ln>
                                                                </p:spPr>
                                                                <p:style>
                                                                  <a:lnRef idx="0"/>
                                                                  <a:fillRef idx="0"/>
                                                                  <a:effectRef idx="0"/>
                                                                  <a:fontRef idx="minor"/>
                                                                </p:style>
                                                                <p:txBody>
                                                                  <a:bodyPr lIns="90000" rIns="90000" tIns="46800" bIns="46800" anchor="ctr">
                                                                    <a:noAutofit/>
                                                                  </a:bodyPr>
                                                                  <a:p>
                                                                    <a:pPr>
                                                                      <a:tabLst>
                                                                        <a:tab algn="l" pos="0"/>
                                                                        <a:tab algn="l" pos="914400"/>
                                                                        <a:tab algn="l" pos="1828800"/>
                                                                        <a:tab algn="l" pos="2743200"/>
                                                                        <a:tab algn="l" pos="3657600"/>
                                                                        <a:tab algn="l" pos="4572000"/>
                                                                        <a:tab algn="l" pos="5486400"/>
                                                                        <a:tab algn="l" pos="6400800"/>
                                                                        <a:tab algn="l" pos="7315200"/>
                                                                        <a:tab algn="l" pos="8229600"/>
                                                                        <a:tab algn="l" pos="9144000"/>
                                                                        <a:tab algn="l" pos="10058400"/>
                                                                      </a:tabLst>
                                                                    </a:pPr>
                                                                    <a:endParaRPr b="0" lang="en-US" sz="1800" spc="-1" strike="noStrike">
                                                                      <a:solidFill>
                                                                        <a:srgbClr val="000000"/>
                                                                      </a:solidFill>
                                                                      <a:latin typeface="Calibri"/>
                                                                    </a:endParaRPr>
                                                                  </a:p>
                                                                </p:txBody>
                                                              </p:sp>
                                                              <p:sp>
                                                                <p:nvSpPr>
                                                                  <p:cNvPr id="170" name="Прямоугольник 111"/>
                                                                  <p:cNvSpPr/>
                                                                  <p:nvPr/>
                                                                </p:nvSpPr>
                                                                <p:spPr>
                                                                  <a:xfrm>
                                                                    <a:off x="3779640" y="2714760"/>
                                                                    <a:ext cx="507960" cy="487080"/>
                                                                  </a:xfrm>
                                                                  <a:prstGeom prst="rect">
                                                                    <a:avLst/>
                                                                  </a:prstGeom>
                                                                  <a:solidFill>
                                                                    <a:srgbClr val="ffffff"/>
                                                                  </a:solidFill>
                                                                  <a:ln w="25560">
                                                                    <a:solidFill>
                                                                      <a:srgbClr val="000000"/>
                                                                    </a:solidFill>
                                                                    <a:miter/>
                                                                  </a:ln>
                                                                </p:spPr>
                                                                <p:style>
                                                                  <a:lnRef idx="0"/>
                                                                  <a:fillRef idx="0"/>
                                                                  <a:effectRef idx="0"/>
                                                                  <a:fontRef idx="minor"/>
                                                                </p:style>
                                                                <p:txBody>
                                                                  <a:bodyPr lIns="90000" rIns="90000" tIns="46800" bIns="46800" anchor="ctr">
                                                                    <a:noAutofit/>
                                                                  </a:bodyPr>
                                                                  <a:p>
                                                                    <a:pPr>
                                                                      <a:tabLst>
                                                                        <a:tab algn="l" pos="0"/>
                                                                        <a:tab algn="l" pos="914400"/>
                                                                        <a:tab algn="l" pos="1828800"/>
                                                                        <a:tab algn="l" pos="2743200"/>
                                                                        <a:tab algn="l" pos="3657600"/>
                                                                        <a:tab algn="l" pos="4572000"/>
                                                                        <a:tab algn="l" pos="5486400"/>
                                                                        <a:tab algn="l" pos="6400800"/>
                                                                        <a:tab algn="l" pos="7315200"/>
                                                                        <a:tab algn="l" pos="8229600"/>
                                                                        <a:tab algn="l" pos="9144000"/>
                                                                        <a:tab algn="l" pos="10058400"/>
                                                                      </a:tabLst>
                                                                    </a:pPr>
                                                                    <a:endParaRPr b="0" lang="en-US" sz="1800" spc="-1" strike="noStrike">
                                                                      <a:solidFill>
                                                                        <a:srgbClr val="000000"/>
                                                                      </a:solidFill>
                                                                      <a:latin typeface="Calibri"/>
                                                                    </a:endParaRPr>
                                                                  </a:p>
                                                                </p:txBody>
                                                              </p:sp>
                                                              <p:sp>
                                                                <p:nvSpPr>
                                                                  <p:cNvPr id="171" name="Прямоугольник 112"/>
                                                                  <p:cNvSpPr/>
                                                                  <p:nvPr/>
                                                                </p:nvSpPr>
                                                                <p:spPr>
                                                                  <a:xfrm>
                                                                    <a:off x="3779640" y="3202200"/>
                                                                    <a:ext cx="507960" cy="487080"/>
                                                                  </a:xfrm>
                                                                  <a:prstGeom prst="rect">
                                                                    <a:avLst/>
                                                                  </a:prstGeom>
                                                                  <a:solidFill>
                                                                    <a:srgbClr val="ffffff"/>
                                                                  </a:solidFill>
                                                                  <a:ln w="25560">
                                                                    <a:solidFill>
                                                                      <a:srgbClr val="000000"/>
                                                                    </a:solidFill>
                                                                    <a:miter/>
                                                                  </a:ln>
                                                                </p:spPr>
                                                                <p:style>
                                                                  <a:lnRef idx="0"/>
                                                                  <a:fillRef idx="0"/>
                                                                  <a:effectRef idx="0"/>
                                                                  <a:fontRef idx="minor"/>
                                                                </p:style>
                                                                <p:txBody>
                                                                  <a:bodyPr lIns="90000" rIns="90000" tIns="46800" bIns="46800" anchor="ctr">
                                                                    <a:noAutofit/>
                                                                  </a:bodyPr>
                                                                  <a:p>
                                                                    <a:pPr>
                                                                      <a:tabLst>
                                                                        <a:tab algn="l" pos="0"/>
                                                                        <a:tab algn="l" pos="914400"/>
                                                                        <a:tab algn="l" pos="1828800"/>
                                                                        <a:tab algn="l" pos="2743200"/>
                                                                        <a:tab algn="l" pos="3657600"/>
                                                                        <a:tab algn="l" pos="4572000"/>
                                                                        <a:tab algn="l" pos="5486400"/>
                                                                        <a:tab algn="l" pos="6400800"/>
                                                                        <a:tab algn="l" pos="7315200"/>
                                                                        <a:tab algn="l" pos="8229600"/>
                                                                        <a:tab algn="l" pos="9144000"/>
                                                                        <a:tab algn="l" pos="10058400"/>
                                                                      </a:tabLst>
                                                                    </a:pPr>
                                                                    <a:endParaRPr b="0" lang="en-US" sz="1800" spc="-1" strike="noStrike">
                                                                      <a:solidFill>
                                                                        <a:srgbClr val="000000"/>
                                                                      </a:solidFill>
                                                                      <a:latin typeface="Calibri"/>
                                                                    </a:endParaRPr>
                                                                  </a:p>
                                                                </p:txBody>
                                                              </p:sp>
                                                              <p:sp>
                                                                <p:nvSpPr>
                                                                  <p:cNvPr id="172" name="Прямоугольник 113"/>
                                                                  <p:cNvSpPr/>
                                                                  <p:nvPr/>
                                                                </p:nvSpPr>
                                                                <p:spPr>
                                                                  <a:xfrm>
                                                                    <a:off x="3779640" y="3689640"/>
                                                                    <a:ext cx="507960" cy="487080"/>
                                                                  </a:xfrm>
                                                                  <a:prstGeom prst="rect">
                                                                    <a:avLst/>
                                                                  </a:prstGeom>
                                                                  <a:solidFill>
                                                                    <a:srgbClr val="ffffff"/>
                                                                  </a:solidFill>
                                                                  <a:ln w="25560">
                                                                    <a:solidFill>
                                                                      <a:srgbClr val="000000"/>
                                                                    </a:solidFill>
                                                                    <a:miter/>
                                                                  </a:ln>
                                                                </p:spPr>
                                                                <p:style>
                                                                  <a:lnRef idx="0"/>
                                                                  <a:fillRef idx="0"/>
                                                                  <a:effectRef idx="0"/>
                                                                  <a:fontRef idx="minor"/>
                                                                </p:style>
                                                                <p:txBody>
                                                                  <a:bodyPr lIns="90000" rIns="90000" tIns="46800" bIns="46800" anchor="ctr">
                                                                    <a:noAutofit/>
                                                                  </a:bodyPr>
                                                                  <a:p>
                                                                    <a:pPr>
                                                                      <a:tabLst>
                                                                        <a:tab algn="l" pos="0"/>
                                                                        <a:tab algn="l" pos="914400"/>
                                                                        <a:tab algn="l" pos="1828800"/>
                                                                        <a:tab algn="l" pos="2743200"/>
                                                                        <a:tab algn="l" pos="3657600"/>
                                                                        <a:tab algn="l" pos="4572000"/>
                                                                        <a:tab algn="l" pos="5486400"/>
                                                                        <a:tab algn="l" pos="6400800"/>
                                                                        <a:tab algn="l" pos="7315200"/>
                                                                        <a:tab algn="l" pos="8229600"/>
                                                                        <a:tab algn="l" pos="9144000"/>
                                                                        <a:tab algn="l" pos="10058400"/>
                                                                      </a:tabLst>
                                                                    </a:pPr>
                                                                    <a:endParaRPr b="0" lang="en-US" sz="1800" spc="-1" strike="noStrike">
                                                                      <a:solidFill>
                                                                        <a:srgbClr val="000000"/>
                                                                      </a:solidFill>
                                                                      <a:latin typeface="Calibri"/>
                                                                    </a:endParaRPr>
                                                                  </a:p>
                                                                </p:txBody>
                                                              </p:sp>
                                                              <p:sp>
                                                                <p:nvSpPr>
                                                                  <p:cNvPr id="173" name="Прямоугольник 114"/>
                                                                  <p:cNvSpPr/>
                                                                  <p:nvPr/>
                                                                </p:nvSpPr>
                                                                <p:spPr>
                                                                  <a:xfrm>
                                                                    <a:off x="3779640" y="4177080"/>
                                                                    <a:ext cx="507960" cy="487080"/>
                                                                  </a:xfrm>
                                                                  <a:prstGeom prst="rect">
                                                                    <a:avLst/>
                                                                  </a:prstGeom>
                                                                  <a:solidFill>
                                                                    <a:srgbClr val="ffffff"/>
                                                                  </a:solidFill>
                                                                  <a:ln w="25560">
                                                                    <a:solidFill>
                                                                      <a:srgbClr val="000000"/>
                                                                    </a:solidFill>
                                                                    <a:miter/>
                                                                  </a:ln>
                                                                </p:spPr>
                                                                <p:style>
                                                                  <a:lnRef idx="0"/>
                                                                  <a:fillRef idx="0"/>
                                                                  <a:effectRef idx="0"/>
                                                                  <a:fontRef idx="minor"/>
                                                                </p:style>
                                                                <p:txBody>
                                                                  <a:bodyPr lIns="90000" rIns="90000" tIns="46800" bIns="46800" anchor="ctr">
                                                                    <a:noAutofit/>
                                                                  </a:bodyPr>
                                                                  <a:p>
                                                                    <a:pPr>
                                                                      <a:tabLst>
                                                                        <a:tab algn="l" pos="0"/>
                                                                        <a:tab algn="l" pos="914400"/>
                                                                        <a:tab algn="l" pos="1828800"/>
                                                                        <a:tab algn="l" pos="2743200"/>
                                                                        <a:tab algn="l" pos="3657600"/>
                                                                        <a:tab algn="l" pos="4572000"/>
                                                                        <a:tab algn="l" pos="5486400"/>
                                                                        <a:tab algn="l" pos="6400800"/>
                                                                        <a:tab algn="l" pos="7315200"/>
                                                                        <a:tab algn="l" pos="8229600"/>
                                                                        <a:tab algn="l" pos="9144000"/>
                                                                        <a:tab algn="l" pos="10058400"/>
                                                                      </a:tabLst>
                                                                    </a:pPr>
                                                                    <a:endParaRPr b="0" lang="en-US" sz="1800" spc="-1" strike="noStrike">
                                                                      <a:solidFill>
                                                                        <a:srgbClr val="000000"/>
                                                                      </a:solidFill>
                                                                      <a:latin typeface="Calibri"/>
                                                                    </a:endParaRPr>
                                                                  </a:p>
                                                                </p:txBody>
                                                              </p:sp>
                                                              <p:sp>
                                                                <p:nvSpPr>
                                                                  <p:cNvPr id="174" name="Прямоугольник 115"/>
                                                                  <p:cNvSpPr/>
                                                                  <p:nvPr/>
                                                                </p:nvSpPr>
                                                                <p:spPr>
                                                                  <a:xfrm>
                                                                    <a:off x="3779640" y="4664520"/>
                                                                    <a:ext cx="507960" cy="487080"/>
                                                                  </a:xfrm>
                                                                  <a:prstGeom prst="rect">
                                                                    <a:avLst/>
                                                                  </a:prstGeom>
                                                                  <a:solidFill>
                                                                    <a:srgbClr val="ffffff"/>
                                                                  </a:solidFill>
                                                                  <a:ln w="25560">
                                                                    <a:solidFill>
                                                                      <a:srgbClr val="000000"/>
                                                                    </a:solidFill>
                                                                    <a:miter/>
                                                                  </a:ln>
                                                                </p:spPr>
                                                                <p:style>
                                                                  <a:lnRef idx="0"/>
                                                                  <a:fillRef idx="0"/>
                                                                  <a:effectRef idx="0"/>
                                                                  <a:fontRef idx="minor"/>
                                                                </p:style>
                                                                <p:txBody>
                                                                  <a:bodyPr lIns="90000" rIns="90000" tIns="46800" bIns="46800" anchor="ctr">
                                                                    <a:noAutofit/>
                                                                  </a:bodyPr>
                                                                  <a:p>
                                                                    <a:pPr>
                                                                      <a:tabLst>
                                                                        <a:tab algn="l" pos="0"/>
                                                                        <a:tab algn="l" pos="914400"/>
                                                                        <a:tab algn="l" pos="1828800"/>
                                                                        <a:tab algn="l" pos="2743200"/>
                                                                        <a:tab algn="l" pos="3657600"/>
                                                                        <a:tab algn="l" pos="4572000"/>
                                                                        <a:tab algn="l" pos="5486400"/>
                                                                        <a:tab algn="l" pos="6400800"/>
                                                                        <a:tab algn="l" pos="7315200"/>
                                                                        <a:tab algn="l" pos="8229600"/>
                                                                        <a:tab algn="l" pos="9144000"/>
                                                                        <a:tab algn="l" pos="10058400"/>
                                                                      </a:tabLst>
                                                                    </a:pPr>
                                                                    <a:endParaRPr b="0" lang="en-US" sz="1800" spc="-1" strike="noStrike">
                                                                      <a:solidFill>
                                                                        <a:srgbClr val="000000"/>
                                                                      </a:solidFill>
                                                                      <a:latin typeface="Calibri"/>
                                                                    </a:endParaRPr>
                                                                  </a:p>
                                                                </p:txBody>
                                                              </p:sp>
                                                              <p:sp>
                                                                <p:nvSpPr>
                                                                  <p:cNvPr id="175" name="Прямоугольник 116"/>
                                                                  <p:cNvSpPr/>
                                                                  <p:nvPr/>
                                                                </p:nvSpPr>
                                                                <p:spPr>
                                                                  <a:xfrm>
                                                                    <a:off x="3271680" y="2227320"/>
                                                                    <a:ext cx="507960" cy="487080"/>
                                                                  </a:xfrm>
                                                                  <a:prstGeom prst="rect">
                                                                    <a:avLst/>
                                                                  </a:prstGeom>
                                                                  <a:solidFill>
                                                                    <a:srgbClr val="ffffff"/>
                                                                  </a:solidFill>
                                                                  <a:ln w="25560">
                                                                    <a:solidFill>
                                                                      <a:srgbClr val="000000"/>
                                                                    </a:solidFill>
                                                                    <a:miter/>
                                                                  </a:ln>
                                                                </p:spPr>
                                                                <p:style>
                                                                  <a:lnRef idx="0"/>
                                                                  <a:fillRef idx="0"/>
                                                                  <a:effectRef idx="0"/>
                                                                  <a:fontRef idx="minor"/>
                                                                </p:style>
                                                                <p:txBody>
                                                                  <a:bodyPr lIns="90000" rIns="90000" tIns="46800" bIns="46800" anchor="ctr">
                                                                    <a:noAutofit/>
                                                                  </a:bodyPr>
                                                                  <a:p>
                                                                    <a:pPr>
                                                                      <a:tabLst>
                                                                        <a:tab algn="l" pos="0"/>
                                                                        <a:tab algn="l" pos="914400"/>
                                                                        <a:tab algn="l" pos="1828800"/>
                                                                        <a:tab algn="l" pos="2743200"/>
                                                                        <a:tab algn="l" pos="3657600"/>
                                                                        <a:tab algn="l" pos="4572000"/>
                                                                        <a:tab algn="l" pos="5486400"/>
                                                                        <a:tab algn="l" pos="6400800"/>
                                                                        <a:tab algn="l" pos="7315200"/>
                                                                        <a:tab algn="l" pos="8229600"/>
                                                                        <a:tab algn="l" pos="9144000"/>
                                                                        <a:tab algn="l" pos="10058400"/>
                                                                      </a:tabLst>
                                                                    </a:pPr>
                                                                    <a:endParaRPr b="0" lang="en-US" sz="1800" spc="-1" strike="noStrike">
                                                                      <a:solidFill>
                                                                        <a:srgbClr val="000000"/>
                                                                      </a:solidFill>
                                                                      <a:latin typeface="Calibri"/>
                                                                    </a:endParaRPr>
                                                                  </a:p>
                                                                </p:txBody>
                                                              </p:sp>
                                                              <p:sp>
                                                                <p:nvSpPr>
                                                                  <p:cNvPr id="176" name="Прямоугольник 117"/>
                                                                  <p:cNvSpPr/>
                                                                  <p:nvPr/>
                                                                </p:nvSpPr>
                                                                <p:spPr>
                                                                  <a:xfrm>
                                                                    <a:off x="2763720" y="2227320"/>
                                                                    <a:ext cx="507960" cy="487080"/>
                                                                  </a:xfrm>
                                                                  <a:prstGeom prst="rect">
                                                                    <a:avLst/>
                                                                  </a:prstGeom>
                                                                  <a:solidFill>
                                                                    <a:srgbClr val="ffffff"/>
                                                                  </a:solidFill>
                                                                  <a:ln w="25560">
                                                                    <a:solidFill>
                                                                      <a:srgbClr val="000000"/>
                                                                    </a:solidFill>
                                                                    <a:miter/>
                                                                  </a:ln>
                                                                </p:spPr>
                                                                <p:style>
                                                                  <a:lnRef idx="0"/>
                                                                  <a:fillRef idx="0"/>
                                                                  <a:effectRef idx="0"/>
                                                                  <a:fontRef idx="minor"/>
                                                                </p:style>
                                                                <p:txBody>
                                                                  <a:bodyPr lIns="90000" rIns="90000" tIns="46800" bIns="46800" anchor="ctr">
                                                                    <a:noAutofit/>
                                                                  </a:bodyPr>
                                                                  <a:p>
                                                                    <a:pPr>
                                                                      <a:tabLst>
                                                                        <a:tab algn="l" pos="0"/>
                                                                        <a:tab algn="l" pos="914400"/>
                                                                        <a:tab algn="l" pos="1828800"/>
                                                                        <a:tab algn="l" pos="2743200"/>
                                                                        <a:tab algn="l" pos="3657600"/>
                                                                        <a:tab algn="l" pos="4572000"/>
                                                                        <a:tab algn="l" pos="5486400"/>
                                                                        <a:tab algn="l" pos="6400800"/>
                                                                        <a:tab algn="l" pos="7315200"/>
                                                                        <a:tab algn="l" pos="8229600"/>
                                                                        <a:tab algn="l" pos="9144000"/>
                                                                        <a:tab algn="l" pos="10058400"/>
                                                                      </a:tabLst>
                                                                    </a:pPr>
                                                                    <a:endParaRPr b="0" lang="en-US" sz="1800" spc="-1" strike="noStrike">
                                                                      <a:solidFill>
                                                                        <a:srgbClr val="000000"/>
                                                                      </a:solidFill>
                                                                      <a:latin typeface="Calibri"/>
                                                                    </a:endParaRPr>
                                                                  </a:p>
                                                                </p:txBody>
                                                              </p:sp>
                                                            </p:grpSp>
                                                            <p:sp>
                                                              <p:nvSpPr>
                                                                <p:cNvPr id="177" name="Надпись 2"/>
                                                                <p:cNvSpPr/>
                                                                <p:nvPr/>
                                                              </p:nvSpPr>
                                                              <p:spPr>
                                                                <a:xfrm>
                                                                  <a:off x="3867840" y="1787400"/>
                                                                  <a:ext cx="411480" cy="416520"/>
                                                                </a:xfrm>
                                                                <a:prstGeom prst="rect">
                                                                  <a:avLst/>
                                                                </a:prstGeom>
                                                                <a:solidFill>
                                                                  <a:srgbClr val="ffffff"/>
                                                                </a:solidFill>
                                                                <a:ln w="0">
                                                                  <a:noFill/>
                                                                </a:ln>
                                                              </p:spPr>
                                                              <p:style>
                                                                <a:lnRef idx="0"/>
                                                                <a:fillRef idx="0"/>
                                                                <a:effectRef idx="0"/>
                                                                <a:fontRef idx="minor"/>
                                                              </p:style>
                                                              <p:txBody>
                                                                <a:bodyPr lIns="90000" rIns="90000" tIns="46800" bIns="46800" anchor="t">
                                                                  <a:noAutofit/>
                                                                </a:bodyPr>
                                                                <a:p>
                                                                  <a:pPr>
                                                                    <a:lnSpc>
                                                                      <a:spcPct val="115000"/>
                                                                    </a:lnSpc>
                                                                    <a:spcAft>
                                                                      <a:spcPts val="1001"/>
                                                                    </a:spcAft>
                                                                    <a:tabLst>
                                                                      <a:tab algn="l" pos="0"/>
                                                                      <a:tab algn="l" pos="914400"/>
                                                                      <a:tab algn="l" pos="1828800"/>
                                                                      <a:tab algn="l" pos="2743200"/>
                                                                      <a:tab algn="l" pos="3657600"/>
                                                                      <a:tab algn="l" pos="4572000"/>
                                                                      <a:tab algn="l" pos="5486400"/>
                                                                      <a:tab algn="l" pos="6400800"/>
                                                                      <a:tab algn="l" pos="7315200"/>
                                                                      <a:tab algn="l" pos="8229600"/>
                                                                      <a:tab algn="l" pos="9144000"/>
                                                                      <a:tab algn="l" pos="10058400"/>
                                                                    </a:tabLst>
                                                                  </a:pPr>
                                                                  <a:r>
                                                                    <a:rPr b="1" lang="ru-RU" sz="2600" spc="-1" strike="noStrike">
                                                                      <a:solidFill>
                                                                        <a:srgbClr val="ff0000"/>
                                                                      </a:solidFill>
                                                                      <a:latin typeface="Calibri"/>
                                                                      <a:ea typeface="Calibri"/>
                                                                    </a:rPr>
                                                                    <a:t>е</a:t>
                                                                  </a:r>
                                                                  <a:endParaRPr b="0" lang="en-US" sz="2600" spc="-1" strike="noStrike">
                                                                    <a:solidFill>
                                                                      <a:srgbClr val="000000"/>
                                                                    </a:solidFill>
                                                                    <a:latin typeface="Calibri"/>
                                                                  </a:endParaRPr>
                                                                </a:p>
                                                              </p:txBody>
                                                            </p:sp>
                                                          </p:grpSp>
                                                          <p:sp>
                                                            <p:nvSpPr>
                                                              <p:cNvPr id="178" name="Надпись 2"/>
                                                              <p:cNvSpPr/>
                                                              <p:nvPr/>
                                                            </p:nvSpPr>
                                                            <p:spPr>
                                                              <a:xfrm>
                                                                <a:off x="3867480" y="2285640"/>
                                                                <a:ext cx="328680" cy="400680"/>
                                                              </a:xfrm>
                                                              <a:prstGeom prst="rect">
                                                                <a:avLst/>
                                                              </a:prstGeom>
                                                              <a:solidFill>
                                                                <a:srgbClr val="ffffff"/>
                                                              </a:solidFill>
                                                              <a:ln w="0">
                                                                <a:noFill/>
                                                              </a:ln>
                                                            </p:spPr>
                                                            <p:style>
                                                              <a:lnRef idx="0"/>
                                                              <a:fillRef idx="0"/>
                                                              <a:effectRef idx="0"/>
                                                              <a:fontRef idx="minor"/>
                                                            </p:style>
                                                            <p:txBody>
                                                              <a:bodyPr lIns="90000" rIns="90000" tIns="46800" bIns="46800" anchor="t">
                                                                <a:noAutofit/>
                                                              </a:bodyPr>
                                                              <a:p>
                                                                <a:pPr>
                                                                  <a:lnSpc>
                                                                    <a:spcPct val="115000"/>
                                                                  </a:lnSpc>
                                                                  <a:spcAft>
                                                                    <a:spcPts val="1001"/>
                                                                  </a:spcAft>
                                                                  <a:tabLst>
                                                                    <a:tab algn="l" pos="0"/>
                                                                    <a:tab algn="l" pos="914400"/>
                                                                    <a:tab algn="l" pos="1828800"/>
                                                                    <a:tab algn="l" pos="2743200"/>
                                                                    <a:tab algn="l" pos="3657600"/>
                                                                    <a:tab algn="l" pos="4572000"/>
                                                                    <a:tab algn="l" pos="5486400"/>
                                                                    <a:tab algn="l" pos="6400800"/>
                                                                    <a:tab algn="l" pos="7315200"/>
                                                                    <a:tab algn="l" pos="8229600"/>
                                                                    <a:tab algn="l" pos="9144000"/>
                                                                    <a:tab algn="l" pos="10058400"/>
                                                                  </a:tabLst>
                                                                </a:pPr>
                                                                <a:r>
                                                                  <a:rPr b="1" lang="ru-RU" sz="2600" spc="-1" strike="noStrike">
                                                                    <a:solidFill>
                                                                      <a:srgbClr val="ff0000"/>
                                                                    </a:solidFill>
                                                                    <a:latin typeface="Calibri"/>
                                                                    <a:ea typeface="Calibri"/>
                                                                  </a:rPr>
                                                                  <a:t>р</a:t>
                                                                </a:r>
                                                                <a:endParaRPr b="0" lang="en-US" sz="2600" spc="-1" strike="noStrike">
                                                                  <a:solidFill>
                                                                    <a:srgbClr val="000000"/>
                                                                  </a:solidFill>
                                                                  <a:latin typeface="Calibri"/>
                                                                </a:endParaRPr>
                                                              </a:p>
                                                            </p:txBody>
                                                          </p:sp>
                                                        </p:grpSp>
                                                        <p:sp>
                                                          <p:nvSpPr>
                                                            <p:cNvPr id="179" name="Надпись 2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>
                                                              <a:off x="3888720" y="2764440"/>
                                                              <a:ext cx="328680" cy="400680"/>
                                                            </a:xfrm>
                                                            <a:prstGeom prst="rect">
                                                              <a:avLst/>
                                                            </a:prstGeom>
                                                            <a:solidFill>
                                                              <a:srgbClr val="ffffff"/>
                                                            </a:solidFill>
                                                            <a:ln w="0">
                                                              <a:noFill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46800" bIns="46800" anchor="t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pPr>
                                                                <a:lnSpc>
                                                                  <a:spcPct val="115000"/>
                                                                </a:lnSpc>
                                                                <a:spcAft>
                                                                  <a:spcPts val="1001"/>
                                                                </a:spcAft>
                                                                <a:tabLst>
                                                                  <a:tab algn="l" pos="0"/>
                                                                  <a:tab algn="l" pos="914400"/>
                                                                  <a:tab algn="l" pos="1828800"/>
                                                                  <a:tab algn="l" pos="2743200"/>
                                                                  <a:tab algn="l" pos="3657600"/>
                                                                  <a:tab algn="l" pos="4572000"/>
                                                                  <a:tab algn="l" pos="5486400"/>
                                                                  <a:tab algn="l" pos="6400800"/>
                                                                  <a:tab algn="l" pos="7315200"/>
                                                                  <a:tab algn="l" pos="8229600"/>
                                                                  <a:tab algn="l" pos="9144000"/>
                                                                  <a:tab algn="l" pos="10058400"/>
                                                                </a:tabLst>
                                                              </a:pPr>
                                                              <a:r>
                                                                <a:rPr b="1" lang="ru-RU" sz="2600" spc="-1" strike="noStrike">
                                                                  <a:solidFill>
                                                                    <a:srgbClr val="ff0000"/>
                                                                  </a:solidFill>
                                                                  <a:latin typeface="Calibri"/>
                                                                  <a:ea typeface="Calibri"/>
                                                                </a:rPr>
                                                                <a:t>п</a:t>
                                                              </a:r>
                                                              <a:endParaRPr b="0" lang="en-US" sz="26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Calibri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</p:grpSp>
                                                      <p:sp>
                                                        <p:nvSpPr>
                                                          <p:cNvPr id="180" name="Надпись 2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>
                                                            <a:off x="3888720" y="3276720"/>
                                                            <a:ext cx="328680" cy="400680"/>
                                                          </a:xfrm>
                                                          <a:prstGeom prst="rect">
                                                            <a:avLst/>
                                                          </a:prstGeom>
                                                          <a:solidFill>
                                                            <a:srgbClr val="ffffff"/>
                                                          </a:solidFill>
                                                          <a:ln w="0">
                                                            <a:noFill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46800" bIns="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pPr>
                                                              <a:lnSpc>
                                                                <a:spcPct val="115000"/>
                                                              </a:lnSpc>
                                                              <a:spcAft>
                                                                <a:spcPts val="1001"/>
                                                              </a:spcAft>
                                                              <a:tabLst>
                                                                <a:tab algn="l" pos="0"/>
                                                                <a:tab algn="l" pos="914400"/>
                                                                <a:tab algn="l" pos="1828800"/>
                                                                <a:tab algn="l" pos="2743200"/>
                                                                <a:tab algn="l" pos="3657600"/>
                                                                <a:tab algn="l" pos="4572000"/>
                                                                <a:tab algn="l" pos="5486400"/>
                                                                <a:tab algn="l" pos="6400800"/>
                                                                <a:tab algn="l" pos="7315200"/>
                                                                <a:tab algn="l" pos="8229600"/>
                                                                <a:tab algn="l" pos="9144000"/>
                                                                <a:tab algn="l" pos="10058400"/>
                                                              </a:tabLst>
                                                            </a:pPr>
                                                            <a:r>
                                                              <a:rPr b="1" lang="ru-RU" sz="2600" spc="-1" strike="noStrike">
                                                                <a:solidFill>
                                                                  <a:srgbClr val="ff0000"/>
                                                                </a:solidFill>
                                                                <a:latin typeface="Calibri"/>
                                                                <a:ea typeface="Calibri"/>
                                                              </a:rPr>
                                                              <a:t>е</a:t>
                                                            </a:r>
                                                            <a:endParaRPr b="0" lang="en-US" sz="26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Calibri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</p:grpSp>
                                                    <p:sp>
                                                      <p:nvSpPr>
                                                        <p:cNvPr id="181" name="Надпись 2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>
                                                          <a:off x="3867480" y="3693600"/>
                                                          <a:ext cx="328680" cy="400680"/>
                                                        </a:xfrm>
                                                        <a:prstGeom prst="rect">
                                                          <a:avLst/>
                                                        </a:prstGeom>
                                                        <a:solidFill>
                                                          <a:srgbClr val="ffffff"/>
                                                        </a:solidFill>
                                                        <a:ln w="0">
                                                          <a:noFill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lIns="90000" rIns="90000" tIns="46800" bIns="46800" anchor="t">
                                                          <a:noAutofit/>
                                                        </a:bodyPr>
                                                        <a:p>
                                                          <a:pPr>
                                                            <a:lnSpc>
                                                              <a:spcPct val="115000"/>
                                                            </a:lnSpc>
                                                            <a:spcAft>
                                                              <a:spcPts val="1001"/>
                                                            </a:spcAft>
                                                            <a:tabLst>
                                                              <a:tab algn="l" pos="0"/>
                                                              <a:tab algn="l" pos="914400"/>
                                                              <a:tab algn="l" pos="1828800"/>
                                                              <a:tab algn="l" pos="2743200"/>
                                                              <a:tab algn="l" pos="3657600"/>
                                                              <a:tab algn="l" pos="4572000"/>
                                                              <a:tab algn="l" pos="5486400"/>
                                                              <a:tab algn="l" pos="6400800"/>
                                                              <a:tab algn="l" pos="7315200"/>
                                                              <a:tab algn="l" pos="8229600"/>
                                                              <a:tab algn="l" pos="9144000"/>
                                                              <a:tab algn="l" pos="10058400"/>
                                                            </a:tabLst>
                                                          </a:pPr>
                                                          <a:r>
                                                            <a:rPr b="1" lang="ru-RU" sz="2600" spc="-1" strike="noStrike">
                                                              <a:solidFill>
                                                                <a:srgbClr val="ff0000"/>
                                                              </a:solidFill>
                                                              <a:latin typeface="Calibri"/>
                                                              <a:ea typeface="Calibri"/>
                                                            </a:rPr>
                                                            <a:t>н</a:t>
                                                          </a:r>
                                                          <a:endParaRPr b="0" lang="en-US" sz="26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Calibri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</p:grpSp>
                                                  <p:sp>
                                                    <p:nvSpPr>
                                                      <p:cNvPr id="182" name="Надпись 2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>
                                                        <a:off x="3862080" y="4228560"/>
                                                        <a:ext cx="328680" cy="400680"/>
                                                      </a:xfrm>
                                                      <a:prstGeom prst="rect">
                                                        <a:avLst/>
                                                      </a:prstGeom>
                                                      <a:solidFill>
                                                        <a:srgbClr val="ffffff"/>
                                                      </a:solidFill>
                                                      <a:ln w="0">
                                                        <a:noFill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lIns="90000" rIns="90000" tIns="46800" bIns="46800" anchor="t">
                                                        <a:noAutofit/>
                                                      </a:bodyPr>
                                                      <a:p>
                                                        <a:pPr>
                                                          <a:lnSpc>
                                                            <a:spcPct val="115000"/>
                                                          </a:lnSpc>
                                                          <a:spcAft>
                                                            <a:spcPts val="1001"/>
                                                          </a:spcAft>
                                                          <a:tabLst>
                                                            <a:tab algn="l" pos="0"/>
                                                            <a:tab algn="l" pos="914400"/>
                                                            <a:tab algn="l" pos="1828800"/>
                                                            <a:tab algn="l" pos="2743200"/>
                                                            <a:tab algn="l" pos="3657600"/>
                                                            <a:tab algn="l" pos="4572000"/>
                                                            <a:tab algn="l" pos="5486400"/>
                                                            <a:tab algn="l" pos="6400800"/>
                                                            <a:tab algn="l" pos="7315200"/>
                                                            <a:tab algn="l" pos="8229600"/>
                                                            <a:tab algn="l" pos="9144000"/>
                                                            <a:tab algn="l" pos="10058400"/>
                                                          </a:tabLst>
                                                        </a:pPr>
                                                        <a:r>
                                                          <a:rPr b="1" lang="ru-RU" sz="2600" spc="-1" strike="noStrike">
                                                            <a:solidFill>
                                                              <a:srgbClr val="ff0000"/>
                                                            </a:solidFill>
                                                            <a:latin typeface="Calibri"/>
                                                            <a:ea typeface="Calibri"/>
                                                          </a:rPr>
                                                          <a:t>и</a:t>
                                                        </a:r>
                                                        <a:endParaRPr b="0" lang="en-US" sz="26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Calibri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</p:grpSp>
                                                <p:sp>
                                                  <p:nvSpPr>
                                                    <p:cNvPr id="183" name="Надпись 2"/>
                                                    <p:cNvSpPr/>
                                                    <p:nvPr/>
                                                  </p:nvSpPr>
                                                  <p:spPr>
                                                    <a:xfrm>
                                                      <a:off x="3888720" y="4735440"/>
                                                      <a:ext cx="328680" cy="400680"/>
                                                    </a:xfrm>
                                                    <a:prstGeom prst="rect">
                                                      <a:avLst/>
                                                    </a:prstGeom>
                                                    <a:solidFill>
                                                      <a:srgbClr val="ffffff"/>
                                                    </a:solidFill>
                                                    <a:ln w="0">
                                                      <a:noFill/>
                                                    </a:ln>
                                                  </p:spPr>
                                                  <p:style>
                                                    <a:lnRef idx="0"/>
                                                    <a:fillRef idx="0"/>
                                                    <a:effectRef idx="0"/>
                                                    <a:fontRef idx="minor"/>
                                                  </p:style>
                                                  <p:txBody>
                                                    <a:bodyPr lIns="90000" rIns="90000" tIns="46800" bIns="46800" anchor="t">
                                                      <a:noAutofit/>
                                                    </a:bodyPr>
                                                    <a:p>
                                                      <a:pPr>
                                                        <a:lnSpc>
                                                          <a:spcPct val="115000"/>
                                                        </a:lnSpc>
                                                        <a:spcAft>
                                                          <a:spcPts val="1001"/>
                                                        </a:spcAft>
                                                        <a:tabLst>
                                                          <a:tab algn="l" pos="0"/>
                                                          <a:tab algn="l" pos="914400"/>
                                                          <a:tab algn="l" pos="1828800"/>
                                                          <a:tab algn="l" pos="2743200"/>
                                                          <a:tab algn="l" pos="3657600"/>
                                                          <a:tab algn="l" pos="4572000"/>
                                                          <a:tab algn="l" pos="5486400"/>
                                                          <a:tab algn="l" pos="6400800"/>
                                                          <a:tab algn="l" pos="7315200"/>
                                                          <a:tab algn="l" pos="8229600"/>
                                                          <a:tab algn="l" pos="9144000"/>
                                                          <a:tab algn="l" pos="10058400"/>
                                                        </a:tabLst>
                                                      </a:pPr>
                                                      <a:r>
                                                        <a:rPr b="1" lang="ru-RU" sz="2600" spc="-1" strike="noStrike">
                                                          <a:solidFill>
                                                            <a:srgbClr val="ff0000"/>
                                                          </a:solidFill>
                                                          <a:latin typeface="Calibri"/>
                                                          <a:ea typeface="Calibri"/>
                                                        </a:rPr>
                                                        <a:t>е</a:t>
                                                      </a:r>
                                                      <a:endParaRPr b="0" lang="en-US" sz="2600" spc="-1" strike="noStrike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latin typeface="Calibri"/>
                                                      </a:endParaRPr>
                                                    </a:p>
                                                  </p:txBody>
                                                </p:sp>
                                              </p:grpSp>
                                              <p:sp>
                                                <p:nvSpPr>
                                                  <p:cNvPr id="184" name="Надпись 2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>
                                                    <a:off x="2882880" y="2302560"/>
                                                    <a:ext cx="328680" cy="400680"/>
                                                  </a:xfrm>
                                                  <a:prstGeom prst="rect">
                                                    <a:avLst/>
                                                  </a:prstGeom>
                                                  <a:solidFill>
                                                    <a:srgbClr val="ffffff"/>
                                                  </a:solidFill>
                                                  <a:ln w="0">
                                                    <a:noFill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lIns="90000" rIns="90000" tIns="46800" bIns="46800" anchor="t">
                                                    <a:noAutofit/>
                                                  </a:bodyPr>
                                                  <a:p>
                                                    <a:pPr>
                                                      <a:lnSpc>
                                                        <a:spcPct val="115000"/>
                                                      </a:lnSpc>
                                                      <a:spcAft>
                                                        <a:spcPts val="1001"/>
                                                      </a:spcAft>
                                                      <a:tabLst>
                                                        <a:tab algn="l" pos="0"/>
                                                        <a:tab algn="l" pos="914400"/>
                                                        <a:tab algn="l" pos="1828800"/>
                                                        <a:tab algn="l" pos="2743200"/>
                                                        <a:tab algn="l" pos="3657600"/>
                                                        <a:tab algn="l" pos="4572000"/>
                                                        <a:tab algn="l" pos="5486400"/>
                                                        <a:tab algn="l" pos="6400800"/>
                                                        <a:tab algn="l" pos="7315200"/>
                                                        <a:tab algn="l" pos="8229600"/>
                                                        <a:tab algn="l" pos="9144000"/>
                                                        <a:tab algn="l" pos="10058400"/>
                                                      </a:tabLst>
                                                    </a:pPr>
                                                    <a:r>
                                                      <a:rPr b="1" lang="ru-RU" sz="2600" spc="-1" strike="noStrike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latin typeface="Calibri"/>
                                                        <a:ea typeface="Calibri"/>
                                                      </a:rPr>
                                                      <a:t>з</a:t>
                                                    </a:r>
                                                    <a:endParaRPr b="0" lang="en-US" sz="26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Calibri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</p:grpSp>
                                            <p:sp>
                                              <p:nvSpPr>
                                                <p:cNvPr id="185" name="Надпись 2"/>
                                                <p:cNvSpPr/>
                                                <p:nvPr/>
                                              </p:nvSpPr>
                                              <p:spPr>
                                                <a:xfrm>
                                                  <a:off x="3359160" y="2279880"/>
                                                  <a:ext cx="328680" cy="400680"/>
                                                </a:xfrm>
                                                <a:prstGeom prst="rect">
                                                  <a:avLst/>
                                                </a:prstGeom>
                                                <a:solidFill>
                                                  <a:srgbClr val="ffffff"/>
                                                </a:solidFill>
                                                <a:ln w="0">
                                                  <a:noFill/>
                                                </a:ln>
                                              </p:spPr>
                                              <p:style>
                                                <a:lnRef idx="0"/>
                                                <a:fillRef idx="0"/>
                                                <a:effectRef idx="0"/>
                                                <a:fontRef idx="minor"/>
                                              </p:style>
                                              <p:txBody>
                                                <a:bodyPr lIns="90000" rIns="90000" tIns="46800" bIns="46800" anchor="t">
                                                  <a:noAutofit/>
                                                </a:bodyPr>
                                                <a:p>
                                                  <a:pPr>
                                                    <a:lnSpc>
                                                      <a:spcPct val="115000"/>
                                                    </a:lnSpc>
                                                    <a:spcAft>
                                                      <a:spcPts val="1001"/>
                                                    </a:spcAft>
                                                    <a:tabLst>
                                                      <a:tab algn="l" pos="0"/>
                                                      <a:tab algn="l" pos="914400"/>
                                                      <a:tab algn="l" pos="1828800"/>
                                                      <a:tab algn="l" pos="2743200"/>
                                                      <a:tab algn="l" pos="3657600"/>
                                                      <a:tab algn="l" pos="4572000"/>
                                                      <a:tab algn="l" pos="5486400"/>
                                                      <a:tab algn="l" pos="6400800"/>
                                                      <a:tab algn="l" pos="7315200"/>
                                                      <a:tab algn="l" pos="8229600"/>
                                                      <a:tab algn="l" pos="9144000"/>
                                                      <a:tab algn="l" pos="10058400"/>
                                                    </a:tabLst>
                                                  </a:pPr>
                                                  <a:r>
                                                    <a:rPr b="1" lang="ru-RU" sz="26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Calibri"/>
                                                      <a:ea typeface="Calibri"/>
                                                    </a:rPr>
                                                    <a:t>д</a:t>
                                                  </a:r>
                                                  <a:endParaRPr b="0" lang="en-US" sz="2600" spc="-1" strike="noStrike">
                                                    <a:solidFill>
                                                      <a:srgbClr val="000000"/>
                                                    </a:solidFill>
                                                    <a:latin typeface="Calibri"/>
                                                  </a:endParaRPr>
                                                </a:p>
                                              </p:txBody>
                                            </p:sp>
                                          </p:grpSp>
                                          <p:grpSp>
                                            <p:nvGrpSpPr>
                                              <p:cNvPr id="186" name="Группа 62"/>
                                              <p:cNvGrpSpPr/>
                                              <p:nvPr/>
                                            </p:nvGrpSpPr>
                                            <p:grpSpPr>
                                              <a:xfrm>
                                                <a:off x="4284720" y="2229480"/>
                                                <a:ext cx="4575240" cy="487080"/>
                                                <a:chOff x="4284720" y="2229480"/>
                                                <a:chExt cx="4575240" cy="487080"/>
                                              </a:xfrm>
                                            </p:grpSpPr>
                                            <p:grpSp>
                                              <p:nvGrpSpPr>
                                                <p:cNvPr id="187" name="Группа 63"/>
                                                <p:cNvGrpSpPr/>
                                                <p:nvPr/>
                                              </p:nvGrpSpPr>
                                              <p:grpSpPr>
                                                <a:xfrm>
                                                  <a:off x="4284720" y="2229480"/>
                                                  <a:ext cx="4575240" cy="487080"/>
                                                  <a:chOff x="4284720" y="2229480"/>
                                                  <a:chExt cx="4575240" cy="487080"/>
                                                </a:xfrm>
                                              </p:grpSpPr>
                                              <p:grpSp>
                                                <p:nvGrpSpPr>
                                                  <p:cNvPr id="188" name="Группа 65"/>
                                                  <p:cNvGrpSpPr/>
                                                  <p:nvPr/>
                                                </p:nvGrpSpPr>
                                                <p:grpSpPr>
                                                  <a:xfrm>
                                                    <a:off x="4284720" y="2229480"/>
                                                    <a:ext cx="4575240" cy="487080"/>
                                                    <a:chOff x="4284720" y="2229480"/>
                                                    <a:chExt cx="4575240" cy="487080"/>
                                                  </a:xfrm>
                                                </p:grpSpPr>
                                                <p:grpSp>
                                                  <p:nvGrpSpPr>
                                                    <p:cNvPr id="189" name="Группа 67"/>
                                                    <p:cNvGrpSpPr/>
                                                    <p:nvPr/>
                                                  </p:nvGrpSpPr>
                                                  <p:grpSpPr>
                                                    <a:xfrm>
                                                      <a:off x="4284720" y="2229480"/>
                                                      <a:ext cx="4575240" cy="487080"/>
                                                      <a:chOff x="4284720" y="2229480"/>
                                                      <a:chExt cx="4575240" cy="487080"/>
                                                    </a:xfrm>
                                                  </p:grpSpPr>
                                                  <p:grpSp>
                                                    <p:nvGrpSpPr>
                                                      <p:cNvPr id="190" name="Группа 69"/>
                                                      <p:cNvGrpSpPr/>
                                                      <p:nvPr/>
                                                    </p:nvGrpSpPr>
                                                    <p:grpSpPr>
                                                      <a:xfrm>
                                                        <a:off x="4284720" y="2229480"/>
                                                        <a:ext cx="4575240" cy="487080"/>
                                                        <a:chOff x="4284720" y="2229480"/>
                                                        <a:chExt cx="4575240" cy="487080"/>
                                                      </a:xfrm>
                                                    </p:grpSpPr>
                                                    <p:grpSp>
                                                      <p:nvGrpSpPr>
                                                        <p:cNvPr id="191" name="Группа 71"/>
                                                        <p:cNvGrpSpPr/>
                                                        <p:nvPr/>
                                                      </p:nvGrpSpPr>
                                                      <p:grpSpPr>
                                                        <a:xfrm>
                                                          <a:off x="4284720" y="2229480"/>
                                                          <a:ext cx="4575240" cy="487080"/>
                                                          <a:chOff x="4284720" y="2229480"/>
                                                          <a:chExt cx="4575240" cy="487080"/>
                                                        </a:xfrm>
                                                      </p:grpSpPr>
                                                      <p:grpSp>
                                                        <p:nvGrpSpPr>
                                                          <p:cNvPr id="192" name="Группа 73"/>
                                                          <p:cNvGrpSpPr/>
                                                          <p:nvPr/>
                                                        </p:nvGrpSpPr>
                                                        <p:grpSpPr>
                                                          <a:xfrm>
                                                            <a:off x="4284720" y="2229480"/>
                                                            <a:ext cx="4575240" cy="487080"/>
                                                            <a:chOff x="4284720" y="2229480"/>
                                                            <a:chExt cx="4575240" cy="487080"/>
                                                          </a:xfrm>
                                                        </p:grpSpPr>
                                                        <p:grpSp>
                                                          <p:nvGrpSpPr>
                                                            <p:cNvPr id="193" name="Группа 75"/>
                                                            <p:cNvGrpSpPr/>
                                                            <p:nvPr/>
                                                          </p:nvGrpSpPr>
                                                          <p:grpSpPr>
                                                            <a:xfrm>
                                                              <a:off x="4284720" y="2229480"/>
                                                              <a:ext cx="4575240" cy="487080"/>
                                                              <a:chOff x="4284720" y="2229480"/>
                                                              <a:chExt cx="4575240" cy="487080"/>
                                                            </a:xfrm>
                                                          </p:grpSpPr>
                                                          <p:grpSp>
                                                            <p:nvGrpSpPr>
                                                              <p:cNvPr id="194" name="Группа 77"/>
                                                              <p:cNvGrpSpPr/>
                                                              <p:nvPr/>
                                                            </p:nvGrpSpPr>
                                                            <p:grpSpPr>
                                                              <a:xfrm>
                                                                <a:off x="4284720" y="2229480"/>
                                                                <a:ext cx="4575240" cy="487080"/>
                                                                <a:chOff x="4284720" y="2229480"/>
                                                                <a:chExt cx="4575240" cy="487080"/>
                                                              </a:xfrm>
                                                            </p:grpSpPr>
                                                            <p:grpSp>
                                                              <p:nvGrpSpPr>
                                                                <p:cNvPr id="195" name="Группа 79"/>
                                                                <p:cNvGrpSpPr/>
                                                                <p:nvPr/>
                                                              </p:nvGrpSpPr>
                                                              <p:grpSpPr>
                                                                <a:xfrm>
                                                                  <a:off x="4284720" y="2229480"/>
                                                                  <a:ext cx="4575240" cy="487080"/>
                                                                  <a:chOff x="4284720" y="2229480"/>
                                                                  <a:chExt cx="4575240" cy="487080"/>
                                                                </a:xfrm>
                                                              </p:grpSpPr>
                                                              <p:sp>
                                                                <p:nvSpPr>
                                                                  <p:cNvPr id="196" name="Прямоугольник 81"/>
                                                                  <p:cNvSpPr/>
                                                                  <p:nvPr/>
                                                                </p:nvSpPr>
                                                                <p:spPr>
                                                                  <a:xfrm>
                                                                    <a:off x="4284720" y="2229480"/>
                                                                    <a:ext cx="507960" cy="487080"/>
                                                                  </a:xfrm>
                                                                  <a:prstGeom prst="rect">
                                                                    <a:avLst/>
                                                                  </a:prstGeom>
                                                                  <a:solidFill>
                                                                    <a:srgbClr val="ffffff"/>
                                                                  </a:solidFill>
                                                                  <a:ln w="25560">
                                                                    <a:solidFill>
                                                                      <a:srgbClr val="000000"/>
                                                                    </a:solidFill>
                                                                    <a:miter/>
                                                                  </a:ln>
                                                                </p:spPr>
                                                                <p:style>
                                                                  <a:lnRef idx="0"/>
                                                                  <a:fillRef idx="0"/>
                                                                  <a:effectRef idx="0"/>
                                                                  <a:fontRef idx="minor"/>
                                                                </p:style>
                                                                <p:txBody>
                                                                  <a:bodyPr lIns="90000" rIns="90000" tIns="46800" bIns="46800" anchor="ctr">
                                                                    <a:noAutofit/>
                                                                  </a:bodyPr>
                                                                  <a:p>
                                                                    <a:pPr>
                                                                      <a:tabLst>
                                                                        <a:tab algn="l" pos="0"/>
                                                                        <a:tab algn="l" pos="914400"/>
                                                                        <a:tab algn="l" pos="1828800"/>
                                                                        <a:tab algn="l" pos="2743200"/>
                                                                        <a:tab algn="l" pos="3657600"/>
                                                                        <a:tab algn="l" pos="4572000"/>
                                                                        <a:tab algn="l" pos="5486400"/>
                                                                        <a:tab algn="l" pos="6400800"/>
                                                                        <a:tab algn="l" pos="7315200"/>
                                                                        <a:tab algn="l" pos="8229600"/>
                                                                        <a:tab algn="l" pos="9144000"/>
                                                                        <a:tab algn="l" pos="10058400"/>
                                                                      </a:tabLst>
                                                                    </a:pPr>
                                                                    <a:endParaRPr b="0" lang="en-US" sz="1800" spc="-1" strike="noStrike">
                                                                      <a:solidFill>
                                                                        <a:srgbClr val="000000"/>
                                                                      </a:solidFill>
                                                                      <a:latin typeface="Calibri"/>
                                                                    </a:endParaRPr>
                                                                  </a:p>
                                                                </p:txBody>
                                                              </p:sp>
                                                              <p:sp>
                                                                <p:nvSpPr>
                                                                  <p:cNvPr id="197" name="Прямоугольник 82"/>
                                                                  <p:cNvSpPr/>
                                                                  <p:nvPr/>
                                                                </p:nvSpPr>
                                                                <p:spPr>
                                                                  <a:xfrm>
                                                                    <a:off x="4792680" y="2229480"/>
                                                                    <a:ext cx="507960" cy="487080"/>
                                                                  </a:xfrm>
                                                                  <a:prstGeom prst="rect">
                                                                    <a:avLst/>
                                                                  </a:prstGeom>
                                                                  <a:solidFill>
                                                                    <a:srgbClr val="ffffff"/>
                                                                  </a:solidFill>
                                                                  <a:ln w="25560">
                                                                    <a:solidFill>
                                                                      <a:srgbClr val="000000"/>
                                                                    </a:solidFill>
                                                                    <a:miter/>
                                                                  </a:ln>
                                                                </p:spPr>
                                                                <p:style>
                                                                  <a:lnRef idx="0"/>
                                                                  <a:fillRef idx="0"/>
                                                                  <a:effectRef idx="0"/>
                                                                  <a:fontRef idx="minor"/>
                                                                </p:style>
                                                                <p:txBody>
                                                                  <a:bodyPr lIns="90000" rIns="90000" tIns="46800" bIns="46800" anchor="ctr">
                                                                    <a:noAutofit/>
                                                                  </a:bodyPr>
                                                                  <a:p>
                                                                    <a:pPr>
                                                                      <a:tabLst>
                                                                        <a:tab algn="l" pos="0"/>
                                                                        <a:tab algn="l" pos="914400"/>
                                                                        <a:tab algn="l" pos="1828800"/>
                                                                        <a:tab algn="l" pos="2743200"/>
                                                                        <a:tab algn="l" pos="3657600"/>
                                                                        <a:tab algn="l" pos="4572000"/>
                                                                        <a:tab algn="l" pos="5486400"/>
                                                                        <a:tab algn="l" pos="6400800"/>
                                                                        <a:tab algn="l" pos="7315200"/>
                                                                        <a:tab algn="l" pos="8229600"/>
                                                                        <a:tab algn="l" pos="9144000"/>
                                                                        <a:tab algn="l" pos="10058400"/>
                                                                      </a:tabLst>
                                                                    </a:pPr>
                                                                    <a:endParaRPr b="0" lang="en-US" sz="1800" spc="-1" strike="noStrike">
                                                                      <a:solidFill>
                                                                        <a:srgbClr val="000000"/>
                                                                      </a:solidFill>
                                                                      <a:latin typeface="Calibri"/>
                                                                    </a:endParaRPr>
                                                                  </a:p>
                                                                </p:txBody>
                                                              </p:sp>
                                                              <p:sp>
                                                                <p:nvSpPr>
                                                                  <p:cNvPr id="198" name="Прямоугольник 83"/>
                                                                  <p:cNvSpPr/>
                                                                  <p:nvPr/>
                                                                </p:nvSpPr>
                                                                <p:spPr>
                                                                  <a:xfrm>
                                                                    <a:off x="5302080" y="2229480"/>
                                                                    <a:ext cx="506160" cy="487080"/>
                                                                  </a:xfrm>
                                                                  <a:prstGeom prst="rect">
                                                                    <a:avLst/>
                                                                  </a:prstGeom>
                                                                  <a:solidFill>
                                                                    <a:srgbClr val="ffffff"/>
                                                                  </a:solidFill>
                                                                  <a:ln w="25560">
                                                                    <a:solidFill>
                                                                      <a:srgbClr val="000000"/>
                                                                    </a:solidFill>
                                                                    <a:miter/>
                                                                  </a:ln>
                                                                </p:spPr>
                                                                <p:style>
                                                                  <a:lnRef idx="0"/>
                                                                  <a:fillRef idx="0"/>
                                                                  <a:effectRef idx="0"/>
                                                                  <a:fontRef idx="minor"/>
                                                                </p:style>
                                                                <p:txBody>
                                                                  <a:bodyPr lIns="90000" rIns="90000" tIns="46800" bIns="46800" anchor="ctr">
                                                                    <a:noAutofit/>
                                                                  </a:bodyPr>
                                                                  <a:p>
                                                                    <a:pPr>
                                                                      <a:tabLst>
                                                                        <a:tab algn="l" pos="0"/>
                                                                        <a:tab algn="l" pos="914400"/>
                                                                        <a:tab algn="l" pos="1828800"/>
                                                                        <a:tab algn="l" pos="2743200"/>
                                                                        <a:tab algn="l" pos="3657600"/>
                                                                        <a:tab algn="l" pos="4572000"/>
                                                                        <a:tab algn="l" pos="5486400"/>
                                                                        <a:tab algn="l" pos="6400800"/>
                                                                        <a:tab algn="l" pos="7315200"/>
                                                                        <a:tab algn="l" pos="8229600"/>
                                                                        <a:tab algn="l" pos="9144000"/>
                                                                        <a:tab algn="l" pos="10058400"/>
                                                                      </a:tabLst>
                                                                    </a:pPr>
                                                                    <a:endParaRPr b="0" lang="en-US" sz="1800" spc="-1" strike="noStrike">
                                                                      <a:solidFill>
                                                                        <a:srgbClr val="000000"/>
                                                                      </a:solidFill>
                                                                      <a:latin typeface="Calibri"/>
                                                                    </a:endParaRPr>
                                                                  </a:p>
                                                                </p:txBody>
                                                              </p:sp>
                                                              <p:sp>
                                                                <p:nvSpPr>
                                                                  <p:cNvPr id="199" name="Прямоугольник 84"/>
                                                                  <p:cNvSpPr/>
                                                                  <p:nvPr/>
                                                                </p:nvSpPr>
                                                                <p:spPr>
                                                                  <a:xfrm>
                                                                    <a:off x="5810400" y="2229480"/>
                                                                    <a:ext cx="507960" cy="487080"/>
                                                                  </a:xfrm>
                                                                  <a:prstGeom prst="rect">
                                                                    <a:avLst/>
                                                                  </a:prstGeom>
                                                                  <a:solidFill>
                                                                    <a:srgbClr val="ffffff"/>
                                                                  </a:solidFill>
                                                                  <a:ln w="25560">
                                                                    <a:solidFill>
                                                                      <a:srgbClr val="000000"/>
                                                                    </a:solidFill>
                                                                    <a:miter/>
                                                                  </a:ln>
                                                                </p:spPr>
                                                                <p:style>
                                                                  <a:lnRef idx="0"/>
                                                                  <a:fillRef idx="0"/>
                                                                  <a:effectRef idx="0"/>
                                                                  <a:fontRef idx="minor"/>
                                                                </p:style>
                                                                <p:txBody>
                                                                  <a:bodyPr lIns="90000" rIns="90000" tIns="46800" bIns="46800" anchor="ctr">
                                                                    <a:noAutofit/>
                                                                  </a:bodyPr>
                                                                  <a:p>
                                                                    <a:pPr>
                                                                      <a:tabLst>
                                                                        <a:tab algn="l" pos="0"/>
                                                                        <a:tab algn="l" pos="914400"/>
                                                                        <a:tab algn="l" pos="1828800"/>
                                                                        <a:tab algn="l" pos="2743200"/>
                                                                        <a:tab algn="l" pos="3657600"/>
                                                                        <a:tab algn="l" pos="4572000"/>
                                                                        <a:tab algn="l" pos="5486400"/>
                                                                        <a:tab algn="l" pos="6400800"/>
                                                                        <a:tab algn="l" pos="7315200"/>
                                                                        <a:tab algn="l" pos="8229600"/>
                                                                        <a:tab algn="l" pos="9144000"/>
                                                                        <a:tab algn="l" pos="10058400"/>
                                                                      </a:tabLst>
                                                                    </a:pPr>
                                                                    <a:endParaRPr b="0" lang="en-US" sz="1800" spc="-1" strike="noStrike">
                                                                      <a:solidFill>
                                                                        <a:srgbClr val="000000"/>
                                                                      </a:solidFill>
                                                                      <a:latin typeface="Calibri"/>
                                                                    </a:endParaRPr>
                                                                  </a:p>
                                                                </p:txBody>
                                                              </p:sp>
                                                              <p:sp>
                                                                <p:nvSpPr>
                                                                  <p:cNvPr id="200" name="Прямоугольник 85"/>
                                                                  <p:cNvSpPr/>
                                                                  <p:nvPr/>
                                                                </p:nvSpPr>
                                                                <p:spPr>
                                                                  <a:xfrm>
                                                                    <a:off x="6318360" y="2229480"/>
                                                                    <a:ext cx="507960" cy="487080"/>
                                                                  </a:xfrm>
                                                                  <a:prstGeom prst="rect">
                                                                    <a:avLst/>
                                                                  </a:prstGeom>
                                                                  <a:solidFill>
                                                                    <a:srgbClr val="ffffff"/>
                                                                  </a:solidFill>
                                                                  <a:ln w="25560">
                                                                    <a:solidFill>
                                                                      <a:srgbClr val="000000"/>
                                                                    </a:solidFill>
                                                                    <a:miter/>
                                                                  </a:ln>
                                                                </p:spPr>
                                                                <p:style>
                                                                  <a:lnRef idx="0"/>
                                                                  <a:fillRef idx="0"/>
                                                                  <a:effectRef idx="0"/>
                                                                  <a:fontRef idx="minor"/>
                                                                </p:style>
                                                                <p:txBody>
                                                                  <a:bodyPr lIns="90000" rIns="90000" tIns="46800" bIns="46800" anchor="ctr">
                                                                    <a:noAutofit/>
                                                                  </a:bodyPr>
                                                                  <a:p>
                                                                    <a:pPr>
                                                                      <a:tabLst>
                                                                        <a:tab algn="l" pos="0"/>
                                                                        <a:tab algn="l" pos="914400"/>
                                                                        <a:tab algn="l" pos="1828800"/>
                                                                        <a:tab algn="l" pos="2743200"/>
                                                                        <a:tab algn="l" pos="3657600"/>
                                                                        <a:tab algn="l" pos="4572000"/>
                                                                        <a:tab algn="l" pos="5486400"/>
                                                                        <a:tab algn="l" pos="6400800"/>
                                                                        <a:tab algn="l" pos="7315200"/>
                                                                        <a:tab algn="l" pos="8229600"/>
                                                                        <a:tab algn="l" pos="9144000"/>
                                                                        <a:tab algn="l" pos="10058400"/>
                                                                      </a:tabLst>
                                                                    </a:pPr>
                                                                    <a:endParaRPr b="0" lang="en-US" sz="1800" spc="-1" strike="noStrike">
                                                                      <a:solidFill>
                                                                        <a:srgbClr val="000000"/>
                                                                      </a:solidFill>
                                                                      <a:latin typeface="Calibri"/>
                                                                    </a:endParaRPr>
                                                                  </a:p>
                                                                </p:txBody>
                                                              </p:sp>
                                                              <p:sp>
                                                                <p:nvSpPr>
                                                                  <p:cNvPr id="201" name="Прямоугольник 86"/>
                                                                  <p:cNvSpPr/>
                                                                  <p:nvPr/>
                                                                </p:nvSpPr>
                                                                <p:spPr>
                                                                  <a:xfrm>
                                                                    <a:off x="6826320" y="2229480"/>
                                                                    <a:ext cx="507960" cy="487080"/>
                                                                  </a:xfrm>
                                                                  <a:prstGeom prst="rect">
                                                                    <a:avLst/>
                                                                  </a:prstGeom>
                                                                  <a:solidFill>
                                                                    <a:srgbClr val="ffffff"/>
                                                                  </a:solidFill>
                                                                  <a:ln w="25560">
                                                                    <a:solidFill>
                                                                      <a:srgbClr val="000000"/>
                                                                    </a:solidFill>
                                                                    <a:miter/>
                                                                  </a:ln>
                                                                </p:spPr>
                                                                <p:style>
                                                                  <a:lnRef idx="0"/>
                                                                  <a:fillRef idx="0"/>
                                                                  <a:effectRef idx="0"/>
                                                                  <a:fontRef idx="minor"/>
                                                                </p:style>
                                                                <p:txBody>
                                                                  <a:bodyPr lIns="90000" rIns="90000" tIns="46800" bIns="46800" anchor="ctr">
                                                                    <a:noAutofit/>
                                                                  </a:bodyPr>
                                                                  <a:p>
                                                                    <a:pPr>
                                                                      <a:tabLst>
                                                                        <a:tab algn="l" pos="0"/>
                                                                        <a:tab algn="l" pos="914400"/>
                                                                        <a:tab algn="l" pos="1828800"/>
                                                                        <a:tab algn="l" pos="2743200"/>
                                                                        <a:tab algn="l" pos="3657600"/>
                                                                        <a:tab algn="l" pos="4572000"/>
                                                                        <a:tab algn="l" pos="5486400"/>
                                                                        <a:tab algn="l" pos="6400800"/>
                                                                        <a:tab algn="l" pos="7315200"/>
                                                                        <a:tab algn="l" pos="8229600"/>
                                                                        <a:tab algn="l" pos="9144000"/>
                                                                        <a:tab algn="l" pos="10058400"/>
                                                                      </a:tabLst>
                                                                    </a:pPr>
                                                                    <a:endParaRPr b="0" lang="en-US" sz="1800" spc="-1" strike="noStrike">
                                                                      <a:solidFill>
                                                                        <a:srgbClr val="000000"/>
                                                                      </a:solidFill>
                                                                      <a:latin typeface="Calibri"/>
                                                                    </a:endParaRPr>
                                                                  </a:p>
                                                                </p:txBody>
                                                              </p:sp>
                                                              <p:sp>
                                                                <p:nvSpPr>
                                                                  <p:cNvPr id="202" name="Прямоугольник 87"/>
                                                                  <p:cNvSpPr/>
                                                                  <p:nvPr/>
                                                                </p:nvSpPr>
                                                                <p:spPr>
                                                                  <a:xfrm>
                                                                    <a:off x="7336080" y="2229480"/>
                                                                    <a:ext cx="506160" cy="487080"/>
                                                                  </a:xfrm>
                                                                  <a:prstGeom prst="rect">
                                                                    <a:avLst/>
                                                                  </a:prstGeom>
                                                                  <a:solidFill>
                                                                    <a:srgbClr val="ffffff"/>
                                                                  </a:solidFill>
                                                                  <a:ln w="25560">
                                                                    <a:solidFill>
                                                                      <a:srgbClr val="000000"/>
                                                                    </a:solidFill>
                                                                    <a:miter/>
                                                                  </a:ln>
                                                                </p:spPr>
                                                                <p:style>
                                                                  <a:lnRef idx="0"/>
                                                                  <a:fillRef idx="0"/>
                                                                  <a:effectRef idx="0"/>
                                                                  <a:fontRef idx="minor"/>
                                                                </p:style>
                                                                <p:txBody>
                                                                  <a:bodyPr lIns="90000" rIns="90000" tIns="46800" bIns="46800" anchor="ctr">
                                                                    <a:noAutofit/>
                                                                  </a:bodyPr>
                                                                  <a:p>
                                                                    <a:pPr>
                                                                      <a:tabLst>
                                                                        <a:tab algn="l" pos="0"/>
                                                                        <a:tab algn="l" pos="914400"/>
                                                                        <a:tab algn="l" pos="1828800"/>
                                                                        <a:tab algn="l" pos="2743200"/>
                                                                        <a:tab algn="l" pos="3657600"/>
                                                                        <a:tab algn="l" pos="4572000"/>
                                                                        <a:tab algn="l" pos="5486400"/>
                                                                        <a:tab algn="l" pos="6400800"/>
                                                                        <a:tab algn="l" pos="7315200"/>
                                                                        <a:tab algn="l" pos="8229600"/>
                                                                        <a:tab algn="l" pos="9144000"/>
                                                                        <a:tab algn="l" pos="10058400"/>
                                                                      </a:tabLst>
                                                                    </a:pPr>
                                                                    <a:endParaRPr b="0" lang="en-US" sz="1800" spc="-1" strike="noStrike">
                                                                      <a:solidFill>
                                                                        <a:srgbClr val="000000"/>
                                                                      </a:solidFill>
                                                                      <a:latin typeface="Calibri"/>
                                                                    </a:endParaRPr>
                                                                  </a:p>
                                                                </p:txBody>
                                                              </p:sp>
                                                              <p:sp>
                                                                <p:nvSpPr>
                                                                  <p:cNvPr id="203" name="Прямоугольник 88"/>
                                                                  <p:cNvSpPr/>
                                                                  <p:nvPr/>
                                                                </p:nvSpPr>
                                                                <p:spPr>
                                                                  <a:xfrm>
                                                                    <a:off x="7844040" y="2229480"/>
                                                                    <a:ext cx="507960" cy="487080"/>
                                                                  </a:xfrm>
                                                                  <a:prstGeom prst="rect">
                                                                    <a:avLst/>
                                                                  </a:prstGeom>
                                                                  <a:solidFill>
                                                                    <a:srgbClr val="ffffff"/>
                                                                  </a:solidFill>
                                                                  <a:ln w="25560">
                                                                    <a:solidFill>
                                                                      <a:srgbClr val="000000"/>
                                                                    </a:solidFill>
                                                                    <a:miter/>
                                                                  </a:ln>
                                                                </p:spPr>
                                                                <p:style>
                                                                  <a:lnRef idx="0"/>
                                                                  <a:fillRef idx="0"/>
                                                                  <a:effectRef idx="0"/>
                                                                  <a:fontRef idx="minor"/>
                                                                </p:style>
                                                                <p:txBody>
                                                                  <a:bodyPr lIns="90000" rIns="90000" tIns="46800" bIns="46800" anchor="ctr">
                                                                    <a:noAutofit/>
                                                                  </a:bodyPr>
                                                                  <a:p>
                                                                    <a:pPr>
                                                                      <a:tabLst>
                                                                        <a:tab algn="l" pos="0"/>
                                                                        <a:tab algn="l" pos="914400"/>
                                                                        <a:tab algn="l" pos="1828800"/>
                                                                        <a:tab algn="l" pos="2743200"/>
                                                                        <a:tab algn="l" pos="3657600"/>
                                                                        <a:tab algn="l" pos="4572000"/>
                                                                        <a:tab algn="l" pos="5486400"/>
                                                                        <a:tab algn="l" pos="6400800"/>
                                                                        <a:tab algn="l" pos="7315200"/>
                                                                        <a:tab algn="l" pos="8229600"/>
                                                                        <a:tab algn="l" pos="9144000"/>
                                                                        <a:tab algn="l" pos="10058400"/>
                                                                      </a:tabLst>
                                                                    </a:pPr>
                                                                    <a:endParaRPr b="0" lang="en-US" sz="1800" spc="-1" strike="noStrike">
                                                                      <a:solidFill>
                                                                        <a:srgbClr val="000000"/>
                                                                      </a:solidFill>
                                                                      <a:latin typeface="Calibri"/>
                                                                    </a:endParaRPr>
                                                                  </a:p>
                                                                </p:txBody>
                                                              </p:sp>
                                                              <p:sp>
                                                                <p:nvSpPr>
                                                                  <p:cNvPr id="204" name="Прямоугольник 89"/>
                                                                  <p:cNvSpPr/>
                                                                  <p:nvPr/>
                                                                </p:nvSpPr>
                                                                <p:spPr>
                                                                  <a:xfrm>
                                                                    <a:off x="8352000" y="2229480"/>
                                                                    <a:ext cx="507960" cy="487080"/>
                                                                  </a:xfrm>
                                                                  <a:prstGeom prst="rect">
                                                                    <a:avLst/>
                                                                  </a:prstGeom>
                                                                  <a:solidFill>
                                                                    <a:srgbClr val="ffffff"/>
                                                                  </a:solidFill>
                                                                  <a:ln w="25560">
                                                                    <a:solidFill>
                                                                      <a:srgbClr val="000000"/>
                                                                    </a:solidFill>
                                                                    <a:miter/>
                                                                  </a:ln>
                                                                </p:spPr>
                                                                <p:style>
                                                                  <a:lnRef idx="0"/>
                                                                  <a:fillRef idx="0"/>
                                                                  <a:effectRef idx="0"/>
                                                                  <a:fontRef idx="minor"/>
                                                                </p:style>
                                                                <p:txBody>
                                                                  <a:bodyPr lIns="90000" rIns="90000" tIns="46800" bIns="46800" anchor="ctr">
                                                                    <a:noAutofit/>
                                                                  </a:bodyPr>
                                                                  <a:p>
                                                                    <a:pPr>
                                                                      <a:tabLst>
                                                                        <a:tab algn="l" pos="0"/>
                                                                        <a:tab algn="l" pos="914400"/>
                                                                        <a:tab algn="l" pos="1828800"/>
                                                                        <a:tab algn="l" pos="2743200"/>
                                                                        <a:tab algn="l" pos="3657600"/>
                                                                        <a:tab algn="l" pos="4572000"/>
                                                                        <a:tab algn="l" pos="5486400"/>
                                                                        <a:tab algn="l" pos="6400800"/>
                                                                        <a:tab algn="l" pos="7315200"/>
                                                                        <a:tab algn="l" pos="8229600"/>
                                                                        <a:tab algn="l" pos="9144000"/>
                                                                        <a:tab algn="l" pos="10058400"/>
                                                                      </a:tabLst>
                                                                    </a:pPr>
                                                                    <a:endParaRPr b="0" lang="en-US" sz="1800" spc="-1" strike="noStrike">
                                                                      <a:solidFill>
                                                                        <a:srgbClr val="000000"/>
                                                                      </a:solidFill>
                                                                      <a:latin typeface="Calibri"/>
                                                                    </a:endParaRPr>
                                                                  </a:p>
                                                                </p:txBody>
                                                              </p:sp>
                                                            </p:grpSp>
                                                            <p:sp>
                                                              <p:nvSpPr>
                                                                <p:cNvPr id="205" name="Надпись 2"/>
                                                                <p:cNvSpPr/>
                                                                <p:nvPr/>
                                                              </p:nvSpPr>
                                                              <p:spPr>
                                                                <a:xfrm>
                                                                  <a:off x="4348800" y="2274480"/>
                                                                  <a:ext cx="328680" cy="400680"/>
                                                                </a:xfrm>
                                                                <a:prstGeom prst="rect">
                                                                  <a:avLst/>
                                                                </a:prstGeom>
                                                                <a:solidFill>
                                                                  <a:srgbClr val="ffffff"/>
                                                                </a:solidFill>
                                                                <a:ln w="0">
                                                                  <a:noFill/>
                                                                </a:ln>
                                                              </p:spPr>
                                                              <p:style>
                                                                <a:lnRef idx="0"/>
                                                                <a:fillRef idx="0"/>
                                                                <a:effectRef idx="0"/>
                                                                <a:fontRef idx="minor"/>
                                                              </p:style>
                                                              <p:txBody>
                                                                <a:bodyPr lIns="90000" rIns="90000" tIns="46800" bIns="46800" anchor="t">
                                                                  <a:noAutofit/>
                                                                </a:bodyPr>
                                                                <a:p>
                                                                  <a:pPr>
                                                                    <a:lnSpc>
                                                                      <a:spcPct val="115000"/>
                                                                    </a:lnSpc>
                                                                    <a:spcAft>
                                                                      <a:spcPts val="1001"/>
                                                                    </a:spcAft>
                                                                    <a:tabLst>
                                                                      <a:tab algn="l" pos="0"/>
                                                                      <a:tab algn="l" pos="914400"/>
                                                                      <a:tab algn="l" pos="1828800"/>
                                                                      <a:tab algn="l" pos="2743200"/>
                                                                      <a:tab algn="l" pos="3657600"/>
                                                                      <a:tab algn="l" pos="4572000"/>
                                                                      <a:tab algn="l" pos="5486400"/>
                                                                      <a:tab algn="l" pos="6400800"/>
                                                                      <a:tab algn="l" pos="7315200"/>
                                                                      <a:tab algn="l" pos="8229600"/>
                                                                      <a:tab algn="l" pos="9144000"/>
                                                                      <a:tab algn="l" pos="10058400"/>
                                                                    </a:tabLst>
                                                                  </a:pPr>
                                                                  <a:r>
                                                                    <a:rPr b="1" lang="ru-RU" sz="2600" spc="-1" strike="noStrike">
                                                                      <a:solidFill>
                                                                        <a:srgbClr val="000000"/>
                                                                      </a:solidFill>
                                                                      <a:latin typeface="Calibri"/>
                                                                      <a:ea typeface="Calibri"/>
                                                                    </a:rPr>
                                                                    <a:t>а</a:t>
                                                                  </a:r>
                                                                  <a:endParaRPr b="0" lang="en-US" sz="2600" spc="-1" strike="noStrike">
                                                                    <a:solidFill>
                                                                      <a:srgbClr val="000000"/>
                                                                    </a:solidFill>
                                                                    <a:latin typeface="Calibri"/>
                                                                  </a:endParaRPr>
                                                                </a:p>
                                                              </p:txBody>
                                                            </p:sp>
                                                          </p:grpSp>
                                                          <p:sp>
                                                            <p:nvSpPr>
                                                              <p:cNvPr id="206" name="Надпись 2"/>
                                                              <p:cNvSpPr/>
                                                              <p:nvPr/>
                                                            </p:nvSpPr>
                                                            <p:spPr>
                                                              <a:xfrm>
                                                                <a:off x="4878720" y="2291400"/>
                                                                <a:ext cx="328680" cy="400680"/>
                                                              </a:xfrm>
                                                              <a:prstGeom prst="rect">
                                                                <a:avLst/>
                                                              </a:prstGeom>
                                                              <a:solidFill>
                                                                <a:srgbClr val="ffffff"/>
                                                              </a:solidFill>
                                                              <a:ln w="0">
                                                                <a:noFill/>
                                                              </a:ln>
                                                            </p:spPr>
                                                            <p:style>
                                                              <a:lnRef idx="0"/>
                                                              <a:fillRef idx="0"/>
                                                              <a:effectRef idx="0"/>
                                                              <a:fontRef idx="minor"/>
                                                            </p:style>
                                                            <p:txBody>
                                                              <a:bodyPr lIns="90000" rIns="90000" tIns="46800" bIns="46800" anchor="t">
                                                                <a:noAutofit/>
                                                              </a:bodyPr>
                                                              <a:p>
                                                                <a:pPr>
                                                                  <a:lnSpc>
                                                                    <a:spcPct val="115000"/>
                                                                  </a:lnSpc>
                                                                  <a:spcAft>
                                                                    <a:spcPts val="1001"/>
                                                                  </a:spcAft>
                                                                  <a:tabLst>
                                                                    <a:tab algn="l" pos="0"/>
                                                                    <a:tab algn="l" pos="914400"/>
                                                                    <a:tab algn="l" pos="1828800"/>
                                                                    <a:tab algn="l" pos="2743200"/>
                                                                    <a:tab algn="l" pos="3657600"/>
                                                                    <a:tab algn="l" pos="4572000"/>
                                                                    <a:tab algn="l" pos="5486400"/>
                                                                    <a:tab algn="l" pos="6400800"/>
                                                                    <a:tab algn="l" pos="7315200"/>
                                                                    <a:tab algn="l" pos="8229600"/>
                                                                    <a:tab algn="l" pos="9144000"/>
                                                                    <a:tab algn="l" pos="10058400"/>
                                                                  </a:tabLst>
                                                                </a:pPr>
                                                                <a:r>
                                                                  <a:rPr b="1" lang="ru-RU" sz="2600" spc="-1" strike="noStrike">
                                                                    <a:solidFill>
                                                                      <a:srgbClr val="000000"/>
                                                                    </a:solidFill>
                                                                    <a:latin typeface="Calibri"/>
                                                                    <a:ea typeface="Calibri"/>
                                                                  </a:rPr>
                                                                  <a:t>в</a:t>
                                                                </a:r>
                                                                <a:endParaRPr b="0" lang="en-US" sz="2600" spc="-1" strike="noStrike">
                                                                  <a:solidFill>
                                                                    <a:srgbClr val="000000"/>
                                                                  </a:solidFill>
                                                                  <a:latin typeface="Calibri"/>
                                                                </a:endParaRPr>
                                                              </a:p>
                                                            </p:txBody>
                                                          </p:sp>
                                                        </p:grpSp>
                                                        <p:sp>
                                                          <p:nvSpPr>
                                                            <p:cNvPr id="207" name="Надпись 2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>
                                                              <a:off x="5424480" y="2291400"/>
                                                              <a:ext cx="328680" cy="400680"/>
                                                            </a:xfrm>
                                                            <a:prstGeom prst="rect">
                                                              <a:avLst/>
                                                            </a:prstGeom>
                                                            <a:solidFill>
                                                              <a:srgbClr val="ffffff"/>
                                                            </a:solidFill>
                                                            <a:ln w="0">
                                                              <a:noFill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46800" bIns="46800" anchor="t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pPr>
                                                                <a:lnSpc>
                                                                  <a:spcPct val="115000"/>
                                                                </a:lnSpc>
                                                                <a:spcAft>
                                                                  <a:spcPts val="1001"/>
                                                                </a:spcAft>
                                                                <a:tabLst>
                                                                  <a:tab algn="l" pos="0"/>
                                                                  <a:tab algn="l" pos="914400"/>
                                                                  <a:tab algn="l" pos="1828800"/>
                                                                  <a:tab algn="l" pos="2743200"/>
                                                                  <a:tab algn="l" pos="3657600"/>
                                                                  <a:tab algn="l" pos="4572000"/>
                                                                  <a:tab algn="l" pos="5486400"/>
                                                                  <a:tab algn="l" pos="6400800"/>
                                                                  <a:tab algn="l" pos="7315200"/>
                                                                  <a:tab algn="l" pos="8229600"/>
                                                                  <a:tab algn="l" pos="9144000"/>
                                                                  <a:tab algn="l" pos="10058400"/>
                                                                </a:tabLst>
                                                              </a:pPr>
                                                              <a:r>
                                                                <a:rPr b="1" lang="ru-RU" sz="2600" spc="-1" strike="noStrike">
                                                                  <a:solidFill>
                                                                    <a:srgbClr val="000000"/>
                                                                  </a:solidFill>
                                                                  <a:latin typeface="Calibri"/>
                                                                  <a:ea typeface="Calibri"/>
                                                                </a:rPr>
                                                                <a:t>с</a:t>
                                                              </a:r>
                                                              <a:endParaRPr b="0" lang="en-US" sz="26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Calibri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</p:grpSp>
                                                      <p:sp>
                                                        <p:nvSpPr>
                                                          <p:cNvPr id="208" name="Надпись 2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>
                                                            <a:off x="5916960" y="2308320"/>
                                                            <a:ext cx="328680" cy="400680"/>
                                                          </a:xfrm>
                                                          <a:prstGeom prst="rect">
                                                            <a:avLst/>
                                                          </a:prstGeom>
                                                          <a:solidFill>
                                                            <a:srgbClr val="ffffff"/>
                                                          </a:solidFill>
                                                          <a:ln w="0">
                                                            <a:noFill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46800" bIns="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pPr>
                                                              <a:lnSpc>
                                                                <a:spcPct val="115000"/>
                                                              </a:lnSpc>
                                                              <a:spcAft>
                                                                <a:spcPts val="1001"/>
                                                              </a:spcAft>
                                                              <a:tabLst>
                                                                <a:tab algn="l" pos="0"/>
                                                                <a:tab algn="l" pos="914400"/>
                                                                <a:tab algn="l" pos="1828800"/>
                                                                <a:tab algn="l" pos="2743200"/>
                                                                <a:tab algn="l" pos="3657600"/>
                                                                <a:tab algn="l" pos="4572000"/>
                                                                <a:tab algn="l" pos="5486400"/>
                                                                <a:tab algn="l" pos="6400800"/>
                                                                <a:tab algn="l" pos="7315200"/>
                                                                <a:tab algn="l" pos="8229600"/>
                                                                <a:tab algn="l" pos="9144000"/>
                                                                <a:tab algn="l" pos="10058400"/>
                                                              </a:tabLst>
                                                            </a:pPr>
                                                            <a:r>
                                                              <a:rPr b="1" lang="ru-RU" sz="26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Calibri"/>
                                                                <a:ea typeface="Calibri"/>
                                                              </a:rPr>
                                                              <a:t>т</a:t>
                                                            </a:r>
                                                            <a:endParaRPr b="0" lang="en-US" sz="26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Calibri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</p:grpSp>
                                                    <p:sp>
                                                      <p:nvSpPr>
                                                        <p:cNvPr id="209" name="Надпись 2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>
                                                          <a:off x="6436080" y="2296800"/>
                                                          <a:ext cx="328680" cy="400680"/>
                                                        </a:xfrm>
                                                        <a:prstGeom prst="rect">
                                                          <a:avLst/>
                                                        </a:prstGeom>
                                                        <a:solidFill>
                                                          <a:srgbClr val="ffffff"/>
                                                        </a:solidFill>
                                                        <a:ln w="0">
                                                          <a:noFill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lIns="90000" rIns="90000" tIns="46800" bIns="46800" anchor="t">
                                                          <a:noAutofit/>
                                                        </a:bodyPr>
                                                        <a:p>
                                                          <a:pPr>
                                                            <a:lnSpc>
                                                              <a:spcPct val="115000"/>
                                                            </a:lnSpc>
                                                            <a:spcAft>
                                                              <a:spcPts val="1001"/>
                                                            </a:spcAft>
                                                            <a:tabLst>
                                                              <a:tab algn="l" pos="0"/>
                                                              <a:tab algn="l" pos="914400"/>
                                                              <a:tab algn="l" pos="1828800"/>
                                                              <a:tab algn="l" pos="2743200"/>
                                                              <a:tab algn="l" pos="3657600"/>
                                                              <a:tab algn="l" pos="4572000"/>
                                                              <a:tab algn="l" pos="5486400"/>
                                                              <a:tab algn="l" pos="6400800"/>
                                                              <a:tab algn="l" pos="7315200"/>
                                                              <a:tab algn="l" pos="8229600"/>
                                                              <a:tab algn="l" pos="9144000"/>
                                                              <a:tab algn="l" pos="10058400"/>
                                                            </a:tabLst>
                                                          </a:pPr>
                                                          <a:r>
                                                            <a:rPr b="1" lang="ru-RU" sz="26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Calibri"/>
                                                              <a:ea typeface="Calibri"/>
                                                            </a:rPr>
                                                            <a:t>в</a:t>
                                                          </a:r>
                                                          <a:endParaRPr b="0" lang="en-US" sz="26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Calibri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</p:grpSp>
                                                  <p:sp>
                                                    <p:nvSpPr>
                                                      <p:cNvPr id="210" name="Надпись 2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>
                                                        <a:off x="6928560" y="2274480"/>
                                                        <a:ext cx="328680" cy="327960"/>
                                                      </a:xfrm>
                                                      <a:prstGeom prst="rect">
                                                        <a:avLst/>
                                                      </a:prstGeom>
                                                      <a:solidFill>
                                                        <a:srgbClr val="ffffff"/>
                                                      </a:solidFill>
                                                      <a:ln w="0">
                                                        <a:noFill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lIns="90000" rIns="90000" tIns="46800" bIns="46800" anchor="t">
                                                        <a:noAutofit/>
                                                      </a:bodyPr>
                                                      <a:p>
                                                        <a:pPr>
                                                          <a:lnSpc>
                                                            <a:spcPct val="115000"/>
                                                          </a:lnSpc>
                                                          <a:spcAft>
                                                            <a:spcPts val="1001"/>
                                                          </a:spcAft>
                                                          <a:tabLst>
                                                            <a:tab algn="l" pos="0"/>
                                                            <a:tab algn="l" pos="914400"/>
                                                            <a:tab algn="l" pos="1828800"/>
                                                            <a:tab algn="l" pos="2743200"/>
                                                            <a:tab algn="l" pos="3657600"/>
                                                            <a:tab algn="l" pos="4572000"/>
                                                            <a:tab algn="l" pos="5486400"/>
                                                            <a:tab algn="l" pos="6400800"/>
                                                            <a:tab algn="l" pos="7315200"/>
                                                            <a:tab algn="l" pos="8229600"/>
                                                            <a:tab algn="l" pos="9144000"/>
                                                            <a:tab algn="l" pos="10058400"/>
                                                          </a:tabLst>
                                                        </a:pPr>
                                                        <a:r>
                                                          <a:rPr b="1" lang="ru-RU" sz="26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Calibri"/>
                                                            <a:ea typeface="Calibri"/>
                                                          </a:rPr>
                                                          <a:t>у</a:t>
                                                        </a:r>
                                                        <a:endParaRPr b="0" lang="en-US" sz="26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Calibri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</p:grpSp>
                                                <p:sp>
                                                  <p:nvSpPr>
                                                    <p:cNvPr id="211" name="Надпись 2"/>
                                                    <p:cNvSpPr/>
                                                    <p:nvPr/>
                                                  </p:nvSpPr>
                                                  <p:spPr>
                                                    <a:xfrm>
                                                      <a:off x="7453080" y="2274480"/>
                                                      <a:ext cx="328680" cy="400680"/>
                                                    </a:xfrm>
                                                    <a:prstGeom prst="rect">
                                                      <a:avLst/>
                                                    </a:prstGeom>
                                                    <a:solidFill>
                                                      <a:srgbClr val="ffffff"/>
                                                    </a:solidFill>
                                                    <a:ln w="0">
                                                      <a:noFill/>
                                                    </a:ln>
                                                  </p:spPr>
                                                  <p:style>
                                                    <a:lnRef idx="0"/>
                                                    <a:fillRef idx="0"/>
                                                    <a:effectRef idx="0"/>
                                                    <a:fontRef idx="minor"/>
                                                  </p:style>
                                                  <p:txBody>
                                                    <a:bodyPr lIns="90000" rIns="90000" tIns="46800" bIns="46800" anchor="t">
                                                      <a:noAutofit/>
                                                    </a:bodyPr>
                                                    <a:p>
                                                      <a:pPr>
                                                        <a:lnSpc>
                                                          <a:spcPct val="115000"/>
                                                        </a:lnSpc>
                                                        <a:spcAft>
                                                          <a:spcPts val="1001"/>
                                                        </a:spcAft>
                                                        <a:tabLst>
                                                          <a:tab algn="l" pos="0"/>
                                                          <a:tab algn="l" pos="914400"/>
                                                          <a:tab algn="l" pos="1828800"/>
                                                          <a:tab algn="l" pos="2743200"/>
                                                          <a:tab algn="l" pos="3657600"/>
                                                          <a:tab algn="l" pos="4572000"/>
                                                          <a:tab algn="l" pos="5486400"/>
                                                          <a:tab algn="l" pos="6400800"/>
                                                          <a:tab algn="l" pos="7315200"/>
                                                          <a:tab algn="l" pos="8229600"/>
                                                          <a:tab algn="l" pos="9144000"/>
                                                          <a:tab algn="l" pos="10058400"/>
                                                        </a:tabLst>
                                                      </a:pPr>
                                                      <a:r>
                                                        <a:rPr b="1" lang="ru-RU" sz="26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Calibri"/>
                                                          <a:ea typeface="Calibri"/>
                                                        </a:rPr>
                                                        <a:t>й</a:t>
                                                      </a:r>
                                                      <a:endParaRPr b="0" lang="en-US" sz="2600" spc="-1" strike="noStrike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latin typeface="Calibri"/>
                                                      </a:endParaRPr>
                                                    </a:p>
                                                  </p:txBody>
                                                </p:sp>
                                              </p:grpSp>
                                              <p:sp>
                                                <p:nvSpPr>
                                                  <p:cNvPr id="212" name="Надпись 2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>
                                                    <a:off x="7940160" y="2285640"/>
                                                    <a:ext cx="328680" cy="400680"/>
                                                  </a:xfrm>
                                                  <a:prstGeom prst="rect">
                                                    <a:avLst/>
                                                  </a:prstGeom>
                                                  <a:solidFill>
                                                    <a:srgbClr val="ffffff"/>
                                                  </a:solidFill>
                                                  <a:ln w="0">
                                                    <a:noFill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lIns="90000" rIns="90000" tIns="46800" bIns="46800" anchor="t">
                                                    <a:noAutofit/>
                                                  </a:bodyPr>
                                                  <a:p>
                                                    <a:pPr>
                                                      <a:lnSpc>
                                                        <a:spcPct val="115000"/>
                                                      </a:lnSpc>
                                                      <a:spcAft>
                                                        <a:spcPts val="1001"/>
                                                      </a:spcAft>
                                                      <a:tabLst>
                                                        <a:tab algn="l" pos="0"/>
                                                        <a:tab algn="l" pos="914400"/>
                                                        <a:tab algn="l" pos="1828800"/>
                                                        <a:tab algn="l" pos="2743200"/>
                                                        <a:tab algn="l" pos="3657600"/>
                                                        <a:tab algn="l" pos="4572000"/>
                                                        <a:tab algn="l" pos="5486400"/>
                                                        <a:tab algn="l" pos="6400800"/>
                                                        <a:tab algn="l" pos="7315200"/>
                                                        <a:tab algn="l" pos="8229600"/>
                                                        <a:tab algn="l" pos="9144000"/>
                                                        <a:tab algn="l" pos="10058400"/>
                                                      </a:tabLst>
                                                    </a:pPr>
                                                    <a:r>
                                                      <a:rPr b="1" lang="ru-RU" sz="2600" spc="-1" strike="noStrike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latin typeface="Calibri"/>
                                                        <a:ea typeface="Calibri"/>
                                                      </a:rPr>
                                                      <a:t>т</a:t>
                                                    </a:r>
                                                    <a:endParaRPr b="0" lang="en-US" sz="26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Calibri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</p:grpSp>
                                            <p:sp>
                                              <p:nvSpPr>
                                                <p:cNvPr id="213" name="Надпись 2"/>
                                                <p:cNvSpPr/>
                                                <p:nvPr/>
                                              </p:nvSpPr>
                                              <p:spPr>
                                                <a:xfrm>
                                                  <a:off x="8437680" y="2274480"/>
                                                  <a:ext cx="328680" cy="400680"/>
                                                </a:xfrm>
                                                <a:prstGeom prst="rect">
                                                  <a:avLst/>
                                                </a:prstGeom>
                                                <a:solidFill>
                                                  <a:srgbClr val="ffffff"/>
                                                </a:solidFill>
                                                <a:ln w="0">
                                                  <a:noFill/>
                                                </a:ln>
                                              </p:spPr>
                                              <p:style>
                                                <a:lnRef idx="0"/>
                                                <a:fillRef idx="0"/>
                                                <a:effectRef idx="0"/>
                                                <a:fontRef idx="minor"/>
                                              </p:style>
                                              <p:txBody>
                                                <a:bodyPr lIns="90000" rIns="90000" tIns="46800" bIns="46800" anchor="t">
                                                  <a:noAutofit/>
                                                </a:bodyPr>
                                                <a:p>
                                                  <a:pPr>
                                                    <a:lnSpc>
                                                      <a:spcPct val="115000"/>
                                                    </a:lnSpc>
                                                    <a:spcAft>
                                                      <a:spcPts val="1001"/>
                                                    </a:spcAft>
                                                    <a:tabLst>
                                                      <a:tab algn="l" pos="0"/>
                                                      <a:tab algn="l" pos="914400"/>
                                                      <a:tab algn="l" pos="1828800"/>
                                                      <a:tab algn="l" pos="2743200"/>
                                                      <a:tab algn="l" pos="3657600"/>
                                                      <a:tab algn="l" pos="4572000"/>
                                                      <a:tab algn="l" pos="5486400"/>
                                                      <a:tab algn="l" pos="6400800"/>
                                                      <a:tab algn="l" pos="7315200"/>
                                                      <a:tab algn="l" pos="8229600"/>
                                                      <a:tab algn="l" pos="9144000"/>
                                                      <a:tab algn="l" pos="10058400"/>
                                                    </a:tabLst>
                                                  </a:pPr>
                                                  <a:r>
                                                    <a:rPr b="1" lang="ru-RU" sz="26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Calibri"/>
                                                      <a:ea typeface="Calibri"/>
                                                    </a:rPr>
                                                    <a:t>е</a:t>
                                                  </a:r>
                                                  <a:endParaRPr b="0" lang="en-US" sz="2600" spc="-1" strike="noStrike">
                                                    <a:solidFill>
                                                      <a:srgbClr val="000000"/>
                                                    </a:solidFill>
                                                    <a:latin typeface="Calibri"/>
                                                  </a:endParaRPr>
                                                </a:p>
                                              </p:txBody>
                                            </p:sp>
                                          </p:grpSp>
                                        </p:grpSp>
                                      </p:grpSp>
                                    </p:grpSp>
                                    <p:sp>
                                      <p:nvSpPr>
                                        <p:cNvPr id="214" name="Надпись 2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4354560" y="2764440"/>
                                          <a:ext cx="328680" cy="400680"/>
                                        </a:xfrm>
                                        <a:prstGeom prst="rect">
                                          <a:avLst/>
                                        </a:prstGeom>
                                        <a:solidFill>
                                          <a:srgbClr val="ffffff"/>
                                        </a:solidFill>
                                        <a:ln w="0">
                                          <a:noFill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pPr>
                                            <a:lnSpc>
                                              <a:spcPct val="115000"/>
                                            </a:lnSpc>
                                            <a:spcAft>
                                              <a:spcPts val="1001"/>
                                            </a:spcAft>
                                            <a:tabLst>
                                              <a:tab algn="l" pos="0"/>
                                              <a:tab algn="l" pos="914400"/>
                                              <a:tab algn="l" pos="1828800"/>
                                              <a:tab algn="l" pos="2743200"/>
                                              <a:tab algn="l" pos="3657600"/>
                                              <a:tab algn="l" pos="4572000"/>
                                              <a:tab algn="l" pos="5486400"/>
                                              <a:tab algn="l" pos="6400800"/>
                                              <a:tab algn="l" pos="7315200"/>
                                              <a:tab algn="l" pos="8229600"/>
                                              <a:tab algn="l" pos="9144000"/>
                                              <a:tab algn="l" pos="10058400"/>
                                            </a:tabLst>
                                          </a:pPr>
                                          <a:r>
                                            <a:rPr b="1" lang="ru-RU" sz="26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Calibri"/>
                                              <a:ea typeface="Calibri"/>
                                            </a:rPr>
                                            <a:t>р</a:t>
                                          </a:r>
                                          <a:endParaRPr b="0" lang="en-US" sz="26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Calibri"/>
                                          </a:endParaRPr>
                                        </a:p>
                                      </p:txBody>
                                    </p:sp>
                                  </p:grpSp>
                                  <p:sp>
                                    <p:nvSpPr>
                                      <p:cNvPr id="215" name="Надпись 2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4878720" y="2764440"/>
                                        <a:ext cx="328680" cy="400680"/>
                                      </a:xfrm>
                                      <a:prstGeom prst="rect">
                                        <a:avLst/>
                                      </a:prstGeom>
                                      <a:solidFill>
                                        <a:srgbClr val="ffffff"/>
                                      </a:solidFill>
                                      <a:ln w="0">
                                        <a:noFill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pPr>
                                          <a:lnSpc>
                                            <a:spcPct val="115000"/>
                                          </a:lnSpc>
                                          <a:spcAft>
                                            <a:spcPts val="1001"/>
                                          </a:spcAft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1" lang="ru-RU" sz="26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Calibri"/>
                                            <a:ea typeface="Calibri"/>
                                          </a:rPr>
                                          <a:t>е</a:t>
                                        </a:r>
                                        <a:endParaRPr b="0" lang="en-US" sz="2600" spc="-1" strike="noStrike">
                                          <a:solidFill>
                                            <a:srgbClr val="000000"/>
                                          </a:solidFill>
                                          <a:latin typeface="Calibri"/>
                                        </a:endParaRPr>
                                      </a:p>
                                    </p:txBody>
                                  </p:sp>
                                </p:grpSp>
                                <p:sp>
                                  <p:nvSpPr>
                                    <p:cNvPr id="216" name="Надпись 2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419440" y="2758680"/>
                                      <a:ext cx="328680" cy="40068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ffffff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pPr>
                                        <a:lnSpc>
                                          <a:spcPct val="115000"/>
                                        </a:lnSpc>
                                        <a:spcAft>
                                          <a:spcPts val="1001"/>
                                        </a:spcAft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1" lang="ru-RU" sz="2600" spc="-1" strike="noStrike">
                                          <a:solidFill>
                                            <a:srgbClr val="000000"/>
                                          </a:solidFill>
                                          <a:latin typeface="Calibri"/>
                                          <a:ea typeface="Calibri"/>
                                        </a:rPr>
                                        <a:t>к</a:t>
                                      </a:r>
                                      <a:endParaRPr b="0" lang="en-US" sz="2600" spc="-1" strike="noStrike">
                                        <a:solidFill>
                                          <a:srgbClr val="000000"/>
                                        </a:solidFill>
                                        <a:latin typeface="Calibri"/>
                                      </a:endParaRPr>
                                    </a:p>
                                  </p:txBody>
                                </p:sp>
                              </p:grpSp>
                              <p:sp>
                                <p:nvSpPr>
                                  <p:cNvPr id="217" name="Надпись 2"/>
                                  <p:cNvSpPr/>
                                  <p:nvPr/>
                                </p:nvSpPr>
                                <p:spPr>
                                  <a:xfrm>
                                    <a:off x="5938560" y="2758680"/>
                                    <a:ext cx="328680" cy="40068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ffffff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15000"/>
                                      </a:lnSpc>
                                      <a:spcAft>
                                        <a:spcPts val="1001"/>
                                      </a:spcAft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1" lang="ru-RU" sz="2600" spc="-1" strike="noStrike">
                                        <a:solidFill>
                                          <a:srgbClr val="000000"/>
                                        </a:solidFill>
                                        <a:latin typeface="Calibri"/>
                                        <a:ea typeface="Calibri"/>
                                      </a:rPr>
                                      <a:t>р</a:t>
                                    </a:r>
                                    <a:endParaRPr b="0" lang="en-US" sz="2600" spc="-1" strike="noStrike">
                                      <a:solidFill>
                                        <a:srgbClr val="000000"/>
                                      </a:solidFill>
                                      <a:latin typeface="Calibri"/>
                                    </a:endParaRPr>
                                  </a:p>
                                </p:txBody>
                              </p:sp>
                            </p:grpSp>
                            <p:sp>
                              <p:nvSpPr>
                                <p:cNvPr id="218" name="Надпись 2"/>
                                <p:cNvSpPr/>
                                <p:nvPr/>
                              </p:nvSpPr>
                              <p:spPr>
                                <a:xfrm>
                                  <a:off x="6404040" y="2764440"/>
                                  <a:ext cx="328680" cy="40068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ff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>
                                    <a:lnSpc>
                                      <a:spcPct val="115000"/>
                                    </a:lnSpc>
                                    <a:spcAft>
                                      <a:spcPts val="1001"/>
                                    </a:spcAft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1" lang="ru-RU" sz="2600" spc="-1" strike="noStrike">
                                      <a:solidFill>
                                        <a:srgbClr val="000000"/>
                                      </a:solidFill>
                                      <a:latin typeface="Calibri"/>
                                      <a:ea typeface="Calibri"/>
                                    </a:rPr>
                                    <a:t>а</a:t>
                                  </a:r>
                                  <a:endParaRPr b="0" lang="en-US" sz="2600" spc="-1" strike="noStrike">
                                    <a:solidFill>
                                      <a:srgbClr val="000000"/>
                                    </a:solidFill>
                                    <a:latin typeface="Calibri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219" name="Надпись 2"/>
                              <p:cNvSpPr/>
                              <p:nvPr/>
                            </p:nvSpPr>
                            <p:spPr>
                              <a:xfrm>
                                <a:off x="6928560" y="2758680"/>
                                <a:ext cx="328680" cy="40068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ff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lnSpc>
                                    <a:spcPct val="115000"/>
                                  </a:lnSpc>
                                  <a:spcAft>
                                    <a:spcPts val="1001"/>
                                  </a:spcAft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ru-RU" sz="2600" spc="-1" strike="noStrike">
                                    <a:solidFill>
                                      <a:srgbClr val="000000"/>
                                    </a:solidFill>
                                    <a:latin typeface="Calibri"/>
                                    <a:ea typeface="Calibri"/>
                                  </a:rPr>
                                  <a:t>с</a:t>
                                </a:r>
                                <a:endParaRPr b="0" lang="en-US" sz="2600" spc="-1" strike="noStrike">
                                  <a:solidFill>
                                    <a:srgbClr val="000000"/>
                                  </a:solidFill>
                                  <a:latin typeface="Calibri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20" name="Надпись 2"/>
                            <p:cNvSpPr/>
                            <p:nvPr/>
                          </p:nvSpPr>
                          <p:spPr>
                            <a:xfrm>
                              <a:off x="7453080" y="2764440"/>
                              <a:ext cx="328680" cy="400680"/>
                            </a:xfrm>
                            <a:prstGeom prst="rect">
                              <a:avLst/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lnSpc>
                                  <a:spcPct val="115000"/>
                                </a:lnSpc>
                                <a:spcAft>
                                  <a:spcPts val="1001"/>
                                </a:spcAft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ru-RU" sz="2600" spc="-1" strike="noStrike">
                                  <a:solidFill>
                                    <a:srgbClr val="000000"/>
                                  </a:solidFill>
                                  <a:latin typeface="Calibri"/>
                                  <a:ea typeface="Calibri"/>
                                </a:rPr>
                                <a:t>н</a:t>
                              </a:r>
                              <a:endParaRPr b="0" lang="en-US" sz="2600" spc="-1" strike="noStrike">
                                <a:solidFill>
                                  <a:srgbClr val="000000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21" name="Надпись 2"/>
                          <p:cNvSpPr/>
                          <p:nvPr/>
                        </p:nvSpPr>
                        <p:spPr>
                          <a:xfrm>
                            <a:off x="7940160" y="2781360"/>
                            <a:ext cx="328680" cy="40068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lnSpc>
                                <a:spcPct val="115000"/>
                              </a:lnSpc>
                              <a:spcAft>
                                <a:spcPts val="1001"/>
                              </a:spcAft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ru-RU" sz="2600" spc="-1" strike="noStrike">
                                <a:solidFill>
                                  <a:srgbClr val="000000"/>
                                </a:solidFill>
                                <a:latin typeface="Calibri"/>
                                <a:ea typeface="Calibri"/>
                              </a:rPr>
                              <a:t>ы</a:t>
                            </a:r>
                            <a:endParaRPr b="0" lang="en-US" sz="26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  <p:sp>
                      <p:nvSpPr>
                        <p:cNvPr id="222" name="Надпись 2"/>
                        <p:cNvSpPr/>
                        <p:nvPr/>
                      </p:nvSpPr>
                      <p:spPr>
                        <a:xfrm>
                          <a:off x="8437680" y="2758680"/>
                          <a:ext cx="328680" cy="40068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15000"/>
                            </a:lnSpc>
                            <a:spcAft>
                              <a:spcPts val="1001"/>
                            </a:spcAft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ru-RU" sz="2600" spc="-1" strike="noStrike">
                              <a:solidFill>
                                <a:srgbClr val="000000"/>
                              </a:solidFill>
                              <a:latin typeface="Calibri"/>
                              <a:ea typeface="Calibri"/>
                            </a:rPr>
                            <a:t>й</a:t>
                          </a:r>
                          <a:endParaRPr b="0" lang="en-US" sz="2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sp>
                    <p:nvSpPr>
                      <p:cNvPr id="223" name="Надпись 2"/>
                      <p:cNvSpPr/>
                      <p:nvPr/>
                    </p:nvSpPr>
                    <p:spPr>
                      <a:xfrm>
                        <a:off x="4375800" y="3760920"/>
                        <a:ext cx="328680" cy="4006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15000"/>
                          </a:lnSpc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ru-RU" sz="2600" spc="-1" strike="noStrike">
                            <a:solidFill>
                              <a:srgbClr val="000000"/>
                            </a:solidFill>
                            <a:latin typeface="Calibri"/>
                            <a:ea typeface="Calibri"/>
                          </a:rPr>
                          <a:t>а</a:t>
                        </a:r>
                        <a:endPara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sp>
                  <p:nvSpPr>
                    <p:cNvPr id="224" name="Надпись 2"/>
                    <p:cNvSpPr/>
                    <p:nvPr/>
                  </p:nvSpPr>
                  <p:spPr>
                    <a:xfrm>
                      <a:off x="4878720" y="3760920"/>
                      <a:ext cx="328680" cy="400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225" name="Надпись 2"/>
                  <p:cNvSpPr/>
                  <p:nvPr/>
                </p:nvSpPr>
                <p:spPr>
                  <a:xfrm>
                    <a:off x="5419440" y="3766680"/>
                    <a:ext cx="328680" cy="400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15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600" spc="-1" strike="noStrike">
                        <a:solidFill>
                          <a:srgbClr val="000000"/>
                        </a:solidFill>
                        <a:latin typeface="Calibri"/>
                        <a:ea typeface="Calibri"/>
                      </a:rPr>
                      <a:t>о</a:t>
                    </a:r>
                    <a:endParaRPr b="0" lang="en-US" sz="2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226" name="Надпись 2"/>
                <p:cNvSpPr/>
                <p:nvPr/>
              </p:nvSpPr>
              <p:spPr>
                <a:xfrm>
                  <a:off x="5916960" y="3755520"/>
                  <a:ext cx="328680" cy="400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600" spc="-1" strike="noStrike">
                      <a:solidFill>
                        <a:srgbClr val="000000"/>
                      </a:solidFill>
                      <a:latin typeface="Calibri"/>
                      <a:ea typeface="Calibri"/>
                    </a:rPr>
                    <a:t>д</a:t>
                  </a:r>
                  <a:endParaRPr b="0" lang="en-US" sz="2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27" name="Надпись 2"/>
              <p:cNvSpPr/>
              <p:nvPr/>
            </p:nvSpPr>
            <p:spPr>
              <a:xfrm>
                <a:off x="4402440" y="4228560"/>
                <a:ext cx="328680" cy="400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5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6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в</a:t>
                </a:r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8" name="Группа 14"/>
            <p:cNvGrpSpPr/>
            <p:nvPr/>
          </p:nvGrpSpPr>
          <p:grpSpPr>
            <a:xfrm>
              <a:off x="228600" y="4177800"/>
              <a:ext cx="507600" cy="487080"/>
              <a:chOff x="228600" y="4177800"/>
              <a:chExt cx="507600" cy="487080"/>
            </a:xfrm>
          </p:grpSpPr>
          <p:sp>
            <p:nvSpPr>
              <p:cNvPr id="229" name="Прямоугольник 15"/>
              <p:cNvSpPr/>
              <p:nvPr/>
            </p:nvSpPr>
            <p:spPr>
              <a:xfrm>
                <a:off x="228600" y="4177800"/>
                <a:ext cx="507600" cy="487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Надпись 2"/>
              <p:cNvSpPr/>
              <p:nvPr/>
            </p:nvSpPr>
            <p:spPr>
              <a:xfrm>
                <a:off x="356760" y="4227840"/>
                <a:ext cx="328320" cy="402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5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6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к</a:t>
                </a:r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233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4" name="TextBox 4" descr=""/>
          <p:cNvPicPr/>
          <p:nvPr/>
        </p:nvPicPr>
        <p:blipFill>
          <a:blip r:embed="rId2"/>
          <a:stretch/>
        </p:blipFill>
        <p:spPr>
          <a:xfrm>
            <a:off x="158760" y="201600"/>
            <a:ext cx="8862840" cy="324324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5" descr=""/>
          <p:cNvPicPr/>
          <p:nvPr/>
        </p:nvPicPr>
        <p:blipFill>
          <a:blip r:embed="rId3"/>
          <a:stretch/>
        </p:blipFill>
        <p:spPr>
          <a:xfrm>
            <a:off x="2249640" y="3429000"/>
            <a:ext cx="4644720" cy="30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238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3"/>
          <p:cNvSpPr/>
          <p:nvPr/>
        </p:nvSpPr>
        <p:spPr>
          <a:xfrm>
            <a:off x="457200" y="333360"/>
            <a:ext cx="8229600" cy="56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Динамическая пауза с мыслительной нагрузк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.р. – 1 ряд, ж.р. – 2 ряд, с.р. – 3 ря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обрый                   заботлива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илосердная        любим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тзывчивое             радостно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ерпеливые             ласково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242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3"/>
          <p:cNvSpPr/>
          <p:nvPr/>
        </p:nvSpPr>
        <p:spPr>
          <a:xfrm>
            <a:off x="216000" y="509760"/>
            <a:ext cx="8712000" cy="54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1. Младший брат порвал твою книг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А) Ты прощаешь ег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Б) Ты ударяешь ег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2. Ты поссорился с друг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А) Ты попытаешься объяснить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Б) Ты обижаешься и мстиш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3. С тобой поступают жесток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А) Ты отвечаешь тем ж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Б) Ты говоришь «нет» и стремишься заручить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омощь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4) Ты недоволен соб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А) Ты говоришь, что людей без недостатков 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быва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Б) Ты сваливаешь всё на други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6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17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8600"/>
                            </p:stCondLst>
                            <p:childTnLst>
                              <p:par>
                                <p:cTn id="18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1700"/>
                            </p:stCondLst>
                            <p:childTnLst>
                              <p:par>
                                <p:cTn id="19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5200"/>
                            </p:stCondLst>
                            <p:childTnLst>
                              <p:par>
                                <p:cTn id="19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8200"/>
                            </p:stCondLst>
                            <p:childTnLst>
                              <p:par>
                                <p:cTn id="20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1600"/>
                            </p:stCondLst>
                            <p:childTnLst>
                              <p:par>
                                <p:cTn id="21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4300"/>
                            </p:stCondLst>
                            <p:childTnLst>
                              <p:par>
                                <p:cTn id="22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23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30600"/>
                            </p:stCondLst>
                            <p:childTnLst>
                              <p:par>
                                <p:cTn id="23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33400"/>
                            </p:stCondLst>
                            <p:childTnLst>
                              <p:par>
                                <p:cTn id="24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25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39600"/>
                            </p:stCondLst>
                            <p:childTnLst>
                              <p:par>
                                <p:cTn id="26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2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3T08:35:10Z</dcterms:created>
  <dc:creator>Татьяна</dc:creator>
  <dc:description/>
  <dc:language>en-US</dc:language>
  <cp:lastModifiedBy>Татьяна</cp:lastModifiedBy>
  <dcterms:modified xsi:type="dcterms:W3CDTF">2016-11-13T10:38:15Z</dcterms:modified>
  <cp:revision>9</cp:revision>
  <dc:subject/>
  <dc:title>Презентация PowerPoint</dc:title>
</cp:coreProperties>
</file>