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6EF-80BC-4400-A748-228C5B2F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23F-0F25-47C8-8CD2-642C73BC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924-5016-4BD4-A3CA-57E16880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905-996E-47C6-8F7B-196BD9C9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1B7A-4744-4CF1-97FB-16EA051E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1C45-2EC6-4294-B6C1-03A48935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233E-BA68-4B73-A1BE-46417654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7035-0345-4DA6-AC02-459FC1C3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BE5C-4890-4A90-9B4C-01A1CD1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51C2-3FC1-48E2-A11D-BC4FDD06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9BCB-41F7-48FE-AA0B-6770822A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E6C-371D-4CD0-933F-E17CB8EE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1085-F8B9-418B-A8B7-2B47EAB5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3AE4-5925-4DC4-A4FD-827F37D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C364-936D-45E3-A133-62F879D7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78A1-7994-44FB-BB2F-426F1BD9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349C-E630-4C50-84F9-F6F12A45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3F7-22C1-479B-BC91-ACFBF38E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EF0-F787-44BC-ADB9-A8E6743A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D7B-363F-4A61-8DB5-E18F3C96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E09-47F8-4BE1-AFB9-104BB427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0A7-4537-49F4-8D66-8C0384E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A33-B516-48D3-ACF5-32F6799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B3F-D618-4198-B363-1AC66B2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6CC1-9152-4D87-8D8D-2FECFD4DAF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8FE9-B82A-4B74-AF71-5345B04095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2276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20042"/>
                </a:solidFill>
                <a:latin typeface="Arial"/>
              </a:rPr>
              <a:t>Решение задач с экономическим содержанием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68360" y="0"/>
            <a:ext cx="640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4.Вшколе решили сделать ремонт.Сколько краски потребуетс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а)чтобы покрасит один учебный кабинет в школ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б)все классы в школ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в)сколько денег потратит школа на покраску вех классов в школ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Отв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а)высота класса=3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ширина=7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длина=5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окна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1.5м*2м=3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двери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1м*2м=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-х стен=2м*3м*7м=4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2-х стен=2м*3м*5м=30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стен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4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+30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7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общая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7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-9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-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61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На 1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требуется 220 мл краски=</a:t>
            </a: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&gt;</a:t>
            </a:r>
            <a:r>
              <a:rPr b="1" i="1" lang="sl-SI" sz="1900" spc="-1" strike="noStrike">
                <a:solidFill>
                  <a:srgbClr val="a20042"/>
                </a:solidFill>
                <a:latin typeface="Arial"/>
              </a:rPr>
              <a:t>V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220мл*61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13420мл=13.42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б)в нашей школе около 25 классов=</a:t>
            </a: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&gt;V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краски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13.42л*25=335.5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в)335.5л</a:t>
            </a: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~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302к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1кг краски стоит около 200 руб</a:t>
            </a: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=&gt;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сумма денег=302 кг*200руб=60 400 ру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11280" y="333000"/>
            <a:ext cx="64008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a20042"/>
                </a:solidFill>
                <a:latin typeface="Arial"/>
              </a:rPr>
              <a:t>Решая такие задачи, мы начинаем лучше представлять, во что обходится государству и родителям наше обучение, каков масштаб школьных дел, к чему приводит расточи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042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a20042"/>
                </a:solidFill>
                <a:latin typeface="Arial"/>
              </a:rPr>
              <a:t>Решение задач помогает понять, что эффективность общественного производства зависит не только от увеличения выработки продукции, но и от рационального, экономического использования времени,сырья,материалов,улучшения качества выпускаемой продукции. Мы убеждаемся в том. что экономия-это результат предварительно продуманных действи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66963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Сегодня жизнь требует, чтобы мы имели развитое экономическое мышление и были готовы к жизни в условиях рыночных отношений.     </a:t>
            </a:r>
            <a:br>
              <a:rPr sz="3200"/>
            </a:b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  Содержание образования в школе меняется с учетом обновления социально-экономических потребностей и условий развития общества. Меняются идеалы, ценности, на которые ориентируемся мы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68000" y="188640"/>
            <a:ext cx="6409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042"/>
                </a:solidFill>
                <a:latin typeface="Arial"/>
              </a:rPr>
              <a:t>Одно из важнейших потребностей современной школы является воспитание делового человека, компетентного в сфере социально-трудовой деятельности, а также в бытовой сфере. Если раньше экономические проблемы искусственно отодвигались от нас, и мы порою до выпуска из школы оставались в стороне от них, то сегодня жизнь настоятельно требует, чтобы мы имели развитое экономическое мышление и были готовы к жизни в условиях рыночны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c0039"/>
                </a:solidFill>
                <a:uFillTx/>
                <a:latin typeface="Arial"/>
              </a:rPr>
              <a:t>Цель работы: 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1.Освоение первоначальных практических навыков грамотного потребления в обществе с рыночной экономи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2.Формирование навыков решения задач с экономическим содержани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195640" y="188640"/>
            <a:ext cx="640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3.Выработка навыков экономии и бережлив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4.Созидательный выбор профиля обучения в средней шко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5.Умение пользоваться математическим аппаратом для расчета бюджета семьи, выгодности кредитования, составления бизнес план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124000" y="836280"/>
            <a:ext cx="6400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a20042"/>
                </a:solidFill>
                <a:latin typeface="Arial"/>
              </a:rPr>
              <a:t>Одной из главных задач является знакомство с экономической жизнью школы, формирование бережного отношения к народному достоянию, воспитание активной жизненной позиц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c0039"/>
                </a:solidFill>
                <a:latin typeface="Arial"/>
              </a:rPr>
              <a:t>«Рейд бережливых»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1.После уроков в партах нашего класса была оставлена бумага общей массой 1 кг. Если такое будет происходить каждый день, то сколько бумаги будет израсходовано напр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в школе за 210 учебных д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во всех школах района за этот же пери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в нашей школе 25  классов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&gt;210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учебных дней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*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5 классов*1 кг бумаги=4620 кг бумаги израсходовано напрасно в наше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в районе около 35 школ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4620 кг бумаги*35 школ=161700 кг бумаги израсходовано напрасно во всех школах района за 210 учебных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340000" y="40428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2.После обеда в школьной столовой отходы хлеба составили 1кг 100г.Если бы отходы оставались каждый день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Сколько хлеба было бы неправильно израсходовано в школе за 210 учебных д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Какова стоимость этого хлеба, если одна булка(весом  400 г)стоит 13 руб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в)Сколько учеников из малообеспеченных семей смогла бы кормить школа на эти средства, если на питание завтраками одного ученика требуется 300 руб. в месяц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 1.100 кг*210 учебных дней=231кг было бы неправильно израсходовано в школе за 210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231кг:400г=577.5 бу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577.5 булок*13 руб=7507руб 50коп было потрачено на напрасно израсходованный хл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в)7507руб 50 коп:300 руб.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~25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учеников могла бы кормить шко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195640" y="260280"/>
            <a:ext cx="6400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3.а)Измерив площадь одной страницы учебника определив, каков тираж учебника и вычислить сколько бумаги(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) израсходовано на изготовление всех экземпляров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Для производства 1000 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требуется вырубить лес с1/4 га. С какой площади потребовалось вырубить лес, чтобы выпустить весь тираж учебника?(учебник геометри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800" spc="-1" strike="noStrike" baseline="-25000">
                <a:solidFill>
                  <a:srgbClr val="a20042"/>
                </a:solidFill>
                <a:latin typeface="Arial"/>
              </a:rPr>
              <a:t>учебника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=17см*22см=0.0374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Кол-во листов=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S=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103 стр*0.0374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=3.8522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Тираж-150000 учеб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В общем потрачено=3.8522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*150000 учебников=57783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Для 1000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умаги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вырубают1/4га=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с 1 га получат 4000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57783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: 4000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=14.45 га надо вырубить для того, чтобы выпустить весь тираж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6:15:24Z</dcterms:created>
  <dc:creator>111</dc:creator>
  <dc:description/>
  <dc:language>en-US</dc:language>
  <cp:lastModifiedBy>user</cp:lastModifiedBy>
  <dcterms:modified xsi:type="dcterms:W3CDTF">2019-03-21T06:57:52Z</dcterms:modified>
  <cp:revision>8</cp:revision>
  <dc:subject/>
  <dc:title>Решение задач с экономическим содержанием</dc:title>
</cp:coreProperties>
</file>