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E85-1221-45B7-8795-EA763784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5E0-4DA4-434A-AC7A-CF463F5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D44-9DF3-4179-A2E3-68FD6C30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621-4B1D-4A93-8EC9-D6739B87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AB35-DF9A-4F77-9BA6-906E780B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3E5-5B64-432D-92FD-D1B36EA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D091-58BA-49A8-9000-95A4157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113-9B68-4F34-881D-EAC54CAC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F65-FC46-4CE8-96F4-0F50786C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5A03-1D6B-4FDD-8F72-55F0A06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C057-4024-4FFB-A2EC-FAE0C1E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FA4-AF92-49ED-9E53-E4229C2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12C-9C98-4319-8C1C-703A412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0162-9DAD-4A2E-BC6C-5EC463F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1FA6-291A-42AE-903C-54D6DFA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D5B2-E329-4C83-A04B-895228BA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DEE2-472D-47AB-9A67-73F4EA5A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96E-7A25-4532-88EB-3E82D2B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6BA-4A25-4C20-B862-EB143AB7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9B8-8AF6-45CC-B3EB-F351479A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35A-F673-4D9B-AB8E-A3CA2470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53D-42F4-43A9-963B-FFABD9C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352-FCEF-43E7-BBE6-01396C6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EDD-67B2-4547-B3E0-C3A6EC8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AE43-62C4-4739-942C-CB81191812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BD7-B06F-4292-B5A0-2177367AA0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276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20042"/>
                </a:solidFill>
                <a:latin typeface="Arial"/>
              </a:rPr>
              <a:t>Решение задач с экономическим содержанием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6836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4.Вшколе решили сделать ремонт.Сколько краски потребуетс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а)чтобы покрасит один учебный кабинет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б)все классы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в)сколько денег потратит школа на покраску вех классов в школ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Отв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а)высота класса=3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ширина=7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длина=5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окна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.5м*2м=3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двери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м*2м=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х стен=2м*3м*7м=4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2-х стен=2м*3м*5м=30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стен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4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+30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7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общая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7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9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-2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6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На 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требуется 220 мл краски=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sl-SI" sz="1900" spc="-1" strike="noStrike">
                <a:solidFill>
                  <a:srgbClr val="a20042"/>
                </a:solidFill>
                <a:latin typeface="Arial"/>
              </a:rPr>
              <a:t>V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220мл*61м</a:t>
            </a:r>
            <a:r>
              <a:rPr b="1" i="1" lang="ru-RU" sz="19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3420мл=13.42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б)в нашей школе около 25 классов=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&gt;V</a:t>
            </a:r>
            <a:r>
              <a:rPr b="1" i="1" lang="ru-RU" sz="1900" spc="-1" strike="noStrike" baseline="-25000">
                <a:solidFill>
                  <a:srgbClr val="a20042"/>
                </a:solidFill>
                <a:latin typeface="Arial"/>
              </a:rPr>
              <a:t>краски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=13.42л*25=335.5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в)335.5л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~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302к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1кг краски стоит около 200 руб</a:t>
            </a:r>
            <a:r>
              <a:rPr b="1" i="1" lang="en-US" sz="1900" spc="-1" strike="noStrike">
                <a:solidFill>
                  <a:srgbClr val="a20042"/>
                </a:solidFill>
                <a:latin typeface="Arial"/>
              </a:rPr>
              <a:t>=&gt;</a:t>
            </a:r>
            <a:r>
              <a:rPr b="1" i="1" lang="ru-RU" sz="1900" spc="-1" strike="noStrike">
                <a:solidFill>
                  <a:srgbClr val="a20042"/>
                </a:solidFill>
                <a:latin typeface="Arial"/>
              </a:rPr>
              <a:t>сумма денег=302 кг*200руб=60 400 ру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11280" y="333000"/>
            <a:ext cx="64008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Решая такие задачи, мы начинаем лучше представлять, во что обходится государству и родителям наше обучение, каков масштаб школьных дел, к чему приводит расточи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Решение задач помогает понять, что эффективность общественного производства зависит не только от увеличения выработки продукции, но и от рационального, экономического использования времени,сырья,материалов,улучшения качества выпускаемой продукции. Мы убеждаемся в том. что экономия-это результат предварительно продуманных действ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6696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Сегодня жизнь требует, чтобы мы имели развитое экономическое мышление и были готовы к жизни в условиях рыночных отношений.     </a:t>
            </a:r>
            <a:br>
              <a:rPr sz="3200"/>
            </a:b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Содержание образования в школе меняется с учетом обновления социально-экономических потребностей и условий развития общества. Меняются идеалы, ценности, на которые ориентируемся мы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68000" y="188640"/>
            <a:ext cx="640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042"/>
                </a:solidFill>
                <a:latin typeface="Arial"/>
              </a:rPr>
              <a:t>Одно из важнейших потребностей современной школы является воспитание делового человека, компетентного в сфере социально-трудовой деятельности, а также в бытовой сфере. Если раньше экономические проблемы искусственно отодвигались от нас, и мы порою до выпуска из школы оставались в стороне от них, то сегодня жизнь настоятельно требует, чтобы мы имели развитое экономическое мышление и были готовы к жизни в условиях рыночны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c0039"/>
                </a:solidFill>
                <a:uFillTx/>
                <a:latin typeface="Arial"/>
              </a:rPr>
              <a:t>Цель работы: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1.Освоение первоначальных практических навыков грамотного потребления в обществе с рыночной экономи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2.Формирование навыков решения задач с экономическим содержа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95640" y="18864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3.Выработка навыков экономии и бережлив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4.Созидательный выбор профиля обучения в средней шко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20042"/>
                </a:solidFill>
                <a:latin typeface="Arial"/>
              </a:rPr>
              <a:t>5.Умение пользоваться математическим аппаратом для расчета бюджета семьи, выгодности кредитования, составления бизнес план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124000" y="83628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a20042"/>
                </a:solidFill>
                <a:latin typeface="Arial"/>
              </a:rPr>
              <a:t>Одной из главных задач является знакомство с экономической жизнью школы, формирование бережного отношения к народному достоянию, воспитание активной жизненной пози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c0039"/>
                </a:solidFill>
                <a:latin typeface="Arial"/>
              </a:rPr>
              <a:t>«Рейд бережливых»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1.После уроков в партах нашего класса была оставлена бумага общей массой 1 кг. Если такое будет происходить каждый день, то сколько бумаги будет израсходовано напр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в школе за 210 учебных д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во всех школах района за этот же пери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в нашей школе 25  классов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210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учебных дней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*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 классов*1 кг бумаги=4620 кг бумаги израсходовано напрасно в наш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в районе около 35 школ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4620 кг бумаги*35 школ=161700 кг бумаги израсходовано напрасно во всех школах района за 210 учебных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2.После обеда в школьной столовой отходы хлеба составили 1кг 100г.Если бы отходы оставались каждый день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Сколько хлеба было бы неправильно израсходовано в школе за 210 учебных дн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Какова стоимость этого хлеба, если одна булка(весом  400 г)стоит 13 руб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)Сколько учеников из малообеспеченных семей смогла бы кормить школа на эти средства, если на питание завтраками одного ученика требуется 300 руб. в меся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 1.100 кг*210 учебных дней=231кг было бы неправильно израсходовано в школе за 21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231кг:400г=577.5 бу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77.5 булок*13 руб=7507руб 50коп было потрачено на напрасно израсходованный х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)7507руб 50 коп:300 руб.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~25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учеников могла бы кормить шко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95640" y="260280"/>
            <a:ext cx="6400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3.а)Измерив площадь одной страницы учебника определив, каков тираж учебника и вычислить сколько бумаги(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) израсходовано на изготовление всех экземпляров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Для производства 1000 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требуется вырубить лес с1/4 га. С какой площади потребовалось вырубить лес, чтобы выпустить весь тираж учебника?(учебник геометр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а)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S</a:t>
            </a:r>
            <a:r>
              <a:rPr b="1" i="1" lang="ru-RU" sz="1800" spc="-1" strike="noStrike" baseline="-25000">
                <a:solidFill>
                  <a:srgbClr val="a20042"/>
                </a:solidFill>
                <a:latin typeface="Arial"/>
              </a:rPr>
              <a:t>учебника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17см*22см=0.0374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Кол-во листов=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S=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103 стр*0.0374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3.8522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Тираж-150000 учеб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 общем потрачено=3.8522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*150000 учебников=57783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)Для 1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вырубают1/4га=</a:t>
            </a:r>
            <a:r>
              <a:rPr b="1" i="1" lang="en-US" sz="1800" spc="-1" strike="noStrike">
                <a:solidFill>
                  <a:srgbClr val="a20042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с 1 га получат 4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 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57783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: 40000м</a:t>
            </a:r>
            <a:r>
              <a:rPr b="1" i="1" lang="ru-RU" sz="1800" spc="-1" strike="noStrike" baseline="30000">
                <a:solidFill>
                  <a:srgbClr val="a20042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a20042"/>
                </a:solidFill>
                <a:latin typeface="Arial"/>
              </a:rPr>
              <a:t>=14.45 га надо вырубить для того, чтобы выпустить весь тираж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6:15:24Z</dcterms:created>
  <dc:creator>111</dc:creator>
  <dc:description/>
  <dc:language>en-US</dc:language>
  <cp:lastModifiedBy>user</cp:lastModifiedBy>
  <dcterms:modified xsi:type="dcterms:W3CDTF">2019-03-21T06:57:52Z</dcterms:modified>
  <cp:revision>8</cp:revision>
  <dc:subject/>
  <dc:title>Решение задач с экономическим содержанием</dc:title>
</cp:coreProperties>
</file>