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wmf" ContentType="image/x-wmf"/>
  <Override PartName="/ppt/media/image5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BE0-371A-4361-BFF2-3647EBCE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59E-95D0-4472-8EED-97607672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978-1723-4403-A582-E2A6398D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CCD-CC30-4705-AC8C-40E7B34B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A751-3731-4595-8213-E93354C8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E8B7-DF0D-4E78-B98F-98484015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9FC3-2B50-49B0-A325-5BD644DF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8603-556D-46EE-B024-7BDAB8A8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5FB1-6FFC-456F-B022-E580387A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7FF6-3C18-45E4-871C-C72DBB6C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BDFF-21BF-4655-AEDB-DA7B2145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4D1-5DBF-4D21-A648-2C174F29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0FAF-F269-4B60-8E5A-F6F2C65C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4104-8DFF-4276-BF45-A771C640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A39A-720D-4107-B6E1-2D101380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3DDB-208E-462D-8CA6-157D9306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EAF9-69AB-411E-B8A7-2AF9FCB0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27F6-30FD-4F47-B6A8-88E7DD39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F702-598A-4D92-B6AA-35E1C7E0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BA74-4140-498B-8DDF-CE216F55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BDCB-15E3-4A98-BC15-3DAD04C5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69C6-BC68-4765-91DB-D1BBFE9F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CA3-0B33-4220-90C3-8DE121A3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89A0-7559-4A61-B1A9-34C036B3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DBE7-947B-471C-815E-7D2B40CD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586AC-31D7-4F50-95FF-DA8E7693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5DB2-326E-4217-B75F-C717568C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924D-6931-405F-BB7B-1B7BEB6D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D24E-0440-4227-84EF-234C2EB9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DD33-CA14-4DE5-8B8A-F7EF947E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A18CB-5B94-4C01-8D91-5E006273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591E-8235-4F0F-8C25-AD75FA9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F62D0-0F91-4619-A671-A8CCF9BB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4CC-87C8-4DA7-9446-6CA77A17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3F598-A5FA-4B14-A431-AB5BEC5A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D368-B281-4314-A646-B64FA96F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4904-0144-4F2A-B057-6989416E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F55D1-080F-4534-A5F3-E220162E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279AB-6EAB-4389-B08B-C723024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3CE6-A836-4669-9EB7-02D9F5D1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AC5E6-7442-4F5E-8D0C-1561BFAF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DB310-F916-43FF-B9EE-6F6D6CC7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BECB3-2AF6-49C0-BC70-7063205A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E581C-2A86-476C-AC12-EA4150B2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182-0991-42FF-8BEA-35B2C7B0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C67A-9F0E-47DC-9152-A934A8FD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DEFA0-3209-4220-BE02-F5AE262C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D8791-8BB1-4EC3-817F-34199F4C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06EB8-78BC-49F9-B977-9DA6DB2D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19EE8-3D80-4F61-9428-9CC8CF5F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23735-B68F-4F58-B24E-ED2697E2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4E1AE-EBF6-46BF-9FCC-19DD7EEF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A7CE3-A8DA-4FDB-A05A-65380E6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81797-049F-4903-8D57-D1F2DF63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5A357-ECEB-49BC-804A-D6D1AB44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7D5-8508-4633-BC85-22C9BE48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779D4-90A6-4A4D-A6AC-6DE084FA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95635-9488-49DD-8825-BFFCF829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096A9-25DC-4CAB-AB80-4DC41126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8A772-D634-46EE-B0CB-E7A94C35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6BF48-0774-4576-AE1A-3330E8E8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0A01E-F264-4528-AA8F-038883CD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05AEC-B9AF-41C6-89BB-69B5C783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74DEB-A803-44AB-8B44-5935DDA6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0F3CC-7ACA-4DF8-A636-7BAFF4DE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0B86C-B7A6-498F-A9B7-8A151AAD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355-6B2C-4803-8931-4275694F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E62EE-DD4D-46D9-97D9-926F6E8A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F3F51-6AFE-47F4-9ECE-5CE5E943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31F3-97AB-421C-A5A7-FD8A7AC4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CA1-D965-4DCB-902C-FB3F2290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840-EABF-4AE3-AC8F-4876F050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f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aeff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7FF4-B3E3-4DF8-8024-9EA5CCEDA463}" type="slidenum">
              <a:rPr b="1" lang="ru-RU" sz="2600" spc="-1" strike="noStrike">
                <a:solidFill>
                  <a:srgbClr val="aeffae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f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aeff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E733-8EB3-40D1-B034-2A43043305A3}" type="slidenum">
              <a:rPr b="1" lang="ru-RU" sz="2600" spc="-1" strike="noStrike">
                <a:solidFill>
                  <a:srgbClr val="aeffae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f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5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aef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aeff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3B69-37A5-4C59-B81A-39CB4261D464}" type="slidenum">
              <a:rPr b="1" lang="ru-RU" sz="2600" spc="-1" strike="noStrike">
                <a:solidFill>
                  <a:srgbClr val="aeffae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f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aeff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3CB7-54ED-4405-B362-29A1F8A98DAE}" type="slidenum">
              <a:rPr b="1" lang="ru-RU" sz="2600" spc="-1" strike="noStrike">
                <a:solidFill>
                  <a:srgbClr val="aeffae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f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5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aef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aeff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1FAA-C071-4742-AAD4-3EC4704795F4}" type="slidenum">
              <a:rPr b="1" lang="ru-RU" sz="2600" spc="-1" strike="noStrike">
                <a:solidFill>
                  <a:srgbClr val="aeffae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f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3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5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aeff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69C8-A777-4002-BD2F-F24A821EA44D}" type="slidenum">
              <a:rPr b="1" lang="ru-RU" sz="2600" spc="-1" strike="noStrike">
                <a:solidFill>
                  <a:srgbClr val="aeffae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43640" y="286200"/>
            <a:ext cx="8856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Южно-Степная средняя общеобразовательная школа»</a:t>
            </a:r>
            <a:br>
              <a:rPr sz="20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</a:t>
            </a:r>
            <a:br>
              <a:rPr sz="3200"/>
            </a:br>
            <a:br>
              <a:rPr sz="14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я школы в истории страны</a:t>
            </a:r>
            <a:br>
              <a:rPr sz="3200"/>
            </a:b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7" name="Picture 4" descr="BOOK2"/>
          <p:cNvPicPr/>
          <p:nvPr/>
        </p:nvPicPr>
        <p:blipFill>
          <a:blip r:embed="rId1"/>
          <a:stretch/>
        </p:blipFill>
        <p:spPr>
          <a:xfrm>
            <a:off x="452520" y="4272120"/>
            <a:ext cx="2392200" cy="170496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1"/>
          <p:cNvSpPr/>
          <p:nvPr/>
        </p:nvSpPr>
        <p:spPr>
          <a:xfrm>
            <a:off x="3564000" y="5103720"/>
            <a:ext cx="515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З.  Дарья Анатольевна, обучающаяся 7 класс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 проекта: Чумак Наталья Ивановна, учитель истор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50680" y="588600"/>
            <a:ext cx="7746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клет «МОУ «Южно-Степная СОШ»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984 – 2018 годы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6472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834120"/>
            <a:ext cx="73083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литератур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71320" y="2421000"/>
            <a:ext cx="835812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модернизации Российского образования на период до 2010 года [электронный ресурс] / Распоряжение Правительства Российской Федерации от 29 декабря 2001 г. № 1756 / www.referent. ru / Правовая система «Референт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доктрина образования в Российской Федерации до 2025 года [электронный ресурс] / http: // www.sinncom.ru / Специализированный образовательный портал инноваций в образован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реформе российского образования [электронный ресурс] / http: // www.sinncom.ru / Специализированный образовательный портал инноваций в образован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.12.2012 № 273 – ФЗ "Об образовании в Российской Федерации" [электронный ресурс] // Консультант Плюс, 1992 – 201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8" name="Picture 4" descr="BOOKS1"/>
          <p:cNvPicPr/>
          <p:nvPr/>
        </p:nvPicPr>
        <p:blipFill>
          <a:blip r:embed="rId1"/>
          <a:stretch/>
        </p:blipFill>
        <p:spPr>
          <a:xfrm>
            <a:off x="7875720" y="214200"/>
            <a:ext cx="1268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43640" y="286200"/>
            <a:ext cx="8856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Южно-Степная средняя общеобразовательная школа»</a:t>
            </a:r>
            <a:br>
              <a:rPr sz="20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</a:t>
            </a:r>
            <a:br>
              <a:rPr sz="2800"/>
            </a:br>
            <a:br>
              <a:rPr sz="14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я школы в истории страны</a:t>
            </a:r>
            <a:br>
              <a:rPr sz="3200"/>
            </a:b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Picture 4" descr="BOOK2"/>
          <p:cNvPicPr/>
          <p:nvPr/>
        </p:nvPicPr>
        <p:blipFill>
          <a:blip r:embed="rId1"/>
          <a:stretch/>
        </p:blipFill>
        <p:spPr>
          <a:xfrm>
            <a:off x="611280" y="4091040"/>
            <a:ext cx="2392200" cy="170496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1"/>
          <p:cNvSpPr/>
          <p:nvPr/>
        </p:nvSpPr>
        <p:spPr>
          <a:xfrm>
            <a:off x="3564000" y="5103720"/>
            <a:ext cx="515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оекта: З. Дарья Анатольевна, обучающаяся 7 класс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 проекта: Чумак Наталья Ивановна, учитель истор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76600" y="303480"/>
            <a:ext cx="7695000" cy="15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истории Южно-Степной школы с 1984 года до сегодняшнего времени и выпустить буклет к 80-летию школы.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351640" cy="42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нтернет-ресурсы по теме проек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и провести социологический опрос, сделать выво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летописными альбомами прошлых лет и сайтом нашей школ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интервью у своих родственников, кто учился в нашей школ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общить и систематизировать собранный материа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здать буклет «МОУ Южно-Степная СОШ с 1984 – 2018 годы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1" name="Picture 4" descr="BOOK1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ый продук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клет «МОУ «Южно-Степная СОШ» с 1984 – 2018 годы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поможет продолжить знакомство с историей школы с 1984 года по настоящее время, дополнить уже существующую летопись школы с 1939 – 1984 год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ит архив школьного музея и будет раздаточным материалом к юбилею школ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4" name="Рисунок 3" descr="C:\Users\1\Desktop\Новая папка\анимашки\55.gif"/>
          <p:cNvPicPr/>
          <p:nvPr/>
        </p:nvPicPr>
        <p:blipFill>
          <a:blip r:embed="rId1"/>
          <a:stretch/>
        </p:blipFill>
        <p:spPr>
          <a:xfrm>
            <a:off x="7572240" y="42876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C692-002A-48A4-8F3C-1651BE7B19AE}" type="slidenum">
              <a:rPr b="1" lang="ru-RU" sz="2600" spc="-1" strike="noStrike">
                <a:solidFill>
                  <a:srgbClr val="aeffae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02480" y="627480"/>
            <a:ext cx="6058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работы</a:t>
            </a:r>
            <a:br>
              <a:rPr sz="32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857160" y="2214720"/>
            <a:ext cx="750096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ремя выполнения – с 16.01.2018 г. по 16.03.2018 г.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тапы    работ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Организационн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ыполнение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Защита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ценивание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8" name="Picture 4" descr="BOOKS"/>
          <p:cNvPicPr/>
          <p:nvPr/>
        </p:nvPicPr>
        <p:blipFill>
          <a:blip r:embed="rId1"/>
          <a:stretch/>
        </p:blipFill>
        <p:spPr>
          <a:xfrm>
            <a:off x="6407280" y="214200"/>
            <a:ext cx="27367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20240" y="120600"/>
            <a:ext cx="8759880" cy="166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работы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68000" y="2362320"/>
            <a:ext cx="856764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Организационн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ор темы и уточнение названия. Постановка цели и задач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Выполнение проек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бор информаци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ботала с материалами музея школы, брала интервью у своих родственников, которые в разное время учились в нашей школ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ла опрос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ла материалы и фотоматериалы школьного архива, учителей, родственников и сайта нашей школ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готовление продукт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отовлении буклета «МОУ «Южно-Степная СОШ» с 1984 – 2018 годы», я использовала программу Publish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сание письменной части проект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Защита проек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001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исание письменной части проект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работе я использовала метод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 Интернет-ресурс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логический опро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ь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4" name="Picture 4" descr="BLUEPRNT"/>
          <p:cNvPicPr/>
          <p:nvPr/>
        </p:nvPicPr>
        <p:blipFill>
          <a:blip r:embed="rId1"/>
          <a:stretch/>
        </p:blipFill>
        <p:spPr>
          <a:xfrm>
            <a:off x="6715080" y="5199120"/>
            <a:ext cx="20019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исание письменной части проект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е вопрос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ехи развития МОУ «Южно-Степная СОШ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руководил школо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 учителей работал и работает в нашей школе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 выпускников вернулся работать в нашу школ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в нашей школе учительские династи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 из учителей и выпускников гордится наша школ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 моей семьи учился в школе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традиционные мероприятия проходят в школе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7" name="Picture 4" descr="BLUEPRNT"/>
          <p:cNvPicPr/>
          <p:nvPr/>
        </p:nvPicPr>
        <p:blipFill>
          <a:blip r:embed="rId1"/>
          <a:stretch/>
        </p:blipFill>
        <p:spPr>
          <a:xfrm>
            <a:off x="7142040" y="5235480"/>
            <a:ext cx="20019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часть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еоретическая ча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Изучение реформирования российского образования в 1980 – 2015 год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актическая част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Проведение социологического опроса обучающихся об истории школ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Создание буклета «МОУ «Южно-Степная СОШ» с 1984 – 2018 годы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85896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59680" y="455040"/>
            <a:ext cx="7728840" cy="135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проведения социологического опроса обучающихся об истории школ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68360" y="2421000"/>
          <a:ext cx="8567640" cy="4389480"/>
        </p:xfrm>
        <a:graphic>
          <a:graphicData uri="http://schemas.openxmlformats.org/drawingml/2006/table">
            <a:tbl>
              <a:tblPr/>
              <a:tblGrid>
                <a:gridCol w="596880"/>
                <a:gridCol w="4621320"/>
                <a:gridCol w="1089000"/>
                <a:gridCol w="1144440"/>
                <a:gridCol w="11160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ы анкеты для учащихс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ешь ли ты историю школы, в которой учишься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лись бы вы сами исследованием истории своей школы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вы знать об учебе своих родителей, их школьных друзьях, учителях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наша истор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гордиться своей школой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надо знать историю школы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6:08:41Z</dcterms:created>
  <dc:creator>Носовы</dc:creator>
  <dc:description/>
  <dc:language>en-US</dc:language>
  <cp:lastModifiedBy>1</cp:lastModifiedBy>
  <dcterms:modified xsi:type="dcterms:W3CDTF">2020-09-06T06:32:37Z</dcterms:modified>
  <cp:revision>122</cp:revision>
  <dc:subject/>
  <dc:title>Роль игровой  деятельности  в формировании познавательной активности младших школьников сельской школы</dc:title>
</cp:coreProperties>
</file>