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7.png" ContentType="image/png"/>
  <Override PartName="/ppt/media/image4.wmf" ContentType="image/x-wmf"/>
  <Override PartName="/ppt/media/image5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0AC-809D-453C-BC14-6F020797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42C-CF55-4D20-A01C-B1858528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E61-DF32-4500-9755-B963A665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762-7692-4B6B-8DAD-E8E2781E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7FFB-09AF-4F37-8A19-B88D4D5E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F099-D9AF-46C3-AD20-326D046A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3E60-53BE-4EC2-BE70-72BA6734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0031-AD4D-44F6-901B-33E8D83C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2A3A-A054-4D53-9549-328AA02B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4C39-9595-4677-9C54-65825EA0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7390-54ED-4FF5-AC81-BBD3C847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348-46BF-442D-A0CD-CF1931CC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E5FF-BA86-4D0E-BEA4-6DFC1BD1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04C7-9ED5-449C-A56E-2F5FA110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E5CE-BC6E-47F2-A528-7030EA87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EFD5-AFF8-427F-A90C-A29E2787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6A5D-935B-4AD1-9387-E01AB6EA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285A-A61F-443B-A335-515BB6F8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034F-567D-4606-99CC-68603E9B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BE48E-F070-4C14-A5B7-8332E6C3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58E74-2567-4855-9403-78710C22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9706E-B787-42EE-A673-82B8216C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392-C3F8-406E-A268-E716FAC6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1578-ABE4-4F12-BE18-66ADCD11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389E8-561A-4B9E-8157-95109691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286B-0211-4AF7-94C9-72F94A08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EF0B6-76C7-4C48-9C33-F631A2C2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CDE2-DA60-497F-9EA6-5264D1B5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6411D-7395-4D0C-8E97-2B097332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25784-5874-4F68-933F-778928F5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8476-D861-414F-B332-81FDEB5E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1CD97-C01A-464D-9D54-08B10024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96DC-D638-4A27-97E9-2FA99384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23A-1806-432C-8141-BFADA874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783F3-CBF9-410C-BD73-D726460E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E2CDE-192C-4494-B98B-727B04FC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15E61-4181-46F7-BE87-035D6468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93F70-BC25-433E-8A1C-2BEEB115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E8423-24D1-4898-AD03-6534BBE9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8935E-1AFA-4700-A3F5-21ED67B8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E115F-C788-4A2F-9888-4751579A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940FA-8DC4-41B2-B5E8-5638CF53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E9B11-8C0C-4A85-AFE1-E1C195D4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CA2A5-944A-438F-9A5E-F2F5E9B2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CFE-5EA9-486A-A4C0-7310FA46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4BDD8-46A8-43A0-AD87-7C332279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44333-C469-474B-B6FC-D2B46298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9025C-CFD8-448F-A3F8-ED5E5B53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10D3B-FF0F-4221-A964-07BF9DE4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6B3D8-7F02-49C1-B137-76AC637F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7C885-C9AF-46DE-B8B2-5B3895CD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3C0D5-10E9-4CBA-B01D-E9606EE6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2557E-157D-42E8-96C0-AEFB4568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DFD00-1ADC-4A93-876A-CC4B78C2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8DF28-515F-40D6-9CF5-6D4B7C53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D9B-5506-4BEC-8B05-DB1037EF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FDB92-2059-418D-88E9-DE60DCA6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435F0-2AB7-4FEA-929B-C8D39D2B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C7C8C-2C2F-40FA-990A-1912A883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B5DFA-35A0-47A3-AFAF-E7CE5E32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CB6E0-D87D-46AD-92BE-03EE1202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AB491-FC89-4DD7-9E3B-833F0F9C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A5D4E-4510-4159-97A4-0679C4FE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139C4-458B-4E5F-A2E1-E1D1D761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0040B-C516-4D45-A049-E644A8EF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B8D7C-2E5E-4A5E-BDB4-5CF1CD9F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431-F053-4A63-A754-1C96B619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80EF9-05B4-45BB-984D-8AD5C7C2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B20AC-859C-4787-8D33-580E03BD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A7BCE-8D76-47BA-92BC-2320FEF1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313-1DD7-4935-92E8-FF66475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727-CA55-431E-90C8-948F799C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ff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5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5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aeff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6CCA-089D-4070-8F8A-14465F60F4E0}" type="slidenum">
              <a:rPr b="1" lang="ru-RU" sz="2600" spc="-1" strike="noStrike">
                <a:solidFill>
                  <a:srgbClr val="aeffae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ff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5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5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aeff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2294-51CF-4444-98A4-F0302FD5ED0D}" type="slidenum">
              <a:rPr b="1" lang="ru-RU" sz="2600" spc="-1" strike="noStrike">
                <a:solidFill>
                  <a:srgbClr val="aeffae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ff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5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aef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0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aeff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1FA7-5BC2-46D4-A574-41B6A00CA35E}" type="slidenum">
              <a:rPr b="1" lang="ru-RU" sz="2600" spc="-1" strike="noStrike">
                <a:solidFill>
                  <a:srgbClr val="aeffae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ff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5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5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aeff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1513-C876-45F3-931C-771E84A2ED9C}" type="slidenum">
              <a:rPr b="1" lang="ru-RU" sz="2600" spc="-1" strike="noStrike">
                <a:solidFill>
                  <a:srgbClr val="aeffae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ff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5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aef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aeff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F72B-01FA-490E-B1CC-A251B0F3F393}" type="slidenum">
              <a:rPr b="1" lang="ru-RU" sz="2600" spc="-1" strike="noStrike">
                <a:solidFill>
                  <a:srgbClr val="aeffae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ff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3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4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5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5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4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aeff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72CA-CC82-4C2B-B359-8F2DB82E645F}" type="slidenum">
              <a:rPr b="1" lang="ru-RU" sz="2600" spc="-1" strike="noStrike">
                <a:solidFill>
                  <a:srgbClr val="aeffae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43640" y="286200"/>
            <a:ext cx="8856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Южно-Степная средняя общеобразовательная школа»</a:t>
            </a:r>
            <a:br>
              <a:rPr sz="20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</a:t>
            </a:r>
            <a:br>
              <a:rPr sz="3200"/>
            </a:br>
            <a:br>
              <a:rPr sz="14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я школы в истории страны</a:t>
            </a:r>
            <a:br>
              <a:rPr sz="3200"/>
            </a:b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7" name="Picture 4" descr="BOOK2"/>
          <p:cNvPicPr/>
          <p:nvPr/>
        </p:nvPicPr>
        <p:blipFill>
          <a:blip r:embed="rId1"/>
          <a:stretch/>
        </p:blipFill>
        <p:spPr>
          <a:xfrm>
            <a:off x="452520" y="4272120"/>
            <a:ext cx="2392200" cy="170496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1"/>
          <p:cNvSpPr/>
          <p:nvPr/>
        </p:nvSpPr>
        <p:spPr>
          <a:xfrm>
            <a:off x="3564000" y="5103720"/>
            <a:ext cx="515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оекта: З.  Дарья Анатольевна, обучающаяся 7 класс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 проекта: Чумак Наталья Ивановна, учитель истор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50680" y="588600"/>
            <a:ext cx="7746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клет «МОУ «Южно-Степная СОШ»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984 – 2018 годы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06472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834120"/>
            <a:ext cx="730836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ок литератур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71320" y="2421000"/>
            <a:ext cx="835812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модернизации Российского образования на период до 2010 года [электронный ресурс] / Распоряжение Правительства Российской Федерации от 29 декабря 2001 г. № 1756 / www.referent. ru / Правовая система «Референт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доктрина образования в Российской Федерации до 2025 года [электронный ресурс] / http: // www.sinncom.ru / Специализированный образовательный портал инноваций в образован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реформе российского образования [электронный ресурс] / http: // www.sinncom.ru / Специализированный образовательный портал инноваций в образован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9.12.2012 № 273 – ФЗ "Об образовании в Российской Федерации" [электронный ресурс] // Консультант Плюс, 1992 – 201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8" name="Picture 4" descr="BOOKS1"/>
          <p:cNvPicPr/>
          <p:nvPr/>
        </p:nvPicPr>
        <p:blipFill>
          <a:blip r:embed="rId1"/>
          <a:stretch/>
        </p:blipFill>
        <p:spPr>
          <a:xfrm>
            <a:off x="7875720" y="214200"/>
            <a:ext cx="12682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43640" y="286200"/>
            <a:ext cx="8856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Южно-Степная средняя общеобразовательная школа»</a:t>
            </a:r>
            <a:br>
              <a:rPr sz="20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</a:t>
            </a:r>
            <a:br>
              <a:rPr sz="2800"/>
            </a:br>
            <a:br>
              <a:rPr sz="14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я школы в истории страны</a:t>
            </a:r>
            <a:br>
              <a:rPr sz="3200"/>
            </a:b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Picture 4" descr="BOOK2"/>
          <p:cNvPicPr/>
          <p:nvPr/>
        </p:nvPicPr>
        <p:blipFill>
          <a:blip r:embed="rId1"/>
          <a:stretch/>
        </p:blipFill>
        <p:spPr>
          <a:xfrm>
            <a:off x="611280" y="4091040"/>
            <a:ext cx="2392200" cy="170496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1"/>
          <p:cNvSpPr/>
          <p:nvPr/>
        </p:nvSpPr>
        <p:spPr>
          <a:xfrm>
            <a:off x="3564000" y="5103720"/>
            <a:ext cx="515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оекта: З. Дарья Анатольевна, обучающаяся 7 класс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 проекта: Чумак Наталья Ивановна, учитель истор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76600" y="303480"/>
            <a:ext cx="7695000" cy="15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 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истории Южно-Степной школы с 1984 года до сегодняшнего времени и выпустить буклет к 80-летию школы.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8351640" cy="42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нтернет-ресурсы по теме проек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и провести социологический опрос, сделать вывод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летописными альбомами прошлых лет и сайтом нашей школ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ть интервью у своих родственников, кто учился в нашей школ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общить и систематизировать собранный материа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здать буклет «МОУ Южно-Степная СОШ с 1984 – 2018 годы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1" name="Picture 4" descr="BOOK1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ный продук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24000" y="236232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клет «МОУ «Южно-Степная СОШ» с 1984 – 2018 годы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поможет продолжить знакомство с историей школы с 1984 года по настоящее время, дополнить уже существующую летопись школы с 1939 – 1984 год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ит архив школьного музея и будет раздаточным материалом к юбилею школ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4" name="Рисунок 3" descr="C:\Users\1\Desktop\Новая папка\анимашки\55.gif"/>
          <p:cNvPicPr/>
          <p:nvPr/>
        </p:nvPicPr>
        <p:blipFill>
          <a:blip r:embed="rId1"/>
          <a:stretch/>
        </p:blipFill>
        <p:spPr>
          <a:xfrm>
            <a:off x="7572240" y="42876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7AA5-6F78-4F89-9785-834CB04A448F}" type="slidenum">
              <a:rPr b="1" lang="ru-RU" sz="2600" spc="-1" strike="noStrike">
                <a:solidFill>
                  <a:srgbClr val="aeffae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02480" y="627480"/>
            <a:ext cx="6058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работы</a:t>
            </a:r>
            <a:br>
              <a:rPr sz="32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857160" y="2214720"/>
            <a:ext cx="750096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ремя выполнения – с 16.01.2018 г. по 16.03.2018 г.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тапы    работы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 Организационны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ыполнение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Защита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Оценивание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8" name="Picture 4" descr="BOOKS"/>
          <p:cNvPicPr/>
          <p:nvPr/>
        </p:nvPicPr>
        <p:blipFill>
          <a:blip r:embed="rId1"/>
          <a:stretch/>
        </p:blipFill>
        <p:spPr>
          <a:xfrm>
            <a:off x="6407280" y="214200"/>
            <a:ext cx="27367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20240" y="120600"/>
            <a:ext cx="8759880" cy="166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работы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68000" y="2362320"/>
            <a:ext cx="856764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 Организационны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ор темы и уточнение названия. Постановка цели и задач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Выполнение проек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бор информаци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аботала с материалами музея школы, брала интервью у своих родственников, которые в разное время учились в нашей школ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ла опрос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ла материалы и фотоматериалы школьного архива, учителей, родственников и сайта нашей школ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готовление продукт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отовлении буклета «МОУ «Южно-Степная СОШ» с 1984 – 2018 годы», я использовала программу Publish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исание письменной части проект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Защита проек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001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исание письменной части проекта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й работе я использовала метод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 Интернет-ресурс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логический опро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ь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4" name="Picture 4" descr="BLUEPRNT"/>
          <p:cNvPicPr/>
          <p:nvPr/>
        </p:nvPicPr>
        <p:blipFill>
          <a:blip r:embed="rId1"/>
          <a:stretch/>
        </p:blipFill>
        <p:spPr>
          <a:xfrm>
            <a:off x="6715080" y="5199120"/>
            <a:ext cx="20019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исание письменной части проекта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е вопрос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ехи развития МОУ «Южно-Степная СОШ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руководил школ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з учителей работал и работает в нашей школе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з выпускников вернулся работать в нашу школ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в нашей школе учительские династи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 из учителей и выпускников гордится наша школ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з моей семьи учился в школе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традиционные мероприятия проходят в школе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7" name="Picture 4" descr="BLUEPRNT"/>
          <p:cNvPicPr/>
          <p:nvPr/>
        </p:nvPicPr>
        <p:blipFill>
          <a:blip r:embed="rId1"/>
          <a:stretch/>
        </p:blipFill>
        <p:spPr>
          <a:xfrm>
            <a:off x="7142040" y="5235480"/>
            <a:ext cx="20019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часть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еоретическая ча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Изучение реформирования российского образования в 1980 – 2015 год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актическая часть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Проведение социологического опроса обучающихся об истории школ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Создание буклета «МОУ «Южно-Степная СОШ» с 1984 – 2018 годы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85896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59680" y="455040"/>
            <a:ext cx="7728840" cy="135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проведения социологического опроса обучающихся об истории школ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68360" y="2421000"/>
          <a:ext cx="8567640" cy="4389480"/>
        </p:xfrm>
        <a:graphic>
          <a:graphicData uri="http://schemas.openxmlformats.org/drawingml/2006/table">
            <a:tbl>
              <a:tblPr/>
              <a:tblGrid>
                <a:gridCol w="596880"/>
                <a:gridCol w="4621320"/>
                <a:gridCol w="1089000"/>
                <a:gridCol w="1144440"/>
                <a:gridCol w="11160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ы анкеты для учащихс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на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ешь ли ты историю школы, в которой учишься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лись бы вы сами исследованием истории своей школы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вы знать об учебе своих родителей, их школьных друзьях, учителях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наша истор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бы гордиться своей школой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на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надо знать историю школы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6:08:41Z</dcterms:created>
  <dc:creator>Носовы</dc:creator>
  <dc:description/>
  <dc:language>en-US</dc:language>
  <cp:lastModifiedBy>1</cp:lastModifiedBy>
  <dcterms:modified xsi:type="dcterms:W3CDTF">2020-09-06T06:32:37Z</dcterms:modified>
  <cp:revision>122</cp:revision>
  <dc:subject/>
  <dc:title>Роль игровой  деятельности  в формировании познавательной активности младших школьников сельской школы</dc:title>
</cp:coreProperties>
</file>