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7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4.wmf" ContentType="image/x-wmf"/>
  <Override PartName="/ppt/media/image6.jpeg" ContentType="image/jpeg"/>
  <Override PartName="/ppt/media/image11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EEE-A429-482B-A095-E74D396A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02E-32E7-4DF3-974E-E306D568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F2B1-80DF-4918-A2C9-BD5D09B3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E626-7D18-4B86-B256-F7B8099F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A6DF-63EF-4DB5-8FBC-7E31295D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4330-4DC0-42E1-9896-0C93A84B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0BF4-101E-4FD9-9DF5-06881188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28FC-BAE7-4216-8194-B0D043DD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2A15-9F9E-4C97-AD47-0B083C3B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D720-FF0A-409F-A70D-62F20689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9121-4AD8-4949-9CF0-EC61D222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4A9-CD86-470B-A0F5-F4F56B05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2C7E-89B9-471B-A46E-6268C9C2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5F9D-FF77-485E-8351-1F45734D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4EB5-569F-4A8E-AD81-DE2956A2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4F3C-73A4-4A3F-8196-05350AF6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17B4-3DB9-4602-B7F0-B569C911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B338-6418-4100-A484-F3A20FCC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BE30-C2CC-4FA0-BF5D-4D5D2C58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729-61A5-4A6C-A35E-59A07039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D66-10FF-47EF-BEE7-074FD92F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3641-705C-4182-80B2-F811ECE9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99B4-0D84-49D1-9DFE-F2155C30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C94-9A4D-4735-BD6A-BBC20A22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9881-1A73-45EF-8B5A-574EA2D94E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DDEA-276A-4F2C-933C-3C408BE777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58440"/>
            <a:ext cx="403848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Д О Б Р А 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 О Р О Г 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cc00"/>
                </a:solidFill>
                <a:latin typeface="Arial"/>
              </a:rPr>
              <a:t>Д Е Т С Т В 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Object 8"/>
          <p:cNvGraphicFramePr/>
          <p:nvPr/>
        </p:nvGraphicFramePr>
        <p:xfrm>
          <a:off x="5364000" y="395280"/>
          <a:ext cx="315756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395280"/>
                    <a:ext cx="315756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11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Нельзя цепляться сзади за автотранспорт. Берегите свою жизнь!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6" descr="image_7"/>
          <p:cNvPicPr/>
          <p:nvPr/>
        </p:nvPicPr>
        <p:blipFill>
          <a:blip r:embed="rId1"/>
          <a:stretch/>
        </p:blipFill>
        <p:spPr>
          <a:xfrm>
            <a:off x="2484360" y="1600200"/>
            <a:ext cx="39592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имание! Прицепился, прокатилс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в больнице очутился!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8" descr="image_8"/>
          <p:cNvPicPr/>
          <p:nvPr/>
        </p:nvPicPr>
        <p:blipFill>
          <a:blip r:embed="rId1"/>
          <a:srcRect l="0" t="0" r="35716" b="0"/>
          <a:stretch/>
        </p:blipFill>
        <p:spPr>
          <a:xfrm>
            <a:off x="1835280" y="2205000"/>
            <a:ext cx="5761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секрет, что все дети любят кататься. Кто на велосипеде, кто на скейтборде, кто на коньках. Для них тоже есть свои правила безопас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1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Не катайся в местах, где можно случайно выехать на проезжую часть. Зимой это относится и к конькам, и к санкам, и даже к фанерк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4" descr="j0428411"/>
          <p:cNvPicPr/>
          <p:nvPr/>
        </p:nvPicPr>
        <p:blipFill>
          <a:blip r:embed="rId1"/>
          <a:stretch/>
        </p:blipFill>
        <p:spPr>
          <a:xfrm>
            <a:off x="6372360" y="2276640"/>
            <a:ext cx="1724040" cy="194292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2: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здить на велосипеде по дорогам можно только с 14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ереезжай дорогу на велосипеде, а переходи её по переходу, ведя велосипед за руль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6" descr="NOCAL5R9XWCAAL64C1CAJ0NCZJCASD2N3TCAS1J3QZCACEDPJ3CAD5YAHVCAZIHE14CA0R6UWICA83T0PYCA65FF2PCAWMPVJNCAH53FSICAD1XKNMCAJ23QUICAAY9NRCCAGGXHJCCA352JVUCAFKPADL"/>
          <p:cNvPicPr/>
          <p:nvPr/>
        </p:nvPicPr>
        <p:blipFill>
          <a:blip r:embed="rId1"/>
          <a:stretch/>
        </p:blipFill>
        <p:spPr>
          <a:xfrm>
            <a:off x="6443640" y="3860640"/>
            <a:ext cx="1822320" cy="237672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Ребята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Соблюдайте правила дорожного движения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ЛЮБИТЕ  ЖИЗНЬ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WordArt 19"/>
          <p:cNvSpPr txBox="1"/>
          <p:nvPr/>
        </p:nvSpPr>
        <p:spPr>
          <a:xfrm>
            <a:off x="539640" y="260280"/>
            <a:ext cx="81471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latin typeface="Impact"/>
              </a:rPr>
              <a:t>Спасибо за внимание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latin typeface="Impact"/>
              <a:ea typeface="Impact"/>
            </a:endParaRPr>
          </a:p>
        </p:txBody>
      </p:sp>
      <p:pic>
        <p:nvPicPr>
          <p:cNvPr id="247" name="Picture 21" descr="pe01821_[1]"/>
          <p:cNvPicPr/>
          <p:nvPr/>
        </p:nvPicPr>
        <p:blipFill>
          <a:blip r:embed="rId1"/>
          <a:stretch/>
        </p:blipFill>
        <p:spPr>
          <a:xfrm>
            <a:off x="2484360" y="2565360"/>
            <a:ext cx="35323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ff"/>
                                      </p:to>
                                    </p:animClr>
                                    <p:animClr clrSpc="rgb">
                                      <p:cBhvr>
                                        <p:cTn id="53" dur="1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ff"/>
                                      </p:to>
                                    </p:animClr>
                                    <p:set>
                                      <p:cBhvr>
                                        <p:cTn id="54" dur="1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3465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Правила дорожного движения для дошкольников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Безопасность на дорог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учший способ сохранить свою жизнь на дорогах – соблюдать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РАВИЛ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ОРОЖНОГ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ДВИ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Переходить улицу можно только по пешеходным переходам. Самый безопасный переход – подзем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Если нет подземного перехода, вы должны пользоваться переходом со светофор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Нельзя переходить улицу на красный свет, даже если нет маш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4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Безопаснее всего переходить улицу с группой пешеход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5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Ни в коем случае нельзя выбегать на дорогу (даже если очень спешишь). Перед дорогой надо останов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j0230500"/>
          <p:cNvPicPr/>
          <p:nvPr/>
        </p:nvPicPr>
        <p:blipFill>
          <a:blip r:embed="rId1"/>
          <a:stretch/>
        </p:blipFill>
        <p:spPr>
          <a:xfrm>
            <a:off x="6732720" y="260280"/>
            <a:ext cx="1738080" cy="19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Object 5"/>
          <p:cNvGraphicFramePr/>
          <p:nvPr/>
        </p:nvGraphicFramePr>
        <p:xfrm>
          <a:off x="1187280" y="333360"/>
          <a:ext cx="1224000" cy="15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333360"/>
                    <a:ext cx="12240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5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Автобус и троллейбус на остановке надо обходить только СЗАДИ, а трамвай СПЕРЕД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7" descr="image_0"/>
          <p:cNvPicPr/>
          <p:nvPr/>
        </p:nvPicPr>
        <p:blipFill>
          <a:blip r:embed="rId1"/>
          <a:stretch/>
        </p:blipFill>
        <p:spPr>
          <a:xfrm>
            <a:off x="1714680" y="2205000"/>
            <a:ext cx="5715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6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дорогах, где нет тротуара, ходите только по левой обочине, навстречу движущемуся транспорту!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14" descr="image_1"/>
          <p:cNvPicPr/>
          <p:nvPr/>
        </p:nvPicPr>
        <p:blipFill>
          <a:blip r:embed="rId1"/>
          <a:srcRect l="0" t="49029" r="0" b="0"/>
          <a:stretch/>
        </p:blipFill>
        <p:spPr>
          <a:xfrm>
            <a:off x="2195640" y="1600200"/>
            <a:ext cx="46814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7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дорогах, на проезжей части, на мостовой детям категорически запрещается играть!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6" descr="image_5"/>
          <p:cNvPicPr/>
          <p:nvPr/>
        </p:nvPicPr>
        <p:blipFill>
          <a:blip r:embed="rId1"/>
          <a:stretch/>
        </p:blipFill>
        <p:spPr>
          <a:xfrm>
            <a:off x="1835280" y="1916280"/>
            <a:ext cx="5670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859520" cy="65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8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ереходить улицу можно где изображена «Зебра» или установлен знак «Пешеходный переход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Picture 6" descr="image_6"/>
          <p:cNvPicPr/>
          <p:nvPr/>
        </p:nvPicPr>
        <p:blipFill>
          <a:blip r:embed="rId1"/>
          <a:stretch/>
        </p:blipFill>
        <p:spPr>
          <a:xfrm>
            <a:off x="2843280" y="2421000"/>
            <a:ext cx="3610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9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Запрещается переходить проезжую часть дороги перед близко идущим транспор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10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ереходя улицу, всегда надо смотреть: сначала – налево, а дойдя до середины дороги – направ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рога не тропинка, дорога не канава…Сперва смотри налево, потом смотри напра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Object 7"/>
          <p:cNvGraphicFramePr/>
          <p:nvPr/>
        </p:nvGraphicFramePr>
        <p:xfrm>
          <a:off x="7451640" y="5013360"/>
          <a:ext cx="863640" cy="11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5013360"/>
                    <a:ext cx="86364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7:45:02Z</dcterms:created>
  <dc:creator>Новикова Дарья Александровна</dc:creator>
  <dc:description/>
  <dc:language>en-US</dc:language>
  <cp:lastModifiedBy>Admin</cp:lastModifiedBy>
  <dcterms:modified xsi:type="dcterms:W3CDTF">2020-09-07T10:25:21Z</dcterms:modified>
  <cp:revision>12</cp:revision>
  <dc:subject/>
  <dc:title>Правила дорожного движения для школьников</dc:title>
</cp:coreProperties>
</file>