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4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2B2-F275-44D8-9EF6-5EEC4454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929-324B-4E67-ADA9-7334ACCA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731-34D7-4FF3-B693-9A50D551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2E2-225B-4B31-8EBB-D4CCEE3C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DBB3-9310-436A-8932-52DF66A8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BC42-E788-4DD0-9E72-B6B34D55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05EA-5E9F-4367-8F73-E94CE92D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B211-F9C8-48E8-BE9A-07320748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B23F-E46C-408A-A711-B10EAA9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9200-3D2A-404A-A7DD-EC6850F4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3858-B7BF-4055-944B-1566BF00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D7D-F3D7-4AD9-9657-E558D721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E7B4-8FFF-4A1E-8392-FE42F737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9661-B3D0-4B96-898F-D9838C5B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3D27-295E-4921-A6EF-3B5A968D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CE95-1919-4069-81D6-815CDEF7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D0C8-1D8B-464E-B4D2-4841A8DD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688-2F27-4816-B95D-F4FE0C0D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DB1-BBD9-428C-B55B-31ABA7C9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48A-E1BB-4DD1-931C-0CEE118A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1D9-0770-4002-B283-64C3CD69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6C9-539C-4FCE-8271-01CCC12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923-E86F-4CEB-A229-E319CCB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B37-ABB1-42BC-81FC-B018546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8FD4-9E69-4106-ACDF-925A53E83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7682-31C9-473B-B98F-A006222300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58440"/>
            <a:ext cx="403848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Д О Б Р А 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 О Р О Г 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cc00"/>
                </a:solidFill>
                <a:latin typeface="Arial"/>
              </a:rPr>
              <a:t>Д Е Т С Т В 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8"/>
          <p:cNvGraphicFramePr/>
          <p:nvPr/>
        </p:nvGraphicFramePr>
        <p:xfrm>
          <a:off x="5364000" y="395280"/>
          <a:ext cx="315756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395280"/>
                    <a:ext cx="31575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11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ельзя цепляться сзади за автотранспорт. Берегите свою жизнь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6" descr="image_7"/>
          <p:cNvPicPr/>
          <p:nvPr/>
        </p:nvPicPr>
        <p:blipFill>
          <a:blip r:embed="rId1"/>
          <a:stretch/>
        </p:blipFill>
        <p:spPr>
          <a:xfrm>
            <a:off x="2484360" y="1600200"/>
            <a:ext cx="39592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! Прицепился, прокатилс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в больнице очутился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8" descr="image_8"/>
          <p:cNvPicPr/>
          <p:nvPr/>
        </p:nvPicPr>
        <p:blipFill>
          <a:blip r:embed="rId1"/>
          <a:srcRect l="0" t="0" r="35716" b="0"/>
          <a:stretch/>
        </p:blipFill>
        <p:spPr>
          <a:xfrm>
            <a:off x="1835280" y="2205000"/>
            <a:ext cx="576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секрет, что все дети любят кататься. Кто на велосипеде, кто на скейтборде, кто на коньках. Для них тоже есть свои правила безо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1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е катайся в местах, где можно случайно выехать на проезжую часть. Зимой это относится и к конькам, и к санкам, и даже к фанер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j0428411"/>
          <p:cNvPicPr/>
          <p:nvPr/>
        </p:nvPicPr>
        <p:blipFill>
          <a:blip r:embed="rId1"/>
          <a:stretch/>
        </p:blipFill>
        <p:spPr>
          <a:xfrm>
            <a:off x="6372360" y="2276640"/>
            <a:ext cx="1724040" cy="19429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2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здить на велосипеде по дорогам можно только с 14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ереезжай дорогу на велосипеде, а переходи её по переходу, ведя велосипед за руль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NOCAL5R9XWCAAL64C1CAJ0NCZJCASD2N3TCAS1J3QZCACEDPJ3CAD5YAHVCAZIHE14CA0R6UWICA83T0PYCA65FF2PCAWMPVJNCAH53FSICAD1XKNMCAJ23QUICAAY9NRCCAGGXHJCCA352JVUCAFKPADL"/>
          <p:cNvPicPr/>
          <p:nvPr/>
        </p:nvPicPr>
        <p:blipFill>
          <a:blip r:embed="rId1"/>
          <a:stretch/>
        </p:blipFill>
        <p:spPr>
          <a:xfrm>
            <a:off x="6443640" y="3860640"/>
            <a:ext cx="1822320" cy="2376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Ребята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Соблюдайте правила дорожного движения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ЛЮБИТЕ  ЖИЗНЬ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WordArt 19"/>
          <p:cNvSpPr txBox="1"/>
          <p:nvPr/>
        </p:nvSpPr>
        <p:spPr>
          <a:xfrm>
            <a:off x="539640" y="260280"/>
            <a:ext cx="8147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pic>
        <p:nvPicPr>
          <p:cNvPr id="247" name="Picture 21" descr="pe01821_[1]"/>
          <p:cNvPicPr/>
          <p:nvPr/>
        </p:nvPicPr>
        <p:blipFill>
          <a:blip r:embed="rId1"/>
          <a:stretch/>
        </p:blipFill>
        <p:spPr>
          <a:xfrm>
            <a:off x="2484360" y="2565360"/>
            <a:ext cx="35323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54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авила дорожного движения для дошкольников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Безопасность на дорог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учший способ сохранить свою жизнь на дорогах – соблюда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АВИЛ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ОРОЖНОГ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ДВИ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Переходить улицу можно только по пешеходным переходам. Самый безопасный переход – подзем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Если нет подземного перехода, вы должны пользоваться переходом со светофор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Нельзя переходить улицу на красный свет, даже если нет ма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4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Безопаснее всего переходить улицу с группой пешех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5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Ни в коем случае нельзя выбегать на дорогу (даже если очень спешишь). Перед дорогой надо останов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j0230500"/>
          <p:cNvPicPr/>
          <p:nvPr/>
        </p:nvPicPr>
        <p:blipFill>
          <a:blip r:embed="rId1"/>
          <a:stretch/>
        </p:blipFill>
        <p:spPr>
          <a:xfrm>
            <a:off x="6732720" y="260280"/>
            <a:ext cx="173808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5"/>
          <p:cNvGraphicFramePr/>
          <p:nvPr/>
        </p:nvGraphicFramePr>
        <p:xfrm>
          <a:off x="1187280" y="333360"/>
          <a:ext cx="1224000" cy="15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33360"/>
                    <a:ext cx="12240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5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Автобус и троллейбус на остановке надо обходить только СЗАДИ, а трамвай СПЕРЕД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7" descr="image_0"/>
          <p:cNvPicPr/>
          <p:nvPr/>
        </p:nvPicPr>
        <p:blipFill>
          <a:blip r:embed="rId1"/>
          <a:stretch/>
        </p:blipFill>
        <p:spPr>
          <a:xfrm>
            <a:off x="1714680" y="2205000"/>
            <a:ext cx="5715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6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дорогах, где нет тротуара, ходите только по левой обочине, навстречу движущемуся транспорту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14" descr="image_1"/>
          <p:cNvPicPr/>
          <p:nvPr/>
        </p:nvPicPr>
        <p:blipFill>
          <a:blip r:embed="rId1"/>
          <a:srcRect l="0" t="49029" r="0" b="0"/>
          <a:stretch/>
        </p:blipFill>
        <p:spPr>
          <a:xfrm>
            <a:off x="2195640" y="1600200"/>
            <a:ext cx="4681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7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дорогах, на проезжей части, на мостовой детям категорически запрещается играть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6" descr="image_5"/>
          <p:cNvPicPr/>
          <p:nvPr/>
        </p:nvPicPr>
        <p:blipFill>
          <a:blip r:embed="rId1"/>
          <a:stretch/>
        </p:blipFill>
        <p:spPr>
          <a:xfrm>
            <a:off x="1835280" y="1916280"/>
            <a:ext cx="567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85952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8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ереходить улицу можно где изображена «Зебра» или установлен знак «Пешеходный переход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6" descr="image_6"/>
          <p:cNvPicPr/>
          <p:nvPr/>
        </p:nvPicPr>
        <p:blipFill>
          <a:blip r:embed="rId1"/>
          <a:stretch/>
        </p:blipFill>
        <p:spPr>
          <a:xfrm>
            <a:off x="2843280" y="2421000"/>
            <a:ext cx="3610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9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прещается переходить проезжую часть дороги перед близко идущим транспор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авило 10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ереходя улицу, всегда надо смотреть: сначала – налево, а дойдя до середины дороги – напра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рога не тропинка, дорога не канава…Сперва смотри налево, потом смотри напра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Object 7"/>
          <p:cNvGraphicFramePr/>
          <p:nvPr/>
        </p:nvGraphicFramePr>
        <p:xfrm>
          <a:off x="7451640" y="5013360"/>
          <a:ext cx="863640" cy="11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5013360"/>
                    <a:ext cx="86364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7:45:02Z</dcterms:created>
  <dc:creator>Новикова Дарья Александровна</dc:creator>
  <dc:description/>
  <dc:language>en-US</dc:language>
  <cp:lastModifiedBy>Admin</cp:lastModifiedBy>
  <dcterms:modified xsi:type="dcterms:W3CDTF">2020-09-07T10:25:21Z</dcterms:modified>
  <cp:revision>12</cp:revision>
  <dc:subject/>
  <dc:title>Правила дорожного движения для школьников</dc:title>
</cp:coreProperties>
</file>