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2D4F-D4A0-4B88-9DD8-D3F97EC380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7485-0C38-4D1E-BD7C-D44B5C3C83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3AD-6BF5-4605-9F41-E2DDDE7B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61A-0FF0-4F2C-A322-08BA2874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58B-A6C2-40FA-A7D0-882568C9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31F-85DB-4798-8A17-BD6E8DFF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4391-5AF8-4483-BD4F-CCA68849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ACDD-E2C7-4DE1-A4B0-23BF3AC3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E7B5-8572-4C4A-81BC-7CD0C93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7FDE-FEE0-4DF0-8954-F6AD4395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0AAB-1044-43BC-9ED3-019FC6F9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9717-04D9-4628-94FD-2734C514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D157-C231-4315-8AF0-A5A434FF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D3B-FD8F-4AC5-B406-FA02DFD7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C0C5-B744-4AAB-9BBF-7BE9DCB7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B61C-D67D-4F46-97CC-55DA7532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CC25-DAE3-4277-9E72-F239DE95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B7E0-0BF8-4DEB-B68B-BAC34F59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6785-4A3A-498A-B9C5-E5C2540C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BE2B4-44B2-4DF6-A825-331D5283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5BAE5-8452-4837-9A83-6B969833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0A8CB-9FE6-439F-A71A-49FF4139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4C3D-97AF-4A34-9DCB-DA3AE668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D1395-1940-4C5E-89FD-9F6A9563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11E-7B15-4563-BAB8-201BFCD9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6516-214B-4EB0-AC8D-63A14135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8D86E-C302-458B-A6A8-47BECDFE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F713-7756-40DB-972D-F0844894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69F4-4FF1-4BA4-9602-1DB4AE89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F7A4-46FA-4DEF-9F8E-470EBCBF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F0C8-2CE1-4AED-B323-D96E40A0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32647-3489-408D-8ABB-35DD8222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45BD4-AC92-4E06-8D23-B6E8CC9B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03DC0-E590-421B-90D1-F2209561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AB81-C5DB-4B05-9F14-039BCF1C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44F-E0F5-435D-85EC-1EADAA44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3554-30C0-45EA-B251-36968660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C2EB-F1A8-4954-9594-01B16AF7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FD65-6B6F-4B3B-87A5-37625AFC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3B6C-19A2-4655-B91C-A82869D1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25D9D-4084-40D8-A47C-20738B90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F809-58DE-44E4-BCB4-931FDF26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1D585-F662-49CB-9C71-5BBDC6D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EC5CC-0522-4102-BC99-75FD0679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4B94-4C91-41FF-B68A-F82AC3CF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FC9ED-E1AC-46AC-8A09-FADAF1D3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9E7-5B70-4BB8-8A59-A26D1101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FE722-AEBA-4167-9801-F540B424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AADFB-4954-428C-A26C-B61F4880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F8182-6473-4433-A84E-DDF660CD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BBA46-FE50-4F2A-B14D-3C4D44CB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B8295-17DD-44A7-B178-F956A0A7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682A-6F9B-41C1-B8C9-D6FBA039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F5F92-34E0-48E2-8D05-8248E68A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F89F7-FB42-4C92-A3A8-EC126A41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44D3-896A-490B-92DF-836F37F9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CC3A7-3E28-453B-B338-75E527A1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B30-51AC-4973-8BB4-B605E9AB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9F29D-FAC6-4449-AC34-2F05210E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81A-98B4-4BD3-8CBC-107B34CA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DD4-4D79-4FCF-A3DB-4488877D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4A8-B3F8-40F9-933C-819B463F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C21B-0233-4702-B5B3-8F707DA6761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907E-E4BC-4E3D-A088-8015AADFA68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6202-2CD1-463E-BAE4-0ADD8BEF58C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24B5-89AA-4A7F-A664-E289BE43606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8932-D5FB-460D-9C0A-D9AC48B2893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030400" y="695160"/>
            <a:ext cx="6364440" cy="4851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8000" y="620640"/>
            <a:ext cx="2519280" cy="45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3b7e"/>
                </a:solidFill>
                <a:latin typeface="Trebuchet MS"/>
              </a:rPr>
              <a:t>Учитель математики ГБОУ СОШ №81 Санкт-Петербург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3b7e"/>
                </a:solidFill>
                <a:latin typeface="Trebuchet MS"/>
              </a:rPr>
              <a:t> </a:t>
            </a:r>
            <a:r>
              <a:rPr b="1" i="1" lang="ru-RU" sz="1800" spc="-1" strike="noStrike">
                <a:solidFill>
                  <a:srgbClr val="b23b7e"/>
                </a:solidFill>
                <a:latin typeface="Trebuchet MS"/>
              </a:rPr>
              <a:t>Грицова  Галина Александро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669960" y="0"/>
            <a:ext cx="7235640" cy="11462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ножение на 5 сводится к делению пополам, деление на 5—к умножению на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тобы умножить на 5, можно умножить на 10 и результат разделить пополам или разделить пополам и умножить на 10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4*5=54*10:2=54:2*10=27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653*5=653*10:2=6530:2=3565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зделим на 5, для этого удвоим данное число, и результат разделим на 10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6145:5=6145 * 2:10=12290:10=1229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480960" y="0"/>
            <a:ext cx="7242120" cy="11462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68360" y="1412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умножении на 25 мы умножаем на 100 и делим на 4 или делим на 4 умножаем на 100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6 * 25  = 56:4*100 = 16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7 * 25 = 7 * 100 : 4 = 700:4 = 17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делении на 25 —умножаем на 4 (т.е. два раза на 2) и делим на 100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45:25=45*4:100=180:100=1,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65:25=65*2*2:100=130*2:100=260:100=2,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628560" y="115920"/>
            <a:ext cx="7236000" cy="1146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395280" y="1412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умножении на 50 умножаем на 100 и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елим пополам или делим пополам умножаем на 100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76 * 50 = 76 * 100 : 2 = 76 : 2 * 100 = 38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делении на 50 сначала удваиваем, потом делим на 100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76 : 50 = 76 * 2 : 100 = 152 : 100 = 1,5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4:50=54*2:100=1,0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426960" y="64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чень легко увеличить некоторое число в 1,5 раза  для этого нужно к самому числу прибавить его половин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42*1,5=42+21=6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тобы умножить некоторое число на 15, мы увеличиваем его в 10 раз и к полученному числу прибавляем половину того, что получилось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4*15=540+270=81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352520" y="0"/>
            <a:ext cx="6956280" cy="1146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395280" y="1267920"/>
            <a:ext cx="7238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тобы умножить какое-нибудь число на 11, нужно увеличить его в 10 раз и к полученному результату прибавить само данное числ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1 * 87=87*10+87=870+87=95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метим еще один прием умножения двузначного числа на 11. Раздвинем цифры двузначного числа и вставим между ними их сумму. Получим нужный результат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4 * 11. Раздвигаем цифры 2 и 4 (2. . .4) и между ними вставляем сумму 2+4=6. Получим 264. Значит, 24*11= 264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907920" y="2682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395280" y="162864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бы умножить какое-нибудь число на 9, нужно увеличить его в 10 раз и от полученного результата отнять само данное числ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87 * 9= 87* 10 – 87 = 870 – 87 = 783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65*9=65*10-65=650-65=585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426960" y="189000"/>
            <a:ext cx="7236000" cy="114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трудно сообразить, как поступать при умножении на 99. Нужно, очевидно, увеличить данное число в 100 раз и от полученного числа отнять само данное числ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4 *99 = 34* 100-34 = 3400-34 = 3366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1*99 = 51* 100 - 51 = 5100 - 51 = 5049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95280" y="1483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обенно просто умножение двузначного числа на 101. Нужно мысленно приписать справа к данному числу его самого и прочесть то, что получитс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73*101=737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4*101=545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93560" y="0"/>
            <a:ext cx="7242480" cy="1146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умножении двузначного числа на 3,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начала умножаем десятки, потом единицы, затем оба результата складываем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84*3 = 80*3 + 4*3 = 240 + 12 = 25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42*3=300*3+40*3+2*3=900+120+6=1026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ножать на 6. Лучше сначала умножить данное число на 3, а затем результат удвоит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9*6=59*2*3=118*3=35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8*6=38*3*2=114*2=22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39280" y="184428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.Н.Берман «Приёмы счета» Москва 1959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646360" y="0"/>
            <a:ext cx="7107120" cy="1000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Однозначное слагаемое представляем в виде суммы двух меньших чисел, из которых одно дополняет большее слагаемое до целых десятк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87 + 9=87+3+6= 90+ 6=96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19+7=119+1+6=120+6=126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Так, если прибавляется двузначное число, то сначала прибавляют десятки, потом единиц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87+65 = 87+60+5 = 147+5 = 152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и сложении нескольких двузначных чисел складываем сначала все десятки, потом все единицы и к общему числу десятков прибавляем единиц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9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59+86=50+80+9+6=130+15=145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712960" y="0"/>
            <a:ext cx="7242120" cy="1146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95280" y="1557360"/>
            <a:ext cx="7748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сли оба слагаемых - многозначные числа, то к большему прибавляем сначала старший разряд меньшего, потом—младший разряд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43+25=343+20+5=363+5=36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8365 + 376= 8365+300+70+6 = 8665+70+6 =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=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8735+6 = 874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-639720" y="-212760"/>
            <a:ext cx="7235640" cy="1139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95280" y="1196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сли нужно вычесть однозначное число, большее последней цифры уменьшаемого, то разбиваем это однозначное число на два (равное последней цифре уменьшаемого и остаток) и вычитаем полученное число одно за други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73-9=73-3-6=70-6=6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51-7=251-1-6=250-6=24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сли вычитаемое близко к круглому числу, то сначала отнимаем это круглое число, а затем делаем поправк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56-9=56-10+1=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-712800" y="0"/>
            <a:ext cx="7236000" cy="1146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вычитании двузначных (и  многозначных) чисел сначала отнимаем старшие разряды вычитаемого, потом младшие его разряд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42 - 65 = 342 – 60 – 5 = 282 – 5 = 282 – 2 – 3 = 280 – 3 = 27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456 - 579 = 3456 – 500 – 70 - 9 = 2956 - 70 - 9 = 2886 – 9 = 287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457200" y="500040"/>
            <a:ext cx="7242120" cy="963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68360" y="1196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ножать и делить проще всего  на 10 и вообще на число, изображаемое единицей с нулями. При умножении на такие числа мы приписываем к множимому столько нулей, сколько их имеется во множител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9 * 10 = 59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73 * 100 = 173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34 * 1000 = 34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24000" y="1412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сто умножение на 2 и на 4. Умножаем на 2, начиная со старших разрядо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47 * 2 = 300 * 2 + 40 * 2 + 7 * 2 = 600 + 80 + 14 = 694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ножение на 4 сводится к двукратному умножению на 2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65*4=65*2*2=130*2=26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536400" y="262080"/>
            <a:ext cx="7242480" cy="11458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делении на число, изображаемое единицей с нулями. Отделяем запятой столько последних цифр, сколько имеется нулей в делител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47:10=54,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876:100=8,7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7790040" cy="1214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23640" y="981000"/>
            <a:ext cx="7343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делении на 2 делим пополам все разряды, начиная с высшего, попутно складывая получающиеся результат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64:2=300:2+60:2+4:2=150+30+2=18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делении на 4 делим сначала на 2, затем полученное частное еще раз на 2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сли нужно разделить на 8 или на 16, то будем три или четыре раза последовательно делить на 2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9:25:41Z</dcterms:created>
  <dc:creator>Евгений</dc:creator>
  <dc:description/>
  <dc:language>en-US</dc:language>
  <cp:lastModifiedBy>Мамуля</cp:lastModifiedBy>
  <dcterms:modified xsi:type="dcterms:W3CDTF">2020-09-07T18:01:39Z</dcterms:modified>
  <cp:revision>37</cp:revision>
  <dc:subject/>
  <dc:title>Быстрый счет</dc:title>
</cp:coreProperties>
</file>