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832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9736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014120" y="728640"/>
            <a:ext cx="4854600" cy="364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DA44-0899-476C-80E0-287B52A5FA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C649-7FA6-4B1C-95B5-5AD3A1D377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15AD-13ED-4CC6-A504-FEAEEE21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862D-F2AC-4A69-90A0-B8BB3066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16F8-DDC2-4C5C-B10A-053FF11C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ABDF-4E15-445D-AF99-1171DEA5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BBCF-3613-44B0-82D6-CE7046FC9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7FCA-C49F-4E36-B7AD-ECCC6C1A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D989-080F-41F0-AA06-398FBB8B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27A5-628D-4D5E-918F-178B509D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21F9-0F35-4AFA-B3FE-BC02D335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2A4A-1D55-4826-A200-4088C1A0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89C4-964B-463C-8551-912A37A1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5937-5164-49BC-8DA2-205B6676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B2F1-2111-4C91-B0CA-A9DDBE72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2A52-AB41-48E6-B3B3-9A5644BC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53B6-C0DF-4716-B5E6-6D3E3527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CFF4-2731-4E43-9EE1-4C34920B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6BCD-2661-4EC7-8FDA-FA62D8A9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761EF-2286-4FE2-8323-5BB4DC55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A6B7C-5993-4326-862C-0EDDB2B0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06DBC-AE9D-4F13-9043-4601E2FA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49348-AB4B-43A5-B9EE-8721983A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5FAA9-9E47-4840-A616-B55FB578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289A-6533-4B1B-8831-06259BE1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5B973-E977-4F0E-BB82-E2AA4F17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074A2-E446-4066-9CC6-8D1C36D0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1E1D4-CCAC-43AB-9835-00C36F13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B660C-C080-4B57-9771-C6C88B05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888E2-F3B7-4E57-9A44-C0229F38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17752-F22D-4B52-9C8E-EA956311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A1AA8-BAEB-4DF2-9295-2A2AF606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099B4-E0E6-4F34-9B1E-CE850AE7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9E65B-1924-4840-B57E-B7797EC3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88833-E1A4-4D1C-9719-D04A3B21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EB53-1F06-4D76-9B38-294F4D22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56439-3C03-4583-AF1B-B3793E5E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DAD65-5C33-45D6-A458-9ACB8AF4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F9687-DB8F-40E4-A56A-0762AED4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D2912-23E1-41BD-929E-D0FDFCFD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50C17-3447-415F-9BB4-38398933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B579B-53FE-46D3-81C8-5D6596A5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1DF74-16D3-48AF-9C87-14F4724B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A2707-5740-4722-8984-37638FAC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C568E-E9A7-419B-8C06-F313D04F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9F107-2F6E-4809-9F1C-C230FE17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8A1C-B4EC-47F8-B271-01F149E9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D193B-6BBA-4718-929E-DDF1CFA0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7BF3A-8568-47FF-A4C5-3CC06D10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86FC7-5BF3-4BCF-82DC-9D04E962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29D0F-AFE5-42E9-82B0-A97A29F0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D9722-A948-4F8E-9289-2D0CCD56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D0F7F-47D3-48A2-B774-0EC12ECC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FAD63-EB2E-4D2F-A343-6C7C768D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A44C9-03C4-428E-A0BE-B77CF74A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FDB3A-3991-4C5F-92A7-400FAD8D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CE330-5096-4183-95E4-72078529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7495-DFF6-4C8B-81F9-118E1099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F475C-F42B-4D90-AF79-36988348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3BC1-8F54-48EC-8BDD-56A3A0E3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F7BF-039B-4AF0-B341-E5BA8F3C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32EC-F334-4ECE-8C90-C01280FA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179A-8E05-4270-90E6-A6830E2B22C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D843-3A24-46AD-92A5-8699D52F4ED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856B-DE5E-4F98-9724-AB188ADE467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62F9-CA96-4550-971F-E840BD18D102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1AFE-F5DA-4C65-9EE6-5C67E45FC04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030400" y="695160"/>
            <a:ext cx="6364440" cy="4851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08000" y="620640"/>
            <a:ext cx="2519280" cy="452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23b7e"/>
                </a:solidFill>
                <a:latin typeface="Trebuchet MS"/>
              </a:rPr>
              <a:t>Учитель математики ГБОУ СОШ №81 Санкт-Петербург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23b7e"/>
                </a:solidFill>
                <a:latin typeface="Trebuchet MS"/>
              </a:rPr>
              <a:t> </a:t>
            </a:r>
            <a:r>
              <a:rPr b="1" i="1" lang="ru-RU" sz="1800" spc="-1" strike="noStrike">
                <a:solidFill>
                  <a:srgbClr val="b23b7e"/>
                </a:solidFill>
                <a:latin typeface="Trebuchet MS"/>
              </a:rPr>
              <a:t>Грицова  Галина Александровн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669960" y="0"/>
            <a:ext cx="7235640" cy="11462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множение на 5 сводится к делению пополам, деление на 5—к умножению на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Чтобы умножить на 5, можно умножить на 10 и результат разделить пополам или разделить пополам и умножить на 10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54*5=54*10:2=54:2*10=27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653*5=653*10:2=6530:2=3565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азделим на 5, для этого удвоим данное число, и результат разделим на 10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6145:5=6145 * 2:10=12290:10=1229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Rectangle 2" descr=""/>
          <p:cNvPicPr/>
          <p:nvPr/>
        </p:nvPicPr>
        <p:blipFill>
          <a:blip r:embed="rId1"/>
          <a:stretch/>
        </p:blipFill>
        <p:spPr>
          <a:xfrm>
            <a:off x="480960" y="0"/>
            <a:ext cx="7242120" cy="11462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68360" y="14126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 умножении на 25 мы умножаем на 100 и делим на 4 или делим на 4 умножаем на 100 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56 * 25  = 56:4*100 = 160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7 * 25 = 7 * 100 : 4 = 700:4 = 175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 делении на 25 —умножаем на 4 (т.е. два раза на 2) и делим на 100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45:25=45*4:100=180:100=1,8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65:25=65*2*2:100=130*2:100=260:100=2,6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628560" y="115920"/>
            <a:ext cx="7236000" cy="1146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395280" y="14126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 умножении на 50 умножаем на 100 и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делим пополам или делим пополам умножаем на 100 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76 * 50 = 76 * 100 : 2 = 76 : 2 * 100 = 380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 делении на 50 сначала удваиваем, потом делим на 100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76 : 50 = 76 * 2 : 100 = 152 : 100 = 1,52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54:50=54*2:100=1,08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2" descr=""/>
          <p:cNvPicPr/>
          <p:nvPr/>
        </p:nvPicPr>
        <p:blipFill>
          <a:blip r:embed="rId1"/>
          <a:stretch/>
        </p:blipFill>
        <p:spPr>
          <a:xfrm>
            <a:off x="426960" y="64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чень легко увеличить некоторое число в 1,5 раза  для этого нужно к самому числу прибавить его половину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42*1,5=42+21=63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Чтобы умножить некоторое число на 15, мы увеличиваем его в 10 раз и к полученному числу прибавляем половину того, что получилось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54*15=540+270=81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1352520" y="0"/>
            <a:ext cx="6956280" cy="11462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395280" y="1267920"/>
            <a:ext cx="7238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Чтобы умножить какое-нибудь число на 11, нужно увеличить его в 10 раз и к полученному результату прибавить само данное число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11 * 87=87*10+87=870+87=957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аметим еще один прием умножения двузначного числа на 11. Раздвинем цифры двузначного числа и вставим между ними их сумму. Получим нужный результат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24 * 11. Раздвигаем цифры 2 и 4 (2. . .4) и между ними вставляем сумму 2+4=6. Получим 264. Значит, 24*11= 264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907920" y="26820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395280" y="1628640"/>
            <a:ext cx="75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бы умножить какое-нибудь число на 9, нужно увеличить его в 10 раз и от полученного результата отнять само данное число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87 * 9= 87* 10 – 87 = 870 – 87 = 783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65*9=65*10-65=650-65=585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426960" y="189000"/>
            <a:ext cx="7236000" cy="1146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трудно сообразить, как поступать при умножении на 99. Нужно, очевидно, увеличить данное число в 100 раз и от полученного числа отнять само данное число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4 *99 = 34* 100-34 = 3400-34 = 3366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51*99 = 51* 100 - 51 = 5100 - 51 = 5049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395280" y="1483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собенно просто умножение двузначного числа на 101. Нужно мысленно приписать справа к данному числу его самого и прочесть то, что получится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73*101=7373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54*101=5454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493560" y="0"/>
            <a:ext cx="7242480" cy="11462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 умножении двузначного числа на 3,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начала умножаем десятки, потом единицы, затем оба результата складываем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84*3 = 80*3 + 4*3 = 240 + 12 = 252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342*3=300*3+40*3+2*3=900+120+6=1026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множать на 6. Лучше сначала умножить данное число на 3, а затем результат удвоить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59*6=59*2*3=118*3=354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38*6=38*3*2=114*2=228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539280" y="184428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Г.Н.Берман «Приёмы счета» Москва 1959г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2646360" y="0"/>
            <a:ext cx="7107120" cy="10000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49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Однозначное слагаемое представляем в виде суммы двух меньших чисел, из которых одно дополняет большее слагаемое до целых десятков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9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9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87 + 9=87+3+6= 90+ 6=96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9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119+7=119+1+6=120+6=126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92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9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Так, если прибавляется двузначное число, то сначала прибавляют десятки, потом единицы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9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9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87+65 = 87+60+5 = 147+5 = 152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9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При сложении нескольких двузначных чисел складываем сначала все десятки, потом все единицы и к общему числу десятков прибавляем единицы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9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9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59+86=50+80+9+6=130+15=145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712960" y="0"/>
            <a:ext cx="7242120" cy="11462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395280" y="1557360"/>
            <a:ext cx="7748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>
              <a:spcBef>
                <a:spcPts val="601"/>
              </a:spcBef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Если оба слагаемых - многозначные числа, то к большему прибавляем сначала старший разряд меньшего, потом—младший разряд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343+25=343+20+5=363+5=368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8365 + 376= 8365+300+70+6 = 8665+70+6 =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=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8735+6 = 8741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-639720" y="-212760"/>
            <a:ext cx="7235640" cy="1139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395280" y="11966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Если нужно вычесть однозначное число, большее последней цифры уменьшаемого, то разбиваем это однозначное число на два (равное последней цифре уменьшаемого и остаток) и вычитаем полученное число одно за други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73-9=73-3-6=70-6=64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251-7=251-1-6=250-6=244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Если вычитаемое близко к круглому числу, то сначала отнимаем это круглое число, а затем делаем поправк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56-9=56-10+1=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-712800" y="0"/>
            <a:ext cx="7236000" cy="11462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 вычитании двузначных (и  многозначных) чисел сначала отнимаем старшие разряды вычитаемого, потом младшие его разряды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342 - 65 = 342 – 60 – 5 = 282 – 5 = 282 – 2 – 3 = 280 – 3 = 277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3456 - 579 = 3456 – 500 – 70 - 9 = 2956 - 70 - 9 = 2886 – 9 = 2877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457200" y="500040"/>
            <a:ext cx="7242120" cy="963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68360" y="11966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множать и делить проще всего  на 10 и вообще на число, изображаемое единицей с нулями. При умножении на такие числа мы приписываем к множимому столько нулей, сколько их имеется во множителе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59 * 10 = 59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173 * 100 = 1730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234 * 1000 = 3400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324000" y="14126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осто умножение на 2 и на 4. Умножаем на 2, начиная со старших разрядов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347 * 2 = 300 * 2 + 40 * 2 + 7 * 2 = 600 + 80 + 14 = 694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множение на 4 сводится к двукратному умножению на 2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65*4=65*2*2=130*2=26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536400" y="262080"/>
            <a:ext cx="7242480" cy="11458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 делении на число, изображаемое единицей с нулями. Отделяем запятой столько последних цифр, сколько имеется нулей в делителе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547:10=54,7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876:100=8,76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426960" y="212760"/>
            <a:ext cx="7790040" cy="1214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323640" y="981000"/>
            <a:ext cx="7343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 делении на 2 делим пополам все разряды, начиная с высшего, попутно складывая получающиеся результаты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364:2=300:2+60:2+4:2=150+30+2=182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 делении на 4 делим сначала на 2, затем полученное частное еще раз на 2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Если нужно разделить на 8 или на 16, то будем три или четыре раза последовательно делить на 2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09:25:41Z</dcterms:created>
  <dc:creator>Евгений</dc:creator>
  <dc:description/>
  <dc:language>en-US</dc:language>
  <cp:lastModifiedBy>Мамуля</cp:lastModifiedBy>
  <dcterms:modified xsi:type="dcterms:W3CDTF">2020-09-07T18:01:39Z</dcterms:modified>
  <cp:revision>37</cp:revision>
  <dc:subject/>
  <dc:title>Быстрый счет</dc:title>
</cp:coreProperties>
</file>