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9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0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E4AA1-80E3-4AC4-AE81-F6FA768476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F1535-1980-488E-A6F2-D52DA29B0A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5AF3A-EBB9-4BFD-8ED8-0B4658254F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2ABE1-3055-4AF1-BFD4-4FFFB1F058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909DC-2628-46C5-937D-BC36977FF2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C70EC-6057-49EB-907B-67B885C2F5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8305A-4381-43D4-B8B0-EE451D96B1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82F0E-9F1E-430D-91D3-FCD31D4F3D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E2677-6195-41CF-8E21-5D1B567891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2CB0B-7A66-4EDB-A5D5-EAA36E322B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C294D-3436-4651-BC59-C29C15C5F0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165BF-8F83-47F6-A74A-7805542957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26637-6ABF-41B2-8A36-A85B12C58B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42AEF-D459-4769-A3D4-9E0B8C5C34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66EC6-13A6-4A54-B9E7-C023D280EC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2AB76-421E-4390-8710-3237E0B145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986D6-BD87-4991-ACF9-0F100EFA0D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AEE4B-1BFA-4601-B15D-76142DEA26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E8696-BC6E-4668-9C26-20252083AF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82C02-FC57-4581-8EE2-FBE641D85A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613F2-A85A-4B8F-BF5F-5F15767BB1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5D8A0-9C58-4AA4-8DFC-5B1143A2DE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BA255-6BA0-46B5-BBD8-892E29579B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AD7DF-8640-4E54-8056-5CB1CBDEDC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D307B-12E6-4534-93DC-2E6643E053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A93F1-47AB-4B34-BDEA-25DFC62726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42F78-23A9-4F17-A979-9EDA788640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4540D-AAF0-4268-8219-2E5A27AD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FFB0-4432-4B3A-925D-C5D34090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2309-36A2-4F16-85BF-5D9AB33885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69B66-E915-4A22-A2AE-5678E6D815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8F547-7F6B-4A1D-9CC9-3EA3D3B7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6FBD1-6396-419A-A75B-1FC448A3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5FD08-9755-4F4B-8BE5-FAA3C9FF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361BC-ACF8-48C9-AA05-A3218B0B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38DCF-9CFF-4902-B8A3-02161FB6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D20C6-B93C-4863-A51D-CAEE668A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917B-6DD6-43DC-A0FD-0A77D1BA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D1876-2F86-492E-8BDC-FF09C8AE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4AFA9-36F4-4DED-80CA-3CE6AB77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90BC2-CC8D-490B-A994-526FB81B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7F19C-59C1-4CC8-AE30-770A0EB5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30855-2C4F-4CDF-825C-D23D90BEFD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857E-F42E-4D19-9EAD-D9B331B142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6B9E-2E64-44E0-9B92-6A1B4080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B756-17B6-48A8-AC3A-0BA959BE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8698-26C3-4A6E-9449-3EF699CC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A9DA-191B-45AF-976F-B18CF37A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96AAC-2BF8-490F-BA87-A78393BA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B759-9EC7-42A0-985A-C3EAFA5C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B37C-5285-414E-B53E-A50C9DC8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C565-8226-4768-8680-ECC4A281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823C-26EC-4B7F-A102-DEB6CF89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0FA3-38B2-4D59-B887-3F13E492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8A79-4303-4E1F-B08C-B5C2A5A3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A031-BD31-4A48-A0A0-E2552CF1FB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FD692-7CD9-4B59-A739-998B13ACD8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AAFC8-F8E3-472B-9C82-27D3EE0A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0894C-AC2C-4927-ACC7-5FF6BCA3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23AD-50A2-4F8A-800F-F831579A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4A467-E3C7-4BAC-AF87-45D3F899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F0612-8EC9-4DD5-A70B-1ED62494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FBEF1-08E2-4A30-8A3F-B7FB484F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CF1C3-3F4F-472B-ACF3-71D88E77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29E90-782D-4F62-8ADD-4484BD87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F9C54-1261-4953-81F3-A650EAD3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415FC-1834-4F01-A90C-4E798699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07A3B-A28D-4F27-A5F2-8AACCFA4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A9B16-F2A3-47E4-A00C-F08834BF5B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B7851-0992-4423-BB96-960B62E5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14695-DB3B-4D2B-AFEC-06373C1D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CFDA4-E82D-4DF2-86CA-9F85804F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D793E-4503-4E58-983D-3D5ECE45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DA38C-272F-436C-AD62-A7444A39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514440" y="534996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676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rPr>
              <a:t>7.9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8229240" y="6473520"/>
            <a:ext cx="757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01D8614-D130-4F9D-B2E4-9D4CC993E645}" type="slidenum">
              <a: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1000"/>
          </a:bodyPr>
          <a:p>
            <a:pPr marL="312120" indent="0">
              <a:lnSpc>
                <a:spcPct val="95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12120" indent="-3121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12120" indent="-3121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12120" indent="-3121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12120" indent="-3121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12120" indent="-3121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12120" indent="-3121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rPr>
              <a:t>7.9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CE1D57D-95BE-44C5-A69D-952422B90C7F}" type="slidenum">
              <a: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514440" y="584820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67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609120"/>
            <a:ext cx="3006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95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02320" indent="-2023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02320" indent="-2023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02320" indent="-2023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2320" indent="-2023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2320" indent="-2023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2320" indent="-2023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rPr>
              <a:t>7.9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529EE9A-F5F0-45D2-BF70-2AE03EFBA84F}" type="slidenum">
              <a: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1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456840"/>
            <a:ext cx="86850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41893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50200" indent="0">
              <a:lnSpc>
                <a:spcPct val="95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50200" indent="-25020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50200" indent="-25020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50200" indent="-25020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50200" indent="-25020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0200" indent="-25020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50200" indent="-25020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rPr>
              <a:t>7.9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CA7107F-5816-4DFB-A355-038B8E2B0218}" type="slidenum">
              <a: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podrastu.ru/psikhika/vospriyatie/vosprijatie-rebenka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980640"/>
            <a:ext cx="84582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Особенности сенсомоторного развития, крупной и мелкой моторики и двигательной координации у детей дошкольного возрас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24000" y="4437000"/>
            <a:ext cx="8424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одготовила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инструктор по физической культур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Маврова Е.Л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МБДОУ «Детский сад № 21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г . Балахна, Нижегородская обл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Логоритмика/физкультминутки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252360" y="1557360"/>
            <a:ext cx="4191120" cy="3311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4788000" y="2852640"/>
            <a:ext cx="39146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Театрализованная деятельность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52360" y="14130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4572000" y="292572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Художественно-творческая деятельность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4572000" y="3500280"/>
            <a:ext cx="4343400" cy="2887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4103640" cy="30747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Шариковые ванны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190760" cy="3070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572000" y="314172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Игры с песком и водой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01680" y="1298520"/>
            <a:ext cx="4383000" cy="2922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4835520" y="3716280"/>
            <a:ext cx="38624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Игры с массажерами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859280" y="3375000"/>
            <a:ext cx="4032360" cy="3046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103640" cy="30783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«Сенсорная тропа для ног»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193080" cy="46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навыки в повседневной жизни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52360" y="1413000"/>
            <a:ext cx="4248360" cy="2719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Подвижные игры (младший/средний возраст)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843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Развитие зрительного восприят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Игры, направленные на развитие зрительного восприятия, координации движений, ориентации в пространстве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Найди свой цвет» (кубики, флажки, листочки и др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Собери по цвету (форме)» -  «Салют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Найди парный листик (снежинку)» (ср.гр – по двум признакам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Цветные автомобили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Закати мяч на горку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Сбей кеглю своего цвета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Найди игрушку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Найди свой коврик» (плоскостные фигуры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Мячики и кубики» (по 2 признакам: по цвету и форме; плоскостные и объемные фигуры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2973600" cy="2390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5724360" y="1197000"/>
            <a:ext cx="3003840" cy="22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Подвижные игры (младший/средний возраст)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680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Развитие слухового восприят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Угадай, кто позвал?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Угадай, где звенел колокольчик?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Угадай, где постучали?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Найди предмет, который звучал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Громко – тихо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Развитие тактильных ощущени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Найди предмет, как в «Чудесном мешочке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Мячики и кубики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4716360" y="2276640"/>
            <a:ext cx="4199040" cy="32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Актуальность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304920" y="1557360"/>
            <a:ext cx="86868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Сенсомоторное воспитание способству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Интеллектуальному развитию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Успешной готовности детей к обучению в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Развитию у детей мелкой и крупной моторики рук и успешному овладеванию навыками письма и навыками ручной умел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Психоэмоциональному благополуч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Подвижные игры (старший дошкольный возраст)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765000"/>
            <a:ext cx="5976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звитие зрительного восприятия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Игры с карточками-схемами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Сделай фигуру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Подбери как можно больше предметов по схеме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гадай, что за игра?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Собери и повтори последовательность упражнения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Игры, направленные на зрительное восприятие цвета, формы, 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Геометрические снежинки (листочки)» (, двум, трем признакам)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гры с пособием «Парашют» (Найди цвет», «Поменяемся местами»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Игры, развивающие осязательное восприятие объемных предметов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Мячики и кубики» и другие геометрические тел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Найди похожий на циллиндр»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Кто быстрее выложит  свой коврик» (плоскостные и объемные фигуры)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5940360" y="620640"/>
            <a:ext cx="30322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Подвижные игры (старший дошкольный возраст)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7640" y="907560"/>
            <a:ext cx="52498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Игры, направленные на координацию движений, ориентацию в пространстве по зрительным ориентирам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Чье звено быстрее соберется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У солдат порядок строгий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Найди свое место в колонне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Мяч через сетку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Кто дальше бросит мешочек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Охотники и звери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Допрыгни до флажка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Игры, направленные на запоминание последовательности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Повтори движение»;  «Делай, как я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5288040" y="909720"/>
            <a:ext cx="377028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052640"/>
            <a:ext cx="462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Развитие слухового восприят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Игры, направленные на определение источника звука,  развитие слухового внимания,  ориентации в пространстве: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Где позвонили?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Жмурки с колокольчиком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Жмурки с голосом (хлопками)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У кого колокольчик?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Угадай, чей голосок» (с изменением голоса)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Улиточка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Лягушка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Часовой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гры с пособием «Парашют» («Поменяемся местами»,  «Кто спрятался». и др.)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Ветер и птицы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Игры, направленные на развитие ориентации в пространстве, координации движений,  чувства ритма: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Сколько раз ударю в бубен, столько раз подпрыгнуть нужно» (и с другими заданиями)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Тихо – громко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Точно повтори за  мной» (с хлопками и т.д)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Точно выполни задание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372744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59920"/>
            <a:ext cx="8686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Система работы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73" name="Group 2"/>
          <p:cNvGrpSpPr/>
          <p:nvPr/>
        </p:nvGrpSpPr>
        <p:grpSpPr>
          <a:xfrm>
            <a:off x="227160" y="1268280"/>
            <a:ext cx="8551800" cy="5139000"/>
            <a:chOff x="227160" y="1268280"/>
            <a:chExt cx="8551800" cy="5139000"/>
          </a:xfrm>
        </p:grpSpPr>
        <p:sp>
          <p:nvSpPr>
            <p:cNvPr id="274" name="AutoShape 3"/>
            <p:cNvSpPr/>
            <p:nvPr/>
          </p:nvSpPr>
          <p:spPr>
            <a:xfrm>
              <a:off x="304920" y="1268280"/>
              <a:ext cx="6832440" cy="93204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76320" tIns="103680" bIns="103680" anchor="ctr">
              <a:norm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Участие в педагогическом сове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4"/>
            <p:cNvSpPr/>
            <p:nvPr/>
          </p:nvSpPr>
          <p:spPr>
            <a:xfrm>
              <a:off x="227160" y="1951200"/>
              <a:ext cx="6548400" cy="94608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76320" tIns="103680" bIns="103680" anchor="ctr">
              <a:norm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зучение методической литературы, создание новых вариантов подвижных иг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"/>
            <p:cNvSpPr/>
            <p:nvPr/>
          </p:nvSpPr>
          <p:spPr>
            <a:xfrm>
              <a:off x="227160" y="2541600"/>
              <a:ext cx="7800840" cy="178416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76320" tIns="103680" bIns="103680" anchor="ctr">
              <a:norm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оздание условий для проведения игр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обогащение предметно-развивающей среды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6"/>
            <p:cNvSpPr/>
            <p:nvPr/>
          </p:nvSpPr>
          <p:spPr>
            <a:xfrm>
              <a:off x="304920" y="3252960"/>
              <a:ext cx="8173800" cy="208584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76320" tIns="103680" bIns="103680" anchor="ctr">
              <a:norm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рганизация сенсомоторных подвижных игр с детьми в помещении и на воздух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7"/>
            <p:cNvSpPr/>
            <p:nvPr/>
          </p:nvSpPr>
          <p:spPr>
            <a:xfrm>
              <a:off x="227160" y="3857760"/>
              <a:ext cx="8551800" cy="254952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76320" tIns="103680" bIns="103680" anchor="ctr">
              <a:norm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Franklin Gothic Book"/>
                </a:rPr>
                <a:t> </a:t>
              </a: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сестороннее развитие реб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8"/>
            <p:cNvSpPr/>
            <p:nvPr/>
          </p:nvSpPr>
          <p:spPr>
            <a:xfrm>
              <a:off x="6445080" y="1951200"/>
              <a:ext cx="605160" cy="60480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04800"/>
                <a:gd name="textAreaBottom" fmla="*/ 604800 h 604800"/>
              </a:gdLst>
              <a:ahLst/>
              <a:rect l="textAreaLeft" t="textAreaTop" r="textAreaRight" b="textAreaBottom"/>
              <a:pathLst>
                <a:path w="381" h="381">
                  <a:moveTo>
                    <a:pt x="0" y="2200"/>
                  </a:moveTo>
                  <a:lnTo>
                    <a:pt x="11044" y="2200"/>
                  </a:lnTo>
                  <a:lnTo>
                    <a:pt x="11044" y="0"/>
                  </a:lnTo>
                  <a:lnTo>
                    <a:pt x="-9358" y="0"/>
                  </a:lnTo>
                  <a:lnTo>
                    <a:pt x="-9358" y="2200"/>
                  </a:lnTo>
                  <a:lnTo>
                    <a:pt x="1685" y="2200"/>
                  </a:lnTo>
                  <a:lnTo>
                    <a:pt x="843" y="1685"/>
                  </a:lnTo>
                  <a:lnTo>
                    <a:pt x="0" y="2200"/>
                  </a:lnTo>
                  <a:close/>
                </a:path>
              </a:pathLst>
            </a:custGeom>
            <a:solidFill>
              <a:srgbClr val="f9dfcd">
                <a:alpha val="90000"/>
              </a:srgbClr>
            </a:solidFill>
            <a:ln w="25560">
              <a:solidFill>
                <a:srgbClr val="f9dfcd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9"/>
            <p:cNvSpPr/>
            <p:nvPr/>
          </p:nvSpPr>
          <p:spPr>
            <a:xfrm>
              <a:off x="6934320" y="3013200"/>
              <a:ext cx="604800" cy="604800"/>
            </a:xfrm>
            <a:custGeom>
              <a:avLst/>
              <a:gdLst/>
              <a:ahLst/>
              <a:rect l="l" t="t" r="r" b="b"/>
              <a:pathLst>
                <a:path w="381" h="381">
                  <a:moveTo>
                    <a:pt x="0" y="2200"/>
                  </a:moveTo>
                  <a:lnTo>
                    <a:pt x="11044" y="2200"/>
                  </a:lnTo>
                  <a:lnTo>
                    <a:pt x="11044" y="0"/>
                  </a:lnTo>
                  <a:lnTo>
                    <a:pt x="-9358" y="0"/>
                  </a:lnTo>
                  <a:lnTo>
                    <a:pt x="-9358" y="2200"/>
                  </a:lnTo>
                  <a:lnTo>
                    <a:pt x="1685" y="2200"/>
                  </a:lnTo>
                  <a:lnTo>
                    <a:pt x="843" y="1685"/>
                  </a:lnTo>
                  <a:lnTo>
                    <a:pt x="0" y="2200"/>
                  </a:lnTo>
                  <a:close/>
                </a:path>
              </a:pathLst>
            </a:custGeom>
            <a:solidFill>
              <a:srgbClr val="f9dfcd">
                <a:alpha val="90000"/>
              </a:srgbClr>
            </a:solidFill>
            <a:ln w="25560">
              <a:solidFill>
                <a:srgbClr val="f9dfcd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0"/>
            <p:cNvSpPr/>
            <p:nvPr/>
          </p:nvSpPr>
          <p:spPr>
            <a:xfrm>
              <a:off x="7423200" y="4060800"/>
              <a:ext cx="604800" cy="604800"/>
            </a:xfrm>
            <a:custGeom>
              <a:avLst/>
              <a:gdLst/>
              <a:ahLst/>
              <a:rect l="l" t="t" r="r" b="b"/>
              <a:pathLst>
                <a:path w="381" h="381">
                  <a:moveTo>
                    <a:pt x="0" y="2200"/>
                  </a:moveTo>
                  <a:lnTo>
                    <a:pt x="11044" y="2200"/>
                  </a:lnTo>
                  <a:lnTo>
                    <a:pt x="11044" y="0"/>
                  </a:lnTo>
                  <a:lnTo>
                    <a:pt x="-9358" y="0"/>
                  </a:lnTo>
                  <a:lnTo>
                    <a:pt x="-9358" y="2200"/>
                  </a:lnTo>
                  <a:lnTo>
                    <a:pt x="1685" y="2200"/>
                  </a:lnTo>
                  <a:lnTo>
                    <a:pt x="843" y="1685"/>
                  </a:lnTo>
                  <a:lnTo>
                    <a:pt x="0" y="2200"/>
                  </a:lnTo>
                  <a:close/>
                </a:path>
              </a:pathLst>
            </a:custGeom>
            <a:solidFill>
              <a:srgbClr val="f9dfcd">
                <a:alpha val="90000"/>
              </a:srgbClr>
            </a:solidFill>
            <a:ln w="25560">
              <a:solidFill>
                <a:srgbClr val="f9dfcd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1"/>
            <p:cNvSpPr/>
            <p:nvPr/>
          </p:nvSpPr>
          <p:spPr>
            <a:xfrm>
              <a:off x="7912080" y="5133960"/>
              <a:ext cx="604800" cy="604800"/>
            </a:xfrm>
            <a:custGeom>
              <a:avLst/>
              <a:gdLst/>
              <a:ahLst/>
              <a:rect l="l" t="t" r="r" b="b"/>
              <a:pathLst>
                <a:path w="381" h="381">
                  <a:moveTo>
                    <a:pt x="0" y="2200"/>
                  </a:moveTo>
                  <a:lnTo>
                    <a:pt x="11044" y="2200"/>
                  </a:lnTo>
                  <a:lnTo>
                    <a:pt x="11044" y="0"/>
                  </a:lnTo>
                  <a:lnTo>
                    <a:pt x="-9358" y="0"/>
                  </a:lnTo>
                  <a:lnTo>
                    <a:pt x="-9358" y="2200"/>
                  </a:lnTo>
                  <a:lnTo>
                    <a:pt x="1685" y="2200"/>
                  </a:lnTo>
                  <a:lnTo>
                    <a:pt x="843" y="1685"/>
                  </a:lnTo>
                  <a:lnTo>
                    <a:pt x="0" y="2200"/>
                  </a:lnTo>
                  <a:close/>
                </a:path>
              </a:pathLst>
            </a:custGeom>
            <a:solidFill>
              <a:srgbClr val="f9dfcd">
                <a:alpha val="90000"/>
              </a:srgbClr>
            </a:solidFill>
            <a:ln w="25560">
              <a:solidFill>
                <a:srgbClr val="f9dfcd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Литератур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енгер Л.А, Пилюгина Е.Г. Воспитание сенсорной культуры ребенка:</a:t>
            </a:r>
            <a:br>
              <a:rPr sz="2000"/>
            </a:b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нига для воспитателей детского сада.- М.: Просвещение , 1998 .- 144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Е.А. Тимофеева. Подвижные игры с детьми младшего дошкольного возраста.- М.:  Просвещение, 1979.-9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ccccff"/>
                </a:solidFill>
                <a:uFillTx/>
                <a:latin typeface="Franklin Gothic Book"/>
                <a:hlinkClick r:id="rId1"/>
              </a:rPr>
              <a:t>https://podrastu.ru/psikhika/vospriyatie/vosprijatie-rebenk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304920" y="692280"/>
            <a:ext cx="86868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Мои конта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МБДОУ «Детский сад № 21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г. Балахна, Нижегородская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чта: usp-elena.mavrova@yandex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4988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 rot="10800000">
            <a:off x="456840" y="6008760"/>
            <a:ext cx="84582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457200" y="404640"/>
            <a:ext cx="300816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</a:rPr>
              <a:t>Цел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692360" y="260280"/>
            <a:ext cx="722304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ыявить взаимосвязь сенсорного развития с развитием мелкой и крупной моторики руки и двигательной координации детей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звивать профессиональные умения педагогов наполнять подвижные игры сенсорным содержанием, обеспечив всестороннее развития ребенка-дошк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ть характеристику понятию «сенсомоторика»  и проанализировать связь сенсорики и мотор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ределить особенности формирования сенсомоторных навыков у детей дошкольного возрас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точнить  способы развития сенсомоторики у детей дошкольного 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анализировать подвижные игры для различного возраста периода дошкольного дет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304920" y="1295280"/>
            <a:ext cx="82278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енсомоторика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стоит из двух слов (sensus – чувство, ощущение и motor – двига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енсомоторное развитие дошкольника – это развитие его восприятия и формирование представлений о внешних свойствах предм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енсомоторное развитие составляет фундамент общего умственного развития до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Через какие  познавательные процессы ребенок познает мир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488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рительное восприятие — ребенок получает информацию посредством зрительных образов. Информация обрабатывается визуально, через зрительную анализаторную сис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луховое  — информация поступает благодаря фонематической системе звуков, через ритм и мелод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актильное — здесь задействованы кожные и двигательные ощу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сязательное и обанятельное - восприятие  запахов, вкуса окружающих предм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Возрастные особенности сенсомоторного развития детей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04920" y="1484280"/>
            <a:ext cx="8299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marL="339480" indent="-33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нний возраст (1-3 года) – предметно-манипулятивн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Младший дошкольный возраст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3-4 года)– восприятие носит предметно-манипулятивный харак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Средний дошкольный возраст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4-5 лет) – преобладают процессы сравнения, сопоставления свойств предм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Старший дошкольный возраст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5-7 лет) – познание приобретает характер экспериментирования, исследователь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школьный возраст (3-7 лет)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рительные восприятия становятся ведущими при ознакомлении с окружающ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сваиваются сенсорные этало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зрастает целенаправленность, планомерность, управляемость, осознанность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 установлением взаимосвязи с речью и мышлением, восприятие интеллектуализируется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7628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Способы развития сенсомоторики  у детей дошкольного возрас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99" name="Group 2"/>
          <p:cNvGrpSpPr/>
          <p:nvPr/>
        </p:nvGrpSpPr>
        <p:grpSpPr>
          <a:xfrm>
            <a:off x="1258920" y="1432080"/>
            <a:ext cx="6017760" cy="4157280"/>
            <a:chOff x="1258920" y="1432080"/>
            <a:chExt cx="6017760" cy="4157280"/>
          </a:xfrm>
        </p:grpSpPr>
        <p:sp>
          <p:nvSpPr>
            <p:cNvPr id="200" name="AutoShape 3"/>
            <p:cNvSpPr/>
            <p:nvPr/>
          </p:nvSpPr>
          <p:spPr>
            <a:xfrm>
              <a:off x="3634560" y="1432080"/>
              <a:ext cx="1235520" cy="84168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Дидактические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4"/>
            <p:cNvSpPr/>
            <p:nvPr/>
          </p:nvSpPr>
          <p:spPr>
            <a:xfrm rot="840000">
              <a:off x="4889880" y="1860840"/>
              <a:ext cx="83520" cy="213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46" h="169">
                  <a:moveTo>
                    <a:pt x="0" y="6014"/>
                  </a:moveTo>
                  <a:lnTo>
                    <a:pt x="302" y="6014"/>
                  </a:lnTo>
                  <a:lnTo>
                    <a:pt x="302" y="0"/>
                  </a:lnTo>
                  <a:lnTo>
                    <a:pt x="208" y="375"/>
                  </a:lnTo>
                  <a:lnTo>
                    <a:pt x="302" y="749"/>
                  </a:lnTo>
                  <a:lnTo>
                    <a:pt x="302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5"/>
            <p:cNvSpPr/>
            <p:nvPr/>
          </p:nvSpPr>
          <p:spPr>
            <a:xfrm>
              <a:off x="4993920" y="1661040"/>
              <a:ext cx="1206720" cy="84060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Пальчиковая 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6"/>
            <p:cNvSpPr/>
            <p:nvPr/>
          </p:nvSpPr>
          <p:spPr>
            <a:xfrm rot="3120000">
              <a:off x="5995080" y="2303640"/>
              <a:ext cx="63360" cy="307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50" h="169">
                  <a:moveTo>
                    <a:pt x="0" y="6014"/>
                  </a:moveTo>
                  <a:lnTo>
                    <a:pt x="331" y="6014"/>
                  </a:lnTo>
                  <a:lnTo>
                    <a:pt x="331" y="0"/>
                  </a:lnTo>
                  <a:lnTo>
                    <a:pt x="228" y="375"/>
                  </a:lnTo>
                  <a:lnTo>
                    <a:pt x="331" y="749"/>
                  </a:lnTo>
                  <a:lnTo>
                    <a:pt x="331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7"/>
            <p:cNvSpPr/>
            <p:nvPr/>
          </p:nvSpPr>
          <p:spPr>
            <a:xfrm>
              <a:off x="5871600" y="2406600"/>
              <a:ext cx="1192320" cy="87840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Логоритмические упраж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8"/>
            <p:cNvSpPr/>
            <p:nvPr/>
          </p:nvSpPr>
          <p:spPr>
            <a:xfrm rot="4920000">
              <a:off x="6544440" y="3169080"/>
              <a:ext cx="44280" cy="306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35" h="169">
                  <a:moveTo>
                    <a:pt x="0" y="6014"/>
                  </a:moveTo>
                  <a:lnTo>
                    <a:pt x="231" y="6014"/>
                  </a:lnTo>
                  <a:lnTo>
                    <a:pt x="231" y="0"/>
                  </a:lnTo>
                  <a:lnTo>
                    <a:pt x="159" y="375"/>
                  </a:lnTo>
                  <a:lnTo>
                    <a:pt x="231" y="749"/>
                  </a:lnTo>
                  <a:lnTo>
                    <a:pt x="231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9"/>
            <p:cNvSpPr/>
            <p:nvPr/>
          </p:nvSpPr>
          <p:spPr>
            <a:xfrm>
              <a:off x="6049800" y="3362400"/>
              <a:ext cx="1226880" cy="85968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физкультмину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0"/>
            <p:cNvSpPr/>
            <p:nvPr/>
          </p:nvSpPr>
          <p:spPr>
            <a:xfrm rot="6960000">
              <a:off x="6341040" y="4066200"/>
              <a:ext cx="47880" cy="3067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38" h="169">
                  <a:moveTo>
                    <a:pt x="0" y="6014"/>
                  </a:moveTo>
                  <a:lnTo>
                    <a:pt x="248" y="6014"/>
                  </a:lnTo>
                  <a:lnTo>
                    <a:pt x="248" y="0"/>
                  </a:lnTo>
                  <a:lnTo>
                    <a:pt x="171" y="375"/>
                  </a:lnTo>
                  <a:lnTo>
                    <a:pt x="248" y="749"/>
                  </a:lnTo>
                  <a:lnTo>
                    <a:pt x="248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1"/>
            <p:cNvSpPr/>
            <p:nvPr/>
          </p:nvSpPr>
          <p:spPr>
            <a:xfrm>
              <a:off x="5437440" y="4218480"/>
              <a:ext cx="1246680" cy="86976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Подвижные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2"/>
            <p:cNvSpPr/>
            <p:nvPr/>
          </p:nvSpPr>
          <p:spPr>
            <a:xfrm rot="8760000">
              <a:off x="5477400" y="4808160"/>
              <a:ext cx="52560" cy="2138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29" h="169">
                  <a:moveTo>
                    <a:pt x="0" y="6014"/>
                  </a:moveTo>
                  <a:lnTo>
                    <a:pt x="192" y="6014"/>
                  </a:lnTo>
                  <a:lnTo>
                    <a:pt x="192" y="0"/>
                  </a:lnTo>
                  <a:lnTo>
                    <a:pt x="132" y="375"/>
                  </a:lnTo>
                  <a:lnTo>
                    <a:pt x="192" y="749"/>
                  </a:lnTo>
                  <a:lnTo>
                    <a:pt x="192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3"/>
            <p:cNvSpPr/>
            <p:nvPr/>
          </p:nvSpPr>
          <p:spPr>
            <a:xfrm>
              <a:off x="4295880" y="4767840"/>
              <a:ext cx="1283040" cy="82152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Художественно-творческая деятель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4"/>
            <p:cNvSpPr/>
            <p:nvPr/>
          </p:nvSpPr>
          <p:spPr>
            <a:xfrm rot="10800000">
              <a:off x="4210560" y="5072040"/>
              <a:ext cx="59760" cy="213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33" h="169">
                  <a:moveTo>
                    <a:pt x="0" y="6014"/>
                  </a:moveTo>
                  <a:lnTo>
                    <a:pt x="216" y="6014"/>
                  </a:lnTo>
                  <a:lnTo>
                    <a:pt x="216" y="0"/>
                  </a:lnTo>
                  <a:lnTo>
                    <a:pt x="149" y="375"/>
                  </a:lnTo>
                  <a:lnTo>
                    <a:pt x="216" y="749"/>
                  </a:lnTo>
                  <a:lnTo>
                    <a:pt x="216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5"/>
            <p:cNvSpPr/>
            <p:nvPr/>
          </p:nvSpPr>
          <p:spPr>
            <a:xfrm>
              <a:off x="2952720" y="4770360"/>
              <a:ext cx="1226880" cy="81648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Театрализованная деятель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6"/>
            <p:cNvSpPr/>
            <p:nvPr/>
          </p:nvSpPr>
          <p:spPr>
            <a:xfrm rot="12780000">
              <a:off x="2944800" y="4813560"/>
              <a:ext cx="85680" cy="213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47" h="169">
                  <a:moveTo>
                    <a:pt x="0" y="6014"/>
                  </a:moveTo>
                  <a:lnTo>
                    <a:pt x="308" y="6014"/>
                  </a:lnTo>
                  <a:lnTo>
                    <a:pt x="308" y="0"/>
                  </a:lnTo>
                  <a:lnTo>
                    <a:pt x="212" y="375"/>
                  </a:lnTo>
                  <a:lnTo>
                    <a:pt x="308" y="749"/>
                  </a:lnTo>
                  <a:lnTo>
                    <a:pt x="308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7"/>
            <p:cNvSpPr/>
            <p:nvPr/>
          </p:nvSpPr>
          <p:spPr>
            <a:xfrm>
              <a:off x="1805760" y="4251240"/>
              <a:ext cx="1210320" cy="82044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Игры с песком, вод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8"/>
            <p:cNvSpPr/>
            <p:nvPr/>
          </p:nvSpPr>
          <p:spPr>
            <a:xfrm rot="14700000">
              <a:off x="2099160" y="4080960"/>
              <a:ext cx="60840" cy="3067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48" h="169">
                  <a:moveTo>
                    <a:pt x="0" y="6014"/>
                  </a:moveTo>
                  <a:lnTo>
                    <a:pt x="315" y="6014"/>
                  </a:lnTo>
                  <a:lnTo>
                    <a:pt x="315" y="0"/>
                  </a:lnTo>
                  <a:lnTo>
                    <a:pt x="217" y="375"/>
                  </a:lnTo>
                  <a:lnTo>
                    <a:pt x="315" y="749"/>
                  </a:lnTo>
                  <a:lnTo>
                    <a:pt x="315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9"/>
            <p:cNvSpPr/>
            <p:nvPr/>
          </p:nvSpPr>
          <p:spPr>
            <a:xfrm>
              <a:off x="1258920" y="3362400"/>
              <a:ext cx="1166760" cy="85824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Игы с массажер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20"/>
            <p:cNvSpPr/>
            <p:nvPr/>
          </p:nvSpPr>
          <p:spPr>
            <a:xfrm rot="16680000">
              <a:off x="1910880" y="3161160"/>
              <a:ext cx="56520" cy="3067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45" h="169">
                  <a:moveTo>
                    <a:pt x="0" y="6014"/>
                  </a:moveTo>
                  <a:lnTo>
                    <a:pt x="297" y="6014"/>
                  </a:lnTo>
                  <a:lnTo>
                    <a:pt x="297" y="0"/>
                  </a:lnTo>
                  <a:lnTo>
                    <a:pt x="205" y="375"/>
                  </a:lnTo>
                  <a:lnTo>
                    <a:pt x="297" y="749"/>
                  </a:lnTo>
                  <a:lnTo>
                    <a:pt x="297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21"/>
            <p:cNvSpPr/>
            <p:nvPr/>
          </p:nvSpPr>
          <p:spPr>
            <a:xfrm>
              <a:off x="1431360" y="2430720"/>
              <a:ext cx="1210320" cy="82908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Навыки в повседненвной жизн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22"/>
            <p:cNvSpPr/>
            <p:nvPr/>
          </p:nvSpPr>
          <p:spPr>
            <a:xfrm rot="18660000">
              <a:off x="2450160" y="2333880"/>
              <a:ext cx="60840" cy="3067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48" h="169">
                  <a:moveTo>
                    <a:pt x="0" y="6014"/>
                  </a:moveTo>
                  <a:lnTo>
                    <a:pt x="316" y="6014"/>
                  </a:lnTo>
                  <a:lnTo>
                    <a:pt x="316" y="0"/>
                  </a:lnTo>
                  <a:lnTo>
                    <a:pt x="218" y="375"/>
                  </a:lnTo>
                  <a:lnTo>
                    <a:pt x="316" y="749"/>
                  </a:lnTo>
                  <a:lnTo>
                    <a:pt x="316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23"/>
            <p:cNvSpPr/>
            <p:nvPr/>
          </p:nvSpPr>
          <p:spPr>
            <a:xfrm>
              <a:off x="2352960" y="1693800"/>
              <a:ext cx="1166760" cy="85824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физкультмину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24"/>
            <p:cNvSpPr/>
            <p:nvPr/>
          </p:nvSpPr>
          <p:spPr>
            <a:xfrm rot="20580000">
              <a:off x="3530160" y="1884600"/>
              <a:ext cx="87120" cy="2138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48" h="169">
                  <a:moveTo>
                    <a:pt x="0" y="6014"/>
                  </a:moveTo>
                  <a:lnTo>
                    <a:pt x="312" y="6014"/>
                  </a:lnTo>
                  <a:lnTo>
                    <a:pt x="312" y="0"/>
                  </a:lnTo>
                  <a:lnTo>
                    <a:pt x="215" y="375"/>
                  </a:lnTo>
                  <a:lnTo>
                    <a:pt x="312" y="749"/>
                  </a:lnTo>
                  <a:lnTo>
                    <a:pt x="312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Дидактические игры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3311280" cy="2489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3367080" cy="2525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3"/>
          <a:stretch/>
        </p:blipFill>
        <p:spPr>
          <a:xfrm>
            <a:off x="1042920" y="4149720"/>
            <a:ext cx="3278160" cy="2459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4"/>
          <a:stretch/>
        </p:blipFill>
        <p:spPr>
          <a:xfrm>
            <a:off x="4859280" y="414972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Пальчиковая гимнасти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616720" cy="42116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8T14:55:40Z</dcterms:created>
  <dc:creator>Елена</dc:creator>
  <dc:description/>
  <dc:language>en-US</dc:language>
  <cp:lastModifiedBy>user</cp:lastModifiedBy>
  <dcterms:modified xsi:type="dcterms:W3CDTF">2020-09-07T10:34:32Z</dcterms:modified>
  <cp:revision>89</cp:revision>
  <dc:subject/>
  <dc:title>Особености сенсомоторного развития детей дошкольного возрас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25</vt:r8>
  </property>
</Properties>
</file>