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EA1A-988F-4A21-B7D0-5F025AE3AF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8BDFC-6099-462F-AA22-1FE268416C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74552-2328-4CB3-ABE4-EB6B40226D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BF4EA-CE94-433C-B3A2-3E551AE6DE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65D59-2533-4A77-A770-DF7BA3BEC8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E4E9B-DEF5-497D-9163-E763B7DD7B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8CB41-EFF5-4B75-9196-7D2099FC13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86E2A-C79D-4F97-8338-C932D87EEA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1F2AD-22E5-4000-A40F-D683E879B8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5AAE8-B370-4F3A-BC47-928B2C8A19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CCA2-C4F4-4F4E-A66B-F0145DFAE9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8C53B-54A6-4EA4-8664-E936347C33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0022A-1601-4CF7-BAC3-96A0A12F4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F25C0-FBDF-4DCF-81AB-23D90C6E05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6D959-7CA5-4425-BC76-C36808C2CF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CB85C-9310-4B62-B366-53BA09C461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7F98D-606B-44E7-B9BA-EC2CA0C1F1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ED331-ECED-40A0-86AC-A6B99DFF9D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09EF6-9888-484C-92E9-6128A3868A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CCFAF-1F17-4DEA-AC1A-5F5CFB71F1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F77C3-9A90-4172-82BB-892833C968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B5607-B573-4D02-9C62-D030C59762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52165-CA55-4689-877B-DEF50770DC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49361-8704-49EA-B1E8-ABF8D648A6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0B93-89B9-47B9-AA98-1CCF8760FA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C4484-72E9-4E38-84C6-83DEA7E6AE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0029-306B-4AAA-B6A5-7E68DEAC2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F54D-C98A-4B65-B792-B9B030F7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F51B-C477-4EAA-B22B-F196D6B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07F2-C80C-45EA-8037-5CA638ED3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122A5-7CF5-4700-81D3-8B5EF07E9D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FAB58-5FE6-44FF-A2E3-1D4272C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3106-8405-42C7-87F7-9DF07F7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72288-9786-484D-9F77-540C056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16F9-7590-4D6B-83C9-EC155D0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0604F-A83B-4FF5-A78A-48254419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90A2D-A398-4EAE-B63B-AAAC23FE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1073-73D2-4997-96C5-C2A621C1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824E7-D243-45E8-B760-635CB41C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BC3E-7F8E-4895-8625-EE0D67C6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00833-8AB4-4299-8660-BB0F1DA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A391-14B7-40D8-8744-3800C99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1AF95-A386-4A11-95B4-C7122721F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B1F-E9FA-4191-80AD-3CF840252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CFB4-A648-4C34-A1A5-A59AE709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BDC-BA7E-43D6-80F7-E065958E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BF3-C851-41EA-BBEC-EF8F02C1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C12F-A56E-457C-8696-54AB8887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F8DB-0473-487B-A011-6E9E21F3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69B9-84D2-40D6-B5C2-5E1DFF9B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9E8B-EFF5-4B78-81DE-256D798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3B0D-0927-4EA5-A9E8-7C6F9436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896F-AC3A-4A38-BF49-F6BBDEB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BA0-2FB9-469E-B802-D49E589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1484-E95D-4141-9574-AFA6F16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A580-0196-454A-9A47-1E2FED1F2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B5D80-EBA9-47F7-A62C-60A51EFF5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E84B8-4690-426D-9095-11C92D4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011D3-8629-4498-83CE-6285EE2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3B23-E9B6-4431-990F-889CCC8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340BD-AB64-4A52-8F49-534E0EB0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4D397-DBBE-46A2-810E-86D2DDF9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68520-F5D4-45D6-A5F9-B24BAE33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243DB-5C41-4E06-BF5B-81F36739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7E8CE-A8D7-4D8B-821C-C2530AD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27DA2-0C46-4AAA-BB4E-6D078C3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E6160-D1A9-41CE-A051-60DB110D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39E49-6D79-4388-AF2B-4BB3434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2C6C1-6A4A-4795-85E3-D2641C99F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B124-8B73-40A6-978C-6A2A3558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0086-2192-486E-967E-95868AB3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3A06-DB9D-422A-9ECC-C9DFA697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4CB1-4F2F-49E2-9505-4B5AE74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89BE-CFEA-42BB-BCCF-CA4742CB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67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F1896C6-5A69-45BB-B98D-DF092B6054DA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1000"/>
          </a:bodyPr>
          <a:p>
            <a:pPr marL="31212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12120" indent="-3121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2DE5DD3-9352-4F39-A5E3-0C75B355C262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14440" y="584820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67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609120"/>
            <a:ext cx="3006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2320" indent="-20232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B481AC2-B861-4411-A1CA-FEF3897C6A33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456840"/>
            <a:ext cx="8685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4189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95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50200" indent="-250200">
              <a:lnSpc>
                <a:spcPct val="9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7.9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CE9AB4E-2F7F-4C84-BFD2-F16B60E963BD}" type="slidenum">
              <a:rPr b="0" lang="ru-RU" sz="1200" spc="-1" strike="noStrike">
                <a:solidFill>
                  <a:srgbClr val="d38e28"/>
                </a:solidFill>
                <a:latin typeface="Franklin Gothic Boo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podrastu.ru/psikhika/vospriyatie/vosprijatie-rebenka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980640"/>
            <a:ext cx="8458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Особенности сенсомоторного развития, крупной и мелкой моторики и двигательной координации у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24000" y="4437000"/>
            <a:ext cx="842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дготовил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нструктор по физической культу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врова Е.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БДОУ «Детский сад № 21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г . Балахна, Нижегородская об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Логоритмика/физкультминутк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2360" y="1557360"/>
            <a:ext cx="4191120" cy="3311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3914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Театрализованная деятельност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52360" y="1413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4572000" y="2925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Художественно-творческая деятельност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343400" cy="288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Шариковые ванны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90760" cy="3070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Игры с песком и водой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01680" y="1298520"/>
            <a:ext cx="4383000" cy="2922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835520" y="3716280"/>
            <a:ext cx="38624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Игры с массажерам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859280" y="3375000"/>
            <a:ext cx="4032360" cy="304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«Сенсорная тропа для ног»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19308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навыки в повседневной жизни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52360" y="1413000"/>
            <a:ext cx="4248360" cy="2719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младший/средни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4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Развитие зрительного восприят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Игры, направленные на развитие зрительного восприятия, координации движений, ориентации в пространств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свой цвет» (кубики, флажки, листочки и др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обери по цвету (форме)» -  «Салют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арный листик (снежинку)» (ср.гр – по двум признакам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Цветные автомобили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Закати мяч на горк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бей кеглю своего цвета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игрушк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свой коврик» (плоскостные фигуры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ики и кубики» (по 2 признакам: по цвету и форме; плоскостные и объемные фигуры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973600" cy="239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300384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младший/средни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680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Развитие слухового восприят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кто позвал?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где звенел колокольчик?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где постучали?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редмет, который звучал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Громко – тихо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Развитие тактильных ощущ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редмет, как в «Чудесном мешочке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ики и кубики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19904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04920" y="1557360"/>
            <a:ext cx="86868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Сенсомоторное воспитание способ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Интеллектуальному развит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Успешной готовности детей к обучению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Развитию у детей мелкой и крупной моторики рук и успешному овладеванию навыками письма и навыками ручной уме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Психоэмоциональному благополуч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старший дошкольны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597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витие зрительного восприятия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 с карточками-схемам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делай фигуру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Подбери как можно больше предметов по схеме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гадай, что за игра?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обери и повтори последовательность упражнения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зрительное восприятие цвета, формы, 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Геометрические снежинки (листочки)» (, двум, трем признакам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гры с пособием «Парашют» (Найди цвет», «Поменяемся местами»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развивающие осязательное восприятие объемных предметов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ики и кубики» и другие геометрические тел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похожий на циллиндр»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то быстрее выложит  свой коврик» (плоскостные и объемные фигуры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3032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одвижные игры (старший дошкольный возраст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5249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координацию движений, ориентацию в пространстве по зрительным ориентирам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Чье звено быстрее соберется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 солдат порядок строгий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Найди свое место в колонне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яч через сетку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то дальше бросит мешочек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Охотники и звери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Допрыгни до флажк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запоминание последовательност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Повтори движение»;  «Делай, как я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5288040" y="909720"/>
            <a:ext cx="37702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462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Развитие слухового восприят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определение источника звука,  развитие слухового внимания,  ориентации в пространстве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Где позвонили?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Жмурки с колокольчиком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Жмурки с голосом (хлопками)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 кого колокольчик?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гадай, чей голосок» (с изменением голоса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Улиточка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Лягушка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Часовой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гры с пособием «Парашют» («Поменяемся местами»,  «Кто спрятался». и др.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Ветер и птицы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гры, направленные на развитие ориентации в пространстве, координации движений,  чувства ритма: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Сколько раз ударю в бубен, столько раз подпрыгнуть нужно» (и с другими заданиями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ихо – громко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очно повтори за  мной» (с хлопками и т.д)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очно выполни задание»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72744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истема работы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227160" y="1268280"/>
            <a:ext cx="8551800" cy="5139000"/>
            <a:chOff x="227160" y="1268280"/>
            <a:chExt cx="8551800" cy="5139000"/>
          </a:xfrm>
        </p:grpSpPr>
        <p:sp>
          <p:nvSpPr>
            <p:cNvPr id="274" name="AutoShape 3"/>
            <p:cNvSpPr/>
            <p:nvPr/>
          </p:nvSpPr>
          <p:spPr>
            <a:xfrm>
              <a:off x="304920" y="1268280"/>
              <a:ext cx="6832440" cy="9320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частие в педагогическом сове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>
              <a:off x="227160" y="1951200"/>
              <a:ext cx="6548400" cy="9460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зучение методической литературы, создание новых вариантов подвижных иг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>
              <a:off x="227160" y="2541600"/>
              <a:ext cx="7800840" cy="178416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оздание условий для проведения иг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обогащение предметно-развивающей сре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>
              <a:off x="304920" y="3252960"/>
              <a:ext cx="8173800" cy="20858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рганизация сенсомоторных подвижных игр с детьми в помещении и на воздух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7"/>
            <p:cNvSpPr/>
            <p:nvPr/>
          </p:nvSpPr>
          <p:spPr>
            <a:xfrm>
              <a:off x="227160" y="3857760"/>
              <a:ext cx="8551800" cy="254952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76320" tIns="103680" bIns="103680" anchor="ctr">
              <a:norm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Franklin Gothic Book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сестороннее развитие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>
              <a:off x="6445080" y="1951200"/>
              <a:ext cx="605160" cy="60480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604800"/>
                <a:gd name="textAreaBottom" fmla="*/ 604800 h 604800"/>
              </a:gdLst>
              <a:ahLst/>
              <a:rect l="textAreaLeft" t="textAreaTop" r="textAreaRight" b="textAreaBottom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9"/>
            <p:cNvSpPr/>
            <p:nvPr/>
          </p:nvSpPr>
          <p:spPr>
            <a:xfrm>
              <a:off x="6934320" y="3013200"/>
              <a:ext cx="604800" cy="6048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0"/>
            <p:cNvSpPr/>
            <p:nvPr/>
          </p:nvSpPr>
          <p:spPr>
            <a:xfrm>
              <a:off x="7423200" y="4060800"/>
              <a:ext cx="604800" cy="6048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1"/>
            <p:cNvSpPr/>
            <p:nvPr/>
          </p:nvSpPr>
          <p:spPr>
            <a:xfrm>
              <a:off x="7912080" y="5133960"/>
              <a:ext cx="604800" cy="6048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2200"/>
                  </a:moveTo>
                  <a:lnTo>
                    <a:pt x="11044" y="2200"/>
                  </a:lnTo>
                  <a:lnTo>
                    <a:pt x="11044" y="0"/>
                  </a:lnTo>
                  <a:lnTo>
                    <a:pt x="-9358" y="0"/>
                  </a:lnTo>
                  <a:lnTo>
                    <a:pt x="-9358" y="2200"/>
                  </a:lnTo>
                  <a:lnTo>
                    <a:pt x="1685" y="2200"/>
                  </a:lnTo>
                  <a:lnTo>
                    <a:pt x="843" y="1685"/>
                  </a:lnTo>
                  <a:lnTo>
                    <a:pt x="0" y="2200"/>
                  </a:lnTo>
                  <a:close/>
                </a:path>
              </a:pathLst>
            </a:custGeom>
            <a:solidFill>
              <a:srgbClr val="f9dfcd">
                <a:alpha val="90000"/>
              </a:srgbClr>
            </a:solidFill>
            <a:ln w="25560">
              <a:solidFill>
                <a:srgbClr val="f9dfcd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Литерату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енгер Л.А, Пилюгина Е.Г. Воспитание сенсорной культуры ребенка: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нига для воспитателей детского сада.- М.: Просвещение , 1998 .- 14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Е.А. Тимофеева. Подвижные игры с детьми младшего дошкольного возраста.- М.:  Просвещение, 1979.-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Franklin Gothic Book"/>
                <a:hlinkClick r:id="rId1"/>
              </a:rPr>
              <a:t>https://podrastu.ru/psikhika/vospriyatie/vosprijatie-rebenk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304920" y="692280"/>
            <a:ext cx="86868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ои конт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БДОУ «Детский сад № 2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. Балахна,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чта: usp-elena.mavrova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498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 rot="10800000">
            <a:off x="456840" y="6008760"/>
            <a:ext cx="8458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457200" y="404640"/>
            <a:ext cx="30081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Цел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692360" y="260280"/>
            <a:ext cx="72230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явить взаимосвязь сенсорного развития с развитием мелкой и крупной моторики руки и двигательной координации дет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вивать профессиональные умения педагогов наполнять подвижные игры сенсорным содержанием, обеспечив всестороннее развития ребенка-дошк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ть характеристику понятию «сенсомоторика»  и проанализировать связь сенсорики и мотор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еделить особенности формирования сенсомоторных навыков у детей дошкольного возрас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точнить  способы развития сенсомоторики у детей дошкольного 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анализировать подвижные игры для различного возраста периода дошкольно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04920" y="1295280"/>
            <a:ext cx="82278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сомоторика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стоит из двух слов (sensus – чувство, ощущение и motor – двиг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сомоторное развитие дошкольника – это развитие его восприятия и формирование представлений о внешних свойства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сомоторное развитие составляет фундамент общего умственного развития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Через какие  познавательные процессы ребенок познает мир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рительное восприятие — ребенок получает информацию посредством зрительных образов. Информация обрабатывается визуально, через зрительную анализаторн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луховое  — информация поступает благодаря фонематической системе звуков, через ритм и мелод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актильное — здесь задействованы кожные и двигательные ощу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язательное и обанятельное - восприятие  запахов, вкуса окружающи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Возрастные особенности сенсомоторного развития детей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04920" y="1484280"/>
            <a:ext cx="829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нний возраст (1-3 года) – предметно-манипулятив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Младший дошкольный возраст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3-4 года)– восприятие носит предметно-манипулятивный харак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Средний дошкольный возраст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4-5 лет) – преобладают процессы сравнения, сопоставления свойств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Старший дошкольный возраст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5-7 лет) – познание приобретает характер экспериментирования, исследов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школьный возраст (3-7 лет)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рительные восприятия становятся ведущими при ознакомлении с окружающ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ваиваются сенсорные этал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растает целенаправленность, планомерность, управляемость, осознанность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установлением взаимосвязи с речью и мышлением, восприятие интеллектуализируетс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7628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пособы развития сенсомоторики  у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258920" y="1432080"/>
            <a:ext cx="6017760" cy="4157280"/>
            <a:chOff x="1258920" y="1432080"/>
            <a:chExt cx="6017760" cy="4157280"/>
          </a:xfrm>
        </p:grpSpPr>
        <p:sp>
          <p:nvSpPr>
            <p:cNvPr id="200" name="AutoShape 3"/>
            <p:cNvSpPr/>
            <p:nvPr/>
          </p:nvSpPr>
          <p:spPr>
            <a:xfrm>
              <a:off x="3634560" y="1432080"/>
              <a:ext cx="1235520" cy="8416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Дидактически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 rot="840000">
              <a:off x="4889880" y="1860840"/>
              <a:ext cx="83520" cy="213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46" h="169">
                  <a:moveTo>
                    <a:pt x="0" y="6014"/>
                  </a:moveTo>
                  <a:lnTo>
                    <a:pt x="302" y="6014"/>
                  </a:lnTo>
                  <a:lnTo>
                    <a:pt x="302" y="0"/>
                  </a:lnTo>
                  <a:lnTo>
                    <a:pt x="208" y="375"/>
                  </a:lnTo>
                  <a:lnTo>
                    <a:pt x="302" y="749"/>
                  </a:lnTo>
                  <a:lnTo>
                    <a:pt x="302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4993920" y="1661040"/>
              <a:ext cx="1206720" cy="84060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Пальчикова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 rot="3120000">
              <a:off x="5995080" y="2303640"/>
              <a:ext cx="63360" cy="307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50" h="169">
                  <a:moveTo>
                    <a:pt x="0" y="6014"/>
                  </a:moveTo>
                  <a:lnTo>
                    <a:pt x="331" y="6014"/>
                  </a:lnTo>
                  <a:lnTo>
                    <a:pt x="331" y="0"/>
                  </a:lnTo>
                  <a:lnTo>
                    <a:pt x="228" y="375"/>
                  </a:lnTo>
                  <a:lnTo>
                    <a:pt x="331" y="749"/>
                  </a:lnTo>
                  <a:lnTo>
                    <a:pt x="331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5871600" y="2406600"/>
              <a:ext cx="1192320" cy="87840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Логоритмические упраж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 rot="4920000">
              <a:off x="6544440" y="3169080"/>
              <a:ext cx="44280" cy="306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5" h="169">
                  <a:moveTo>
                    <a:pt x="0" y="6014"/>
                  </a:moveTo>
                  <a:lnTo>
                    <a:pt x="231" y="6014"/>
                  </a:lnTo>
                  <a:lnTo>
                    <a:pt x="231" y="0"/>
                  </a:lnTo>
                  <a:lnTo>
                    <a:pt x="159" y="375"/>
                  </a:lnTo>
                  <a:lnTo>
                    <a:pt x="231" y="749"/>
                  </a:lnTo>
                  <a:lnTo>
                    <a:pt x="231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6049800" y="3362400"/>
              <a:ext cx="1226880" cy="8596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физкультмину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 rot="6960000">
              <a:off x="6341040" y="4066200"/>
              <a:ext cx="47880" cy="306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8" h="169">
                  <a:moveTo>
                    <a:pt x="0" y="6014"/>
                  </a:moveTo>
                  <a:lnTo>
                    <a:pt x="248" y="6014"/>
                  </a:lnTo>
                  <a:lnTo>
                    <a:pt x="248" y="0"/>
                  </a:lnTo>
                  <a:lnTo>
                    <a:pt x="171" y="375"/>
                  </a:lnTo>
                  <a:lnTo>
                    <a:pt x="248" y="749"/>
                  </a:lnTo>
                  <a:lnTo>
                    <a:pt x="248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5437440" y="4218480"/>
              <a:ext cx="1246680" cy="86976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Подвиж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 rot="8760000">
              <a:off x="5477400" y="4808160"/>
              <a:ext cx="52560" cy="2138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9" h="169">
                  <a:moveTo>
                    <a:pt x="0" y="6014"/>
                  </a:moveTo>
                  <a:lnTo>
                    <a:pt x="192" y="6014"/>
                  </a:lnTo>
                  <a:lnTo>
                    <a:pt x="192" y="0"/>
                  </a:lnTo>
                  <a:lnTo>
                    <a:pt x="132" y="375"/>
                  </a:lnTo>
                  <a:lnTo>
                    <a:pt x="192" y="749"/>
                  </a:lnTo>
                  <a:lnTo>
                    <a:pt x="192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3"/>
            <p:cNvSpPr/>
            <p:nvPr/>
          </p:nvSpPr>
          <p:spPr>
            <a:xfrm>
              <a:off x="4295880" y="4767840"/>
              <a:ext cx="1283040" cy="82152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Художественно-творческая 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4"/>
            <p:cNvSpPr/>
            <p:nvPr/>
          </p:nvSpPr>
          <p:spPr>
            <a:xfrm rot="10800000">
              <a:off x="4210560" y="5072040"/>
              <a:ext cx="59760" cy="213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33" h="169">
                  <a:moveTo>
                    <a:pt x="0" y="6014"/>
                  </a:moveTo>
                  <a:lnTo>
                    <a:pt x="216" y="6014"/>
                  </a:lnTo>
                  <a:lnTo>
                    <a:pt x="216" y="0"/>
                  </a:lnTo>
                  <a:lnTo>
                    <a:pt x="149" y="375"/>
                  </a:lnTo>
                  <a:lnTo>
                    <a:pt x="216" y="749"/>
                  </a:lnTo>
                  <a:lnTo>
                    <a:pt x="216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"/>
            <p:cNvSpPr/>
            <p:nvPr/>
          </p:nvSpPr>
          <p:spPr>
            <a:xfrm>
              <a:off x="2952720" y="4770360"/>
              <a:ext cx="1226880" cy="8164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Театрализованная 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6"/>
            <p:cNvSpPr/>
            <p:nvPr/>
          </p:nvSpPr>
          <p:spPr>
            <a:xfrm rot="12780000">
              <a:off x="2944800" y="4813560"/>
              <a:ext cx="85680" cy="213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47" h="169">
                  <a:moveTo>
                    <a:pt x="0" y="6014"/>
                  </a:moveTo>
                  <a:lnTo>
                    <a:pt x="308" y="6014"/>
                  </a:lnTo>
                  <a:lnTo>
                    <a:pt x="308" y="0"/>
                  </a:lnTo>
                  <a:lnTo>
                    <a:pt x="212" y="375"/>
                  </a:lnTo>
                  <a:lnTo>
                    <a:pt x="308" y="749"/>
                  </a:lnTo>
                  <a:lnTo>
                    <a:pt x="308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7"/>
            <p:cNvSpPr/>
            <p:nvPr/>
          </p:nvSpPr>
          <p:spPr>
            <a:xfrm>
              <a:off x="1805760" y="4251240"/>
              <a:ext cx="1210320" cy="8204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Игры с песком, вод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8"/>
            <p:cNvSpPr/>
            <p:nvPr/>
          </p:nvSpPr>
          <p:spPr>
            <a:xfrm rot="14700000">
              <a:off x="2099160" y="4080960"/>
              <a:ext cx="60840" cy="3067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8" h="169">
                  <a:moveTo>
                    <a:pt x="0" y="6014"/>
                  </a:moveTo>
                  <a:lnTo>
                    <a:pt x="315" y="6014"/>
                  </a:lnTo>
                  <a:lnTo>
                    <a:pt x="315" y="0"/>
                  </a:lnTo>
                  <a:lnTo>
                    <a:pt x="217" y="375"/>
                  </a:lnTo>
                  <a:lnTo>
                    <a:pt x="315" y="749"/>
                  </a:lnTo>
                  <a:lnTo>
                    <a:pt x="315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9"/>
            <p:cNvSpPr/>
            <p:nvPr/>
          </p:nvSpPr>
          <p:spPr>
            <a:xfrm>
              <a:off x="1258920" y="3362400"/>
              <a:ext cx="1166760" cy="8582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Игы с массаже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0"/>
            <p:cNvSpPr/>
            <p:nvPr/>
          </p:nvSpPr>
          <p:spPr>
            <a:xfrm rot="16680000">
              <a:off x="1910880" y="3161160"/>
              <a:ext cx="56520" cy="3067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5" h="169">
                  <a:moveTo>
                    <a:pt x="0" y="6014"/>
                  </a:moveTo>
                  <a:lnTo>
                    <a:pt x="297" y="6014"/>
                  </a:lnTo>
                  <a:lnTo>
                    <a:pt x="297" y="0"/>
                  </a:lnTo>
                  <a:lnTo>
                    <a:pt x="205" y="375"/>
                  </a:lnTo>
                  <a:lnTo>
                    <a:pt x="297" y="749"/>
                  </a:lnTo>
                  <a:lnTo>
                    <a:pt x="297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1"/>
            <p:cNvSpPr/>
            <p:nvPr/>
          </p:nvSpPr>
          <p:spPr>
            <a:xfrm>
              <a:off x="1431360" y="2430720"/>
              <a:ext cx="1210320" cy="82908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Навыки в повседненвной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2"/>
            <p:cNvSpPr/>
            <p:nvPr/>
          </p:nvSpPr>
          <p:spPr>
            <a:xfrm rot="18660000">
              <a:off x="2450160" y="2333880"/>
              <a:ext cx="60840" cy="3067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8" h="169">
                  <a:moveTo>
                    <a:pt x="0" y="6014"/>
                  </a:moveTo>
                  <a:lnTo>
                    <a:pt x="316" y="6014"/>
                  </a:lnTo>
                  <a:lnTo>
                    <a:pt x="316" y="0"/>
                  </a:lnTo>
                  <a:lnTo>
                    <a:pt x="218" y="375"/>
                  </a:lnTo>
                  <a:lnTo>
                    <a:pt x="316" y="749"/>
                  </a:lnTo>
                  <a:lnTo>
                    <a:pt x="316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3"/>
            <p:cNvSpPr/>
            <p:nvPr/>
          </p:nvSpPr>
          <p:spPr>
            <a:xfrm>
              <a:off x="2352960" y="1693800"/>
              <a:ext cx="1166760" cy="858240"/>
            </a:xfrm>
            <a:prstGeom prst="pie">
              <a:avLst/>
            </a:prstGeom>
            <a:solidFill>
              <a:srgbClr val="f0a22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физкультмину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4"/>
            <p:cNvSpPr/>
            <p:nvPr/>
          </p:nvSpPr>
          <p:spPr>
            <a:xfrm rot="20580000">
              <a:off x="3530160" y="1884600"/>
              <a:ext cx="87120" cy="2138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48" h="169">
                  <a:moveTo>
                    <a:pt x="0" y="6014"/>
                  </a:moveTo>
                  <a:lnTo>
                    <a:pt x="312" y="6014"/>
                  </a:lnTo>
                  <a:lnTo>
                    <a:pt x="312" y="0"/>
                  </a:lnTo>
                  <a:lnTo>
                    <a:pt x="215" y="375"/>
                  </a:lnTo>
                  <a:lnTo>
                    <a:pt x="312" y="749"/>
                  </a:lnTo>
                  <a:lnTo>
                    <a:pt x="312" y="-5264"/>
                  </a:lnTo>
                  <a:lnTo>
                    <a:pt x="0" y="-5264"/>
                  </a:lnTo>
                  <a:lnTo>
                    <a:pt x="0" y="6014"/>
                  </a:lnTo>
                  <a:close/>
                </a:path>
              </a:pathLst>
            </a:custGeom>
            <a:solidFill>
              <a:srgbClr val="f6c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Дидактические игры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311280" cy="2489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3278160" cy="245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Пальчиковая гимнасти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14:55:40Z</dcterms:created>
  <dc:creator>Елена</dc:creator>
  <dc:description/>
  <dc:language>en-US</dc:language>
  <cp:lastModifiedBy>user</cp:lastModifiedBy>
  <dcterms:modified xsi:type="dcterms:W3CDTF">2020-09-07T10:34:32Z</dcterms:modified>
  <cp:revision>89</cp:revision>
  <dc:subject/>
  <dc:title>Особености сенсомоторного развития детей дошкольно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