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extToSpeech26.wav" ContentType="audio/x-wav"/>
  <Override PartName="/ppt/media/TextToSpeech25.wav" ContentType="audio/x-wav"/>
  <Override PartName="/ppt/media/TextToSpeech15.wav" ContentType="audio/x-wav"/>
  <Override PartName="/ppt/media/TextToSpeech13.wav" ContentType="audio/x-wav"/>
  <Override PartName="/ppt/media/TextToSpeech21.wav" ContentType="audio/x-wav"/>
  <Override PartName="/ppt/media/TextToSpeech19.wav" ContentType="audio/x-wav"/>
  <Override PartName="/ppt/media/TextToSpeech1.wav" ContentType="audio/x-wav"/>
  <Override PartName="/ppt/media/TextToSpeech10.wav" ContentType="audio/x-wav"/>
  <Override PartName="/ppt/media/TextToSpeech11.wav" ContentType="audio/x-wav"/>
  <Override PartName="/ppt/media/TextToSpeech27.wav" ContentType="audio/x-wav"/>
  <Override PartName="/ppt/media/TextToSpeech20.wav" ContentType="audio/x-wav"/>
  <Override PartName="/ppt/media/TextToSpeech18.wav" ContentType="audio/x-wav"/>
  <Override PartName="/ppt/media/TextToSpeech23.wav" ContentType="audio/x-wav"/>
  <Override PartName="/ppt/media/TextToSpeech33.wav" ContentType="audio/x-wav"/>
  <Override PartName="/ppt/media/TextToSpeech34.wav" ContentType="audio/x-wav"/>
  <Override PartName="/ppt/media/TextToSpeech35.wav" ContentType="audio/x-wav"/>
  <Override PartName="/ppt/media/TextToSpeech36.wav" ContentType="audio/x-wav"/>
  <Override PartName="/ppt/media/TextToSpeech37.wav" ContentType="audio/x-wav"/>
  <Override PartName="/ppt/media/TextToSpeech38.wav" ContentType="audio/x-wav"/>
  <Override PartName="/ppt/media/TextToSpeech40.wav" ContentType="audio/x-wav"/>
  <Override PartName="/ppt/media/TextToSpeech8.wav" ContentType="audio/x-wav"/>
  <Override PartName="/ppt/media/image5.png" ContentType="image/png"/>
  <Override PartName="/ppt/media/TextToSpeech31.wav" ContentType="audio/x-wav"/>
  <Override PartName="/ppt/media/image3.png" ContentType="image/png"/>
  <Override PartName="/ppt/media/TextToSpeech29.wav" ContentType="audio/x-wav"/>
  <Override PartName="/ppt/media/TextToSpeech43.wav" ContentType="audio/x-wav"/>
  <Override PartName="/ppt/media/TextToSpeech17.wav" ContentType="audio/x-wav"/>
  <Override PartName="/ppt/media/TextToSpeech3.wav" ContentType="audio/x-wav"/>
  <Override PartName="/ppt/media/TextToSpeech14.wav" ContentType="audio/x-wav"/>
  <Override PartName="/ppt/media/TextToSpeech5.wav" ContentType="audio/x-wav"/>
  <Override PartName="/ppt/media/image2.png" ContentType="image/png"/>
  <Override PartName="/ppt/media/TextToSpeech28.wav" ContentType="audio/x-wav"/>
  <Override PartName="/ppt/media/TextToSpeech30.wav" ContentType="audio/x-wav"/>
  <Override PartName="/ppt/media/TextToSpeech7.wav" ContentType="audio/x-wav"/>
  <Override PartName="/ppt/media/image4.png" ContentType="image/png"/>
  <Override PartName="/ppt/media/TextToSpeech32.wav" ContentType="audio/x-wav"/>
  <Override PartName="/ppt/media/TextToSpeech9.wav" ContentType="audio/x-wav"/>
  <Override PartName="/ppt/media/TextToSpeech4.wav" ContentType="audio/x-wav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332-1A92-4929-B533-35FAD0EA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215-4552-42B4-90C8-E946180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B83-4687-4DC8-AFC2-A4AEF044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494-E924-45D6-9CFE-73BA6B93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B00-B4D6-4E3C-B152-4E764DD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DA7-622D-4B4B-B7BF-BB50080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88B-33EC-42FF-8DF0-36217F1A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D0B-C6CC-4160-8717-92065A1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B2F-174B-4D09-BB83-465788E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086-E088-47D0-99A7-F06218E7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076-FAF2-4A22-9580-C343FA1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FBC-65F6-4F8E-B299-D95E753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Flamenco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Flamenco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Flamenco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7EA5-B74F-4CE8-8B1F-F3E9D380657F}" type="slidenum">
              <a:rPr b="0" lang="pt-PT" sz="1200" spc="-1" strike="noStrike">
                <a:solidFill>
                  <a:srgbClr val="898989"/>
                </a:solidFill>
                <a:latin typeface="Flamenco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vanda\Ambiente de trabalho\clipart3\page_frames\more_frames\plackard_page.png"/>
          <p:cNvPicPr/>
          <p:nvPr/>
        </p:nvPicPr>
        <p:blipFill>
          <a:blip r:embed="rId2"/>
          <a:stretch/>
        </p:blipFill>
        <p:spPr>
          <a:xfrm>
            <a:off x="0" y="0"/>
            <a:ext cx="7572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C:\Documents and Settings\vanda\Ambiente de trabalho\clipart3\C-41 School\C41-32.jpg"/>
          <p:cNvPicPr/>
          <p:nvPr/>
        </p:nvPicPr>
        <p:blipFill>
          <a:blip r:embed="rId3"/>
          <a:stretch/>
        </p:blipFill>
        <p:spPr>
          <a:xfrm>
            <a:off x="5857920" y="571680"/>
            <a:ext cx="3286080" cy="62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TextToSpeech3.wav"/><Relationship Id="rId4" Type="http://schemas.openxmlformats.org/officeDocument/2006/relationships/audio" Target="../media/TextToSpeech4.wav"/><Relationship Id="rId5" Type="http://schemas.openxmlformats.org/officeDocument/2006/relationships/audio" Target="../media/TextToSpeech5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TextToSpeech7.wav"/><Relationship Id="rId4" Type="http://schemas.openxmlformats.org/officeDocument/2006/relationships/audio" Target="../media/TextToSpeech8.wav"/><Relationship Id="rId5" Type="http://schemas.openxmlformats.org/officeDocument/2006/relationships/audio" Target="../media/TextToSpeech9.wav"/><Relationship Id="rId6" Type="http://schemas.openxmlformats.org/officeDocument/2006/relationships/audio" Target="../media/TextToSpeech20.wav"/><Relationship Id="rId7" Type="http://schemas.openxmlformats.org/officeDocument/2006/relationships/audio" Target="../media/TextToSpeech11.wav"/><Relationship Id="rId8" Type="http://schemas.openxmlformats.org/officeDocument/2006/relationships/audio" Target="../media/TextToSpeech10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19.wav"/><Relationship Id="rId3" Type="http://schemas.openxmlformats.org/officeDocument/2006/relationships/audio" Target="../media/TextToSpeech13.wav"/><Relationship Id="rId4" Type="http://schemas.openxmlformats.org/officeDocument/2006/relationships/audio" Target="../media/TextToSpeech14.wav"/><Relationship Id="rId5" Type="http://schemas.openxmlformats.org/officeDocument/2006/relationships/audio" Target="../media/TextToSpeech15.wav"/><Relationship Id="rId6" Type="http://schemas.openxmlformats.org/officeDocument/2006/relationships/audio" Target="../media/TextToSpeech18.wav"/><Relationship Id="rId7" Type="http://schemas.openxmlformats.org/officeDocument/2006/relationships/audio" Target="../media/TextToSpeech17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21.wav"/><Relationship Id="rId3" Type="http://schemas.openxmlformats.org/officeDocument/2006/relationships/audio" Target="../media/TextToSpeech25.wav"/><Relationship Id="rId4" Type="http://schemas.openxmlformats.org/officeDocument/2006/relationships/audio" Target="../media/TextToSpeech23.wav"/><Relationship Id="rId5" Type="http://schemas.openxmlformats.org/officeDocument/2006/relationships/audio" Target="../media/TextToSpeech26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27.wav"/><Relationship Id="rId3" Type="http://schemas.openxmlformats.org/officeDocument/2006/relationships/audio" Target="../media/TextToSpeech28.wav"/><Relationship Id="rId4" Type="http://schemas.openxmlformats.org/officeDocument/2006/relationships/audio" Target="../media/TextToSpeech29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0.wav"/><Relationship Id="rId3" Type="http://schemas.openxmlformats.org/officeDocument/2006/relationships/audio" Target="../media/TextToSpeech31.wav"/><Relationship Id="rId4" Type="http://schemas.openxmlformats.org/officeDocument/2006/relationships/audio" Target="../media/TextToSpeech32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3.wav"/><Relationship Id="rId3" Type="http://schemas.openxmlformats.org/officeDocument/2006/relationships/audio" Target="../media/TextToSpeech34.wav"/><Relationship Id="rId4" Type="http://schemas.openxmlformats.org/officeDocument/2006/relationships/audio" Target="../media/TextToSpeech35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6.wav"/><Relationship Id="rId3" Type="http://schemas.openxmlformats.org/officeDocument/2006/relationships/audio" Target="../media/TextToSpeech37.wav"/><Relationship Id="rId4" Type="http://schemas.openxmlformats.org/officeDocument/2006/relationships/audio" Target="../media/TextToSpeech38.wav"/><Relationship Id="rId5" Type="http://schemas.openxmlformats.org/officeDocument/2006/relationships/audio" Target="../media/TextToSpeech43.wav"/><Relationship Id="rId6" Type="http://schemas.openxmlformats.org/officeDocument/2006/relationships/audio" Target="../media/TextToSpeech40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42680" y="714240"/>
            <a:ext cx="5000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Forte"/>
              </a:rPr>
              <a:t>Grammar Study:</a:t>
            </a: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2714760"/>
            <a:ext cx="55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c00000"/>
                </a:solidFill>
                <a:latin typeface="Ravie"/>
              </a:rPr>
              <a:t>Present Simple</a:t>
            </a:r>
            <a:endParaRPr b="0" lang="en-US" sz="6600" spc="-1" strike="noStrike">
              <a:solidFill>
                <a:srgbClr val="000000"/>
              </a:solidFill>
              <a:latin typeface="FlamencoD"/>
            </a:endParaRPr>
          </a:p>
        </p:txBody>
      </p:sp>
      <p:pic>
        <p:nvPicPr>
          <p:cNvPr id="45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ângulo 1" descr=""/>
          <p:cNvPicPr/>
          <p:nvPr/>
        </p:nvPicPr>
        <p:blipFill>
          <a:blip r:embed="rId1"/>
          <a:stretch/>
        </p:blipFill>
        <p:spPr>
          <a:xfrm>
            <a:off x="1542960" y="628560"/>
            <a:ext cx="4864320" cy="68256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2"/>
          <p:cNvSpPr/>
          <p:nvPr/>
        </p:nvSpPr>
        <p:spPr>
          <a:xfrm>
            <a:off x="1714680" y="1357200"/>
            <a:ext cx="48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refer to habits or to things which happen repeatedly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3"/>
          <p:cNvSpPr/>
          <p:nvPr/>
        </p:nvSpPr>
        <p:spPr>
          <a:xfrm>
            <a:off x="1714680" y="26431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refer to permanent situations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4"/>
          <p:cNvSpPr/>
          <p:nvPr/>
        </p:nvSpPr>
        <p:spPr>
          <a:xfrm>
            <a:off x="1714680" y="414324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talk about general statements of truth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92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92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ângulo 1" descr=""/>
          <p:cNvPicPr/>
          <p:nvPr/>
        </p:nvPicPr>
        <p:blipFill>
          <a:blip r:embed="rId1"/>
          <a:stretch/>
        </p:blipFill>
        <p:spPr>
          <a:xfrm>
            <a:off x="1566720" y="628560"/>
            <a:ext cx="482148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1571760" y="121428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lamencoD"/>
              </a:rPr>
              <a:t>Affirmative</a:t>
            </a:r>
            <a:r>
              <a:rPr b="0" lang="en-US" sz="4000" spc="-1" strike="noStrike">
                <a:solidFill>
                  <a:srgbClr val="000000"/>
                </a:solidFill>
                <a:latin typeface="Flamenco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6"/>
          <p:cNvSpPr/>
          <p:nvPr/>
        </p:nvSpPr>
        <p:spPr>
          <a:xfrm>
            <a:off x="1785960" y="19288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He / She / It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play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7"/>
          <p:cNvSpPr/>
          <p:nvPr/>
        </p:nvSpPr>
        <p:spPr>
          <a:xfrm>
            <a:off x="1714680" y="25718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 / You / We / They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8"/>
          <p:cNvSpPr/>
          <p:nvPr/>
        </p:nvSpPr>
        <p:spPr>
          <a:xfrm>
            <a:off x="1714680" y="335772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lamencoD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9"/>
          <p:cNvSpPr/>
          <p:nvPr/>
        </p:nvSpPr>
        <p:spPr>
          <a:xfrm>
            <a:off x="1857240" y="41432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He / She / It 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esn´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pla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10"/>
          <p:cNvSpPr/>
          <p:nvPr/>
        </p:nvSpPr>
        <p:spPr>
          <a:xfrm>
            <a:off x="1785960" y="47862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 / You / We / They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n´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92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92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92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92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1"/>
          <p:cNvSpPr/>
          <p:nvPr/>
        </p:nvSpPr>
        <p:spPr>
          <a:xfrm>
            <a:off x="1571760" y="92880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lamencoD"/>
              </a:rPr>
              <a:t>Interrogativ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2"/>
          <p:cNvSpPr/>
          <p:nvPr/>
        </p:nvSpPr>
        <p:spPr>
          <a:xfrm>
            <a:off x="1785960" y="17146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He / She / It  pla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1714680" y="23572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I / You / We / They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5"/>
          <p:cNvSpPr/>
          <p:nvPr/>
        </p:nvSpPr>
        <p:spPr>
          <a:xfrm>
            <a:off x="1714680" y="3071880"/>
            <a:ext cx="48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FlamencoD"/>
              </a:rPr>
              <a:t>Short forms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6"/>
          <p:cNvSpPr/>
          <p:nvPr/>
        </p:nvSpPr>
        <p:spPr>
          <a:xfrm>
            <a:off x="1928880" y="3786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Does not = Doesn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7"/>
          <p:cNvSpPr/>
          <p:nvPr/>
        </p:nvSpPr>
        <p:spPr>
          <a:xfrm>
            <a:off x="1928880" y="45720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Do not = don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92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92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925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92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2"/>
          <p:cNvSpPr/>
          <p:nvPr/>
        </p:nvSpPr>
        <p:spPr>
          <a:xfrm>
            <a:off x="1571760" y="928800"/>
            <a:ext cx="53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lamencoD"/>
              </a:rPr>
              <a:t>How to make he / she/ it form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1857240" y="24289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Gener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4"/>
          <p:cNvSpPr/>
          <p:nvPr/>
        </p:nvSpPr>
        <p:spPr>
          <a:xfrm>
            <a:off x="1785960" y="31431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6"/>
          <p:cNvSpPr/>
          <p:nvPr/>
        </p:nvSpPr>
        <p:spPr>
          <a:xfrm>
            <a:off x="1785960" y="3786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7"/>
          <p:cNvSpPr/>
          <p:nvPr/>
        </p:nvSpPr>
        <p:spPr>
          <a:xfrm>
            <a:off x="1857240" y="4643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92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2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92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92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92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:o, s, x, sh or 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"/>
          <p:cNvSpPr/>
          <p:nvPr/>
        </p:nvSpPr>
        <p:spPr>
          <a:xfrm>
            <a:off x="1785960" y="2571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 e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each→ Teach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925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92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92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vowel + 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2"/>
          <p:cNvSpPr/>
          <p:nvPr/>
        </p:nvSpPr>
        <p:spPr>
          <a:xfrm>
            <a:off x="1785960" y="2571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 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→ Play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92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92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925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consonant + 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2"/>
          <p:cNvSpPr/>
          <p:nvPr/>
        </p:nvSpPr>
        <p:spPr>
          <a:xfrm>
            <a:off x="1785960" y="257184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chang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y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nto –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and takes –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Study → Stud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i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92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92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92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ixaDeTexto 1"/>
          <p:cNvSpPr/>
          <p:nvPr/>
        </p:nvSpPr>
        <p:spPr>
          <a:xfrm>
            <a:off x="1785960" y="642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FlamencoD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2"/>
          <p:cNvSpPr/>
          <p:nvPr/>
        </p:nvSpPr>
        <p:spPr>
          <a:xfrm>
            <a:off x="1785960" y="1285920"/>
            <a:ext cx="485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Adverbs of frequency like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usually, sometim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almos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 etc, are used to express how often things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3"/>
          <p:cNvSpPr/>
          <p:nvPr/>
        </p:nvSpPr>
        <p:spPr>
          <a:xfrm>
            <a:off x="1714680" y="30002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They 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1785960" y="35002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Before the verb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 For example: I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usually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go to school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6"/>
          <p:cNvSpPr/>
          <p:nvPr/>
        </p:nvSpPr>
        <p:spPr>
          <a:xfrm>
            <a:off x="1857240" y="44290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After the verb To Be.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For example: She i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with her friends at week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92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92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92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4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92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0:35:06Z</dcterms:created>
  <dc:creator>vanda</dc:creator>
  <dc:description/>
  <dc:language>en-US</dc:language>
  <cp:lastModifiedBy>vanda</cp:lastModifiedBy>
  <dcterms:modified xsi:type="dcterms:W3CDTF">2011-05-21T18:33:38Z</dcterms:modified>
  <cp:revision>12</cp:revision>
  <dc:subject/>
  <dc:title>Grammar Study:</dc:title>
</cp:coreProperties>
</file>