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939C-FBD6-475B-9235-D7250CEB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7045-B73E-4B93-9539-23DD6566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4BA1-F6C1-43F6-87F3-9BE9BF13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39B-C4F7-41DC-AC0A-186689C1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D97C-84C3-4AE7-872A-594E4A71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8EC1-AB33-4F15-91B2-9EE9B5E9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6A1D-DFCD-4C07-A47D-BB83BBC2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C116-8D38-45DD-BA10-3B77E8B1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5420-92A5-43EA-91D6-3F7E06A8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E663-A27D-43EA-B2B0-6FA26E1C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8CD7-E098-40ED-B86A-1775DD62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468-02C3-411D-B932-5A213CB8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0CB7-6719-4411-B2E0-EB6CEEE1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42BA-4765-4D3F-9EE8-B3C15F8D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BF53-5EB0-4DFC-81B6-30BD7590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1DC1-832A-4D53-AD5D-7375FFFB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87D9-3C60-43AE-903E-847DF8D8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92F25-FE34-45D4-925E-38D6FA1C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33F07-BC3E-409E-99C4-94D64D17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718FF-514A-4368-BE41-8C4F6FE3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BA218-9D43-49F6-BE34-838C0D4D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AB095-0F37-499F-85B3-45A489EC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ECD-9F9D-43BE-9087-2D408834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D7DA0-E954-432C-85B4-7F6FDDD9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F3784-66BC-4412-8A73-75AB1B3F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D8749-5EA6-4BCA-9B1E-145F3812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38362-1143-4EA3-874D-5B2D128E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A1623-1DFC-42D4-993F-EA822019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38F5B-2AEA-4100-9B8B-ABEEF3AC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E09D8-49B4-463F-8ADC-617424EE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2E95-42AF-4D49-AB26-A610B320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40A8-EF21-4C5C-AEDD-655830E5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86E-BD21-4B3F-9EA8-70BF497B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CA5C-3BD9-44A9-B0E9-659EB339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F28-6CA3-4901-AD08-D7FBA31F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B3F-3BDA-49AD-9ABA-CF6C436A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B391-414C-4E17-AC06-6F6F264FC7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FC8D-1867-4750-B5F2-51786A9077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9AAA-C80F-4236-AAF6-B24432E899B3}" type="slidenum">
              <a:rPr b="0" lang="ru-RU" sz="1200" spc="-1" strike="noStrike">
                <a:solidFill>
                  <a:srgbClr val="268ea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0" y="0"/>
          <a:ext cx="9150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50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Прямоугольник 3"/>
          <p:cNvSpPr/>
          <p:nvPr/>
        </p:nvSpPr>
        <p:spPr>
          <a:xfrm>
            <a:off x="1143000" y="20574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0337"/>
                </a:solidFill>
                <a:latin typeface="Comic Sans MS"/>
              </a:rPr>
              <a:t>Проек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0337"/>
                </a:solidFill>
                <a:latin typeface="Comic Sans MS"/>
              </a:rPr>
              <a:t>«Через игру в природ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2914200" y="3276720"/>
            <a:ext cx="3550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0337"/>
                </a:solidFill>
                <a:latin typeface="Tahoma"/>
              </a:rPr>
              <a:t>Авто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50337"/>
                </a:solidFill>
                <a:latin typeface="Tahoma"/>
              </a:rPr>
              <a:t>Докукина Марина Евгень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50337"/>
                </a:solidFill>
                <a:latin typeface="Tahoma"/>
              </a:rPr>
              <a:t>Торосян Маргарит Николаевна</a:t>
            </a:r>
            <a:r>
              <a:rPr b="0" lang="ru-RU" sz="1600" spc="-1" strike="noStrike">
                <a:solidFill>
                  <a:srgbClr val="050337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50337"/>
                </a:solidFill>
                <a:latin typeface="Tahoma"/>
              </a:rPr>
              <a:t>МДОУ № 23 «Аленушка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50337"/>
                </a:solidFill>
                <a:latin typeface="Tahoma"/>
              </a:rPr>
              <a:t>город Кл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7467480" y="64911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0337"/>
                </a:solidFill>
                <a:latin typeface="Georgia"/>
              </a:rPr>
              <a:t>2015 </a:t>
            </a:r>
            <a:r>
              <a:rPr b="1" i="1" lang="ru-RU" sz="1800" spc="-1" strike="noStrike">
                <a:solidFill>
                  <a:srgbClr val="050337"/>
                </a:solidFill>
                <a:latin typeface="Georgia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7"/>
          <p:cNvSpPr/>
          <p:nvPr/>
        </p:nvSpPr>
        <p:spPr>
          <a:xfrm>
            <a:off x="380880" y="3200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Огород на ок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6248520" y="31240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Участие в акции «Покормите птиц зим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2590920" y="6216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Разв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337"/>
                </a:solidFill>
                <a:latin typeface="Arial"/>
              </a:rPr>
              <a:t>Дидактически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337"/>
                </a:solidFill>
                <a:latin typeface="Arial"/>
              </a:rPr>
              <a:t>Предполагаемый результ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152280" y="1219320"/>
            <a:ext cx="4114800" cy="5410080"/>
          </a:xfrm>
          <a:custGeom>
            <a:avLst/>
            <a:gdLst>
              <a:gd name="textAreaLeft" fmla="*/ 56520 w 4114800"/>
              <a:gd name="textAreaRight" fmla="*/ 4058280 w 4114800"/>
              <a:gd name="textAreaTop" fmla="*/ 56520 h 5410080"/>
              <a:gd name="textAreaBottom" fmla="*/ 5353560 h 5410080"/>
            </a:gdLst>
            <a:ahLst/>
            <a:rect l="textAreaLeft" t="textAreaTop" r="textAreaRight" b="textAreaBottom"/>
            <a:pathLst>
              <a:path w="21600" h="28399">
                <a:moveTo>
                  <a:pt x="1013" y="0"/>
                </a:moveTo>
                <a:arcTo wR="1013" hR="1013" stAng="16200000" swAng="-5400000"/>
                <a:lnTo>
                  <a:pt x="0" y="27386"/>
                </a:lnTo>
                <a:arcTo wR="1013" hR="1013" stAng="10800000" swAng="-5400000"/>
                <a:lnTo>
                  <a:pt x="20587" y="283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533520" y="1143000"/>
            <a:ext cx="3429000" cy="30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2"/>
          <p:cNvSpPr/>
          <p:nvPr/>
        </p:nvSpPr>
        <p:spPr>
          <a:xfrm>
            <a:off x="4800600" y="1295280"/>
            <a:ext cx="4114800" cy="5334120"/>
          </a:xfrm>
          <a:custGeom>
            <a:avLst/>
            <a:gdLst>
              <a:gd name="textAreaLeft" fmla="*/ 56520 w 4114800"/>
              <a:gd name="textAreaRight" fmla="*/ 4058280 w 4114800"/>
              <a:gd name="textAreaTop" fmla="*/ 56520 h 5334120"/>
              <a:gd name="textAreaBottom" fmla="*/ 5277600 h 5334120"/>
            </a:gdLst>
            <a:ahLst/>
            <a:rect l="textAreaLeft" t="textAreaTop" r="textAreaRight" b="textAreaBottom"/>
            <a:pathLst>
              <a:path w="21600" h="28000">
                <a:moveTo>
                  <a:pt x="1013" y="0"/>
                </a:moveTo>
                <a:arcTo wR="1013" hR="1013" stAng="16200000" swAng="-5400000"/>
                <a:lnTo>
                  <a:pt x="0" y="26987"/>
                </a:lnTo>
                <a:arcTo wR="1013" hR="1013" stAng="10800000" swAng="-5400000"/>
                <a:lnTo>
                  <a:pt x="20587" y="28000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5105520" y="1143000"/>
            <a:ext cx="3429000" cy="30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152280" y="1371600"/>
            <a:ext cx="4191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0337"/>
                </a:solidFill>
                <a:latin typeface="Arial"/>
              </a:rPr>
              <a:t>Ребен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- проявляет интерес к объектам окружающего ми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- имеет элементарные экологические представления о прир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503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эмоционально реагирует при взаимодействии с объектами прир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503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участвует в трудовой деяте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- знает и выполняет правила поведения в прир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- ориентируется  в окружающем ми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- умеет самовыражаться в процессе игровой и продуктив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- развиты физические и трудовые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800600" y="137160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0337"/>
                </a:solidFill>
                <a:latin typeface="Arial"/>
              </a:rPr>
              <a:t>Родители:</a:t>
            </a: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503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формирование активной позиции род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(посещение и активное участие в открытых мероприятия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503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выполнение творческих и индивидуальных зад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вместе с деть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- обогащение представлений о правильном взаимодействии со своими детьми и их сверст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337"/>
                </a:solidFill>
                <a:latin typeface="Arial"/>
              </a:rPr>
              <a:t>Результаты диагностических и оценочных процед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337"/>
                </a:solidFill>
                <a:latin typeface="Arial"/>
              </a:rPr>
              <a:t>Перспект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4"/>
          <p:cNvSpPr/>
          <p:nvPr/>
        </p:nvSpPr>
        <p:spPr>
          <a:xfrm>
            <a:off x="304920" y="1597680"/>
            <a:ext cx="8458200" cy="45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9200" algn="ctr">
              <a:spcAft>
                <a:spcPts val="249"/>
              </a:spcAft>
              <a:buClr>
                <a:srgbClr val="0503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трансляция опыта работы по данному направлению педагогическому сообществу: в форме методических публикаций, представления опыта на интернет – сайтах педагогических идей, участия в конкурсах и фестивалях различного уров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- использование информационно-компьютерных технологий, создание медиате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- расширение контингента участников проекта (практическое использование проекта педагогами других коррекционных групп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- реализация проекта в вариативных формах дошкольного образования: инклюзивное образ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- реализация проекта в работе с воспитанниками последующих набо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- создание методического пособ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337"/>
                </a:solidFill>
                <a:latin typeface="Arial"/>
              </a:rPr>
              <a:t>Список используемой литературы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Выготский Л.С. “Умственно отсталый ребенок” — М., 195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Екжанова Е.А., Стребелева Е.А. Коррекционно-развивающее обучение и воспитание. Программа дошкольных образовательных учреждений компенсирующего вида для детей с нарушением интеллекта. М.: Просвещение, 2005. – 27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Екжанова Е.А., Стребелева Е.А. Системный подход к разработке проблемы коррекционно-развивающего обучения детей с нарушениями интеллекта //Дефектология. 1999. № 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Катаева А.А., Стребелева Е.А. Дидактические игры и упражнения в обучении умственно отсталых дошкольников. М.: Просвещение, 199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Катаева А.А., Стребелева Е.А. Дошкольная олигофренопедагогика. М.: Владос, 199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Козлова С.А., Катаева Л.И. Коррекционно-развивающие занятия с дошкольниками. М.: Линка-Пресс,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Косымова А.Н. Коррекция представлений об окружающем мире у детей с нарушениями интеллекта // Дефектология. 2006. № 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Мозговой В.М., Яковлева И.М., Еремина А.А. Основы олигофренопедагогики. М.: Академия, 200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 Руководство по работе с детьми с умственной отсталостью /Под ред. М. Пишчек. СПб.: Речь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 Семаго Н. Я. Теория и практика оценки психического развития ребенка: дошкольный и младший школьный возраст / Н. Я. Семаго, М. М. Семаго. - Санкт-Петербург : Речь, 2010 (т. е. 2009). - 373 c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 Специальная дошкольная педагогика и психология. /Под ред. В.И. Селиверстова. М.: Владос, 200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337"/>
                </a:solidFill>
                <a:latin typeface="Verdana"/>
              </a:rPr>
              <a:t>Актуальность проекта</a:t>
            </a:r>
            <a:endParaRPr b="0" lang="en-US" sz="32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46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50337"/>
                </a:solidFill>
                <a:latin typeface="Verdana"/>
              </a:rPr>
              <a:t>Большую важность приобретает вопрос возможной коррекции недостатков развития у детей с ограниченными возможностями здоровья через ознакомление с природой. </a:t>
            </a:r>
            <a:endParaRPr b="0" lang="en-US" sz="2400" spc="-1" strike="noStrike">
              <a:solidFill>
                <a:srgbClr val="464646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Verdana"/>
              </a:rPr>
              <a:t>Адекватные представления об окружающем мире способствуют эффективной социализации детей с ограниченными возможностями здоровья. </a:t>
            </a:r>
            <a:endParaRPr b="0" lang="en-US" sz="2400" spc="-1" strike="noStrike">
              <a:solidFill>
                <a:srgbClr val="464646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337"/>
                </a:solidFill>
                <a:latin typeface="Verdana"/>
              </a:rPr>
              <a:t>Проблема</a:t>
            </a:r>
            <a:endParaRPr b="0" lang="en-US" sz="3200" spc="-1" strike="noStrike">
              <a:solidFill>
                <a:srgbClr val="464646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Verdana"/>
              </a:rPr>
              <a:t>Отсутствие адаптивных программ по экологическому воспитанию детей с особыми образовательными потребностями.</a:t>
            </a:r>
            <a:endParaRPr b="0" lang="en-US" sz="2400" spc="-1" strike="noStrike">
              <a:solidFill>
                <a:srgbClr val="464646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337"/>
                </a:solidFill>
                <a:latin typeface="Verdana"/>
              </a:rPr>
              <a:t>Содержание проекта</a:t>
            </a:r>
            <a:endParaRPr b="0" lang="en-US" sz="32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50337"/>
                </a:solidFill>
                <a:latin typeface="Verdana"/>
              </a:rPr>
              <a:t>Объект исследования</a:t>
            </a:r>
            <a:r>
              <a:rPr b="0" lang="ru-RU" sz="2400" spc="-1" strike="noStrike">
                <a:solidFill>
                  <a:srgbClr val="050337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464646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Verdana"/>
              </a:rPr>
              <a:t>процесс формирования экологической культуры у детей дошкольного возраста с ограниченными возможностями здоровья.</a:t>
            </a:r>
            <a:endParaRPr b="0" lang="en-US" sz="2400" spc="-1" strike="noStrike">
              <a:solidFill>
                <a:srgbClr val="464646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0337"/>
                </a:solidFill>
                <a:latin typeface="Verdana"/>
              </a:rPr>
              <a:t>Предмет исследования</a:t>
            </a:r>
            <a:r>
              <a:rPr b="0" lang="ru-RU" sz="2400" spc="-1" strike="noStrike">
                <a:solidFill>
                  <a:srgbClr val="050337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464646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Verdana"/>
              </a:rPr>
              <a:t>особенности процесса формирования экологической культуры детей дошкольного возраста с особыми образовательными потребностями.</a:t>
            </a:r>
            <a:endParaRPr b="0" lang="en-US" sz="2400" spc="-1" strike="noStrike">
              <a:solidFill>
                <a:srgbClr val="464646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 rot="10800000">
            <a:off x="1828440" y="38862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337"/>
                </a:solidFill>
                <a:latin typeface="Verdana"/>
              </a:rPr>
              <a:t>Цель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33520" y="1066680"/>
            <a:ext cx="8001000" cy="2590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66ff"/>
              </a:gs>
              <a:gs pos="50000">
                <a:srgbClr val="9d9dff"/>
              </a:gs>
              <a:gs pos="100000">
                <a:srgbClr val="6666f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Arial"/>
              </a:rPr>
              <a:t>повышение эффектив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Arial"/>
              </a:rPr>
              <a:t>воспитательно-образовательного процесса в Д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Arial"/>
              </a:rPr>
              <a:t>по экологическому воспитанию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Arial"/>
              </a:rPr>
              <a:t>с ограниченными возможностями здоровья (ОВЗ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Arial"/>
              </a:rPr>
              <a:t>на основе использования проектной метод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0"/>
          <p:cNvSpPr/>
          <p:nvPr/>
        </p:nvSpPr>
        <p:spPr>
          <a:xfrm>
            <a:off x="609480" y="304812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 rot="10800000">
            <a:off x="1828440" y="99036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Задач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5"/>
          <p:cNvGrpSpPr/>
          <p:nvPr/>
        </p:nvGrpSpPr>
        <p:grpSpPr>
          <a:xfrm>
            <a:off x="152280" y="990720"/>
            <a:ext cx="2285280" cy="2666520"/>
            <a:chOff x="152280" y="990720"/>
            <a:chExt cx="2285280" cy="2666520"/>
          </a:xfrm>
        </p:grpSpPr>
        <p:grpSp>
          <p:nvGrpSpPr>
            <p:cNvPr id="140" name="Group 6"/>
            <p:cNvGrpSpPr/>
            <p:nvPr/>
          </p:nvGrpSpPr>
          <p:grpSpPr>
            <a:xfrm>
              <a:off x="152280" y="990720"/>
              <a:ext cx="2149920" cy="1950480"/>
              <a:chOff x="152280" y="990720"/>
              <a:chExt cx="2149920" cy="1950480"/>
            </a:xfrm>
          </p:grpSpPr>
          <p:grpSp>
            <p:nvGrpSpPr>
              <p:cNvPr id="141" name="Group 7"/>
              <p:cNvGrpSpPr/>
              <p:nvPr/>
            </p:nvGrpSpPr>
            <p:grpSpPr>
              <a:xfrm>
                <a:off x="152280" y="990720"/>
                <a:ext cx="2149920" cy="1950480"/>
                <a:chOff x="152280" y="990720"/>
                <a:chExt cx="2149920" cy="1950480"/>
              </a:xfrm>
            </p:grpSpPr>
            <p:sp>
              <p:nvSpPr>
                <p:cNvPr id="142" name="Oval 8"/>
                <p:cNvSpPr/>
                <p:nvPr/>
              </p:nvSpPr>
              <p:spPr>
                <a:xfrm>
                  <a:off x="152280" y="990720"/>
                  <a:ext cx="2149920" cy="195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061a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9"/>
                <p:cNvSpPr/>
                <p:nvPr/>
              </p:nvSpPr>
              <p:spPr>
                <a:xfrm>
                  <a:off x="397800" y="1022760"/>
                  <a:ext cx="1658520" cy="736200"/>
                </a:xfrm>
                <a:custGeom>
                  <a:avLst/>
                  <a:gdLst>
                    <a:gd name="textAreaLeft" fmla="*/ 0 w 1658520"/>
                    <a:gd name="textAreaRight" fmla="*/ 1658880 w 1658520"/>
                    <a:gd name="textAreaTop" fmla="*/ 0 h 736200"/>
                    <a:gd name="textAreaBottom" fmla="*/ 736560 h 7362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10"/>
              <p:cNvSpPr/>
              <p:nvPr/>
            </p:nvSpPr>
            <p:spPr>
              <a:xfrm>
                <a:off x="281160" y="1985400"/>
                <a:ext cx="1885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Oval 11"/>
            <p:cNvSpPr/>
            <p:nvPr/>
          </p:nvSpPr>
          <p:spPr>
            <a:xfrm>
              <a:off x="154080" y="3093120"/>
              <a:ext cx="2283480" cy="5641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30"/>
          <p:cNvGrpSpPr/>
          <p:nvPr/>
        </p:nvGrpSpPr>
        <p:grpSpPr>
          <a:xfrm>
            <a:off x="6705720" y="990720"/>
            <a:ext cx="2285640" cy="2742840"/>
            <a:chOff x="6705720" y="990720"/>
            <a:chExt cx="2285640" cy="2742840"/>
          </a:xfrm>
        </p:grpSpPr>
        <p:grpSp>
          <p:nvGrpSpPr>
            <p:cNvPr id="147" name="Group 31"/>
            <p:cNvGrpSpPr/>
            <p:nvPr/>
          </p:nvGrpSpPr>
          <p:grpSpPr>
            <a:xfrm>
              <a:off x="6705720" y="990720"/>
              <a:ext cx="2134440" cy="1972800"/>
              <a:chOff x="6705720" y="990720"/>
              <a:chExt cx="2134440" cy="1972800"/>
            </a:xfrm>
          </p:grpSpPr>
          <p:sp>
            <p:nvSpPr>
              <p:cNvPr id="148" name="Oval 32"/>
              <p:cNvSpPr/>
              <p:nvPr/>
            </p:nvSpPr>
            <p:spPr>
              <a:xfrm>
                <a:off x="6705720" y="990720"/>
                <a:ext cx="2134440" cy="1972800"/>
              </a:xfrm>
              <a:prstGeom prst="ellipse">
                <a:avLst/>
              </a:prstGeom>
              <a:gradFill rotWithShape="0">
                <a:gsLst>
                  <a:gs pos="0">
                    <a:srgbClr val="5bcd81"/>
                  </a:gs>
                  <a:gs pos="100000">
                    <a:srgbClr val="2f69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33"/>
              <p:cNvSpPr/>
              <p:nvPr/>
            </p:nvSpPr>
            <p:spPr>
              <a:xfrm>
                <a:off x="6949440" y="1023120"/>
                <a:ext cx="1646640" cy="7444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744480"/>
                  <a:gd name="textAreaBottom" fmla="*/ 744840 h 7444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bcd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Text Box 34"/>
            <p:cNvSpPr/>
            <p:nvPr/>
          </p:nvSpPr>
          <p:spPr>
            <a:xfrm>
              <a:off x="6811920" y="1937520"/>
              <a:ext cx="192348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35"/>
            <p:cNvSpPr/>
            <p:nvPr/>
          </p:nvSpPr>
          <p:spPr>
            <a:xfrm>
              <a:off x="6778800" y="3165480"/>
              <a:ext cx="2212560" cy="568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36"/>
          <p:cNvGrpSpPr/>
          <p:nvPr/>
        </p:nvGrpSpPr>
        <p:grpSpPr>
          <a:xfrm>
            <a:off x="-228600" y="2971800"/>
            <a:ext cx="2971080" cy="2780640"/>
            <a:chOff x="-228600" y="2971800"/>
            <a:chExt cx="2971080" cy="2780640"/>
          </a:xfrm>
        </p:grpSpPr>
        <p:grpSp>
          <p:nvGrpSpPr>
            <p:cNvPr id="153" name="Group 37"/>
            <p:cNvGrpSpPr/>
            <p:nvPr/>
          </p:nvGrpSpPr>
          <p:grpSpPr>
            <a:xfrm>
              <a:off x="-228600" y="2971800"/>
              <a:ext cx="2971080" cy="2034360"/>
              <a:chOff x="-228600" y="2971800"/>
              <a:chExt cx="2971080" cy="2034360"/>
            </a:xfrm>
          </p:grpSpPr>
          <p:grpSp>
            <p:nvGrpSpPr>
              <p:cNvPr id="154" name="Group 38"/>
              <p:cNvGrpSpPr/>
              <p:nvPr/>
            </p:nvGrpSpPr>
            <p:grpSpPr>
              <a:xfrm>
                <a:off x="222480" y="2971800"/>
                <a:ext cx="2084040" cy="2034360"/>
                <a:chOff x="222480" y="2971800"/>
                <a:chExt cx="2084040" cy="2034360"/>
              </a:xfrm>
            </p:grpSpPr>
            <p:sp>
              <p:nvSpPr>
                <p:cNvPr id="155" name="Oval 39"/>
                <p:cNvSpPr/>
                <p:nvPr/>
              </p:nvSpPr>
              <p:spPr>
                <a:xfrm>
                  <a:off x="222480" y="2971800"/>
                  <a:ext cx="2084040" cy="20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a261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40"/>
                <p:cNvSpPr/>
                <p:nvPr/>
              </p:nvSpPr>
              <p:spPr>
                <a:xfrm>
                  <a:off x="460440" y="3005280"/>
                  <a:ext cx="1607760" cy="767520"/>
                </a:xfrm>
                <a:custGeom>
                  <a:avLst/>
                  <a:gdLst>
                    <a:gd name="textAreaLeft" fmla="*/ 0 w 1607760"/>
                    <a:gd name="textAreaRight" fmla="*/ 1608120 w 1607760"/>
                    <a:gd name="textAreaTop" fmla="*/ 0 h 767520"/>
                    <a:gd name="textAreaBottom" fmla="*/ 767880 h 7675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41"/>
              <p:cNvSpPr/>
              <p:nvPr/>
            </p:nvSpPr>
            <p:spPr>
              <a:xfrm>
                <a:off x="-228600" y="4141080"/>
                <a:ext cx="297108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Oval 42"/>
            <p:cNvSpPr/>
            <p:nvPr/>
          </p:nvSpPr>
          <p:spPr>
            <a:xfrm>
              <a:off x="222840" y="5164200"/>
              <a:ext cx="2214720" cy="5882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43"/>
          <p:cNvSpPr/>
          <p:nvPr/>
        </p:nvSpPr>
        <p:spPr>
          <a:xfrm>
            <a:off x="228600" y="35053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Форм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предст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4"/>
          <p:cNvSpPr/>
          <p:nvPr/>
        </p:nvSpPr>
        <p:spPr>
          <a:xfrm>
            <a:off x="609480" y="304812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5"/>
          <p:cNvSpPr/>
          <p:nvPr/>
        </p:nvSpPr>
        <p:spPr>
          <a:xfrm>
            <a:off x="228600" y="1523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Создать у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9"/>
          <p:cNvSpPr/>
          <p:nvPr/>
        </p:nvSpPr>
        <p:spPr>
          <a:xfrm>
            <a:off x="6588720" y="1422360"/>
            <a:ext cx="25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Совершенств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физически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трудовые навыки</a:t>
            </a: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2"/>
          <p:cNvGrpSpPr/>
          <p:nvPr/>
        </p:nvGrpSpPr>
        <p:grpSpPr>
          <a:xfrm>
            <a:off x="2286000" y="4038480"/>
            <a:ext cx="2208960" cy="2679480"/>
            <a:chOff x="2286000" y="4038480"/>
            <a:chExt cx="2208960" cy="2679480"/>
          </a:xfrm>
        </p:grpSpPr>
        <p:grpSp>
          <p:nvGrpSpPr>
            <p:cNvPr id="164" name="Group 13"/>
            <p:cNvGrpSpPr/>
            <p:nvPr/>
          </p:nvGrpSpPr>
          <p:grpSpPr>
            <a:xfrm>
              <a:off x="2286000" y="4038480"/>
              <a:ext cx="2081520" cy="1968480"/>
              <a:chOff x="2286000" y="4038480"/>
              <a:chExt cx="2081520" cy="1968480"/>
            </a:xfrm>
          </p:grpSpPr>
          <p:sp>
            <p:nvSpPr>
              <p:cNvPr id="165" name="Oval 14"/>
              <p:cNvSpPr/>
              <p:nvPr/>
            </p:nvSpPr>
            <p:spPr>
              <a:xfrm>
                <a:off x="2286000" y="4038480"/>
                <a:ext cx="2081520" cy="196848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f4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5"/>
              <p:cNvSpPr/>
              <p:nvPr/>
            </p:nvSpPr>
            <p:spPr>
              <a:xfrm>
                <a:off x="2523960" y="4070880"/>
                <a:ext cx="1604880" cy="742680"/>
              </a:xfrm>
              <a:custGeom>
                <a:avLst/>
                <a:gdLst>
                  <a:gd name="textAreaLeft" fmla="*/ 0 w 1604880"/>
                  <a:gd name="textAreaRight" fmla="*/ 1605240 w 160488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16"/>
            <p:cNvSpPr/>
            <p:nvPr/>
          </p:nvSpPr>
          <p:spPr>
            <a:xfrm>
              <a:off x="2389680" y="4983840"/>
              <a:ext cx="1873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"/>
            <p:cNvSpPr/>
            <p:nvPr/>
          </p:nvSpPr>
          <p:spPr>
            <a:xfrm>
              <a:off x="2337840" y="6150960"/>
              <a:ext cx="2157120" cy="567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46"/>
          <p:cNvSpPr/>
          <p:nvPr/>
        </p:nvSpPr>
        <p:spPr>
          <a:xfrm>
            <a:off x="2188440" y="4394160"/>
            <a:ext cx="2154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Обогащ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чувствен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эмоциона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опыт</a:t>
            </a: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4"/>
          <p:cNvGrpSpPr/>
          <p:nvPr/>
        </p:nvGrpSpPr>
        <p:grpSpPr>
          <a:xfrm>
            <a:off x="6858000" y="3048120"/>
            <a:ext cx="2285640" cy="2666160"/>
            <a:chOff x="6858000" y="3048120"/>
            <a:chExt cx="2285640" cy="2666160"/>
          </a:xfrm>
        </p:grpSpPr>
        <p:grpSp>
          <p:nvGrpSpPr>
            <p:cNvPr id="171" name="Group 25"/>
            <p:cNvGrpSpPr/>
            <p:nvPr/>
          </p:nvGrpSpPr>
          <p:grpSpPr>
            <a:xfrm>
              <a:off x="6858000" y="3048120"/>
              <a:ext cx="2134440" cy="1918080"/>
              <a:chOff x="6858000" y="3048120"/>
              <a:chExt cx="2134440" cy="1918080"/>
            </a:xfrm>
          </p:grpSpPr>
          <p:sp>
            <p:nvSpPr>
              <p:cNvPr id="172" name="Oval 26"/>
              <p:cNvSpPr/>
              <p:nvPr/>
            </p:nvSpPr>
            <p:spPr>
              <a:xfrm>
                <a:off x="6858000" y="3048120"/>
                <a:ext cx="2134440" cy="19180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073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7"/>
              <p:cNvSpPr/>
              <p:nvPr/>
            </p:nvSpPr>
            <p:spPr>
              <a:xfrm>
                <a:off x="7101720" y="3079800"/>
                <a:ext cx="1646640" cy="72396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723960"/>
                  <a:gd name="textAreaBottom" fmla="*/ 724320 h 723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Text Box 28"/>
            <p:cNvSpPr/>
            <p:nvPr/>
          </p:nvSpPr>
          <p:spPr>
            <a:xfrm>
              <a:off x="6964200" y="3968640"/>
              <a:ext cx="1923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9"/>
            <p:cNvSpPr/>
            <p:nvPr/>
          </p:nvSpPr>
          <p:spPr>
            <a:xfrm>
              <a:off x="6931080" y="5162040"/>
              <a:ext cx="2212560" cy="552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48"/>
          <p:cNvSpPr/>
          <p:nvPr/>
        </p:nvSpPr>
        <p:spPr>
          <a:xfrm>
            <a:off x="6968160" y="358128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Способств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самовыраж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8"/>
          <p:cNvGrpSpPr/>
          <p:nvPr/>
        </p:nvGrpSpPr>
        <p:grpSpPr>
          <a:xfrm>
            <a:off x="4648320" y="4038480"/>
            <a:ext cx="2285280" cy="2666520"/>
            <a:chOff x="4648320" y="4038480"/>
            <a:chExt cx="2285280" cy="2666520"/>
          </a:xfrm>
        </p:grpSpPr>
        <p:grpSp>
          <p:nvGrpSpPr>
            <p:cNvPr id="178" name="Group 19"/>
            <p:cNvGrpSpPr/>
            <p:nvPr/>
          </p:nvGrpSpPr>
          <p:grpSpPr>
            <a:xfrm>
              <a:off x="4648320" y="4038480"/>
              <a:ext cx="2153520" cy="1959120"/>
              <a:chOff x="4648320" y="4038480"/>
              <a:chExt cx="2153520" cy="1959120"/>
            </a:xfrm>
          </p:grpSpPr>
          <p:sp>
            <p:nvSpPr>
              <p:cNvPr id="179" name="Oval 20"/>
              <p:cNvSpPr/>
              <p:nvPr/>
            </p:nvSpPr>
            <p:spPr>
              <a:xfrm>
                <a:off x="4648320" y="4038480"/>
                <a:ext cx="2153520" cy="1959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3434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1"/>
              <p:cNvSpPr/>
              <p:nvPr/>
            </p:nvSpPr>
            <p:spPr>
              <a:xfrm>
                <a:off x="4894200" y="4070880"/>
                <a:ext cx="1661400" cy="739440"/>
              </a:xfrm>
              <a:custGeom>
                <a:avLst/>
                <a:gdLst>
                  <a:gd name="textAreaLeft" fmla="*/ 0 w 1661400"/>
                  <a:gd name="textAreaRight" fmla="*/ 1661760 w 1661400"/>
                  <a:gd name="textAreaTop" fmla="*/ 0 h 739440"/>
                  <a:gd name="textAreaBottom" fmla="*/ 739800 h 7394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Text Box 22"/>
            <p:cNvSpPr/>
            <p:nvPr/>
          </p:nvSpPr>
          <p:spPr>
            <a:xfrm>
              <a:off x="4755600" y="4979160"/>
              <a:ext cx="19382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3"/>
            <p:cNvSpPr/>
            <p:nvPr/>
          </p:nvSpPr>
          <p:spPr>
            <a:xfrm>
              <a:off x="4701960" y="6140880"/>
              <a:ext cx="2231640" cy="5641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47"/>
          <p:cNvSpPr/>
          <p:nvPr/>
        </p:nvSpPr>
        <p:spPr>
          <a:xfrm>
            <a:off x="4570200" y="4572000"/>
            <a:ext cx="248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Разви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337"/>
                </a:solidFill>
                <a:latin typeface="Arial"/>
              </a:rPr>
              <a:t>Новизна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Arial"/>
              </a:rPr>
              <a:t>заключается в осуществлении  образования детей с ОВЗ по адаптированному образовательному проекту по экологическому воспитанию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Arial"/>
              </a:rPr>
              <a:t>это условно его «приспособлени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Arial"/>
              </a:rPr>
              <a:t>для образования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337"/>
                </a:solidFill>
                <a:latin typeface="Arial"/>
              </a:rPr>
              <a:t>с особыми образовательными потребност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Этапы реализаци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5"/>
          <p:cNvGrpSpPr/>
          <p:nvPr/>
        </p:nvGrpSpPr>
        <p:grpSpPr>
          <a:xfrm>
            <a:off x="0" y="1143000"/>
            <a:ext cx="2971080" cy="5401800"/>
            <a:chOff x="0" y="1143000"/>
            <a:chExt cx="2971080" cy="5401800"/>
          </a:xfrm>
        </p:grpSpPr>
        <p:sp>
          <p:nvSpPr>
            <p:cNvPr id="188" name="AutoShape 26"/>
            <p:cNvSpPr/>
            <p:nvPr/>
          </p:nvSpPr>
          <p:spPr>
            <a:xfrm>
              <a:off x="0" y="1554840"/>
              <a:ext cx="2962440" cy="3825000"/>
            </a:xfrm>
            <a:custGeom>
              <a:avLst/>
              <a:gdLst>
                <a:gd name="textAreaLeft" fmla="*/ 151920 w 2962440"/>
                <a:gd name="textAreaRight" fmla="*/ 2810520 w 2962440"/>
                <a:gd name="textAreaTop" fmla="*/ 151920 h 3825000"/>
                <a:gd name="textAreaBottom" fmla="*/ 3673080 h 3825000"/>
              </a:gdLst>
              <a:ahLst/>
              <a:rect l="textAreaLeft" t="textAreaTop" r="textAreaRight" b="textAreaBottom"/>
              <a:pathLst>
                <a:path w="21600" h="27888">
                  <a:moveTo>
                    <a:pt x="3782" y="0"/>
                  </a:moveTo>
                  <a:arcTo wR="3782" hR="3782" stAng="16200000" swAng="-5400000"/>
                  <a:lnTo>
                    <a:pt x="0" y="24106"/>
                  </a:lnTo>
                  <a:arcTo wR="3782" hR="3782" stAng="10800000" swAng="-5400000"/>
                  <a:lnTo>
                    <a:pt x="17818" y="2788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27"/>
            <p:cNvSpPr/>
            <p:nvPr/>
          </p:nvSpPr>
          <p:spPr>
            <a:xfrm>
              <a:off x="45720" y="1566000"/>
              <a:ext cx="2873520" cy="3752280"/>
            </a:xfrm>
            <a:custGeom>
              <a:avLst/>
              <a:gdLst>
                <a:gd name="textAreaLeft" fmla="*/ 140040 w 2873520"/>
                <a:gd name="textAreaRight" fmla="*/ 2733480 w 2873520"/>
                <a:gd name="textAreaTop" fmla="*/ 140040 h 3752280"/>
                <a:gd name="textAreaBottom" fmla="*/ 3612240 h 3752280"/>
              </a:gdLst>
              <a:ahLst/>
              <a:rect l="textAreaLeft" t="textAreaTop" r="textAreaRight" b="textAreaBottom"/>
              <a:pathLst>
                <a:path w="21600" h="28205">
                  <a:moveTo>
                    <a:pt x="3600" y="0"/>
                  </a:moveTo>
                  <a:arcTo wR="3600" hR="3600" stAng="16200000" swAng="-5400000"/>
                  <a:lnTo>
                    <a:pt x="0" y="24605"/>
                  </a:lnTo>
                  <a:arcTo wR="3600" hR="3600" stAng="10800000" swAng="-5400000"/>
                  <a:lnTo>
                    <a:pt x="18000" y="282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8"/>
            <p:cNvSpPr/>
            <p:nvPr/>
          </p:nvSpPr>
          <p:spPr>
            <a:xfrm>
              <a:off x="69480" y="4328280"/>
              <a:ext cx="2834280" cy="949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29"/>
            <p:cNvSpPr/>
            <p:nvPr/>
          </p:nvSpPr>
          <p:spPr>
            <a:xfrm>
              <a:off x="69480" y="1595160"/>
              <a:ext cx="2834280" cy="947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30"/>
            <p:cNvSpPr/>
            <p:nvPr/>
          </p:nvSpPr>
          <p:spPr>
            <a:xfrm>
              <a:off x="8640" y="5380200"/>
              <a:ext cx="2962440" cy="11646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31"/>
            <p:cNvSpPr/>
            <p:nvPr/>
          </p:nvSpPr>
          <p:spPr>
            <a:xfrm>
              <a:off x="69480" y="5411880"/>
              <a:ext cx="2834280" cy="1035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32"/>
            <p:cNvGrpSpPr/>
            <p:nvPr/>
          </p:nvGrpSpPr>
          <p:grpSpPr>
            <a:xfrm>
              <a:off x="1019160" y="1143000"/>
              <a:ext cx="880200" cy="860400"/>
              <a:chOff x="1019160" y="1143000"/>
              <a:chExt cx="880200" cy="860400"/>
            </a:xfrm>
          </p:grpSpPr>
          <p:sp>
            <p:nvSpPr>
              <p:cNvPr id="195" name="Oval 33"/>
              <p:cNvSpPr/>
              <p:nvPr/>
            </p:nvSpPr>
            <p:spPr>
              <a:xfrm>
                <a:off x="1019160" y="1143000"/>
                <a:ext cx="880200" cy="860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34"/>
              <p:cNvSpPr/>
              <p:nvPr/>
            </p:nvSpPr>
            <p:spPr>
              <a:xfrm>
                <a:off x="1028160" y="1149480"/>
                <a:ext cx="851040" cy="833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35"/>
              <p:cNvSpPr/>
              <p:nvPr/>
            </p:nvSpPr>
            <p:spPr>
              <a:xfrm>
                <a:off x="1038600" y="1154520"/>
                <a:ext cx="831240" cy="812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36"/>
              <p:cNvSpPr/>
              <p:nvPr/>
            </p:nvSpPr>
            <p:spPr>
              <a:xfrm>
                <a:off x="1047960" y="1162440"/>
                <a:ext cx="790560" cy="7585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37"/>
              <p:cNvSpPr/>
              <p:nvPr/>
            </p:nvSpPr>
            <p:spPr>
              <a:xfrm>
                <a:off x="1094040" y="1182960"/>
                <a:ext cx="702360" cy="616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Text Box 38"/>
            <p:cNvSpPr/>
            <p:nvPr/>
          </p:nvSpPr>
          <p:spPr>
            <a:xfrm>
              <a:off x="1274400" y="1266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9"/>
            <p:cNvSpPr/>
            <p:nvPr/>
          </p:nvSpPr>
          <p:spPr>
            <a:xfrm>
              <a:off x="104400" y="2162880"/>
              <a:ext cx="2817360" cy="33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50337"/>
                  </a:solidFill>
                  <a:latin typeface="Arial"/>
                </a:rPr>
                <a:t>Организационны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50337"/>
                  </a:solidFill>
                  <a:latin typeface="Arial"/>
                </a:rPr>
                <a:t>(август -  сентябрь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224"/>
                </a:spcAft>
                <a:buClr>
                  <a:srgbClr val="050337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50337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50337"/>
                  </a:solidFill>
                  <a:latin typeface="Arial"/>
                </a:rPr>
                <a:t>выявление проблемы и обоснование ее актуальности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50337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50337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50337"/>
                  </a:solidFill>
                  <a:latin typeface="Arial"/>
                </a:rPr>
                <a:t>постановка цели и прогнозирование ожидаемых результатов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50337"/>
                  </a:solidFill>
                  <a:latin typeface="Arial"/>
                </a:rPr>
                <a:t>- с</a:t>
              </a:r>
              <a:r>
                <a:rPr b="0" lang="en-US" sz="1800" spc="-1" strike="noStrike">
                  <a:solidFill>
                    <a:srgbClr val="050337"/>
                  </a:solidFill>
                  <a:latin typeface="Arial"/>
                </a:rPr>
                <a:t>оздание</a:t>
              </a:r>
              <a:r>
                <a:rPr b="0" lang="ru-RU" sz="1800" spc="-1" strike="noStrike">
                  <a:solidFill>
                    <a:srgbClr val="050337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50337"/>
                  </a:solidFill>
                  <a:latin typeface="Arial"/>
                </a:rPr>
                <a:t>необходимых услов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70"/>
          <p:cNvGrpSpPr/>
          <p:nvPr/>
        </p:nvGrpSpPr>
        <p:grpSpPr>
          <a:xfrm>
            <a:off x="3048120" y="1143000"/>
            <a:ext cx="2971080" cy="5409720"/>
            <a:chOff x="3048120" y="1143000"/>
            <a:chExt cx="2971080" cy="5409720"/>
          </a:xfrm>
        </p:grpSpPr>
        <p:sp>
          <p:nvSpPr>
            <p:cNvPr id="203" name="AutoShape 71"/>
            <p:cNvSpPr/>
            <p:nvPr/>
          </p:nvSpPr>
          <p:spPr>
            <a:xfrm>
              <a:off x="3048120" y="1555560"/>
              <a:ext cx="2967120" cy="3830760"/>
            </a:xfrm>
            <a:custGeom>
              <a:avLst/>
              <a:gdLst>
                <a:gd name="textAreaLeft" fmla="*/ 151920 w 2967120"/>
                <a:gd name="textAreaRight" fmla="*/ 2815200 w 2967120"/>
                <a:gd name="textAreaTop" fmla="*/ 151920 h 3830760"/>
                <a:gd name="textAreaBottom" fmla="*/ 3678840 h 3830760"/>
              </a:gdLst>
              <a:ahLst/>
              <a:rect l="textAreaLeft" t="textAreaTop" r="textAreaRight" b="textAreaBottom"/>
              <a:pathLst>
                <a:path w="21600" h="27886">
                  <a:moveTo>
                    <a:pt x="3782" y="0"/>
                  </a:moveTo>
                  <a:arcTo wR="3782" hR="3782" stAng="16200000" swAng="-5400000"/>
                  <a:lnTo>
                    <a:pt x="0" y="24104"/>
                  </a:lnTo>
                  <a:arcTo wR="3782" hR="3782" stAng="10800000" swAng="-5400000"/>
                  <a:lnTo>
                    <a:pt x="17818" y="2788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72"/>
            <p:cNvSpPr/>
            <p:nvPr/>
          </p:nvSpPr>
          <p:spPr>
            <a:xfrm>
              <a:off x="3093480" y="1566720"/>
              <a:ext cx="2878200" cy="3757680"/>
            </a:xfrm>
            <a:custGeom>
              <a:avLst/>
              <a:gdLst>
                <a:gd name="textAreaLeft" fmla="*/ 140400 w 2878200"/>
                <a:gd name="textAreaRight" fmla="*/ 2737800 w 2878200"/>
                <a:gd name="textAreaTop" fmla="*/ 140400 h 3757680"/>
                <a:gd name="textAreaBottom" fmla="*/ 3617280 h 3757680"/>
              </a:gdLst>
              <a:ahLst/>
              <a:rect l="textAreaLeft" t="textAreaTop" r="textAreaRight" b="textAreaBottom"/>
              <a:pathLst>
                <a:path w="21600" h="28199">
                  <a:moveTo>
                    <a:pt x="3600" y="0"/>
                  </a:moveTo>
                  <a:arcTo wR="3600" hR="3600" stAng="16200000" swAng="-5400000"/>
                  <a:lnTo>
                    <a:pt x="0" y="24599"/>
                  </a:lnTo>
                  <a:arcTo wR="3600" hR="3600" stAng="10800000" swAng="-5400000"/>
                  <a:lnTo>
                    <a:pt x="18000" y="281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73"/>
            <p:cNvSpPr/>
            <p:nvPr/>
          </p:nvSpPr>
          <p:spPr>
            <a:xfrm>
              <a:off x="3117600" y="4332960"/>
              <a:ext cx="2838600" cy="951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74"/>
            <p:cNvSpPr/>
            <p:nvPr/>
          </p:nvSpPr>
          <p:spPr>
            <a:xfrm>
              <a:off x="3117600" y="1595880"/>
              <a:ext cx="2838600" cy="948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75"/>
            <p:cNvSpPr/>
            <p:nvPr/>
          </p:nvSpPr>
          <p:spPr>
            <a:xfrm>
              <a:off x="4069080" y="1143000"/>
              <a:ext cx="881640" cy="861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76"/>
            <p:cNvSpPr/>
            <p:nvPr/>
          </p:nvSpPr>
          <p:spPr>
            <a:xfrm>
              <a:off x="4077360" y="1149120"/>
              <a:ext cx="853560" cy="834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77"/>
            <p:cNvSpPr/>
            <p:nvPr/>
          </p:nvSpPr>
          <p:spPr>
            <a:xfrm>
              <a:off x="4088520" y="1153440"/>
              <a:ext cx="833040" cy="815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78"/>
            <p:cNvSpPr/>
            <p:nvPr/>
          </p:nvSpPr>
          <p:spPr>
            <a:xfrm>
              <a:off x="4097160" y="1162080"/>
              <a:ext cx="792360" cy="759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79"/>
            <p:cNvSpPr/>
            <p:nvPr/>
          </p:nvSpPr>
          <p:spPr>
            <a:xfrm>
              <a:off x="4145040" y="1183320"/>
              <a:ext cx="703440" cy="61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80"/>
            <p:cNvSpPr/>
            <p:nvPr/>
          </p:nvSpPr>
          <p:spPr>
            <a:xfrm>
              <a:off x="4326120" y="126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81"/>
            <p:cNvSpPr/>
            <p:nvPr/>
          </p:nvSpPr>
          <p:spPr>
            <a:xfrm>
              <a:off x="3152160" y="2164320"/>
              <a:ext cx="282132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50337"/>
                  </a:solidFill>
                  <a:latin typeface="Arial"/>
                </a:rPr>
                <a:t>Основно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50337"/>
                  </a:solidFill>
                  <a:latin typeface="Arial"/>
                </a:rPr>
                <a:t>(октябрь - апрель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50337"/>
                  </a:solidFill>
                  <a:latin typeface="Arial"/>
                </a:rPr>
                <a:t>реализация перспективно-тематического пла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82"/>
            <p:cNvSpPr/>
            <p:nvPr/>
          </p:nvSpPr>
          <p:spPr>
            <a:xfrm>
              <a:off x="3051720" y="5386320"/>
              <a:ext cx="2967480" cy="1166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83"/>
            <p:cNvSpPr/>
            <p:nvPr/>
          </p:nvSpPr>
          <p:spPr>
            <a:xfrm>
              <a:off x="3113280" y="5418360"/>
              <a:ext cx="2838600" cy="1036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84"/>
          <p:cNvGrpSpPr/>
          <p:nvPr/>
        </p:nvGrpSpPr>
        <p:grpSpPr>
          <a:xfrm>
            <a:off x="6095880" y="1066680"/>
            <a:ext cx="3047400" cy="5485680"/>
            <a:chOff x="6095880" y="1066680"/>
            <a:chExt cx="3047400" cy="5485680"/>
          </a:xfrm>
        </p:grpSpPr>
        <p:sp>
          <p:nvSpPr>
            <p:cNvPr id="217" name="AutoShape 85"/>
            <p:cNvSpPr/>
            <p:nvPr/>
          </p:nvSpPr>
          <p:spPr>
            <a:xfrm>
              <a:off x="6104160" y="1485000"/>
              <a:ext cx="3039120" cy="3884760"/>
            </a:xfrm>
            <a:custGeom>
              <a:avLst/>
              <a:gdLst>
                <a:gd name="textAreaLeft" fmla="*/ 155520 w 3039120"/>
                <a:gd name="textAreaRight" fmla="*/ 2883600 w 3039120"/>
                <a:gd name="textAreaTop" fmla="*/ 155520 h 3884760"/>
                <a:gd name="textAreaBottom" fmla="*/ 3729240 h 3884760"/>
              </a:gdLst>
              <a:ahLst/>
              <a:rect l="textAreaLeft" t="textAreaTop" r="textAreaRight" b="textAreaBottom"/>
              <a:pathLst>
                <a:path w="21600" h="27610">
                  <a:moveTo>
                    <a:pt x="3782" y="0"/>
                  </a:moveTo>
                  <a:arcTo wR="3782" hR="3782" stAng="16200000" swAng="-5400000"/>
                  <a:lnTo>
                    <a:pt x="0" y="23828"/>
                  </a:lnTo>
                  <a:arcTo wR="3782" hR="3782" stAng="10800000" swAng="-5400000"/>
                  <a:lnTo>
                    <a:pt x="17818" y="2761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86"/>
            <p:cNvSpPr/>
            <p:nvPr/>
          </p:nvSpPr>
          <p:spPr>
            <a:xfrm>
              <a:off x="6151320" y="1496160"/>
              <a:ext cx="2947680" cy="3810960"/>
            </a:xfrm>
            <a:custGeom>
              <a:avLst/>
              <a:gdLst>
                <a:gd name="textAreaLeft" fmla="*/ 143640 w 2947680"/>
                <a:gd name="textAreaRight" fmla="*/ 2804040 w 2947680"/>
                <a:gd name="textAreaTop" fmla="*/ 143640 h 3810960"/>
                <a:gd name="textAreaBottom" fmla="*/ 3667320 h 3810960"/>
              </a:gdLst>
              <a:ahLst/>
              <a:rect l="textAreaLeft" t="textAreaTop" r="textAreaRight" b="textAreaBottom"/>
              <a:pathLst>
                <a:path w="21600" h="27925">
                  <a:moveTo>
                    <a:pt x="3600" y="0"/>
                  </a:moveTo>
                  <a:arcTo wR="3600" hR="3600" stAng="16200000" swAng="-5400000"/>
                  <a:lnTo>
                    <a:pt x="0" y="24325"/>
                  </a:lnTo>
                  <a:arcTo wR="3600" hR="3600" stAng="10800000" swAng="-5400000"/>
                  <a:lnTo>
                    <a:pt x="18000" y="279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87"/>
            <p:cNvSpPr/>
            <p:nvPr/>
          </p:nvSpPr>
          <p:spPr>
            <a:xfrm>
              <a:off x="6175440" y="4301640"/>
              <a:ext cx="2907720" cy="964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88"/>
            <p:cNvSpPr/>
            <p:nvPr/>
          </p:nvSpPr>
          <p:spPr>
            <a:xfrm>
              <a:off x="6175440" y="1526040"/>
              <a:ext cx="2907720" cy="962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89"/>
            <p:cNvGrpSpPr/>
            <p:nvPr/>
          </p:nvGrpSpPr>
          <p:grpSpPr>
            <a:xfrm>
              <a:off x="7149960" y="1066680"/>
              <a:ext cx="902880" cy="874080"/>
              <a:chOff x="7149960" y="1066680"/>
              <a:chExt cx="902880" cy="874080"/>
            </a:xfrm>
          </p:grpSpPr>
          <p:sp>
            <p:nvSpPr>
              <p:cNvPr id="222" name="Oval 90"/>
              <p:cNvSpPr/>
              <p:nvPr/>
            </p:nvSpPr>
            <p:spPr>
              <a:xfrm>
                <a:off x="7149960" y="1066680"/>
                <a:ext cx="902880" cy="874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91"/>
              <p:cNvSpPr/>
              <p:nvPr/>
            </p:nvSpPr>
            <p:spPr>
              <a:xfrm>
                <a:off x="7159320" y="1073160"/>
                <a:ext cx="873000" cy="846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92"/>
              <p:cNvSpPr/>
              <p:nvPr/>
            </p:nvSpPr>
            <p:spPr>
              <a:xfrm>
                <a:off x="7170120" y="1078200"/>
                <a:ext cx="852840" cy="825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93"/>
              <p:cNvSpPr/>
              <p:nvPr/>
            </p:nvSpPr>
            <p:spPr>
              <a:xfrm>
                <a:off x="7179480" y="1086480"/>
                <a:ext cx="810720" cy="770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94"/>
              <p:cNvSpPr/>
              <p:nvPr/>
            </p:nvSpPr>
            <p:spPr>
              <a:xfrm>
                <a:off x="7226640" y="1107000"/>
                <a:ext cx="720360" cy="626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Text Box 95"/>
            <p:cNvSpPr/>
            <p:nvPr/>
          </p:nvSpPr>
          <p:spPr>
            <a:xfrm>
              <a:off x="7415640" y="1191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96"/>
            <p:cNvSpPr/>
            <p:nvPr/>
          </p:nvSpPr>
          <p:spPr>
            <a:xfrm>
              <a:off x="6211440" y="2102400"/>
              <a:ext cx="2889360" cy="29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50337"/>
                  </a:solidFill>
                  <a:latin typeface="Arial"/>
                </a:rPr>
                <a:t>З</a:t>
              </a:r>
              <a:r>
                <a:rPr b="1" lang="en-US" sz="2000" spc="-1" strike="noStrike">
                  <a:solidFill>
                    <a:srgbClr val="050337"/>
                  </a:solidFill>
                  <a:latin typeface="Arial"/>
                </a:rPr>
                <a:t>аключительный</a:t>
              </a:r>
              <a:r>
                <a:rPr b="0" lang="en-US" sz="2000" spc="-1" strike="noStrike">
                  <a:solidFill>
                    <a:srgbClr val="050337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50337"/>
                  </a:solidFill>
                  <a:latin typeface="Arial"/>
                </a:rPr>
                <a:t>(апрель - </a:t>
              </a:r>
              <a:r>
                <a:rPr b="0" lang="ru-RU" sz="2000" spc="-1" strike="noStrike">
                  <a:solidFill>
                    <a:srgbClr val="050337"/>
                  </a:solidFill>
                  <a:latin typeface="Arial"/>
                </a:rPr>
                <a:t>май</a:t>
              </a:r>
              <a:r>
                <a:rPr b="0" lang="en-US" sz="2000" spc="-1" strike="noStrike">
                  <a:solidFill>
                    <a:srgbClr val="050337"/>
                  </a:solidFill>
                  <a:latin typeface="Arial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50337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50337"/>
                  </a:solidFill>
                  <a:latin typeface="Arial"/>
                </a:rPr>
                <a:t>резервное врем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50337"/>
                  </a:solidFill>
                  <a:latin typeface="Arial"/>
                </a:rPr>
                <a:t>(май – июль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50337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50337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50337"/>
                  </a:solidFill>
                  <a:latin typeface="Arial"/>
                </a:rPr>
                <a:t>анализ диагностических данных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50337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50337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50337"/>
                  </a:solidFill>
                  <a:latin typeface="Arial"/>
                </a:rPr>
                <a:t>сопоставление имеющихся результатов с прогнозируемы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97"/>
            <p:cNvSpPr/>
            <p:nvPr/>
          </p:nvSpPr>
          <p:spPr>
            <a:xfrm>
              <a:off x="6095880" y="5369760"/>
              <a:ext cx="3038760" cy="11826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98"/>
            <p:cNvSpPr/>
            <p:nvPr/>
          </p:nvSpPr>
          <p:spPr>
            <a:xfrm>
              <a:off x="6157800" y="5402160"/>
              <a:ext cx="2907360" cy="105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337"/>
                </a:solidFill>
                <a:latin typeface="Arial"/>
              </a:rPr>
              <a:t>Пути и средства реализаци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905120" y="1616040"/>
            <a:ext cx="5790960" cy="52419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1295280" y="114300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337"/>
                </a:solidFill>
                <a:latin typeface="Arial"/>
              </a:rPr>
              <a:t>Совместная деятельность воспитателя и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190512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19051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190512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>
            <a:off x="1905120" y="5105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2"/>
          <p:cNvSpPr/>
          <p:nvPr/>
        </p:nvSpPr>
        <p:spPr>
          <a:xfrm>
            <a:off x="304920" y="304812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Познавательно-исследователь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6477120" y="29718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Игров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2971800" y="6248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337"/>
                </a:solidFill>
                <a:latin typeface="Arial"/>
              </a:rPr>
              <a:t>Экологическая т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16:31:45Z</dcterms:created>
  <dc:creator>Алексей</dc:creator>
  <dc:description/>
  <dc:language>en-US</dc:language>
  <cp:lastModifiedBy>Алёна</cp:lastModifiedBy>
  <dcterms:modified xsi:type="dcterms:W3CDTF">2020-09-07T19:20:47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