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13.png" ContentType="image/png"/>
  <Override PartName="/ppt/media/image10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5.wmf" ContentType="image/x-wmf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55C-4068-47AD-A12E-03227421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E56-BD80-48F4-8AB5-13F09F3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A3E-9D05-481D-85E7-9A9A5CCF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5B5-C245-4E6C-B7BC-A74B7281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462B-C9CA-4004-906B-134D03C5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77C-4382-439D-8D48-35060F4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9424-F669-4A23-9632-1B3406E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3769-D4BF-43CD-B79B-D131CB1A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8347-75A2-4D92-9BB0-1DB4001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D54-2B5E-464F-B8BB-F027EE7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960A-7965-4333-9A7F-AE6602EA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9DF-6C5F-4E2D-A233-B939E00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136-8091-4A92-A18F-6250099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911E-BD96-4C5C-B61D-EC461DF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0C2-096B-496D-B22B-883989BF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E4E9-82D8-4AFC-9F8D-D58555C5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2DB-797C-4152-99FB-B6CBC4BD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A4C0-6507-4E98-A64A-212F749B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6B7A-B23D-477B-AF65-668AE2B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86C7-E7DB-4CA3-99DC-3B70BDA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9EC1-DE64-4093-B0D1-3E789D9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1C6F-FA59-41B2-93E2-77ED288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081-BE1D-4BFC-B5FE-823C726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5163-54B2-420B-9046-E248199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0CC6-FF07-4355-9C66-7A2D37AF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0F57-135C-4318-944B-26B6920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25EE-188A-4F5D-96D6-5CD1D10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E56C-2B7B-4D3A-9D46-464823A4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3856-3B08-44F0-ADB8-8328F6A4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5CE3-0676-4C25-81AD-12980F26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DEB9-53D1-4E5F-AABB-DE553978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06BA-7B80-41A5-8F4B-63EA07B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F1C0-69A1-4303-8221-048D4EBF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C7A-AD8E-44A4-9381-B5A802C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4328-7D33-42E9-9DC7-9D953B28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B25D-3DB4-4001-A7C5-63B84B4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2991-D0F8-4DF4-8FF8-A4746E4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D38A-C4E5-453E-ACB2-53AB383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DA5A-7067-4AC1-BF11-A8FABB2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2647-FD5E-4B75-A89B-8E381C2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15AC-05B0-41BB-A0A0-65CA65E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A06D-CE6A-48DE-ABE2-FC228FCC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B268-5A1B-46D9-8FB7-6BF15031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3D7A-8174-4FCC-B34F-FF064CAC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DD6-80DC-4855-801B-3F99BBE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E1A6-A538-4333-A2E0-A1E29BE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A39E-853D-4F25-A60F-B34FD9B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E931-3EA4-48B8-BF56-0BD68849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BE89-BB17-4776-BB3D-AF6ED20B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F196-9208-40F8-B4AF-70CB64C2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E35F-9335-4FCF-8237-0DE1CDB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D6B3-08CD-4D22-8B24-5287E94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C672-6871-4736-84FA-902E77A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E6696-D81D-47F1-A017-1591474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1D09-1ADF-45F4-A26F-DC07C4AB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86B-D225-4D5A-9C76-BC45553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4B0DC-CA4B-4853-83E2-B5F37E3E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DF9-F1D3-4812-866A-F8426B4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4EB-AAA1-484D-9DDC-007FD5B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41E-50B7-4E51-B3FC-6BE7470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B61CD6-0238-4B23-8389-75D5F1F3278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6FB63F-3B76-4971-A6F8-D058FBA646E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C3D42-5B16-407D-A4AB-E485A4ECF2F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8F871C-EECC-4AFE-B9CC-CA292A99F9E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956DA4-CF81-42C1-85CD-8CD62956FCD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" Target="slide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" Target="slide2.xml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1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3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4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5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6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227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29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23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2627280" y="3357720"/>
            <a:ext cx="3529080" cy="2879640"/>
          </a:xfrm>
          <a:custGeom>
            <a:avLst/>
            <a:gdLst>
              <a:gd name="textAreaLeft" fmla="*/ 805680 w 3529080"/>
              <a:gd name="textAreaRight" fmla="*/ 2723400 w 352908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ШКОЛЬНИ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2" descr="J0232988"/>
          <p:cNvPicPr/>
          <p:nvPr/>
        </p:nvPicPr>
        <p:blipFill>
          <a:blip r:embed="rId1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3" descr="55"/>
          <p:cNvPicPr/>
          <p:nvPr/>
        </p:nvPicPr>
        <p:blipFill>
          <a:blip r:embed="rId2"/>
          <a:stretch/>
        </p:blipFill>
        <p:spPr>
          <a:xfrm>
            <a:off x="6156360" y="-243000"/>
            <a:ext cx="2303280" cy="1898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5"/>
          <p:cNvSpPr/>
          <p:nvPr/>
        </p:nvSpPr>
        <p:spPr>
          <a:xfrm>
            <a:off x="3286080" y="600084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428472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6012000" y="2892600"/>
            <a:ext cx="2089080" cy="166356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643280" y="1484280"/>
            <a:ext cx="863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96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22604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920520" cy="976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6732720" y="3429000"/>
            <a:ext cx="987120" cy="1135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4"/>
          <a:stretch/>
        </p:blipFill>
        <p:spPr>
          <a:xfrm>
            <a:off x="6156360" y="2565360"/>
            <a:ext cx="987480" cy="1135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5"/>
          <a:stretch/>
        </p:blipFill>
        <p:spPr>
          <a:xfrm>
            <a:off x="7885080" y="2708280"/>
            <a:ext cx="987480" cy="113508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10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11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12" descr="3STR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643280" y="1484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28810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8" descr="3STR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4643280" y="1484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468360" y="2328840"/>
            <a:ext cx="8039160" cy="24685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8" descr="3STR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0" y="765000"/>
            <a:ext cx="5759280" cy="3672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250920" y="463068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ягушата Гоша, Тоша и Лёш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соревнований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ша очень любит землянику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юбитель земляники проиграл Лёш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Тоша прыгнул лучше, чем Лё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5293800" y="3357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421800" y="253512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ё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1333080" y="328464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8229600" cy="2103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513648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Маша, Марфуша и Матрёша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ша с бантик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Матрёши платье в горошек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слева от Марфуши стоит Маш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559640" cy="41752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7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Picture 8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9"/>
          <p:cNvSpPr/>
          <p:nvPr/>
        </p:nvSpPr>
        <p:spPr>
          <a:xfrm>
            <a:off x="3853080" y="462456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5797800" y="455148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рфу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973440" y="455148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рё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53769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80360" y="314064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земляниче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613400" y="494064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65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ягод съела улит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219560" cy="2276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2663640" cy="172908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10" descr="3STR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914400" y="53769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80000" y="31406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птичек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4932360" y="508464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произошл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527640" cy="3348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10" descr="3STR3"/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0"/>
          <a:ext cx="9540720" cy="6858000"/>
        </p:xfrm>
        <a:graphic>
          <a:graphicData uri="http://schemas.openxmlformats.org/drawingml/2006/table">
            <a:tbl>
              <a:tblPr/>
              <a:tblGrid>
                <a:gridCol w="765000"/>
                <a:gridCol w="723960"/>
                <a:gridCol w="725760"/>
                <a:gridCol w="723600"/>
                <a:gridCol w="725760"/>
                <a:gridCol w="723600"/>
                <a:gridCol w="765360"/>
                <a:gridCol w="723960"/>
                <a:gridCol w="725400"/>
                <a:gridCol w="723960"/>
                <a:gridCol w="725400"/>
                <a:gridCol w="723960"/>
                <a:gridCol w="7650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го больше - яблок или вишено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вишенок больше, чем ябло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159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689440" cy="396072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кузнечиков или стрекоз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кузнечиков больше, чем стрекоз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159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4105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927000" y="262080"/>
            <a:ext cx="8217000" cy="1712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844640"/>
            <a:ext cx="7921800" cy="468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3294000" cy="4390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" descr="3STR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3423960" y="6338880"/>
            <a:ext cx="27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делай выв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бабочек или жук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колько жуков больше, чем бабоче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Picture 159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396072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33320"/>
                <a:gridCol w="693720"/>
                <a:gridCol w="695520"/>
                <a:gridCol w="693720"/>
                <a:gridCol w="695160"/>
                <a:gridCol w="693720"/>
                <a:gridCol w="733680"/>
                <a:gridCol w="693720"/>
                <a:gridCol w="695160"/>
                <a:gridCol w="693720"/>
                <a:gridCol w="695520"/>
                <a:gridCol w="693720"/>
                <a:gridCol w="7333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Rectangle 158"/>
          <p:cNvSpPr/>
          <p:nvPr/>
        </p:nvSpPr>
        <p:spPr>
          <a:xfrm>
            <a:off x="324000" y="501336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го больше - котят или щенк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 сколько щенков больше, чем котя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Picture 159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264360" cy="40320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61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162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Picture 163" descr="3STR3"/>
          <p:cNvPicPr/>
          <p:nvPr/>
        </p:nvPicPr>
        <p:blipFill>
          <a:blip r:embed="rId2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8064360" cy="42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216240" cy="42480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7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771048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16872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0" y="-208080"/>
            <a:ext cx="8229600" cy="2103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0" y="2349360"/>
            <a:ext cx="2951280" cy="25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4"/>
          <a:stretch/>
        </p:blipFill>
        <p:spPr>
          <a:xfrm>
            <a:off x="7380360" y="134136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5"/>
          <a:stretch/>
        </p:blipFill>
        <p:spPr>
          <a:xfrm>
            <a:off x="7093080" y="285264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6"/>
          <a:stretch/>
        </p:blipFill>
        <p:spPr>
          <a:xfrm>
            <a:off x="5796000" y="407664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7"/>
          <a:stretch/>
        </p:blipFill>
        <p:spPr>
          <a:xfrm>
            <a:off x="7380360" y="4365720"/>
            <a:ext cx="14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8"/>
          <a:stretch/>
        </p:blipFill>
        <p:spPr>
          <a:xfrm>
            <a:off x="5940360" y="148428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0"/>
          <p:cNvSpPr/>
          <p:nvPr/>
        </p:nvSpPr>
        <p:spPr>
          <a:xfrm>
            <a:off x="378000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12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13" descr="3STR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392436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2347920"/>
            <a:ext cx="3309840" cy="2733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414036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2435400"/>
            <a:ext cx="2809800" cy="221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125424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6443640" y="3429000"/>
            <a:ext cx="1440000" cy="158436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9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10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11" descr="3STR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4140360" y="27813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456000" cy="3168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521080" cy="1440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9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10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284720" y="27813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 </a:t>
            </a:r>
            <a:r>
              <a:rPr b="0" lang="ru-RU" sz="8000" spc="-1" strike="noStrike">
                <a:solidFill>
                  <a:srgbClr val="b13f9a"/>
                </a:solidFill>
                <a:latin typeface="Arial"/>
                <a:ea typeface="Arial"/>
              </a:rPr>
              <a:t>-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671640" cy="288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1657440" cy="100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8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9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0:17:07Z</dcterms:created>
  <dc:creator>uvfilinkov</dc:creator>
  <dc:description/>
  <dc:language>en-US</dc:language>
  <cp:lastModifiedBy>Admin</cp:lastModifiedBy>
  <dcterms:modified xsi:type="dcterms:W3CDTF">2020-09-07T15:06:48Z</dcterms:modified>
  <cp:revision>128</cp:revision>
  <dc:subject/>
  <dc:title>Слайд 1</dc:title>
</cp:coreProperties>
</file>