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PAST SIMPLE TENSE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шедшее прост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71640" y="2735280"/>
            <a:ext cx="6696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We visited London in 2019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804960"/>
                <a:tab algn="l" pos="1523880"/>
                <a:tab algn="l" pos="2243160"/>
                <a:tab algn="l" pos="2962440"/>
                <a:tab algn="l" pos="3681360"/>
                <a:tab algn="l" pos="4400640"/>
                <a:tab algn="l" pos="5119560"/>
                <a:tab algn="l" pos="5838840"/>
                <a:tab algn="l" pos="6558120"/>
                <a:tab algn="l" pos="7277040"/>
                <a:tab algn="l" pos="7996320"/>
                <a:tab algn="l" pos="8715240"/>
                <a:tab algn="l" pos="9434520"/>
                <a:tab algn="l" pos="10153800"/>
                <a:tab algn="l" pos="10872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rived in the                         morning and                                    stayed at a ho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no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1147680"/>
                <a:tab algn="l" pos="1866960"/>
                <a:tab algn="l" pos="2585880"/>
                <a:tab algn="l" pos="3305160"/>
                <a:tab algn="l" pos="4024440"/>
                <a:tab algn="l" pos="4743360"/>
                <a:tab algn="l" pos="5462640"/>
                <a:tab algn="l" pos="6181560"/>
                <a:tab algn="l" pos="6900840"/>
                <a:tab algn="l" pos="7620120"/>
                <a:tab algn="l" pos="8339040"/>
                <a:tab algn="l" pos="9058320"/>
                <a:tab algn="l" pos="9777240"/>
                <a:tab algn="l" pos="10496520"/>
                <a:tab algn="l" pos="112158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ordered the breakfast and visited Big B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30800" y="3095640"/>
            <a:ext cx="420048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Affirmative  form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+   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Глаголы ( V 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watc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sm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listened        op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V + 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Неправи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go - went             do  - did               eat- ate         fly-flew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say-sa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smincho"/>
              </a:rPr>
              <a:t>V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msmincho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msmincho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smincho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Negative form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 did not dance at the party yester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e did not play football last weekend.    She did not cook dinner last week.      We did not skate two days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You did not download music last mon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They did not  use computers 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Did not + 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Negative form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9840" y="2101680"/>
            <a:ext cx="8607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I did not go to school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e did not ride a bike las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She did not sing two day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They did not speak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We did not visit London las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You did not eat ice-cream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Did not + 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Negative         form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е глаг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Did not +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Неправильные глаг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mincho"/>
              </a:rPr>
              <a:t>Did not +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