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AB6-D049-43E3-92ED-6A4EAB55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0F0-7533-43E6-86D4-5D82785E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3CE-158E-4CDE-B2DC-C9703C0B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2D3-BE85-475F-A602-536935B4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806-A120-4F2C-A5A4-1877A76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F18-4CAB-4476-93D3-004D695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F96-7ADF-4E63-9D79-E413ED0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F89-DAB6-4B9D-849E-964095E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0CA-E4F7-4DD6-9A69-5DEB421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309-BBD2-47A5-9D3C-2C42303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1A6-77F3-4AF9-96D1-0807199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556-F722-49AE-8429-B01C6CEB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7F5-C350-47CE-9397-AB0825808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thumbs.dreamstime.com/z/school-children-s-background-yellow-place-text-32952145.jpg"/>
          <p:cNvPicPr/>
          <p:nvPr/>
        </p:nvPicPr>
        <p:blipFill>
          <a:blip r:embed="rId1"/>
          <a:srcRect l="0" t="0" r="0" b="69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cristianosgays.com/wp-content/uploads/2014/05/noticias_file_foto_786144_1399991969.jpg"/>
          <p:cNvPicPr/>
          <p:nvPr/>
        </p:nvPicPr>
        <p:blipFill>
          <a:blip r:embed="rId2"/>
          <a:stretch/>
        </p:blipFill>
        <p:spPr>
          <a:xfrm>
            <a:off x="3191040" y="0"/>
            <a:ext cx="5952960" cy="40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nvk26-10b.ucoz.ua/SchoolHouse.jpg"/>
          <p:cNvPicPr/>
          <p:nvPr/>
        </p:nvPicPr>
        <p:blipFill>
          <a:blip r:embed="rId3"/>
          <a:stretch/>
        </p:blipFill>
        <p:spPr>
          <a:xfrm>
            <a:off x="3203640" y="4076640"/>
            <a:ext cx="59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Septemb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Verdan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7"/>
          <p:cNvSpPr/>
          <p:nvPr/>
        </p:nvSpPr>
        <p:spPr>
          <a:xfrm>
            <a:off x="250920" y="2565360"/>
            <a:ext cx="3457440" cy="1727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o speak about  schools in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трелка вправо 8"/>
          <p:cNvSpPr/>
          <p:nvPr/>
        </p:nvSpPr>
        <p:spPr>
          <a:xfrm>
            <a:off x="250920" y="2565360"/>
            <a:ext cx="3475080" cy="1728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4067280" y="3360600"/>
            <a:ext cx="2449440" cy="16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5"/>
          <a:stretch/>
        </p:blipFill>
        <p:spPr>
          <a:xfrm>
            <a:off x="6732720" y="3360600"/>
            <a:ext cx="2109600" cy="16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Phonetic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91520" cy="3657600"/>
        </p:xfrm>
        <a:graphic>
          <a:graphicData uri="http://schemas.openxmlformats.org/drawingml/2006/table">
            <a:tbl>
              <a:tblPr/>
              <a:tblGrid>
                <a:gridCol w="1954080"/>
                <a:gridCol w="2665440"/>
                <a:gridCol w="36720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kɔlɪdʒ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д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‚junɪꞌ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ɪ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иверсит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dʒu:nɪə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лад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fɔ:m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ɪnfənt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s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kemɪstrɪ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ˈfɪzɪk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‚edjukˈeɪʃən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5076720" y="2997360"/>
            <a:ext cx="3673440" cy="4572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5076720" y="1628640"/>
            <a:ext cx="3672000" cy="4572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5076720" y="2492280"/>
            <a:ext cx="3673440" cy="505080"/>
          </a:xfrm>
          <a:prstGeom prst="rect">
            <a:avLst/>
          </a:prstGeom>
          <a:solidFill>
            <a:srgbClr val="f79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5076720" y="3429000"/>
            <a:ext cx="367344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5076720" y="2060640"/>
            <a:ext cx="367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2"/>
          <p:cNvSpPr/>
          <p:nvPr/>
        </p:nvSpPr>
        <p:spPr>
          <a:xfrm flipV="1">
            <a:off x="5076720" y="4796640"/>
            <a:ext cx="3673440" cy="45396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5076720" y="3933720"/>
            <a:ext cx="36734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4"/>
          <p:cNvSpPr/>
          <p:nvPr/>
        </p:nvSpPr>
        <p:spPr>
          <a:xfrm flipV="1">
            <a:off x="5076720" y="4365000"/>
            <a:ext cx="3673440" cy="4539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Vocabulary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981000"/>
          <a:ext cx="8229600" cy="465156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Prim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иться в университ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fant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зучать физику и хим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Junior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Начальное 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Lear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stry and Phys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ладшие классы начальной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Go to the un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Подготовительные классы начальной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Foreign langu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тарш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Sixth form 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есенние кани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Spring holi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Time to 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pic>
        <p:nvPicPr>
          <p:cNvPr id="77" name="School song. Learn English with teachkidsenglish.com (1).mp4" descr=""/>
          <p:cNvPicPr/>
          <p:nvPr/>
        </p:nvPicPr>
        <p:blipFill>
          <a:blip r:embed="rId4"/>
          <a:stretch/>
        </p:blipFill>
        <p:spPr>
          <a:xfrm>
            <a:off x="3035160" y="1700280"/>
            <a:ext cx="2892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Schools in Eng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thumbs.dreamstime.com/z/school-children-s-background-yellow-place-text-32952177.jpg"/>
          <p:cNvPicPr/>
          <p:nvPr/>
        </p:nvPicPr>
        <p:blipFill>
          <a:blip r:embed="rId1"/>
          <a:srcRect l="0" t="0" r="8440" b="65687"/>
          <a:stretch/>
        </p:blipFill>
        <p:spPr>
          <a:xfrm>
            <a:off x="0" y="5510160"/>
            <a:ext cx="2948040" cy="13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humbs.dreamstime.com/z/school-children-s-background-yellow-place-text-32952177.jpg"/>
          <p:cNvPicPr/>
          <p:nvPr/>
        </p:nvPicPr>
        <p:blipFill>
          <a:blip r:embed="rId2"/>
          <a:srcRect l="0" t="0" r="8440" b="65687"/>
          <a:stretch/>
        </p:blipFill>
        <p:spPr>
          <a:xfrm>
            <a:off x="2948040" y="5510160"/>
            <a:ext cx="294624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thumbs.dreamstime.com/z/school-children-s-background-yellow-place-text-32952177.jpg"/>
          <p:cNvPicPr/>
          <p:nvPr/>
        </p:nvPicPr>
        <p:blipFill>
          <a:blip r:embed="rId3"/>
          <a:srcRect l="0" t="0" r="8440" b="65687"/>
          <a:stretch/>
        </p:blipFill>
        <p:spPr>
          <a:xfrm>
            <a:off x="5894280" y="5508720"/>
            <a:ext cx="2948040" cy="13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187280" y="836640"/>
          <a:ext cx="6769440" cy="460368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 Children go to school at the age of             …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 There are    …       years of primary scho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. There are  …       years of secondary scho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. When students are ….. years old they go the Sixth form colle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 The school year is from …    to               … 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 There are                …            holida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. There are a lot of    …        in the timetabl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. Students learn        …             languages French and German.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. Students don’t go to school on     …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3230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. When students are 18 they go to the        …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     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679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3»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Ex.7-8 p.22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4»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Ex.7-9, p.21 W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«5»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Ex.3, p.31 S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thumbs.dreamstime.com/z/school-children-s-background-yellow-place-text-32952177.jpg"/>
          <p:cNvPicPr/>
          <p:nvPr/>
        </p:nvPicPr>
        <p:blipFill>
          <a:blip r:embed="rId1"/>
          <a:srcRect l="0" t="66763" r="10286" b="0"/>
          <a:stretch/>
        </p:blipFill>
        <p:spPr>
          <a:xfrm>
            <a:off x="0" y="5553000"/>
            <a:ext cx="2889360" cy="130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thumbs.dreamstime.com/z/school-children-s-background-yellow-place-text-32952177.jpg"/>
          <p:cNvPicPr/>
          <p:nvPr/>
        </p:nvPicPr>
        <p:blipFill>
          <a:blip r:embed="rId2"/>
          <a:srcRect l="0" t="66763" r="10286" b="0"/>
          <a:stretch/>
        </p:blipFill>
        <p:spPr>
          <a:xfrm>
            <a:off x="2887560" y="5553000"/>
            <a:ext cx="2887920" cy="130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humbs.dreamstime.com/z/school-children-s-background-yellow-place-text-32952177.jpg"/>
          <p:cNvPicPr/>
          <p:nvPr/>
        </p:nvPicPr>
        <p:blipFill>
          <a:blip r:embed="rId3"/>
          <a:srcRect l="0" t="66763" r="10286" b="0"/>
          <a:stretch/>
        </p:blipFill>
        <p:spPr>
          <a:xfrm>
            <a:off x="5775480" y="5540400"/>
            <a:ext cx="2889000" cy="130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rcRect l="0" t="0" r="57428" b="57429"/>
          <a:stretch/>
        </p:blipFill>
        <p:spPr>
          <a:xfrm>
            <a:off x="1643040" y="13572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rcRect l="61330" t="0" r="0" b="58466"/>
          <a:stretch/>
        </p:blipFill>
        <p:spPr>
          <a:xfrm>
            <a:off x="5929200" y="1428840"/>
            <a:ext cx="1003320" cy="807840"/>
          </a:xfrm>
          <a:prstGeom prst="rect">
            <a:avLst/>
          </a:prstGeom>
          <a:ln w="0">
            <a:noFill/>
          </a:ln>
        </p:spPr>
      </p:pic>
      <p:sp>
        <p:nvSpPr>
          <p:cNvPr id="94" name="Объект 6"/>
          <p:cNvSpPr/>
          <p:nvPr/>
        </p:nvSpPr>
        <p:spPr>
          <a:xfrm>
            <a:off x="214200" y="2357280"/>
            <a:ext cx="4500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speak about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бъект 10"/>
          <p:cNvSpPr/>
          <p:nvPr/>
        </p:nvSpPr>
        <p:spPr>
          <a:xfrm>
            <a:off x="4572000" y="2397240"/>
            <a:ext cx="457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speak about  schools in England , but not very w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08:49:30Z</dcterms:created>
  <dc:creator>ASUS</dc:creator>
  <dc:description/>
  <dc:language>en-US</dc:language>
  <cp:lastModifiedBy>Лана</cp:lastModifiedBy>
  <dcterms:modified xsi:type="dcterms:W3CDTF">2015-09-27T20:17:45Z</dcterms:modified>
  <cp:revision>78</cp:revision>
  <dc:subject/>
  <dc:title>Презентация PowerPoint</dc:title>
</cp:coreProperties>
</file>