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E47D-A6F9-4D9F-9CD5-3A8D75BCC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B044-7D25-49A2-9AE9-2B0E5179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4EB0-4A55-4812-ACE6-7479214ED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B401-ED94-4AB8-99EF-4E0046109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8F66-4402-4BA0-8592-64BA4CE7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A5DD-2BF5-4605-9DC9-0B0F2728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D437-A18E-4185-A393-9AE466A0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2D5B-A19A-4192-B547-EC33AE45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48CD-EABE-4CE2-9C73-580493FA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F91E-92C6-448A-AFF7-A6FC6F56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6D3A-B1E3-47CB-8216-ADF27F73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AF9B-07B6-46DD-81CD-3430BB0C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9530-B35F-43E9-8FBD-C53E54C37A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http://thumbs.dreamstime.com/z/school-children-s-background-yellow-place-text-32952145.jpg"/>
          <p:cNvPicPr/>
          <p:nvPr/>
        </p:nvPicPr>
        <p:blipFill>
          <a:blip r:embed="rId1"/>
          <a:srcRect l="0" t="0" r="0" b="698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http://www.cristianosgays.com/wp-content/uploads/2014/05/noticias_file_foto_786144_1399991969.jpg"/>
          <p:cNvPicPr/>
          <p:nvPr/>
        </p:nvPicPr>
        <p:blipFill>
          <a:blip r:embed="rId2"/>
          <a:stretch/>
        </p:blipFill>
        <p:spPr>
          <a:xfrm>
            <a:off x="3191040" y="0"/>
            <a:ext cx="5952960" cy="4076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http://nvk26-10b.ucoz.ua/SchoolHouse.jpg"/>
          <p:cNvPicPr/>
          <p:nvPr/>
        </p:nvPicPr>
        <p:blipFill>
          <a:blip r:embed="rId3"/>
          <a:stretch/>
        </p:blipFill>
        <p:spPr>
          <a:xfrm>
            <a:off x="3203640" y="4076640"/>
            <a:ext cx="59403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28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of Septembe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asswor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Verdana"/>
              </a:rPr>
              <a:t>Spea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http://thumbs.dreamstime.com/z/school-children-s-background-yellow-place-text-32952177.jpg"/>
          <p:cNvPicPr/>
          <p:nvPr/>
        </p:nvPicPr>
        <p:blipFill>
          <a:blip r:embed="rId1"/>
          <a:srcRect l="0" t="0" r="8440" b="65687"/>
          <a:stretch/>
        </p:blipFill>
        <p:spPr>
          <a:xfrm>
            <a:off x="0" y="5510160"/>
            <a:ext cx="2948040" cy="1347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://thumbs.dreamstime.com/z/school-children-s-background-yellow-place-text-32952177.jpg"/>
          <p:cNvPicPr/>
          <p:nvPr/>
        </p:nvPicPr>
        <p:blipFill>
          <a:blip r:embed="rId2"/>
          <a:srcRect l="0" t="0" r="8440" b="65687"/>
          <a:stretch/>
        </p:blipFill>
        <p:spPr>
          <a:xfrm>
            <a:off x="2948040" y="5510160"/>
            <a:ext cx="2946240" cy="1347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thumbs.dreamstime.com/z/school-children-s-background-yellow-place-text-32952177.jpg"/>
          <p:cNvPicPr/>
          <p:nvPr/>
        </p:nvPicPr>
        <p:blipFill>
          <a:blip r:embed="rId3"/>
          <a:srcRect l="0" t="0" r="8440" b="65687"/>
          <a:stretch/>
        </p:blipFill>
        <p:spPr>
          <a:xfrm>
            <a:off x="5894280" y="5508720"/>
            <a:ext cx="2948040" cy="1346040"/>
          </a:xfrm>
          <a:prstGeom prst="rect">
            <a:avLst/>
          </a:prstGeom>
          <a:ln w="0">
            <a:noFill/>
          </a:ln>
        </p:spPr>
      </p:pic>
      <p:sp>
        <p:nvSpPr>
          <p:cNvPr id="51" name="Стрелка вправо 7"/>
          <p:cNvSpPr/>
          <p:nvPr/>
        </p:nvSpPr>
        <p:spPr>
          <a:xfrm>
            <a:off x="250920" y="2565360"/>
            <a:ext cx="3457440" cy="172728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To speak about  schools in Engl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трелка вправо 8"/>
          <p:cNvSpPr/>
          <p:nvPr/>
        </p:nvSpPr>
        <p:spPr>
          <a:xfrm>
            <a:off x="250920" y="2565360"/>
            <a:ext cx="3475080" cy="172872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4"/>
          <a:stretch/>
        </p:blipFill>
        <p:spPr>
          <a:xfrm>
            <a:off x="4067280" y="3360600"/>
            <a:ext cx="2449440" cy="16002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54" name="Picture 2" descr=""/>
          <p:cNvPicPr/>
          <p:nvPr/>
        </p:nvPicPr>
        <p:blipFill>
          <a:blip r:embed="rId5"/>
          <a:stretch/>
        </p:blipFill>
        <p:spPr>
          <a:xfrm>
            <a:off x="6732720" y="3360600"/>
            <a:ext cx="2109600" cy="16002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  <a:ea typeface="Verdana"/>
              </a:rPr>
              <a:t>Phonetic 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8291520" cy="3657600"/>
        </p:xfrm>
        <a:graphic>
          <a:graphicData uri="http://schemas.openxmlformats.org/drawingml/2006/table">
            <a:tbl>
              <a:tblPr/>
              <a:tblGrid>
                <a:gridCol w="1954080"/>
                <a:gridCol w="2665440"/>
                <a:gridCol w="3672000"/>
              </a:tblGrid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[ˈkɔlɪdʒ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ллед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ivers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[‚junɪꞌv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: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ə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ɪ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ниверсит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uni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[ˈdʒu:nɪə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ладш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r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[ˈfɔ:m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[ˈɪnfənt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готовите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emis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[ˈkemɪstrɪ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им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hys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[ˈfɪzɪks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из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du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[‚edjukˈeɪʃən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раз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7" name="Picture 4" descr="http://thumbs.dreamstime.com/z/school-children-s-background-yellow-place-text-32952177.jpg"/>
          <p:cNvPicPr/>
          <p:nvPr/>
        </p:nvPicPr>
        <p:blipFill>
          <a:blip r:embed="rId1"/>
          <a:srcRect l="0" t="0" r="8440" b="65687"/>
          <a:stretch/>
        </p:blipFill>
        <p:spPr>
          <a:xfrm>
            <a:off x="0" y="5510160"/>
            <a:ext cx="2948040" cy="1347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ttp://thumbs.dreamstime.com/z/school-children-s-background-yellow-place-text-32952177.jpg"/>
          <p:cNvPicPr/>
          <p:nvPr/>
        </p:nvPicPr>
        <p:blipFill>
          <a:blip r:embed="rId2"/>
          <a:srcRect l="0" t="0" r="8440" b="65687"/>
          <a:stretch/>
        </p:blipFill>
        <p:spPr>
          <a:xfrm>
            <a:off x="2948040" y="5510160"/>
            <a:ext cx="2946240" cy="1347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http://thumbs.dreamstime.com/z/school-children-s-background-yellow-place-text-32952177.jpg"/>
          <p:cNvPicPr/>
          <p:nvPr/>
        </p:nvPicPr>
        <p:blipFill>
          <a:blip r:embed="rId3"/>
          <a:srcRect l="0" t="0" r="8440" b="65687"/>
          <a:stretch/>
        </p:blipFill>
        <p:spPr>
          <a:xfrm>
            <a:off x="5894280" y="5508720"/>
            <a:ext cx="2948040" cy="13460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7"/>
          <p:cNvSpPr/>
          <p:nvPr/>
        </p:nvSpPr>
        <p:spPr>
          <a:xfrm>
            <a:off x="5076720" y="2997360"/>
            <a:ext cx="3673440" cy="457200"/>
          </a:xfrm>
          <a:prstGeom prst="rect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8"/>
          <p:cNvSpPr/>
          <p:nvPr/>
        </p:nvSpPr>
        <p:spPr>
          <a:xfrm>
            <a:off x="5076720" y="1628640"/>
            <a:ext cx="3672000" cy="457200"/>
          </a:xfrm>
          <a:prstGeom prst="rect">
            <a:avLst/>
          </a:prstGeom>
          <a:solidFill>
            <a:srgbClr val="c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5076720" y="2492280"/>
            <a:ext cx="3673440" cy="505080"/>
          </a:xfrm>
          <a:prstGeom prst="rect">
            <a:avLst/>
          </a:prstGeom>
          <a:solidFill>
            <a:srgbClr val="f7964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10"/>
          <p:cNvSpPr/>
          <p:nvPr/>
        </p:nvSpPr>
        <p:spPr>
          <a:xfrm>
            <a:off x="5076720" y="3429000"/>
            <a:ext cx="3673440" cy="457200"/>
          </a:xfrm>
          <a:prstGeom prst="rect">
            <a:avLst/>
          </a:prstGeom>
          <a:solidFill>
            <a:srgbClr val="8064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11"/>
          <p:cNvSpPr/>
          <p:nvPr/>
        </p:nvSpPr>
        <p:spPr>
          <a:xfrm>
            <a:off x="5076720" y="2060640"/>
            <a:ext cx="3673440" cy="431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12"/>
          <p:cNvSpPr/>
          <p:nvPr/>
        </p:nvSpPr>
        <p:spPr>
          <a:xfrm flipV="1">
            <a:off x="5076720" y="4796640"/>
            <a:ext cx="3673440" cy="453960"/>
          </a:xfrm>
          <a:prstGeom prst="rect">
            <a:avLst/>
          </a:prstGeom>
          <a:solidFill>
            <a:srgbClr val="9bbb5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13"/>
          <p:cNvSpPr/>
          <p:nvPr/>
        </p:nvSpPr>
        <p:spPr>
          <a:xfrm>
            <a:off x="5076720" y="3933720"/>
            <a:ext cx="3673440" cy="457200"/>
          </a:xfrm>
          <a:prstGeom prst="rect">
            <a:avLst/>
          </a:prstGeom>
          <a:solidFill>
            <a:srgbClr val="c0504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14"/>
          <p:cNvSpPr/>
          <p:nvPr/>
        </p:nvSpPr>
        <p:spPr>
          <a:xfrm flipV="1">
            <a:off x="5076720" y="4365000"/>
            <a:ext cx="3673440" cy="453960"/>
          </a:xfrm>
          <a:prstGeom prst="rect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  <a:ea typeface="Verdana"/>
              </a:rPr>
              <a:t>Vocabulary 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9640" y="981000"/>
          <a:ext cx="8229600" cy="4651560"/>
        </p:xfrm>
        <a:graphic>
          <a:graphicData uri="http://schemas.openxmlformats.org/drawingml/2006/table">
            <a:tbl>
              <a:tblPr/>
              <a:tblGrid>
                <a:gridCol w="3467160"/>
                <a:gridCol w="4762440"/>
              </a:tblGrid>
              <a:tr h="487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Primary edu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.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читься в университе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 Infant sch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Изучать физику и хими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 Junior sch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Начальное образ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 Learn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emistry and Physic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Младшие классы начальной школ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 Go to the univers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Подготовительные классы начальной школ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. Foreign languag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Старшая шко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. Sixth form colle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Весенние каникул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.Spring holi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Иностранные язы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4" descr="http://thumbs.dreamstime.com/z/school-children-s-background-yellow-place-text-32952177.jpg"/>
          <p:cNvPicPr/>
          <p:nvPr/>
        </p:nvPicPr>
        <p:blipFill>
          <a:blip r:embed="rId1"/>
          <a:srcRect l="0" t="66763" r="10286" b="0"/>
          <a:stretch/>
        </p:blipFill>
        <p:spPr>
          <a:xfrm>
            <a:off x="0" y="5553000"/>
            <a:ext cx="2889360" cy="1305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http://thumbs.dreamstime.com/z/school-children-s-background-yellow-place-text-32952177.jpg"/>
          <p:cNvPicPr/>
          <p:nvPr/>
        </p:nvPicPr>
        <p:blipFill>
          <a:blip r:embed="rId2"/>
          <a:srcRect l="0" t="66763" r="10286" b="0"/>
          <a:stretch/>
        </p:blipFill>
        <p:spPr>
          <a:xfrm>
            <a:off x="2887560" y="5553000"/>
            <a:ext cx="2887920" cy="1305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thumbs.dreamstime.com/z/school-children-s-background-yellow-place-text-32952177.jpg"/>
          <p:cNvPicPr/>
          <p:nvPr/>
        </p:nvPicPr>
        <p:blipFill>
          <a:blip r:embed="rId3"/>
          <a:srcRect l="0" t="66763" r="10286" b="0"/>
          <a:stretch/>
        </p:blipFill>
        <p:spPr>
          <a:xfrm>
            <a:off x="5775480" y="5540400"/>
            <a:ext cx="288900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  <a:ea typeface="Verdana"/>
              </a:rPr>
              <a:t>Time to r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http://thumbs.dreamstime.com/z/school-children-s-background-yellow-place-text-32952177.jpg"/>
          <p:cNvPicPr/>
          <p:nvPr/>
        </p:nvPicPr>
        <p:blipFill>
          <a:blip r:embed="rId1"/>
          <a:srcRect l="0" t="0" r="8440" b="65687"/>
          <a:stretch/>
        </p:blipFill>
        <p:spPr>
          <a:xfrm>
            <a:off x="0" y="5510160"/>
            <a:ext cx="2948040" cy="1347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thumbs.dreamstime.com/z/school-children-s-background-yellow-place-text-32952177.jpg"/>
          <p:cNvPicPr/>
          <p:nvPr/>
        </p:nvPicPr>
        <p:blipFill>
          <a:blip r:embed="rId2"/>
          <a:srcRect l="0" t="0" r="8440" b="65687"/>
          <a:stretch/>
        </p:blipFill>
        <p:spPr>
          <a:xfrm>
            <a:off x="2948040" y="5510160"/>
            <a:ext cx="2946240" cy="1347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http://thumbs.dreamstime.com/z/school-children-s-background-yellow-place-text-32952177.jpg"/>
          <p:cNvPicPr/>
          <p:nvPr/>
        </p:nvPicPr>
        <p:blipFill>
          <a:blip r:embed="rId3"/>
          <a:srcRect l="0" t="0" r="8440" b="65687"/>
          <a:stretch/>
        </p:blipFill>
        <p:spPr>
          <a:xfrm>
            <a:off x="5894280" y="5508720"/>
            <a:ext cx="2948040" cy="1346040"/>
          </a:xfrm>
          <a:prstGeom prst="rect">
            <a:avLst/>
          </a:prstGeom>
          <a:ln w="0">
            <a:noFill/>
          </a:ln>
        </p:spPr>
      </p:pic>
      <p:pic>
        <p:nvPicPr>
          <p:cNvPr id="77" name="School song. Learn English with teachkidsenglish.com (1).mp4" descr=""/>
          <p:cNvPicPr/>
          <p:nvPr/>
        </p:nvPicPr>
        <p:blipFill>
          <a:blip r:embed="rId4"/>
          <a:stretch/>
        </p:blipFill>
        <p:spPr>
          <a:xfrm>
            <a:off x="3035160" y="1700280"/>
            <a:ext cx="28926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65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8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Verdana"/>
              </a:rPr>
              <a:t>Schools in Englan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http://thumbs.dreamstime.com/z/school-children-s-background-yellow-place-text-32952177.jpg"/>
          <p:cNvPicPr/>
          <p:nvPr/>
        </p:nvPicPr>
        <p:blipFill>
          <a:blip r:embed="rId1"/>
          <a:srcRect l="0" t="0" r="8440" b="65687"/>
          <a:stretch/>
        </p:blipFill>
        <p:spPr>
          <a:xfrm>
            <a:off x="0" y="5510160"/>
            <a:ext cx="2948040" cy="1347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http://thumbs.dreamstime.com/z/school-children-s-background-yellow-place-text-32952177.jpg"/>
          <p:cNvPicPr/>
          <p:nvPr/>
        </p:nvPicPr>
        <p:blipFill>
          <a:blip r:embed="rId2"/>
          <a:srcRect l="0" t="0" r="8440" b="65687"/>
          <a:stretch/>
        </p:blipFill>
        <p:spPr>
          <a:xfrm>
            <a:off x="2948040" y="5510160"/>
            <a:ext cx="2946240" cy="1347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://thumbs.dreamstime.com/z/school-children-s-background-yellow-place-text-32952177.jpg"/>
          <p:cNvPicPr/>
          <p:nvPr/>
        </p:nvPicPr>
        <p:blipFill>
          <a:blip r:embed="rId3"/>
          <a:srcRect l="0" t="0" r="8440" b="65687"/>
          <a:stretch/>
        </p:blipFill>
        <p:spPr>
          <a:xfrm>
            <a:off x="5894280" y="5508720"/>
            <a:ext cx="2948040" cy="134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1187280" y="836640"/>
          <a:ext cx="6769440" cy="4603680"/>
        </p:xfrm>
        <a:graphic>
          <a:graphicData uri="http://schemas.openxmlformats.org/drawingml/2006/table">
            <a:tbl>
              <a:tblPr/>
              <a:tblGrid>
                <a:gridCol w="6769440"/>
              </a:tblGrid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. Children go to school at the age of             …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. There are    …       years of primary schoo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3. There are  …       years of secondary schoo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4. When students are ….. years old they go the Sixth form colleg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5. The school year is from …    to               …  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6. There are                …            holiday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7. There are a lot of    …        in the timetable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8. Students learn        …             languages French and German.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6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9. Students don’t go to school on     …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.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3230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0. When students are 18 they go to the        …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      .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  <a:ea typeface="Verdana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34880" y="1679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«3» -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 Ex.7-8 p.22 W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«4»-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Ex.7-9, p.21 W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«5» -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Ex.3, p.31 S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http://thumbs.dreamstime.com/z/school-children-s-background-yellow-place-text-32952177.jpg"/>
          <p:cNvPicPr/>
          <p:nvPr/>
        </p:nvPicPr>
        <p:blipFill>
          <a:blip r:embed="rId1"/>
          <a:srcRect l="0" t="66763" r="10286" b="0"/>
          <a:stretch/>
        </p:blipFill>
        <p:spPr>
          <a:xfrm>
            <a:off x="0" y="5553000"/>
            <a:ext cx="2889360" cy="1305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http://thumbs.dreamstime.com/z/school-children-s-background-yellow-place-text-32952177.jpg"/>
          <p:cNvPicPr/>
          <p:nvPr/>
        </p:nvPicPr>
        <p:blipFill>
          <a:blip r:embed="rId2"/>
          <a:srcRect l="0" t="66763" r="10286" b="0"/>
          <a:stretch/>
        </p:blipFill>
        <p:spPr>
          <a:xfrm>
            <a:off x="2887560" y="5553000"/>
            <a:ext cx="2887920" cy="1305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://thumbs.dreamstime.com/z/school-children-s-background-yellow-place-text-32952177.jpg"/>
          <p:cNvPicPr/>
          <p:nvPr/>
        </p:nvPicPr>
        <p:blipFill>
          <a:blip r:embed="rId3"/>
          <a:srcRect l="0" t="66763" r="10286" b="0"/>
          <a:stretch/>
        </p:blipFill>
        <p:spPr>
          <a:xfrm>
            <a:off x="5775480" y="5540400"/>
            <a:ext cx="288900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http://thumbs.dreamstime.com/z/school-children-s-background-yellow-place-text-32952177.jpg"/>
          <p:cNvPicPr/>
          <p:nvPr/>
        </p:nvPicPr>
        <p:blipFill>
          <a:blip r:embed="rId1"/>
          <a:srcRect l="0" t="66763" r="10286" b="0"/>
          <a:stretch/>
        </p:blipFill>
        <p:spPr>
          <a:xfrm>
            <a:off x="0" y="5553000"/>
            <a:ext cx="2889360" cy="1305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http://thumbs.dreamstime.com/z/school-children-s-background-yellow-place-text-32952177.jpg"/>
          <p:cNvPicPr/>
          <p:nvPr/>
        </p:nvPicPr>
        <p:blipFill>
          <a:blip r:embed="rId2"/>
          <a:srcRect l="0" t="66763" r="10286" b="0"/>
          <a:stretch/>
        </p:blipFill>
        <p:spPr>
          <a:xfrm>
            <a:off x="2887560" y="5553000"/>
            <a:ext cx="2887920" cy="1305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http://thumbs.dreamstime.com/z/school-children-s-background-yellow-place-text-32952177.jpg"/>
          <p:cNvPicPr/>
          <p:nvPr/>
        </p:nvPicPr>
        <p:blipFill>
          <a:blip r:embed="rId3"/>
          <a:srcRect l="0" t="66763" r="10286" b="0"/>
          <a:stretch/>
        </p:blipFill>
        <p:spPr>
          <a:xfrm>
            <a:off x="5775480" y="5540400"/>
            <a:ext cx="2889000" cy="1305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4"/>
          <a:srcRect l="0" t="0" r="57428" b="57429"/>
          <a:stretch/>
        </p:blipFill>
        <p:spPr>
          <a:xfrm>
            <a:off x="1643040" y="1357200"/>
            <a:ext cx="1104840" cy="828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5"/>
          <a:srcRect l="61330" t="0" r="0" b="58466"/>
          <a:stretch/>
        </p:blipFill>
        <p:spPr>
          <a:xfrm>
            <a:off x="5929200" y="1428840"/>
            <a:ext cx="1003320" cy="807840"/>
          </a:xfrm>
          <a:prstGeom prst="rect">
            <a:avLst/>
          </a:prstGeom>
          <a:ln w="0">
            <a:noFill/>
          </a:ln>
        </p:spPr>
      </p:pic>
      <p:sp>
        <p:nvSpPr>
          <p:cNvPr id="94" name="Объект 6"/>
          <p:cNvSpPr/>
          <p:nvPr/>
        </p:nvSpPr>
        <p:spPr>
          <a:xfrm>
            <a:off x="214200" y="2357280"/>
            <a:ext cx="4500720" cy="36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 can speak about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s in Engl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Объект 10"/>
          <p:cNvSpPr/>
          <p:nvPr/>
        </p:nvSpPr>
        <p:spPr>
          <a:xfrm>
            <a:off x="4572000" y="2397240"/>
            <a:ext cx="457200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 can speak about  schools in England , but not very wel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4T08:49:30Z</dcterms:created>
  <dc:creator>ASUS</dc:creator>
  <dc:description/>
  <dc:language>en-US</dc:language>
  <cp:lastModifiedBy>Лана</cp:lastModifiedBy>
  <dcterms:modified xsi:type="dcterms:W3CDTF">2015-09-27T20:17:45Z</dcterms:modified>
  <cp:revision>78</cp:revision>
  <dc:subject/>
  <dc:title>Презентация PowerPoint</dc:title>
</cp:coreProperties>
</file>