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6CD4-604D-44E9-9218-BF56360D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BDA-8F12-4492-AED7-8C130442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6B4-5072-4145-8DFF-31550EF7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F2BC-63D1-44FB-AA7C-11144E92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7C233-CD78-49EE-B698-1760FA7646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A8605-E910-43E8-A3D2-039714FA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27933-9DEA-4C58-B47C-0EA74AF2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82F9B-692F-46B8-A05C-CEB8FC3D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AE9D7-A132-48E5-B576-6806BAC1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AE89B-F9DD-46B7-B485-5A46BD29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73DF9-174E-41AF-B1AE-D3B28F0A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A5B-67AD-4FF2-9AA3-88EF60FE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6DCC1-B769-4A0B-93C8-34DD7FC2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F15C9-A4A0-4453-A51C-72081C58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0925D-1528-452C-BBA9-5831FF47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720EB-8AB7-4A23-BCFD-1AA2F105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0C8A7-5CBB-4778-AD1F-27F0CEC24E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72B-F664-437C-ACED-2864F936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B582D4-3810-4C70-B4F0-6EF44FC5E0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1BDA0-B417-45DA-887B-D93C5923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80C9A5-D280-4F8A-882E-FE5AAC02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578B-B91E-42EC-AAD9-4468D074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518E0D-3505-498E-9EAF-A157F3A6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A5D2F4-7DE1-4CE8-95CA-73920281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A1A312-64FA-4D20-9C83-D1DE3D76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B23E0A-E926-4DA8-9392-D9CA625A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BB3D4A-995C-4920-8C74-2E104B1A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66EA48-59FE-4E7F-A4FF-8B62A4BB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00EE73-D9EA-4996-A9BA-7FA3AB5C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58F65C-C5CC-4031-B64D-0022A4FA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ECFB48-E64C-4B86-899C-9093CC6738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040-B77E-41FD-997F-DC2E11B7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E7E-341F-4634-8987-4FCAC8FA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1D1-8CDC-4EB2-8FF8-3DA1A784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2042-95EC-4C92-A56C-3121E930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67C-374E-4F3A-A2C1-630A9718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94CB4-7260-4D7E-8899-A46BDAE57B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2760"/>
            <a:ext cx="90694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7007040"/>
            <a:ext cx="23493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7.9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43400" y="7007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222680" y="7007040"/>
            <a:ext cx="2349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2898B-417B-48C0-8BEE-8D3EFFC492BF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2760"/>
            <a:ext cx="90694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6"/>
          </p:nvPr>
        </p:nvSpPr>
        <p:spPr>
          <a:xfrm>
            <a:off x="503280" y="7007040"/>
            <a:ext cx="23493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7.9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43400" y="7007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7"/>
          </p:nvPr>
        </p:nvSpPr>
        <p:spPr>
          <a:xfrm>
            <a:off x="7222680" y="7007040"/>
            <a:ext cx="2349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DD039-AC96-41FD-BE2E-2294CB279A56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0">
              <a:lnSpc>
                <a:spcPct val="102000"/>
              </a:lnSpc>
              <a:spcAft>
                <a:spcPts val="18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277560" indent="-277560">
              <a:lnSpc>
                <a:spcPct val="102000"/>
              </a:lnSpc>
              <a:spcAft>
                <a:spcPts val="18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277560" indent="-277560">
              <a:lnSpc>
                <a:spcPct val="102000"/>
              </a:lnSpc>
              <a:spcAft>
                <a:spcPts val="18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77560" indent="-277560">
              <a:lnSpc>
                <a:spcPct val="102000"/>
              </a:lnSpc>
              <a:spcAft>
                <a:spcPts val="18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277560" indent="-277560">
              <a:lnSpc>
                <a:spcPct val="102000"/>
              </a:lnSpc>
              <a:spcAft>
                <a:spcPts val="18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277560" indent="-277560">
              <a:lnSpc>
                <a:spcPct val="102000"/>
              </a:lnSpc>
              <a:spcAft>
                <a:spcPts val="18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277560" indent="-277560">
              <a:lnSpc>
                <a:spcPct val="102000"/>
              </a:lnSpc>
              <a:spcAft>
                <a:spcPts val="18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26.jpeg"/><Relationship Id="rId6" Type="http://schemas.openxmlformats.org/officeDocument/2006/relationships/image" Target="../media/image23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8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1731600"/>
            <a:ext cx="856764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сед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Витамины я люблю – быть здоровым я хочу»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858840" y="4284720"/>
            <a:ext cx="470844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384720" y="3527280"/>
            <a:ext cx="319716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Четвертый лишний»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01600" y="1495440"/>
            <a:ext cx="4032360" cy="24987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433840" y="1574640"/>
            <a:ext cx="3621240" cy="2413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1260360" y="4330800"/>
            <a:ext cx="3795840" cy="2846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5433840" y="4173480"/>
            <a:ext cx="3884760" cy="29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Четвертый лишний»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08000" y="1655640"/>
            <a:ext cx="3936960" cy="22114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283360" y="1547640"/>
            <a:ext cx="3500280" cy="2625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472000" y="4319640"/>
            <a:ext cx="3571920" cy="2381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2003400" y="4103640"/>
            <a:ext cx="202896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60520" y="671400"/>
            <a:ext cx="710712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  <a:ea typeface="Lucida Sans Unicode"/>
              </a:rPr>
              <a:t>Ребята, соблюдайте эти простые правила:</a:t>
            </a:r>
            <a:br>
              <a:rPr sz="3600"/>
            </a:br>
            <a:br>
              <a:rPr sz="2000"/>
            </a:br>
            <a:r>
              <a:rPr b="0" lang="ru-RU" sz="2200" spc="-1" strike="noStrike">
                <a:solidFill>
                  <a:srgbClr val="90c226"/>
                </a:solidFill>
                <a:latin typeface="Trebuchet MS"/>
                <a:ea typeface="Lucida Sans Unicode"/>
              </a:rPr>
              <a:t>-  Ешьте здоровые, полезные продукты</a:t>
            </a:r>
            <a:br>
              <a:rPr sz="2200"/>
            </a:br>
            <a:r>
              <a:rPr b="0" lang="ru-RU" sz="2200" spc="-1" strike="noStrike">
                <a:solidFill>
                  <a:srgbClr val="90c226"/>
                </a:solidFill>
                <a:latin typeface="Trebuchet MS"/>
                <a:ea typeface="Lucida Sans Unicode"/>
              </a:rPr>
              <a:t>-  Употребляйте овощи, фрукты, ягоды</a:t>
            </a:r>
            <a:br>
              <a:rPr sz="2200"/>
            </a:br>
            <a:r>
              <a:rPr b="0" lang="ru-RU" sz="2200" spc="-1" strike="noStrike">
                <a:solidFill>
                  <a:srgbClr val="90c226"/>
                </a:solidFill>
                <a:latin typeface="Trebuchet MS"/>
                <a:ea typeface="Lucida Sans Unicode"/>
              </a:rPr>
              <a:t>- Соблюдайте режим дня и режим питания</a:t>
            </a:r>
            <a:br>
              <a:rPr sz="2200"/>
            </a:br>
            <a:r>
              <a:rPr b="0" lang="ru-RU" sz="2200" spc="-1" strike="noStrike">
                <a:solidFill>
                  <a:srgbClr val="90c226"/>
                </a:solidFill>
                <a:latin typeface="Trebuchet MS"/>
                <a:ea typeface="Lucida Sans Unicode"/>
              </a:rPr>
              <a:t>- Чаще гуляйте на свежем воздухе</a:t>
            </a:r>
            <a:br>
              <a:rPr sz="2200"/>
            </a:br>
            <a:r>
              <a:rPr b="0" lang="ru-RU" sz="2200" spc="-1" strike="noStrike">
                <a:solidFill>
                  <a:srgbClr val="90c226"/>
                </a:solidFill>
                <a:latin typeface="Trebuchet MS"/>
                <a:ea typeface="Lucida Sans Unicode"/>
              </a:rPr>
              <a:t>- Занимайтесь физкультурой, больше двигайтесь</a:t>
            </a:r>
            <a:br>
              <a:rPr sz="2200"/>
            </a:br>
            <a:r>
              <a:rPr b="0" lang="ru-RU" sz="2200" spc="-1" strike="noStrike">
                <a:solidFill>
                  <a:srgbClr val="90c226"/>
                </a:solidFill>
                <a:latin typeface="Trebuchet MS"/>
                <a:ea typeface="Lucida Sans Unicode"/>
              </a:rPr>
              <a:t>- Соблюдайте личную гигиену</a:t>
            </a:r>
            <a:br>
              <a:rPr sz="3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27320" y="4927680"/>
            <a:ext cx="468504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6c911c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  <a:ea typeface="Lucida Sans Unicode"/>
              </a:rPr>
              <a:t>И будете здоровы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767640" y="993600"/>
            <a:ext cx="2217600" cy="2246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20720" y="4352760"/>
            <a:ext cx="2503440" cy="26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292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: познакомить детей с пользой витаминов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87560" y="1763640"/>
            <a:ext cx="61023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А вы, ребята, пробовали витамины?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Витамины бывают не только в таблетках.</a:t>
            </a: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 в каких продуктах есть витамины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ужно есть больше овощей и фруктов. В них много витаминов А, В, С, Д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годня мы вспомним, в каких продуктах они содержатся и для чего нужны.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44840" y="1763640"/>
            <a:ext cx="49896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60520" y="671400"/>
            <a:ext cx="710712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90c226"/>
                </a:solidFill>
                <a:latin typeface="Comic Sans MS"/>
                <a:ea typeface="Lucida Sans Unicode"/>
              </a:rPr>
              <a:t>Если вы хотите хорошо расти, хорошо видеть и иметь крепкие зубы, вам нужен Витам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0520" y="5815080"/>
            <a:ext cx="7107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mic Sans MS"/>
                <a:ea typeface="Lucida Sans Unicode"/>
              </a:rPr>
              <a:t>Укрепляет зрение, способствует росту, оздоравливает кож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954760" y="2592360"/>
            <a:ext cx="2757600" cy="2525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60520" y="2062080"/>
            <a:ext cx="1695240" cy="1613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255760" y="2119320"/>
            <a:ext cx="1569960" cy="1353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956040" y="2062080"/>
            <a:ext cx="1565280" cy="1471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720720" y="4248000"/>
            <a:ext cx="1541520" cy="1581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2260440" y="4103640"/>
            <a:ext cx="1716120" cy="1730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3933720" y="4248000"/>
            <a:ext cx="1825560" cy="15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60520" y="671400"/>
            <a:ext cx="710712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90c226"/>
                </a:solidFill>
                <a:latin typeface="Comic Sans MS"/>
                <a:ea typeface="Lucida Sans Unicode"/>
              </a:rPr>
              <a:t>Если вы хотите реже простужаться, быть бодрыми, быстрее выздоравливать при болезни, вам нужен Витамин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0520" y="4927680"/>
            <a:ext cx="710712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mic Sans MS"/>
                <a:ea typeface="Lucida Sans Unicode"/>
              </a:rPr>
              <a:t>Повышает сопротивляемость к инфекциям, укрепляет кровеносные сосуды, поддерживает в здоровом состоянии десны, зубы,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91280" y="2519280"/>
            <a:ext cx="2274840" cy="2797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92000" y="2592360"/>
            <a:ext cx="990720" cy="1408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944720" y="2584440"/>
            <a:ext cx="1120680" cy="1447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181320" y="2790720"/>
            <a:ext cx="816120" cy="1096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4248000" y="2604960"/>
            <a:ext cx="1328760" cy="1425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1441440" y="3932280"/>
            <a:ext cx="1444680" cy="1819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311640" y="4032360"/>
            <a:ext cx="182556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60520" y="671400"/>
            <a:ext cx="710712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0c226"/>
                </a:solidFill>
                <a:latin typeface="Comic Sans MS"/>
                <a:ea typeface="Lucida Sans Unicode"/>
              </a:rPr>
              <a:t>Если вы хотите быть сильными, иметь хороший аппетит и не хотите огорчаться по пустякам, вам нужен Вита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0520" y="4927680"/>
            <a:ext cx="710712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Lucida Sans Unicode"/>
              </a:rPr>
              <a:t>Улучшает сон, влияет на настроение, ускоряет заживление р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434280" y="2664000"/>
            <a:ext cx="2854080" cy="2734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96960" y="2530440"/>
            <a:ext cx="1751040" cy="1573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535640" y="2448000"/>
            <a:ext cx="1746000" cy="1592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62120" y="4195800"/>
            <a:ext cx="1901880" cy="1635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2817720" y="4079880"/>
            <a:ext cx="1717920" cy="1608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4940280" y="4006800"/>
            <a:ext cx="1755720" cy="1968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2448000" y="2544840"/>
            <a:ext cx="1717560" cy="15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60520" y="671400"/>
            <a:ext cx="710712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90c226"/>
                </a:solidFill>
                <a:latin typeface="Comic Sans MS"/>
                <a:ea typeface="Lucida Sans Unicode"/>
              </a:rPr>
              <a:t>Солнечный витамин </a:t>
            </a:r>
            <a:br>
              <a:rPr sz="2800"/>
            </a:br>
            <a:r>
              <a:rPr b="0" i="1" lang="ru-RU" sz="2800" spc="-1" strike="noStrike">
                <a:solidFill>
                  <a:srgbClr val="90c226"/>
                </a:solidFill>
                <a:latin typeface="Comic Sans MS"/>
                <a:ea typeface="Lucida Sans Unicode"/>
              </a:rPr>
              <a:t>Если ты хочешь иметь крепкие кости, хорошую кожу, красивые зубы, тебе нужен Вита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0520" y="4927680"/>
            <a:ext cx="710712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Lucida Sans Unicode"/>
              </a:rPr>
              <a:t>Обязательно гуляй на свежем воздухе! Принимай солнечные ванн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912000" y="2664000"/>
            <a:ext cx="1779480" cy="2616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808360" y="2303640"/>
            <a:ext cx="1519200" cy="21556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932040" y="4424400"/>
            <a:ext cx="1765080" cy="15080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755640" y="2449440"/>
            <a:ext cx="1266840" cy="1581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4564080" y="4057560"/>
            <a:ext cx="1589040" cy="1874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2901960" y="4327560"/>
            <a:ext cx="1520640" cy="1368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4699080" y="2576520"/>
            <a:ext cx="1636560" cy="14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60520" y="671400"/>
            <a:ext cx="710712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90c226"/>
                </a:solidFill>
                <a:latin typeface="Comic Sans MS"/>
                <a:ea typeface="Lucida Sans Unicode"/>
              </a:rPr>
              <a:t>Если вы хотите защитить кожу, иметь хорошую кровь, крепкие кости, вам нужен Витам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0520" y="4927680"/>
            <a:ext cx="710712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Lucida Sans Unicode"/>
              </a:rPr>
              <a:t>Предотвращает внутренние кровотечения и кровоизлияния. Ускоряет заживление ран. Усиливает сокращения мышц. Обеспечивает организм энерг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656400" y="2379600"/>
            <a:ext cx="2055960" cy="28767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57080" y="2274840"/>
            <a:ext cx="939960" cy="1181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720800" y="3527280"/>
            <a:ext cx="1590840" cy="1932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4535640" y="1930320"/>
            <a:ext cx="1531800" cy="1452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2506680" y="2087640"/>
            <a:ext cx="1452600" cy="1414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4278240" y="3530520"/>
            <a:ext cx="1120680" cy="15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0T17:26:10Z</dcterms:created>
  <dc:creator/>
  <dc:description/>
  <dc:language>en-US</dc:language>
  <cp:lastModifiedBy/>
  <dcterms:modified xsi:type="dcterms:W3CDTF">2019-11-20T17:55:41Z</dcterms:modified>
  <cp:revision>3</cp:revision>
  <dc:subject/>
  <dc:title/>
</cp:coreProperties>
</file>