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670-B833-4BED-971E-E43D484A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3CF-CF8D-4F14-81E3-3247E67D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F8A-DBD4-4866-8BB9-EA3A6A5B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3C2-E39C-4B20-B7B7-1979A9C4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C75AF-7BE5-4E0D-894F-F7BD237C3B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DB057-4F30-482D-ABB9-FD8AF0F8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80568-0637-4E2E-8B2F-627B424A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666A9-B126-4DC7-B37F-E68D5299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91C85-0A22-42DA-92DB-7BDF4F41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5CB00-6340-46F6-BF38-9B788BE8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30701-32D8-4D58-A763-07455991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4D7-9BB1-4B44-AD58-B72EF34F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69816-022C-4161-B5B1-A374D9AA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9037B-A588-4B3E-AE96-B71D114F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4CCFC-3CB3-4215-8392-53F1B757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23070-BB05-4193-87AF-BF8BD102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DAF1C-5DC2-4A00-A2A9-8BDFB20BD7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262-4F9D-480B-9D81-C4554579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782291-8FDF-434F-99A9-103C55FBC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AAE3C2-996B-42E9-9072-CE28E510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EE012-8443-48A9-A5DF-79704A39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186-5B2C-4A12-BEE0-4CBF45F9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66832E-F8F2-4463-9D3C-47099BCA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299BF-3775-40AB-AC24-D315E4A9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D36217-6D68-4812-9663-22FB277E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12B189-703B-4C62-BC85-811C567B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7DF19-4A84-445E-BA2C-BAC7706E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CB8E7-05A1-4A56-A92A-ADF9489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8746F-3D24-4952-B712-10E0D255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BC06F-A624-420E-97BC-F2A8DFC8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C64222-9D48-4BDA-86B5-05C573DFD5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877-4F88-4783-A597-21900327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265-A240-482D-87B9-A7FC4034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CB8-0423-4E15-B732-1A6272E7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191-41DC-4453-A439-C25EAD3B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3B8-934F-473E-9198-AE1275C5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62077-2F69-4D3A-98CF-8D59857556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694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7007040"/>
            <a:ext cx="2349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7.9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6EEF8-6515-4C82-B01D-2171D6EEAB5B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694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6"/>
          </p:nvPr>
        </p:nvSpPr>
        <p:spPr>
          <a:xfrm>
            <a:off x="503280" y="7007040"/>
            <a:ext cx="2349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7.9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7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3B4C2-D1D3-47A8-A936-F403C22528B4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0">
              <a:lnSpc>
                <a:spcPct val="102000"/>
              </a:lnSpc>
              <a:spcAft>
                <a:spcPts val="18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26.jpeg"/><Relationship Id="rId6" Type="http://schemas.openxmlformats.org/officeDocument/2006/relationships/image" Target="../media/image23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8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1731600"/>
            <a:ext cx="85676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ед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Витамины я люблю – быть здоровым я хочу»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858840" y="4284720"/>
            <a:ext cx="470844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384720" y="3527280"/>
            <a:ext cx="31971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Четвертый лишний»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01600" y="1495440"/>
            <a:ext cx="4032360" cy="2498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433840" y="1574640"/>
            <a:ext cx="3621240" cy="2413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260360" y="4330800"/>
            <a:ext cx="3795840" cy="2846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433840" y="4173480"/>
            <a:ext cx="3884760" cy="29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Четвертый лишний»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08000" y="1655640"/>
            <a:ext cx="3936960" cy="2211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283360" y="1547640"/>
            <a:ext cx="3500280" cy="2625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472000" y="431964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2003400" y="4103640"/>
            <a:ext cx="202896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60520" y="671400"/>
            <a:ext cx="710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Ребята, соблюдайте эти простые правила:</a:t>
            </a:r>
            <a:br>
              <a:rPr sz="3600"/>
            </a:br>
            <a:br>
              <a:rPr sz="20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 Ешьте здоровые, полезные продукты</a:t>
            </a:r>
            <a:br>
              <a:rPr sz="22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 Употребляйте овощи, фрукты, ягоды</a:t>
            </a:r>
            <a:br>
              <a:rPr sz="22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Соблюдайте режим дня и режим питания</a:t>
            </a:r>
            <a:br>
              <a:rPr sz="22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Чаще гуляйте на свежем воздухе</a:t>
            </a:r>
            <a:br>
              <a:rPr sz="22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Занимайтесь физкультурой, больше двигайтесь</a:t>
            </a:r>
            <a:br>
              <a:rPr sz="22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Соблюдайте личную гигиену</a:t>
            </a: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27320" y="4927680"/>
            <a:ext cx="46850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6c911c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  <a:ea typeface="Lucida Sans Unicode"/>
              </a:rPr>
              <a:t>И будете здоровы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767640" y="993600"/>
            <a:ext cx="2217600" cy="2246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20720" y="4352760"/>
            <a:ext cx="2503440" cy="26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познакомить детей с пользой витаминов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87560" y="1763640"/>
            <a:ext cx="61023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 вы, ребята, пробовали витамины?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Витамины бывают не только в таблетках.</a:t>
            </a: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 в каких продуктах есть витамины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жно есть больше овощей и фруктов. В них много витаминов А, В, С, Д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годня мы вспомним, в каких продуктах они содержатся и для чего нужны.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44840" y="176364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60520" y="671400"/>
            <a:ext cx="710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Если вы хотите хорошо расти, хорошо видеть и иметь крепкие зубы, вам нужен Вита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5815080"/>
            <a:ext cx="7107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mic Sans MS"/>
                <a:ea typeface="Lucida Sans Unicode"/>
              </a:rPr>
              <a:t>Укрепляет зрение, способствует росту, оздоравливает кож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954760" y="2592360"/>
            <a:ext cx="2757600" cy="2525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60520" y="2062080"/>
            <a:ext cx="1695240" cy="1613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255760" y="2119320"/>
            <a:ext cx="1569960" cy="1353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956040" y="2062080"/>
            <a:ext cx="1565280" cy="1471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720720" y="4248000"/>
            <a:ext cx="1541520" cy="1581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2260440" y="4103640"/>
            <a:ext cx="1716120" cy="1730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3933720" y="4248000"/>
            <a:ext cx="1825560" cy="15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60520" y="671400"/>
            <a:ext cx="710712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Если вы хотите реже простужаться, быть бодрыми, быстрее выздоравливать при болезни, вам нужен Витамин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0520" y="4927680"/>
            <a:ext cx="71071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mic Sans MS"/>
                <a:ea typeface="Lucida Sans Unicode"/>
              </a:rPr>
              <a:t>Повышает сопротивляемость к инфекциям, укрепляет кровеносные сосуды, поддерживает в здоровом состоянии десны, зубы,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91280" y="2519280"/>
            <a:ext cx="2274840" cy="2797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92000" y="2592360"/>
            <a:ext cx="990720" cy="1408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944720" y="2584440"/>
            <a:ext cx="1120680" cy="1447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181320" y="2790720"/>
            <a:ext cx="816120" cy="1096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4248000" y="2604960"/>
            <a:ext cx="1328760" cy="1425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1441440" y="3932280"/>
            <a:ext cx="1444680" cy="1819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311640" y="4032360"/>
            <a:ext cx="182556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60520" y="671400"/>
            <a:ext cx="710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Если вы хотите быть сильными, иметь хороший аппетит и не хотите огорчаться по пустякам, вам нужен Вита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0520" y="4927680"/>
            <a:ext cx="71071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Lucida Sans Unicode"/>
              </a:rPr>
              <a:t>Улучшает сон, влияет на настроение, ускоряет заживление р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434280" y="2664000"/>
            <a:ext cx="2854080" cy="2734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96960" y="2530440"/>
            <a:ext cx="1751040" cy="1573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535640" y="2448000"/>
            <a:ext cx="1746000" cy="1592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62120" y="4195800"/>
            <a:ext cx="1901880" cy="1635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817720" y="4079880"/>
            <a:ext cx="1717920" cy="1608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940280" y="4006800"/>
            <a:ext cx="1755720" cy="1968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2448000" y="2544840"/>
            <a:ext cx="1717560" cy="15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60520" y="671400"/>
            <a:ext cx="710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Солнечный витамин </a:t>
            </a:r>
            <a:br>
              <a:rPr sz="2800"/>
            </a:br>
            <a:r>
              <a:rPr b="0" i="1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Если ты хочешь иметь крепкие кости, хорошую кожу, красивые зубы, тебе нужен Вита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0520" y="4927680"/>
            <a:ext cx="71071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Lucida Sans Unicode"/>
              </a:rPr>
              <a:t>Обязательно гуляй на свежем воздухе! Принимай солнечные ван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912000" y="2664000"/>
            <a:ext cx="1779480" cy="2616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808360" y="2303640"/>
            <a:ext cx="1519200" cy="2155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932040" y="4424400"/>
            <a:ext cx="1765080" cy="1508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55640" y="2449440"/>
            <a:ext cx="1266840" cy="1581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564080" y="4057560"/>
            <a:ext cx="1589040" cy="1874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2901960" y="4327560"/>
            <a:ext cx="152064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4699080" y="2576520"/>
            <a:ext cx="1636560" cy="14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60520" y="671400"/>
            <a:ext cx="710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Если вы хотите защитить кожу, иметь хорошую кровь, крепкие кости, вам нужен Вита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0520" y="4927680"/>
            <a:ext cx="71071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Lucida Sans Unicode"/>
              </a:rPr>
              <a:t>Предотвращает внутренние кровотечения и кровоизлияния. Ускоряет заживление ран. Усиливает сокращения мышц. Обеспечивает организм энер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656400" y="2379600"/>
            <a:ext cx="2055960" cy="2876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57080" y="2274840"/>
            <a:ext cx="939960" cy="1181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720800" y="3527280"/>
            <a:ext cx="1590840" cy="1932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535640" y="1930320"/>
            <a:ext cx="1531800" cy="1452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2506680" y="2087640"/>
            <a:ext cx="1452600" cy="1414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278240" y="3530520"/>
            <a:ext cx="1120680" cy="15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0T17:26:10Z</dcterms:created>
  <dc:creator/>
  <dc:description/>
  <dc:language>en-US</dc:language>
  <cp:lastModifiedBy/>
  <dcterms:modified xsi:type="dcterms:W3CDTF">2019-11-20T17:55:41Z</dcterms:modified>
  <cp:revision>3</cp:revision>
  <dc:subject/>
  <dc:title/>
</cp:coreProperties>
</file>