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3FB-5D4A-494E-902A-11041F14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1F0-314F-4B35-8D65-0EEAC562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6E0-F5F5-4893-8704-3CF9F61A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50C-42CD-4A28-8F3F-F94D1AB9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AEA-E08F-43B6-AE37-7B241BE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906-5724-46B2-9BDC-CB7EF6F8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C66-EAC3-4FDE-8E9D-6307A14F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017-41A2-402F-B987-92A009C8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621-90D8-46D4-B578-E19F8FF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35E-1593-4EE0-B8A2-9CE0AD2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F14-027A-4DDB-A0C9-5E12D377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56B-85A9-4F7C-B52E-E9FF35B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2658-9B73-4195-A20C-AB8390F45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71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8472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</a:t>
            </a:r>
            <a:br>
              <a:rPr sz="3100"/>
            </a:br>
            <a:r>
              <a:rPr b="1" lang="ru-RU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образовать заданное алгебраическое выражение к такому виду, чтобы знаменатель  дроби не содержал знаков квадратных корн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071720" y="2857680"/>
                <a:ext cx="151920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5357880" y="2928960"/>
                <a:ext cx="333216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спираль"/>
          <p:cNvPicPr/>
          <p:nvPr/>
        </p:nvPicPr>
        <p:blipFill>
          <a:blip r:embed="rId1"/>
          <a:stretch/>
        </p:blipFill>
        <p:spPr>
          <a:xfrm>
            <a:off x="-30492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6120" y="239760"/>
            <a:ext cx="761688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им и числител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знаменатель дроб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786720" y="500040"/>
                <a:ext cx="1108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22240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1763640" y="2276640"/>
                <a:ext cx="269892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8" name="Object 11"/>
          <p:cNvGraphicFramePr/>
          <p:nvPr/>
        </p:nvGraphicFramePr>
        <p:xfrm>
          <a:off x="3059280" y="1989000"/>
          <a:ext cx="92376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1989000"/>
                    <a:ext cx="9237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4"/>
          <p:cNvGraphicFramePr/>
          <p:nvPr/>
        </p:nvGraphicFramePr>
        <p:xfrm>
          <a:off x="3348000" y="3141720"/>
          <a:ext cx="924120" cy="124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3141720"/>
                    <a:ext cx="9241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429080" y="1916280"/>
                <a:ext cx="314496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7"/>
              <p:cNvSpPr txBox="1"/>
              <p:nvPr/>
            </p:nvSpPr>
            <p:spPr>
              <a:xfrm>
                <a:off x="7524720" y="1916280"/>
                <a:ext cx="142884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0" y="2276640"/>
                <a:ext cx="1860480" cy="19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им числитель и знаменатель дроб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484360" y="765000"/>
                <a:ext cx="2405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24000" y="1700280"/>
                <a:ext cx="3024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395280" y="3933720"/>
                <a:ext cx="366408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348000" y="1844640"/>
                <a:ext cx="513576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5762520" y="2611440"/>
                <a:ext cx="26146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5435640" y="1628640"/>
                <a:ext cx="26146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067280" y="3933720"/>
                <a:ext cx="2073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3"/>
              <p:cNvSpPr txBox="1"/>
              <p:nvPr/>
            </p:nvSpPr>
            <p:spPr>
              <a:xfrm>
                <a:off x="6156360" y="4292640"/>
                <a:ext cx="1846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5480" y="196920"/>
            <a:ext cx="4611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ратить дро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74640" y="1022400"/>
                <a:ext cx="2746440" cy="23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5235480" y="1179360"/>
                <a:ext cx="3011760" cy="20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2" name="Object 8"/>
          <p:cNvGraphicFramePr/>
          <p:nvPr/>
        </p:nvGraphicFramePr>
        <p:xfrm>
          <a:off x="2309760" y="3571920"/>
          <a:ext cx="3711600" cy="23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09760" y="3571920"/>
                    <a:ext cx="37116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80960" y="441360"/>
                <a:ext cx="18590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484360" y="260280"/>
                <a:ext cx="25192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10"/>
          <p:cNvSpPr/>
          <p:nvPr/>
        </p:nvSpPr>
        <p:spPr>
          <a:xfrm flipV="1">
            <a:off x="6732720" y="620280"/>
            <a:ext cx="1195200" cy="3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5867280" y="1268280"/>
            <a:ext cx="1328760" cy="23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2"/>
              <p:cNvSpPr txBox="1"/>
              <p:nvPr/>
            </p:nvSpPr>
            <p:spPr>
              <a:xfrm>
                <a:off x="539640" y="2349360"/>
                <a:ext cx="1863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5148360" y="404640"/>
                <a:ext cx="3241440" cy="12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3"/>
              <p:cNvSpPr txBox="1"/>
              <p:nvPr/>
            </p:nvSpPr>
            <p:spPr>
              <a:xfrm>
                <a:off x="395280" y="2060640"/>
                <a:ext cx="29368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324000" y="260280"/>
                <a:ext cx="19206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5003640" y="189000"/>
                <a:ext cx="29512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Line 20"/>
          <p:cNvSpPr/>
          <p:nvPr/>
        </p:nvSpPr>
        <p:spPr>
          <a:xfrm flipV="1">
            <a:off x="1476360" y="2276640"/>
            <a:ext cx="176544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 flipV="1">
            <a:off x="1476360" y="3068280"/>
            <a:ext cx="1765440" cy="35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4"/>
              <p:cNvSpPr txBox="1"/>
              <p:nvPr/>
            </p:nvSpPr>
            <p:spPr>
              <a:xfrm>
                <a:off x="3368520" y="2133720"/>
                <a:ext cx="82728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5"/>
              <p:cNvSpPr txBox="1"/>
              <p:nvPr/>
            </p:nvSpPr>
            <p:spPr>
              <a:xfrm>
                <a:off x="2340000" y="222120"/>
                <a:ext cx="2636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14"/>
          <p:cNvGraphicFramePr/>
          <p:nvPr/>
        </p:nvGraphicFramePr>
        <p:xfrm>
          <a:off x="395280" y="3429000"/>
          <a:ext cx="54165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429000"/>
                    <a:ext cx="54165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95280" y="189000"/>
          <a:ext cx="273672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189000"/>
                    <a:ext cx="273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20"/>
          <p:cNvSpPr/>
          <p:nvPr/>
        </p:nvSpPr>
        <p:spPr>
          <a:xfrm flipV="1">
            <a:off x="755640" y="3573360"/>
            <a:ext cx="146196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1"/>
          <p:cNvSpPr/>
          <p:nvPr/>
        </p:nvSpPr>
        <p:spPr>
          <a:xfrm flipV="1">
            <a:off x="2484360" y="4365360"/>
            <a:ext cx="1505160" cy="35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3132000" y="260280"/>
                <a:ext cx="33847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387360" y="1773360"/>
                <a:ext cx="31399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3635280" y="1773360"/>
                <a:ext cx="207324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5700600" y="1755720"/>
                <a:ext cx="240840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х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2"/>
              <p:cNvSpPr txBox="1"/>
              <p:nvPr/>
            </p:nvSpPr>
            <p:spPr>
              <a:xfrm>
                <a:off x="5940360" y="3933720"/>
                <a:ext cx="2165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7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еобразование двойных радик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27760" y="1599840"/>
            <a:ext cx="3278160" cy="21891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8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250920" y="1628640"/>
                <a:ext cx="8713800" cy="253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котор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циональны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614520" y="4292640"/>
                <a:ext cx="29844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±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3708360" y="4437000"/>
                <a:ext cx="21034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±</m:t>
                    </m:r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9029880" y="25844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68400" y="1989000"/>
                <a:ext cx="3423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6588000" y="4006800"/>
                <a:ext cx="18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3635280" y="1989000"/>
                <a:ext cx="504036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55600" y="3862440"/>
                <a:ext cx="37116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4140360" y="3933720"/>
                <a:ext cx="2284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Формула двойного ради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2843280" y="1268280"/>
                <a:ext cx="3240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148360" y="2852640"/>
                <a:ext cx="35352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95280" y="2852640"/>
                <a:ext cx="448308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324000" y="1557360"/>
                <a:ext cx="674028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3360" y="3573360"/>
                <a:ext cx="4221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54400" y="1819440"/>
            <a:ext cx="6789600" cy="40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0" y="1197000"/>
                <a:ext cx="4572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356000" y="3716280"/>
                <a:ext cx="647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179280" y="2421000"/>
                <a:ext cx="4897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5148360" y="2492280"/>
                <a:ext cx="3384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572000" y="1197000"/>
                <a:ext cx="4427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4400" y="1819440"/>
            <a:ext cx="6789600" cy="40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250920" y="765000"/>
                <a:ext cx="33843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6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324000" y="1700280"/>
                <a:ext cx="66243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324000" y="3068640"/>
                <a:ext cx="6984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95280" y="5877000"/>
                <a:ext cx="1800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0" y="4508640"/>
                <a:ext cx="53290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80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809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5364000" y="4508640"/>
                <a:ext cx="3600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631360" cy="40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66360" cy="407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583840" cy="407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спираль"/>
          <p:cNvPicPr/>
          <p:nvPr/>
        </p:nvPicPr>
        <p:blipFill>
          <a:blip r:embed="rId2"/>
          <a:stretch/>
        </p:blipFill>
        <p:spPr>
          <a:xfrm>
            <a:off x="-37800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0600" y="1555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  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ь вы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149480" y="993600"/>
                <a:ext cx="152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7"/>
          <p:cNvGraphicFramePr/>
          <p:nvPr/>
        </p:nvGraphicFramePr>
        <p:xfrm>
          <a:off x="4284720" y="620640"/>
          <a:ext cx="1701720" cy="16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620640"/>
                    <a:ext cx="17017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1"/>
          <p:cNvGraphicFramePr/>
          <p:nvPr/>
        </p:nvGraphicFramePr>
        <p:xfrm>
          <a:off x="428760" y="3286080"/>
          <a:ext cx="185724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3286080"/>
                    <a:ext cx="18572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7580160" y="38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57120" y="22860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не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итель из - под знака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028880" y="4645080"/>
            <a:ext cx="442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6500880" y="3286080"/>
                <a:ext cx="1654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3429000" y="3286080"/>
                <a:ext cx="1947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Text Box 16"/>
          <p:cNvSpPr/>
          <p:nvPr/>
        </p:nvSpPr>
        <p:spPr>
          <a:xfrm>
            <a:off x="324000" y="4437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уем !!!!! 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ти множитель под знак  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7"/>
              <p:cNvSpPr txBox="1"/>
              <p:nvPr/>
            </p:nvSpPr>
            <p:spPr>
              <a:xfrm>
                <a:off x="1471680" y="5116680"/>
                <a:ext cx="1531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8"/>
              <p:cNvSpPr txBox="1"/>
              <p:nvPr/>
            </p:nvSpPr>
            <p:spPr>
              <a:xfrm>
                <a:off x="5003640" y="4941720"/>
                <a:ext cx="14288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AutoShape 16"/>
          <p:cNvSpPr/>
          <p:nvPr/>
        </p:nvSpPr>
        <p:spPr>
          <a:xfrm>
            <a:off x="7236000" y="112536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7236000" y="407664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7415280" y="6165720"/>
            <a:ext cx="1728720" cy="35892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953" h="21600">
                <a:moveTo>
                  <a:pt x="0" y="0"/>
                </a:moveTo>
                <a:lnTo>
                  <a:pt x="103953" y="0"/>
                </a:lnTo>
                <a:lnTo>
                  <a:pt x="103953" y="21600"/>
                </a:lnTo>
                <a:lnTo>
                  <a:pt x="0" y="21600"/>
                </a:lnTo>
                <a:close/>
              </a:path>
              <a:path fill="lightenLess" w="103953" h="21600">
                <a:moveTo>
                  <a:pt x="0" y="0"/>
                </a:moveTo>
                <a:lnTo>
                  <a:pt x="103953" y="0"/>
                </a:lnTo>
                <a:lnTo>
                  <a:pt x="102553" y="1400"/>
                </a:lnTo>
                <a:lnTo>
                  <a:pt x="1400" y="1400"/>
                </a:lnTo>
                <a:close/>
              </a:path>
              <a:path fill="darken" w="103953" h="21600">
                <a:moveTo>
                  <a:pt x="103953" y="0"/>
                </a:moveTo>
                <a:lnTo>
                  <a:pt x="103953" y="21600"/>
                </a:lnTo>
                <a:lnTo>
                  <a:pt x="102553" y="20200"/>
                </a:lnTo>
                <a:lnTo>
                  <a:pt x="102553" y="1400"/>
                </a:lnTo>
                <a:close/>
              </a:path>
              <a:path fill="darkenLess" w="103953" h="21600">
                <a:moveTo>
                  <a:pt x="103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53" y="20200"/>
                </a:lnTo>
                <a:close/>
              </a:path>
              <a:path fill="lighten" w="103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2400" y="36000"/>
            <a:ext cx="3894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042920" y="836640"/>
                <a:ext cx="2430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Text Box 13"/>
          <p:cNvSpPr/>
          <p:nvPr/>
        </p:nvSpPr>
        <p:spPr>
          <a:xfrm>
            <a:off x="395280" y="1052640"/>
            <a:ext cx="6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3492360" y="907920"/>
                <a:ext cx="29005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6523200" y="1004760"/>
                <a:ext cx="19159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755640" y="2492280"/>
                <a:ext cx="238140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276720" y="2492280"/>
                <a:ext cx="18954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5338800" y="2565360"/>
                <a:ext cx="18460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AutoShape 20"/>
          <p:cNvSpPr/>
          <p:nvPr/>
        </p:nvSpPr>
        <p:spPr>
          <a:xfrm>
            <a:off x="7236000" y="5589720"/>
            <a:ext cx="1296720" cy="576000"/>
          </a:xfrm>
          <a:custGeom>
            <a:avLst/>
            <a:gdLst>
              <a:gd name="textAreaLeft" fmla="*/ 37080 w 1296720"/>
              <a:gd name="textAreaRight" fmla="*/ 1259640 w 129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610" h="21600">
                <a:moveTo>
                  <a:pt x="0" y="0"/>
                </a:moveTo>
                <a:lnTo>
                  <a:pt x="48610" y="0"/>
                </a:lnTo>
                <a:lnTo>
                  <a:pt x="48610" y="21600"/>
                </a:lnTo>
                <a:lnTo>
                  <a:pt x="0" y="21600"/>
                </a:lnTo>
                <a:close/>
              </a:path>
              <a:path fill="lightenLess" w="48610" h="21600">
                <a:moveTo>
                  <a:pt x="0" y="0"/>
                </a:moveTo>
                <a:lnTo>
                  <a:pt x="48610" y="0"/>
                </a:lnTo>
                <a:lnTo>
                  <a:pt x="47210" y="1400"/>
                </a:lnTo>
                <a:lnTo>
                  <a:pt x="1400" y="1400"/>
                </a:lnTo>
                <a:close/>
              </a:path>
              <a:path fill="darken" w="48610" h="21600">
                <a:moveTo>
                  <a:pt x="48610" y="0"/>
                </a:moveTo>
                <a:lnTo>
                  <a:pt x="48610" y="21600"/>
                </a:lnTo>
                <a:lnTo>
                  <a:pt x="47210" y="20200"/>
                </a:lnTo>
                <a:lnTo>
                  <a:pt x="47210" y="1400"/>
                </a:lnTo>
                <a:close/>
              </a:path>
              <a:path fill="darkenLess" w="48610" h="21600">
                <a:moveTo>
                  <a:pt x="4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10" y="20200"/>
                </a:lnTo>
                <a:close/>
              </a:path>
              <a:path fill="lighten" w="4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10" h="21600">
                <a:moveTo>
                  <a:pt x="17299" y="10800"/>
                </a:moveTo>
                <a:lnTo>
                  <a:pt x="31312" y="3794"/>
                </a:lnTo>
                <a:lnTo>
                  <a:pt x="313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52400" y="36000"/>
            <a:ext cx="3894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40720" y="11253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332000" y="981000"/>
                <a:ext cx="2187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а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564000" y="981000"/>
                <a:ext cx="291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6515280" y="957240"/>
                <a:ext cx="15555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468360" y="2060640"/>
                <a:ext cx="25272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3059280" y="2060640"/>
                <a:ext cx="4422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а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-117360" y="3068640"/>
                <a:ext cx="617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373800" y="3141720"/>
                <a:ext cx="27702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b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0" y="4365720"/>
                <a:ext cx="228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124000" y="4365720"/>
                <a:ext cx="3160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8400" y="4365720"/>
                <a:ext cx="4035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25360" y="5516640"/>
                <a:ext cx="21384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а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AutoShape 23"/>
          <p:cNvSpPr/>
          <p:nvPr/>
        </p:nvSpPr>
        <p:spPr>
          <a:xfrm>
            <a:off x="709308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4859280" y="3284640"/>
                <a:ext cx="21020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0" name="Picture 8" descr="спираль"/>
          <p:cNvPicPr/>
          <p:nvPr/>
        </p:nvPicPr>
        <p:blipFill>
          <a:blip r:embed="rId1"/>
          <a:stretch/>
        </p:blipFill>
        <p:spPr>
          <a:xfrm>
            <a:off x="-233280" y="0"/>
            <a:ext cx="592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1515960" y="793800"/>
            <a:ext cx="903240" cy="487440"/>
          </a:xfrm>
          <a:custGeom>
            <a:avLst/>
            <a:gdLst>
              <a:gd name="textAreaLeft" fmla="*/ 183960 w 903240"/>
              <a:gd name="textAreaRight" fmla="*/ 628920 w 903240"/>
              <a:gd name="textAreaTop" fmla="*/ 65160 h 487440"/>
              <a:gd name="textAreaBottom" fmla="*/ 422280 h 48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97" hR="21600" stAng="10800000" swAng="5400000"/>
                <a:lnTo>
                  <a:pt x="10644" y="0"/>
                </a:lnTo>
                <a:arcTo wR="8797" hR="21600" stAng="-5400000" swAng="1209770"/>
                <a:lnTo>
                  <a:pt x="18694" y="5558"/>
                </a:lnTo>
                <a:lnTo>
                  <a:pt x="18517" y="21600"/>
                </a:lnTo>
                <a:lnTo>
                  <a:pt x="12527" y="5558"/>
                </a:lnTo>
                <a:lnTo>
                  <a:pt x="14687" y="5558"/>
                </a:lnTo>
                <a:arcTo wR="8797" hR="21600" stAng="-4190230" swAng="-1062065"/>
                <a:lnTo>
                  <a:pt x="9720" y="119"/>
                </a:lnTo>
                <a:arcTo wR="8797" hR="21600" stAng="-5547705" swAng="-5252295"/>
                <a:close/>
              </a:path>
              <a:path fill="darkenLess" w="21600" h="21600">
                <a:moveTo>
                  <a:pt x="0" y="21600"/>
                </a:moveTo>
                <a:arcTo wR="8797" hR="21600" stAng="10800000" swAng="5400000"/>
                <a:lnTo>
                  <a:pt x="8797" y="0"/>
                </a:lnTo>
                <a:arcTo wR="8797" hR="21600" stAng="-5400000" swAng="147705"/>
                <a:lnTo>
                  <a:pt x="9720" y="119"/>
                </a:lnTo>
                <a:arcTo wR="8797" hR="21600" stAng="-5547705" swAng="-525229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403280" y="1150920"/>
                <a:ext cx="1440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419200" y="49579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2771640" y="1125360"/>
                <a:ext cx="2035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AutoShape 17"/>
          <p:cNvSpPr/>
          <p:nvPr/>
        </p:nvSpPr>
        <p:spPr>
          <a:xfrm rot="20433000">
            <a:off x="1003320" y="2760480"/>
            <a:ext cx="892080" cy="1144440"/>
          </a:xfrm>
          <a:custGeom>
            <a:avLst/>
            <a:gdLst>
              <a:gd name="textAreaLeft" fmla="*/ 130680 w 892080"/>
              <a:gd name="textAreaRight" fmla="*/ 761400 w 892080"/>
              <a:gd name="textAreaTop" fmla="*/ 167400 h 1144440"/>
              <a:gd name="textAreaBottom" fmla="*/ 977040 h 1144440"/>
            </a:gdLst>
            <a:ahLst/>
            <a:rect l="textAreaLeft" t="textAreaTop" r="textAreaRight" b="textAreaBottom"/>
            <a:pathLst>
              <a:path w="21600" h="21600">
                <a:moveTo>
                  <a:pt x="20100" y="12738"/>
                </a:moveTo>
                <a:cubicBezTo>
                  <a:pt x="20232" y="12101"/>
                  <a:pt x="20300" y="11451"/>
                  <a:pt x="20300" y="10800"/>
                </a:cubicBezTo>
                <a:cubicBezTo>
                  <a:pt x="20300" y="5553"/>
                  <a:pt x="16046" y="1300"/>
                  <a:pt x="10800" y="1300"/>
                </a:cubicBezTo>
                <a:cubicBezTo>
                  <a:pt x="5673" y="1299"/>
                  <a:pt x="1471" y="5367"/>
                  <a:pt x="1304" y="10492"/>
                </a:cubicBezTo>
                <a:lnTo>
                  <a:pt x="5" y="10450"/>
                </a:lnTo>
                <a:cubicBezTo>
                  <a:pt x="194" y="4624"/>
                  <a:pt x="497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40"/>
                  <a:pt x="21523" y="12279"/>
                  <a:pt x="21372" y="13004"/>
                </a:cubicBezTo>
                <a:lnTo>
                  <a:pt x="24015" y="13555"/>
                </a:lnTo>
                <a:lnTo>
                  <a:pt x="20052" y="16151"/>
                </a:lnTo>
                <a:lnTo>
                  <a:pt x="17456" y="12187"/>
                </a:lnTo>
                <a:lnTo>
                  <a:pt x="20100" y="1273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828720" y="3284640"/>
                <a:ext cx="16509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Line 18"/>
          <p:cNvSpPr/>
          <p:nvPr/>
        </p:nvSpPr>
        <p:spPr>
          <a:xfrm flipV="1">
            <a:off x="5292720" y="3573360"/>
            <a:ext cx="752400" cy="309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5508720" y="4220640"/>
            <a:ext cx="841320" cy="3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1280" y="1143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552760" y="36360"/>
            <a:ext cx="3894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2"/>
              <p:cNvSpPr txBox="1"/>
              <p:nvPr/>
            </p:nvSpPr>
            <p:spPr>
              <a:xfrm>
                <a:off x="4859280" y="1197000"/>
                <a:ext cx="1576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6516720" y="1197000"/>
                <a:ext cx="806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2484360" y="3284640"/>
                <a:ext cx="24465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6948360" y="3645000"/>
                <a:ext cx="126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AutoShape 21"/>
          <p:cNvSpPr/>
          <p:nvPr/>
        </p:nvSpPr>
        <p:spPr>
          <a:xfrm>
            <a:off x="7236000" y="6093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3794"/>
                </a:moveTo>
                <a:lnTo>
                  <a:pt x="41519" y="10800"/>
                </a:lnTo>
                <a:lnTo>
                  <a:pt x="275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Елена Жалыбина</cp:lastModifiedBy>
  <dcterms:modified xsi:type="dcterms:W3CDTF">2020-09-07T21:42:51Z</dcterms:modified>
  <cp:revision>153</cp:revision>
  <dc:subject/>
  <dc:title>Слайд 1</dc:title>
</cp:coreProperties>
</file>