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B20-6D62-42DC-BFEC-6BD279A7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AA8-CB2B-4293-846B-55F96501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38F-4B45-4842-9E6F-E281A6F8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F2C-9AE7-462C-8658-8A0FCFEF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399-B4F1-4677-97F6-375F284E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DC2-7B04-401D-9E2D-A834029C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870-9ED8-4FD7-9E6E-7034D4B7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252-6AD4-4582-BF06-0783DC1D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1F3-9967-4681-A13C-5AD3EC78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9F7-EB41-488E-8CAA-427B0B8C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2B1-95F6-4E3B-9C72-1F082272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64A-366C-42FF-A015-4316A5E8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110E-A8F2-4E54-B650-5F362E63D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583840" cy="4717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3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583840" cy="407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8472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уем !!!!! </a:t>
            </a:r>
            <a:br>
              <a:rPr sz="3100"/>
            </a:br>
            <a:r>
              <a:rPr b="1" lang="ru-RU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образовать заданное алгебраическое выражение к такому виду, чтобы знаменатель  дроби не содержал знаков квадратных корн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071720" y="2857680"/>
                <a:ext cx="1519200" cy="24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5357880" y="2928960"/>
                <a:ext cx="3332160" cy="23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спираль"/>
          <p:cNvPicPr/>
          <p:nvPr/>
        </p:nvPicPr>
        <p:blipFill>
          <a:blip r:embed="rId1"/>
          <a:stretch/>
        </p:blipFill>
        <p:spPr>
          <a:xfrm>
            <a:off x="-30492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6120" y="239760"/>
            <a:ext cx="7616880" cy="11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ножим и числител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знаменатель дроби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786720" y="500040"/>
                <a:ext cx="11080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2224080" y="99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1763640" y="2276640"/>
                <a:ext cx="2698920" cy="20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8" name="Object 11"/>
          <p:cNvGraphicFramePr/>
          <p:nvPr/>
        </p:nvGraphicFramePr>
        <p:xfrm>
          <a:off x="3059280" y="1989000"/>
          <a:ext cx="923760" cy="11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1989000"/>
                    <a:ext cx="92376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4"/>
          <p:cNvGraphicFramePr/>
          <p:nvPr/>
        </p:nvGraphicFramePr>
        <p:xfrm>
          <a:off x="3348000" y="3141720"/>
          <a:ext cx="924120" cy="124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8000" y="3141720"/>
                    <a:ext cx="92412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4429080" y="1916280"/>
                <a:ext cx="314496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7"/>
              <p:cNvSpPr txBox="1"/>
              <p:nvPr/>
            </p:nvSpPr>
            <p:spPr>
              <a:xfrm>
                <a:off x="7524720" y="1916280"/>
                <a:ext cx="142884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0" y="2276640"/>
                <a:ext cx="1860480" cy="19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ножим числитель и знаменатель дроби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2484360" y="765000"/>
                <a:ext cx="24051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24000" y="1700280"/>
                <a:ext cx="3024000" cy="19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3"/>
              <p:cNvSpPr txBox="1"/>
              <p:nvPr/>
            </p:nvSpPr>
            <p:spPr>
              <a:xfrm>
                <a:off x="395280" y="3933720"/>
                <a:ext cx="3664080" cy="19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3348000" y="1844640"/>
                <a:ext cx="513576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5762520" y="2611440"/>
                <a:ext cx="26146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5435640" y="1628640"/>
                <a:ext cx="261468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4067280" y="3933720"/>
                <a:ext cx="207324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3"/>
              <p:cNvSpPr txBox="1"/>
              <p:nvPr/>
            </p:nvSpPr>
            <p:spPr>
              <a:xfrm>
                <a:off x="6156360" y="4292640"/>
                <a:ext cx="18460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3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583840" cy="4078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65480" y="196920"/>
            <a:ext cx="4611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кратить дроб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674640" y="1022400"/>
                <a:ext cx="2746440" cy="23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5235480" y="1179360"/>
                <a:ext cx="3011760" cy="200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2" name="Object 8"/>
          <p:cNvGraphicFramePr/>
          <p:nvPr/>
        </p:nvGraphicFramePr>
        <p:xfrm>
          <a:off x="2309760" y="3571920"/>
          <a:ext cx="3711600" cy="23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9760" y="3571920"/>
                    <a:ext cx="37116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480960" y="441360"/>
                <a:ext cx="185904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2484360" y="260280"/>
                <a:ext cx="251928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a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Line 10"/>
          <p:cNvSpPr/>
          <p:nvPr/>
        </p:nvSpPr>
        <p:spPr>
          <a:xfrm flipV="1">
            <a:off x="6732720" y="620280"/>
            <a:ext cx="1195200" cy="3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5867280" y="1268280"/>
            <a:ext cx="1328760" cy="230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2"/>
              <p:cNvSpPr txBox="1"/>
              <p:nvPr/>
            </p:nvSpPr>
            <p:spPr>
              <a:xfrm>
                <a:off x="539640" y="2349360"/>
                <a:ext cx="1863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5148360" y="404640"/>
                <a:ext cx="3241440" cy="12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Object 23"/>
              <p:cNvSpPr txBox="1"/>
              <p:nvPr/>
            </p:nvSpPr>
            <p:spPr>
              <a:xfrm>
                <a:off x="395280" y="2060640"/>
                <a:ext cx="293688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324000" y="260280"/>
                <a:ext cx="192060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5003640" y="189000"/>
                <a:ext cx="29512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Line 20"/>
          <p:cNvSpPr/>
          <p:nvPr/>
        </p:nvSpPr>
        <p:spPr>
          <a:xfrm flipV="1">
            <a:off x="1476360" y="2276640"/>
            <a:ext cx="176544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 flipV="1">
            <a:off x="1476360" y="3068280"/>
            <a:ext cx="1765440" cy="35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4"/>
              <p:cNvSpPr txBox="1"/>
              <p:nvPr/>
            </p:nvSpPr>
            <p:spPr>
              <a:xfrm>
                <a:off x="3368520" y="2133720"/>
                <a:ext cx="82728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5"/>
              <p:cNvSpPr txBox="1"/>
              <p:nvPr/>
            </p:nvSpPr>
            <p:spPr>
              <a:xfrm>
                <a:off x="2340000" y="222120"/>
                <a:ext cx="2636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14"/>
          <p:cNvGraphicFramePr/>
          <p:nvPr/>
        </p:nvGraphicFramePr>
        <p:xfrm>
          <a:off x="395280" y="3429000"/>
          <a:ext cx="5416560" cy="17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429000"/>
                    <a:ext cx="541656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7"/>
          <p:cNvGraphicFramePr/>
          <p:nvPr/>
        </p:nvGraphicFramePr>
        <p:xfrm>
          <a:off x="395280" y="189000"/>
          <a:ext cx="2736720" cy="14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189000"/>
                    <a:ext cx="2736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Line 20"/>
          <p:cNvSpPr/>
          <p:nvPr/>
        </p:nvSpPr>
        <p:spPr>
          <a:xfrm flipV="1">
            <a:off x="755640" y="3573360"/>
            <a:ext cx="146196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1"/>
          <p:cNvSpPr/>
          <p:nvPr/>
        </p:nvSpPr>
        <p:spPr>
          <a:xfrm flipV="1">
            <a:off x="2484360" y="4365360"/>
            <a:ext cx="1505160" cy="35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3132000" y="260280"/>
                <a:ext cx="33847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2"/>
              <p:cNvSpPr txBox="1"/>
              <p:nvPr/>
            </p:nvSpPr>
            <p:spPr>
              <a:xfrm>
                <a:off x="387360" y="1773360"/>
                <a:ext cx="313992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2"/>
              <p:cNvSpPr txBox="1"/>
              <p:nvPr/>
            </p:nvSpPr>
            <p:spPr>
              <a:xfrm>
                <a:off x="3635280" y="1773360"/>
                <a:ext cx="207324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2"/>
              <p:cNvSpPr txBox="1"/>
              <p:nvPr/>
            </p:nvSpPr>
            <p:spPr>
              <a:xfrm>
                <a:off x="5700600" y="1755720"/>
                <a:ext cx="240840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х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2"/>
              <p:cNvSpPr txBox="1"/>
              <p:nvPr/>
            </p:nvSpPr>
            <p:spPr>
              <a:xfrm>
                <a:off x="5940360" y="3933720"/>
                <a:ext cx="2165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х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Rectangle 3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583840" cy="407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583840" cy="4717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Преобразование двойных радика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027760" y="1599840"/>
            <a:ext cx="3278160" cy="21891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8" descr=""/>
          <p:cNvPicPr/>
          <p:nvPr/>
        </p:nvPicPr>
        <p:blipFill>
          <a:blip r:embed="rId2"/>
          <a:stretch/>
        </p:blipFill>
        <p:spPr>
          <a:xfrm>
            <a:off x="1332000" y="620640"/>
            <a:ext cx="6095880" cy="406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Object 19"/>
              <p:cNvSpPr txBox="1"/>
              <p:nvPr/>
            </p:nvSpPr>
            <p:spPr>
              <a:xfrm>
                <a:off x="250920" y="1628640"/>
                <a:ext cx="8713800" cy="253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котор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циональны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614520" y="4292640"/>
                <a:ext cx="298440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±</m:t>
                        </m:r>
                        <m:r>
                          <m:t xml:space="preserve">b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3708360" y="4437000"/>
                <a:ext cx="21034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±</m:t>
                    </m:r>
                    <m:r>
                      <m:t xml:space="preserve">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z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свободимся от внешнего радикала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 выра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9029880" y="25844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68400" y="1989000"/>
                <a:ext cx="3423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6588000" y="4006800"/>
                <a:ext cx="18082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3635280" y="1989000"/>
                <a:ext cx="5040360" cy="13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255600" y="3862440"/>
                <a:ext cx="371160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4140360" y="3933720"/>
                <a:ext cx="2284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Формула двойного радик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2843280" y="1268280"/>
                <a:ext cx="32400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5148360" y="2852640"/>
                <a:ext cx="353520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395280" y="2852640"/>
                <a:ext cx="448308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6"/>
              <p:cNvSpPr txBox="1"/>
              <p:nvPr/>
            </p:nvSpPr>
            <p:spPr>
              <a:xfrm>
                <a:off x="324000" y="1557360"/>
                <a:ext cx="6740280" cy="38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6</m:t>
                                </m:r>
                              </m:e>
                            </m:ra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63360" y="3573360"/>
                <a:ext cx="4221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Пров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354400" y="1819440"/>
            <a:ext cx="6789600" cy="40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Object 6"/>
              <p:cNvSpPr txBox="1"/>
              <p:nvPr/>
            </p:nvSpPr>
            <p:spPr>
              <a:xfrm>
                <a:off x="0" y="1197000"/>
                <a:ext cx="45720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4356000" y="3716280"/>
                <a:ext cx="6476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179280" y="2421000"/>
                <a:ext cx="48974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6"/>
              <p:cNvSpPr txBox="1"/>
              <p:nvPr/>
            </p:nvSpPr>
            <p:spPr>
              <a:xfrm>
                <a:off x="5148360" y="2492280"/>
                <a:ext cx="33843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572000" y="1197000"/>
                <a:ext cx="44276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Пров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354400" y="1819440"/>
            <a:ext cx="6789600" cy="40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250920" y="765000"/>
                <a:ext cx="33843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6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6"/>
              <p:cNvSpPr txBox="1"/>
              <p:nvPr/>
            </p:nvSpPr>
            <p:spPr>
              <a:xfrm>
                <a:off x="324000" y="1700280"/>
                <a:ext cx="66243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324000" y="3068640"/>
                <a:ext cx="6984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2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2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95280" y="5877000"/>
                <a:ext cx="18003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6"/>
              <p:cNvSpPr txBox="1"/>
              <p:nvPr/>
            </p:nvSpPr>
            <p:spPr>
              <a:xfrm>
                <a:off x="0" y="4508640"/>
                <a:ext cx="53290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80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80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6"/>
              <p:cNvSpPr txBox="1"/>
              <p:nvPr/>
            </p:nvSpPr>
            <p:spPr>
              <a:xfrm>
                <a:off x="5364000" y="4508640"/>
                <a:ext cx="360072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201600" y="189000"/>
            <a:ext cx="8631360" cy="407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8766360" cy="4078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3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583840" cy="407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0600" y="1555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уем !!!!!   1.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стить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1149480" y="993600"/>
                <a:ext cx="15238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7"/>
          <p:cNvGraphicFramePr/>
          <p:nvPr/>
        </p:nvGraphicFramePr>
        <p:xfrm>
          <a:off x="4284720" y="620640"/>
          <a:ext cx="1701720" cy="161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620640"/>
                    <a:ext cx="170172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1"/>
          <p:cNvGraphicFramePr/>
          <p:nvPr/>
        </p:nvGraphicFramePr>
        <p:xfrm>
          <a:off x="428760" y="3286080"/>
          <a:ext cx="1857240" cy="95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760" y="3286080"/>
                    <a:ext cx="185724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6"/>
          <p:cNvSpPr/>
          <p:nvPr/>
        </p:nvSpPr>
        <p:spPr>
          <a:xfrm>
            <a:off x="7580160" y="38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57120" y="22860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уем !!!!!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не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итель из - под знака кор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028880" y="4645080"/>
            <a:ext cx="442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3"/>
              <p:cNvSpPr txBox="1"/>
              <p:nvPr/>
            </p:nvSpPr>
            <p:spPr>
              <a:xfrm>
                <a:off x="6500880" y="3286080"/>
                <a:ext cx="16542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5"/>
              <p:cNvSpPr txBox="1"/>
              <p:nvPr/>
            </p:nvSpPr>
            <p:spPr>
              <a:xfrm>
                <a:off x="3429000" y="3286080"/>
                <a:ext cx="19479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" name="Text Box 16"/>
          <p:cNvSpPr/>
          <p:nvPr/>
        </p:nvSpPr>
        <p:spPr>
          <a:xfrm>
            <a:off x="324000" y="443700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уем !!!!! 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ти множитель под знак   кор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7"/>
              <p:cNvSpPr txBox="1"/>
              <p:nvPr/>
            </p:nvSpPr>
            <p:spPr>
              <a:xfrm>
                <a:off x="1471680" y="5116680"/>
                <a:ext cx="15318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8"/>
              <p:cNvSpPr txBox="1"/>
              <p:nvPr/>
            </p:nvSpPr>
            <p:spPr>
              <a:xfrm>
                <a:off x="5003640" y="4941720"/>
                <a:ext cx="142884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AutoShape 16"/>
          <p:cNvSpPr/>
          <p:nvPr/>
        </p:nvSpPr>
        <p:spPr>
          <a:xfrm>
            <a:off x="7236000" y="1125360"/>
            <a:ext cx="1728720" cy="35892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3953" h="21600">
                <a:moveTo>
                  <a:pt x="0" y="0"/>
                </a:moveTo>
                <a:lnTo>
                  <a:pt x="103953" y="0"/>
                </a:lnTo>
                <a:lnTo>
                  <a:pt x="103953" y="21600"/>
                </a:lnTo>
                <a:lnTo>
                  <a:pt x="0" y="21600"/>
                </a:lnTo>
                <a:close/>
              </a:path>
              <a:path fill="lightenLess" w="103953" h="21600">
                <a:moveTo>
                  <a:pt x="0" y="0"/>
                </a:moveTo>
                <a:lnTo>
                  <a:pt x="103953" y="0"/>
                </a:lnTo>
                <a:lnTo>
                  <a:pt x="102553" y="1400"/>
                </a:lnTo>
                <a:lnTo>
                  <a:pt x="1400" y="1400"/>
                </a:lnTo>
                <a:close/>
              </a:path>
              <a:path fill="darken" w="103953" h="21600">
                <a:moveTo>
                  <a:pt x="103953" y="0"/>
                </a:moveTo>
                <a:lnTo>
                  <a:pt x="103953" y="21600"/>
                </a:lnTo>
                <a:lnTo>
                  <a:pt x="102553" y="20200"/>
                </a:lnTo>
                <a:lnTo>
                  <a:pt x="102553" y="1400"/>
                </a:lnTo>
                <a:close/>
              </a:path>
              <a:path fill="darkenLess" w="103953" h="21600">
                <a:moveTo>
                  <a:pt x="10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553" y="20200"/>
                </a:lnTo>
                <a:close/>
              </a:path>
              <a:path fill="lighten" w="10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7236000" y="4076640"/>
            <a:ext cx="1728720" cy="35892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3953" h="21600">
                <a:moveTo>
                  <a:pt x="0" y="0"/>
                </a:moveTo>
                <a:lnTo>
                  <a:pt x="103953" y="0"/>
                </a:lnTo>
                <a:lnTo>
                  <a:pt x="103953" y="21600"/>
                </a:lnTo>
                <a:lnTo>
                  <a:pt x="0" y="21600"/>
                </a:lnTo>
                <a:close/>
              </a:path>
              <a:path fill="lightenLess" w="103953" h="21600">
                <a:moveTo>
                  <a:pt x="0" y="0"/>
                </a:moveTo>
                <a:lnTo>
                  <a:pt x="103953" y="0"/>
                </a:lnTo>
                <a:lnTo>
                  <a:pt x="102553" y="1400"/>
                </a:lnTo>
                <a:lnTo>
                  <a:pt x="1400" y="1400"/>
                </a:lnTo>
                <a:close/>
              </a:path>
              <a:path fill="darken" w="103953" h="21600">
                <a:moveTo>
                  <a:pt x="103953" y="0"/>
                </a:moveTo>
                <a:lnTo>
                  <a:pt x="103953" y="21600"/>
                </a:lnTo>
                <a:lnTo>
                  <a:pt x="102553" y="20200"/>
                </a:lnTo>
                <a:lnTo>
                  <a:pt x="102553" y="1400"/>
                </a:lnTo>
                <a:close/>
              </a:path>
              <a:path fill="darkenLess" w="103953" h="21600">
                <a:moveTo>
                  <a:pt x="10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553" y="20200"/>
                </a:lnTo>
                <a:close/>
              </a:path>
              <a:path fill="lighten" w="10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8"/>
          <p:cNvSpPr/>
          <p:nvPr/>
        </p:nvSpPr>
        <p:spPr>
          <a:xfrm>
            <a:off x="7415280" y="6165720"/>
            <a:ext cx="1728720" cy="35892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3953" h="21600">
                <a:moveTo>
                  <a:pt x="0" y="0"/>
                </a:moveTo>
                <a:lnTo>
                  <a:pt x="103953" y="0"/>
                </a:lnTo>
                <a:lnTo>
                  <a:pt x="103953" y="21600"/>
                </a:lnTo>
                <a:lnTo>
                  <a:pt x="0" y="21600"/>
                </a:lnTo>
                <a:close/>
              </a:path>
              <a:path fill="lightenLess" w="103953" h="21600">
                <a:moveTo>
                  <a:pt x="0" y="0"/>
                </a:moveTo>
                <a:lnTo>
                  <a:pt x="103953" y="0"/>
                </a:lnTo>
                <a:lnTo>
                  <a:pt x="102553" y="1400"/>
                </a:lnTo>
                <a:lnTo>
                  <a:pt x="1400" y="1400"/>
                </a:lnTo>
                <a:close/>
              </a:path>
              <a:path fill="darken" w="103953" h="21600">
                <a:moveTo>
                  <a:pt x="103953" y="0"/>
                </a:moveTo>
                <a:lnTo>
                  <a:pt x="103953" y="21600"/>
                </a:lnTo>
                <a:lnTo>
                  <a:pt x="102553" y="20200"/>
                </a:lnTo>
                <a:lnTo>
                  <a:pt x="102553" y="1400"/>
                </a:lnTo>
                <a:close/>
              </a:path>
              <a:path fill="darkenLess" w="103953" h="21600">
                <a:moveTo>
                  <a:pt x="10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553" y="20200"/>
                </a:lnTo>
                <a:close/>
              </a:path>
              <a:path fill="lighten" w="10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52400" y="36000"/>
            <a:ext cx="389412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яем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1042920" y="836640"/>
                <a:ext cx="24303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Text Box 13"/>
          <p:cNvSpPr/>
          <p:nvPr/>
        </p:nvSpPr>
        <p:spPr>
          <a:xfrm>
            <a:off x="395280" y="1052640"/>
            <a:ext cx="6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3492360" y="907920"/>
                <a:ext cx="29005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6523200" y="1004760"/>
                <a:ext cx="19159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755640" y="2492280"/>
                <a:ext cx="2381400" cy="17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276720" y="2492280"/>
                <a:ext cx="189540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5338800" y="2565360"/>
                <a:ext cx="18460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AutoShape 20"/>
          <p:cNvSpPr/>
          <p:nvPr/>
        </p:nvSpPr>
        <p:spPr>
          <a:xfrm>
            <a:off x="7236000" y="5589720"/>
            <a:ext cx="1296720" cy="576000"/>
          </a:xfrm>
          <a:custGeom>
            <a:avLst/>
            <a:gdLst>
              <a:gd name="textAreaLeft" fmla="*/ 37080 w 1296720"/>
              <a:gd name="textAreaRight" fmla="*/ 1259640 w 129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8610" h="21600">
                <a:moveTo>
                  <a:pt x="0" y="0"/>
                </a:moveTo>
                <a:lnTo>
                  <a:pt x="48610" y="0"/>
                </a:lnTo>
                <a:lnTo>
                  <a:pt x="48610" y="21600"/>
                </a:lnTo>
                <a:lnTo>
                  <a:pt x="0" y="21600"/>
                </a:lnTo>
                <a:close/>
              </a:path>
              <a:path fill="lightenLess" w="48610" h="21600">
                <a:moveTo>
                  <a:pt x="0" y="0"/>
                </a:moveTo>
                <a:lnTo>
                  <a:pt x="48610" y="0"/>
                </a:lnTo>
                <a:lnTo>
                  <a:pt x="47210" y="1400"/>
                </a:lnTo>
                <a:lnTo>
                  <a:pt x="1400" y="1400"/>
                </a:lnTo>
                <a:close/>
              </a:path>
              <a:path fill="darken" w="48610" h="21600">
                <a:moveTo>
                  <a:pt x="48610" y="0"/>
                </a:moveTo>
                <a:lnTo>
                  <a:pt x="48610" y="21600"/>
                </a:lnTo>
                <a:lnTo>
                  <a:pt x="47210" y="20200"/>
                </a:lnTo>
                <a:lnTo>
                  <a:pt x="47210" y="1400"/>
                </a:lnTo>
                <a:close/>
              </a:path>
              <a:path fill="darkenLess" w="48610" h="21600">
                <a:moveTo>
                  <a:pt x="4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10" y="20200"/>
                </a:lnTo>
                <a:close/>
              </a:path>
              <a:path fill="lighten" w="4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10" h="21600">
                <a:moveTo>
                  <a:pt x="17299" y="10800"/>
                </a:moveTo>
                <a:lnTo>
                  <a:pt x="31312" y="3794"/>
                </a:lnTo>
                <a:lnTo>
                  <a:pt x="313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52400" y="36000"/>
            <a:ext cx="389412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яем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40720" y="112536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1332000" y="981000"/>
                <a:ext cx="2187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t xml:space="preserve">а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3564000" y="981000"/>
                <a:ext cx="291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6515280" y="957240"/>
                <a:ext cx="15555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468360" y="2060640"/>
                <a:ext cx="25272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3059280" y="2060640"/>
                <a:ext cx="44226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а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-117360" y="3068640"/>
                <a:ext cx="6172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6373800" y="3141720"/>
                <a:ext cx="27702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b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0" y="4365720"/>
                <a:ext cx="228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2124000" y="4365720"/>
                <a:ext cx="31608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108400" y="4365720"/>
                <a:ext cx="40356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225360" y="5516640"/>
                <a:ext cx="21384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а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AutoShape 23"/>
          <p:cNvSpPr/>
          <p:nvPr/>
        </p:nvSpPr>
        <p:spPr>
          <a:xfrm>
            <a:off x="7093080" y="616572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4859280" y="3284640"/>
                <a:ext cx="210204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0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1515960" y="793800"/>
            <a:ext cx="903240" cy="487440"/>
          </a:xfrm>
          <a:custGeom>
            <a:avLst/>
            <a:gdLst>
              <a:gd name="textAreaLeft" fmla="*/ 183960 w 903240"/>
              <a:gd name="textAreaRight" fmla="*/ 628920 w 903240"/>
              <a:gd name="textAreaTop" fmla="*/ 65160 h 487440"/>
              <a:gd name="textAreaBottom" fmla="*/ 422280 h 48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97" hR="21600" stAng="10800000" swAng="5400000"/>
                <a:lnTo>
                  <a:pt x="10644" y="0"/>
                </a:lnTo>
                <a:arcTo wR="8797" hR="21600" stAng="-5400000" swAng="1209770"/>
                <a:lnTo>
                  <a:pt x="18694" y="5558"/>
                </a:lnTo>
                <a:lnTo>
                  <a:pt x="18517" y="21600"/>
                </a:lnTo>
                <a:lnTo>
                  <a:pt x="12527" y="5558"/>
                </a:lnTo>
                <a:lnTo>
                  <a:pt x="14687" y="5558"/>
                </a:lnTo>
                <a:arcTo wR="8797" hR="21600" stAng="-4190230" swAng="-1062065"/>
                <a:lnTo>
                  <a:pt x="9720" y="119"/>
                </a:lnTo>
                <a:arcTo wR="8797" hR="21600" stAng="-5547705" swAng="-5252295"/>
                <a:close/>
              </a:path>
              <a:path fill="darkenLess" w="21600" h="21600">
                <a:moveTo>
                  <a:pt x="0" y="21600"/>
                </a:moveTo>
                <a:arcTo wR="8797" hR="21600" stAng="10800000" swAng="5400000"/>
                <a:lnTo>
                  <a:pt x="8797" y="0"/>
                </a:lnTo>
                <a:arcTo wR="8797" hR="21600" stAng="-5400000" swAng="147705"/>
                <a:lnTo>
                  <a:pt x="9720" y="119"/>
                </a:lnTo>
                <a:arcTo wR="8797" hR="21600" stAng="-5547705" swAng="-525229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403280" y="1150920"/>
                <a:ext cx="1440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2419200" y="49579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2"/>
              <p:cNvSpPr txBox="1"/>
              <p:nvPr/>
            </p:nvSpPr>
            <p:spPr>
              <a:xfrm>
                <a:off x="2771640" y="1125360"/>
                <a:ext cx="2035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AutoShape 17"/>
          <p:cNvSpPr/>
          <p:nvPr/>
        </p:nvSpPr>
        <p:spPr>
          <a:xfrm rot="20433000">
            <a:off x="1003320" y="2760480"/>
            <a:ext cx="892080" cy="1144440"/>
          </a:xfrm>
          <a:custGeom>
            <a:avLst/>
            <a:gdLst>
              <a:gd name="textAreaLeft" fmla="*/ 130680 w 892080"/>
              <a:gd name="textAreaRight" fmla="*/ 761400 w 892080"/>
              <a:gd name="textAreaTop" fmla="*/ 167400 h 1144440"/>
              <a:gd name="textAreaBottom" fmla="*/ 977040 h 1144440"/>
            </a:gdLst>
            <a:ahLst/>
            <a:rect l="textAreaLeft" t="textAreaTop" r="textAreaRight" b="textAreaBottom"/>
            <a:pathLst>
              <a:path w="21600" h="21600">
                <a:moveTo>
                  <a:pt x="20100" y="12738"/>
                </a:moveTo>
                <a:cubicBezTo>
                  <a:pt x="20232" y="12101"/>
                  <a:pt x="20300" y="11451"/>
                  <a:pt x="20300" y="10800"/>
                </a:cubicBezTo>
                <a:cubicBezTo>
                  <a:pt x="20300" y="5553"/>
                  <a:pt x="16046" y="1300"/>
                  <a:pt x="10800" y="1300"/>
                </a:cubicBezTo>
                <a:cubicBezTo>
                  <a:pt x="5673" y="1299"/>
                  <a:pt x="1471" y="5367"/>
                  <a:pt x="1304" y="10492"/>
                </a:cubicBezTo>
                <a:lnTo>
                  <a:pt x="5" y="10450"/>
                </a:lnTo>
                <a:cubicBezTo>
                  <a:pt x="194" y="4624"/>
                  <a:pt x="4971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540"/>
                  <a:pt x="21523" y="12279"/>
                  <a:pt x="21372" y="13004"/>
                </a:cubicBezTo>
                <a:lnTo>
                  <a:pt x="24015" y="13555"/>
                </a:lnTo>
                <a:lnTo>
                  <a:pt x="20052" y="16151"/>
                </a:lnTo>
                <a:lnTo>
                  <a:pt x="17456" y="12187"/>
                </a:lnTo>
                <a:lnTo>
                  <a:pt x="20100" y="1273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828720" y="3284640"/>
                <a:ext cx="165096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Line 18"/>
          <p:cNvSpPr/>
          <p:nvPr/>
        </p:nvSpPr>
        <p:spPr>
          <a:xfrm flipV="1">
            <a:off x="5292720" y="3573360"/>
            <a:ext cx="752400" cy="309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5508720" y="4220640"/>
            <a:ext cx="841320" cy="3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31280" y="11430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552760" y="36360"/>
            <a:ext cx="38941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яем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2"/>
              <p:cNvSpPr txBox="1"/>
              <p:nvPr/>
            </p:nvSpPr>
            <p:spPr>
              <a:xfrm>
                <a:off x="4859280" y="1197000"/>
                <a:ext cx="15764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6516720" y="1197000"/>
                <a:ext cx="806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2484360" y="3284640"/>
                <a:ext cx="244656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6948360" y="3645000"/>
                <a:ext cx="1260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AutoShape 21"/>
          <p:cNvSpPr/>
          <p:nvPr/>
        </p:nvSpPr>
        <p:spPr>
          <a:xfrm>
            <a:off x="7236000" y="6093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25" h="21600">
                <a:moveTo>
                  <a:pt x="27506" y="3794"/>
                </a:moveTo>
                <a:lnTo>
                  <a:pt x="41519" y="10800"/>
                </a:lnTo>
                <a:lnTo>
                  <a:pt x="275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6:54:54Z</dcterms:created>
  <dc:creator>Lenuska</dc:creator>
  <dc:description/>
  <dc:language>en-US</dc:language>
  <cp:lastModifiedBy>Елена Жалыбина</cp:lastModifiedBy>
  <dcterms:modified xsi:type="dcterms:W3CDTF">2020-09-07T21:42:51Z</dcterms:modified>
  <cp:revision>153</cp:revision>
  <dc:subject/>
  <dc:title>Слайд 1</dc:title>
</cp:coreProperties>
</file>