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D27-C8BF-4463-9580-A82A02F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288-46BF-4B2C-A430-ECE89FC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CB3-6B24-4834-9FBC-F5C03F1C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56E-141E-472B-87C5-ACF2E29B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08D-6D9B-4EB2-A76D-F11E747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B49-D039-41CF-9559-E3C5FDF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B0E-9E2B-4895-955B-79750A57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A40-3EBC-4B89-9ADD-1D4511E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5FD-16AB-4C30-AD6B-FA11AB4F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6D0-2975-4503-8347-58D43D4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98D-4A17-432D-8B0B-9901BCD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6CC-3A72-4327-9E16-380D19B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AB3-55FF-4697-9A87-08731F825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ar.ru/uploads/imagesb/2010/12/b8906e2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49360"/>
            <a:ext cx="640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2929"/>
                </a:solidFill>
                <a:latin typeface="Arial"/>
              </a:rPr>
              <a:t>Международный день семь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праздник семьи"/>
          <p:cNvPicPr/>
          <p:nvPr/>
        </p:nvPicPr>
        <p:blipFill>
          <a:blip r:embed="rId1"/>
          <a:stretch/>
        </p:blipFill>
        <p:spPr>
          <a:xfrm>
            <a:off x="2124000" y="1484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Семья – группа людей, состоящая из родителей, детей, внуков и ближних родственников, живущих вместе.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</a:rPr>
              <a:t>словарь Д. Н.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9242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Группа людей, связанных браком, кровным родством или усыновлением, совместно проживающих и имеющих общие доходы и расх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из учебника «Основы безопасности жизнедеятельности – 11 кл./ А.Т. Смирнов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емейны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29 декабря 199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Федеральным зако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№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223 – ФЗ был принят Семейный  ко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который был введён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действие с 1 марта 199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 из 5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89000"/>
            <a:ext cx="31892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Статьи семейного ко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6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Права и обязанности родителей по воспитанию и образованию детей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обязаны заботиться о здоровье, физическом, психическом, духовном и нравственном развитии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0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Обязанности родителей по содержанию несовершеннолетн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тели обязаны содержать своих несовершеннолетн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удоспособные совершеннолетние дети обязаны содержать своих  нетрудоспособных нуждающихся в помощи родителей и заботиться 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clipstock.ucoz.ru/_ph/34/2/346801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1698480"/>
            <a:ext cx="58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счастье, любовь и удача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летом поездки на дачу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праздник, семейные даты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Подарки, покупки, приятные траты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Рожденье детей, первый шаг, первый лепет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Мечты о хорошем, волненье и трепет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труд, друг о друге забота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много домашней работы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ва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сло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Но счастливо жить одному невозмо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Всегда будьте вместе, любовь берегите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Обиды и ссоры подальше гоните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Хочу, чтоб про вас говорили друзья: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26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по латыни будет «семья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ам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 теперь скажите «семья» по-итальян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ереведите с римского на русский: «патер фамилиа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тец сем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известно, греческая богиня Афина была богиней мудрости, и ее птицей считалась сова. А вот богиня Гера, супруга Зевса, считалась покровительницей семьи вообще и материнства в частности. Догадайтесь, какая птица считалась «птицей Геры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5. Эта римская богиня счастья и удачи покровительствовала новорождённым, целой семье, девам, отдельно могла покровительствовать замужним женщинам, мужчинам. Кто же она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орту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6. Одно значение этого слова происходит от немецкого слова, означающего «недостаток», а другое – от древнерусского глагола «брати». Что это за слов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ак – семейный сою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 Как называли на Руси пару лошадей или волов, запряжённых в одну упряжк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у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руги - находящиеся в одной упряжи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8. Есть буквенная семья, в которой, согласно многочисленным стихам, «тридцать три родных сестрицы». Что это за семь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ое выражение стало символом большой семьи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меро по лав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Почему на Руси вплоть до XVIII века кузнец считался покровителем семьи и брака?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Он ковал кольца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1. В древнейшие времена белый цвет у многих народов, в том числе и у славян, был цветом траура. Почему же на славянской свадьбе невесте надлежало надевать именно белые наря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По верованиям славян, невеста должна была умереть для своего рода, чтобы вновь возродиться в роду му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На Руси, когда вся семья собиралась за новогодним столом, дети связывали ножки стола лыковой верёвкой. Что символизировал этот новогодний обычай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Это означало, что семья в наступающем году будет крепкой  и не должна разл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О какой русской игрушке эта цитата из энциклопедии: «Она олицетворяет идею крепкой семьи, достатка, продолжения рода, несет в себе идею единства»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матрё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4. У нас говорят «глава семьи», а какой предмет одежды вспоминают англичане, когда хотят указать на главного из супругов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Брюки. Британский вариант вопроса «Кто у вас глава семьи?» в дословном переводе звучит так: «Кто у вас в семье носит брю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5. Это дорогое всем слово есть практически во всех славянских языках. В сербском и словенском языках оно имеет значение «хороший урожай». В чешском, словацком и польском оно означает «семья». Что это за слово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Р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09:52Z</dcterms:created>
  <dc:creator>Наталья Евгеньевна</dc:creator>
  <dc:description/>
  <dc:language>en-US</dc:language>
  <cp:lastModifiedBy>Наталья Евгеньевна</cp:lastModifiedBy>
  <dcterms:modified xsi:type="dcterms:W3CDTF">2011-05-18T07:14:23Z</dcterms:modified>
  <cp:revision>59</cp:revision>
  <dc:subject/>
  <dc:title>Слайд 1</dc:title>
</cp:coreProperties>
</file>