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847-2458-43B0-9B99-5F0D880E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E88-E191-484E-BACD-D48166BB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08-60FE-4B99-B6D0-F70FCF22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245-74B6-4521-AD62-3938BCE3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419-C875-4FFA-8BBA-994FA40C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F56D-04A0-4B11-A20E-90DA2A8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C0F-82F6-44BC-8C59-98D5A35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F23-9324-46B9-B863-EE53005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9B8F-9A86-48F5-A8A9-FE83E27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8FE5-37F7-4202-800D-D36D645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504E-9E69-439F-BDD1-AF79C38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8FD-7E02-4965-8483-D98154F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C15-C400-4474-8760-A65DBC0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9833-9C59-470E-996F-E150572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4B90-8F21-428D-B0BF-D396288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7556-DB49-4104-A669-1026D953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C8F9-5844-4D04-9647-C76DF2FD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2DA02-97EE-4157-AE3F-F5A45F78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BA53E-C45E-4DB7-81EC-AD841FD3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A6650-EBE3-4BC8-95B4-E75C389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CF4AD-2674-41BB-9BF4-E6A72E3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CD473-0A42-429E-85BC-3379E49E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7FD-C5B0-4B3B-BFE9-1946467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AA4CA-3649-4B2A-A963-1349C0A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6CA56-4399-4168-A678-7BC5AE5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0CC77-DC8A-4C88-B969-DEA3E4CA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DC52E-D173-4CE5-9679-CF42662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35647-2A84-472E-B7E1-B4A656C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91D53-DC4E-45A2-9716-29DC5C00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77052-CA65-47C1-A37B-3EB7C582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B460-5D71-4B6A-B05A-80A7A171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C101-42B3-42B9-9402-0E3409C6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B47C-74BA-47C6-AEE9-7B72ED4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144-36D6-4DBA-A23D-3B89969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B7BF-461F-4DFE-8526-18E8F863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1031-70A3-43F7-B393-5E9C8E3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67C4-619C-496D-89B2-AE47395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93E3-A32D-4089-8784-BF60625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EC30-4898-4E61-836D-3906197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5056-2494-4D3A-876A-2DBC071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9124-ED46-4263-96D1-2BEB998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92E3-BF6B-4A57-9091-49FED5ED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25A7-8C0C-4081-A303-1EA875DE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FA60C-AF50-447E-8CA7-27C9681B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A38-FF5F-44B6-8589-05378E2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351C8-734D-4450-82F4-8E5D3DE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B5119-8AE7-47EA-91B7-D8CD564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37FD-8B78-4F85-BC46-3C47D68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60032-4948-41AB-9679-F3BB9702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E3EBC-50B5-449B-BD7C-372E3EBC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12A6F-58E9-4B17-92CC-10514B7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30F82-BE99-4788-92DC-BE084BAB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16B30-E38B-4C88-82D9-30F225C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54EBD-57BB-4E5C-BDA3-45A4F89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BACCA-6F6B-4707-B1DE-FAAD2B8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2A2-A1ED-47E3-B11B-7813704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A01DD-0400-487D-96B8-B52F8CFE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17503-0CF9-4764-8E09-89507FBB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4A467-A750-499E-8490-F2048DF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2E091-86B7-4CC3-BAC8-E088B8F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4E0DE-18A2-48DA-B8D0-DC7BFB7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67DF3-4326-4EF9-AF84-1C4367D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EF58B-9D56-45D3-99DD-70C6DF4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AB94E-49CA-46B0-B415-96B5D2F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6888E-5292-459E-B16A-CD6B9E5D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2617C-4064-4B08-9C8D-C211B68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393-4462-4303-A970-147C926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CB94E-FBAC-46FD-97EC-C6113DFF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87A23-1999-4174-97C7-3E4BA3E4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EEED6-51C5-46DA-81EE-205C45E0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52227-81DC-4B4E-846E-59AAF7F1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71793-E16D-43BC-A6D8-ECDD14B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0D903-2376-4F03-9DE9-9750115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1B259-5111-4133-9939-9F1D7A8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C94D6-928B-4354-BF13-D9DBF6F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59F8C-BB7A-4043-BF0B-A95B0AA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906AF-42B1-435A-A475-A7270EF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754-2DB4-455F-BEFB-B9DA17B4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4AC77-1070-4D82-8563-9E6FE9F5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EABA9-3794-4A78-A7E1-6C6E81B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93B0A-1119-4CA1-9D83-DA6312BA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1336C-9C9B-46C0-9C18-3D26C997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26B7D-1109-4AA4-8934-5DFFEB86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FE4-D874-42AE-874A-0826075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4E1-9104-4D74-9426-4C04E835AD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A85-A075-4D09-8E5C-83B062D17D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CAAB-A9EF-4B70-974D-87F3D198FD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A57-A3B7-4680-8C24-F17EDD09DE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810-9410-4B7A-952D-F6466E5AD9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276-847F-4AA8-A85D-99993B6EB8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0C1-BD51-4841-866D-62A8794493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5726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onstantia"/>
                <a:ea typeface="Arial"/>
              </a:rPr>
              <a:t>ТЕМА:       « НАША </a:t>
            </a:r>
            <a:br>
              <a:rPr sz="4400"/>
            </a:br>
            <a:r>
              <a:rPr b="1" lang="ru-RU" sz="4400" spc="-1" strike="noStrike">
                <a:solidFill>
                  <a:srgbClr val="575f6d"/>
                </a:solidFill>
                <a:latin typeface="Constantia"/>
                <a:ea typeface="Arial"/>
              </a:rPr>
              <a:t> ШКОЛЬНАЯ    СТОЛОВАЯ»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500120" y="1214280"/>
            <a:ext cx="6500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Выполнили ученицы 7 «в» класса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Панкова Ольга, Пахомина Арианна, Усмаева  Дар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  <a:ea typeface="Arial"/>
              </a:rPr>
              <a:t>Руководитель: Зайцева Р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6" descr="C:\Users\admin\Desktop\фото\DSC_0020.JPG"/>
          <p:cNvPicPr/>
          <p:nvPr/>
        </p:nvPicPr>
        <p:blipFill>
          <a:blip r:embed="rId1"/>
          <a:stretch/>
        </p:blipFill>
        <p:spPr>
          <a:xfrm>
            <a:off x="2428920" y="3000240"/>
            <a:ext cx="50972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968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то такое, собственно говоря, школьная столовая? Это место, которое можно обозначить именно фразой «место встречи изменить нельзя». Ученики со всей школы и учителя направляются сюда встретиться, поговорить, обсудить важные вопросы и подкрепить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840" y="928440"/>
            <a:ext cx="8572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нашей школьной столовой – «сырьевой»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есть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ские помещени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admin\Desktop\фото\DSC_0017.JPG"/>
          <p:cNvPicPr/>
          <p:nvPr/>
        </p:nvPicPr>
        <p:blipFill>
          <a:blip r:embed="rId1"/>
          <a:stretch/>
        </p:blipFill>
        <p:spPr>
          <a:xfrm>
            <a:off x="714240" y="2928960"/>
            <a:ext cx="5193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3840" y="1000080"/>
            <a:ext cx="85726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ый це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й це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admin\Desktop\фото\DSC_0018.JPG"/>
          <p:cNvPicPr/>
          <p:nvPr/>
        </p:nvPicPr>
        <p:blipFill>
          <a:blip r:embed="rId1"/>
          <a:stretch/>
        </p:blipFill>
        <p:spPr>
          <a:xfrm>
            <a:off x="500040" y="2286000"/>
            <a:ext cx="56278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42960" y="999720"/>
            <a:ext cx="75722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мытья посу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admin\Desktop\фото\DSC_0016.JPG"/>
          <p:cNvPicPr/>
          <p:nvPr/>
        </p:nvPicPr>
        <p:blipFill>
          <a:blip r:embed="rId1"/>
          <a:stretch/>
        </p:blipFill>
        <p:spPr>
          <a:xfrm>
            <a:off x="357120" y="1785960"/>
            <a:ext cx="75726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ШКОЛЬНАЯ СТОЛОВ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13840" y="785520"/>
            <a:ext cx="85726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служивания обучающихся горячим питанием осуществляется путем предварительного накрытия стол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admin\Desktop\фото\DSC_0024.JPG"/>
          <p:cNvPicPr/>
          <p:nvPr/>
        </p:nvPicPr>
        <p:blipFill>
          <a:blip r:embed="rId1"/>
          <a:stretch/>
        </p:blipFill>
        <p:spPr>
          <a:xfrm>
            <a:off x="357120" y="2500200"/>
            <a:ext cx="63579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ХВАТ ПИТАНИЕ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78588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й столовой питаются учащиеся с 1 по 9 класс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им питанием охвачено 100% учащих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ТЕРВЬЮ С ГЛАВНЫМ ПОВАРО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7120" y="4071960"/>
            <a:ext cx="79725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беседе с шефповаром, мы выяснили, что в столовой имеется 10-дневное меню. В осенне-весенние сезоны, когда инфекционные заболевания начинают активно поражать наш организм, в школьной столовой осуществляется витаминизация блю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C:\Users\admin\Desktop\фото\DSC_0020.JPG"/>
          <p:cNvPicPr/>
          <p:nvPr/>
        </p:nvPicPr>
        <p:blipFill>
          <a:blip r:embed="rId1"/>
          <a:stretch/>
        </p:blipFill>
        <p:spPr>
          <a:xfrm>
            <a:off x="357120" y="1357200"/>
            <a:ext cx="4011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42960" y="4286160"/>
            <a:ext cx="8115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трудниками пищеблока соблюдаются правила личной гигие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работе на пищеблок допускаются здоровые лица, прошедшие медицинский осмотр в соответствии с действующими приказами и инструкция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admin\Desktop\фото\DSC_0031.JPG"/>
          <p:cNvPicPr/>
          <p:nvPr/>
        </p:nvPicPr>
        <p:blipFill>
          <a:blip r:embed="rId1"/>
          <a:stretch/>
        </p:blipFill>
        <p:spPr>
          <a:xfrm>
            <a:off x="857160" y="214200"/>
            <a:ext cx="5730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42600" y="4500360"/>
            <a:ext cx="74674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каждого работника заведена личная медицинская книж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пищеблоке должна быть аптечка с набором медикаментов для оказания первой помощ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C:\Users\admin\Desktop\фото\DSC_0027.JPG"/>
          <p:cNvPicPr/>
          <p:nvPr/>
        </p:nvPicPr>
        <p:blipFill>
          <a:blip r:embed="rId1"/>
          <a:stretch/>
        </p:blipFill>
        <p:spPr>
          <a:xfrm>
            <a:off x="928800" y="111240"/>
            <a:ext cx="628632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ОБЛЕМЫ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968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зкая зарпла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груз для работников столов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работка час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стрый темп рабо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повар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 посадочных мест для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определению Всемирной организации здравоохранения - «...здоровье – это не только отсутствие болезней и физических дефектов, а состояние полного физического, духовного и социального благополучия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кола представляет собой жизненно важную среду, используя которую можно оказывать влияние на процесс правильного питания и формировать у школьников верные навыки и стереотипы в данном вопросе. Именно школьный возраст является тем периодом, когда происходит основное развитие ребенка и формируется образ жизни, включая тип пит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ЩИЕ 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7467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тив школьную столовую, мы выяснили  тип пищеблока, ознакомились с меню школьной столовой и узнали о витаминизации блюд. Всеми сотрудниками соблюдаются санитарно-гигиенические нормы. Работа в столовой сложная, но интересная и ответственная, так как предполагает работу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968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 Л.И. Губарева, О.М. Мизирева, Т.М. Чурилова. Экология человека. Практикум для вузов.// - Издательство «Владос», М. – 2005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  Л.И. Назарова. Химические вещества в живых организмах.// Издательско-торговый дом «Корифей», Волгоград. – 2007 г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3.  К. С. Петровский. Рациональное питание.// Издательство «Медицина», М. – 1976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4. А.А. Покровский. Химический состав пищевых продуктов. Справочные таблицы.// - Издательство «Пищевая промышленность», М. – 1976 г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5. А.М. Радецкий. Практические работы на внеклассных занятиях (анализ молока).// Химия в школе. – 2004. - №5. – С.65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6. Т.В. Северюхина, В.В. Сентемов. Исследование пищевых продуктов.// Химия в школе. –   2000 г. - №5. – С.72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7. Н.А. Степанчук. Практикум по экологии человека. // Издательство «Учитель», Волгоград. –      2009 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8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://MyDiet.ru/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www.takzdorovo.ru/pitanie/zdorovoe-pitanie/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0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med-tutorial.ru/med-books/book/79/page/6-ochischenie-golodaniem/174-esche-raz-o-pravilnom-pitan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тание детей во время пребывания в школе является одним из важных условий поддержания их здоровья и способности к эффективному обучению. Хорошая организация школьного питания ведёт к улучшению показателей уровня здоровья населения, и в первую очередь детей, учитывая, что в школе они проводят большую часть своего времени. Полноценное, сбалансированное и экологическое питание способствует профилактике заболеваний, повышению работоспособности и успеваемости, физическому и умственному развитию детей и подростков, создаёт условия к их адаптации к современной жизн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nstantia"/>
              </a:rPr>
              <a:t>ЦЕЛИ  И ЗАДАЧИ ИССЛЕДОВАНИ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Цель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выяснить тип школьной столовой  и соответствие санитарно – эпидемиологическим нормам и требования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). Изучить специальную литературу по выбранной тем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). Узнать тип школьного пищебло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).Выяснить есть ли в нашей школьной столовой десятидневное цикличное меню и, что оно из себя представляе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).Узнать есть ли у нас витаминизация блюд, и как она проходит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nstantia"/>
              </a:rPr>
              <a:t>ПРЕДМЕТ И МЕТОДЫ ИССЛЕДОВА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400" y="928800"/>
            <a:ext cx="7467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Предмет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столова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Методы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еоретическ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Сравнение - сопоставление изученных результато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Классификация - распределение полученной информа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Систематизация - приведение в систему полученных теоретических и практических знан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мпирическ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учение различных источников литературы по теме исследования, поиск информации в Internet, исследова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ИПОТЕЗ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ую часть времени современные школьники проводят вне дома, питаясь в школьных столовых. Необходимо формировать представление о правильном питании, что в дальнейшем повлияет на заинтересованность учащихся в сохранении и укреплении своего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тание – средство поддержания жизни, роста и развития, здоровья и высокой работоспособности человека. В условиях технического прогресса, огромного потока информации и общего ускорения темпов жизни к питанию предъявляются особые требования. Одним из наиболее эффективных средств повышения качества питания является его рационализация и экология. Главное и основное требование рационального питания – его адекватность, т.е. соответствие производимым затратам энергии и потребностям организ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7400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циональное питание является одним из основных средств обеспечения нормального физического и умственного развития детей. Оно повышает их устойчивость к болезням и успеваемость. Значение правильного и полноценного питания в современных условиях трудно переоценить. Огромная информация, которая систематически поступает детя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школе и по другим каналам: телевидению, радио, кино, через интернет и др. источники - создает большую нагрузку на организм ребен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ОЛЬ ШКОЛЬНОГО ПИТ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186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вестно, что наилучшие показатели физического состояния, развития и работоспособности отмечаются, когда дети школьного возраста получают пищу 4-5 раз в день, а промежутки между отдельными приемами пищи не превышают 4-5 часов. Большинство обучающихся проводит в школе по шесть и более часов,  некоторые из них по определенным причинам не успевают или просто не хотят кушать дома, таким образом, хотя бы один раз в день они должны посетить школьную столову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6T10:16:07Z</dcterms:created>
  <dc:creator>1</dc:creator>
  <dc:description/>
  <dc:language>en-US</dc:language>
  <cp:lastModifiedBy>admin</cp:lastModifiedBy>
  <dcterms:modified xsi:type="dcterms:W3CDTF">2018-11-18T11:03:15Z</dcterms:modified>
  <cp:revision>127</cp:revision>
  <dc:subject/>
  <dc:title>Слайд 1</dc:title>
</cp:coreProperties>
</file>