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452-5C10-4791-9019-98D32032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7C4-6AEA-4A93-B738-7A284425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327-E480-4207-BAD4-0FA27852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CD7-BE8C-4AB8-AC24-FE5509C5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ED47-7FAE-414B-872B-7181C0C5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CC1B-9B98-4EDB-94B9-EFC13963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726F-5E3F-41B1-BEA0-7BBF100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5DAF-2097-4274-86CA-DA8300B6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49FA-761F-401A-A5E8-8EC26E59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A565-7E16-4E17-BEBC-EE64B873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C753-BC0E-48DE-9E5C-6EBBB774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E77-63B8-4A5F-98CD-0FE8090B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2FC1-1752-4BCC-A4EC-4B962A7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14C2-5177-46F0-9854-0A5F130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3BE3-BD39-4A93-97CC-323B9DE0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1A72-9F6A-4843-9FCE-DADE99DA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70FB-69A0-4109-AC0D-33EF2C42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D91C4-7CDF-4920-8DB4-9FE96550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9C92C-2013-4B4C-875E-683E6544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51685-88A7-4F7D-9F0C-79452018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DBC80-BB39-45F4-8204-06A5DB8A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86835-2864-476F-8C1D-93F48841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F41-296A-4F55-A7DC-3CF8425D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AB3AF-6F92-403E-AA11-4325B58B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97D59-2075-4174-A779-9D3110C0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36FD5-D5E7-4E04-9FFD-527E4BA9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E469B-0BB8-4B46-9194-1BC94AA0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F28D5-A7FC-4A06-80C7-8A91AFCD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6EA10-2469-438D-AE8A-E2AEEF09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3B338-909F-475C-B59C-F2A9BDBA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EDA10-014A-4D8F-9E84-19571890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B4FB-C38F-473B-A268-5DDA40FC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C1A3A-4C92-4C22-A2CF-9DBA59B7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147-5033-4135-A984-71BD8100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17341-32A2-4D8B-8DA3-7597383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052D1-CD5C-4944-BBD2-76E8B767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F619A-E357-45C5-ADBF-99C6780A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889B1-3960-408B-A3EB-BE75FD1D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2E7B6-ED86-4B12-834E-885D8899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0E4C-1D87-4228-8DFF-D4953633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E9F6-29B2-411B-95F7-87BC2D5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B288-1239-4A6B-897D-4FBD6701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9B4F3-AC01-41C0-81D2-5B0AF005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E0E63-C2A6-464B-84A9-AE7E61F8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576-6BD9-429E-A72B-E93D22E7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51668-F81E-4870-A51E-6E3F7B71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19EFE-0CAE-45B7-8F1A-2AFFD210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83999-7F41-4879-9ED2-61763752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087F8-BB2E-4413-916C-DCA3E283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6F167-88FC-4EB0-B458-67615528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9F614-783A-43EE-83C2-CA1BA300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38DB8-7014-41F2-A928-E1312AD5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EE0C0-1835-4C4E-8B02-366CC3BF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96CE2-E36A-4FCA-B445-7E0D86F9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0BA62-4B98-47A0-B77A-C06DEB0E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828-8991-4A34-89AA-86A707DE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0EA95-A578-41E2-9838-9FA95111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57F00-DE05-47CB-BDA3-9C037E10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69DDA-2DED-4547-8210-D8D26E9E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37590-D1C0-4E53-B867-827E46EF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C1C5F-E506-4AED-8998-C0C7DDF1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D842D-895D-4C7B-9E9E-29D166A8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6E309-B301-48D7-9017-C692FD57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9E1AF-4820-4727-A3B4-45A3009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09679-4ED2-4085-AB1F-6B914AAD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C4E67-7638-4FCA-A781-46E7C74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147-3DAC-4352-A9BE-2EAF7081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5CD7A-FD4A-4FC4-970A-C7A4F427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D442D-11DD-420D-99C0-94CB0C26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01192-AEB3-4D94-B495-56B80E59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C7668-AFD9-454F-9A14-D4681D07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DF218-FF12-42D9-B734-0B4D91B5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6C2B4-3DA1-4BF4-B99D-100A643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AE6DB-85C0-48D6-8F97-79D929E2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30B76-152D-4D10-B41A-2C41BD25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2B1C6-DB2C-47D4-8BC8-B48D75B5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0A52C-1F10-4749-8F93-CBE2F746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CDF-F12D-4057-B8AC-60736B5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4D2CA-0BB9-4AAC-B1C6-073967EA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F1495-8C06-48DA-84D5-0502050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9BBDF4-4453-4196-8B38-B091C7C0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F56F1-4D1C-44CA-88E1-FF2296D2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CCB49-B105-4638-82A7-4AA8687C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DF4-91C7-458D-950C-5CDDC2BA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C17E-A6E5-46CE-B2B2-35448899801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E89A-8895-4BCA-B6D5-44DB8BDEFB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C0BC-1131-4513-A8E8-51F39EC7A86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4CF0-491F-4BA9-97AD-084E121D29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77EA-7F15-4169-8919-5E146C1FFD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38E6-4181-427E-A50F-1471033EC46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D5D1-359F-4BDA-9689-22A2306739B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5726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onstantia"/>
                <a:ea typeface="Arial"/>
              </a:rPr>
              <a:t>ТЕМА:       « НАША </a:t>
            </a:r>
            <a:br>
              <a:rPr sz="4400"/>
            </a:br>
            <a:r>
              <a:rPr b="1" lang="ru-RU" sz="4400" spc="-1" strike="noStrike">
                <a:solidFill>
                  <a:srgbClr val="575f6d"/>
                </a:solidFill>
                <a:latin typeface="Constantia"/>
                <a:ea typeface="Arial"/>
              </a:rPr>
              <a:t> ШКОЛЬНАЯ    СТОЛОВАЯ»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500120" y="1214280"/>
            <a:ext cx="6500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onstantia"/>
                <a:ea typeface="Arial"/>
              </a:rPr>
              <a:t>Выполнили ученицы 7 «в» класса 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onstantia"/>
                <a:ea typeface="Arial"/>
              </a:rPr>
              <a:t>Панкова Ольга, Пахомина Арианна, Усмаева  Дарь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onstantia"/>
                <a:ea typeface="Arial"/>
              </a:rPr>
              <a:t>Руководитель: Зайцева Р.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6" descr="C:\Users\admin\Desktop\фото\DSC_0020.JPG"/>
          <p:cNvPicPr/>
          <p:nvPr/>
        </p:nvPicPr>
        <p:blipFill>
          <a:blip r:embed="rId1"/>
          <a:stretch/>
        </p:blipFill>
        <p:spPr>
          <a:xfrm>
            <a:off x="2428920" y="3000240"/>
            <a:ext cx="50972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4674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ШКОЛЬНАЯ СТОЛОВ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99680" y="9288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то такое, собственно говоря, школьная столовая? Это место, которое можно обозначить именно фразой «место встречи изменить нельзя». Ученики со всей школы и учителя направляются сюда встретиться, поговорить, обсудить важные вопросы и подкрепить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4674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ШКОЛЬНАЯ СТОЛОВ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13840" y="928440"/>
            <a:ext cx="85726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нашей школьной столовой – «сырьевой»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есть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ские помещени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C:\Users\admin\Desktop\фото\DSC_0017.JPG"/>
          <p:cNvPicPr/>
          <p:nvPr/>
        </p:nvPicPr>
        <p:blipFill>
          <a:blip r:embed="rId1"/>
          <a:stretch/>
        </p:blipFill>
        <p:spPr>
          <a:xfrm>
            <a:off x="714240" y="2928960"/>
            <a:ext cx="51930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4674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ШКОЛЬНАЯ СТОЛОВ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13840" y="1000080"/>
            <a:ext cx="85726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ильный це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ий це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C:\Users\admin\Desktop\фото\DSC_0018.JPG"/>
          <p:cNvPicPr/>
          <p:nvPr/>
        </p:nvPicPr>
        <p:blipFill>
          <a:blip r:embed="rId1"/>
          <a:stretch/>
        </p:blipFill>
        <p:spPr>
          <a:xfrm>
            <a:off x="500040" y="2286000"/>
            <a:ext cx="56278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4674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ШКОЛЬНАЯ СТОЛОВ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42960" y="999720"/>
            <a:ext cx="7572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 мытья посуд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C:\Users\admin\Desktop\фото\DSC_0016.JPG"/>
          <p:cNvPicPr/>
          <p:nvPr/>
        </p:nvPicPr>
        <p:blipFill>
          <a:blip r:embed="rId1"/>
          <a:stretch/>
        </p:blipFill>
        <p:spPr>
          <a:xfrm>
            <a:off x="357120" y="1785960"/>
            <a:ext cx="75726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4674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ШКОЛЬНАЯ СТОЛОВ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13840" y="785520"/>
            <a:ext cx="85726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бслуживания обучающихся горячим питанием осуществляется путем предварительного накрытия стол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C:\Users\admin\Desktop\фото\DSC_0024.JPG"/>
          <p:cNvPicPr/>
          <p:nvPr/>
        </p:nvPicPr>
        <p:blipFill>
          <a:blip r:embed="rId1"/>
          <a:stretch/>
        </p:blipFill>
        <p:spPr>
          <a:xfrm>
            <a:off x="357120" y="2500200"/>
            <a:ext cx="635796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4674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</a:t>
            </a: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ХВАТ ПИТАНИЕ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28400" y="785880"/>
            <a:ext cx="74674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ьной столовой питаются учащиеся с 1 по 9 класс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им питанием охвачено 100% учащих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НТЕРВЬЮ С ГЛАВНЫМ ПОВАРОМ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57120" y="4071960"/>
            <a:ext cx="79725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беседе с шефповаром, мы выяснили, что в столовой имеется 10-дневное меню. В осенне-весенние сезоны, когда инфекционные заболевания начинают активно поражать наш организм, в школьной столовой осуществляется витаминизация блю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4" descr="C:\Users\admin\Desktop\фото\DSC_0020.JPG"/>
          <p:cNvPicPr/>
          <p:nvPr/>
        </p:nvPicPr>
        <p:blipFill>
          <a:blip r:embed="rId1"/>
          <a:stretch/>
        </p:blipFill>
        <p:spPr>
          <a:xfrm>
            <a:off x="357120" y="1357200"/>
            <a:ext cx="4011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42960" y="4286160"/>
            <a:ext cx="8115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трудниками пищеблока соблюдаются правила личной гигиен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работе на пищеблок допускаются здоровые лица, прошедшие медицинский осмотр в соответствии с действующими приказами и инструкция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C:\Users\admin\Desktop\фото\DSC_0031.JPG"/>
          <p:cNvPicPr/>
          <p:nvPr/>
        </p:nvPicPr>
        <p:blipFill>
          <a:blip r:embed="rId1"/>
          <a:stretch/>
        </p:blipFill>
        <p:spPr>
          <a:xfrm>
            <a:off x="857160" y="214200"/>
            <a:ext cx="5730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642600" y="4500360"/>
            <a:ext cx="746748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каждого работника заведена личная медицинская книж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аждом пищеблоке должна быть аптечка с набором медикаментов для оказания первой помощ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3" descr="C:\Users\admin\Desktop\фото\DSC_0027.JPG"/>
          <p:cNvPicPr/>
          <p:nvPr/>
        </p:nvPicPr>
        <p:blipFill>
          <a:blip r:embed="rId1"/>
          <a:stretch/>
        </p:blipFill>
        <p:spPr>
          <a:xfrm>
            <a:off x="928800" y="111240"/>
            <a:ext cx="628632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РОБЛЕМЫ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99680" y="107136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изкая зарпла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груз для работников столово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работка час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ыстрый темп рабо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хватка повар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хватка  посадочных мест для уче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 Т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определению Всемирной организации здравоохранения - «...здоровье – это не только отсутствие болезней и физических дефектов, а состояние полного физического, духовного и социального благополучия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Школа представляет собой жизненно важную среду, используя которую можно оказывать влияние на процесс правильного питания и формировать у школьников верные навыки и стереотипы в данном вопросе. Именно школьный возраст является тем периодом, когда происходит основное развитие ребенка и формируется образ жизни, включая тип пита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БЩИЕ ВЫВ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599840"/>
            <a:ext cx="74674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етив школьную столовую, мы выяснили  тип пищеблока, ознакомились с меню школьной столовой и узнали о витаминизации блюд. Всеми сотрудниками соблюдаются санитарно-гигиенические нормы. Работа в столовой сложная, но интересная и ответственная, так как предполагает работу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9968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. Л.И. Губарева, О.М. Мизирева, Т.М. Чурилова. Экология человека. Практикум для вузов.// - Издательство «Владос», М. – 2005 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2.  Л.И. Назарова. Химические вещества в живых организмах.// Издательско-торговый дом «Корифей», Волгоград. – 2007 г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3.  К. С. Петровский. Рациональное питание.// Издательство «Медицина», М. – 1976 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4. А.А. Покровский. Химический состав пищевых продуктов. Справочные таблицы.// - Издательство «Пищевая промышленность», М. – 1976 г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5. А.М. Радецкий. Практические работы на внеклассных занятиях (анализ молока).// Химия в школе. – 2004. - №5. – С.65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6. Т.В. Северюхина, В.В. Сентемов. Исследование пищевых продуктов.// Химия в школе. –   2000 г. - №5. – С.72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7. Н.А. Степанчук. Практикум по экологии человека. // Издательство «Учитель», Волгоград. –      2009 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8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http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://MyDiet.ru/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9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www.takzdorovo.ru/pitanie/zdorovoe-pitanie/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0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med-tutorial.ru/med-books/book/79/page/6-ochischenie-golodaniem/174-esche-raz-o-pravilnom-pitanii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 Т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итание детей во время пребывания в школе является одним из важных условий поддержания их здоровья и способности к эффективному обучению. Хорошая организация школьного питания ведёт к улучшению показателей уровня здоровья населения, и в первую очередь детей, учитывая, что в школе они проводят большую часть своего времени. Полноценное, сбалансированное и экологическое питание способствует профилактике заболеваний, повышению работоспособности и успеваемости, физическому и умственному развитию детей и подростков, создаёт условия к их адаптации к современной жизн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onstantia"/>
              </a:rPr>
              <a:t>ЦЕЛИ  И ЗАДАЧИ ИССЛЕДОВАНИЯ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Цель исследования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выяснить тип школьной столовой  и соответствие санитарно – эпидемиологическим нормам и требования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). Изучить специальную литературу по выбранной тем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). Узнать тип школьного пищеблок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).Выяснить есть ли в нашей школьной столовой десятидневное цикличное меню и, что оно из себя представляе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4).Узнать есть ли у нас витаминизация блюд, и как она проходит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7120" y="-2862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onstantia"/>
              </a:rPr>
              <a:t>ПРЕДМЕТ И МЕТОДЫ ИССЛЕДОВА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8400" y="928800"/>
            <a:ext cx="7467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Предмет исследования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столова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Методы исследования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еоретические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. Сравнение - сопоставление изученных результато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. Классификация - распределение полученной информац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.Систематизация - приведение в систему полученных теоретических и практических знан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Эмпирические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учение различных источников литературы по теме исследования, поиск информации в Internet, исследова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ИПОТЕЗ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ую часть времени современные школьники проводят вне дома, питаясь в школьных столовых. Необходимо формировать представление о правильном питании, что в дальнейшем повлияет на заинтересованность учащихся в сохранении и укреплении своего здоровь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ОЛЬ ШКОЛЬНОГО ПИТ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тание – средство поддержания жизни, роста и развития, здоровья и высокой работоспособности человека. В условиях технического прогресса, огромного потока информации и общего ускорения темпов жизни к питанию предъявляются особые требования. Одним из наиболее эффективных средств повышения качества питания является его рационализация и экология. Главное и основное требование рационального питания – его адекватность, т.е. соответствие производимым затратам энергии и потребностям организ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ОЛЬ ШКОЛЬНОГО ПИТ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7400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циональное питание является одним из основных средств обеспечения нормального физического и умственного развития детей. Оно повышает их устойчивость к болезням и успеваемость. Значение правильного и полноценного питания в современных условиях трудно переоценить. Огромная информация, которая систематически поступает детям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школе и по другим каналам: телевидению, радио, кино, через интернет и др. источники - создает большую нагрузку на организм ребенк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ОЛЬ ШКОЛЬНОГО ПИТ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186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вестно, что наилучшие показатели физического состояния, развития и работоспособности отмечаются, когда дети школьного возраста получают пищу 4-5 раз в день, а промежутки между отдельными приемами пищи не превышают 4-5 часов. Большинство обучающихся проводит в школе по шесть и более часов,  некоторые из них по определенным причинам не успевают или просто не хотят кушать дома, таким образом, хотя бы один раз в день они должны посетить школьную столову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6T10:16:07Z</dcterms:created>
  <dc:creator>1</dc:creator>
  <dc:description/>
  <dc:language>en-US</dc:language>
  <cp:lastModifiedBy>admin</cp:lastModifiedBy>
  <dcterms:modified xsi:type="dcterms:W3CDTF">2018-11-18T11:03:15Z</dcterms:modified>
  <cp:revision>127</cp:revision>
  <dc:subject/>
  <dc:title>Слайд 1</dc:title>
</cp:coreProperties>
</file>