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7.jpeg" ContentType="image/jpeg"/>
  <Override PartName="/ppt/media/image38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40.png" ContentType="image/pn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0.png" ContentType="image/pn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62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D737-14EB-47CE-B5F4-634299BB9D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071720" y="714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CA2E-3B91-4A91-BF92-15C0687892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F5D-0617-4E19-86CA-42E513FC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4224-C07B-4190-9890-941FA54B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462-99B0-4573-9986-6938C40D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8EA-D754-4947-BCB8-390D834B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0BA-9127-4198-A80B-9659A995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C906-4509-420B-8518-3EAE7427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414-1553-463F-968F-47575678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433-6FAE-4663-85C1-38B9067F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BB6-FDD5-46F2-B4A7-B199BC19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42A-5B8C-4B7A-8D11-6D0556B7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BBD-E071-4E97-A50C-69FA561A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4029-FD47-4C58-ABED-940FAC60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5D5E-0644-4F60-961E-4B1AC2AA0A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9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2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440" y="285840"/>
            <a:ext cx="714348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ИСТОРИЯ   СОЗДАНИЯ ШВЕЙНОЙ  МАШИН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348835"/>
          <p:cNvPicPr/>
          <p:nvPr/>
        </p:nvPicPr>
        <p:blipFill>
          <a:blip r:embed="rId1"/>
          <a:stretch/>
        </p:blipFill>
        <p:spPr>
          <a:xfrm>
            <a:off x="2071800" y="2428920"/>
            <a:ext cx="4857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1845г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Элиас Хоу</a:t>
            </a:r>
            <a:br>
              <a:rPr sz="3600"/>
            </a:br>
            <a:r>
              <a:rPr b="1" i="1" lang="ru-RU" sz="2800" spc="-1" strike="noStrike">
                <a:solidFill>
                  <a:srgbClr val="ffc000"/>
                </a:solidFill>
                <a:latin typeface="Calibri"/>
              </a:rPr>
              <a:t>Первая машина с челночным механизмо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76640"/>
            <a:ext cx="403848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6286320"/>
            <a:ext cx="4038480" cy="68040"/>
          </a:xfrm>
          <a:prstGeom prst="rect">
            <a:avLst/>
          </a:prstGeom>
          <a:noFill/>
          <a:ln w="0">
            <a:noFill/>
          </a:ln>
        </p:spPr>
        <p:txBody>
          <a:bodyPr tIns="22320" bIns="2232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5" descr="C:\Users\hp\Desktop\фото презентация\карл.jpg"/>
          <p:cNvPicPr/>
          <p:nvPr/>
        </p:nvPicPr>
        <p:blipFill>
          <a:blip r:embed="rId1"/>
          <a:stretch/>
        </p:blipFill>
        <p:spPr>
          <a:xfrm>
            <a:off x="4665600" y="2230560"/>
            <a:ext cx="3811680" cy="4124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hp\Desktop\фото презентация\Без названия (5).jpg"/>
          <p:cNvPicPr/>
          <p:nvPr/>
        </p:nvPicPr>
        <p:blipFill>
          <a:blip r:embed="rId2"/>
          <a:stretch/>
        </p:blipFill>
        <p:spPr>
          <a:xfrm>
            <a:off x="611280" y="2230560"/>
            <a:ext cx="338436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1850 г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Исаак Меррит Зингер</a:t>
            </a:r>
            <a:br>
              <a:rPr sz="29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Содержимое 3" descr="img6.jpg"/>
          <p:cNvPicPr/>
          <p:nvPr/>
        </p:nvPicPr>
        <p:blipFill>
          <a:blip r:embed="rId1"/>
          <a:stretch/>
        </p:blipFill>
        <p:spPr>
          <a:xfrm>
            <a:off x="727200" y="1857240"/>
            <a:ext cx="3201840" cy="4451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Users\hp\Desktop\фото презентация\зингер.jpg"/>
          <p:cNvPicPr/>
          <p:nvPr/>
        </p:nvPicPr>
        <p:blipFill>
          <a:blip r:embed="rId2"/>
          <a:stretch/>
        </p:blipFill>
        <p:spPr>
          <a:xfrm>
            <a:off x="4672080" y="1857240"/>
            <a:ext cx="400356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1850 г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Исаак Меррит Зингер</a:t>
            </a:r>
            <a:br>
              <a:rPr sz="29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Прямая игл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Прижимная лап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Педальное устройств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4" descr="C:\Users\hp\Desktop\фото презентация\зингер.jpg"/>
          <p:cNvPicPr/>
          <p:nvPr/>
        </p:nvPicPr>
        <p:blipFill>
          <a:blip r:embed="rId1"/>
          <a:stretch/>
        </p:blipFill>
        <p:spPr>
          <a:xfrm>
            <a:off x="4929120" y="1714680"/>
            <a:ext cx="4000680" cy="464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\Desktop\фото презентация\img6.jpg"/>
          <p:cNvPicPr/>
          <p:nvPr/>
        </p:nvPicPr>
        <p:blipFill>
          <a:blip r:embed="rId2"/>
          <a:stretch/>
        </p:blipFill>
        <p:spPr>
          <a:xfrm>
            <a:off x="642960" y="3857760"/>
            <a:ext cx="30718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Рассрочка копании «Зингер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Содержимое 3" descr="Без названия (1).jpg"/>
          <p:cNvPicPr/>
          <p:nvPr/>
        </p:nvPicPr>
        <p:blipFill>
          <a:blip r:embed="rId1"/>
          <a:stretch/>
        </p:blipFill>
        <p:spPr>
          <a:xfrm>
            <a:off x="2268360" y="1484280"/>
            <a:ext cx="4680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Инструкция швейных машин «Зингер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6071760"/>
            <a:ext cx="8229600" cy="2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Рисунок 4" descr="Рисунок3.jpg"/>
          <p:cNvPicPr/>
          <p:nvPr/>
        </p:nvPicPr>
        <p:blipFill>
          <a:blip r:embed="rId1"/>
          <a:stretch/>
        </p:blipFill>
        <p:spPr>
          <a:xfrm>
            <a:off x="826920" y="1628640"/>
            <a:ext cx="3240360" cy="48247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Рисунок4.jpg"/>
          <p:cNvPicPr/>
          <p:nvPr/>
        </p:nvPicPr>
        <p:blipFill>
          <a:blip r:embed="rId2"/>
          <a:stretch/>
        </p:blipFill>
        <p:spPr>
          <a:xfrm>
            <a:off x="5076720" y="1616040"/>
            <a:ext cx="3311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-60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1854г.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«Зингер Компани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215200" y="5572080"/>
            <a:ext cx="4716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Рисунок 4" descr="Рисунок2.jpg"/>
          <p:cNvPicPr/>
          <p:nvPr/>
        </p:nvPicPr>
        <p:blipFill>
          <a:blip r:embed="rId1"/>
          <a:stretch/>
        </p:blipFill>
        <p:spPr>
          <a:xfrm>
            <a:off x="5148360" y="1916280"/>
            <a:ext cx="3066840" cy="4392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Рисунок1.jpg"/>
          <p:cNvPicPr/>
          <p:nvPr/>
        </p:nvPicPr>
        <p:blipFill>
          <a:blip r:embed="rId2"/>
          <a:srcRect l="-71" t="-347" r="0" b="0"/>
          <a:stretch/>
        </p:blipFill>
        <p:spPr>
          <a:xfrm>
            <a:off x="1116000" y="1900080"/>
            <a:ext cx="29512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История развити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швейных  машин  в Росси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1320" y="2033280"/>
            <a:ext cx="2142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215280" indent="-2152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Рисунок 16" descr=""/>
          <p:cNvPicPr/>
          <p:nvPr/>
        </p:nvPicPr>
        <p:blipFill>
          <a:blip r:embed="rId1"/>
          <a:stretch/>
        </p:blipFill>
        <p:spPr>
          <a:xfrm>
            <a:off x="573120" y="1771560"/>
            <a:ext cx="5040360" cy="3961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hp\Desktop\фото презентация\10.jpg"/>
          <p:cNvPicPr/>
          <p:nvPr/>
        </p:nvPicPr>
        <p:blipFill>
          <a:blip r:embed="rId2"/>
          <a:stretch/>
        </p:blipFill>
        <p:spPr>
          <a:xfrm>
            <a:off x="6084720" y="1771560"/>
            <a:ext cx="2554560" cy="3961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684360" y="5948280"/>
            <a:ext cx="55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1900 год Город Подольс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45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Швейные машины как произведения искусств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0040" y="5000760"/>
            <a:ext cx="40384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8760" y="4838760"/>
            <a:ext cx="3071520" cy="94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Picture 6" descr="C:\Users\hp\Desktop\зингер\images (1).jpg"/>
          <p:cNvPicPr/>
          <p:nvPr/>
        </p:nvPicPr>
        <p:blipFill>
          <a:blip r:embed="rId1"/>
          <a:stretch/>
        </p:blipFill>
        <p:spPr>
          <a:xfrm>
            <a:off x="399960" y="2347920"/>
            <a:ext cx="3672000" cy="3794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Users\hp\Desktop\фото презентация\images (1).jpg"/>
          <p:cNvPicPr/>
          <p:nvPr/>
        </p:nvPicPr>
        <p:blipFill>
          <a:blip r:embed="rId2"/>
          <a:stretch/>
        </p:blipFill>
        <p:spPr>
          <a:xfrm>
            <a:off x="4363920" y="2347920"/>
            <a:ext cx="43434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2862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20 век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На швейной машине трудились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очти в каждом дом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26920" y="1600200"/>
            <a:ext cx="3522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6" descr="C:\Users\hp\Desktop\фото презентация\первая.jpg"/>
          <p:cNvPicPr/>
          <p:nvPr/>
        </p:nvPicPr>
        <p:blipFill>
          <a:blip r:embed="rId1"/>
          <a:stretch/>
        </p:blipFill>
        <p:spPr>
          <a:xfrm>
            <a:off x="985680" y="1859040"/>
            <a:ext cx="3313440" cy="4646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C:\Users\hp\Desktop\фото презентация\швейная-машинка-зингер-исаак-193x300.jpg"/>
          <p:cNvPicPr/>
          <p:nvPr/>
        </p:nvPicPr>
        <p:blipFill>
          <a:blip r:embed="rId2"/>
          <a:stretch/>
        </p:blipFill>
        <p:spPr>
          <a:xfrm>
            <a:off x="5046840" y="1860480"/>
            <a:ext cx="32400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Зволюция швейных машин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499920" y="5571720"/>
            <a:ext cx="264348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1830г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4571640"/>
            <a:ext cx="26146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1790г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6" descr="C:\Users\hp\Desktop\фото презентация\image.jpg"/>
          <p:cNvPicPr/>
          <p:nvPr/>
        </p:nvPicPr>
        <p:blipFill>
          <a:blip r:embed="rId1"/>
          <a:stretch/>
        </p:blipFill>
        <p:spPr>
          <a:xfrm>
            <a:off x="250920" y="1357200"/>
            <a:ext cx="2820960" cy="3143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C:\Users\hp\Desktop\фото презентация\карл.jpg"/>
          <p:cNvPicPr/>
          <p:nvPr/>
        </p:nvPicPr>
        <p:blipFill>
          <a:blip r:embed="rId2"/>
          <a:stretch/>
        </p:blipFill>
        <p:spPr>
          <a:xfrm>
            <a:off x="6500880" y="2928960"/>
            <a:ext cx="2500200" cy="27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C:\Users\hp\Desktop\фото презентация\тимоние.jpg"/>
          <p:cNvPicPr/>
          <p:nvPr/>
        </p:nvPicPr>
        <p:blipFill>
          <a:blip r:embed="rId3"/>
          <a:stretch/>
        </p:blipFill>
        <p:spPr>
          <a:xfrm>
            <a:off x="3357720" y="2357280"/>
            <a:ext cx="2943000" cy="28861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0"/>
          <p:cNvSpPr/>
          <p:nvPr/>
        </p:nvSpPr>
        <p:spPr>
          <a:xfrm>
            <a:off x="6500880" y="5857920"/>
            <a:ext cx="22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845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012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РУЧНАЯ ИГЛ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5477040"/>
            <a:ext cx="4040280" cy="83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Первобытная ручная игл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Содержимое 3" descr="shvejnye-igly-2.jpg"/>
          <p:cNvPicPr/>
          <p:nvPr/>
        </p:nvPicPr>
        <p:blipFill>
          <a:blip r:embed="rId1"/>
          <a:stretch/>
        </p:blipFill>
        <p:spPr>
          <a:xfrm>
            <a:off x="600120" y="1727280"/>
            <a:ext cx="3711600" cy="3373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32000" y="5416560"/>
            <a:ext cx="375444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Современная ручная игл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43400" y="2514240"/>
            <a:ext cx="2428920" cy="26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4" descr="C:\Users\hp\Desktop\фото презентация\игла.jpg"/>
          <p:cNvPicPr/>
          <p:nvPr/>
        </p:nvPicPr>
        <p:blipFill>
          <a:blip r:embed="rId2"/>
          <a:stretch/>
        </p:blipFill>
        <p:spPr>
          <a:xfrm>
            <a:off x="4965840" y="1719360"/>
            <a:ext cx="356544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Зволюция швейных машин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857920" y="5928840"/>
            <a:ext cx="28288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1910г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4571640"/>
            <a:ext cx="20430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1850г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Picture 2" descr="C:\Users\hp\Desktop\фото презентация\Без названия (6).jpg"/>
          <p:cNvPicPr/>
          <p:nvPr/>
        </p:nvPicPr>
        <p:blipFill>
          <a:blip r:embed="rId1"/>
          <a:stretch/>
        </p:blipFill>
        <p:spPr>
          <a:xfrm>
            <a:off x="214200" y="1571760"/>
            <a:ext cx="2500560" cy="2786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hp\Desktop\зингер\images (1).jpg"/>
          <p:cNvPicPr/>
          <p:nvPr/>
        </p:nvPicPr>
        <p:blipFill>
          <a:blip r:embed="rId2"/>
          <a:stretch/>
        </p:blipFill>
        <p:spPr>
          <a:xfrm>
            <a:off x="3000240" y="2428920"/>
            <a:ext cx="2571840" cy="2452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Users\hp\Desktop\зингер\зингер.jpg"/>
          <p:cNvPicPr/>
          <p:nvPr/>
        </p:nvPicPr>
        <p:blipFill>
          <a:blip r:embed="rId3"/>
          <a:stretch/>
        </p:blipFill>
        <p:spPr>
          <a:xfrm>
            <a:off x="5786280" y="3143160"/>
            <a:ext cx="3017880" cy="26020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3000240" y="5013360"/>
            <a:ext cx="25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900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Швейно-вышивальная машин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6920" y="5768640"/>
            <a:ext cx="8496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Автоматически на пяльцах выполняет вышивк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Содержимое 5" descr="Без названия (3).jpg"/>
          <p:cNvPicPr/>
          <p:nvPr/>
        </p:nvPicPr>
        <p:blipFill>
          <a:blip r:embed="rId1"/>
          <a:stretch/>
        </p:blipFill>
        <p:spPr>
          <a:xfrm>
            <a:off x="469800" y="2206800"/>
            <a:ext cx="3956040" cy="3066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C:\Users\hp\Desktop\фото презентация\images (4).jpg"/>
          <p:cNvPicPr/>
          <p:nvPr/>
        </p:nvPicPr>
        <p:blipFill>
          <a:blip r:embed="rId2"/>
          <a:stretch/>
        </p:blipFill>
        <p:spPr>
          <a:xfrm>
            <a:off x="4861080" y="2276640"/>
            <a:ext cx="36432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Оверлок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(Краеобметочная машина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5" descr="C:\Users\hp\Desktop\фото презентация\Без названия (7).jpg"/>
          <p:cNvPicPr/>
          <p:nvPr/>
        </p:nvPicPr>
        <p:blipFill>
          <a:blip r:embed="rId1"/>
          <a:stretch/>
        </p:blipFill>
        <p:spPr>
          <a:xfrm>
            <a:off x="826920" y="1989000"/>
            <a:ext cx="4368960" cy="3851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C:\Users\hp\Desktop\фото презентация\bernina_stitch_700_enl.jpg"/>
          <p:cNvPicPr/>
          <p:nvPr/>
        </p:nvPicPr>
        <p:blipFill>
          <a:blip r:embed="rId2"/>
          <a:stretch/>
        </p:blipFill>
        <p:spPr>
          <a:xfrm>
            <a:off x="6300720" y="1989000"/>
            <a:ext cx="1841400" cy="3851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6072120"/>
            <a:ext cx="4038480" cy="54000"/>
          </a:xfrm>
          <a:prstGeom prst="rect">
            <a:avLst/>
          </a:prstGeom>
          <a:noFill/>
          <a:ln w="0">
            <a:noFill/>
          </a:ln>
        </p:spPr>
        <p:txBody>
          <a:bodyPr tIns="8280" bIns="8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600200"/>
            <a:ext cx="4038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Коверлок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(Краеобметочная стачивающая машина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Содержимое 5" descr="коверлок.jpg"/>
          <p:cNvPicPr/>
          <p:nvPr/>
        </p:nvPicPr>
        <p:blipFill>
          <a:blip r:embed="rId1"/>
          <a:stretch/>
        </p:blipFill>
        <p:spPr>
          <a:xfrm>
            <a:off x="1187280" y="2206800"/>
            <a:ext cx="3500640" cy="3919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6072120"/>
            <a:ext cx="4038480" cy="54000"/>
          </a:xfrm>
          <a:prstGeom prst="rect">
            <a:avLst/>
          </a:prstGeom>
          <a:noFill/>
          <a:ln w="0">
            <a:noFill/>
          </a:ln>
        </p:spPr>
        <p:txBody>
          <a:bodyPr tIns="8280" bIns="8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2" descr="C:\Users\hp\Desktop\фото презентация\images (10).jpg"/>
          <p:cNvPicPr/>
          <p:nvPr/>
        </p:nvPicPr>
        <p:blipFill>
          <a:blip r:embed="rId2"/>
          <a:stretch/>
        </p:blipFill>
        <p:spPr>
          <a:xfrm>
            <a:off x="6300720" y="2206800"/>
            <a:ext cx="151776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одшивочная маши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Содержимое 4" descr="подшивочная машинка.jpg"/>
          <p:cNvPicPr/>
          <p:nvPr/>
        </p:nvPicPr>
        <p:blipFill>
          <a:blip r:embed="rId1"/>
          <a:stretch/>
        </p:blipFill>
        <p:spPr>
          <a:xfrm>
            <a:off x="826920" y="2135160"/>
            <a:ext cx="3240360" cy="3314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539280" y="5589720"/>
            <a:ext cx="814716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Подшивает нижний срез изделия (брюк, юбок, платьев,..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2" name="Picture 6" descr="C:\Users\hp\Desktop\фото презентация\cf0b861c.jpg"/>
          <p:cNvPicPr/>
          <p:nvPr/>
        </p:nvPicPr>
        <p:blipFill>
          <a:blip r:embed="rId2"/>
          <a:stretch/>
        </p:blipFill>
        <p:spPr>
          <a:xfrm>
            <a:off x="4859280" y="2135160"/>
            <a:ext cx="37227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етельная маши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71640" y="5570280"/>
            <a:ext cx="785952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Бьет петли на одежде для пуговиц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5" descr="C:\Users\hp\Desktop\фото презентация\Без названия (8).jpg"/>
          <p:cNvPicPr/>
          <p:nvPr/>
        </p:nvPicPr>
        <p:blipFill>
          <a:blip r:embed="rId1"/>
          <a:stretch/>
        </p:blipFill>
        <p:spPr>
          <a:xfrm>
            <a:off x="1116000" y="1755720"/>
            <a:ext cx="3571920" cy="3424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 rot="10800000">
            <a:off x="1116000" y="5661000"/>
            <a:ext cx="337968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7" descr="C:\Users\hp\Desktop\фото презентация\images (11).jpg"/>
          <p:cNvPicPr/>
          <p:nvPr/>
        </p:nvPicPr>
        <p:blipFill>
          <a:blip r:embed="rId2"/>
          <a:stretch/>
        </p:blipFill>
        <p:spPr>
          <a:xfrm>
            <a:off x="5580000" y="1809720"/>
            <a:ext cx="242244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Пуговичная машина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4000" y="5300280"/>
            <a:ext cx="80024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Машина для пришивания пуговиц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7" descr="C:\Users\hp\Desktop\фото презентация\images (12).jpg"/>
          <p:cNvPicPr/>
          <p:nvPr/>
        </p:nvPicPr>
        <p:blipFill>
          <a:blip r:embed="rId1"/>
          <a:stretch/>
        </p:blipFill>
        <p:spPr>
          <a:xfrm>
            <a:off x="909720" y="1704960"/>
            <a:ext cx="3565440" cy="3327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C:\Users\hp\Desktop\фото презентация\images (13).jpg"/>
          <p:cNvPicPr/>
          <p:nvPr/>
        </p:nvPicPr>
        <p:blipFill>
          <a:blip r:embed="rId2"/>
          <a:stretch/>
        </p:blipFill>
        <p:spPr>
          <a:xfrm>
            <a:off x="5103720" y="1600200"/>
            <a:ext cx="35830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корняжная маши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542916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Пошив изделий из кожи и мех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8" descr="C:\Users\hp\Desktop\фото презентация\проф.jpg"/>
          <p:cNvPicPr/>
          <p:nvPr/>
        </p:nvPicPr>
        <p:blipFill>
          <a:blip r:embed="rId1"/>
          <a:stretch/>
        </p:blipFill>
        <p:spPr>
          <a:xfrm>
            <a:off x="700200" y="1614600"/>
            <a:ext cx="3805200" cy="3423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C:\Users\hp\Desktop\фото презентация\7fd69291fc1eeb68b821846b9a3798f4.jpg"/>
          <p:cNvPicPr/>
          <p:nvPr/>
        </p:nvPicPr>
        <p:blipFill>
          <a:blip r:embed="rId2"/>
          <a:stretch/>
        </p:blipFill>
        <p:spPr>
          <a:xfrm>
            <a:off x="5546880" y="1557360"/>
            <a:ext cx="281124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Мешкозашивочная машин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857840" y="4643280"/>
            <a:ext cx="382896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Применяются для зашивания мешков при упаковке сахара, муки,.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Picture 5" descr="C:\Users\hp\Desktop\фото презентация\ммммммммммм.jpg"/>
          <p:cNvPicPr/>
          <p:nvPr/>
        </p:nvPicPr>
        <p:blipFill>
          <a:blip r:embed="rId1"/>
          <a:stretch/>
        </p:blipFill>
        <p:spPr>
          <a:xfrm>
            <a:off x="571680" y="1500120"/>
            <a:ext cx="4214520" cy="4643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457200" y="6072120"/>
            <a:ext cx="4038480" cy="54000"/>
          </a:xfrm>
          <a:prstGeom prst="rect">
            <a:avLst/>
          </a:prstGeom>
          <a:noFill/>
          <a:ln w="0">
            <a:noFill/>
          </a:ln>
        </p:spPr>
        <p:txBody>
          <a:bodyPr tIns="8280" bIns="8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2" name="Picture 6" descr="C:\Users\hp\Desktop\фото презентация\сахар.jpg"/>
          <p:cNvPicPr/>
          <p:nvPr/>
        </p:nvPicPr>
        <p:blipFill>
          <a:blip r:embed="rId2"/>
          <a:stretch/>
        </p:blipFill>
        <p:spPr>
          <a:xfrm>
            <a:off x="5500800" y="1643040"/>
            <a:ext cx="28940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овровая обметочная маши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4000" y="5732640"/>
            <a:ext cx="8002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Применяется для обметки срезов ковров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5" name="Picture 5" descr="C:\Users\hp\Desktop\фото презентация\КОВР.jpg"/>
          <p:cNvPicPr/>
          <p:nvPr/>
        </p:nvPicPr>
        <p:blipFill>
          <a:blip r:embed="rId1"/>
          <a:stretch/>
        </p:blipFill>
        <p:spPr>
          <a:xfrm>
            <a:off x="1042920" y="1844640"/>
            <a:ext cx="3140280" cy="3354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C:\Users\hp\Desktop\фото презентация\images (8).jpg"/>
          <p:cNvPicPr/>
          <p:nvPr/>
        </p:nvPicPr>
        <p:blipFill>
          <a:blip r:embed="rId2"/>
          <a:stretch/>
        </p:blipFill>
        <p:spPr>
          <a:xfrm>
            <a:off x="5219640" y="1844640"/>
            <a:ext cx="2952720" cy="3354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57200" y="6072120"/>
            <a:ext cx="4038480" cy="54000"/>
          </a:xfrm>
          <a:prstGeom prst="rect">
            <a:avLst/>
          </a:prstGeom>
          <a:noFill/>
          <a:ln w="0">
            <a:noFill/>
          </a:ln>
        </p:spPr>
        <p:txBody>
          <a:bodyPr tIns="8280" bIns="8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Большинство нарядов создавались вручну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Содержимое 3" descr="WybrandHendriks-Interieurmetnaaiendevrou.jpg"/>
          <p:cNvPicPr/>
          <p:nvPr/>
        </p:nvPicPr>
        <p:blipFill>
          <a:blip r:embed="rId1"/>
          <a:stretch/>
        </p:blipFill>
        <p:spPr>
          <a:xfrm>
            <a:off x="1928880" y="1428840"/>
            <a:ext cx="49291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Обувная швейная маши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5572080"/>
            <a:ext cx="82580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Предназначена для пошива обувной продукци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6072120"/>
            <a:ext cx="4038480" cy="54000"/>
          </a:xfrm>
          <a:prstGeom prst="rect">
            <a:avLst/>
          </a:prstGeom>
          <a:noFill/>
          <a:ln w="0">
            <a:noFill/>
          </a:ln>
        </p:spPr>
        <p:txBody>
          <a:bodyPr tIns="8280" bIns="8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2" descr="C:\Users\hp\Desktop\фото презентация\обув.jpg"/>
          <p:cNvPicPr/>
          <p:nvPr/>
        </p:nvPicPr>
        <p:blipFill>
          <a:blip r:embed="rId1"/>
          <a:stretch/>
        </p:blipFill>
        <p:spPr>
          <a:xfrm>
            <a:off x="1116000" y="2111400"/>
            <a:ext cx="3560760" cy="3014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C:\Users\hp\Desktop\фото презентация\Без названия (13).jpg"/>
          <p:cNvPicPr/>
          <p:nvPr/>
        </p:nvPicPr>
        <p:blipFill>
          <a:blip r:embed="rId2"/>
          <a:stretch/>
        </p:blipFill>
        <p:spPr>
          <a:xfrm>
            <a:off x="5364000" y="2173320"/>
            <a:ext cx="2791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2011 год Подольск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Памятник швейной машинк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4" name="Содержимое 4" descr="в подольске паиятник.jpg"/>
          <p:cNvPicPr/>
          <p:nvPr/>
        </p:nvPicPr>
        <p:blipFill>
          <a:blip r:embed="rId1"/>
          <a:stretch/>
        </p:blipFill>
        <p:spPr>
          <a:xfrm>
            <a:off x="2496960" y="1989000"/>
            <a:ext cx="4335480" cy="4389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642960" y="5785920"/>
            <a:ext cx="80438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2005г. Новосибирск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Памятник швейной машинк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7" name="Содержимое 4" descr="pamyatnik_shveynoy_mashine.png"/>
          <p:cNvPicPr/>
          <p:nvPr/>
        </p:nvPicPr>
        <p:blipFill>
          <a:blip r:embed="rId1"/>
          <a:stretch/>
        </p:blipFill>
        <p:spPr>
          <a:xfrm>
            <a:off x="2195640" y="1916280"/>
            <a:ext cx="4591080" cy="4592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6786720" y="4642920"/>
            <a:ext cx="1900080" cy="14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984г. Нью-Йорк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Памятник портному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0" name="Содержимое 4" descr="Нью-Иорк.jpeg"/>
          <p:cNvPicPr/>
          <p:nvPr/>
        </p:nvPicPr>
        <p:blipFill>
          <a:blip r:embed="rId1"/>
          <a:stretch/>
        </p:blipFill>
        <p:spPr>
          <a:xfrm>
            <a:off x="1835280" y="1554120"/>
            <a:ext cx="5397480" cy="4597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4648320" y="5857560"/>
            <a:ext cx="4038480" cy="2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0016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18760" y="1699920"/>
            <a:ext cx="825804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4" descr="dzhokonda+.jpg"/>
          <p:cNvPicPr/>
          <p:nvPr/>
        </p:nvPicPr>
        <p:blipFill>
          <a:blip r:embed="rId1"/>
          <a:stretch/>
        </p:blipFill>
        <p:spPr>
          <a:xfrm>
            <a:off x="10198080" y="2127240"/>
            <a:ext cx="1890720" cy="2389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ервый проект швейной машины предложил художник и изобретатель Леонардо да Винчи в 15 веке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0880" y="6071760"/>
            <a:ext cx="71280" cy="1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1000"/>
          </a:bodyPr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42640" y="5643360"/>
            <a:ext cx="2714760" cy="2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00120" y="6214680"/>
            <a:ext cx="1857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 rot="10800000">
            <a:off x="5715000" y="6000120"/>
            <a:ext cx="1000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5" descr="C:\Users\hp\Desktop\фото презентация\img1.jpg"/>
          <p:cNvPicPr/>
          <p:nvPr/>
        </p:nvPicPr>
        <p:blipFill>
          <a:blip r:embed="rId2"/>
          <a:stretch/>
        </p:blipFill>
        <p:spPr>
          <a:xfrm>
            <a:off x="5000760" y="2286000"/>
            <a:ext cx="3571920" cy="4143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hp\Desktop\фото презентация\img1.jpg"/>
          <p:cNvPicPr/>
          <p:nvPr/>
        </p:nvPicPr>
        <p:blipFill>
          <a:blip r:embed="rId3"/>
          <a:stretch/>
        </p:blipFill>
        <p:spPr>
          <a:xfrm>
            <a:off x="714240" y="2286000"/>
            <a:ext cx="3571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Главное изобретение Леонардо да Винчи - НОЖНИЦЫ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Содержимое 3" descr="scssrs7.jpg"/>
          <p:cNvPicPr/>
          <p:nvPr/>
        </p:nvPicPr>
        <p:blipFill>
          <a:blip r:embed="rId1"/>
          <a:stretch/>
        </p:blipFill>
        <p:spPr>
          <a:xfrm>
            <a:off x="4687920" y="1916280"/>
            <a:ext cx="3995640" cy="417672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3" descr="da-vinci-todo-list.jpg"/>
          <p:cNvPicPr/>
          <p:nvPr/>
        </p:nvPicPr>
        <p:blipFill>
          <a:blip r:embed="rId2"/>
          <a:stretch/>
        </p:blipFill>
        <p:spPr>
          <a:xfrm>
            <a:off x="611280" y="1916280"/>
            <a:ext cx="36432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арусная швейная машина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Нидерланды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Содержимое 4" descr="1365000762_parus3.jpg"/>
          <p:cNvPicPr/>
          <p:nvPr/>
        </p:nvPicPr>
        <p:blipFill>
          <a:blip r:embed="rId1"/>
          <a:stretch/>
        </p:blipFill>
        <p:spPr>
          <a:xfrm>
            <a:off x="285840" y="1785960"/>
            <a:ext cx="4281480" cy="4786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8714880" y="5979960"/>
            <a:ext cx="403884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5" descr="C:\Users\hp\Desktop\фото презентация\парусная.jpg"/>
          <p:cNvPicPr/>
          <p:nvPr/>
        </p:nvPicPr>
        <p:blipFill>
          <a:blip r:embed="rId2"/>
          <a:stretch/>
        </p:blipFill>
        <p:spPr>
          <a:xfrm>
            <a:off x="4786200" y="1785960"/>
            <a:ext cx="40006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1755 год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Карл Вейзенталь</a:t>
            </a:r>
            <a:br>
              <a:rPr sz="3600"/>
            </a:br>
            <a:r>
              <a:rPr b="1" i="1" lang="ru-RU" sz="3600" spc="-1" strike="noStrike">
                <a:solidFill>
                  <a:srgbClr val="ffc000"/>
                </a:solidFill>
                <a:latin typeface="Calibri"/>
              </a:rPr>
              <a:t>Принцип ручного образования стежк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Содержимое 3" descr="img2.jpg"/>
          <p:cNvPicPr/>
          <p:nvPr/>
        </p:nvPicPr>
        <p:blipFill>
          <a:blip r:embed="rId1"/>
          <a:stretch/>
        </p:blipFill>
        <p:spPr>
          <a:xfrm>
            <a:off x="900000" y="2492280"/>
            <a:ext cx="3240360" cy="3614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Users\hp\Desktop\фото презентация\тимонье.jpg"/>
          <p:cNvPicPr/>
          <p:nvPr/>
        </p:nvPicPr>
        <p:blipFill>
          <a:blip r:embed="rId2"/>
          <a:stretch/>
        </p:blipFill>
        <p:spPr>
          <a:xfrm>
            <a:off x="4859280" y="2492280"/>
            <a:ext cx="33973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1790г.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Томас Сен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42960" y="1285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изобрел швейную машину для пошива сапог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4" descr="C:\Users\hp\Desktop\фото презентация\томас.jpg"/>
          <p:cNvPicPr/>
          <p:nvPr/>
        </p:nvPicPr>
        <p:blipFill>
          <a:blip r:embed="rId1"/>
          <a:stretch/>
        </p:blipFill>
        <p:spPr>
          <a:xfrm>
            <a:off x="755640" y="2154240"/>
            <a:ext cx="3610080" cy="4060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:\Users\hp\Desktop\фото презентация\сент.jpg"/>
          <p:cNvPicPr/>
          <p:nvPr/>
        </p:nvPicPr>
        <p:blipFill>
          <a:blip r:embed="rId2"/>
          <a:stretch/>
        </p:blipFill>
        <p:spPr>
          <a:xfrm>
            <a:off x="4788000" y="2154240"/>
            <a:ext cx="38304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1680" y="-316440"/>
            <a:ext cx="8229600" cy="24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1830г.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Бартелеми Тимонье</a:t>
            </a:r>
            <a:br>
              <a:rPr sz="3600"/>
            </a:b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машина однониточного цепного стежк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Рисунок 5" descr="Без названия.jpg"/>
          <p:cNvPicPr/>
          <p:nvPr/>
        </p:nvPicPr>
        <p:blipFill>
          <a:blip r:embed="rId1"/>
          <a:stretch/>
        </p:blipFill>
        <p:spPr>
          <a:xfrm>
            <a:off x="684360" y="2286000"/>
            <a:ext cx="3240000" cy="389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C:\Users\hp\Desktop\фото презентация\тимоние.jpg"/>
          <p:cNvPicPr/>
          <p:nvPr/>
        </p:nvPicPr>
        <p:blipFill>
          <a:blip r:embed="rId2"/>
          <a:stretch/>
        </p:blipFill>
        <p:spPr>
          <a:xfrm>
            <a:off x="4643280" y="2286000"/>
            <a:ext cx="3813480" cy="3892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41000" y="1554120"/>
            <a:ext cx="814716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0:05:54Z</dcterms:created>
  <dc:creator>Пользователь</dc:creator>
  <dc:description/>
  <dc:language>en-US</dc:language>
  <cp:lastModifiedBy>Снежана</cp:lastModifiedBy>
  <dcterms:modified xsi:type="dcterms:W3CDTF">2020-09-07T21:06:13Z</dcterms:modified>
  <cp:revision>167</cp:revision>
  <dc:subject/>
  <dc:title>ИСТОРИЯ  СОЗДАНИЯ ШВЕЙНОЙ МАШИНЫ</dc:title>
</cp:coreProperties>
</file>