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F8A-CFF0-48C1-9577-C090385E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340-181F-46F2-B9CD-024911A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19C-C798-458C-BC8C-B85E131E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3C6-66A2-4250-A59A-98D4361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ABE-97FB-4F37-BFF7-ED5FA7E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D108-6218-490C-9053-D78E90D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8E91-6D84-4250-B29F-B860C9A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F34-63C6-42E0-AFF9-565302C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5F0E-50F5-4C02-A70B-6B1507AD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286-336E-497E-9C66-5D410BA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D46F-9C50-4EAE-91B3-E60A3F0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E8F-0851-4685-95CC-B78C78D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2D42-2A1F-4F52-A399-CBB5449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4A76-872E-4962-A05A-2B9DD95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8C20-61DD-4460-A04F-9251011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074-13F4-4E58-B20B-618822C8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E656-74BB-4CEA-B81A-E8059F02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480-D386-4076-B914-F486D89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54D-82CC-46AE-894A-AF379A4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17A-41B1-48C4-B2CE-7EE441F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4ED-3ED2-44D1-95B9-69E21BFA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326-628B-4BD9-8910-800FEDB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164-3007-412C-A789-D814998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F88-B148-4BB9-8DED-28FA951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887-E496-4E7F-84CF-1159F02C09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1B4-05E9-4F00-8396-483A5A00862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nstantia"/>
              </a:rPr>
              <a:t>Дисграфия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onstantia"/>
              </a:rPr>
              <a:t>причины и пути коррек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18920" y="5661000"/>
            <a:ext cx="5249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Учитель-логопед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МБОУ «СОШ№20 имени А.А.Хмелевск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Дюкарева Елена Вячеславо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6" descr="https://koshik.com.ua/upload/items/l_cat_6_6756959-1443337692.jpg"/>
          <p:cNvPicPr/>
          <p:nvPr/>
        </p:nvPicPr>
        <p:blipFill>
          <a:blip r:embed="rId2"/>
          <a:stretch/>
        </p:blipFill>
        <p:spPr>
          <a:xfrm>
            <a:off x="1908000" y="1844640"/>
            <a:ext cx="5400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В зависимости от несформированности или нарушения той или иной операции письма выделяют 5 форм дисграфи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1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. артикуляторно-акустическая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 с нарушением артикуляции, звукопроизношения и фонематического восприят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2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акустическая</a:t>
            </a:r>
            <a:r>
              <a:rPr b="1" i="1" lang="ru-RU" sz="2000" spc="-1" strike="noStrike">
                <a:solidFill>
                  <a:srgbClr val="646464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ую с нарушением фонемного распознаван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3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дисграфию на почве несформированности языкового анализа и синтез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4</a:t>
            </a:r>
            <a:r>
              <a:rPr b="1" i="1" lang="ru-RU" sz="2000" spc="-1" strike="noStrike">
                <a:solidFill>
                  <a:srgbClr val="646464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аграмматическую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с недоразвитием лексико-грамматической стороны речи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5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оптическая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с несформированностью зрительно-пространственных представлен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Наряду с «чистыми» формами дисграфии, в логопедической практике встречаются смешанные форм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onstantia"/>
              </a:rPr>
              <a:t>Классификация дисграф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95280" y="2565360"/>
          <a:ext cx="8317080" cy="3984840"/>
        </p:xfrm>
        <a:graphic>
          <a:graphicData uri="http://schemas.openxmlformats.org/drawingml/2006/table">
            <a:tbl>
              <a:tblPr/>
              <a:tblGrid>
                <a:gridCol w="2814480"/>
                <a:gridCol w="3017880"/>
                <a:gridCol w="2484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Замена согласных букв, близких по акустическим или артикуляционным признакам («зуки» вместо «жуки», «панка» вместо «банка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 Пропуск гласных букв («трва» вместо «трава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 Пропуск согласных букв («саат» вместо «салат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 Недоговаривание, добавление звуков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развитие фонетико-фонематического анализа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процессов произвольного внимания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сформированность звуко-буквенных ассоциаций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произношении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артикулировании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справление звукопроизношения,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- формировани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четких кинестетических образов звуков,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- совершенствование фонематических представлений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Артикуляторно-акустическая дисграфия</a:t>
            </a: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646464"/>
                </a:solidFill>
                <a:latin typeface="Constantia"/>
              </a:rPr>
              <a:t>Причиной возникновения этого вида нарушений является неправильное произношение звуков речи. Ребенок пишет слова так, как их произносит. То есть отражает свое дефектное произношение на письме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Акустическая дисграфия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На почве  нарушения фонемного  распознавания звуков речи.  В основе – трудности слуховой дифференциации звуков реч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2421000"/>
          <a:ext cx="8280360" cy="436392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9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Замены букв, соответствующих фонетически близким звукам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Ошибки на определение места звука в слове,, последовательности, при выделении звука из слов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Неразличение звуков в слове, выделение только акустически сильных, замены гласных даже в ударном положен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Неправильное обозначение мягких согласных (лубит, писмо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ая сформированность фонематического восприят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звуков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устойчивое внимани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лабое развитие слуховой памя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ниженная работоспособность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ндивидуально-психологические особенности (темперамент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и совершенствование фонематических представлений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навыков звуко-буквенного анализа и синтеза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овышение концентрации внимания, усиление самоконтроля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нижение учебной нагрузк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277560"/>
            <a:ext cx="8715240" cy="179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Дисграфия на почве нарушения языкового анализа и синтеза. </a:t>
            </a:r>
            <a:br>
              <a:rPr sz="32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Причина ее возникновения – затруднения при делении предложений на слова, слов на слоги, звуки.</a:t>
            </a:r>
            <a:r>
              <a:rPr b="0" lang="ru-RU" sz="1800" spc="-1" strike="noStrike">
                <a:solidFill>
                  <a:srgbClr val="646464"/>
                </a:solidFill>
                <a:latin typeface="Constanti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Дисграфия на почве нарушения языкового анализа и синтеза встречается среди школьников наиболее часто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349360"/>
          <a:ext cx="8785080" cy="4121280"/>
        </p:xfrm>
        <a:graphic>
          <a:graphicData uri="http://schemas.openxmlformats.org/drawingml/2006/table">
            <a:tbl>
              <a:tblPr/>
              <a:tblGrid>
                <a:gridCol w="3024000"/>
                <a:gridCol w="2773440"/>
                <a:gridCol w="2987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2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. Трудности при выделении слов из предложения, при определении количества названных слов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. Добавление гласных букв («галака» вместо «галка»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. При письме сращивание и расщепление слов; слитное написание с предлогами; раздельное написание приставок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4. Неумение выделить предложение из текста, слитное написание предлож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в развитии вербаль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звуко-буквен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устойчивость произвольгого внима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очность зритель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процессов зрительного анализа и синте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очное развитие пространственных представл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звитие психических процессов внимания, памяти, восприятия, мышления;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щадящий режим;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усилить самоконтроль, использовать прием «ошибающийся» учитель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480" y="70920"/>
            <a:ext cx="864396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Аграмматическая дисграфия</a:t>
            </a: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– несформированностью  грамматического строя речи. Аграмматическая дисграфия обычно сопутствует общему недоразвитию реч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1481040"/>
          <a:ext cx="8353440" cy="5187960"/>
        </p:xfrm>
        <a:graphic>
          <a:graphicData uri="http://schemas.openxmlformats.org/drawingml/2006/table">
            <a:tbl>
              <a:tblPr/>
              <a:tblGrid>
                <a:gridCol w="3244680"/>
                <a:gridCol w="2622600"/>
                <a:gridCol w="248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Аграмматизм на письме на уровне слова, словосочетания, предложения, текст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 Трудности в словоизменении и словообразован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 Затруднения при подборе родственных слов на основе установления общего смысла корн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 Не умеет применять правило в конкретной ситуац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5. Трудности в согласовании частей реч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6. Трудности с  употреблением мягкого знака и правильным написанием мягких согласных (василки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7. Не умеет находить ошибки  в собственной работ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фонетико-фонематическ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усвоены правила правописа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ая гибкость мыслительной деятельнос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онкретность мышле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сформированность операций сравне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зрительного анализа вербального материал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развитие зрительной памя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ое артикулирование слов при письм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ликвидировать пробелы в знаниях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ифференцировать однокоренные слова от синонимов и антонимов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отчетливое проговаривание зрительно воспринимаемых слов, - - отработать зрительно-двигательные образы слов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оставление  предложений, работа с деформированными предложениями и текстами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концентрации внимания и самоконтроля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Оптическая дисграфия</a:t>
            </a: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4000"/>
            </a:br>
            <a:r>
              <a:rPr b="1" lang="ru-RU" sz="1600" spc="-1" strike="noStrike">
                <a:solidFill>
                  <a:srgbClr val="646464"/>
                </a:solidFill>
                <a:latin typeface="Constantia"/>
              </a:rPr>
              <a:t>– недоразвитие оптико-пространственных представлений, несформированность зрительного анализа и синтеза. </a:t>
            </a:r>
            <a:br>
              <a:rPr sz="1600"/>
            </a:b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484280"/>
          <a:ext cx="8785440" cy="4989600"/>
        </p:xfrm>
        <a:graphic>
          <a:graphicData uri="http://schemas.openxmlformats.org/drawingml/2006/table">
            <a:tbl>
              <a:tblPr/>
              <a:tblGrid>
                <a:gridCol w="3529080"/>
                <a:gridCol w="3456000"/>
                <a:gridCol w="1800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.Искажение воспроизведения букв на письме: «зеркальное» написание букв, недописывание или написание лишних элементов букв, неузнавание буквы в перевернутом виде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2.Неразличение при письме сходных по начертанию букв (</a:t>
                      </a:r>
                      <a:r>
                        <a:rPr b="0" i="1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б-в,н-п,м-л, ш-т, б-д,ш-и</a:t>
                      </a: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..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2. Замена букв по пространственному сходств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3. Высота букв не соответствует высоте рабочей строк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4. Расположение букв при списывании в обратной последовательнос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5.Затруднения при написании закругленных деталей бук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6.Неряшливое письмо, грязь в тетрад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7.Списывание с ошибкам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9.Искажение подчерка (нестабильность графических форм)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10.Сложности при переводе печатной графемы в письменную и наоборо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достатки зрительного анализ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пространственных отношений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Отсутствие прочной связи между зрительными и двигательными образами бук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Слабо развита тонкая моторика рук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дифференцированных зрительных образов букв.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умение регулировать мышечные усил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личностных качеств аккуратнос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Трудности в произвольном управлении движениям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устойчивость произвольного внимания, слабое развитие зрительной памя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Индивидуально-типологические особенности (инерция возбудительного процесса или преждевременное торможение)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Развитие зрительного восприят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Формирование пространственных отнош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Развитие мелкой моторики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Выработка соответствующих личностных и психических качеств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285560"/>
            <a:ext cx="849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Перв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диагностики является уточнение характера трудностей и степени отставания в этих навыках. Встречаются случаи, когда излишне тревожные родители, сами рано начавшие читать, уже через полгода обучения ребенка в школе бьют тревогу по поводу медленного (с их точки зрения) продвижения его в данном навыке. На самом деле ребенок может вполне укладываться в рамки нормы с учетом ее вариативност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Наиболее диагностически трудными являются аномалии чтения и письма у детей со снижением интеллекта. Решение вопроса, обусловлено ли отставание в данном навыке недостаточным умственным развитием или имеет самостоятельный генез, прямо зависит от результатов клинико-психологического исследования умственного развития ребенка. Диагностика интеллекта является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втор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Большинство детей с недоразвитием устной речи испытывают определенные трудности в чтении и письме, но лишь около одной трети из них страдают специфическими нарушениями этих навыков. Поэтому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третье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является исследование устной речи, основных языковых средств и речевых навыков, необходимых для овладения грамотой. Необходимо сопоставить степень выраженности затруднений в письменной речи и уровень развития устной речи. Выявляются речевые функции или навыки, несформированность которых создает патологическую основу расстройств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Наконец,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четверт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является анализ психопатологической картины, и особенно двух ее аспектов: выраженности психоорганической симптоматики и реакции ребенка на трудности в учебе. Массивность резидуально-органической симптоматики существенно влияет на прогноз и определяет выбор леч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Психодиагностика дисграфии</a:t>
            </a:r>
            <a:br>
              <a:rPr sz="2400"/>
            </a:b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Диагностика дисграфии включает анализ письменных работ, обследование устной и письменной речи по специальной методике.</a:t>
            </a: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83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onstantia"/>
              </a:rPr>
              <a:t>Развитие 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анализирующего наблюд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цессов произвольного внима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го анализ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странственных представлен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-двигательной координаци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умений выполнять последовательные указания взрослог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непосредственной произвольной зрительной памя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извольного слухового запомина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фонематическ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вуко-буквен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го вербаль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орфографической зоркос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лухового вербаль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буквенного синте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абстрагирования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 - 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отвлечение в процессе познания от несущественных сторон, свойств, связей объекта (предмета или явления) с целью выделения их существенных, закономерных призна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мыслов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пособности схватывать слово целико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инкретичности восприятия - это восприятие целого, не основанное на его анализ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Коррекция дисграфии</a:t>
            </a:r>
            <a:br>
              <a:rPr sz="4000"/>
            </a:b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Коррекционная работа по преодолению дисграфии требует устранения нарушений звукопроизношения, развития фонематических процессов, лексики, грамматики, связной речи, неречевых функций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17" descr=""/>
          <p:cNvPicPr/>
          <p:nvPr/>
        </p:nvPicPr>
        <p:blipFill>
          <a:blip r:embed="rId2"/>
          <a:stretch/>
        </p:blipFill>
        <p:spPr>
          <a:xfrm>
            <a:off x="317520" y="1542960"/>
            <a:ext cx="8655120" cy="498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заимосвязь специалис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–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это частичное расстройство процесса письма, связанное с недостаточной сформированностью (или распадом) психических функций, участвующих в реализации и контроле письменной ре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Проявляется стойкими, типичными и повторяющимися ошибками на письме, которые не исчезают самостоятельно, без целенаправленного обучения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04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Дисграф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75016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Механизм возникновения процесса         письма.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39640" y="1557360"/>
            <a:ext cx="8104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огласно нейропсихологии  письмо представляет собой сложную функциональную  систему, состоящую из многих компонентов, каждый из которых опирается на работу особого участка мозга и вносит свой специфический вклад в функционирование всей системы. Один и тот же компонент может входить в разные функциональные системы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роведенный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А.Р. Лурия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анализ строения высших психических функций  и их мозговой локализации позволил ему выявить, что осуществление любой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ПФ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, например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чтения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или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исьм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, требует участия таких компонентов, как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рограммирование действия, переработка информации и поддержание рабочего состояния мозг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. При этом поддержание бодрствующего состояния обеспечивается глубинными и срединными отделами мозг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(I функциональный блок по Лурия), переработка информации – задними отделами коры (II блок) и программирование и контроль -передними (лобными) отделами коры (III блок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Биолого-психологические закономерности процесса письм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Схема 4" descr=""/>
          <p:cNvPicPr/>
          <p:nvPr/>
        </p:nvPicPr>
        <p:blipFill>
          <a:blip r:embed="rId2"/>
          <a:stretch/>
        </p:blipFill>
        <p:spPr>
          <a:xfrm>
            <a:off x="-1219320" y="1494000"/>
            <a:ext cx="10833120" cy="557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:\фото из презентации\Рисунок2.jpg"/>
          <p:cNvPicPr/>
          <p:nvPr/>
        </p:nvPicPr>
        <p:blipFill>
          <a:blip r:embed="rId3"/>
          <a:stretch/>
        </p:blipFill>
        <p:spPr>
          <a:xfrm>
            <a:off x="2771640" y="3068640"/>
            <a:ext cx="33130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Органического характер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аследственная предрасположенность, недоразвитие ил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поражение головного мозга в пренатальном, натальном, постнатальном периодах: патология беременности, родовые травмы, асфиксия, менингиты и энцефалиты, инфекции и тяжелые соматические заболевания, вызывающие истощение нервной системы ребен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Функционального характер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едостаточное развитие артикуляционного аппарата   (длительное пользование  бутылочкой,  избегание жеваниея твердой пищи, воздействие внутренних факторов(например, длительные соматические заболевания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Неречевая симптоматика: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еврологические нарушения, снижение работоспособности, отвлекаемость, гиперактивность, снижение объема памяти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СДВГ 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nstantia"/>
              </a:rPr>
              <a:t>Причины нарушения  пись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Левое и правое полуш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9" descr="I:\фото из презентации\Рисунок4.jpg"/>
          <p:cNvPicPr/>
          <p:nvPr/>
        </p:nvPicPr>
        <p:blipFill>
          <a:blip r:embed="rId2"/>
          <a:stretch/>
        </p:blipFill>
        <p:spPr>
          <a:xfrm>
            <a:off x="1258920" y="1773360"/>
            <a:ext cx="6626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353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Взаимосвязь полушарий головного мозга</a:t>
            </a:r>
            <a:br>
              <a:rPr sz="4000"/>
            </a:br>
            <a:r>
              <a:rPr b="0" lang="ru-RU" sz="2000" spc="-1" strike="noStrike">
                <a:solidFill>
                  <a:srgbClr val="646464"/>
                </a:solidFill>
                <a:latin typeface="Arial"/>
              </a:rPr>
              <a:t>Неравномерное развитие полушарий головного мозга так же может быть причиной дисграфии. Центр речи у людей находится в левом полушарии. Правое отвечает за правильное восприятие символов и образов. Ребенок с дисграфией с трудом осваивает письмо, но хорошо рисует.</a:t>
            </a:r>
            <a:br>
              <a:rPr sz="4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7" descr="I:\фото из презентации\Рисунок5.jpg"/>
          <p:cNvPicPr/>
          <p:nvPr/>
        </p:nvPicPr>
        <p:blipFill>
          <a:blip r:embed="rId2"/>
          <a:stretch/>
        </p:blipFill>
        <p:spPr>
          <a:xfrm>
            <a:off x="5076720" y="3284640"/>
            <a:ext cx="3456000" cy="22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:\фото из презентации\Рисунок3.jpg"/>
          <p:cNvPicPr/>
          <p:nvPr/>
        </p:nvPicPr>
        <p:blipFill>
          <a:blip r:embed="rId3"/>
          <a:stretch/>
        </p:blipFill>
        <p:spPr>
          <a:xfrm>
            <a:off x="360360" y="2263680"/>
            <a:ext cx="4498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Недостаточное формирование сложных по структуре и многоуровневых по организации двигательных навыков пись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Особенности формирования когнитивного компонента навыков письм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сформированность пространственных представлен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достатки в развитии процессов звукобуквенного анализа и синтеза и фонетико-фонематического восприятия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достатки в развитии познавательных процессов (зрительный анализ, мыслительная деятельность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Недостатки в формировании регуляторного компонента навыков письма (несформированность процессов самоконтроля и саморегуляции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Особенности темперамента учащихся, отражающие своеобразие природной организации их нервной систем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092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Основные группы трудносте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Работы учеников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9" descr="I:\фото из презентации\Рисунок10.jpg"/>
          <p:cNvPicPr/>
          <p:nvPr/>
        </p:nvPicPr>
        <p:blipFill>
          <a:blip r:embed="rId2"/>
          <a:stretch/>
        </p:blipFill>
        <p:spPr>
          <a:xfrm>
            <a:off x="2266920" y="1459080"/>
            <a:ext cx="4608720" cy="176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:\фото из презентации\Рисунок6.jpg"/>
          <p:cNvPicPr/>
          <p:nvPr/>
        </p:nvPicPr>
        <p:blipFill>
          <a:blip r:embed="rId3"/>
          <a:stretch/>
        </p:blipFill>
        <p:spPr>
          <a:xfrm>
            <a:off x="3995640" y="3716280"/>
            <a:ext cx="4500720" cy="246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I:\фото из презентации\Рисунок7.jpg"/>
          <p:cNvPicPr/>
          <p:nvPr/>
        </p:nvPicPr>
        <p:blipFill>
          <a:blip r:embed="rId4"/>
          <a:stretch/>
        </p:blipFill>
        <p:spPr>
          <a:xfrm>
            <a:off x="222120" y="3573360"/>
            <a:ext cx="327996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I:\фото из презентации\Рисунок8.jpg"/>
          <p:cNvPicPr/>
          <p:nvPr/>
        </p:nvPicPr>
        <p:blipFill>
          <a:blip r:embed="rId5"/>
          <a:stretch/>
        </p:blipFill>
        <p:spPr>
          <a:xfrm>
            <a:off x="196920" y="765000"/>
            <a:ext cx="2716200" cy="314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:\фото из презентации\Рисунок9.jpg"/>
          <p:cNvPicPr/>
          <p:nvPr/>
        </p:nvPicPr>
        <p:blipFill>
          <a:blip r:embed="rId6"/>
          <a:stretch/>
        </p:blipFill>
        <p:spPr>
          <a:xfrm>
            <a:off x="4984920" y="979560"/>
            <a:ext cx="367344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0:52:36Z</dcterms:created>
  <dc:creator>Admin</dc:creator>
  <dc:description/>
  <dc:language>en-US</dc:language>
  <cp:lastModifiedBy>логопед</cp:lastModifiedBy>
  <dcterms:modified xsi:type="dcterms:W3CDTF">2018-01-09T19:03:17Z</dcterms:modified>
  <cp:revision>46</cp:revision>
  <dc:subject/>
  <dc:title>Коррекция  устной и письменной речи учащихся начальных классов</dc:title>
</cp:coreProperties>
</file>