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871-72F4-40F3-BF34-33B39C53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D39-5437-465C-A3A2-6E6F085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0D8-10A5-4CD6-BF8A-89320663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68A-9941-4323-8278-12E94027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D253-BFBA-4FBB-B705-55E19D8D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3269-79D2-42A5-B710-9AB01563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369-2BF4-41E5-9B78-DF7668C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2BD-F5EB-4B84-86CF-9E37553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79D0-125D-401D-81A5-3BAFDA1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EDF-F912-43B5-A7A4-F2D36EF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307D-9196-4376-9E15-D4E05F9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227-7CE8-4142-AD75-8204A0D1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C8BC-1EFE-4DF5-8F00-6C8A574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E63-BC8B-4E54-9FA1-8312A1C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8CB4-DBC3-414B-9ADF-793E350C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4C5B-47F2-4F9B-A730-A65E4E81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B447-867D-41D5-B65C-98414D7D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87D-28E4-4E47-871D-311AE92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487-470B-4DEE-A0E4-2A35D954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5D5-95F6-4A82-98E5-1F154EB9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171-D943-4AD9-A151-2417BEBA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1BA-F094-4231-BCEC-EA53448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CEB-DC15-465C-BDEB-1376D73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C8A-D522-4317-AF3D-EFF5B2E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898-04B8-4B0B-B57E-0698FBECC7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D4F1-2626-486B-8B05-F119194DDB9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nstantia"/>
              </a:rPr>
              <a:t>Дисграфия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onstantia"/>
              </a:rPr>
              <a:t>причины и пути коррек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18920" y="5661000"/>
            <a:ext cx="5249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c29"/>
                </a:solidFill>
                <a:latin typeface="Verdana"/>
              </a:rPr>
              <a:t>Учитель-логопед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c29"/>
                </a:solidFill>
                <a:latin typeface="Verdana"/>
              </a:rPr>
              <a:t>МБОУ «СОШ№20 имени А.А.Хмелевск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c29"/>
                </a:solidFill>
                <a:latin typeface="Verdana"/>
              </a:rPr>
              <a:t>Дюкарева Елена Вячеславо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6" descr="https://koshik.com.ua/upload/items/l_cat_6_6756959-1443337692.jpg"/>
          <p:cNvPicPr/>
          <p:nvPr/>
        </p:nvPicPr>
        <p:blipFill>
          <a:blip r:embed="rId2"/>
          <a:stretch/>
        </p:blipFill>
        <p:spPr>
          <a:xfrm>
            <a:off x="1908000" y="1844640"/>
            <a:ext cx="5400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В зависимости от несформированности или нарушения той или иной операции письма выделяют 5 форм дисграфи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1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. артикуляторно-акустическая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ая  с нарушением артикуляции, звукопроизношения и фонематического восприяти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2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акустическая</a:t>
            </a:r>
            <a:r>
              <a:rPr b="1" i="1" lang="ru-RU" sz="2000" spc="-1" strike="noStrike">
                <a:solidFill>
                  <a:srgbClr val="646464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ую с нарушением фонемного распознавани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3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дисграфию на почве несформированности языкового анализа и синтеза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4</a:t>
            </a:r>
            <a:r>
              <a:rPr b="1" i="1" lang="ru-RU" sz="2000" spc="-1" strike="noStrike">
                <a:solidFill>
                  <a:srgbClr val="646464"/>
                </a:solidFill>
                <a:latin typeface="Constantia"/>
              </a:rPr>
              <a:t>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аграмматическую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ая с недоразвитием лексико-грамматической стороны речи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5. </a:t>
            </a:r>
            <a:r>
              <a:rPr b="1" i="1" lang="ru-RU" sz="2000" spc="-1" strike="noStrike">
                <a:solidFill>
                  <a:srgbClr val="002060"/>
                </a:solidFill>
                <a:latin typeface="Constantia"/>
              </a:rPr>
              <a:t>оптическая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, связанная с несформированностью зрительно-пространственных представлен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646464"/>
                </a:solidFill>
                <a:latin typeface="Constantia"/>
              </a:rPr>
              <a:t>Наряду с «чистыми» формами дисграфии, в логопедической практике встречаются смешанные форм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Constantia"/>
              </a:rPr>
              <a:t>Классификация дисграф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95280" y="2565360"/>
          <a:ext cx="8317080" cy="3984840"/>
        </p:xfrm>
        <a:graphic>
          <a:graphicData uri="http://schemas.openxmlformats.org/drawingml/2006/table">
            <a:tbl>
              <a:tblPr/>
              <a:tblGrid>
                <a:gridCol w="2814480"/>
                <a:gridCol w="3017880"/>
                <a:gridCol w="2484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1. Замена согласных букв, близких по акустическим или артикуляционным признакам («зуки» вместо «жуки», «панка» вместо «банка»)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2. Пропуск гласных букв («трва» вместо «трава»)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3. Пропуск согласных букв («саат» вместо «салат»)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4. Недоговаривание, добавление звуков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развитие фонетико-фонематического анализа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развитии процессов произвольного внимания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сформированность звуко-буквенных ассоциаций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произношении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артикулировании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справление звукопроизношения,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- формировани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четких кинестетических образов звуков,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- совершенствование фонематических представлений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Артикуляторно-акустическая дисграфия</a:t>
            </a: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646464"/>
                </a:solidFill>
                <a:latin typeface="Constantia"/>
              </a:rPr>
              <a:t>Причиной возникновения этого вида нарушений является неправильное произношение звуков речи. Ребенок пишет слова так, как их произносит. То есть отражает свое дефектное произношение на письме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Акустическая дисграфия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На почве  нарушения фонемного  распознавания звуков речи.  В основе – трудности слуховой дифференциации звуков реч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2421000"/>
          <a:ext cx="8280360" cy="436392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9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1. Замены букв, соответствующих фонетически близким звукам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2.Ошибки на определение места звука в слове,, последовательности, при выделении звука из слов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3.Неразличение звуков в слове, выделение только акустически сильных, замены гласных даже в ударном положени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4.Неправильное обозначение мягких согласных (лубит, писмо)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очная сформированность фонематического восприят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звуков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устойчивое внимание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лабое развитие слуховой памят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ниженная работоспособность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ндивидуально-психологические особенности (темперамент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развитие и совершенствование фонематических представлений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развитие навыков звуко-буквенного анализа и синтеза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овышение концентрации внимания, усиление самоконтроля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нижение учебной нагрузк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277560"/>
            <a:ext cx="8715240" cy="179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Дисграфия на почве нарушения языкового анализа и синтеза. </a:t>
            </a:r>
            <a:br>
              <a:rPr sz="32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Причина ее возникновения – затруднения при делении предложений на слова, слов на слоги, звуки.</a:t>
            </a:r>
            <a:r>
              <a:rPr b="0" lang="ru-RU" sz="1800" spc="-1" strike="noStrike">
                <a:solidFill>
                  <a:srgbClr val="646464"/>
                </a:solidFill>
                <a:latin typeface="Constanti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Дисграфия на почве нарушения языкового анализа и синтеза встречается среди школьников наиболее часто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349360"/>
          <a:ext cx="8785080" cy="4121280"/>
        </p:xfrm>
        <a:graphic>
          <a:graphicData uri="http://schemas.openxmlformats.org/drawingml/2006/table">
            <a:tbl>
              <a:tblPr/>
              <a:tblGrid>
                <a:gridCol w="3024000"/>
                <a:gridCol w="2773440"/>
                <a:gridCol w="2987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имптоматика трудност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сихологические и другие пр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ути корре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2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1. Трудности при выделении слов из предложения, при определении количества названных слов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. Добавление гласных букв («галака» вместо «галка»)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. При письме сращивание и расщепление слов; слитное написание с предлогами; раздельное написание приставок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4. Неумение выделить предложение из текста, слитное написание предложений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ки в развитии вербальн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ки звуко-буквенн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устойчивость произвольгого внима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очность зрительн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ки процессов зрительного анализа и синте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едостаточное развитие пространственных представлений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звитие психических процессов внимания, памяти, восприятия, мышления;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щадящий режим;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усилить самоконтроль, использовать прием «ошибающийся» учитель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480" y="70920"/>
            <a:ext cx="864396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Аграмматическая дисграфия</a:t>
            </a: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 </a:t>
            </a:r>
            <a:br>
              <a:rPr sz="4000"/>
            </a:br>
            <a:r>
              <a:rPr b="1" lang="ru-RU" sz="1800" spc="-1" strike="noStrike">
                <a:solidFill>
                  <a:srgbClr val="646464"/>
                </a:solidFill>
                <a:latin typeface="Constantia"/>
              </a:rPr>
              <a:t>– несформированностью  грамматического строя речи. Аграмматическая дисграфия обычно сопутствует общему недоразвитию реч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1481040"/>
          <a:ext cx="8353440" cy="5187960"/>
        </p:xfrm>
        <a:graphic>
          <a:graphicData uri="http://schemas.openxmlformats.org/drawingml/2006/table">
            <a:tbl>
              <a:tblPr/>
              <a:tblGrid>
                <a:gridCol w="3244680"/>
                <a:gridCol w="2622600"/>
                <a:gridCol w="248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1. Аграмматизм на письме на уровне слова, словосочетания, предложения, текст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2. Трудности в словоизменении и словообразовани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3. Затруднения при подборе родственных слов на основе установления общего смысла корн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4. Не умеет применять правило в конкретной ситуаци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5. Трудности в согласовании частей реч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6. Трудности с  употреблением мягкого знака и правильным написанием мягких согласных (василки)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7. Не умеет находить ошибки  в собственной работе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развитии фонетико-фонематического анализ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усвоены правила правописа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очная гибкость мыслительной деятельност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онкретность мышле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сформированность операций сравнен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ки в развитии зрительного анализа вербального материала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развитие зрительной памят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едостаточное артикулирование слов при письме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ликвидировать пробелы в знаниях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ифференцировать однокоренные слова от синонимов и антонимов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отчетливое проговаривание зрительно воспринимаемых слов, - - отработать зрительно-двигательные образы слов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оставление  предложений, работа с деформированными предложениями и текстами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eec85e"/>
                        </a:buClr>
                        <a:buSzPct val="70000"/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развитие концентрации внимания и самоконтроля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Оптическая дисграфия</a:t>
            </a:r>
            <a:r>
              <a:rPr b="0" i="1" lang="ru-RU" sz="4000" spc="-1" strike="noStrike">
                <a:solidFill>
                  <a:srgbClr val="002060"/>
                </a:solidFill>
                <a:latin typeface="Constantia"/>
              </a:rPr>
              <a:t> </a:t>
            </a:r>
            <a:br>
              <a:rPr sz="4000"/>
            </a:br>
            <a:r>
              <a:rPr b="1" lang="ru-RU" sz="1600" spc="-1" strike="noStrike">
                <a:solidFill>
                  <a:srgbClr val="646464"/>
                </a:solidFill>
                <a:latin typeface="Constantia"/>
              </a:rPr>
              <a:t>– недоразвитие оптико-пространственных представлений, несформированность зрительного анализа и синтеза. </a:t>
            </a:r>
            <a:br>
              <a:rPr sz="1600"/>
            </a:b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484280"/>
          <a:ext cx="8785440" cy="4989600"/>
        </p:xfrm>
        <a:graphic>
          <a:graphicData uri="http://schemas.openxmlformats.org/drawingml/2006/table">
            <a:tbl>
              <a:tblPr/>
              <a:tblGrid>
                <a:gridCol w="3529080"/>
                <a:gridCol w="3456000"/>
                <a:gridCol w="1800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Симптоматика трудносте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Психологические и другие причи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Пути коррекци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5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.Искажение воспроизведения букв на письме: «зеркальное» написание букв, недописывание или написание лишних элементов букв, неузнавание буквы в перевернутом виде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2.Неразличение при письме сходных по начертанию букв (</a:t>
                      </a:r>
                      <a:r>
                        <a:rPr b="0" i="1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б-в,н-п,м-л, ш-т, б-д,ш-и</a:t>
                      </a: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..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2. Замена букв по пространственному сходств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3. Высота букв не соответствует высоте рабочей строк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4. Расположение букв при списывании в обратной последовательност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5.Затруднения при написании закругленных деталей букв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6.Неряшливое письмо, грязь в тетрад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7.Списывание с ошибкам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9.Искажение подчерка (нестабильность графических форм)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10.Сложности при переводе печатной графемы в письменную и наоборо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достатки зрительного анализ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сформированность пространственных отношений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Отсутствие прочной связи между зрительными и двигательными образами букв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Слабо развита тонкая моторика рук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сформированность дифференцированных зрительных образов букв.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умение регулировать мышечные усил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сформированность личностных качеств аккуратност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Трудности в произвольном управлении движениям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Неустойчивость произвольного внимания, слабое развитие зрительной памят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Индивидуально-типологические особенности (инерция возбудительного процесса или преждевременное торможение)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Развитие зрительного восприятия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Формирование пространственных отношений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Развитие мелкой моторики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Constantia"/>
                        </a:rPr>
                        <a:t>Выработка соответствующих личностных и психических качеств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285560"/>
            <a:ext cx="849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Перво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диагностики является уточнение характера трудностей и степени отставания в этих навыках. Встречаются случаи, когда излишне тревожные родители, сами рано начавшие читать, уже через полгода обучения ребенка в школе бьют тревогу по поводу медленного (с их точки зрения) продвижения его в данном навыке. На самом деле ребенок может вполне укладываться в рамки нормы с учетом ее вариативност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Наиболее диагностически трудными являются аномалии чтения и письма у детей со снижением интеллекта. Решение вопроса, обусловлено ли отставание в данном навыке недостаточным умственным развитием или имеет самостоятельный генез, прямо зависит от результатов клинико-психологического исследования умственного развития ребенка. Диагностика интеллекта является </a:t>
            </a: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второ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Большинство детей с недоразвитием устной речи испытывают определенные трудности в чтении и письме, но лишь около одной трети из них страдают специфическими нарушениями этих навыков. Поэтому </a:t>
            </a: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третье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является исследование устной речи, основных языковых средств и речевых навыков, необходимых для овладения грамотой. Необходимо сопоставить степень выраженности затруднений в письменной речи и уровень развития устной речи. Выявляются речевые функции или навыки, несформированность которых создает патологическую основу расстройств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Наконец, </a:t>
            </a:r>
            <a:r>
              <a:rPr b="1" lang="ru-RU" sz="1600" spc="-1" strike="noStrike">
                <a:solidFill>
                  <a:srgbClr val="969696"/>
                </a:solidFill>
                <a:latin typeface="Verdana"/>
              </a:rPr>
              <a:t>четвертой задачей</a:t>
            </a:r>
            <a:r>
              <a:rPr b="0" lang="ru-RU" sz="1600" spc="-1" strike="noStrike">
                <a:solidFill>
                  <a:srgbClr val="969696"/>
                </a:solidFill>
                <a:latin typeface="Verdana"/>
              </a:rPr>
              <a:t> является анализ психопатологической картины, и особенно двух ее аспектов: выраженности психоорганической симптоматики и реакции ребенка на трудности в учебе. Массивность резидуально-органической симптоматики существенно влияет на прогноз и определяет выбор лече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Психодиагностика дисграфии</a:t>
            </a:r>
            <a:br>
              <a:rPr sz="2400"/>
            </a:br>
            <a:r>
              <a:rPr b="0" lang="ru-RU" sz="1600" spc="-1" strike="noStrike">
                <a:solidFill>
                  <a:srgbClr val="646464"/>
                </a:solidFill>
                <a:latin typeface="Constantia"/>
              </a:rPr>
              <a:t>Диагностика дисграфии включает анализ письменных работ, обследование устной и письменной речи по специальной методике.</a:t>
            </a:r>
            <a:r>
              <a:rPr b="0" lang="ru-RU" sz="1600" spc="-1" strike="noStrike">
                <a:solidFill>
                  <a:srgbClr val="646464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83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2060"/>
                </a:solidFill>
                <a:uFillTx/>
                <a:latin typeface="Constantia"/>
              </a:rPr>
              <a:t>Развитие 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анализирующего наблюде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процессов произвольного внима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рительного анализ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пространственных представлен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рительно-двигательной координаци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умений выполнять последовательные указания взрослог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непосредственной произвольной зрительной памя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произвольного слухового запоминания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фонематическ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вуко-буквенн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зрительного вербальн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орфографической зоркост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лухового вербальн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буквенного синте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абстрагирования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 - 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отвлечение в процессе познания от несущественных сторон, свойств, связей объекта (предмета или явления) с целью выделения их существенных, закономерных призна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мыслового анализ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пособности схватывать слово целико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- синкретичности восприятия - это восприятие целого, не основанное на его анализ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Коррекция дисграфии</a:t>
            </a:r>
            <a:br>
              <a:rPr sz="4000"/>
            </a:br>
            <a:r>
              <a:rPr b="0" lang="ru-RU" sz="1600" spc="-1" strike="noStrike">
                <a:solidFill>
                  <a:srgbClr val="646464"/>
                </a:solidFill>
                <a:latin typeface="Constantia"/>
              </a:rPr>
              <a:t>Коррекционная работа по преодолению дисграфии требует устранения нарушений звукопроизношения, развития фонематических процессов, лексики, грамматики, связной речи, неречевых функций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17" descr=""/>
          <p:cNvPicPr/>
          <p:nvPr/>
        </p:nvPicPr>
        <p:blipFill>
          <a:blip r:embed="rId2"/>
          <a:stretch/>
        </p:blipFill>
        <p:spPr>
          <a:xfrm>
            <a:off x="317520" y="1542960"/>
            <a:ext cx="8655120" cy="4986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заимосвязь специалис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–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это частичное расстройство процесса письма, связанное с недостаточной сформированностью (или распадом) психических функций, участвующих в реализации и контроле письменной ре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Проявляется стойкими, типичными и повторяющимися ошибками на письме, которые не исчезают самостоятельно, без целенаправленного обучения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042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nstantia"/>
              </a:rPr>
              <a:t>Дисграф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75016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onstantia"/>
              </a:rPr>
              <a:t>Механизм возникновения процесса         письма.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39640" y="1557360"/>
            <a:ext cx="8104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огласно нейропсихологии  письмо представляет собой сложную функциональную  систему, состоящую из многих компонентов, каждый из которых опирается на работу особого участка мозга и вносит свой специфический вклад в функционирование всей системы. Один и тот же компонент может входить в разные функциональные системы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роведенный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А.Р. Лурия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анализ строения высших психических функций  и их мозговой локализации позволил ему выявить, что осуществление любой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ПФ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, например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чтения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или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исьма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, требует участия таких компонентов, как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рограммирование действия, переработка информации и поддержание рабочего состояния мозга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. При этом поддержание бодрствующего состояния обеспечивается глубинными и срединными отделами мозг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(I функциональный блок по Лурия), переработка информации – задними отделами коры (II блок) и программирование и контроль -передними (лобными) отделами коры (III блок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Биолого-психологические закономерности процесса письм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Схема 4" descr=""/>
          <p:cNvPicPr/>
          <p:nvPr/>
        </p:nvPicPr>
        <p:blipFill>
          <a:blip r:embed="rId2"/>
          <a:stretch/>
        </p:blipFill>
        <p:spPr>
          <a:xfrm>
            <a:off x="-1219320" y="1494000"/>
            <a:ext cx="10833120" cy="557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:\фото из презентации\Рисунок2.jpg"/>
          <p:cNvPicPr/>
          <p:nvPr/>
        </p:nvPicPr>
        <p:blipFill>
          <a:blip r:embed="rId3"/>
          <a:stretch/>
        </p:blipFill>
        <p:spPr>
          <a:xfrm>
            <a:off x="2771640" y="3068640"/>
            <a:ext cx="33130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                                        </a:t>
            </a: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Органического характер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наследственная предрасположенность, недоразвитие ил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поражение головного мозга в пренатальном, натальном, постнатальном периодах: патология беременности, родовые травмы, асфиксия, менингиты и энцефалиты, инфекции и тяжелые соматические заболевания, вызывающие истощение нервной системы ребен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                                 </a:t>
            </a: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Функционального характер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недостаточное развитие артикуляционного аппарата   (длительное пользование  бутылочкой,  избегание жеваниея твердой пищи, воздействие внутренних факторов(например, длительные соматические заболевания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                                         </a:t>
            </a:r>
            <a:r>
              <a:rPr b="1" lang="ru-RU" sz="2000" spc="-1" strike="noStrike">
                <a:solidFill>
                  <a:srgbClr val="3b3b3b"/>
                </a:solidFill>
                <a:latin typeface="Constantia"/>
              </a:rPr>
              <a:t>Неречевая симптоматика: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неврологические нарушения, снижение работоспособности, отвлекаемость, гиперактивность, снижение объема памяти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3b3b3b"/>
                </a:solidFill>
                <a:latin typeface="Constantia"/>
              </a:rPr>
              <a:t>СДВГ и д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nstantia"/>
              </a:rPr>
              <a:t>Причины нарушения  письм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Левое и правое полуш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9" descr="I:\фото из презентации\Рисунок4.jpg"/>
          <p:cNvPicPr/>
          <p:nvPr/>
        </p:nvPicPr>
        <p:blipFill>
          <a:blip r:embed="rId2"/>
          <a:stretch/>
        </p:blipFill>
        <p:spPr>
          <a:xfrm>
            <a:off x="1258920" y="1773360"/>
            <a:ext cx="6626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8353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Взаимосвязь полушарий головного мозга</a:t>
            </a:r>
            <a:br>
              <a:rPr sz="4000"/>
            </a:br>
            <a:r>
              <a:rPr b="0" lang="ru-RU" sz="2000" spc="-1" strike="noStrike">
                <a:solidFill>
                  <a:srgbClr val="646464"/>
                </a:solidFill>
                <a:latin typeface="Arial"/>
              </a:rPr>
              <a:t>Неравномерное развитие полушарий головного мозга так же может быть причиной дисграфии. Центр речи у людей находится в левом полушарии. Правое отвечает за правильное восприятие символов и образов. Ребенок с дисграфией с трудом осваивает письмо, но хорошо рисует.</a:t>
            </a:r>
            <a:br>
              <a:rPr sz="4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7" descr="I:\фото из презентации\Рисунок5.jpg"/>
          <p:cNvPicPr/>
          <p:nvPr/>
        </p:nvPicPr>
        <p:blipFill>
          <a:blip r:embed="rId2"/>
          <a:stretch/>
        </p:blipFill>
        <p:spPr>
          <a:xfrm>
            <a:off x="5076720" y="3284640"/>
            <a:ext cx="3456000" cy="22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:\фото из презентации\Рисунок3.jpg"/>
          <p:cNvPicPr/>
          <p:nvPr/>
        </p:nvPicPr>
        <p:blipFill>
          <a:blip r:embed="rId3"/>
          <a:stretch/>
        </p:blipFill>
        <p:spPr>
          <a:xfrm>
            <a:off x="360360" y="2263680"/>
            <a:ext cx="4498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Недостаточное формирование сложных по структуре и многоуровневых по организации двигательных навыков пись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Особенности формирования когнитивного компонента навыков письм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- несформированность пространственных представлени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- недостатки в развитии процессов звукобуквенного анализа и синтеза и фонетико-фонематического восприятия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- недостатки в развитии познавательных процессов (зрительный анализ, мыслительная деятельность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Недостатки в формировании регуляторного компонента навыков письма (несформированность процессов самоконтроля и саморегуляции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3b3b3b"/>
                </a:solidFill>
                <a:latin typeface="Verdana"/>
              </a:rPr>
              <a:t>Особенности темперамента учащихся, отражающие своеобразие природной организации их нервной систем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0920" y="27792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Основные группы трудносте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Работы учеников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9" descr="I:\фото из презентации\Рисунок10.jpg"/>
          <p:cNvPicPr/>
          <p:nvPr/>
        </p:nvPicPr>
        <p:blipFill>
          <a:blip r:embed="rId2"/>
          <a:stretch/>
        </p:blipFill>
        <p:spPr>
          <a:xfrm>
            <a:off x="2266920" y="1459080"/>
            <a:ext cx="4608720" cy="176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:\фото из презентации\Рисунок6.jpg"/>
          <p:cNvPicPr/>
          <p:nvPr/>
        </p:nvPicPr>
        <p:blipFill>
          <a:blip r:embed="rId3"/>
          <a:stretch/>
        </p:blipFill>
        <p:spPr>
          <a:xfrm>
            <a:off x="3995640" y="3716280"/>
            <a:ext cx="4500720" cy="246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I:\фото из презентации\Рисунок7.jpg"/>
          <p:cNvPicPr/>
          <p:nvPr/>
        </p:nvPicPr>
        <p:blipFill>
          <a:blip r:embed="rId4"/>
          <a:stretch/>
        </p:blipFill>
        <p:spPr>
          <a:xfrm>
            <a:off x="222120" y="3573360"/>
            <a:ext cx="3279960" cy="30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I:\фото из презентации\Рисунок8.jpg"/>
          <p:cNvPicPr/>
          <p:nvPr/>
        </p:nvPicPr>
        <p:blipFill>
          <a:blip r:embed="rId5"/>
          <a:stretch/>
        </p:blipFill>
        <p:spPr>
          <a:xfrm>
            <a:off x="196920" y="765000"/>
            <a:ext cx="2716200" cy="314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:\фото из презентации\Рисунок9.jpg"/>
          <p:cNvPicPr/>
          <p:nvPr/>
        </p:nvPicPr>
        <p:blipFill>
          <a:blip r:embed="rId6"/>
          <a:stretch/>
        </p:blipFill>
        <p:spPr>
          <a:xfrm>
            <a:off x="4984920" y="979560"/>
            <a:ext cx="367344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0:52:36Z</dcterms:created>
  <dc:creator>Admin</dc:creator>
  <dc:description/>
  <dc:language>en-US</dc:language>
  <cp:lastModifiedBy>логопед</cp:lastModifiedBy>
  <dcterms:modified xsi:type="dcterms:W3CDTF">2018-01-09T19:03:17Z</dcterms:modified>
  <cp:revision>46</cp:revision>
  <dc:subject/>
  <dc:title>Коррекция  устной и письменной речи учащихся начальных классов</dc:title>
</cp:coreProperties>
</file>