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DFC-5A28-45AE-A39E-D1273CA1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2D8-9A63-4266-BB7E-97482F93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336-FD29-48A5-AE66-64C38318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B90-188D-4A87-971E-3C77F780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0DB-1AD2-4970-86ED-6CEF8C6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2B1-45F6-4A75-AD88-32036504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7EF-394B-4BE3-A9F3-B0F7A82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BF3-8491-44AE-9189-C5B397C0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094-EAE5-4EE9-A0BE-FF7F6E08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368-A50A-4702-B138-AD8B0EB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23E-D464-4803-A9D7-2782459E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F18-D51E-4A59-921C-AB4551C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0120-2ED3-44C8-8A0F-C5628F29D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artins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 11.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684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3" descr="http://sluzhenie.tomsk.ru/wp-content/uploads/2009/10/Martin_Milostivy_ib1908.jpg"/>
          <p:cNvPicPr/>
          <p:nvPr/>
        </p:nvPicPr>
        <p:blipFill>
          <a:blip r:embed="rId1"/>
          <a:stretch/>
        </p:blipFill>
        <p:spPr>
          <a:xfrm>
            <a:off x="4572000" y="148428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9" descr="http://protectacow.typepad.com/goshalla/images/france_021.jpg"/>
          <p:cNvPicPr/>
          <p:nvPr/>
        </p:nvPicPr>
        <p:blipFill>
          <a:blip r:embed="rId1"/>
          <a:stretch/>
        </p:blipFill>
        <p:spPr>
          <a:xfrm>
            <a:off x="1476360" y="33336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пископТурски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00800" y="1557360"/>
            <a:ext cx="2743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http://www.wga.hu/art/m/master/zunk_hu/zunk_hu1/04martin.jpg"/>
          <p:cNvPicPr/>
          <p:nvPr/>
        </p:nvPicPr>
        <p:blipFill>
          <a:blip r:embed="rId1"/>
          <a:stretch/>
        </p:blipFill>
        <p:spPr>
          <a:xfrm>
            <a:off x="1116000" y="260280"/>
            <a:ext cx="734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warze Su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5" descr="http://fudz.ru/pictures/1226266700.jpg"/>
          <p:cNvPicPr/>
          <p:nvPr/>
        </p:nvPicPr>
        <p:blipFill>
          <a:blip r:embed="rId1"/>
          <a:stretch/>
        </p:blipFill>
        <p:spPr>
          <a:xfrm>
            <a:off x="2195640" y="1773360"/>
            <a:ext cx="446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raditionelle Martinsga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9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185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ckmänn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8" descr=""/>
          <p:cNvPicPr/>
          <p:nvPr/>
        </p:nvPicPr>
        <p:blipFill>
          <a:blip r:embed="rId1"/>
          <a:stretch/>
        </p:blipFill>
        <p:spPr>
          <a:xfrm>
            <a:off x="0" y="1600200"/>
            <a:ext cx="3681360" cy="4924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1" descr=""/>
          <p:cNvPicPr/>
          <p:nvPr/>
        </p:nvPicPr>
        <p:blipFill>
          <a:blip r:embed="rId2"/>
          <a:stretch/>
        </p:blipFill>
        <p:spPr>
          <a:xfrm>
            <a:off x="5105520" y="1628640"/>
            <a:ext cx="4038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"/>
          <p:cNvPicPr/>
          <p:nvPr/>
        </p:nvPicPr>
        <p:blipFill>
          <a:blip r:embed="rId1"/>
          <a:stretch/>
        </p:blipFill>
        <p:spPr>
          <a:xfrm>
            <a:off x="1192320" y="549360"/>
            <a:ext cx="71960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aternenumzu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http://fr.academic.ru/pictures/frwiki/69/Erfurt_-_Martinstag.jpg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775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23:03Z</dcterms:created>
  <dc:creator>Nataly</dc:creator>
  <dc:description/>
  <dc:language>en-US</dc:language>
  <cp:lastModifiedBy>Nataly</cp:lastModifiedBy>
  <dcterms:modified xsi:type="dcterms:W3CDTF">2015-08-18T20:09:17Z</dcterms:modified>
  <cp:revision>17</cp:revision>
  <dc:subject/>
  <dc:title>Martinstag День Святого Мартина</dc:title>
</cp:coreProperties>
</file>