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BFE-8161-490E-A89E-A1178232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7C8-5F1C-48A7-8709-5F91EC7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485-11A3-45A0-A564-66E651AB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7D7-4547-4DC7-844C-AF952EAD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2A9-2CDD-46D4-9F44-FC37C10D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A43-C2C0-41E3-864E-5A687800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00D-8CFD-4DB9-9CF2-3EE9B7CC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894-F0D0-4BDA-B10F-66E4B2BE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292-BA97-4213-BBBE-CCDD0C81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8B1-E423-4CBB-8347-535F63AF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A42-ED07-4575-AA42-9C95170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C63-69B3-4EA9-BDFF-D44D4C32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6338-A261-46AB-A397-82B245258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Martinsta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 11. 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68436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3" descr="http://sluzhenie.tomsk.ru/wp-content/uploads/2009/10/Martin_Milostivy_ib1908.jpg"/>
          <p:cNvPicPr/>
          <p:nvPr/>
        </p:nvPicPr>
        <p:blipFill>
          <a:blip r:embed="rId1"/>
          <a:stretch/>
        </p:blipFill>
        <p:spPr>
          <a:xfrm>
            <a:off x="4572000" y="1484280"/>
            <a:ext cx="403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9" descr="http://protectacow.typepad.com/goshalla/images/france_021.jpg"/>
          <p:cNvPicPr/>
          <p:nvPr/>
        </p:nvPicPr>
        <p:blipFill>
          <a:blip r:embed="rId1"/>
          <a:stretch/>
        </p:blipFill>
        <p:spPr>
          <a:xfrm>
            <a:off x="1476360" y="333360"/>
            <a:ext cx="66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пископТурский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00800" y="1557360"/>
            <a:ext cx="2743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0" descr="http://www.wga.hu/art/m/master/zunk_hu/zunk_hu1/04martin.jpg"/>
          <p:cNvPicPr/>
          <p:nvPr/>
        </p:nvPicPr>
        <p:blipFill>
          <a:blip r:embed="rId1"/>
          <a:stretch/>
        </p:blipFill>
        <p:spPr>
          <a:xfrm>
            <a:off x="1116000" y="260280"/>
            <a:ext cx="734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warze Su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5" descr="http://fudz.ru/pictures/1226266700.jpg"/>
          <p:cNvPicPr/>
          <p:nvPr/>
        </p:nvPicPr>
        <p:blipFill>
          <a:blip r:embed="rId1"/>
          <a:stretch/>
        </p:blipFill>
        <p:spPr>
          <a:xfrm>
            <a:off x="2195640" y="1773360"/>
            <a:ext cx="4464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raditionelle Martinsg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9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1850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eckmänn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8" descr=""/>
          <p:cNvPicPr/>
          <p:nvPr/>
        </p:nvPicPr>
        <p:blipFill>
          <a:blip r:embed="rId1"/>
          <a:stretch/>
        </p:blipFill>
        <p:spPr>
          <a:xfrm>
            <a:off x="0" y="1600200"/>
            <a:ext cx="3681360" cy="4924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1" descr=""/>
          <p:cNvPicPr/>
          <p:nvPr/>
        </p:nvPicPr>
        <p:blipFill>
          <a:blip r:embed="rId2"/>
          <a:stretch/>
        </p:blipFill>
        <p:spPr>
          <a:xfrm>
            <a:off x="5105520" y="1628640"/>
            <a:ext cx="40384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3" descr=""/>
          <p:cNvPicPr/>
          <p:nvPr/>
        </p:nvPicPr>
        <p:blipFill>
          <a:blip r:embed="rId1"/>
          <a:stretch/>
        </p:blipFill>
        <p:spPr>
          <a:xfrm>
            <a:off x="1192320" y="549360"/>
            <a:ext cx="71960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Laternenumzu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http://fr.academic.ru/pictures/frwiki/69/Erfurt_-_Martinstag.jpg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7756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23:03Z</dcterms:created>
  <dc:creator>Nataly</dc:creator>
  <dc:description/>
  <dc:language>en-US</dc:language>
  <cp:lastModifiedBy>Nataly</cp:lastModifiedBy>
  <dcterms:modified xsi:type="dcterms:W3CDTF">2015-08-18T20:09:17Z</dcterms:modified>
  <cp:revision>17</cp:revision>
  <dc:subject/>
  <dc:title>Martinstag День Святого Мартина</dc:title>
</cp:coreProperties>
</file>