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15634-5A7F-4E45-B8BB-748139777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DD245-EF27-40A8-809C-720FBF5D0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E9FE5-CCA8-49EB-B6E0-D6C365088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32972-5188-4A77-BA49-9A1292E12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02819-E676-42B7-AB67-F1EA47ED0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CD465-EA31-4077-AAC6-956F2BDAC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ECBD6-B76C-4B9C-977C-CD197DA79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2F78E-4BAE-487A-A26F-92ECC5A4E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DB8A3-4262-4078-835E-3661C6DE4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A31DF-FC19-4C46-A522-E78A46FFD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A2E93-E597-4F6A-8C37-0996E7A29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0A795-2472-4A4A-BD9A-36DF712DE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D90B4-6450-44E9-8692-01EF66DAE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95E7E-9CB3-43D8-BD12-653D81DDC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B0983-7039-41C9-96B5-3B573BC71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24912-6847-442D-9FAE-6939EEE64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57D88-F893-400D-967E-C242449F1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5FA672-4CD4-4C8E-8617-3CDD147B8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737302-3694-4834-ACD9-77D037A9E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F248F7-32A9-4D0D-BD0A-C43114AD1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DDF4D3-16F7-4B9D-A8D6-3EBE4995F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90994B-92BA-45A3-B18E-0F5A31769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8EFCF-59A7-46B9-931B-992871791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C45A93-397C-4756-A11A-747C05A50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88CCFF-A1BB-46D4-BAE3-15DE25FF8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215AC8-F10F-4AD3-A5D8-D8848405D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4FB466-7BC5-4641-850E-9B80DE466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3ECF7D-5D2A-4B21-AF8C-7F0A93942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2D715D-B78E-47A1-A185-4998476EF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6ADBE5-7027-4B02-9C67-63EE68E06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C197C2-DB32-48CE-BA0B-5CB3161F6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209E8D-8FE9-4F08-A3CA-43DD23AF4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5DC0AA-398F-4359-82C6-4F13677E8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4F32D-2B51-4C7C-B58B-0C0613761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E9CF31-75C2-48AB-AAA8-FFFB54F2E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6DE76A-87B7-4D46-8120-C1397F76D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98FE87-E04E-4E75-B774-2BA4F8429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BDA1CC-8865-4DE9-8B80-CF4CDFC2E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DA170C-4C6E-43E6-B6B8-8E40B6178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75BD65-B87A-440D-8554-D62E5B1A8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E8BC0B-E427-4B93-A527-25DFA36ED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234754-F23B-4CCB-A7BE-68D41DDD8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997635-C63B-4CC1-A2A0-EB1344FC7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990D1B-0380-4EE0-98FC-4B197C82C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D7928-5B8B-46C8-951D-7CD3A4B42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5224D8-8057-4E9E-AF62-F6A660090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B9AE95-F055-42F6-B820-0B2272934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0775B7-FA9E-4D76-A3BF-FCA91BC5E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B76222-545C-4FF9-9110-9FADCEB76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3E8730-3914-40C3-BD8E-0B45519FA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E35FD0-1212-4CC2-9DBF-FF391F697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ADCC98-39CA-4072-B447-9350142F3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C7ECDE-D02C-4763-879B-30C807E7E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0C5997-6BFA-46D8-923F-920B9B4F6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C50AF4-D3B5-422F-9F15-F8AD2C465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5A6DE-0323-4DFB-B777-B703349E1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688C4D-5DD6-462C-BCED-96772DB04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FB04E8-DDB1-4ADD-BBB5-0F4C35A02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83825C-3866-42B7-9BC6-FF5287C79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F0D118-567F-4FC4-B29E-47AFD2944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86692D-5E19-4C26-B719-6612EADE9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BEE944-EF6C-412F-A26E-CD8ADB9E3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088823-9DD9-4BCB-BF96-B9EFE9AE4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BF0EDD-67FA-4DE8-A15D-3182B5447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2D24E5-759A-4FCE-8432-81C395316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BEC87F-DA97-4CD2-89D5-CEC1FB1B7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5ED4A-EAC0-4379-B357-DA4EF1BC6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0552C8-1834-4D6B-9DF2-F87600A37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7A6A7B-677F-48BA-9848-3DAF78DC4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DA8CD6-2C40-48FC-9C5B-F4474D0DB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8BD48-4932-4654-903E-0BCBA567B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CC9E1-C114-4849-B026-60C1673EB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A9285-880E-4CEB-90B8-02109BE81C09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211A8-5717-48AF-B87E-37360F6B514C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CBD86-493F-46B9-8311-1EEE63EDD6BF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708C2-7BC1-4B0E-8837-D49D403B136C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BC738-8002-4C97-813C-4B79FFE88367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2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2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EA858-1F5B-4395-95F3-6CA5A111CD57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99680" y="1357200"/>
            <a:ext cx="828036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8d3e"/>
                </a:solidFill>
                <a:latin typeface="Verdana"/>
              </a:rPr>
              <a:t>Игровое занятие по  сказке «Теремок»</a:t>
            </a:r>
            <a:br>
              <a:rPr sz="3600"/>
            </a:br>
            <a:br>
              <a:rPr sz="3600"/>
            </a:br>
            <a:r>
              <a:rPr b="1" i="1" lang="ru-RU" sz="3600" spc="-1" strike="noStrike">
                <a:solidFill>
                  <a:srgbClr val="ff8d3e"/>
                </a:solidFill>
                <a:latin typeface="Verdana"/>
              </a:rPr>
              <a:t>Выполнила: Дементьева Галина Ивановна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/>
          </p:nvPr>
        </p:nvSpPr>
        <p:spPr>
          <a:xfrm>
            <a:off x="5028840" y="19810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-Я, мышка-норушка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-Я, лягушка-квакушка, а ты кто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-А я зайчик-побегайчик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-Иди к нам жить!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Заяц скок в теремок. Стали они втроём жить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1" name="Picture 7" descr="C:\Documents and Settings\GPGM1\Рабочий стол\Для Пети\Теремок\Russian fairy tale Teremok_ Page 7.files\7.jpg"/>
          <p:cNvPicPr/>
          <p:nvPr/>
        </p:nvPicPr>
        <p:blipFill>
          <a:blip r:embed="rId1"/>
          <a:stretch/>
        </p:blipFill>
        <p:spPr>
          <a:xfrm>
            <a:off x="1143000" y="1071720"/>
            <a:ext cx="3467160" cy="4452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/>
          </p:nvPr>
        </p:nvSpPr>
        <p:spPr>
          <a:xfrm>
            <a:off x="5105160" y="1981080"/>
            <a:ext cx="3352680" cy="41148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дёт лисичка-сестричка. Постучала в окошко и спрашивает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-Кто-кто в теремочке живёт, кто-кто в невысоком живёт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3" name="Picture 7" descr="C:\Documents and Settings\GPGM1\Рабочий стол\Для Пети\Теремок\Russian fairy tale Teremok_ Page 8.files\8.jpg"/>
          <p:cNvPicPr/>
          <p:nvPr/>
        </p:nvPicPr>
        <p:blipFill>
          <a:blip r:embed="rId1"/>
          <a:stretch/>
        </p:blipFill>
        <p:spPr>
          <a:xfrm>
            <a:off x="928800" y="1000080"/>
            <a:ext cx="3808440" cy="4630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/>
          </p:nvPr>
        </p:nvSpPr>
        <p:spPr>
          <a:xfrm>
            <a:off x="5105160" y="456840"/>
            <a:ext cx="3352680" cy="563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-Я, мышка-норушка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-Я, лягушка-квакушка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-Я, зайчик-побегайчик, а ты кто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-А я лисичка-сестричка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-Иди к нам жить!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Забралась лисичка в теремок. Стали они вчетвером жить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5" name="Picture 7" descr="C:\Documents and Settings\GPGM1\Рабочий стол\Для Пети\Теремок\Russian fairy tale Teremok_ Page 9.files\9.jpg"/>
          <p:cNvPicPr/>
          <p:nvPr/>
        </p:nvPicPr>
        <p:blipFill>
          <a:blip r:embed="rId1"/>
          <a:stretch/>
        </p:blipFill>
        <p:spPr>
          <a:xfrm>
            <a:off x="928800" y="714240"/>
            <a:ext cx="3859200" cy="4791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/>
          </p:nvPr>
        </p:nvSpPr>
        <p:spPr>
          <a:xfrm>
            <a:off x="5105160" y="1981080"/>
            <a:ext cx="3352680" cy="41148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ибежал волчок-серый бочок и спрашивает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-Кто-кто в теремочке живёт, кто-кто в невысоком живёт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7" name="Picture 7" descr="C:\Documents and Settings\GPGM1\Рабочий стол\Для Пети\Теремок\Russian fairy tale Teremok_ Page 11.files\11.jpg"/>
          <p:cNvPicPr/>
          <p:nvPr/>
        </p:nvPicPr>
        <p:blipFill>
          <a:blip r:embed="rId1"/>
          <a:stretch/>
        </p:blipFill>
        <p:spPr>
          <a:xfrm>
            <a:off x="928800" y="857160"/>
            <a:ext cx="3814560" cy="483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/>
          </p:nvPr>
        </p:nvSpPr>
        <p:spPr>
          <a:xfrm>
            <a:off x="5105160" y="456840"/>
            <a:ext cx="3352680" cy="563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-Я, мышка-норушка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-Я, лягушка-квакушка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-Я, зайчик-побегайчик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-Я, лисичка-сестричка, а ты кто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-А я волчок-серый бочок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-Иди к нам жить!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олк и влез в теремок. Стали они впятером жить. Вот они все в тереме живут, песни поют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9" name="Picture 14" descr="C:\Documents and Settings\GPGM1\Рабочий стол\Для Пети\Теремок\Russian fairy tale Teremok_ Page 10.files\10.jpg"/>
          <p:cNvPicPr/>
          <p:nvPr/>
        </p:nvPicPr>
        <p:blipFill>
          <a:blip r:embed="rId1"/>
          <a:stretch/>
        </p:blipFill>
        <p:spPr>
          <a:xfrm>
            <a:off x="1000080" y="571680"/>
            <a:ext cx="3855960" cy="495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/>
          </p:nvPr>
        </p:nvSpPr>
        <p:spPr>
          <a:xfrm>
            <a:off x="5409720" y="304920"/>
            <a:ext cx="3048120" cy="57909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7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Вдруг идёт мимо медведь косолапый. Увидел теремок, услыхал песни, остановился и заревел во всю мочь: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7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-Кто-кто в теремочке живёт, кто-кто в невысоком живёт?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7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-Я, мышка-норушка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7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-Я, лягушка-квакушка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7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-Я, зайчик-побегайчик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7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-Я, лисичка-сестричка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7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-Я волчок-серый бочок.,а ты кто?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7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-А я медведь косолапый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7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-Иди к нам жить!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7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1" name="Picture 8" descr="C:\Documents and Settings\GPGM1\Рабочий стол\Для Пети\Теремок\Russian fairy tale Teremok_ Page 12.files\12.jpg"/>
          <p:cNvPicPr/>
          <p:nvPr/>
        </p:nvPicPr>
        <p:blipFill>
          <a:blip r:embed="rId1"/>
          <a:stretch/>
        </p:blipFill>
        <p:spPr>
          <a:xfrm>
            <a:off x="714240" y="714240"/>
            <a:ext cx="4724640" cy="487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/>
          </p:nvPr>
        </p:nvSpPr>
        <p:spPr>
          <a:xfrm>
            <a:off x="5409720" y="304920"/>
            <a:ext cx="3048120" cy="57909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едведь и полез в теремок. Лез-лез, лез-лез – никак не мог влезть и говорит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-Я лучше у вас на крыше буду жить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-Да ты нас раздавишь!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-Нет, не раздавлю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-Ну так полезай!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лез медведь на крышу и только уселся, как затрещал теремок, упал на бок и развалилс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3" name="Picture 7" descr="C:\Documents and Settings\GPGM1\Рабочий стол\Для Пети\Теремок\Russian fairy tale Teremok_ Page 13.files\13.jpg"/>
          <p:cNvPicPr/>
          <p:nvPr/>
        </p:nvPicPr>
        <p:blipFill>
          <a:blip r:embed="rId1"/>
          <a:stretch/>
        </p:blipFill>
        <p:spPr>
          <a:xfrm>
            <a:off x="685800" y="762120"/>
            <a:ext cx="4648320" cy="492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/>
          </p:nvPr>
        </p:nvSpPr>
        <p:spPr>
          <a:xfrm>
            <a:off x="5409720" y="456840"/>
            <a:ext cx="3048120" cy="563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Еле-еле успели из него выскочить мышка-норушка, лягушка-квакушка, зайчик-побегайчик, лисичка-сестричка, волчок-серый бочок – все целые и невредимые. Принялись они брёвна носить, доски пилить – новый теремок строить. Лучше прежнего выстроили!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5" name="Picture 7" descr="C:\Documents and Settings\GPGM1\Рабочий стол\Для Пети\Теремок\Russian fairy tale Teremok_ Page 14.files\14.jpg"/>
          <p:cNvPicPr/>
          <p:nvPr/>
        </p:nvPicPr>
        <p:blipFill>
          <a:blip r:embed="rId1"/>
          <a:stretch/>
        </p:blipFill>
        <p:spPr>
          <a:xfrm>
            <a:off x="714240" y="642960"/>
            <a:ext cx="4469040" cy="504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«ТЕРЕМОК»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97" name="Picture 2" descr="C:\Users\Мвидео\Desktop\2012-05-08\013.jpg"/>
          <p:cNvPicPr/>
          <p:nvPr/>
        </p:nvPicPr>
        <p:blipFill>
          <a:blip r:embed="rId1"/>
          <a:stretch/>
        </p:blipFill>
        <p:spPr>
          <a:xfrm>
            <a:off x="1571760" y="1214280"/>
            <a:ext cx="6389640" cy="44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57120" y="257148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8d3e"/>
                </a:solidFill>
                <a:latin typeface="Verdana"/>
              </a:rPr>
              <a:t>Спасибо за внимание!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457200" y="785520"/>
            <a:ext cx="8229600" cy="53449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 algn="just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Цель.</a:t>
            </a:r>
            <a:r>
              <a:rPr b="0" i="1" lang="ru-RU" sz="18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Учить детей составлять рассказ при помощи мнемотаблиц связно, последовательно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Задачи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Verdana"/>
              </a:rPr>
              <a:t>Образовательные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учить воспроизводить последовательность действий при помощи метода моделирования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формировать знания детей о характерных признаках мышки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учить устанавливать причинно-следственные связи с помощью мнемотаблиц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Verdana"/>
              </a:rPr>
              <a:t>Развивающие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развивать умения детей в использовании мнемотаблиц - как вспомогательного средства для развития связной речи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развивать интонационную выразительность при воспроизведении отдельных слов и песенок героев сказки, творческую инициативу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развивать память, мышление, внимание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Verdana"/>
              </a:rPr>
              <a:t>Воспитвтельные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оспитывать интерес к русскому народному творчеству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обуждать в детях эмоциональную отзывчивость при рассказывании по мнемотаблицам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 txBox="1"/>
          <p:nvPr/>
        </p:nvSpPr>
        <p:spPr>
          <a:xfrm>
            <a:off x="457200" y="642960"/>
            <a:ext cx="8229600" cy="5487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 algn="just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Verdana"/>
              </a:rPr>
              <a:t>Оборудование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Мнемотаблица для рассказа о мышке, мнемотаблица к сказке «Теремок»; персонажи настольного театра по сказке «Теремок»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фартук – «теремок»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алфетки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арелки на каждого ребенка, в которые насыпаны разные виды крупы: манная, геркулесовая, рисовая, пшенная, гречневая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артинки-загадки про животных из сказок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СКАЗКА «ТЕРЕМОК»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69" name="Picture 7" descr="Russian fairy tale &quot;Teremok&quot;"/>
          <p:cNvPicPr/>
          <p:nvPr/>
        </p:nvPicPr>
        <p:blipFill>
          <a:blip r:embed="rId1"/>
          <a:stretch/>
        </p:blipFill>
        <p:spPr>
          <a:xfrm>
            <a:off x="2857680" y="1071720"/>
            <a:ext cx="3600360" cy="46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/>
          </p:nvPr>
        </p:nvSpPr>
        <p:spPr>
          <a:xfrm>
            <a:off x="5181480" y="1981080"/>
            <a:ext cx="3276720" cy="41148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тоял в поле теремок. Бежала мимо мышка-норушка. Увидела теремок, остановилась и спрашивает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1" name="Picture 7" descr="C:\Documents and Settings\GPGM1\Рабочий стол\Для Пети\Теремок\Russian fairy tale Teremok_ Page 2.files\2.jpg"/>
          <p:cNvPicPr/>
          <p:nvPr/>
        </p:nvPicPr>
        <p:blipFill>
          <a:blip r:embed="rId1"/>
          <a:stretch/>
        </p:blipFill>
        <p:spPr>
          <a:xfrm>
            <a:off x="1000080" y="857160"/>
            <a:ext cx="3672000" cy="4741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/>
          </p:nvPr>
        </p:nvSpPr>
        <p:spPr>
          <a:xfrm>
            <a:off x="5105160" y="1981080"/>
            <a:ext cx="3352680" cy="41148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-Кто-кто в теремочке живёт, кто-кто в невысоком живёт? Никто не отзывается. Вошла мышка в теремок и стала в нём жить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3" name="Picture 7" descr="C:\Documents and Settings\GPGM1\Рабочий стол\Для Пети\Теремок\Russian fairy tale Teremok_ Page 3.files\3.jpg"/>
          <p:cNvPicPr/>
          <p:nvPr/>
        </p:nvPicPr>
        <p:blipFill>
          <a:blip r:embed="rId1"/>
          <a:stretch/>
        </p:blipFill>
        <p:spPr>
          <a:xfrm>
            <a:off x="785880" y="642960"/>
            <a:ext cx="3801960" cy="488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/>
          </p:nvPr>
        </p:nvSpPr>
        <p:spPr>
          <a:xfrm>
            <a:off x="5105160" y="1981080"/>
            <a:ext cx="3352680" cy="41148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искакала к терему лягушка-квакушка и спрашивает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-кто-кто в теремочке живёт, кто-кто в невысоком живёт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5" name="Picture 7" descr="C:\Documents and Settings\GPGM1\Рабочий стол\Для Пети\Теремок\Russian fairy tale Teremok_ Page 4.files\4.jpg"/>
          <p:cNvPicPr/>
          <p:nvPr/>
        </p:nvPicPr>
        <p:blipFill>
          <a:blip r:embed="rId1"/>
          <a:stretch/>
        </p:blipFill>
        <p:spPr>
          <a:xfrm>
            <a:off x="928800" y="785880"/>
            <a:ext cx="3663720" cy="4667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/>
          </p:nvPr>
        </p:nvSpPr>
        <p:spPr>
          <a:xfrm>
            <a:off x="5105160" y="1981080"/>
            <a:ext cx="3352680" cy="41148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-Я мышка-норушка, а ты кто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-А я лягушка-квакушка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-Иди ко мне жить!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Лягушка прыгнула в теремок. Стали они жить вдвоём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7" name="Picture 7" descr="C:\Documents and Settings\GPGM1\Рабочий стол\Для Пети\Теремок\Russian fairy tale Teremok_ Page 5.files\5.jpg"/>
          <p:cNvPicPr/>
          <p:nvPr/>
        </p:nvPicPr>
        <p:blipFill>
          <a:blip r:embed="rId1"/>
          <a:stretch/>
        </p:blipFill>
        <p:spPr>
          <a:xfrm>
            <a:off x="1071720" y="1071720"/>
            <a:ext cx="3570120" cy="4595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/>
          </p:nvPr>
        </p:nvSpPr>
        <p:spPr>
          <a:xfrm>
            <a:off x="5105160" y="1981080"/>
            <a:ext cx="3352680" cy="41148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Бежал мимо зайчик-побегайчик. Остановился и спрашивает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-Кто-кто в теремочке живёт, кто-кто в невысоком живёт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9" name="Picture 7" descr="C:\Documents and Settings\GPGM1\Рабочий стол\Для Пети\Теремок\Russian fairy tale Teremok_ Page 6.files\6.jpg"/>
          <p:cNvPicPr/>
          <p:nvPr/>
        </p:nvPicPr>
        <p:blipFill>
          <a:blip r:embed="rId1"/>
          <a:stretch/>
        </p:blipFill>
        <p:spPr>
          <a:xfrm>
            <a:off x="1000080" y="928800"/>
            <a:ext cx="3619440" cy="45957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8T11:41:04Z</dcterms:created>
  <dc:creator>Мвидео</dc:creator>
  <dc:description/>
  <dc:language>en-US</dc:language>
  <cp:lastModifiedBy>Елена</cp:lastModifiedBy>
  <dcterms:modified xsi:type="dcterms:W3CDTF">2020-09-08T07:13:16Z</dcterms:modified>
  <cp:revision>13</cp:revision>
  <dc:subject/>
  <dc:title>УЧИМСЯ ПО СКАЗКЕ Развитие мышления с помощью мнемотехники</dc:title>
</cp:coreProperties>
</file>