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ED1-4B74-4FA9-B1A8-B9D3744B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8FC-CEED-48E7-8B0C-49821B6A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055-E2E3-48B9-82E8-FF102BE5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18B-60ED-47A3-8FD9-86D0224E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55AC-2C84-4C75-8689-FDC8DD8A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5309-23C5-4EDC-A559-88239F3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36FA-FBA8-4A90-9E63-28F3C11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35DA-55BE-4918-83C6-C0650B88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53B9-3CA1-4800-A310-1CCC5F5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157D-D528-4CB6-B08B-FAE4ECC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C309-CA6C-4F28-88BA-2131397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823-031D-4BD1-92D7-2DAA4EC0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034A-7A74-4BFF-9D08-83C3DB7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F795-7BA0-4952-A87D-EB2AFCC6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1A8-228A-468B-86B6-2E4AAF2F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79E7-F8D4-4221-BB4C-0FA87738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4F73-701E-4530-94CC-48C6CD22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2211-EAA2-4010-9469-2276F83C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2D470-91F6-41D1-8CC1-F306327D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AFCD-7AD6-4B07-8964-18DEE3D9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3105-3A10-48AF-8152-74CEB26F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A522-05B0-4DC0-A08B-BDCD1613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65F-74F5-4B07-9966-FE4EB889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8C34-2922-4789-B808-30B323B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DAF9-707F-44EF-B55E-81B59AED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2853-8582-4FDB-9536-0C3B459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0D4A0-D99E-4592-92B9-86F26617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9424-4880-4137-A9F0-0D0E276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91FF-85F0-4321-9C68-BB19AD2C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0597-D151-447E-857F-F41E3A63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91BE-373F-45C1-8E9B-EAD3B132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9959-0AA6-4568-BEF0-E87345D5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6CE8-E7EF-4435-B532-A4A1862F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78D-913B-4D6D-AE1B-9A36D45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ECFE-3342-4568-8DE8-D8A756A9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4A84-B9B7-41E4-B6C3-123D7F06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7263-780B-4881-BED1-D7A5A285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77AF-4396-43AE-ABE1-CFEFC49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2C069-BA5C-45D7-8139-46768D52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8E2A-F7DA-41BA-9817-BB7DB46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B813-EAC1-4501-B1A6-3EF910A8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B22D-7F8A-438E-9E01-4F368C6C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7872-A3D2-43C8-B6B8-62075C7F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E3CD1-A135-4BD0-9726-596055B7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D01-B42F-4A92-9F5F-8ED9B088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7A1A-7644-45E5-BF16-4385064B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E6AC0-3E7E-4E4E-9AF6-43F1F3E4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24A2-8940-4629-B87D-938AE260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6C83B-14D6-4D85-A67C-9E49D1C9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E232-D6C9-477D-B813-379491E5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B5BFF-18B7-4FE0-9D73-811B46CC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977B8-5644-4110-A5A4-71357CC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0B55F-B5AB-485E-84E0-F733800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4575E-BBD9-4EE7-A272-95A8A6CE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9A816-CBD6-47C5-968A-F679AB0F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EF3-FBA2-4EEC-BF2A-329191DE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5C3E-8A5D-4134-AFE9-8E6BEB8B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BAC8-2825-4D38-A054-3CA083A9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CC61-A9B2-4F17-A952-3C1D0411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9F4B-70B9-42FC-BA1F-A81C0CF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58F0A-CE59-4AD2-8285-A778241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851D3-D87C-4B68-8B6D-45CF9807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A761E-0C64-409E-A927-0C9EFCE4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5D62C-6B2B-4EB5-8C7F-D11C8FD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AEFBC-5333-4B24-9F79-59877D16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A21FD-B928-437F-A389-5097D1AF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5B5-1761-45E0-8148-5E052E8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A3687-F512-4AAC-A2DC-F03B36F4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21B51-BCB2-406B-B637-0E585750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0E7C1-A83C-45EC-9FB7-1CD9BEBE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DEE-A392-4E9B-9632-945C6D9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A25-A6B4-4934-B54E-5B84C0A4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2EDB-F09F-4CE2-8BD5-9DBB56800B1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1D32-8B3A-4078-83AD-FEDC5A6C0D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2F82-5DB6-4673-A273-122BF0473AC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8A50-E5F2-4B35-8433-172C34E441B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2983-0CEA-4111-9F16-411A2712ABB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E5B8-5E40-4CB4-873C-B8C1D3258D6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Игровое занятие по  сказке «Теремок»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Выполнила: Дементьева Галина Иванов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мышка-нор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лягушка-квакушка, а ты к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А я зайчик-побегайчи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Иди к нам 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яц скок в теремок. Стали они втроём ж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7" descr="C:\Documents and Settings\GPGM1\Рабочий стол\Для Пети\Теремок\Russian fairy tale Teremok_ Page 7.files\7.jpg"/>
          <p:cNvPicPr/>
          <p:nvPr/>
        </p:nvPicPr>
        <p:blipFill>
          <a:blip r:embed="rId1"/>
          <a:stretch/>
        </p:blipFill>
        <p:spPr>
          <a:xfrm>
            <a:off x="1143000" y="1071720"/>
            <a:ext cx="3467160" cy="44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ёт лисичка-сестричка. Постучала в окошко и спраш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C:\Documents and Settings\GPGM1\Рабочий стол\Для Пети\Теремок\Russian fairy tale Teremok_ Page 8.files\8.jpg"/>
          <p:cNvPicPr/>
          <p:nvPr/>
        </p:nvPicPr>
        <p:blipFill>
          <a:blip r:embed="rId1"/>
          <a:stretch/>
        </p:blipFill>
        <p:spPr>
          <a:xfrm>
            <a:off x="928800" y="1000080"/>
            <a:ext cx="380844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105160" y="456840"/>
            <a:ext cx="335268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мышка-нор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лягушка-квак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зайчик-побегайчик, а ты к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А я лисичка-сестрич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Иди к нам 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бралась лисичка в теремок. Стали они вчетвером ж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7" descr="C:\Documents and Settings\GPGM1\Рабочий стол\Для Пети\Теремок\Russian fairy tale Teremok_ Page 9.files\9.jpg"/>
          <p:cNvPicPr/>
          <p:nvPr/>
        </p:nvPicPr>
        <p:blipFill>
          <a:blip r:embed="rId1"/>
          <a:stretch/>
        </p:blipFill>
        <p:spPr>
          <a:xfrm>
            <a:off x="928800" y="714240"/>
            <a:ext cx="385920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бежал волчок-серый бочок и спраш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C:\Documents and Settings\GPGM1\Рабочий стол\Для Пети\Теремок\Russian fairy tale Teremok_ Page 11.files\11.jpg"/>
          <p:cNvPicPr/>
          <p:nvPr/>
        </p:nvPicPr>
        <p:blipFill>
          <a:blip r:embed="rId1"/>
          <a:stretch/>
        </p:blipFill>
        <p:spPr>
          <a:xfrm>
            <a:off x="928800" y="857160"/>
            <a:ext cx="381456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105160" y="456840"/>
            <a:ext cx="335268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мышка-нор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лягушка-квак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зайчик-побегайчи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лисичка-сестричка, а ты к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А я волчок-серый боч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Иди к нам 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лк и влез в теремок. Стали они впятером жить. Вот они все в тереме живут, песни по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4" descr="C:\Documents and Settings\GPGM1\Рабочий стол\Для Пети\Теремок\Russian fairy tale Teremok_ Page 10.files\10.jpg"/>
          <p:cNvPicPr/>
          <p:nvPr/>
        </p:nvPicPr>
        <p:blipFill>
          <a:blip r:embed="rId1"/>
          <a:stretch/>
        </p:blipFill>
        <p:spPr>
          <a:xfrm>
            <a:off x="1000080" y="571680"/>
            <a:ext cx="38559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409720" y="304920"/>
            <a:ext cx="3048120" cy="5790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друг идёт мимо медведь косолапый. Увидел теремок, услыхал песни, остановился и заревел во всю мочь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, мышка-норуш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, лягушка-квакуш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, зайчик-побегайчик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, лисичка-сестрич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 волчок-серый бочок.,а ты кто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А я медведь косолапы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Иди к нам жить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8" descr="C:\Documents and Settings\GPGM1\Рабочий стол\Для Пети\Теремок\Russian fairy tale Teremok_ Page 12.files\12.jpg"/>
          <p:cNvPicPr/>
          <p:nvPr/>
        </p:nvPicPr>
        <p:blipFill>
          <a:blip r:embed="rId1"/>
          <a:stretch/>
        </p:blipFill>
        <p:spPr>
          <a:xfrm>
            <a:off x="714240" y="714240"/>
            <a:ext cx="47246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409720" y="304920"/>
            <a:ext cx="3048120" cy="5790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ведь и полез в теремок. Лез-лез, лез-лез – никак не мог влезть и говори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 лучше у вас на крыше буду ж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Да ты нас раздавиш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Нет, не раздавл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Ну так полезай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ез медведь на крышу и только уселся, как затрещал теремок, упал на бок и развалил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7" descr="C:\Documents and Settings\GPGM1\Рабочий стол\Для Пети\Теремок\Russian fairy tale Teremok_ Page 13.files\13.jpg"/>
          <p:cNvPicPr/>
          <p:nvPr/>
        </p:nvPicPr>
        <p:blipFill>
          <a:blip r:embed="rId1"/>
          <a:stretch/>
        </p:blipFill>
        <p:spPr>
          <a:xfrm>
            <a:off x="685800" y="762120"/>
            <a:ext cx="4648320" cy="49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09720" y="456840"/>
            <a:ext cx="304812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ле-еле успели из него выскочить мышка-норушка, лягушка-квакушка, зайчик-побегайчик, лисичка-сестричка, волчок-серый бочок – все целые и невредимые. Принялись они брёвна носить, доски пилить – новый теремок строить. Лучше прежнего выстроили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7" descr="C:\Documents and Settings\GPGM1\Рабочий стол\Для Пети\Теремок\Russian fairy tale Teremok_ Page 14.files\14.jpg"/>
          <p:cNvPicPr/>
          <p:nvPr/>
        </p:nvPicPr>
        <p:blipFill>
          <a:blip r:embed="rId1"/>
          <a:stretch/>
        </p:blipFill>
        <p:spPr>
          <a:xfrm>
            <a:off x="714240" y="642960"/>
            <a:ext cx="446904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ТЕРЕМО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7" name="Picture 2" descr="C:\Users\Мвидео\Desktop\2012-05-08\013.jpg"/>
          <p:cNvPicPr/>
          <p:nvPr/>
        </p:nvPicPr>
        <p:blipFill>
          <a:blip r:embed="rId1"/>
          <a:stretch/>
        </p:blipFill>
        <p:spPr>
          <a:xfrm>
            <a:off x="1571760" y="1214280"/>
            <a:ext cx="63896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Цель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ь детей составлять рассказ при помощи мнемотаблиц связно, последователь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ь воспроизводить последовательность действий при помощи метода моделир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ть знания детей о характерных признаках мыш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ь устанавливать причинно-следственные связи с помощью мнемотабли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вать умения детей в использовании мнемотаблиц - как вспомогательного средства для развития связной реч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вать интонационную выразительность при воспроизведении отдельных слов и песенок героев сказки, творческую инициатив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вать память, мышление, внима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оспитвтельны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питывать интерес к русскому народному творчеств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буждать в детях эмоциональную отзывчивость при рассказывании по мнемотаблиц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64296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емотаблица для рассказа о мышке, мнемотаблица к сказке «Теремок»; персонажи настольного театра по сказке «Теремок»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ртук – «теремок»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алфет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релки на каждого ребенка, в которые насыпаны разные виды крупы: манная, геркулесовая, рисовая, пшенная, гречнева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ртинки-загадки про животных из сказ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КАЗКА «ТЕРЕМО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Picture 7" descr="Russian fairy tale &quot;Teremok&quot;"/>
          <p:cNvPicPr/>
          <p:nvPr/>
        </p:nvPicPr>
        <p:blipFill>
          <a:blip r:embed="rId1"/>
          <a:stretch/>
        </p:blipFill>
        <p:spPr>
          <a:xfrm>
            <a:off x="2857680" y="1071720"/>
            <a:ext cx="3600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оял в поле теремок. Бежала мимо мышка-норушка. Увидела теремок, остановилась и спраш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7" descr="C:\Documents and Settings\GPGM1\Рабочий стол\Для Пети\Теремок\Russian fairy tale Teremok_ Page 2.files\2.jpg"/>
          <p:cNvPicPr/>
          <p:nvPr/>
        </p:nvPicPr>
        <p:blipFill>
          <a:blip r:embed="rId1"/>
          <a:stretch/>
        </p:blipFill>
        <p:spPr>
          <a:xfrm>
            <a:off x="1000080" y="857160"/>
            <a:ext cx="367200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 Никто не отзывается. Вошла мышка в теремок и стала в нём ж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7" descr="C:\Documents and Settings\GPGM1\Рабочий стол\Для Пети\Теремок\Russian fairy tale Teremok_ Page 3.files\3.jpg"/>
          <p:cNvPicPr/>
          <p:nvPr/>
        </p:nvPicPr>
        <p:blipFill>
          <a:blip r:embed="rId1"/>
          <a:stretch/>
        </p:blipFill>
        <p:spPr>
          <a:xfrm>
            <a:off x="785880" y="642960"/>
            <a:ext cx="3801960" cy="48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скакала к терему лягушка-квакушка и спрашивает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7" descr="C:\Documents and Settings\GPGM1\Рабочий стол\Для Пети\Теремок\Russian fairy tale Teremok_ Page 4.files\4.jpg"/>
          <p:cNvPicPr/>
          <p:nvPr/>
        </p:nvPicPr>
        <p:blipFill>
          <a:blip r:embed="rId1"/>
          <a:stretch/>
        </p:blipFill>
        <p:spPr>
          <a:xfrm>
            <a:off x="928800" y="785880"/>
            <a:ext cx="3663720" cy="46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 мышка-норушка, а ты к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А я лягушка-квак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Иди ко мне 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ягушка прыгнула в теремок. Стали они жить вдвоё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7" descr="C:\Documents and Settings\GPGM1\Рабочий стол\Для Пети\Теремок\Russian fairy tale Teremok_ Page 5.files\5.jpg"/>
          <p:cNvPicPr/>
          <p:nvPr/>
        </p:nvPicPr>
        <p:blipFill>
          <a:blip r:embed="rId1"/>
          <a:stretch/>
        </p:blipFill>
        <p:spPr>
          <a:xfrm>
            <a:off x="1071720" y="1071720"/>
            <a:ext cx="357012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жал мимо зайчик-побегайчик. Остановился и спраш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7" descr="C:\Documents and Settings\GPGM1\Рабочий стол\Для Пети\Теремок\Russian fairy tale Teremok_ Page 6.files\6.jpg"/>
          <p:cNvPicPr/>
          <p:nvPr/>
        </p:nvPicPr>
        <p:blipFill>
          <a:blip r:embed="rId1"/>
          <a:stretch/>
        </p:blipFill>
        <p:spPr>
          <a:xfrm>
            <a:off x="1000080" y="928800"/>
            <a:ext cx="36194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1:41:04Z</dcterms:created>
  <dc:creator>Мвидео</dc:creator>
  <dc:description/>
  <dc:language>en-US</dc:language>
  <cp:lastModifiedBy>Елена</cp:lastModifiedBy>
  <dcterms:modified xsi:type="dcterms:W3CDTF">2020-09-08T07:13:16Z</dcterms:modified>
  <cp:revision>13</cp:revision>
  <dc:subject/>
  <dc:title>УЧИМСЯ ПО СКАЗКЕ Развитие мышления с помощью мнемотехники</dc:title>
</cp:coreProperties>
</file>