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613-1A64-46AE-A588-24EA4DDE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1A7-7C93-4544-B708-9F41B019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C8E-14AB-4836-B0AF-7F49D9F7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3EE-6E15-401C-BC07-8113FA08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99E7-F849-4DC1-95EE-5D57A923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2059-1259-41A4-BA55-C7020B0D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3639-B2E0-4403-89EB-657F5825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6A70-40ED-4A43-BBB6-DDF67D0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A535-D785-4359-BC3B-B63395A0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6266-B68C-4054-ACC0-80D875CD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31CB-F5D8-4821-AAD6-156E519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6DF-174F-4867-8C85-3D90C4D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8251-E8ED-4CE6-AE01-F3B9709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E72C-1DFF-4566-B234-44C1E3B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7BF6-A63D-46E1-B834-C1B0DC9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C25-F312-4DBF-B77F-B304312D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A773-5B10-451E-B80A-54A1D61C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F290-06C1-42E4-8928-9A97F7A8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3240-AC44-4E57-A748-1324ED5D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FD41-E9F2-412A-B281-8AEFB0E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C71E-EB71-434F-A58F-D52DD213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A408-FFE5-4DFA-9CCD-A8D3A86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B83-8B36-42D6-B1D3-2272E65F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3E96-59E9-4399-A99D-26C70F7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6E7B-A411-424D-9093-2186C72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30B7-566D-441A-8399-D545E0D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A4DD-670C-447C-9449-6EFF952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36D0-32AE-4FAD-8317-997BAE3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06D5-2962-43B5-853D-E660C504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0B3C-3151-4066-BB9E-6684666E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0BD8-E28A-41F9-94D8-BC3C46BE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1843-774A-483F-BD1E-C715AAEB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A852-38A3-432B-B86E-CB510508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472-2B7D-448A-9223-7481F63E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154E-F6E2-4F0A-9AE5-886606A7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033D-B39A-4F82-9D87-F27C4E64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0468-C630-4F2E-92B2-57E855F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D52A-679A-4F8D-A451-9BF1736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3BD0-1F80-4118-8332-7A73752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2ACB-76CA-455A-85C2-A748D47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982E-BB76-4857-9E53-CDC90DF3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BCC1-2380-439C-9DD5-DBDE1BBA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D5C6-D2AF-43F6-907D-0C79F253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74B-9CB7-443C-ACAD-D122386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8D7-DCD6-4480-BE6F-3B8711F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ACC-734F-43B9-9487-F97F9FE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D13-C74C-48AB-A8BA-8823650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E38-FDBE-4DD4-BE0E-2858858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161C-E0D9-419C-8B26-D0C5081E6550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81FC-9F66-4EB5-81CC-B2C8ED9861D0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4F5B-5295-43FB-8BB3-03F6F377E74F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0EC0-5262-49BE-9861-9C5D82E0A1E1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135720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Развитие профессиональной компетенции по проблеме использования системы методов и приёмов мнемотехники, обеспечивающих эффективное запоминание, сохранение и воспроизведение информации детей младшего дошкольного возраста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Выполнила: Дементьева Галина Ивановн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Users\Мвидео\Desktop\2012-05-08\020.jpg"/>
          <p:cNvPicPr/>
          <p:nvPr/>
        </p:nvPicPr>
        <p:blipFill>
          <a:blip r:embed="rId1"/>
          <a:stretch/>
        </p:blipFill>
        <p:spPr>
          <a:xfrm>
            <a:off x="2214720" y="1000080"/>
            <a:ext cx="48812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Мвидео\Desktop\2012-05-08\021.jpg"/>
          <p:cNvPicPr/>
          <p:nvPr/>
        </p:nvPicPr>
        <p:blipFill>
          <a:blip r:embed="rId1"/>
          <a:stretch/>
        </p:blipFill>
        <p:spPr>
          <a:xfrm>
            <a:off x="2357280" y="988920"/>
            <a:ext cx="49514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Мвидео\Desktop\2012-05-08\022.jpg"/>
          <p:cNvPicPr/>
          <p:nvPr/>
        </p:nvPicPr>
        <p:blipFill>
          <a:blip r:embed="rId1"/>
          <a:stretch/>
        </p:blipFill>
        <p:spPr>
          <a:xfrm>
            <a:off x="2500200" y="1000080"/>
            <a:ext cx="4537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Мвидео\Desktop\2012-05-08\017.jpg"/>
          <p:cNvPicPr/>
          <p:nvPr/>
        </p:nvPicPr>
        <p:blipFill>
          <a:blip r:embed="rId1"/>
          <a:stretch/>
        </p:blipFill>
        <p:spPr>
          <a:xfrm>
            <a:off x="2428920" y="1108080"/>
            <a:ext cx="523872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Мвидео\Desktop\2012-05-08\019.jpg"/>
          <p:cNvPicPr/>
          <p:nvPr/>
        </p:nvPicPr>
        <p:blipFill>
          <a:blip r:embed="rId1"/>
          <a:stretch/>
        </p:blipFill>
        <p:spPr>
          <a:xfrm>
            <a:off x="2184480" y="1000080"/>
            <a:ext cx="53402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353880" y="2567160"/>
            <a:ext cx="8313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928880"/>
            <a:ext cx="822960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Constantia"/>
              </a:rPr>
              <a:t>Мнемотехника</a:t>
            </a:r>
            <a:r>
              <a:rPr b="0" lang="ru-RU" sz="32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(в  переводе  с греческого «искусство  запоминания»), это  система  различных  приемов, облегчающих  запоминание  и  увеличивающих  объем  памяти  путем  образования  дополнительных  ассоциац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немотаблица – это схема, в которую заложена определенная информация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владение приёмами работы с мнемотаблицами значительно сокращает время обучения и одновременно решает задачи, направленные н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витие основных психических процессов – памяти, внимания, образного мышл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ерекодирование информации, т. е. преобразование из абстрактных символов в образ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витие мелкой моторики рук при частичном или полном графическом воспроизвед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-23760" y="189000"/>
            <a:ext cx="8923320" cy="871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Мвидео\Downloads\vityukarr_masha_i_medved_01.jpg"/>
          <p:cNvPicPr/>
          <p:nvPr/>
        </p:nvPicPr>
        <p:blipFill>
          <a:blip r:embed="rId2"/>
          <a:stretch/>
        </p:blipFill>
        <p:spPr>
          <a:xfrm>
            <a:off x="468360" y="1197000"/>
            <a:ext cx="8207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109440" y="-2376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Мвидео\Desktop\2012-05-08\023.jpg"/>
          <p:cNvPicPr/>
          <p:nvPr/>
        </p:nvPicPr>
        <p:blipFill>
          <a:blip r:embed="rId2"/>
          <a:stretch/>
        </p:blipFill>
        <p:spPr>
          <a:xfrm>
            <a:off x="468360" y="1052640"/>
            <a:ext cx="820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109440" y="4284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Мвидео\Downloads\Oleg_Ramodingusi_lebedi_01.jpg"/>
          <p:cNvPicPr/>
          <p:nvPr/>
        </p:nvPicPr>
        <p:blipFill>
          <a:blip r:embed="rId2"/>
          <a:stretch/>
        </p:blipFill>
        <p:spPr>
          <a:xfrm>
            <a:off x="468360" y="1052640"/>
            <a:ext cx="8207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09440" y="4284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Мвидео\Downloads\Oleg_Ramodingusi_lebedi_02.jpg"/>
          <p:cNvPicPr/>
          <p:nvPr/>
        </p:nvPicPr>
        <p:blipFill>
          <a:blip r:embed="rId2"/>
          <a:stretch/>
        </p:blipFill>
        <p:spPr>
          <a:xfrm>
            <a:off x="468360" y="98100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109440" y="-23760"/>
            <a:ext cx="8583840" cy="871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Мвидео\Downloads\Oleg_Ramodingusi_lebedi_03.jpg"/>
          <p:cNvPicPr/>
          <p:nvPr/>
        </p:nvPicPr>
        <p:blipFill>
          <a:blip r:embed="rId2"/>
          <a:stretch/>
        </p:blipFill>
        <p:spPr>
          <a:xfrm>
            <a:off x="539640" y="981000"/>
            <a:ext cx="813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Мвидео\Downloads\skaska_rus_nar_n.motuz_001.jpg"/>
          <p:cNvPicPr/>
          <p:nvPr/>
        </p:nvPicPr>
        <p:blipFill>
          <a:blip r:embed="rId1"/>
          <a:stretch/>
        </p:blipFill>
        <p:spPr>
          <a:xfrm>
            <a:off x="857160" y="928800"/>
            <a:ext cx="73915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1:41:04Z</dcterms:created>
  <dc:creator>Мвидео</dc:creator>
  <dc:description/>
  <dc:language>en-US</dc:language>
  <cp:lastModifiedBy>Елена</cp:lastModifiedBy>
  <dcterms:modified xsi:type="dcterms:W3CDTF">2020-09-08T07:01:28Z</dcterms:modified>
  <cp:revision>12</cp:revision>
  <dc:subject/>
  <dc:title>УЧИМСЯ ПО СКАЗКЕ Развитие мышления с помощью мнемотехники</dc:title>
</cp:coreProperties>
</file>