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FB8-EB53-4C8A-8A7F-3706B7A6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E59-9B05-4EB5-800A-C07E351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643-4A11-4C21-8A85-214C51D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484-9E74-4E4D-BBE1-86A81632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D813-CC89-40C1-9A3C-F56557C1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108-446A-4E5B-9578-B71849F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9C7C-56EC-451E-A061-866CA9C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DC3-1D63-4133-A697-D7B80D4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985-D384-4720-ACE9-A74070CC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1E7-D1A4-4A6C-8519-0C1C786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EDE0-1745-4A05-949D-9FA6BEE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15E-97DB-4838-AAFC-8540504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78CB-740A-4C48-AF73-A4E19CA8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0FB-CB12-43D4-AD91-905D6C35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2E0-47AD-48F4-AD10-439C9D56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DBAA-D5AB-401F-95C9-A546D3C0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E8FA-3119-47D5-A3CB-0E065E55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758D-48AC-428E-8BEE-0E977B35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FAAE-4250-44EC-8EC2-7D1C734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DE2E-0CE8-465E-91BE-164631D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59EB-D8E4-4F9E-AA08-5073575C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532B-C296-46FC-8714-B1D268F3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378-5BE3-415B-B9C1-4215B5A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CB33-F230-45FB-82A8-F5AD090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045A-A6C6-4CCB-B321-ED55576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1CAE-8CC7-4684-A353-1280FA1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5072-2550-468C-B169-B750FB2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5996-BA1E-44D7-AAAC-CBD61D53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31C1-7906-48CE-817B-9A8C0B6C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3DF8-A33A-4C26-A3BB-3B5325A5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399A-7FFC-4679-8012-57C869B1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513D-2FA2-4AEC-85D7-8092D3E3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FBE4-51E1-4105-A1F6-9BA7DE1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1AC-9ED0-463D-9F85-0F6D684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4320-DA0B-4691-A0FF-840D617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9CF2-C372-4A4C-A8B8-FAF3333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FA7E-A4D1-47F7-889D-F11F3D7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ACE0-C427-4383-8F71-AC1C4EB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6CFD2-AE8D-4E18-A031-B140429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DA01-95E6-404E-A1D6-6A8F2CA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CE06-A3C8-420F-8F54-CAF4265B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2DDD-CCAA-4B14-BB31-75B2A452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B0DF-2804-43CC-9507-D8334E4E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0AD-668A-4534-95E0-08CCDAE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811-294E-4F3E-8464-1F50A8CC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C00-DD43-406B-9C92-F75B7D8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D16-91B4-4EF8-9FDB-38077C8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676-789F-43E6-AF47-298AD70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F92C-740F-495D-86BF-7FC0C5C95D3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D40-F5D1-4A57-968B-F9D6E3B728F9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0CC-8487-4279-9702-1BB8C1C0991A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17C-46A0-4353-92E9-8D2D92CC4F2E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135720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Развитие профессиональной компетенции по проблеме использования системы методов и приёмов мнемотехники, обеспечивающих эффективное запоминание, сохранение и воспроизведение информации детей младшего дошкольного возраста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Выполнила: Дементьева Галина Ивановн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Мвидео\Desktop\2012-05-08\020.jpg"/>
          <p:cNvPicPr/>
          <p:nvPr/>
        </p:nvPicPr>
        <p:blipFill>
          <a:blip r:embed="rId1"/>
          <a:stretch/>
        </p:blipFill>
        <p:spPr>
          <a:xfrm>
            <a:off x="2214720" y="1000080"/>
            <a:ext cx="48812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Мвидео\Desktop\2012-05-08\021.jpg"/>
          <p:cNvPicPr/>
          <p:nvPr/>
        </p:nvPicPr>
        <p:blipFill>
          <a:blip r:embed="rId1"/>
          <a:stretch/>
        </p:blipFill>
        <p:spPr>
          <a:xfrm>
            <a:off x="2357280" y="988920"/>
            <a:ext cx="49514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Мвидео\Desktop\2012-05-08\022.jpg"/>
          <p:cNvPicPr/>
          <p:nvPr/>
        </p:nvPicPr>
        <p:blipFill>
          <a:blip r:embed="rId1"/>
          <a:stretch/>
        </p:blipFill>
        <p:spPr>
          <a:xfrm>
            <a:off x="2500200" y="1000080"/>
            <a:ext cx="4537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Мвидео\Desktop\2012-05-08\017.jpg"/>
          <p:cNvPicPr/>
          <p:nvPr/>
        </p:nvPicPr>
        <p:blipFill>
          <a:blip r:embed="rId1"/>
          <a:stretch/>
        </p:blipFill>
        <p:spPr>
          <a:xfrm>
            <a:off x="2428920" y="1108080"/>
            <a:ext cx="52387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Мвидео\Desktop\2012-05-08\019.jpg"/>
          <p:cNvPicPr/>
          <p:nvPr/>
        </p:nvPicPr>
        <p:blipFill>
          <a:blip r:embed="rId1"/>
          <a:stretch/>
        </p:blipFill>
        <p:spPr>
          <a:xfrm>
            <a:off x="2184480" y="1000080"/>
            <a:ext cx="53402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353880" y="2567160"/>
            <a:ext cx="831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Constantia"/>
              </a:rPr>
              <a:t>Мнемотехника</a:t>
            </a:r>
            <a:r>
              <a:rPr b="0" lang="ru-RU" sz="32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(в  переводе  с греческого «искусство  запоминания»), это  система  различных  приемов, облегчающих  запоминание  и  увеличивающих  объем  памяти  путем  образования  дополнительных  ассоциац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немотаблица – это схема, в которую заложена определенная информация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владение приёмами работы с мнемотаблицами значительно сокращает время обучения и одновременно решает задачи, направленные н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итие основных психических процессов – памяти, внимания, образного мышл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ерекодирование информации, т. е. преобразование из абстрактных символов в образ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итие мелкой моторики рук при частичном или полном графическом воспроизвед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-23760" y="189000"/>
            <a:ext cx="8923320" cy="871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Мвидео\Downloads\vityukarr_masha_i_medved_01.jpg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Мвидео\Desktop\2012-05-08\023.jpg"/>
          <p:cNvPicPr/>
          <p:nvPr/>
        </p:nvPicPr>
        <p:blipFill>
          <a:blip r:embed="rId2"/>
          <a:stretch/>
        </p:blipFill>
        <p:spPr>
          <a:xfrm>
            <a:off x="468360" y="105264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Мвидео\Downloads\Oleg_Ramodingusi_lebedi_01.jpg"/>
          <p:cNvPicPr/>
          <p:nvPr/>
        </p:nvPicPr>
        <p:blipFill>
          <a:blip r:embed="rId2"/>
          <a:stretch/>
        </p:blipFill>
        <p:spPr>
          <a:xfrm>
            <a:off x="468360" y="1052640"/>
            <a:ext cx="8207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Мвидео\Downloads\Oleg_Ramodingusi_lebedi_02.jpg"/>
          <p:cNvPicPr/>
          <p:nvPr/>
        </p:nvPicPr>
        <p:blipFill>
          <a:blip r:embed="rId2"/>
          <a:stretch/>
        </p:blipFill>
        <p:spPr>
          <a:xfrm>
            <a:off x="468360" y="98100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Мвидео\Downloads\Oleg_Ramodingusi_lebedi_03.jpg"/>
          <p:cNvPicPr/>
          <p:nvPr/>
        </p:nvPicPr>
        <p:blipFill>
          <a:blip r:embed="rId2"/>
          <a:stretch/>
        </p:blipFill>
        <p:spPr>
          <a:xfrm>
            <a:off x="539640" y="981000"/>
            <a:ext cx="813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Мвидео\Downloads\skaska_rus_nar_n.motuz_001.jpg"/>
          <p:cNvPicPr/>
          <p:nvPr/>
        </p:nvPicPr>
        <p:blipFill>
          <a:blip r:embed="rId1"/>
          <a:stretch/>
        </p:blipFill>
        <p:spPr>
          <a:xfrm>
            <a:off x="857160" y="928800"/>
            <a:ext cx="73915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1:41:04Z</dcterms:created>
  <dc:creator>Мвидео</dc:creator>
  <dc:description/>
  <dc:language>en-US</dc:language>
  <cp:lastModifiedBy>Елена</cp:lastModifiedBy>
  <dcterms:modified xsi:type="dcterms:W3CDTF">2020-09-08T07:01:28Z</dcterms:modified>
  <cp:revision>12</cp:revision>
  <dc:subject/>
  <dc:title>УЧИМСЯ ПО СКАЗКЕ Развитие мышления с помощью мнемотехники</dc:title>
</cp:coreProperties>
</file>