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F294-590E-4B92-A862-9FB7BB09C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BAB1-D35A-4874-8025-23655145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1595-9B5C-4D09-955F-2A2A6A511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0B6E-5666-4BBC-B498-2C159FEAF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30E7-3882-42B7-BD95-253E8A1FC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4573-ED61-4C74-B419-0B958BCB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1F59-2F65-4394-9A96-8E04FA35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942A-A670-4730-9F20-158F375D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5F14-E33C-482A-9548-51CD7D70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2CAE-134B-4F15-8F23-1AADD377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C4A5-0E1C-4160-BE0A-C4B667F4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BAD2-F97B-493B-91BB-3ED91BBD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8E92-B6AF-4E94-80CC-7C0A0FCD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B60C-AD02-4228-B84C-EBFFA2DC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0111-6AB6-42DD-9474-465EABD1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9D49-667A-4C91-99D6-8C814C61D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8269-92FB-4BFC-8B4C-63C4B69CE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C81BA4-0829-44F2-BF36-96353D50A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605897-6E1A-40C6-A0D1-F26313A9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A8A7CD-DE98-4F63-8A96-12C42F75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53D1F0-D785-4962-9806-B846E220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70F9F7-88D4-4644-9046-CCB11599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8DAB-8CCA-48CB-86CF-6819664F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E48366-935A-4DFE-BA4D-2A0446C3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A08660-4D33-4F03-ABDE-640ACB04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E5A87C-9A32-4DEE-89F9-0694B0A7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667122-C7D1-4FA4-BB9A-0E44EA7E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F528AA-F485-4278-9D4E-9ECE5AA7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B132D7-692B-49B0-BA06-C2BBA7ECA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E777B5-08ED-44AB-A710-F2FA80A1A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D9432-F9C3-4D9A-B7FE-0583A3940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90189-6E8E-4E81-9910-2CF99771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E87A9-3B03-4BBC-A39A-4C8EBDA3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AD16-055B-4F16-8864-E86E3B81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A28AA-99E4-47B3-AF6C-DB268DC9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14C9C-3DC7-4A21-877B-76973F25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A9416-A3FB-417B-80BF-42740C40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9E3B7-95EF-462D-A4EE-02637602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25BB8-119B-4F41-B8AA-69583874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85034-7F03-4FDF-9477-BCD09358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10011-15A5-4BCB-B192-789CDC7A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6F54C-5366-403D-8627-7F4450F4C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7D041-206C-45FB-9676-941BB4DE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BC46B5-353A-4A76-A474-06D899423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A02E-B02C-4020-BC2A-46F57C9E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E67222-6C3D-4AB5-ABF4-1A66F25C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E886D7-AA80-4B32-A222-7C6BC7E1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C126A0-7E8E-4160-AF66-52318647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B9054F-803C-482C-A969-71F614D4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2DCEB5-C79C-4C88-BCDA-4695D1B6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045212-AD5A-4F85-BA5A-2D50DE57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832203-8580-4736-B743-08FA8D6E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32B624-22D4-4EE9-B3DD-BF51AEBE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51E07F-927B-4D93-82A3-7B69DBE8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5322DE-72A1-4A18-B3DC-4C2685323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F007-F8ED-4A5B-AB81-7793DA11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ABE25A-37EB-473E-9514-F5EBBC4CE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6B09C5-FCAA-4658-A91C-42DB4BD7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4FA871-681C-46B9-B48F-664449C1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D9202A-A8BC-4B5B-BF12-95275630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1E12D3-0667-49DC-9AA0-0C62292B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E9D7C5-6FCB-48BC-8DBE-38B81CD3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26120F-7CFA-4209-B397-F81244D2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F3808F-D02B-406C-A100-C01BF11F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F59F4C-F62E-4333-A116-17AF493A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BADF5D-F5AE-4AA1-964F-CE1E8052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B563-D16F-471F-9C6D-9BA67134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B05F97-CA4C-4771-9BB9-17F6BAAD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2A5261-F30B-4574-9481-897359504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F89F96-956F-416C-A58D-F270E1531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112894-DCF1-4E5D-A151-8709BC36B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24D0C7-558E-40D8-BA46-D97CA5B8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5B67A2-2A6C-4FDC-BAAF-86FD00C7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675403-8C0B-45B0-9793-4608969E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248A17-A379-4DC3-B53B-E0D63B43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4BC0DE-D47C-41BC-8533-4F00A5F7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83D35C-4D15-4E28-9833-69350899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F30E-E7F6-475C-B215-F6703691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042F7E-4F3D-4F45-BCDD-5C3C35CB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0EC18D-A2D5-4D00-B118-9AC2D4BD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FDA9C0-16AA-40AF-8611-3E6B52FF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FF24AF-C9ED-4E2E-991D-E9E697E49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889907-478F-4E30-A8D3-97683239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ED41-8F5C-4F8B-B977-19F6940F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c2c7"/>
            </a:gs>
            <a:gs pos="100000">
              <a:srgbClr val="effafd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8ADB-624B-4FCA-8B33-817F2D1CF30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c2c7"/>
            </a:gs>
            <a:gs pos="100000">
              <a:srgbClr val="effafd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dced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de0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de0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f0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dcedc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f0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dcedc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dced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CECC-9B8E-4501-B2A0-9F26F98056B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c2c7"/>
            </a:gs>
            <a:gs pos="100000">
              <a:srgbClr val="effafd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3105-91C1-45B4-A12F-0BB5A143221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c2c7"/>
            </a:gs>
            <a:gs pos="100000">
              <a:srgbClr val="effafd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dced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de0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de0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f0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dcedc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f0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dcedc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dced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4B54-B77B-4803-8D4D-6FE09DADC12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c2c7"/>
            </a:gs>
            <a:gs pos="100000">
              <a:srgbClr val="effafd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C52D-7229-49A2-937C-37E95B02988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c2c7"/>
            </a:gs>
            <a:gs pos="100000">
              <a:srgbClr val="effafd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3D8E-D05C-46E6-A27C-18A977681C3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c2c7"/>
            </a:gs>
            <a:gs pos="100000">
              <a:srgbClr val="effafd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40EA-F08A-4C9C-9389-AF971922418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556000" y="3645000"/>
            <a:ext cx="5400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СОЦИАЛИЗАЦИЯ РЕБЕНКА С СОМАТИЧЕСКИМ ЗАБОЛЕВАНИЕМ</a:t>
            </a:r>
            <a:endParaRPr b="0" lang="en-US" sz="24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427640" y="4941720"/>
            <a:ext cx="41767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Социальный педагог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Филиала ГБУ РБ РЦППМСП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Дуванская ЗПМПК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Фахриева Ирина Ильдусовн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Рисунок 3" descr="час 001.jpg"/>
          <p:cNvPicPr/>
          <p:nvPr/>
        </p:nvPicPr>
        <p:blipFill>
          <a:blip r:embed="rId1"/>
          <a:stretch/>
        </p:blipFill>
        <p:spPr>
          <a:xfrm>
            <a:off x="2556000" y="476280"/>
            <a:ext cx="525600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848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СПАСИБО ЗА ВНИМАНИЕ! </a:t>
            </a:r>
            <a:br>
              <a:rPr sz="3600"/>
            </a:br>
            <a:br>
              <a:rPr sz="3100"/>
            </a:br>
            <a:br>
              <a:rPr sz="2700"/>
            </a:br>
            <a:br>
              <a:rPr sz="2700"/>
            </a:br>
            <a:endParaRPr b="0" lang="en-US" sz="3600" spc="-1" strike="noStrike">
              <a:solidFill>
                <a:srgbClr val="46464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993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2060"/>
                </a:solidFill>
                <a:latin typeface="Century Schoolbook"/>
              </a:rPr>
              <a:t>     </a:t>
            </a:r>
            <a:r>
              <a:rPr b="1" lang="ru-RU" sz="2500" spc="-1" strike="noStrike">
                <a:solidFill>
                  <a:srgbClr val="002060"/>
                </a:solidFill>
                <a:latin typeface="Century Schoolbook"/>
              </a:rPr>
              <a:t>«СЧАСТЛИВ ТОТ, КТО СЧАСТЛИВ У СЕБЯ ДОМА».</a:t>
            </a:r>
            <a:br>
              <a:rPr sz="2500"/>
            </a:br>
            <a:r>
              <a:rPr b="1" lang="ru-RU" sz="2500" spc="-1" strike="noStrike">
                <a:solidFill>
                  <a:srgbClr val="002060"/>
                </a:solidFill>
                <a:latin typeface="Century Schoolbook"/>
              </a:rPr>
              <a:t>                                                              Л.Н.ТОЛСТОЙ</a:t>
            </a:r>
            <a:endParaRPr b="0" lang="en-US" sz="2500" spc="-1" strike="noStrike">
              <a:solidFill>
                <a:srgbClr val="464646"/>
              </a:solidFill>
              <a:latin typeface="Century Schoolbook"/>
            </a:endParaRPr>
          </a:p>
        </p:txBody>
      </p:sp>
      <p:pic>
        <p:nvPicPr>
          <p:cNvPr id="355" name="Picture 2" descr="https://avatars.mds.yandex.net/get-zen_doc/964926/pub_5b5464e967efea00a91e1256_5b54651ce83ed200aa466887/scale_1200"/>
          <p:cNvPicPr/>
          <p:nvPr/>
        </p:nvPicPr>
        <p:blipFill>
          <a:blip r:embed="rId1"/>
          <a:stretch/>
        </p:blipFill>
        <p:spPr>
          <a:xfrm>
            <a:off x="395280" y="1916280"/>
            <a:ext cx="812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79218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УСЛОВИЯ УСПЕШНОЙ СОЦИАЛИЗАЦИИ РЕБЕНКА С СОМАТИЧЕСКИМИ ЗАБОЛЕВАНИЯМИ</a:t>
            </a:r>
            <a:br>
              <a:rPr sz="2000"/>
            </a:br>
            <a:endParaRPr b="0" lang="en-US" sz="24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900000" y="1413000"/>
            <a:ext cx="6840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Равноправное участие членов семьи в жизни ребенка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Гармоничная психологическая обстановка в семье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Формирование у ребенка навыков нормативного поведения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Формирование у ребенка навыков самообслуживания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Развитие его природных способностей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69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         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РОДИТЕЛЬ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                              РЕБЕНОК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 </a:t>
            </a:r>
            <a:endParaRPr b="0" lang="en-US" sz="2200" spc="-1" strike="noStrike">
              <a:solidFill>
                <a:srgbClr val="464646"/>
              </a:solidFill>
              <a:latin typeface="Century Schoolbook"/>
            </a:endParaRPr>
          </a:p>
        </p:txBody>
      </p:sp>
      <p:pic>
        <p:nvPicPr>
          <p:cNvPr id="359" name="Содержимое 3" descr=""/>
          <p:cNvPicPr/>
          <p:nvPr/>
        </p:nvPicPr>
        <p:blipFill>
          <a:blip r:embed="rId1"/>
          <a:stretch/>
        </p:blipFill>
        <p:spPr>
          <a:xfrm>
            <a:off x="171360" y="1395360"/>
            <a:ext cx="8582040" cy="5469120"/>
          </a:xfrm>
          <a:prstGeom prst="rect">
            <a:avLst/>
          </a:prstGeom>
          <a:ln w="0">
            <a:noFill/>
          </a:ln>
        </p:spPr>
      </p:pic>
      <p:sp>
        <p:nvSpPr>
          <p:cNvPr id="360" name="AutoShape 2"/>
          <p:cNvSpPr/>
          <p:nvPr/>
        </p:nvSpPr>
        <p:spPr>
          <a:xfrm>
            <a:off x="1763640" y="765000"/>
            <a:ext cx="190440" cy="463680"/>
          </a:xfrm>
          <a:prstGeom prst="downArrow">
            <a:avLst>
              <a:gd name="adj1" fmla="val 50000"/>
              <a:gd name="adj2" fmla="val 60870"/>
            </a:avLst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AutoShape 2"/>
          <p:cNvSpPr/>
          <p:nvPr/>
        </p:nvSpPr>
        <p:spPr>
          <a:xfrm>
            <a:off x="6948360" y="836640"/>
            <a:ext cx="190800" cy="463680"/>
          </a:xfrm>
          <a:prstGeom prst="downArrow">
            <a:avLst>
              <a:gd name="adj1" fmla="val 50000"/>
              <a:gd name="adj2" fmla="val 60755"/>
            </a:avLst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AutoShape 6"/>
          <p:cNvSpPr/>
          <p:nvPr/>
        </p:nvSpPr>
        <p:spPr>
          <a:xfrm>
            <a:off x="3924360" y="1844640"/>
            <a:ext cx="1247760" cy="265320"/>
          </a:xfrm>
          <a:prstGeom prst="rightArrow">
            <a:avLst>
              <a:gd name="adj1" fmla="val 50000"/>
              <a:gd name="adj2" fmla="val 11757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AutoShape 7"/>
          <p:cNvSpPr/>
          <p:nvPr/>
        </p:nvSpPr>
        <p:spPr>
          <a:xfrm>
            <a:off x="3851280" y="3213000"/>
            <a:ext cx="1247760" cy="265320"/>
          </a:xfrm>
          <a:prstGeom prst="rightArrow">
            <a:avLst>
              <a:gd name="adj1" fmla="val 50000"/>
              <a:gd name="adj2" fmla="val 11757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AutoShape 8"/>
          <p:cNvSpPr/>
          <p:nvPr/>
        </p:nvSpPr>
        <p:spPr>
          <a:xfrm>
            <a:off x="3851280" y="4508640"/>
            <a:ext cx="1247760" cy="264960"/>
          </a:xfrm>
          <a:prstGeom prst="rightArrow">
            <a:avLst>
              <a:gd name="adj1" fmla="val 50000"/>
              <a:gd name="adj2" fmla="val 1177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AutoShape 9"/>
          <p:cNvSpPr/>
          <p:nvPr/>
        </p:nvSpPr>
        <p:spPr>
          <a:xfrm>
            <a:off x="3851280" y="5877000"/>
            <a:ext cx="1247760" cy="264960"/>
          </a:xfrm>
          <a:prstGeom prst="rightArrow">
            <a:avLst>
              <a:gd name="adj1" fmla="val 50000"/>
              <a:gd name="adj2" fmla="val 1177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8" descr="https://medaboutme.ru/upload/iblock/780/shutterstock_373279120.jpg"/>
          <p:cNvPicPr/>
          <p:nvPr/>
        </p:nvPicPr>
        <p:blipFill>
          <a:blip r:embed="rId1"/>
          <a:stretch/>
        </p:blipFill>
        <p:spPr>
          <a:xfrm>
            <a:off x="395280" y="981000"/>
            <a:ext cx="4086360" cy="26892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https://i2.wp.com/detskoe-zdorove.ru/wp-content/uploads/2019/04/astma.png?fit=901%2C597&amp;ssl=1"/>
          <p:cNvPicPr/>
          <p:nvPr/>
        </p:nvPicPr>
        <p:blipFill>
          <a:blip r:embed="rId2"/>
          <a:stretch/>
        </p:blipFill>
        <p:spPr>
          <a:xfrm>
            <a:off x="4716360" y="620640"/>
            <a:ext cx="4133880" cy="27385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https://www.novostispb.ru/data/news/img/2081_photo.jpg"/>
          <p:cNvPicPr/>
          <p:nvPr/>
        </p:nvPicPr>
        <p:blipFill>
          <a:blip r:embed="rId3"/>
          <a:stretch/>
        </p:blipFill>
        <p:spPr>
          <a:xfrm>
            <a:off x="2411280" y="3789360"/>
            <a:ext cx="439272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8036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СОЦИАЛЬНО-ПСИХОЛОГИЧЕСКИЕ ЦЕНТРЫ:</a:t>
            </a:r>
            <a:endParaRPr b="0" lang="en-US" sz="24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79280" y="836280"/>
            <a:ext cx="8640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Единый общероссийский телефон доверия 8-800-2000-122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Единый региональный телефон доверия 8-800-7000-183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илиал ГБУ РБ РЦППМСП Дуванская ЗПМПК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Адрес: РБ, Дуванский район, с.Месягутово, ул.Электрическая, д.29,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телефон: (34798) 3-41-45,  факс (34798) 3-41-39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Северный филиал ГБУ «Республиканский молодежный социально-психологический и информационно-методический центр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Адрес: РБ, Кигинский район, с.В-Киги,  ул.Советская, д.16,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телефон: (34798) 3-04-36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8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СОЦИАЛЬНО-ПСИХОЛОГИЧЕСКИЕ ЦЕНТРЫ:</a:t>
            </a:r>
            <a:endParaRPr b="0" lang="en-US" sz="24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79280" y="476280"/>
            <a:ext cx="89647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ГБУ РБ Северо-восточный межрайонный центр «Семья»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Адрес: РБ, Белокатайский район, с.Н-Белокатай,  ул.Советская, д.126,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телефон: (34750) 2-27-74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0000"/>
                </a:solidFill>
                <a:uFillTx/>
                <a:latin typeface="Century Schoolbook"/>
              </a:rPr>
              <a:t>Подразделение в МР Дуванский район РБ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Адрес: РБ, Дуванский район, с.Месягутово, ул.И-Усова, д.4,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телефон: (34798) 3-20-87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0000"/>
                </a:solidFill>
                <a:uFillTx/>
                <a:latin typeface="Century Schoolbook"/>
              </a:rPr>
              <a:t>Подразделение в МР Кигинский район РБ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Адрес: РБ, Кигинский район, с.В-Киги, ул.Салавата, д.1,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телефон: (34748) 3-06-95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0000"/>
                </a:solidFill>
                <a:uFillTx/>
                <a:latin typeface="Century Schoolbook"/>
              </a:rPr>
              <a:t>Подразделение в МР Мечетлинский район РБ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Адрес: РБ, Мечетлинский район, с.Б-Устьикинское, ул.Ленина, д.20,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телефон: (34770) 2-02-73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0000"/>
                </a:solidFill>
                <a:uFillTx/>
                <a:latin typeface="Century Schoolbook"/>
              </a:rPr>
              <a:t>Подразделение в МР Салаватский район РБ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Адрес: РБ, Салаватский район, с.Малояз, ул.Советская, д.63/1,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телефон: (34777) 2-06-12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803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СОЦИАЛЬНО-ПСИХОЛОГИЧЕСКИЕ ЦЕНТРЫ:</a:t>
            </a:r>
            <a:endParaRPr b="0" lang="en-US" sz="24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79280" y="620280"/>
            <a:ext cx="8640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КУ «Клуб детей, подростков и молодежи «Спутник»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Р Белокатайский район РБ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Адрес: РБ, Белокатайский район, с.Н-Белокатай, ул.Молодежная, д.4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елефон (34750) 2-16-06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БУ «Молодежный центр» МР Дуванский район РБ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Адрес: РБ, Дуванский район, с.Месягутово, ул.И-Усова, д.2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елефон: (34798) 3-44-7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БУ «Клуб подростков и молодежи «Яшьлек» МР Кигинский район РБ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Адрес: РБ, Кигинский район, с.В-Киги, ул.Советская, д.14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елефон (34748) 3-71-66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АУ «Молодежный центр» МР Мечетлинский район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Адрес: РБ, Мечетлинский район, с.Б-Устьикинское, ул.Ленина, д.26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елефон: (34770) 2-04-70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КУ «Клуб подростков и молодежи «Шонкар»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Р Салаватский район РБ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Адрес: РБ, Салаватский район, с.Малояз, ул.Советская, д.69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елефон (34750) 2-08-20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920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ПОМНИТЕ! РОДИТЕЛЬСКАЯ ЛЮБОВЬ И ПРОФЕССИОНАЛИЗМ СПЕЦИАЛИСТОВ ПОМОГУТ РЕБЁНКУ СПРАВИТЬСЯ С ЛЮБЫМИ ТРУДНОСТЯМИ!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  </a:t>
            </a:r>
            <a:endParaRPr b="0" lang="en-US" sz="2400" spc="-1" strike="noStrike">
              <a:solidFill>
                <a:srgbClr val="464646"/>
              </a:solidFill>
              <a:latin typeface="Century Schoolbook"/>
            </a:endParaRPr>
          </a:p>
        </p:txBody>
      </p:sp>
      <p:pic>
        <p:nvPicPr>
          <p:cNvPr id="376" name="Picture 2" descr="https://i.sunhome.ru/magic/54/oberezhnie-zagovori-dlya-blagopoluchiya-semi.2268.orig.jpg"/>
          <p:cNvPicPr/>
          <p:nvPr/>
        </p:nvPicPr>
        <p:blipFill>
          <a:blip r:embed="rId1"/>
          <a:stretch/>
        </p:blipFill>
        <p:spPr>
          <a:xfrm>
            <a:off x="1692360" y="476280"/>
            <a:ext cx="51879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6:54:21Z</dcterms:created>
  <dc:creator>sancho</dc:creator>
  <dc:description/>
  <dc:language>en-US</dc:language>
  <cp:lastModifiedBy>Sosialnyi pedagog</cp:lastModifiedBy>
  <dcterms:modified xsi:type="dcterms:W3CDTF">2020-05-13T09:11:56Z</dcterms:modified>
  <cp:revision>63</cp:revision>
  <dc:subject/>
  <dc:title>Что такое «семья»?</dc:title>
</cp:coreProperties>
</file>