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397-E3AE-4A81-9A4D-5957A973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6FC-03BE-4F16-ACDA-ADF6843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AF1-F73A-414A-9A76-F37E62C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282-1866-41DB-83CA-0BC11EE6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F2C-628F-431E-B80A-2780EB23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C4C-6794-4C86-BFDB-A3BAD18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D088-4F2A-4BA8-B36A-A2EA01A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D6A1-F6BC-4401-B2BA-8A60C503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F107-A71D-492F-B6D2-A84ECFE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5F2C-E3CA-4D43-ABD0-3E6D0633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C590-0C79-4749-91F9-598A637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AC9-7C95-4D14-8268-DEC0622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4DC-9494-4A27-B257-2C6D21D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377-CC77-4176-BB29-A2FE862F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AF6-21B5-4E51-B611-4230FAFC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4E45-C317-407B-8F5D-D2A6AE1E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A373-B7FC-4DE3-8765-97371925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2FF3E-0841-4787-8F09-4616BD14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CB7C9-8049-4DF4-B5C2-8B57111E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B8FB-6A0F-4AD3-94AE-AFB0FAFD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93470-6B7F-4943-BA36-28C9D69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50C19-AA47-4786-BD11-4D36EC95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2BB-5D91-4BCB-A24C-9445794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1393B-FFD0-4194-B1F4-68D44E7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043B9-9922-4190-82A0-305A014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632B4-2C94-4B67-A87A-6E10C3F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6A765-13E8-4377-90F5-84EFE64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FC259-F4C1-4DFD-87D7-4E20991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FE4B6-B87A-4C7C-B6F7-B3B1AD79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D7E26-1F20-43BB-9DA8-6EB57E8A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AFC7E-F76A-4C71-8BCF-D8DD728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9E41-915E-4E4C-B402-0C3F851D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D421-0B43-41DC-AEF3-7B41CA1C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855-2FEF-47EC-B155-30E068E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CFC3-B26D-4C24-9C06-866E410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0BADB-CE01-4253-BBF3-4869AA42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2341-1C57-4547-A5DD-0022DF8C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5D70-FC77-4DD8-96DF-8F6B22C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B15A-356F-4FD3-B78C-EC68795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5152-6863-4F50-BBB4-9774CFB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3125-8920-43F5-B977-588E2C7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6F93-2A7D-49C8-B08F-4C800D02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9F36-9F1E-42BE-BD15-26C2E1D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F7E1F-B341-4165-98F8-E0C4AD7F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3F3-925C-4B66-A490-424152BE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2D064-06CA-4530-915E-957BE6C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CE479-3D51-44E4-BDD1-A247326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101BC-0981-4196-985D-CB3EA54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E6C4C-127C-412F-A7AF-54EA42A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A1244-AB87-40CE-BCF8-84CC58CD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C2378-560A-4C78-8176-0D0C07F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C7441-8CC6-4902-BC32-74B6BE3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BF247-799B-46E7-99A7-CCDFF32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5B277-C220-49FD-82FC-B29E859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0F2B8-60FD-4C99-A471-BD4CC710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E47-B2AE-4B1F-8E6B-AE548162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769A1-14F3-4E2D-9055-7F64B00A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BCDE9-A49A-4A09-B759-93108F7C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84AFA-D6E4-44D7-A30E-BADD899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BDD92-ACD3-49FD-9388-96438F12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E575F-2390-42B3-9A0C-035E1082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B215D-FD37-456F-BD4C-04705341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87939-4433-49DE-9C65-7D837F6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624D0-1609-4B73-962B-0CB6A5B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C1C1B-0C98-40D1-A2EB-9E33C66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C95C0-722B-40ED-BEB5-C788BA9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F6C-5373-47B0-B16E-5F799A2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7D3F7-9DF9-4C0F-A996-F4A037A9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272ED-6CE1-4573-81B1-5A6FEDDC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0DCC7-A0C8-443C-AF22-8AFA3BE5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153D1-3F51-4A5D-B23C-A849E6BB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B1036-8026-4192-ACB7-58C69FF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D30F1-A016-4DA8-AE38-6BFAB4B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9D583-A6B3-4E03-AC74-F0716C5F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7BB9A-1D64-4579-9ACF-251C685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A3E5D-32AE-4979-8E0C-1EEF648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D4404-7E06-4620-88C3-59478C1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A36-CA3A-4BE4-88A8-0E57038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540EB-758B-47A9-9CCF-BF2FCED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3025F-F1AA-4AEB-AA66-6129A27D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9326D-1D8F-44A2-B5CE-13274D8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25D39-E84B-4697-BCC1-E893C28B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7E8C7-83F9-4B61-8D11-D3E5D829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3B7-E256-40DA-A58C-3E46B47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8B5-DF4B-4583-9BD6-ADBA06592F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81A-71AA-4C2E-AEB2-35C69D0C43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35D-4F64-44F9-9B7B-5DA92F48C5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4509-138D-4991-ADEF-A2C389B90C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01E-FA5D-424E-8147-F02B6C400D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FA5-7247-484E-B60B-EE8D2CCCFC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2c7"/>
            </a:gs>
            <a:gs pos="100000">
              <a:srgbClr val="effafd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9EF-3C0F-4AE8-A91C-44D1765BE4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6000" y="3645000"/>
            <a:ext cx="54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ИЗАЦИЯ РЕБЕНКА С СОМАТИЧЕСКИМ ЗАБОЛЕВАНИЕМ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27640" y="494172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оциальный педагог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ала ГБУ РБ РЦППМСП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Дуванская ЗПМПК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ахриева Ирина Ильдусов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час 001.jpg"/>
          <p:cNvPicPr/>
          <p:nvPr/>
        </p:nvPicPr>
        <p:blipFill>
          <a:blip r:embed="rId1"/>
          <a:stretch/>
        </p:blipFill>
        <p:spPr>
          <a:xfrm>
            <a:off x="2556000" y="476280"/>
            <a:ext cx="5256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СПАСИБО ЗА ВНИМАНИЕ! </a:t>
            </a:r>
            <a:br>
              <a:rPr sz="3600"/>
            </a:br>
            <a:br>
              <a:rPr sz="3100"/>
            </a:br>
            <a:br>
              <a:rPr sz="2700"/>
            </a:br>
            <a:br>
              <a:rPr sz="2700"/>
            </a:br>
            <a:endParaRPr b="0" lang="en-US" sz="36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«СЧАСТЛИВ ТОТ, КТО СЧАСТЛИВ У СЕБЯ ДОМА».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                                                              Л.Н.ТОЛСТОЙ</a:t>
            </a:r>
            <a:endParaRPr b="0" lang="en-US" sz="25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5" name="Picture 2" descr="https://avatars.mds.yandex.net/get-zen_doc/964926/pub_5b5464e967efea00a91e1256_5b54651ce83ed200aa466887/scale_1200"/>
          <p:cNvPicPr/>
          <p:nvPr/>
        </p:nvPicPr>
        <p:blipFill>
          <a:blip r:embed="rId1"/>
          <a:stretch/>
        </p:blipFill>
        <p:spPr>
          <a:xfrm>
            <a:off x="395280" y="1916280"/>
            <a:ext cx="812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921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УСЛОВИЯ УСПЕШНОЙ СОЦИАЛИЗАЦИИ РЕБЕНКА С СОМАТИЧЕСКИМИ ЗАБОЛЕВАНИЯМИ</a:t>
            </a:r>
            <a:br>
              <a:rPr sz="2000"/>
            </a:b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00000" y="1413000"/>
            <a:ext cx="68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вноправное участие членов семьи в жизни ребенк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армоничная психологическая обстановка в семье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у ребенка навыков нормативного повед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у ребенка навыков самообслуживани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звитие его природных способностей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РОДИТЕЛЬ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                             РЕБЕНОК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9" name="Содержимое 3" descr=""/>
          <p:cNvPicPr/>
          <p:nvPr/>
        </p:nvPicPr>
        <p:blipFill>
          <a:blip r:embed="rId1"/>
          <a:stretch/>
        </p:blipFill>
        <p:spPr>
          <a:xfrm>
            <a:off x="171360" y="1395360"/>
            <a:ext cx="8582040" cy="546912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"/>
          <p:cNvSpPr/>
          <p:nvPr/>
        </p:nvSpPr>
        <p:spPr>
          <a:xfrm>
            <a:off x="1763640" y="765000"/>
            <a:ext cx="190440" cy="463680"/>
          </a:xfrm>
          <a:prstGeom prst="downArrow">
            <a:avLst>
              <a:gd name="adj1" fmla="val 50000"/>
              <a:gd name="adj2" fmla="val 60870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6948360" y="836640"/>
            <a:ext cx="190800" cy="46368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3924360" y="1844640"/>
            <a:ext cx="1247760" cy="265320"/>
          </a:xfrm>
          <a:prstGeom prst="rightArrow">
            <a:avLst>
              <a:gd name="adj1" fmla="val 50000"/>
              <a:gd name="adj2" fmla="val 1175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3851280" y="3213000"/>
            <a:ext cx="1247760" cy="265320"/>
          </a:xfrm>
          <a:prstGeom prst="rightArrow">
            <a:avLst>
              <a:gd name="adj1" fmla="val 50000"/>
              <a:gd name="adj2" fmla="val 1175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3851280" y="4508640"/>
            <a:ext cx="1247760" cy="264960"/>
          </a:xfrm>
          <a:prstGeom prst="rightArrow">
            <a:avLst>
              <a:gd name="adj1" fmla="val 50000"/>
              <a:gd name="adj2" fmla="val 117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3851280" y="5877000"/>
            <a:ext cx="1247760" cy="264960"/>
          </a:xfrm>
          <a:prstGeom prst="rightArrow">
            <a:avLst>
              <a:gd name="adj1" fmla="val 50000"/>
              <a:gd name="adj2" fmla="val 1177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https://medaboutme.ru/upload/iblock/780/shutterstock_373279120.jpg"/>
          <p:cNvPicPr/>
          <p:nvPr/>
        </p:nvPicPr>
        <p:blipFill>
          <a:blip r:embed="rId1"/>
          <a:stretch/>
        </p:blipFill>
        <p:spPr>
          <a:xfrm>
            <a:off x="395280" y="981000"/>
            <a:ext cx="4086360" cy="268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https://i2.wp.com/detskoe-zdorove.ru/wp-content/uploads/2019/04/astma.png?fit=901%2C597&amp;ssl=1"/>
          <p:cNvPicPr/>
          <p:nvPr/>
        </p:nvPicPr>
        <p:blipFill>
          <a:blip r:embed="rId2"/>
          <a:stretch/>
        </p:blipFill>
        <p:spPr>
          <a:xfrm>
            <a:off x="4716360" y="620640"/>
            <a:ext cx="4133880" cy="2738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s://www.novostispb.ru/data/news/img/2081_photo.jpg"/>
          <p:cNvPicPr/>
          <p:nvPr/>
        </p:nvPicPr>
        <p:blipFill>
          <a:blip r:embed="rId3"/>
          <a:stretch/>
        </p:blipFill>
        <p:spPr>
          <a:xfrm>
            <a:off x="2411280" y="3789360"/>
            <a:ext cx="4392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диный общероссийский телефон доверия 8-800-2000-122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Единый региональный телефон доверия 8-800-7000-183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илиал ГБУ РБ РЦППМСП Дуванская ЗПМПК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Электрическая, д.29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41-45,  факс (34798) 3-41-39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еверный филиал ГБУ «Республиканский молодежный социально-психологический и информационно-методический центр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 ул.Советская, д.16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04-36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476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БУ РБ Северо-восточный межрайонный центр «Семья»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Белокатайский район, с.Н-Белокатай,  ул.Советская, д.126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50) 2-27-74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Дува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И-Усова, д.4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98) 3-20-87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Киги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ул.Салавата, д.1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48) 3-06-95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Мечетлин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Мечетлинский район, с.Б-Устьикинское, ул.Ленина, д.20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70) 2-02-73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Подразделение в МР Салаватский район Р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дрес: РБ, Салаватский район, с.Малояз, ул.Советская, д.63/1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лефон: (34777) 2-06-12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ЦИАЛЬНО-ПСИХОЛОГИЧЕСКИЕ ЦЕНТРЫ: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79280" y="62028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КУ «Клуб детей, подростков и молодежи «Спутник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Р Белокатайский район Р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Белокатайский район, с.Н-Белокатай, ул.Молодежная, д.4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50) 2-16-0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БУ «Молодежный центр» МР Дуванский район РБ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Дуванский район, с.Месягутово, ул.И-Усова, д.2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: (34798) 3-44-7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БУ «Клуб подростков и молодежи «Яшьлек» МР Кигинский район РБ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Кигинский район, с.В-Киги, ул.Советская, д.14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48) 3-71-6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У «Молодежный центр» МР Мечетлинский райо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Мечетлинский район, с.Б-Устьикинское, ул.Ленина, д.26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: (34770) 2-04-7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КУ «Клуб подростков и молодежи «Шонкар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Р Салаватский район РБ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: РБ, Салаватский район, с.Малояз, ул.Советская, д.69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лефон (34750) 2-08-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ОМНИТЕ! РОДИТЕЛЬСКАЯ ЛЮБОВЬ И ПРОФЕССИОНАЛИЗМ СПЕЦИАЛИСТОВ ПОМОГУТ РЕБЁНКУ СПРАВИТЬСЯ С ЛЮБЫМИ ТРУДНОСТЯМИ!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 </a:t>
            </a:r>
            <a:endParaRPr b="0" lang="en-US" sz="2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6" name="Picture 2" descr="https://i.sunhome.ru/magic/54/oberezhnie-zagovori-dlya-blagopoluchiya-semi.2268.orig.jpg"/>
          <p:cNvPicPr/>
          <p:nvPr/>
        </p:nvPicPr>
        <p:blipFill>
          <a:blip r:embed="rId1"/>
          <a:stretch/>
        </p:blipFill>
        <p:spPr>
          <a:xfrm>
            <a:off x="1692360" y="476280"/>
            <a:ext cx="5187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54:21Z</dcterms:created>
  <dc:creator>sancho</dc:creator>
  <dc:description/>
  <dc:language>en-US</dc:language>
  <cp:lastModifiedBy>Sosialnyi pedagog</cp:lastModifiedBy>
  <dcterms:modified xsi:type="dcterms:W3CDTF">2020-05-13T09:11:56Z</dcterms:modified>
  <cp:revision>63</cp:revision>
  <dc:subject/>
  <dc:title>Что такое «семья»?</dc:title>
</cp:coreProperties>
</file>