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FBA5-B8F6-4C65-9B6A-4445B00B0F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ить работу ребёнка отсканирован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046F-BA85-4ADD-BFF6-9DE51F499CB7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AF3-6BEC-4563-A42A-71AC9718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D59-73B5-4E35-B293-87ABB58E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35530-BE19-46CE-9C19-6350212A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85A5C-3EC5-4E8C-B635-77D26A31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78100-62AE-447F-9DBF-D7F958E4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20490-7F50-4C2F-BA88-94E4267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8F026-1DCB-4A46-BD21-BEFD8137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2A232-64EE-44B1-BDC9-2DA0C31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A3A40-97ED-4516-86CE-C129C4F7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C0473-0C6A-4AEF-B3E9-DC25B735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F0592-068C-47D8-8B29-F1F49FE0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BBA5E-8015-49D2-8DF0-31B36A9E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12B-A441-4E70-AFB3-35DF3B68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BDDC4-F940-41DB-933B-32A705B5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B2475-26AD-4B0F-A4EB-AA997D68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75A6F-5D21-41F1-8A08-5E257FFB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A7559-9A09-4911-9639-6CA3AD87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DC3A0-30B0-4A66-83C8-BE1FB649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1715B-95A6-40B9-9569-A9B5A677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6DE13-DC16-44F3-A86C-61CA1870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A14B5-B33C-4C9A-835B-6167DAA4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E28E5-4B1A-4068-994C-61C0EEBE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29B71-2045-4DE4-9DCD-4D0FEEE1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4B9-E933-49C3-989C-2C61526E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7614F-234A-4725-9F73-D1C620FE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A8071-40A2-464A-BCFD-981B6AF5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5B20B-4C6E-4628-8431-86E4D18B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6BD51-FD12-4E88-8DD4-22798201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9EA2E-AB50-4092-868D-0A1CC2B1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BE8F0-AC7A-4731-8062-1777B02D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D5D16-BB06-47A7-878F-119DC1B3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4C86E-4DA1-4764-84D6-94B130D8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1C03E-6BCA-4F65-80F3-F76AAC49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94FD4-9C24-44B2-BB20-0B1F59E8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18B6-746F-47E8-B65C-92D98041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04AB0-B765-4A90-97F5-4412A13E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34E34-38EF-4240-B38C-2DEE2A10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3B94F-0F5F-4047-B2BF-57E692D7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A9F91-AD4E-4375-BAC6-0C823BA5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639E4-11F5-45A9-A2A5-FF2CE935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F56B8-C204-47EB-B743-A1F9093E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0F8FF-7B9E-4C35-86C7-44C2D964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B86DE-9214-45EC-B9F9-BBE5F159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DD2E8-7DFB-457C-9545-7BC89D7E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8006A-3A0F-4D3D-AFF0-83129D6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98B1-32D1-40B0-BEDC-97528EBF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288FE-BB7B-4DD3-9CED-A8F763D6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33595-6DD5-4122-9976-587A29F4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3E062-E22A-4B9C-BC36-181DBD1E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CE166-D5AB-44E4-A154-B17A6C50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85A67-4009-4A3A-97F8-3FCE6314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BB98-534F-449C-BD45-1DB3B027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3B03-6411-4292-9214-916263AB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D462-F540-47D1-B519-E99D09BA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E487-46A6-4B4A-B249-1C9EC4F7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A5F5-4941-41F2-A959-B09F1B33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441-11D8-4388-BFA6-1CC4D378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BFCE-2B49-4995-80BA-523BF958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AF63-5F3A-46BA-AB04-6ED0D763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EEC6-F5B0-45BA-BDAD-62D63B42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02F6-75B6-4E5E-8A3D-F58E6AD5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4D6D-917D-46E1-A3B2-86665232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C7B53-EB2F-464F-B527-C51C05D9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49195-4B0E-40E5-AC3D-54650DC3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488B-229D-4973-B86A-6E80326C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853EF-CAAF-4B69-8AC8-26601B05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E08FF-FABD-48D1-81F0-80F7AEF0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072-3BC6-43E0-A373-73A5ECEC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46D3-C20B-4492-80EC-2F860E29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EF77-5DC8-4B73-B609-50D0FE85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A4854-E686-4B1B-ACEE-F68300E8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B63F-84A4-4271-B1B8-D0749737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D27C-305F-49BB-92CF-17CE8A06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617D0-D01C-4761-8C7E-688E6E6C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89612-631F-4414-A2C4-5BC7CE7C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08E49-3B6C-43E9-BAC4-D28C9713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4AFD-363C-4AAF-A0B5-62E3B590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2AE2-71F4-42AA-BCD9-0C23B02E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191-6371-43AC-9BCE-3032DFD5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5524-5584-4259-9CC0-03B94F0C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35472-CCA5-486D-A418-D08A2850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F12B0-4525-451D-8653-B12FEDB5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15AC1-7065-4370-9F2E-FB0D7D3C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64E67-C594-4621-A6F8-4C733B4D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89A00-48F8-4125-B465-C0FD5D9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5FDA-CB68-4DA8-9367-7C97A9E5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EF7AF-3B10-432A-9F2B-7A31FF1A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21960-C473-4324-B71E-C4645B28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FA89E-83C4-47CE-8FF9-73F5A8ED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E1F-529D-441D-BBF2-CF5B0626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D2983-7C96-4F67-BFF1-78AE2398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4F7DC-8DCA-4CDE-8AF0-05F00A39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DFE44-2A9B-45CB-B997-F271CC27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FDFA7-D1DE-468C-99E4-41310286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21715-C431-402D-9D0E-FDB8ABB8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82F18-0AD0-4A0E-83E3-D41B96A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55855-9E81-4609-A9AF-A4A36B80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EA56E-FDE7-42BF-9578-242F888B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55A16-BCEA-439A-A523-B2345C87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13041-DA97-4356-959B-50DD086E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389-2CB6-4BB4-A9E5-F0C48C29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C8AB-C092-41FB-9F94-250E7F4F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2AC20-E8CC-4FA2-9095-F31AD373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4360-ED37-4EC8-A96D-04502AC7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11F1E-96AA-4097-902F-0339DE1E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99953-21F3-474E-8879-C42B2E24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54FA5-838B-4422-A8B7-BF7968E3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DEADD-F244-468A-BF03-9AEACA60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D804C-E616-4140-B574-A4CFF5D4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E8554-4BBE-4F54-B45C-88A577E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E7C07-F274-4B17-9F1D-374059B5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8B5-7826-43AB-93F8-BF315AF7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93551-DC87-4089-ACCC-6D6513B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E460-7E4F-4521-AF93-CA51C758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7210A-3D71-43E2-BAD4-24A9C8DD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D371F-2692-41D4-B216-C7BC2EF7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3B6DF-DD8D-4864-864A-4F4B8479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C37AA-1689-44C5-A9FF-1D6DCF26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40694-BAB2-4E16-934A-6A1C5F14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6E178-28A9-43F2-A4DB-49B58B38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FC9C7-BB3A-42E1-A603-367842B7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5F8F7-A337-487C-8A7F-D680D942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CDB-F11D-4A04-B9CC-68DF5A32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C1886-CE8D-49BD-B1F9-F639967E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F3DDF-561D-4F14-AF0C-DE3F6CD6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34DAE-6E28-423F-81C9-6D12639B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C6C24-0A3A-4678-AD48-4F636DD7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546D9-EC3B-4987-B6EF-725995E4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37D73-D7A2-4E77-8A7E-43FDDF6F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3852-6D50-42F2-979A-EABF9D24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8194A-F8FB-45B2-95A0-113EF06C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59C76-123E-4CA9-8230-C0F31357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E0BAC-CD23-409C-8712-C7E6E976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48E-C4A1-4E9A-A7D7-5BB11AEA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A4FEC-27E5-46F9-B335-4054982E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4D1EC-8A1F-4E3E-AFF2-6FCAA17A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E6841-FDA4-44DF-AC8E-0852A3CB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50176-AE36-403E-A949-14DB35BC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02359-506A-4E46-8EDE-EA9EBC42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6FBE5-59DA-4C38-A6BF-C49A22A1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6588C-8584-4AAF-A820-A02520B5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9D83F-6A77-4D36-BFC6-B091A63F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4AF73-FD82-4305-8F24-483D9C58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148AF-8300-44A7-93F1-2EF466BA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7648-2935-4B2C-8409-F9541A77191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A723-667C-49E6-939A-17CC6DFBB3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2F2B-E5F2-4A5B-BD4D-9D6B851DDD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880D-C9E7-4554-B5E1-9D517F08CF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E66A-E271-43B7-9A4B-812148AD0A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FDA8-7B40-4A8D-BF58-8359505E82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7970-9AC4-4834-94FC-F2DDA5D2D3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A28E-8131-495F-9BCE-9CE288668D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979E-1A0F-4AE4-9E53-C54577A07D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56B7-8011-4103-B601-DE1F1DB67B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887C-C2AF-47A1-808E-9C1145C2753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6508-7788-4DA2-8747-0884327079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3"/>
          <p:cNvSpPr/>
          <p:nvPr/>
        </p:nvSpPr>
        <p:spPr>
          <a:xfrm>
            <a:off x="34920" y="16286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«Нарушения письменной речи у учащихся младшего школьного возрас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Calibri"/>
              </a:rPr>
              <a:t>5. Оптическая дисграфия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Все буквы русского алфавита состоят из набора одних и тех же элементов ("палочки", "овалы") и нескольких "специфичных" элементов. Одинаковые элементы по-разному комбинируясь в пространстве, и образуют различные буквенные знаки: и, ш, ц, щ; б, в, д, у...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Если ребенок не улавливает тонких различий между буквами, то это непременно приведет к трудностям усвоения начертания букв и к неправильному изображению их на письме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Прямоугольник 3"/>
          <p:cNvSpPr/>
          <p:nvPr/>
        </p:nvSpPr>
        <p:spPr>
          <a:xfrm>
            <a:off x="684360" y="5877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роявляется в заменах и искажениях на письме графически сходных рукописных букв (и-ш, п-т, т-ш, в-д, б-д, л-м, э-с и др.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4"/>
          <p:cNvSpPr/>
          <p:nvPr/>
        </p:nvSpPr>
        <p:spPr>
          <a:xfrm>
            <a:off x="395280" y="119700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чина возникновения — несформированность зрительно-пространственных функций и зрительного анализа и синтез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8000"/>
                </a:solidFill>
                <a:uFillTx/>
                <a:latin typeface="Calibri"/>
              </a:rPr>
              <a:t>Ошибки, наиболее часто встречающиеся на письме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- недописывание элементов букв (связано с недоучетом их количества): Л вместо М; Х вместо Ж и т.д.;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- добавление лишних элементов;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- пропуски элементов, особенно при соединении букв, включающих одинаковый элемент;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- зеркальное написание букв.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Прямоугольник 4"/>
          <p:cNvSpPr/>
          <p:nvPr/>
        </p:nvSpPr>
        <p:spPr>
          <a:xfrm>
            <a:off x="-181080" y="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На что нужно обратить особое вним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7"/>
          <p:cNvSpPr/>
          <p:nvPr/>
        </p:nvSpPr>
        <p:spPr>
          <a:xfrm>
            <a:off x="179280" y="692280"/>
            <a:ext cx="8964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1. Если Ваш ребенок левш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2. Если он - переученный правш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3. Если Ваш ребенок посещал логопедическую группу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4. Если в семье говорят на двух или более языках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5. Если Ваш ребенок слишком рано пошел в школу (неоправданно ранее обучение грамоте иногда провоцирует возникновение нарушений письменной речи.) Происходит это в тех случаях, когда у ребенка еще не наступила психологическая готовность к такому обучению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6. Если у Вашего ребенка есть проблемы с памятью, вниманием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7. Смешение букв по оптическому сходству: б-п, т-п, а-о, е-з, д-у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8. Ошибки, вызванные нарушенным произношением, ребенок пишет то, что говорит: лека (река), суба (шуба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9. При нарушенном фонематическом восприятии смешиваются гласные о-у, ё-ю, согласные р-л, й-ль, парные звонкие и глухие согласные, свистящие и шипящие, звуки ц, ч, щ. Например: тыня (дыня), клёква (клюква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10. Пропуски букв, слогов, недописывание слов. Например: прта - парта, моко - молоко, весёлы (весёлый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НИМАНИЕ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3100" spc="-1" strike="noStrike">
                <a:solidFill>
                  <a:srgbClr val="002060"/>
                </a:solidFill>
                <a:latin typeface="Calibri"/>
              </a:rPr>
              <a:t>Дети с нарушением письменной речи, как правило, имеют хорошую зрительную память. Поэтому ни в коем случае нельзя предлагать им упражнения, где требуется исправить ошибки, изначально допущенные. Выполнение подобных упражнений может пагубно сказаться (из-за той же зрительной памяти) и на учащихся, имеющих навык грамотного письма. </a:t>
            </a:r>
            <a:br>
              <a:rPr sz="3100"/>
            </a:br>
            <a:r>
              <a:rPr b="1" lang="ru-RU" sz="3100" spc="-1" strike="noStrike">
                <a:solidFill>
                  <a:srgbClr val="002060"/>
                </a:solidFill>
                <a:latin typeface="Calibri"/>
              </a:rPr>
              <a:t>НЕ ПРЕДЛАГАЙТЕ ДЕТЯМ ИСПРАВЛЯТЬ ОШИБКИ, НАУЧИТЕ ИХ НЕ ДЕЛАТЬ ОШИБОК. </a:t>
            </a:r>
            <a:br>
              <a:rPr sz="2500"/>
            </a:b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Письмо — это сложная форма речевой деятельности, многоуровневый процесс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395280" y="1505520"/>
            <a:ext cx="81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В нем принимают участие речеслуховой, речедвигательный, зрительный, общедвигательный анализаторы. Между ними в процессе письма устанавливается тесная связь. Письмо тесно связано с устной речью, степенью ее развития. Оно основывается на умении различать звуки речи, вычленять их в потоке речи и соединять, правильно произносить. Чтобы написать слово, ребенку необходим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определить его звуковую структуру, последовательность и место каждого звук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соотнести выделенный звук с определенным образом букв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воспроизвести с помощью движений руки букв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Чтобы написать предложение, необходимо мысленно его выстроить, проговорить, сохранить нужный порядок написания, разбить предложение на составляющие его слова, обозначить границы каждого сл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Прямоугольник 5"/>
          <p:cNvSpPr/>
          <p:nvPr/>
        </p:nvSpPr>
        <p:spPr>
          <a:xfrm>
            <a:off x="179280" y="0"/>
            <a:ext cx="87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"/>
              </a:rPr>
              <a:t>Если у ребенка имеются нарушения хотя бы в одной из этих функц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слуховой дифференциации звуков,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неправильного их произношения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-нарушение в  звуковом анализе и синтез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лексико-грамматической стороне речи,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зрительном анализе и синтезе,                                                    - пространственных представлениях,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то может возникнуть нарушение процесса овладения письмом — дисграфия (от греческого "графо" — письмо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оугольник 6"/>
          <p:cNvSpPr/>
          <p:nvPr/>
        </p:nvSpPr>
        <p:spPr>
          <a:xfrm>
            <a:off x="539640" y="4005360"/>
            <a:ext cx="74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исграфия — это специфическое  расстройство письменной речи, проявляющееся в многочисленных типичных ошибках стойкого характера и обусловленное несформированностью высших психических функций, участвующих в процессе овладения навыками пись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0" y="6211800"/>
            <a:ext cx="88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Специфические ошибки(т.е. не связанные с применением орфографических правил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1. Артикуляторно-акустическая форма дисграфии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08000" y="1628640"/>
            <a:ext cx="903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мен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-Л,                          С-Ш,                        Ж-З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ак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ак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ол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ол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ж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к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к    ковё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– ковё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ала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ала       к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ж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а - к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а                   б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ёза – б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ёза     к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а – к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а     д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ж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ь – д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щ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енок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енок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адь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ыплёнок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ыплёнок        рукав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ы - рукав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ик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ик (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ик,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ик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611280" y="257796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чиной возникновения этого вида нарушений является неправильное произношение звуков ре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ебенок пишет слова так, как их произноси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о есть отражает своё дефектное произношение на пись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071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2. Акустическая форма дисграфи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62064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400" spc="-1" strike="noStrike">
                <a:solidFill>
                  <a:srgbClr val="ffffff"/>
                </a:solidFill>
                <a:latin typeface="Calibri"/>
              </a:rPr>
              <a:t>      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мешиваются букв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обозначающие звонкие - глухие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Б-П; В-Ф; Д-Т; Ж-Ш и т.д.)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вистящие - шипящие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С-Ш; З-Ж и т.д.)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аффрикаты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и компоненты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Ч-Щ; Ч-ТЬ; Ц-Т; Ц-С и т.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акже проявляется в неправильном обозначении мягкости согласных на письме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"писмо", "лубит", "больит" и т.д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Прямоугольник 4"/>
          <p:cNvSpPr/>
          <p:nvPr/>
        </p:nvSpPr>
        <p:spPr>
          <a:xfrm>
            <a:off x="1763640" y="292428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ричиной возникновения этого вида является нарушение дифференциации, распознавания близких звуков ре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рямоугольник 3"/>
          <p:cNvSpPr/>
          <p:nvPr/>
        </p:nvSpPr>
        <p:spPr>
          <a:xfrm>
            <a:off x="179280" y="0"/>
            <a:ext cx="871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арные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звонкие – глухие согласные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3 — С - «кослик», «вазилёк», «привосит», «река узнула, как в зказке», «звою сумку», «саснуть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Б — П - «попеда», «бодарил», «просают», «пельё», «балатка», «польши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Ж — Ш - «шдёт», «ужибла», «кружился снешок», «жумно», «жишки», «ложадь», «весело шушшали шуки...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Г — К — «долко», «клавный», «досга», «кокда», «собага», «груглый», «уколо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 — Ф — «портвель», «ворточка», «картовель», «вавли», «фьюга», «ковта».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Д - Т — «тавно», «сыдый», «деди», «дрещат», «медёт вьюга», «втрук», «ситит», «блетный», «допетое бревно», «итут домо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Прямоугольник 4"/>
          <p:cNvSpPr/>
          <p:nvPr/>
        </p:nvSpPr>
        <p:spPr>
          <a:xfrm>
            <a:off x="179280" y="2924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Глас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 — У — «звенит рочей», «по хрупкумульду», «сизый голобь», «дедош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Ё — Ю — «клёква», «лёбит», «замюрзли», «тюплый», «салёт», «самолют», «перелютные птицы», «висело ружью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рямоугольник 5"/>
          <p:cNvSpPr/>
          <p:nvPr/>
        </p:nvSpPr>
        <p:spPr>
          <a:xfrm>
            <a:off x="0" y="42926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Африкаты: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  Ч — Щ — «стущал», «роча», «хичный», «чепки», «пича», «щасто».  Ч-Ц - «сквореч», «граци», «чапля», «процитал», «цясты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Ч — Т — «черчит», «утитель», «Жутька», «вместе играч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Ц – Т - девотька». «пцицы», «цвецет», «Пеця»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Ц - С - «рельцы», «куриса», «улиса»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3. Дисграфия на почве нарушения языкового анализа и синтеза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Это наиболее часто встречающаяся форма дисграфии у детей, страдающих нарушениями письменной речи. Для нее наиболее характерны следующие ошибки: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·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пуски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букв и слогов;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·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ерестановка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букв и (или) слогов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·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едописывание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слов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·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писание лишних букв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слове (бывает, когда ребенок, проговаривая при письме, очень долго "поет звук"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·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вторение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букв и (или) слогов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.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онтоминация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- в одном слове слоги разных слов;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·  слитное написание предлогов, раздельное написание приставок ("настоле", "на ступила").</a:t>
            </a:r>
            <a:br>
              <a:rPr sz="22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Прямоугольник 3"/>
          <p:cNvSpPr/>
          <p:nvPr/>
        </p:nvSpPr>
        <p:spPr>
          <a:xfrm>
            <a:off x="1116000" y="2205000"/>
            <a:ext cx="631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Причина ее возникновения — затруднения при делении предложений на слов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слов на слоги, зву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"/>
          <p:cNvSpPr/>
          <p:nvPr/>
        </p:nvSpPr>
        <p:spPr>
          <a:xfrm>
            <a:off x="250920" y="504360"/>
            <a:ext cx="8785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 гласных букв; всят-висят, комнта-комната, урожй-урожа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 согласных букв: комата-комната, вей-вс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 слогов и частей слова: стрки-стрел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замена гласных: пище-пищу, сесен-сосен, люгкий-легк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замена согласных: тва-два, роча-роща, урошай-урожай, боказываед-показывае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ерестановки букв и слогов: онко-окно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едописывание букв и слогов: чере-через, на ветка-на ветках, диктан-диктан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аращивание слов лишними буквами и слогами: детити-дети, снег-сенег, диктанат-диктан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искажение слова: мальни-маленький, чайщик-чащ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слитное написание слов и их произвольное деление: два-два, бойчасов-бой часов, в ся-вс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еумение определить границы предложения в тексте, слитное написание предложений: Снег покрыл всю землю. Белым ковром. Замерзла Речка птицам голодно. — Снег покрыл всю землю белым ковром. Замерзла речка. Птицам голод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арушение смягчения согласных: болшой-большой, толко-только, умчалис-умчались, мач-мя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4. Аграмматическая дисграфия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08000" y="1268280"/>
            <a:ext cx="8578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ичина недоразвитие грамматического строя речи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Это выражается в неправильном написании окончаний слов, в неумении согласовать слова между собой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-  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Ребенок пишет как бы вопреки правилам грамматики ("красивый сумка", "веселые день")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Аграмматизмы на письме отмечаются на уровне слова, словосочетания, предложения и текста.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Аграмматическая дисграфия обычно проявляется с 3-го класса, когда школьник, уже овладевший грамотой, "вплотную" приступает к изучению грамматических правил. И здесь вдруг обнаруживается, что он никак не может овладеть правилами изменения слов по падежам, числам, родам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ny-Laptop</cp:lastModifiedBy>
  <dcterms:modified xsi:type="dcterms:W3CDTF">2020-09-07T12:14:02Z</dcterms:modified>
  <cp:revision>60</cp:revision>
  <dc:subject/>
  <dc:title>1. Артикуляторно-акустическая форма дисграфии. </dc:title>
</cp:coreProperties>
</file>