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CD1C-695A-4F6C-8941-550A6A6D1D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ить работу ребёнка отсканирован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5DFB-2189-4213-96CC-1D4E3B66C998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2186-D70F-4BC2-BF0F-69862439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F7F-F164-48E8-95F7-C15F79B4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59DA7-74B3-4CDC-AA90-4ACCE65B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34537-2B56-4E5C-B0F8-D69A3424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91DA5-C2C7-4BC5-ADE6-7DA7441C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9A86F-32D9-4141-AB06-B0BD7C4C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6AF5C-574F-423C-9183-C260C38F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DB720-994A-431C-8797-B570F49B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AB310-7AE2-4B3E-B482-8EA31581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CB5CC-BDFC-410C-8D18-2D4967CA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B8EC0-5543-44BA-98DC-ACD1E862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32499-B2C2-4A38-9831-26F3B29A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247-B613-4DE4-9C11-1AD2B3DF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C2DC7-1C36-4D0E-9EE5-D6FEF857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DE353-3C9E-4EAD-973A-9AFBF1AF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A2067-206C-4FAA-9B0A-3D045EE0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0544D-511A-40C4-B9FA-2849B5A7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46DBD-734F-474D-BBC4-6A49D536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E55BD-CA08-4404-9907-5B34CB92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90007-D519-47DF-A0A4-ACE162D4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30C9E-9BC7-4A37-87A3-72BAA223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4FA14-D63D-456E-A924-310545CE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1C30B-58DB-45A6-9206-337D582E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747-4014-4E16-BE64-4D982CEE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ED04F-B799-436B-BA8C-8EF76D07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2EE57-0BED-4A3D-98B3-0638F7E2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EB3B3-8B31-4348-89E6-ACB96D6B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F214C-ACE9-44E2-9552-E7C4CD6E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3250A-BECA-4513-8A73-FC8F500F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39AD6-D6C6-42C8-ACDB-F2B24719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16157-7309-4645-BF30-8518693A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91B55-B4FF-4388-975D-A1AACE19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77297-A95E-4AC2-97A0-BC56B35F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7E5E6-ED8E-4F7A-9A46-A2D869A6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4816-B75A-411D-B9DD-BE7311FE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9A626-60F5-4AAF-ABB9-82F651A2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6B827-C72D-4A29-8D7F-D808B8B9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5BA4D-FA07-44C4-BD43-E2C1CA59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FE457-8E9C-4A1C-89D4-030B793F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527BA-E0DC-4533-BC78-9BAC252B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DECA9-1950-4E4B-9373-46801F10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7E3B3-559A-4468-9A78-46A74B46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EC9E5-2A1B-4FC1-8B11-4E28A074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9E365-9C0C-445E-875D-5C5FB299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A8B44-5965-40A1-9050-2E707E3D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C396-F708-47C0-B42A-FA1D041A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E2C2F-F730-4A5F-AFF3-F554BCD9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59A1A-74C9-4FB2-88AF-4EE4897C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04585-F029-47FF-8C17-CA79F804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09BF4-A124-49ED-945C-86FA19FE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51B57-2FDD-47BD-94C0-3497C6D0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F591-CA2D-491E-8094-660573C9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7FCE-82B0-4160-9BB0-CB9332B3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B4E8-EB85-4509-A863-2EE7B1B0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0B31-20D0-46B4-9937-1E36FA7E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F66F-84C8-4D3D-83CC-08559870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9A0-C2F8-469E-B27B-4F6FA9A3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C478-EE76-4CB1-A52E-9401C464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6B72-194C-4553-8CC0-AA2DDA5F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882D-0E55-4977-BAAF-47C93D2C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DEEB-061F-44CD-AB90-7893E586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0AD1-8CCB-470C-B9D2-602B680B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F14A-1412-41F6-AEA8-38618D5D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134A-553E-4084-965C-C9600139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F007F-CE03-40A6-A556-F31E9290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325A9-47F1-4212-AC53-0C15B636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C445B-F053-470A-8477-C6709463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5E5-37E1-442E-852B-F367DB6C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C769B-89DA-409C-8AC2-96F1B6F3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0CEA-0307-4F34-BFCD-C20DCC35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1CC94-C886-4423-8958-DAC7081D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AA155-CFD6-4E21-9A5B-8180E546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0A054-15B8-40B6-9609-9AA6655C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A70EB-F9E6-4629-9F6D-218F7905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2FEE9-76A8-4F93-9EFF-6E28D5F3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0A64B-A169-47CD-9C01-5900629C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D95D4-37C1-4CFB-A5E2-7242D9EF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5513C-B25E-4917-B433-D7B1A6D2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7E3-C4A3-45D6-BBC7-7222C2A3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8C2D4-4A52-4117-8EF5-907C4743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327E5-1E9E-43E8-B02B-192E34FF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D8F2E-9870-494B-B1E0-7650BC1E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5E227-FFF6-4E80-BAB6-30BCE569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7348A-08AA-4B31-B838-C6376BBA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4D781-3A8D-4C26-805A-EC773D78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CD799-D32C-4C1E-A32A-3B2FB385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1B9A1-3868-4295-94DD-1EAE090B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B2842-48D9-4424-BC60-755F6273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3E8CE-151D-414B-8A05-AB8E3614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5A2-5213-48DF-B44D-B238EF10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0F2AB-DE5E-4C5D-B3E4-75BFAA97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68700-30AA-4240-BD80-E561D937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9ED39-4579-4CDC-AC10-7619FBB3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0C321-94F9-4076-BF0A-DB52ED76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67697-52ED-4945-BB9D-FBDB9460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0BFEB-A6BD-461D-8A14-C9814118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E7BB9-817B-4D48-A567-E4FA179E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956C7-4FA3-4B6D-BBF4-A05A8E77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C2055-858B-4204-837C-7F976644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11F50-CE85-495D-89F1-984A713D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5FA-2F2C-467C-B4F8-D73E6E16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C7663-793D-45EF-977D-0848DFDD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870A7-E398-4E06-9A6B-EEAA5550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EA271-C9D0-4C4C-B573-36E7DFB0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915B2-C834-4009-8A56-40524F89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99BD9-BD7F-4327-8544-BF51856A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3C03B-22C4-49AD-ABB2-1210FF22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54413-7303-4D55-8AC4-BCA33AF0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95E65-2C58-4A7A-8037-BA773A20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12FFE-B51A-4CC0-A049-4C921A46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27214-3118-4D63-BC77-8DDF9190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BC1-EFE3-4591-8115-3A08FA39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95F72-155D-41E5-862A-3BF8A46B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A6CF1-BF6D-41E8-A4C2-5D618F70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1021A-384B-46AE-A8A7-1731754D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BD3E7-FAD6-42A0-847B-47D20613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9D4E5-274C-4082-A19D-4ADE13AB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E9514-4CAE-43E1-865F-39205AD0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E5A7C-DD99-4C9C-9B5D-5BFA0670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3537C-8B1F-4ED0-B022-AD167D75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F8D01-8082-4078-BF5D-1723BC30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5F916-3498-4701-8D56-8F9EB12C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C78-B4AC-4E15-80E2-70B1E936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FD9EF-C9A3-4156-8D98-5BCD681A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96849-2F74-4784-B523-9B33DD19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7770A-D14B-4A5E-860D-CB69CF0D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A0D1A-EE4A-46EA-979B-0AFB233F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4FD9A-59BA-4DBC-81CA-1EF8B87D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4E5E8-82BB-447A-9695-22BEBD0B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FF535-A99B-43A4-885A-10E97F0A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104BA-B40A-4589-A2B7-2FE2166A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91D55-78DB-480C-948F-8F8259F7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7F727-3FB0-4E3A-8749-9B8AD02A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585-C6F3-4937-A4C2-F7610BE0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74D46-BDB1-49CD-8304-42F067FD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D1177-9F94-4CEB-9BE2-A6ACC6B1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E3107-2444-4B51-B95F-9D5FC8AF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FC7CB-10B9-4F1A-8069-E60A53EA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FB2D8-DB1B-47A2-ADF2-92997D7B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948F1-7FEE-408C-9D4F-EBBA56FB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5711C-2CB5-4DE1-9328-2642F9BF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7A00A-190E-403A-8D1B-622ECDF4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FBE78-9D27-4C14-9AFB-87A6D3AA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35CF5-9FE7-4BCF-A699-3E9EDD7B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0ADE-A5F2-40A5-B94A-1AA891AE57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6F65-1907-441E-8250-B2048307A9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42D0-EF77-489C-A14F-BB7583DC07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1CDA-4B7A-4B24-B438-1C9A7B700A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4741-7B72-41D7-A4E6-88597A828FB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8619-27C6-4A8C-86D4-7713CD9744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AFB9-2E26-498E-B578-41B0116537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5BA6-63B3-4D97-BCF8-5479AB5C02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76AB-2ACB-43FC-B8F3-236137121B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B6D2-3C6A-4960-91FA-1F0014B868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D7FC-7E60-46C8-8B93-4ACCB765A8A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8f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01B8-DE2F-4E5C-9EAE-79117B0EE9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3"/>
          <p:cNvSpPr/>
          <p:nvPr/>
        </p:nvSpPr>
        <p:spPr>
          <a:xfrm>
            <a:off x="34920" y="162864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«Нарушения письменной речи у учащихся младшего школьного возрас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Calibri"/>
              </a:rPr>
              <a:t>5. Оптическая дисграфия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Все буквы русского алфавита состоят из набора одних и тех же элементов ("палочки", "овалы") и нескольких "специфичных" элементов. Одинаковые элементы по-разному комбинируясь в пространстве, и образуют различные буквенные знаки: и, ш, ц, щ; б, в, д, у...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Если ребенок не улавливает тонких различий между буквами, то это непременно приведет к трудностям усвоения начертания букв и к неправильному изображению их на письме.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Прямоугольник 3"/>
          <p:cNvSpPr/>
          <p:nvPr/>
        </p:nvSpPr>
        <p:spPr>
          <a:xfrm>
            <a:off x="684360" y="5877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роявляется в заменах и искажениях на письме графически сходных рукописных букв (и-ш, п-т, т-ш, в-д, б-д, л-м, э-с и др.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4"/>
          <p:cNvSpPr/>
          <p:nvPr/>
        </p:nvSpPr>
        <p:spPr>
          <a:xfrm>
            <a:off x="395280" y="119700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чина возникновения — несформированность зрительно-пространственных функций и зрительного анализа и синтез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8000"/>
                </a:solidFill>
                <a:uFillTx/>
                <a:latin typeface="Calibri"/>
              </a:rPr>
              <a:t>Ошибки, наиболее часто встречающиеся на письме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- недописывание элементов букв (связано с недоучетом их количества): Л вместо М; Х вместо Ж и т.д.;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- добавление лишних элементов;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- пропуски элементов, особенно при соединении букв, включающих одинаковый элемент;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- зеркальное написание букв.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Прямоугольник 4"/>
          <p:cNvSpPr/>
          <p:nvPr/>
        </p:nvSpPr>
        <p:spPr>
          <a:xfrm>
            <a:off x="-181080" y="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  <a:ea typeface="Arial"/>
              </a:rPr>
              <a:t>На что нужно обратить особое внима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оугольник 7"/>
          <p:cNvSpPr/>
          <p:nvPr/>
        </p:nvSpPr>
        <p:spPr>
          <a:xfrm>
            <a:off x="179280" y="692280"/>
            <a:ext cx="89647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1. Если Ваш ребенок левш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2. Если он - переученный правш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3. Если Ваш ребенок посещал логопедическую группу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4. Если в семье говорят на двух или более языках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5. Если Ваш ребенок слишком рано пошел в школу (неоправданно ранее обучение грамоте иногда провоцирует возникновение нарушений письменной речи.) Происходит это в тех случаях, когда у ребенка еще не наступила психологическая готовность к такому обучению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6. Если у Вашего ребенка есть проблемы с памятью, вниманием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7. Смешение букв по оптическому сходству: б-п, т-п, а-о, е-з, д-у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8. Ошибки, вызванные нарушенным произношением, ребенок пишет то, что говорит: лека (река), суба (шуба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9. При нарушенном фонематическом восприятии смешиваются гласные о-у, ё-ю, согласные р-л, й-ль, парные звонкие и глухие согласные, свистящие и шипящие, звуки ц, ч, щ. Например: тыня (дыня), клёква (клюква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10. Пропуски букв, слогов, недописывание слов. Например: прта - парта, моко - молоко, весёлы (весёлый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НИМАНИЕ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3100" spc="-1" strike="noStrike">
                <a:solidFill>
                  <a:srgbClr val="002060"/>
                </a:solidFill>
                <a:latin typeface="Calibri"/>
              </a:rPr>
              <a:t>Дети с нарушением письменной речи, как правило, имеют хорошую зрительную память. Поэтому ни в коем случае нельзя предлагать им упражнения, где требуется исправить ошибки, изначально допущенные. Выполнение подобных упражнений может пагубно сказаться (из-за той же зрительной памяти) и на учащихся, имеющих навык грамотного письма. </a:t>
            </a:r>
            <a:br>
              <a:rPr sz="3100"/>
            </a:br>
            <a:r>
              <a:rPr b="1" lang="ru-RU" sz="3100" spc="-1" strike="noStrike">
                <a:solidFill>
                  <a:srgbClr val="002060"/>
                </a:solidFill>
                <a:latin typeface="Calibri"/>
              </a:rPr>
              <a:t>НЕ ПРЕДЛАГАЙТЕ ДЕТЯМ ИСПРАВЛЯТЬ ОШИБКИ, НАУЧИТЕ ИХ НЕ ДЕЛАТЬ ОШИБОК. </a:t>
            </a:r>
            <a:br>
              <a:rPr sz="2500"/>
            </a:b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Письмо — это сложная форма речевой деятельности, многоуровневый процесс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Rectangle 1"/>
          <p:cNvSpPr/>
          <p:nvPr/>
        </p:nvSpPr>
        <p:spPr>
          <a:xfrm>
            <a:off x="395280" y="1505520"/>
            <a:ext cx="81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В нем принимают участие речеслуховой, речедвигательный, зрительный, общедвигательный анализаторы. Между ними в процессе письма устанавливается тесная связь. Письмо тесно связано с устной речью, степенью ее развития. Оно основывается на умении различать звуки речи, вычленять их в потоке речи и соединять, правильно произносить. Чтобы написать слово, ребенку необходим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определить его звуковую структуру, последовательность и место каждого звук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соотнести выделенный звук с определенным образом буквы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воспроизвести с помощью движений руки букв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Чтобы написать предложение, необходимо мысленно его выстроить, проговорить, сохранить нужный порядок написания, разбить предложение на составляющие его слова, обозначить границы каждого сл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Прямоугольник 5"/>
          <p:cNvSpPr/>
          <p:nvPr/>
        </p:nvSpPr>
        <p:spPr>
          <a:xfrm>
            <a:off x="179280" y="0"/>
            <a:ext cx="87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"/>
              </a:rPr>
              <a:t>Если у ребенка имеются нарушения хотя бы в одной из этих функци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слуховой дифференциации звуков,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неправильного их произношения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-нарушение в  звуковом анализе и синтезе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лексико-грамматической стороне речи,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зрительном анализе и синтезе,                                                    - пространственных представлениях,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то может возникнуть нарушение процесса овладения письмом — дисграфия (от греческого "графо" — письмо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ямоугольник 6"/>
          <p:cNvSpPr/>
          <p:nvPr/>
        </p:nvSpPr>
        <p:spPr>
          <a:xfrm>
            <a:off x="539640" y="4005360"/>
            <a:ext cx="748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Дисграфия — это специфическое  расстройство письменной речи, проявляющееся в многочисленных типичных ошибках стойкого характера и обусловленное несформированностью высших психических функций, участвующих в процессе овладения навыками пись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рямоугольник 7"/>
          <p:cNvSpPr/>
          <p:nvPr/>
        </p:nvSpPr>
        <p:spPr>
          <a:xfrm>
            <a:off x="0" y="6211800"/>
            <a:ext cx="88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Специфические ошибки(т.е. не связанные с применением орфографических правил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Calibri"/>
              </a:rPr>
              <a:t>1. Артикуляторно-акустическая форма дисграфии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08000" y="1628640"/>
            <a:ext cx="9036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Замена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-Л,                          С-Ш,                        Ж-З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ак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ак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тол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ш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тол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ж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к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к    ковё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– ковё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ала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ш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ала       ко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ж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а - ко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а                   б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ёза – б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ёза     ка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а – ка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ш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а     до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ж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дь – до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д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щ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енок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енок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адь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а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ц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ыплёнок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ыплёнок        рукав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ц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ы - рукав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ик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ик (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ик,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ик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611280" y="2577960"/>
            <a:ext cx="78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чиной возникновения этого вида нарушений является неправильное произношение звуков реч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Ребенок пишет слова так, как их произноси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о есть отражает своё дефектное произношение на пись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071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8000"/>
                </a:solidFill>
                <a:latin typeface="Calibri"/>
              </a:rPr>
              <a:t>2. Акустическая форма дисграфии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0" y="62064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400" spc="-1" strike="noStrike">
                <a:solidFill>
                  <a:srgbClr val="ffffff"/>
                </a:solidFill>
                <a:latin typeface="Calibri"/>
              </a:rPr>
              <a:t>                                                    </a:t>
            </a: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мешиваются букв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обозначающие звонкие - глухие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Б-П; В-Ф; Д-Т; Ж-Ш и т.д.)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свистящие - шипящие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С-Ш; З-Ж и т.д.)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аффрикаты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и компоненты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Ч-Щ; Ч-ТЬ; Ц-Т; Ц-С и т.д.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Также проявляется в неправильном обозначении мягкости согласных на письме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"писмо", "лубит", "больит" и т.д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Прямоугольник 4"/>
          <p:cNvSpPr/>
          <p:nvPr/>
        </p:nvSpPr>
        <p:spPr>
          <a:xfrm>
            <a:off x="1763640" y="292428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Причиной возникновения этого вида является нарушение дифференциации, распознавания близких звуков реч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рямоугольник 3"/>
          <p:cNvSpPr/>
          <p:nvPr/>
        </p:nvSpPr>
        <p:spPr>
          <a:xfrm>
            <a:off x="179280" y="0"/>
            <a:ext cx="871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арные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звонкие – глухие согласные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3 — С - «кослик», «вазилёк», «привосит», «река узнула, как в зказке», «звою сумку», «саснуть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Б — П - «попеда», «бодарил», «просают», «пельё», «балатка», «польши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Ж — Ш - «шдёт», «ужибла», «кружился снешок», «жумно», «жишки», «ложадь», «весело шушшали шуки...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Г — К — «долко», «клавный», «досга», «кокда», «собага», «груглый», «уколок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 — Ф — «портвель», «ворточка», «картовель», «вавли», «фьюга», «ковта».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Д - Т — «тавно», «сыдый», «деди», «дрещат», «медёт вьюга», «втрук», «ситит», «блетный», «допетое бревно», «итут домой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Прямоугольник 4"/>
          <p:cNvSpPr/>
          <p:nvPr/>
        </p:nvSpPr>
        <p:spPr>
          <a:xfrm>
            <a:off x="179280" y="2924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Глас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 — У — «звенит рочей», «по хрупкумульду», «сизый голобь», «дедошк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Ё — Ю — «клёква», «лёбит», «замюрзли», «тюплый», «салёт», «самолют», «перелютные птицы», «висело ружью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Прямоугольник 5"/>
          <p:cNvSpPr/>
          <p:nvPr/>
        </p:nvSpPr>
        <p:spPr>
          <a:xfrm>
            <a:off x="0" y="42926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Африкаты: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  Ч — Щ — «стущал», «роча», «хичный», «чепки», «пича», «щасто».  Ч-Ц - «сквореч», «граци», «чапля», «процитал», «цястый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Ч — Т — «черчит», «утитель», «Жутька», «вместе играч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Ц – Т - девотька». «пцицы», «цвецет», «Пеця»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Ц - С - «рельцы», «куриса», «улиса»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Calibri"/>
              </a:rPr>
              <a:t>3. Дисграфия на почве нарушения языкового анализа и синтеза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Это наиболее часто встречающаяся форма дисграфии у детей, страдающих нарушениями письменной речи. Для нее наиболее характерны следующие ошибки: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·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пуски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букв и слогов;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·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ерестановка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букв и (или) слогов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·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едописывание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слов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·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писание лишних букв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слове (бывает, когда ребенок, проговаривая при письме, очень долго "поет звук"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·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вторение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букв и (или) слогов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.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онтоминация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- в одном слове слоги разных слов;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·  слитное написание предлогов, раздельное написание приставок ("настоле", "на ступила").</a:t>
            </a:r>
            <a:br>
              <a:rPr sz="22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Прямоугольник 3"/>
          <p:cNvSpPr/>
          <p:nvPr/>
        </p:nvSpPr>
        <p:spPr>
          <a:xfrm>
            <a:off x="1116000" y="2205000"/>
            <a:ext cx="631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Причина ее возникновения — затруднения при делении предложений на слов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слов на слоги, зву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"/>
          <p:cNvSpPr/>
          <p:nvPr/>
        </p:nvSpPr>
        <p:spPr>
          <a:xfrm>
            <a:off x="250920" y="504360"/>
            <a:ext cx="8785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пуски гласных букв; всят-висят, комнта-комната, урожй-урожа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пуски согласных букв: комата-комната, вей-все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пуски слогов и частей слова: стрки-стрелк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замена гласных: пище-пищу, сесен-сосен, люгкий-легки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замена согласных: тва-два, роча-роща, урошай-урожай, боказываед-показывае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ерестановки букв и слогов: онко-окно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недописывание букв и слогов: чере-через, на ветка-на ветках, диктан-диктан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наращивание слов лишними буквами и слогами: детити-дети, снег-сенег, диктанат-диктан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искажение слова: мальни-маленький, чайщик-чащ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слитное написание слов и их произвольное деление: два-два, бойчасов-бой часов, в ся-вс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неумение определить границы предложения в тексте, слитное написание предложений: Снег покрыл всю землю. Белым ковром. Замерзла Речка птицам голодно. — Снег покрыл всю землю белым ковром. Замерзла речка. Птицам голод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нарушение смягчения согласных: болшой-большой, толко-только, умчалис-умчались, мач-мя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Calibri"/>
              </a:rPr>
              <a:t>4. Аграмматическая дисграфия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08000" y="1268280"/>
            <a:ext cx="8578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ричина недоразвитие грамматического строя речи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Это выражается в неправильном написании окончаний слов, в неумении согласовать слова между собой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-  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Ребенок пишет как бы вопреки правилам грамматики ("красивый сумка", "веселые день")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Аграмматизмы на письме отмечаются на уровне слова, словосочетания, предложения и текста.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 Аграмматическая дисграфия обычно проявляется с 3-го класса, когда школьник, уже овладевший грамотой, "вплотную" приступает к изучению грамматических правил. И здесь вдруг обнаруживается, что он никак не может овладеть правилами изменения слов по падежам, числам, родам.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ny-Laptop</cp:lastModifiedBy>
  <dcterms:modified xsi:type="dcterms:W3CDTF">2020-09-07T12:14:02Z</dcterms:modified>
  <cp:revision>60</cp:revision>
  <dc:subject/>
  <dc:title>1. Артикуляторно-акустическая форма дисграфии. </dc:title>
</cp:coreProperties>
</file>