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32.gif" ContentType="image/gif"/>
  <Override PartName="/ppt/media/image22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31.jpeg" ContentType="image/jpeg"/>
  <Override PartName="/ppt/media/image14.gif" ContentType="image/gif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627-2CD2-46EE-9C78-7D28F237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6D2-5678-4E80-8809-64B47E3C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C72-5951-4861-9464-949F068D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2A7-E32D-4ABC-AA33-51F2443B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1D5-A54E-4E58-9D2A-596BC8F7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B0A-DDF7-431E-B11A-3068D6F2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D27-4300-469A-9EDE-38BA46FF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53F-3DFA-4528-B17F-67889B58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E45-BAA3-4B19-AEA0-9679FC16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76F-31BE-4A94-80BE-D55A847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540-856B-4AB5-ADED-567C320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E0F-4E24-431C-85E9-C42067AC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61D9-D92F-4E15-BE8C-E19A71D92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Georgia"/>
              </a:rPr>
              <a:t>Конвенция </a:t>
            </a:r>
            <a:br>
              <a:rPr sz="5400"/>
            </a:br>
            <a:r>
              <a:rPr b="1" lang="ru-RU" sz="5400" spc="-1" strike="noStrike">
                <a:solidFill>
                  <a:srgbClr val="990033"/>
                </a:solidFill>
                <a:latin typeface="Georgia"/>
              </a:rPr>
              <a:t>о правах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4365720"/>
            <a:ext cx="5895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Одобрена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Генеральной ассамблеей ООН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20 ноября 198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зем"/>
          <p:cNvPicPr/>
          <p:nvPr/>
        </p:nvPicPr>
        <p:blipFill>
          <a:blip r:embed="rId2"/>
          <a:stretch/>
        </p:blipFill>
        <p:spPr>
          <a:xfrm>
            <a:off x="6480000" y="4398840"/>
            <a:ext cx="2556000" cy="24148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09-7"/>
          <p:cNvPicPr/>
          <p:nvPr/>
        </p:nvPicPr>
        <p:blipFill>
          <a:blip r:embed="rId1"/>
          <a:stretch/>
        </p:blipFill>
        <p:spPr>
          <a:xfrm>
            <a:off x="971640" y="1052640"/>
            <a:ext cx="3411360" cy="4105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643280" y="1557360"/>
            <a:ext cx="35276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Запросы членов семей, живущих в разных странах и желающих соединиться, должны  рассматриваться доброжелательно, гуманно и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2879640" cy="279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86556[1]"/>
          <p:cNvPicPr/>
          <p:nvPr/>
        </p:nvPicPr>
        <p:blipFill>
          <a:blip r:embed="rId2"/>
          <a:stretch/>
        </p:blipFill>
        <p:spPr>
          <a:xfrm>
            <a:off x="2627280" y="4076640"/>
            <a:ext cx="1655640" cy="1293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4643280" y="1557360"/>
            <a:ext cx="35276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Государства-участники принимают меры для борьбы с незаконным перемещением и невозвращением детей из-за г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4716360" y="1052640"/>
            <a:ext cx="352764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2-15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высказывать свое мнение по всем имеющим к нему отношение вопросам. При рассмотрении судом и властями дел, касающихся ребенка необходимо заслушать его показания и действовать прежде всего в его интересах. Права ребенка на свободу мысли, свободу совести и вероисповедания должны ува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MCj02334420000[1]"/>
          <p:cNvPicPr/>
          <p:nvPr/>
        </p:nvPicPr>
        <p:blipFill>
          <a:blip r:embed="rId1"/>
          <a:stretch/>
        </p:blipFill>
        <p:spPr>
          <a:xfrm>
            <a:off x="1476360" y="1268280"/>
            <a:ext cx="3024360" cy="240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ро"/>
          <p:cNvPicPr/>
          <p:nvPr/>
        </p:nvPicPr>
        <p:blipFill>
          <a:blip r:embed="rId2"/>
          <a:stretch/>
        </p:blipFill>
        <p:spPr>
          <a:xfrm>
            <a:off x="900000" y="2924280"/>
            <a:ext cx="1133640" cy="255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643280" y="692280"/>
            <a:ext cx="3527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6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право на личную жизнь, семейную жизнь, неприкосновенность жилища или тайну корреспонденции, право на защиту чести и репу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почта"/>
          <p:cNvPicPr/>
          <p:nvPr/>
        </p:nvPicPr>
        <p:blipFill>
          <a:blip r:embed="rId1"/>
          <a:stretch/>
        </p:blipFill>
        <p:spPr>
          <a:xfrm>
            <a:off x="900000" y="907920"/>
            <a:ext cx="2519640" cy="360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78"/>
          <p:cNvPicPr/>
          <p:nvPr/>
        </p:nvPicPr>
        <p:blipFill>
          <a:blip r:embed="rId2"/>
          <a:stretch/>
        </p:blipFill>
        <p:spPr>
          <a:xfrm>
            <a:off x="2556000" y="2133720"/>
            <a:ext cx="2009520" cy="3220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643280" y="3300480"/>
            <a:ext cx="3600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7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должен иметь доступ к информации, направленной на содействие его здоровому физическому и психическому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716360" y="1484280"/>
            <a:ext cx="3456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8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одители имеют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общую и первичную ответственность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 за воспитание и развитие ребенка. Они обязаны в первую очередь думать об интересах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e02642_[1]"/>
          <p:cNvPicPr/>
          <p:nvPr/>
        </p:nvPicPr>
        <p:blipFill>
          <a:blip r:embed="rId1"/>
          <a:stretch/>
        </p:blipFill>
        <p:spPr>
          <a:xfrm>
            <a:off x="971640" y="1844640"/>
            <a:ext cx="3529080" cy="211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716360" y="692280"/>
            <a:ext cx="35276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9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на защиту от физического и психического насилия, от отсутствия ухода или использования родителями или опекунами в их интере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3701880"/>
            <a:ext cx="3527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, который по разным причинам лишен семейного окружения имеет право на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особую защиту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j0089636[1]"/>
          <p:cNvPicPr/>
          <p:nvPr/>
        </p:nvPicPr>
        <p:blipFill>
          <a:blip r:embed="rId1"/>
          <a:stretch/>
        </p:blipFill>
        <p:spPr>
          <a:xfrm>
            <a:off x="1258920" y="1268280"/>
            <a:ext cx="256212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43280" y="1484280"/>
            <a:ext cx="35276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0-2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, лишившийся семьи, имеет право на альтернативное попечение. При усыновлении государства обязаны позаботиться об интересах ребенка в соответствии с действующими зак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род"/>
          <p:cNvPicPr/>
          <p:nvPr/>
        </p:nvPicPr>
        <p:blipFill>
          <a:blip r:embed="rId1"/>
          <a:stretch/>
        </p:blipFill>
        <p:spPr>
          <a:xfrm>
            <a:off x="971640" y="162864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716360" y="1773360"/>
            <a:ext cx="3456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2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-беженец, прибывший один, со своими родителями или третьим лицом, имеет право на защиту и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14-45"/>
          <p:cNvPicPr/>
          <p:nvPr/>
        </p:nvPicPr>
        <p:blipFill>
          <a:blip r:embed="rId1"/>
          <a:srcRect l="3745" t="0" r="3788" b="0"/>
          <a:stretch/>
        </p:blipFill>
        <p:spPr>
          <a:xfrm>
            <a:off x="971640" y="1484280"/>
            <a:ext cx="35290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43280" y="1341360"/>
            <a:ext cx="3600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3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Любой ребенок с физическими или психическими недостатками имеет право на полноценную и достойную жизнь, обеспечивающую активное участие в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инв"/>
          <p:cNvPicPr/>
          <p:nvPr/>
        </p:nvPicPr>
        <p:blipFill>
          <a:blip r:embed="rId1"/>
          <a:stretch/>
        </p:blipFill>
        <p:spPr>
          <a:xfrm>
            <a:off x="971640" y="2133720"/>
            <a:ext cx="3456000" cy="208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716360" y="765000"/>
            <a:ext cx="360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4-27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на здравоохранение и медицинское обслуживание. Все страны обязаны работать над понижением уровня детской смертности, бороться с болезнями и недоеданием, а также над ликвидацией традиционных и опасных для здоровья обычаев. Беременные женщины и молодые мамы имеют право на медицинск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6"/>
          <p:cNvPicPr/>
          <p:nvPr/>
        </p:nvPicPr>
        <p:blipFill>
          <a:blip r:embed="rId1"/>
          <a:stretch/>
        </p:blipFill>
        <p:spPr>
          <a:xfrm>
            <a:off x="971640" y="981000"/>
            <a:ext cx="3151080" cy="424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319826[1]"/>
          <p:cNvPicPr/>
          <p:nvPr/>
        </p:nvPicPr>
        <p:blipFill>
          <a:blip r:embed="rId2"/>
          <a:stretch/>
        </p:blipFill>
        <p:spPr>
          <a:xfrm>
            <a:off x="3203640" y="260280"/>
            <a:ext cx="1081080" cy="998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Georgia"/>
              </a:rPr>
              <a:t>Конвенция о правах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онвенция</a:t>
            </a:r>
            <a:r>
              <a:rPr b="1" i="1" lang="ru-RU" sz="2000" spc="-1" strike="noStrike">
                <a:solidFill>
                  <a:srgbClr val="990033"/>
                </a:solidFill>
                <a:latin typeface="Georgia"/>
              </a:rPr>
              <a:t> - международный договор, по определенным предметам общего интереса, большей частью вне связи с поли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кн"/>
          <p:cNvPicPr/>
          <p:nvPr/>
        </p:nvPicPr>
        <p:blipFill>
          <a:blip r:embed="rId2"/>
          <a:stretch/>
        </p:blipFill>
        <p:spPr>
          <a:xfrm>
            <a:off x="395280" y="2492280"/>
            <a:ext cx="3430440" cy="3816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0"/>
          <p:cNvSpPr txBox="1"/>
          <p:nvPr/>
        </p:nvSpPr>
        <p:spPr>
          <a:xfrm>
            <a:off x="1258920" y="3284640"/>
            <a:ext cx="172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рава 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ребенка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851280" y="227664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1923 г.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Декларация о правах ребенка, принятая Международным союзом спас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995640" y="3933720"/>
            <a:ext cx="51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1959 г.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Декларация о правах ребенка, принятая Генеральной Ассамблеей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067280" y="5445000"/>
            <a:ext cx="50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1989 г.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Конвенция о правах ребенка, принятая Генеральной Ассамблеей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6084720" y="321300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6084720" y="479736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716360" y="2060640"/>
            <a:ext cx="3311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Статья 28-29. Каждый ребенок имеет право на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ваа"/>
          <p:cNvPicPr/>
          <p:nvPr/>
        </p:nvPicPr>
        <p:blipFill>
          <a:blip r:embed="rId1"/>
          <a:stretch/>
        </p:blipFill>
        <p:spPr>
          <a:xfrm>
            <a:off x="971640" y="1773360"/>
            <a:ext cx="345600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716360" y="1268280"/>
            <a:ext cx="35276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В тех государствах, где существуют этнические, религиозные или языковые меньшинства, ребенку, принадлежащему к ним не может быть отказано в праве пользоваться своей культурой, исповедовать свою религию, пользоваться родным язы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j0183132[1]"/>
          <p:cNvPicPr/>
          <p:nvPr/>
        </p:nvPicPr>
        <p:blipFill>
          <a:blip r:embed="rId1"/>
          <a:stretch/>
        </p:blipFill>
        <p:spPr>
          <a:xfrm>
            <a:off x="1042920" y="1557360"/>
            <a:ext cx="324000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859280" y="2133720"/>
            <a:ext cx="33116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право на отдых и дос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ыва"/>
          <p:cNvPicPr/>
          <p:nvPr/>
        </p:nvPicPr>
        <p:blipFill>
          <a:blip r:embed="rId1"/>
          <a:stretch/>
        </p:blipFill>
        <p:spPr>
          <a:xfrm>
            <a:off x="1116000" y="1052640"/>
            <a:ext cx="3086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716360" y="1484280"/>
            <a:ext cx="3456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2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право на защиту от экономического использования и тяжелой работы, которая вредит или мешает образованию и подвергает опасности здоровь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пр"/>
          <p:cNvPicPr/>
          <p:nvPr/>
        </p:nvPicPr>
        <p:blipFill>
          <a:blip r:embed="rId1"/>
          <a:stretch/>
        </p:blipFill>
        <p:spPr>
          <a:xfrm>
            <a:off x="1042920" y="1197000"/>
            <a:ext cx="325116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716360" y="765000"/>
            <a:ext cx="352764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Статья 33-39. Каждый ребенок имеет право на защиту от незаконного употребления наркотиков, на защиту от всех форм сексуальной эксплуатации и сексуального совращения, на защиту от всех других форм эксплуатации, от жестокого обращения. Государства принимаю все меры для физического и психологического восстановления ребенка, являющегося жерт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202-852"/>
          <p:cNvPicPr/>
          <p:nvPr/>
        </p:nvPicPr>
        <p:blipFill>
          <a:blip r:embed="rId1"/>
          <a:stretch/>
        </p:blipFill>
        <p:spPr>
          <a:xfrm>
            <a:off x="914400" y="1197000"/>
            <a:ext cx="322596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 flipH="1">
            <a:off x="3276720" y="2708280"/>
            <a:ext cx="1388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716360" y="1125360"/>
            <a:ext cx="352764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40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, который обвиняется или признается в нарушении уголовного законодательства имеет право на такое обращение, которое способствует развитию у ребенка чувства достоинства и значимости, укрепляет в нем уважение к правам человека и основным свободам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сми"/>
          <p:cNvPicPr/>
          <p:nvPr/>
        </p:nvPicPr>
        <p:blipFill>
          <a:blip r:embed="rId1"/>
          <a:stretch/>
        </p:blipFill>
        <p:spPr>
          <a:xfrm>
            <a:off x="1332000" y="1268280"/>
            <a:ext cx="26002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3300"/>
                </a:solidFill>
                <a:latin typeface="Georgia"/>
              </a:rPr>
              <a:t>СПАСИБО  ЗА</a:t>
            </a:r>
            <a:br>
              <a:rPr sz="6000"/>
            </a:br>
            <a:r>
              <a:rPr b="0" i="1" lang="ru-RU" sz="6000" spc="-1" strike="noStrike">
                <a:solidFill>
                  <a:srgbClr val="cc3300"/>
                </a:solidFill>
                <a:latin typeface="Georgi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04"/>
          <p:cNvPicPr/>
          <p:nvPr/>
        </p:nvPicPr>
        <p:blipFill>
          <a:blip r:embed="rId1"/>
          <a:stretch/>
        </p:blipFill>
        <p:spPr>
          <a:xfrm>
            <a:off x="4719600" y="836640"/>
            <a:ext cx="3387600" cy="4608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1042920" y="2565360"/>
            <a:ext cx="3322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нвенция ООН</a:t>
            </a:r>
            <a:endParaRPr b="1" lang="en-US" sz="2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 правах </a:t>
            </a:r>
            <a:endParaRPr b="1" lang="en-US" sz="2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бенка</a:t>
            </a:r>
            <a:endParaRPr b="1" lang="en-US" sz="2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716360" y="2133720"/>
            <a:ext cx="3384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1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– это каждый человек в мире, не достигший 18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олдж"/>
          <p:cNvPicPr/>
          <p:nvPr/>
        </p:nvPicPr>
        <p:blipFill>
          <a:blip r:embed="rId1"/>
          <a:stretch/>
        </p:blipFill>
        <p:spPr>
          <a:xfrm>
            <a:off x="1114560" y="1123920"/>
            <a:ext cx="324144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572000" y="2276640"/>
            <a:ext cx="3816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2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Все дети имеют одинаковые права и равную ценность. Никто не должен подвергаться дискрим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глава"/>
          <p:cNvPicPr/>
          <p:nvPr/>
        </p:nvPicPr>
        <p:blipFill>
          <a:blip r:embed="rId1"/>
          <a:stretch/>
        </p:blipFill>
        <p:spPr>
          <a:xfrm>
            <a:off x="900000" y="1123920"/>
            <a:ext cx="3600720" cy="3600360"/>
          </a:xfrm>
          <a:prstGeom prst="rect">
            <a:avLst/>
          </a:prstGeom>
          <a:ln w="9360">
            <a:solidFill>
              <a:srgbClr val="5f3f1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43280" y="2205000"/>
            <a:ext cx="3673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3 - 4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Учреждения, службы и органы, ответственные за заботу о детях, в первую очередь, всегда учитывают интересы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j0149771[1]"/>
          <p:cNvPicPr/>
          <p:nvPr/>
        </p:nvPicPr>
        <p:blipFill>
          <a:blip r:embed="rId1"/>
          <a:stretch/>
        </p:blipFill>
        <p:spPr>
          <a:xfrm>
            <a:off x="826920" y="1460520"/>
            <a:ext cx="3673800" cy="24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апро"/>
          <p:cNvPicPr/>
          <p:nvPr/>
        </p:nvPicPr>
        <p:blipFill>
          <a:blip r:embed="rId2"/>
          <a:stretch/>
        </p:blipFill>
        <p:spPr>
          <a:xfrm>
            <a:off x="3503520" y="2565360"/>
            <a:ext cx="9241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716360" y="907920"/>
            <a:ext cx="3456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6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Каждый ребенок имеет неотъемлемое право на жизнь и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митр"/>
          <p:cNvPicPr/>
          <p:nvPr/>
        </p:nvPicPr>
        <p:blipFill>
          <a:blip r:embed="rId1"/>
          <a:stretch/>
        </p:blipFill>
        <p:spPr>
          <a:xfrm>
            <a:off x="1116000" y="1052640"/>
            <a:ext cx="3160800" cy="424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4716360" y="2637000"/>
            <a:ext cx="35276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7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имеет право на имя, национальность, гражданство с момента рождения, имеет право, насколько это возможно, знать, кто его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лд"/>
          <p:cNvPicPr/>
          <p:nvPr/>
        </p:nvPicPr>
        <p:blipFill>
          <a:blip r:embed="rId1"/>
          <a:stretch/>
        </p:blipFill>
        <p:spPr>
          <a:xfrm>
            <a:off x="1332000" y="981000"/>
            <a:ext cx="2903400" cy="4248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4788000" y="2060640"/>
            <a:ext cx="3311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8. Каждый ребенок имеет право сохранение совей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45080" y="1341360"/>
            <a:ext cx="35272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тья 9.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ебенок не должен жить отдельно от своих родителей против своего желания, кроме как в случаях, когда это отвечает его интересам. Ребенок, который не живет с обоими родителями имеет право встречаться с ними обоими рег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семь"/>
          <p:cNvPicPr/>
          <p:nvPr/>
        </p:nvPicPr>
        <p:blipFill>
          <a:blip r:embed="rId1"/>
          <a:stretch/>
        </p:blipFill>
        <p:spPr>
          <a:xfrm>
            <a:off x="900000" y="1123920"/>
            <a:ext cx="354024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7:34:33Z</dcterms:created>
  <dc:creator>gusenko</dc:creator>
  <dc:description/>
  <dc:language>en-US</dc:language>
  <cp:lastModifiedBy>Лариса</cp:lastModifiedBy>
  <dcterms:modified xsi:type="dcterms:W3CDTF">2020-09-09T14:53:08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