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05C-EF6A-4F99-85D7-5D3C63B3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972-DD1F-4892-B180-6EEA3093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9EE-20A0-4091-9308-8E93481F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595-4D10-4208-A9C1-1712037C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C98-A02B-4C95-9D07-21C6DE8A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64F-0905-47BC-B610-04562DBF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B43-709E-4CC5-A0F6-FA1E6086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E12-0609-4CF0-86F4-A919341E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E4E-6B3E-410C-87FC-23CA3E42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18C-E69B-4401-B9A8-BEE091C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D49-6232-4C90-A897-40ACAF04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C04-ED61-4D0D-A868-EC0DD010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DE6F-76E8-417B-BE40-12A3968E8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81080" y="0"/>
          <a:ext cx="9325080" cy="6858000"/>
        </p:xfrm>
        <a:graphic>
          <a:graphicData uri="http://schemas.openxmlformats.org/drawingml/2006/table">
            <a:tbl>
              <a:tblPr/>
              <a:tblGrid>
                <a:gridCol w="3108600"/>
                <a:gridCol w="3108240"/>
                <a:gridCol w="310824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952720" cy="215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115920"/>
            <a:ext cx="144000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108000" y="115920"/>
            <a:ext cx="1511280" cy="2089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76360" y="458136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-108000" y="4581360"/>
            <a:ext cx="151128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58136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987640" y="458136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87640" y="573408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500720" y="115920"/>
            <a:ext cx="151128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987640" y="115920"/>
            <a:ext cx="144000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4500720" y="1125360"/>
            <a:ext cx="1511280" cy="115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2987640" y="1125360"/>
            <a:ext cx="1440000" cy="115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1476360" y="227664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-108000" y="227664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1476360" y="3357720"/>
            <a:ext cx="1440000" cy="115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-108000" y="3357720"/>
            <a:ext cx="1511280" cy="115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C:\Users\Администратор\Contacts\Desktop\images (3).jpg"/>
          <p:cNvPicPr/>
          <p:nvPr/>
        </p:nvPicPr>
        <p:blipFill>
          <a:blip r:embed="rId17"/>
          <a:stretch/>
        </p:blipFill>
        <p:spPr>
          <a:xfrm>
            <a:off x="6516720" y="115920"/>
            <a:ext cx="215892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C:\Users\Администратор\Contacts\Desktop\images (4).jpg"/>
          <p:cNvPicPr/>
          <p:nvPr/>
        </p:nvPicPr>
        <p:blipFill>
          <a:blip r:embed="rId18"/>
          <a:stretch/>
        </p:blipFill>
        <p:spPr>
          <a:xfrm>
            <a:off x="6516720" y="2421000"/>
            <a:ext cx="216360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C:\Users\Администратор\Contacts\Desktop\images (1).jpg"/>
          <p:cNvPicPr/>
          <p:nvPr/>
        </p:nvPicPr>
        <p:blipFill>
          <a:blip r:embed="rId19"/>
          <a:stretch/>
        </p:blipFill>
        <p:spPr>
          <a:xfrm>
            <a:off x="6516720" y="465300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0:02:18Z</dcterms:created>
  <dc:creator>Администратор</dc:creator>
  <dc:description/>
  <dc:language>en-US</dc:language>
  <cp:lastModifiedBy>Администратор</cp:lastModifiedBy>
  <dcterms:modified xsi:type="dcterms:W3CDTF">2018-07-24T14:28:23Z</dcterms:modified>
  <cp:revision>12</cp:revision>
  <dc:subject/>
  <dc:title>Слайд 1</dc:title>
</cp:coreProperties>
</file>