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695-FC45-41AE-AFA0-EBFAEBAC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B4A-CC7B-4F77-9788-5312D671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271-51D9-45C2-81F3-423F625C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135-1E26-411A-A225-0173DF6B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1DD-DADC-4C12-BAE3-0EF43303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718-1A2F-495F-BED2-A38E0D96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93D-5F6B-4F5B-AC5C-82FC27CD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56D-DE6B-4AD0-B7FB-E65D00E8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BA1-B9B9-4BE2-BC6A-11377558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1E0-560E-4482-A924-49CB15A4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40E-46C3-43E3-B061-76DC8109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38E-E6BE-47E0-A2BF-875F36E7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BB6A-DC66-48CB-A596-F786B5E6C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181080" y="0"/>
          <a:ext cx="9325080" cy="6858000"/>
        </p:xfrm>
        <a:graphic>
          <a:graphicData uri="http://schemas.openxmlformats.org/drawingml/2006/table">
            <a:tbl>
              <a:tblPr/>
              <a:tblGrid>
                <a:gridCol w="3108600"/>
                <a:gridCol w="3108240"/>
                <a:gridCol w="310824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952720" cy="2159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76360" y="115920"/>
            <a:ext cx="1440000" cy="2089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108000" y="115920"/>
            <a:ext cx="1511280" cy="2089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76360" y="4581360"/>
            <a:ext cx="1440000" cy="2160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-108000" y="4581360"/>
            <a:ext cx="1511280" cy="216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500720" y="458136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987640" y="458136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2987640" y="573408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4500720" y="115920"/>
            <a:ext cx="151128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987640" y="115920"/>
            <a:ext cx="144000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4500720" y="1125360"/>
            <a:ext cx="1511280" cy="115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2987640" y="1125360"/>
            <a:ext cx="1440000" cy="115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1476360" y="227664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-108000" y="2276640"/>
            <a:ext cx="1511280" cy="100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1476360" y="3357720"/>
            <a:ext cx="1440000" cy="115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-108000" y="3357720"/>
            <a:ext cx="1511280" cy="1150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C:\Users\Администратор\Contacts\Desktop\images (3).jpg"/>
          <p:cNvPicPr/>
          <p:nvPr/>
        </p:nvPicPr>
        <p:blipFill>
          <a:blip r:embed="rId17"/>
          <a:stretch/>
        </p:blipFill>
        <p:spPr>
          <a:xfrm>
            <a:off x="6516720" y="115920"/>
            <a:ext cx="2158920" cy="208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C:\Users\Администратор\Contacts\Desktop\images (4).jpg"/>
          <p:cNvPicPr/>
          <p:nvPr/>
        </p:nvPicPr>
        <p:blipFill>
          <a:blip r:embed="rId18"/>
          <a:stretch/>
        </p:blipFill>
        <p:spPr>
          <a:xfrm>
            <a:off x="6516720" y="2421000"/>
            <a:ext cx="2163600" cy="208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C:\Users\Администратор\Contacts\Desktop\images (1).jpg"/>
          <p:cNvPicPr/>
          <p:nvPr/>
        </p:nvPicPr>
        <p:blipFill>
          <a:blip r:embed="rId19"/>
          <a:stretch/>
        </p:blipFill>
        <p:spPr>
          <a:xfrm>
            <a:off x="6516720" y="4653000"/>
            <a:ext cx="22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10:02:18Z</dcterms:created>
  <dc:creator>Администратор</dc:creator>
  <dc:description/>
  <dc:language>en-US</dc:language>
  <cp:lastModifiedBy>Администратор</cp:lastModifiedBy>
  <dcterms:modified xsi:type="dcterms:W3CDTF">2018-07-24T14:28:23Z</dcterms:modified>
  <cp:revision>12</cp:revision>
  <dc:subject/>
  <dc:title>Слайд 1</dc:title>
</cp:coreProperties>
</file>