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8482-E213-4FDD-9C4C-89BDC3ABE7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9DCC-5791-4917-BFD1-CD47549439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553-F5A6-4F98-AD5F-8D8979B7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1C3-F0F0-4F7B-8AAD-1E60493C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24A-3E4C-4E03-B0CF-C387E029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3BA-714B-4E27-A95E-1C3F1344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FCB5-FCD9-4D1D-B4EC-B857B317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FAC2-7E4F-49D8-A06A-A88D399A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A456-0E1A-48F8-A132-28875573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440A-15E0-4F34-85BE-4771DC24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29F3-FC9E-4DF1-9A19-F0D8C7AF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7FD5-9E64-4AD3-8472-A47EACD2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6A97-0B20-4BA0-8A1D-0BEE07D7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9F3-B37A-4AEC-9F30-CD1B3BED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5273-276D-46DB-9ECF-15BCE6A9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4EB5-35F6-40AB-A884-1AE14E67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1030-7EDF-4F78-8CFF-BD017EEF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4D24-CD9B-41C5-92B8-5DBD0C18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7A82-5E65-42A4-80E0-97C41857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4E66-A6E3-4065-9548-155B5B3A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DBF3-CA88-4840-8F27-C32A60D2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EC3C-4FB6-4A16-B4E6-727A8B09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4B60-4787-47E9-AEDF-C749822F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EE6D-C966-4019-AFFA-CB3278A7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FEF-8697-4151-B120-F6B8C1F1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4152-32DF-4691-AC90-114185C9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D2904-F32E-464F-B43D-FCDA094D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A5BE-F321-4862-8B3B-52447345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FF66-6C45-4E1B-AA26-D9FD223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6363-1A53-410F-8E1F-730AA4F1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94A4-5C32-4248-A680-3E8571B1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5915C-F42B-4CBB-9193-E107E043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C7C0B-66E4-499F-858A-58311596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B8A4C-E0B5-4102-A623-32ACDC50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0D0B9-9662-4A6E-B699-7CB8D0EB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F4C-CF10-4B2C-A3EF-5519543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EE8BF-7AA6-43A2-820C-9A5B702F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B8914-B604-445E-8742-04A39814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0C24-B231-415A-ACE0-BF22213B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24E96-3F9C-4403-969B-D0FAD8C2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7A20F-4D90-46F8-A6C0-EE1FC12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E8262-482F-44FE-B450-F000A63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C113-BDE4-4FDF-85F5-CD635DC0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D8F1-F46D-4D3C-AA62-B46EB63D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B5324-0B28-4F36-ADB8-50CCB775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F63EE-0395-42EA-BE6E-E0FA1EC2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838-6ABA-4078-B6A8-5C5D4C58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06BCC-9994-4461-A0A1-F0D187EC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0B2EC-C4F4-4345-AEC6-E7CD138E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D5763-0249-44B7-BBF9-C164112C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44C0-0090-44E3-925D-40A6312C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A20E-CF4D-4090-AB28-9F4ADDE2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960C6-022D-4424-B3EF-BE49B84C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1B57B-C675-4869-91DE-594A837C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E8A32-A86D-46DE-9B72-EF1A41E3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5AE2-08D0-487C-9B6D-CCE01ACF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AA9DA-2AE7-4CED-9E18-0FBF0184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E53-3968-441C-9622-6E56D1D7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34156-023D-4D46-BA6A-E00B3324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08E-FEE0-43BE-8B02-96E15958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7AD-A2D2-48D2-A660-43BF8F9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351-441D-4F43-8560-B3990926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7579-3962-4AC7-A44A-C3C9DEEA3E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CA6A-7C27-4DC8-B1DE-B58386D13F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4282-46EB-4411-BA39-82257CAB285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1153-2A70-4EC3-A979-A9AF8FDE7E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66A9-317A-4258-8FE9-29FDE98B532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304920" y="380880"/>
            <a:ext cx="8686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 сове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Игра - форма организации детской жизни»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В.Чильдино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"/>
          <p:cNvSpPr/>
          <p:nvPr/>
        </p:nvSpPr>
        <p:spPr>
          <a:xfrm>
            <a:off x="0" y="5814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люч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и дети растут в непростое время, и все же они- надежда и опора родителей!  Они должны получить хорошее образование, оправдать ожидания взрослых. А начинается развитие в игре;  с ее помощью он познает окружающий мир и учится в нем ориентироваться. В игре ребенок становится равноправен с нами, ведь в повседневной жизни, хотим мы этого или не хотим, нам приходится руководить им, а ему приходится подчиняться или сопротивляться.                                                                                          Иг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это чудесный мир, который позволяет нам общаться с ребенком напрямую, легко преодолевая услов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"/>
          <p:cNvSpPr/>
          <p:nvPr/>
        </p:nvSpPr>
        <p:spPr>
          <a:xfrm>
            <a:off x="228600" y="76320"/>
            <a:ext cx="8610480" cy="61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 решения педсове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роводить образовательную деятельность в режиме дня через игровую деятельность,  интегрируя образовательную область «Социализация» со всеми  образовательными областями, в соответствии с ФГТ (постоянно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Дополнить атрибуты, предметы – заместители для организации сюжетно-ролевых игр; (апрель 2013г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истематически планировать и проводить все виды игр с целью развития у детей коммуникативных и социальных навыков; (постоянно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 основании таблиц и памяток проанализировать уровень  развития игровых умений у детей разных возрастных групп; (март 2013г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о итогам педсовета провести «Фестиваль игровых проектов»  с использованием ИКТ, с целью  распространения современных игровых методик и обобщения передового педагогического опыта; (апрель 2013г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"/>
          <p:cNvSpPr/>
          <p:nvPr/>
        </p:nvSpPr>
        <p:spPr>
          <a:xfrm>
            <a:off x="0" y="-299520"/>
            <a:ext cx="8458200" cy="71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3045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mbria"/>
                <a:ea typeface="Times New Roman"/>
              </a:rPr>
              <a:t>Условия успешного руководства игрой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mbria"/>
                <a:ea typeface="Times New Roman"/>
              </a:rPr>
              <a:t>Умение наблюдать за детьми, понимать их игровые замыслы, пережива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mbria"/>
                <a:ea typeface="Times New Roman"/>
              </a:rPr>
              <a:t>Воспитателю необходимо завоевать доверие детей, установить с ними контакт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mbria"/>
                <a:ea typeface="Times New Roman"/>
              </a:rPr>
              <a:t>Необходимо опираться на психологию детей, считаться с детскими замыслами, бережно относиться к творческой выдумке, созданному ребенком образ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"/>
          <p:cNvSpPr/>
          <p:nvPr/>
        </p:nvSpPr>
        <p:spPr>
          <a:xfrm>
            <a:off x="0" y="2624760"/>
            <a:ext cx="84582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3045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mbria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228600" y="0"/>
            <a:ext cx="8458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иг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ы детей отличаются большим разнообразием. Они различны по содержанию и организации, правилам, воздействию на ребенка, видам  используемых предметов, происхождению и т.д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0" y="1219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ы, возникающие по инициативе ребен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457200" y="1752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- экспериментирование;                                                                             - самостоятельная сюжетная иг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0" y="2666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Игры, возникающие по инициативе взрослого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152280" y="312408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учающ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 дидактические, подвижны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досуговые: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-забава, игра-развлечение, театральные, интеллектуальные, празднично-карнавальны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304920" y="4114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Игры, идущие от исторически сложившихся традиций этноса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1"/>
          <p:cNvSpPr/>
          <p:nvPr/>
        </p:nvSpPr>
        <p:spPr>
          <a:xfrm>
            <a:off x="228600" y="48006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традиционные или народны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2"/>
          <p:cNvSpPr/>
          <p:nvPr/>
        </p:nvSpPr>
        <p:spPr>
          <a:xfrm>
            <a:off x="380880" y="5181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Творческие игр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3"/>
          <p:cNvSpPr/>
          <p:nvPr/>
        </p:nvSpPr>
        <p:spPr>
          <a:xfrm>
            <a:off x="533520" y="56386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южетно-ролевые, строительно-конструктивные, режиссерские, игры-драматиз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0" y="-48636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ведение итогов наблюдения по групп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 какие игры любят играть наши дети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 средней группе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 место - настольные игры (пазлы, лото, домино), конструктор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место – машинки, куклы, мелкие зверушк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место-  сюжетно-ролевы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 старшей, подготовительной группах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 место- словесные игры, настольные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место – сюжетно-ролевые, дидактические игр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место – подвижны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современные условия жизни таковы, что дети могут играть только в детском  саду, дома на игру просто не остается времени, так как родители поставлены в довольно жесткие условия. И даже если у ребенка есть время на игру, он всем остальным играм предпочтет компьютерные или засядет за телевизо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раньше девчонки и мальчишки могли часами бегать во дворе. Игра не возникает сама по себе, она передается от одного поколения детей к другому, от старших к младшим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стоящее время эта связь прервана. Дети растут среди взрослых, а взрослым играть неког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-1260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0" y="645840"/>
            <a:ext cx="9144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рейн – ринг «Игра – дело серьезное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: Что требуется для развития игровой деятельности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2: Какой должна быть предметно-игровая сре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3: Какова роль взрослого в организации детской игры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4: Какие психологические процессы развиваются у ребенка в игр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5: Какой должна быть игрушк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6: Надо ли запрещать так называемые военизированные игрушки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7: Назвать по группам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ушки, моделирующие семейные отнош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ушки, моделирующие отношения вне дом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ушки, предназначенные для выражения и ослабления эмоционального и психического состояни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8:  Сколько времени должно отводиться на самостоятельные игры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9: Чем отличаются сюжетно-ролевая игра, игра-драматизация и режиссерская игр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0:  Должен ли воспитатель участвовать в сюжетно-ролевой игр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1: Каким должен быть стиль общения между ребенком и взрослым в игр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"/>
          <p:cNvSpPr/>
          <p:nvPr/>
        </p:nvSpPr>
        <p:spPr>
          <a:xfrm>
            <a:off x="152280" y="-1508760"/>
            <a:ext cx="70866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тветы: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 1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требу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я развития игровой деятельности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228600" y="197964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: Чтобы дети, во первых, имели разнообразные знания об окружающей их современной жизни, о взаимоотношениях людей; во вторых, обладали необходимыми для игры конструктивными умениями; в третьих, чтобы у них были сформированы устойчивые игровые интересы, положительное эмоциональное отношение к окружающем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676520" y="36046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590920" y="607896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457200" y="1323720"/>
            <a:ext cx="655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Поскольку современные программы ориентируются на целостное развитие ребенка, это предполагает:                                                               - последовательное изменение предметно-игровой среды в соответствии с возрастом детей;                                                             - учет половых особенностей и предпочтения детей; -направленность на развитие положительных отношений между детьми;                                                                                                        - стимулирование творческих замыслов детей, их индивидуальных творческих проявл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а игры- помочь ребенку разобраться в сложном мире отношений между людьми, проявить воображение и фантазию, пережить эмоции, связанные с сюжетом игры. Предметно-развивающая среда должна этому способствовать, а не меша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1981080" y="380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 Какой должна бы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но-игровая сред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"/>
          <p:cNvSpPr/>
          <p:nvPr/>
        </p:nvSpPr>
        <p:spPr>
          <a:xfrm>
            <a:off x="228600" y="4968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 8: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колько времени должно отводиться на самостоятельные игры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0" y="6768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се свободное врем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11484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 9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ем отличаются сюжетно-ролевая игра, игра-драматизация и режиссерская игр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192780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ой сюжетно-ролевой игры является мнимая или воображаемая ситуация, которая заключается в том, что ребенок берет на себя роль взрослого и выполняет его в созданн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 самим игровой обстановке. Одна из характерных черт   сюжетно-ролевой игр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амостоятельность детей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ментами сюжетно-ролевой игры являются игровой замысел, сюжет, игровые действия, рол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-драматизация представляет собой разыгрывание в лицах литературных произведений; герои  литературных произведений становятся действующими лицами, а их приключения, события жизни, измененные детской фантазией, - сюжетом игры;  ребенок может сюжет видоизменя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ежиссерской игре ребенок, проявляя фантазию, сам создает сюжет игры, определяет ее участников, роли которых исполняют игрушки, предметы. Взяв  какую-либо тему, малыш развивает ее в зависимости от того, как понимает отображаемое событие, что считает наиболее значимым для себя. Главный компонент в режиссерской иг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реч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"/>
          <p:cNvSpPr/>
          <p:nvPr/>
        </p:nvSpPr>
        <p:spPr>
          <a:xfrm>
            <a:off x="0" y="21600"/>
            <a:ext cx="914400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для родителей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часто Вы приобретаете для своих детей игрушки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в неделю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в месяц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по праздникам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упаю игрушки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является для Вас мотивом для покупки детских игрушек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ю подарки к празднику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у в магазин покупать одежду, заодно покупаю понравившиеся игрушк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у просто порадовать своего ребенка новой игрушкой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тарые игрушки ребенку надоел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газине появились игрушки новинк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ю, когда старые игрушки уже подходят по возрасту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игрушки Вы приобретали для своего ребенка в течение последних 6месяцев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, пупсы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ессуары для кукол (домики, мебель, одежда, коляски, ванночки)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ы, пазлы, мозаика, кубик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е игры различные познавательные картинки, лото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игрушки (железные дороги, машинки и т.д.)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управляемы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что Вы обращаете внимание, покупаю игрушку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ену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рекомендаци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йн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у - изготовитель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сть марк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азвивающей функци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дки и бонусы при покупк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ребенка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ая Ваша любимая игрушка была в детстве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колько игрушек должно быть у ребенка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ие народные игрушки Вы знаете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 какими народными игрушками Вы играли в детстве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Есть ли у ваших детей народные игрушки дома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После просмотра мультфильма (рекламы) Ваш ребенок просит купить игрушку – героя этого мультфильма (рекламы). Как Вы будете действовать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Существуют ли, по Вашему мнению, антиигрушки и как Вы к ним относитесь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Может ли игрушка, на Ваш взгляд, нанести вред психическому развитию ребенка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Мастерите ли Вы какие – нибудь игрушки сами или вместе со своими детьми? Если да, то какие? Если нет, то почему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Какая любимая игрушка Вашего ребенка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По Вашему мнению испытывает ли ваш ребенок трудности в общении со сверстниками? Как это проявляется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Поможет ли игрушка ребенку в преодолении трудностей, которые он испытывает в общении со сверстниками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2556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2"/>
          <p:cNvSpPr/>
          <p:nvPr/>
        </p:nvSpPr>
        <p:spPr>
          <a:xfrm>
            <a:off x="304920" y="685800"/>
            <a:ext cx="77724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условий для активизация деятельности педагогов ДОУ в области освоения и применения новых форм организации детской жизн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"/>
          <p:cNvSpPr/>
          <p:nvPr/>
        </p:nvSpPr>
        <p:spPr>
          <a:xfrm>
            <a:off x="762120" y="609480"/>
            <a:ext cx="64767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кета для педагог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Какой вид деятельности является         ведущим в дошкольном возраст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ие приемы и методы работы с детьми являются наиболее эффективным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Что такое игрова мотивация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Всегда ли  используя игровые методы, Вы добиваетесь своей цел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Учитываете ли Вы возрастные особенности детей при выборе игровых методов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Используете ли Вы игровые методы при выполнении детьми режимных моментов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.Какими умениями должен обладать педагог, чтобы детям было интересно с ним играть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"/>
          <p:cNvSpPr/>
          <p:nvPr/>
        </p:nvSpPr>
        <p:spPr>
          <a:xfrm>
            <a:off x="0" y="86400"/>
            <a:ext cx="8991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ты В.А. Сухомлинского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удь терпим к отдельным человеческим слабостям и неприятным к злу. Терпимость и непримиримость – очень важные элементы духовной культуры… Иногда надо уметь делать вид, что не замечаешь человеческих слабостей в своих близких, особенно у стариков, в этом выражается твоя нравственная воспитанность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отдельных людей личная жизнь складывается неудачно. Умей чувствовать и понимать особую ранимость такого человека и не выставляй перед ним напоказ свое счастье и благополучи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 живешь среди людей. Не забывай, что каждый твой поступок, каждое твое желание отражается на окружающих тебя людях. Проверяй свои поступки вопросом к самому себе: не делаешь ли ты зла, неудобство людям? Делай все так, чтобы людям, окружающим тебя, было хорошо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228600" y="9000"/>
            <a:ext cx="89154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итесь в свое детство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дьте  с нами  в нем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учшими друзья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зрослых назовем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 - что может быть интереснее и значимее для ребенка? Это и радость, и познание, и творчество. Это то, ради чего  ребенок идет в детский сад. - В игре формируется произвольное поведение, активизируются познавательные процесс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гре развивается способность к воображению, образному мышлению. Это происходит потому, что ребенок воссоздает действия взрослого  и приобретает опыт взаимодействия со сверстникам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"/>
          <p:cNvSpPr/>
          <p:nvPr/>
        </p:nvSpPr>
        <p:spPr>
          <a:xfrm>
            <a:off x="0" y="-4979880"/>
            <a:ext cx="8534520" cy="10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ре взросления игры становятся более сложными: дети подражают профессии родителей, знакомых, сами «становятся родителям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грам можно судить о взаимоотношениях в семье, об интересах и склонностях ребенка.  Все, что необходимо  человеку в жизни, обучении, общении, творчестве, берет начало в детской иг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14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762120" y="1143000"/>
            <a:ext cx="655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ктическая часть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йн - ринг для педагогов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а – дело серьезное»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0" y="2160"/>
            <a:ext cx="86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1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ова роль взрослог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рганизации детской игры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80880" y="86112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Взрослый должен руководить игрой, создавать условия для ее возникновения и развития. Игре нужны сюжет, тема, особенно для старших дошкольников. Воспитатель может и должен «подкинуть» своим воспитанникам что-нибудь новенькое, неизвестное. Поддержать и развивать сюжет, придуманный деть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23280" y="3736080"/>
            <a:ext cx="60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2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ие психологические процесс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ются у ребенка в игр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80880" y="462564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Фантазия, способность к концентрации внимания и сдерживанию непосредственных желаний, к контролю своих действий, развивается произвольное повед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1752480" y="-144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3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ой должна быть игрушк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304920" y="6861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на должна вызывать у ребенка положительные эмоции;  у нее должно быть приветливое выражение лица, лишенное внешней агрессивности, она должна быть выполнена в приятной для глаз ребенка цветовой гамме,  из качественных и безопасных материал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762120" y="3050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 Надо ли запрещать так называемые военизированные игрушк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80880" y="4259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ет, не надо, даже если убрать из квартиры и детского сада все пистолеты и автоматы, ребенок все равно найдет возможность поиграть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нушк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йдя для этого подходящую палочку, похожую на пистолет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1295280" y="-336600"/>
            <a:ext cx="784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5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звать по группам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грушки, моделирующие семейные отношен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789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клы, кукольная мебель, комната и дом для кукол, телефон, посуда, одежда, расчески и др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186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грушки, моделирующие отношения вне дома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52280" y="23338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Дикие и домашние животные, мягкие игрушки, различные виды транспорта и др.; техника, игрушки, связанные с трудом других людей (докторский чемоданчик, набор парикмахера и др.)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3863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грушки, предназначенные для выражения и ослабления эмоционального и психического состояни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457200" y="4930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оенизированные игрушки- солдатики, ножи, пистолеты, наручники, дротики, боксерская груша и перчатки, надувные мячи, маски, головные уборы и др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"/>
          <p:cNvSpPr/>
          <p:nvPr/>
        </p:nvSpPr>
        <p:spPr>
          <a:xfrm>
            <a:off x="0" y="-15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6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лжен ли воспитатель участвовать в сюжетно-ролевой игр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228600" y="5752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о должен. Воспитатель, совмещая приятное с полезным, может и должен подсказать своим воспитанникам что-нибудь, поддержать и развить сюжет, придуманный деть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0" y="1831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7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им должен быть стиль общения между ребенком и взрослым в игр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32058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икам совсем не безразличен стиль общения, который складывается между нами взрослыми в игре. Малышу хочется почувствовать себя сильным, умным, смелым, строить, действовать, творить, видеть во взрослом не покровителя, а товарища по игр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57:56Z</dcterms:created>
  <dc:creator>Вадим</dc:creator>
  <dc:description/>
  <dc:language>en-US</dc:language>
  <cp:lastModifiedBy>1</cp:lastModifiedBy>
  <dcterms:modified xsi:type="dcterms:W3CDTF">2020-09-09T01:52:17Z</dcterms:modified>
  <cp:revision>252</cp:revision>
  <dc:subject/>
  <dc:title>Головкина  Елена Николаевна-  учитель начальных классов  МОУ «СОШ № 1 р.п. Дергачи»</dc:title>
</cp:coreProperties>
</file>