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onsolas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F3FD-E92B-4E74-B436-F9E3E8D7E0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E059-D98C-48A9-A6D6-1C7571C58E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39C2-94F7-4986-8943-9D7B8CFD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26C5-8D6F-408E-A98B-B4E67F5B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438D-5886-4FB0-94ED-8E7EAF29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BDF0-98C9-4847-8C3B-77DE34878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4776-A630-4912-B3AE-E1A2D87A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5532-E861-446D-BAA9-AC4979FB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FC5C-FB0D-4630-AEFA-3EE0C5C8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FCDE-DFC0-46F1-A39A-7DF30868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8E56-6393-4844-B1E0-A16DE8B0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37C6-AB55-4EF0-BF99-494E5A38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63D2-5FB3-4C4E-8643-8CE57CCE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7EB5-6959-449A-9A52-C5991606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74DC-7828-4142-BA16-6B18EFD2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CC48-9017-419D-ADDF-2185AD2E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F64E-072F-4157-9947-0773B082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446E-0C52-4EBD-8071-7CBCC468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61A3-081F-4C9A-B217-917B182F7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6C831-19C8-4BED-9ED2-C9781B3EC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7EFB2-250D-4726-8470-F503FA70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8BDD8-2FEE-4C12-925F-30B1C4A4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64E77-DBFE-4041-B8F0-3821DA68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813CF-0BED-434A-8ADC-31E45095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23BD-C76D-4B52-A35E-7EA655BC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50E31-1CEA-43EE-BE17-28483D65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14395-8D71-4C1C-9E2E-C9D18A2C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FB41B-3F0C-4A0F-AD44-916237B6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9B27A-75B0-4384-A75C-688EC4A9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F9E12-93B5-4DBA-B429-3DF74CA6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4A64B-172F-4929-9827-4434F9BF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0C412-AA12-4D9D-A370-737DA2FC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2BDA7-DC55-4544-BD05-9A3DE32D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BC651-680D-4F5F-AAC2-D0457541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EB125-A39C-4820-9471-EE236C8C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E65A-80AC-4050-9A59-C1FBDAC2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50332-FF16-489D-AEDD-27C49A3B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3DB3C-40B8-4CD1-9A8B-066DF497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99D7A-7C09-402A-A2C0-71F861BE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22742-6806-4B7C-AC5E-D17427F5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83C5B-B4E9-437B-8855-D17B49E8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111E9-9A1D-4963-AE0E-20BC13EA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7F412-8917-441C-A381-FB9BD83C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37C8F-8EB2-4D07-A62C-1DF86A633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D2D10-18D2-42D9-8610-96535415D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89338-3C19-487B-8DF8-F5CFF7700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71FB-3962-4022-A543-4D5D7ABF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ED958-B99F-455A-A963-DD7531BA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8B148-5D14-4370-9013-A9869E8C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7F12A-88B3-4E45-B78C-E04FD31B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78B0C-9699-4E93-8AC4-0E303652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FE120-AF25-405A-B718-F062CBA7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0200E-B0D1-400F-AA82-8D460E6E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13675-7510-407F-B5EB-F6AD87EF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3F6EE-9674-48C1-9BAA-88978360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5C4E4-B1BF-43BA-A3FD-A7D5D4A8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696EE-045B-466F-9647-DC5EA547A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6534-24FA-49C8-B3C9-85BF9983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00941-76CA-4D8D-B9E2-89C270F5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DB39-3354-4306-8CC1-7389650D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A4B6-C7CE-4E94-A4BF-9392E18B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B76C-423B-40C2-A775-1ACA3FAF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onsolas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2E97-AD5F-4AB5-AB29-60166C26C29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onsolas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605E-6180-487E-874F-692B6B7E229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onsolas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7D08-254C-40F7-86F3-AE1EE4B0DA7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onsolas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CCBD-3E54-471A-AD0A-9589AE8EF98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onsolas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Consola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B317-F32B-444A-9622-B792A281C2E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3" descr="C:\Users\Настя\Downloads\014.jpg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TextBox 2"/>
          <p:cNvSpPr/>
          <p:nvPr/>
        </p:nvSpPr>
        <p:spPr>
          <a:xfrm>
            <a:off x="304920" y="380880"/>
            <a:ext cx="86868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й  сове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«Игра - форма организации детской жизни»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ий воспитател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В.Чильдинов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3" descr="C:\Users\Настя\Downloads\014.jpg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"/>
          <p:cNvSpPr/>
          <p:nvPr/>
        </p:nvSpPr>
        <p:spPr>
          <a:xfrm>
            <a:off x="0" y="5814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ключени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ши дети растут в непростое время, и все же они- надежда и опора родителей!  Они должны получить хорошее образование, оправдать ожидания взрослых. А начинается развитие в игре;  с ее помощью он познает окружающий мир и учится в нем ориентироваться. В игре ребенок становится равноправен с нами, ведь в повседневной жизни, хотим мы этого или не хотим, нам приходится руководить им, а ему приходится подчиняться или сопротивляться.                                                                                          Игр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это чудесный мир, который позволяет нам общаться с ребенком напрямую, легко преодолевая условност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3" descr="C:\Users\Настя\Downloads\014.jpg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1"/>
          <p:cNvSpPr/>
          <p:nvPr/>
        </p:nvSpPr>
        <p:spPr>
          <a:xfrm>
            <a:off x="228600" y="76320"/>
            <a:ext cx="8610480" cy="61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 решения педсовет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Проводить образовательную деятельность в режиме дня через игровую деятельность,  интегрируя образовательную область «Социализация» со всеми  образовательными областями, в соответствии с ФГТ (постоянно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Дополнить атрибуты, предметы – заместители для организации сюжетно-ролевых игр; (апрель 2013г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Систематически планировать и проводить все виды игр с целью развития у детей коммуникативных и социальных навыков; (постоянно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На основании таблиц и памяток проанализировать уровень  развития игровых умений у детей разных возрастных групп; (март 2013г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По итогам педсовета провести «Фестиваль игровых проектов»  с использованием ИКТ, с целью  распространения современных игровых методик и обобщения передового педагогического опыта; (апрель 2013г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3" descr="C:\Users\Настя\Downloads\014.jpg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"/>
          <p:cNvSpPr/>
          <p:nvPr/>
        </p:nvSpPr>
        <p:spPr>
          <a:xfrm>
            <a:off x="0" y="-299520"/>
            <a:ext cx="8458200" cy="71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30456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66"/>
                </a:solidFill>
                <a:uFillTx/>
                <a:latin typeface="Cambria"/>
                <a:ea typeface="Times New Roman"/>
              </a:rPr>
              <a:t>Условия успешного руководства игрой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mbria"/>
                <a:ea typeface="Times New Roman"/>
              </a:rPr>
              <a:t>Умение наблюдать за детьми, понимать их игровые замыслы, переживания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mbria"/>
                <a:ea typeface="Times New Roman"/>
              </a:rPr>
              <a:t>Воспитателю необходимо завоевать доверие детей, установить с ними контакт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mbria"/>
                <a:ea typeface="Times New Roman"/>
              </a:rPr>
              <a:t>Необходимо опираться на психологию детей, считаться с детскими замыслами, бережно относиться к творческой выдумке, созданному ребенком образу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3" descr="C:\Users\Настя\Downloads\014.jpg"/>
          <p:cNvPicPr/>
          <p:nvPr/>
        </p:nvPicPr>
        <p:blipFill>
          <a:blip r:embed="rId1"/>
          <a:stretch/>
        </p:blipFill>
        <p:spPr>
          <a:xfrm>
            <a:off x="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1"/>
          <p:cNvSpPr/>
          <p:nvPr/>
        </p:nvSpPr>
        <p:spPr>
          <a:xfrm>
            <a:off x="0" y="2624760"/>
            <a:ext cx="845820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30456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66"/>
                </a:solidFill>
                <a:uFillTx/>
                <a:latin typeface="Cambria"/>
                <a:ea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3"/>
          <p:cNvSpPr/>
          <p:nvPr/>
        </p:nvSpPr>
        <p:spPr>
          <a:xfrm>
            <a:off x="228600" y="0"/>
            <a:ext cx="84582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лассификация иг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гры детей отличаются большим разнообразием. Они различны по содержанию и организации, правилам, воздействию на ребенка, видам  используемых предметов, происхождению и т.д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4"/>
          <p:cNvSpPr/>
          <p:nvPr/>
        </p:nvSpPr>
        <p:spPr>
          <a:xfrm>
            <a:off x="0" y="12193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гры, возникающие по инициативе ребенк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5"/>
          <p:cNvSpPr/>
          <p:nvPr/>
        </p:nvSpPr>
        <p:spPr>
          <a:xfrm>
            <a:off x="457200" y="175248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гра- экспериментирование;                                                                             - самостоятельная сюжетная игр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6"/>
          <p:cNvSpPr/>
          <p:nvPr/>
        </p:nvSpPr>
        <p:spPr>
          <a:xfrm>
            <a:off x="0" y="26668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* Игры, возникающие по инициативе взрослого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7"/>
          <p:cNvSpPr/>
          <p:nvPr/>
        </p:nvSpPr>
        <p:spPr>
          <a:xfrm>
            <a:off x="152280" y="312408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бучающ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  дидактические, подвижные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- досуговые: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гра-забава, игра-развлечение, театральные, интеллектуальные, празднично-карнавальные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8"/>
          <p:cNvSpPr/>
          <p:nvPr/>
        </p:nvSpPr>
        <p:spPr>
          <a:xfrm>
            <a:off x="304920" y="4114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* Игры, идущие от исторически сложившихся традиций этноса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11"/>
          <p:cNvSpPr/>
          <p:nvPr/>
        </p:nvSpPr>
        <p:spPr>
          <a:xfrm>
            <a:off x="228600" y="480060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традиционные или народные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12"/>
          <p:cNvSpPr/>
          <p:nvPr/>
        </p:nvSpPr>
        <p:spPr>
          <a:xfrm>
            <a:off x="380880" y="51814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* Творческие игры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13"/>
          <p:cNvSpPr/>
          <p:nvPr/>
        </p:nvSpPr>
        <p:spPr>
          <a:xfrm>
            <a:off x="533520" y="5638680"/>
            <a:ext cx="71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южетно-ролевые, строительно-конструктивные, режиссерские, игры-драматизац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C:\Users\Настя\Downloads\014.jpg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1"/>
          <p:cNvSpPr/>
          <p:nvPr/>
        </p:nvSpPr>
        <p:spPr>
          <a:xfrm>
            <a:off x="0" y="-486360"/>
            <a:ext cx="8686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ведение итогов наблюдения по группа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В какие игры любят играть наши дети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 средней группе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 место - настольные игры (пазлы, лото, домино), конструкторы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 место – машинки, куклы, мелкие зверушки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 место-  сюжетно-ролевы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 старшей, подготовительной группах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 место- словесные игры, настольные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 место – сюжетно-ролевые, дидактические игры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 место – подвижны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: современные условия жизни таковы, что дети могут играть только в детском  саду, дома на игру просто не остается времени, так как родители поставлены в довольно жесткие условия. И даже если у ребенка есть время на игру, он всем остальным играм предпочтет компьютерные или засядет за телевизо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 раньше девчонки и мальчишки могли часами бегать во дворе. Игра не возникает сама по себе, она передается от одного поколения детей к другому, от старших к младшим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настоящее время эта связь прервана. Дети растут среди взрослых, а взрослым играть некогда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3" descr="C:\Users\Настя\Downloads\014.jpg"/>
          <p:cNvPicPr/>
          <p:nvPr/>
        </p:nvPicPr>
        <p:blipFill>
          <a:blip r:embed="rId1"/>
          <a:stretch/>
        </p:blipFill>
        <p:spPr>
          <a:xfrm>
            <a:off x="0" y="-1260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4"/>
          <p:cNvSpPr/>
          <p:nvPr/>
        </p:nvSpPr>
        <p:spPr>
          <a:xfrm>
            <a:off x="0" y="645840"/>
            <a:ext cx="914400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Брейн – ринг «Игра – дело серьезное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1: Что требуется для развития игровой деятельности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2: Какой должна быть предметно-игровая среда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3: Какова роль взрослого в организации детской игры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4: Какие психологические процессы развиваются у ребенка в игре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5: Какой должна быть игрушка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6: Надо ли запрещать так называемые военизированные игрушки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7: Назвать по группам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грушки, моделирующие семейные отношен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грушки, моделирующие отношения вне дом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грушки, предназначенные для выражения и ослабления эмоционального и психического состояний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8:  Сколько времени должно отводиться на самостоятельные игры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9: Чем отличаются сюжетно-ролевая игра, игра-драматизация и режиссерская игра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10:  Должен ли воспитатель участвовать в сюжетно-ролевой игре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11: Каким должен быть стиль общения между ребенком и взрослым в игре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3" descr="C:\Users\Настя\Downloads\014.jpg"/>
          <p:cNvPicPr/>
          <p:nvPr/>
        </p:nvPicPr>
        <p:blipFill>
          <a:blip r:embed="rId1"/>
          <a:stretch/>
        </p:blipFill>
        <p:spPr>
          <a:xfrm>
            <a:off x="0" y="0"/>
            <a:ext cx="912024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1"/>
          <p:cNvSpPr/>
          <p:nvPr/>
        </p:nvSpPr>
        <p:spPr>
          <a:xfrm>
            <a:off x="152280" y="-1508760"/>
            <a:ext cx="708660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Ответы: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прос 1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то требует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ля развития игровой деятельности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228600" y="1979640"/>
            <a:ext cx="6705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вет: Чтобы дети, во первых, имели разнообразные знания об окружающей их современной жизни, о взаимоотношениях людей; во вторых, обладали необходимыми для игры конструктивными умениями; в третьих, чтобы у них были сформированы устойчивые игровые интересы, положительное эмоциональное отношение к окружающему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1676520" y="36046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590920" y="607896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3" descr="C:\Users\Настя\Downloads\014.jpg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4"/>
          <p:cNvSpPr/>
          <p:nvPr/>
        </p:nvSpPr>
        <p:spPr>
          <a:xfrm>
            <a:off x="457200" y="1323720"/>
            <a:ext cx="6553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вет: Поскольку современные программы ориентируются на целостное развитие ребенка, это предполагает:                                                               - последовательное изменение предметно-игровой среды в соответствии с возрастом детей;                                                             - учет половых особенностей и предпочтения детей; -направленность на развитие положительных отношений между детьми;                                                                                                        - стимулирование творческих замыслов детей, их индивидуальных творческих проявлени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а игры- помочь ребенку разобраться в сложном мире отношений между людьми, проявить воображение и фантазию, пережить эмоции, связанные с сюжетом игры. Предметно-развивающая среда должна этому способствовать, а не мешат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3"/>
          <p:cNvSpPr/>
          <p:nvPr/>
        </p:nvSpPr>
        <p:spPr>
          <a:xfrm>
            <a:off x="1981080" y="3808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 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: Какой должна бы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метно-игровая среда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3" descr="C:\Users\Настя\Downloads\014.jpg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1"/>
          <p:cNvSpPr/>
          <p:nvPr/>
        </p:nvSpPr>
        <p:spPr>
          <a:xfrm>
            <a:off x="228600" y="49680"/>
            <a:ext cx="891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прос 8: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колько времени должно отводиться на самостоятельные игры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0" y="6768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се свободное врем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0" y="11484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прос 9: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Чем отличаются сюжетно-ролевая игра, игра-драматизация и режиссерская игра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1927800"/>
            <a:ext cx="891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новой сюжетно-ролевой игры является мнимая или воображаемая ситуация, которая заключается в том, что ребенок берет на себя роль взрослого и выполняет его в созданно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м самим игровой обстановке. Одна из характерных черт   сюжетно-ролевой игр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самостоятельность детей.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лементами сюжетно-ролевой игры являются игровой замысел, сюжет, игровые действия, рол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гра-драматизация представляет собой разыгрывание в лицах литературных произведений; герои  литературных произведений становятся действующими лицами, а их приключения, события жизни, измененные детской фантазией, - сюжетом игры;  ребенок может сюжет видоизменять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режиссерской игре ребенок, проявляя фантазию, сам создает сюжет игры, определяет ее участников, роли которых исполняют игрушки, предметы. Взяв  какую-либо тему, малыш развивает ее в зависимости от того, как понимает отображаемое событие, что считает наиболее значимым для себя. Главный компонент в режиссерской игр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речь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3" descr="C:\Users\Настя\Downloads\014.jpg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1"/>
          <p:cNvSpPr/>
          <p:nvPr/>
        </p:nvSpPr>
        <p:spPr>
          <a:xfrm>
            <a:off x="0" y="21600"/>
            <a:ext cx="9144000" cy="68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а для родителей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к часто Вы приобретаете для своих детей игрушки?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 в неделю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 в месяц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по праздникам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купаю игрушки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Что является для Вас мотивом для покупки детских игрушек?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упаю подарки к празднику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у в магазин покупать одежду, заодно покупаю понравившиеся игрушки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чу просто порадовать своего ребенка новой игрушкой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старые игрушки ребенку надоели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газине появились игрушки новинки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упаю, когда старые игрушки уже подходят по возрасту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ие игрушки Вы приобретали для своего ребенка в течение последних 6месяцев?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лы, пупсы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сессуары для кукол (домики, мебель, одежда, коляски, ванночки)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торы, пазлы, мозаика, кубики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льные игры различные познавательные картинки, лото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е игрушки (железные дороги, машинки и т.д.)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вные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е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управляемые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е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ые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е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 что Вы обращаете внимание, покупаю игрушку?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цену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о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ные рекомендации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зайн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у - изготовитель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ость марки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развивающей функции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идки и бонусы при покупке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ние ребенка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е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акая Ваша любимая игрушка была в детстве?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Сколько игрушек должно быть у ребенка?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Какие народные игрушки Вы знаете?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С какими народными игрушками Вы играли в детстве?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Есть ли у ваших детей народные игрушки дома?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После просмотра мультфильма (рекламы) Ваш ребенок просит купить игрушку – героя этого мультфильма (рекламы). Как Вы будете действовать?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Существуют ли, по Вашему мнению, антиигрушки и как Вы к ним относитесь?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Может ли игрушка, на Ваш взгляд, нанести вред психическому развитию ребенка?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Мастерите ли Вы какие – нибудь игрушки сами или вместе со своими детьми? Если да, то какие? Если нет, то почему?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Какая любимая игрушка Вашего ребенка?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По Вашему мнению испытывает ли ваш ребенок трудности в общении со сверстниками? Как это проявляется?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Поможет ли игрушка ребенку в преодолении трудностей, которые он испытывает в общении со сверстниками?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C:\Users\Настя\Downloads\014.jpg"/>
          <p:cNvPicPr/>
          <p:nvPr/>
        </p:nvPicPr>
        <p:blipFill>
          <a:blip r:embed="rId1"/>
          <a:stretch/>
        </p:blipFill>
        <p:spPr>
          <a:xfrm>
            <a:off x="2556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2"/>
          <p:cNvSpPr/>
          <p:nvPr/>
        </p:nvSpPr>
        <p:spPr>
          <a:xfrm>
            <a:off x="304920" y="685800"/>
            <a:ext cx="77724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здание условий для активизация деятельности педагогов ДОУ в области освоения и применения новых форм организации детской жизни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3" descr="C:\Users\Настя\Downloads\014.jpg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TextBox 1"/>
          <p:cNvSpPr/>
          <p:nvPr/>
        </p:nvSpPr>
        <p:spPr>
          <a:xfrm>
            <a:off x="762120" y="609480"/>
            <a:ext cx="647676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кета для педагог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.Какой вид деятельности является         ведущим в дошкольном возрасте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Какие приемы и методы работы с детьми являются наиболее эффективными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.Что такое игрова мотивация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Всегда ли  используя игровые методы, Вы добиваетесь своей цели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5.Учитываете ли Вы возрастные особенности детей при выборе игровых методов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Используете ли Вы игровые методы при выполнении детьми режимных моментов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7.Какими умениями должен обладать педагог, чтобы детям было интересно с ним играть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:\Users\Настя\Downloads\014.jpg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1"/>
          <p:cNvSpPr/>
          <p:nvPr/>
        </p:nvSpPr>
        <p:spPr>
          <a:xfrm>
            <a:off x="0" y="86400"/>
            <a:ext cx="8991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веты В.А. Сухомлинского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Будь терпим к отдельным человеческим слабостям и неприятным к злу. Терпимость и непримиримость – очень важные элементы духовной культуры… Иногда надо уметь делать вид, что не замечаешь человеческих слабостей в своих близких, особенно у стариков, в этом выражается твоя нравственная воспитанность.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отдельных людей личная жизнь складывается неудачно. Умей чувствовать и понимать особую ранимость такого человека и не выставляй перед ним напоказ свое счастье и благополучие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ы живешь среди людей. Не забывай, что каждый твой поступок, каждое твое желание отражается на окружающих тебя людях. Проверяй свои поступки вопросом к самому себе: не делаешь ли ты зла, неудобство людям? Делай все так, чтобы людям, окружающим тебя, было хорошо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C:\Users\Настя\Downloads\0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"/>
          <p:cNvSpPr/>
          <p:nvPr/>
        </p:nvSpPr>
        <p:spPr>
          <a:xfrm>
            <a:off x="228600" y="9000"/>
            <a:ext cx="8915400" cy="58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нитесь в свое детство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удьте  с нами  в нем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лучшими друзьям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зрослых назовем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 - что может быть интереснее и значимее для ребенка? Это и радость, и познание, и творчество. Это то, ради чего  ребенок идет в детский сад. - В игре формируется произвольное поведение, активизируются познавательные процессы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игре развивается способность к воображению, образному мышлению. Это происходит потому, что ребенок воссоздает действия взрослого  и приобретает опыт взаимодействия со сверстникам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3" descr="C:\Users\Настя\Downloads\014.jpg"/>
          <p:cNvPicPr/>
          <p:nvPr/>
        </p:nvPicPr>
        <p:blipFill>
          <a:blip r:embed="rId1"/>
          <a:stretch/>
        </p:blipFill>
        <p:spPr>
          <a:xfrm>
            <a:off x="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1"/>
          <p:cNvSpPr/>
          <p:nvPr/>
        </p:nvSpPr>
        <p:spPr>
          <a:xfrm>
            <a:off x="0" y="-4979880"/>
            <a:ext cx="8534520" cy="101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ере взросления игры становятся более сложными: дети подражают профессии родителей, знакомых, сами «становятся родителями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грам можно судить о взаимоотношениях в семье, об интересах и склонностях ребенка.  Все, что необходимо  человеку в жизни, обучении, общении, творчестве, берет начало в детской игр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14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3" descr="C:\Users\Настя\Downloads\014.jpg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3"/>
          <p:cNvSpPr/>
          <p:nvPr/>
        </p:nvSpPr>
        <p:spPr>
          <a:xfrm>
            <a:off x="762120" y="1143000"/>
            <a:ext cx="6553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ктическая часть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йн - ринг для педагогов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гра – дело серьезное»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C:\Users\Настя\Downloads\014.jpg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"/>
          <p:cNvSpPr/>
          <p:nvPr/>
        </p:nvSpPr>
        <p:spPr>
          <a:xfrm>
            <a:off x="0" y="2160"/>
            <a:ext cx="866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прос 1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акова роль взрослого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организации детской игры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380880" y="861120"/>
            <a:ext cx="754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вет: Взрослый должен руководить игрой, создавать условия для ее возникновения и развития. Игре нужны сюжет, тема, особенно для старших дошкольников. Воспитатель может и должен «подкинуть» своим воспитанникам что-нибудь новенькое, неизвестное. Поддержать и развивать сюжет, придуманный детьм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23280" y="3736080"/>
            <a:ext cx="606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прос 2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акие психологические процесс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звиваются у ребенка в игре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380880" y="4625640"/>
            <a:ext cx="548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Фантазия, способность к концентрации внимания и сдерживанию непосредственных желаний, к контролю своих действий, развивается произвольное поведени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C:\Users\Настя\Downloads\014.jpg"/>
          <p:cNvPicPr/>
          <p:nvPr/>
        </p:nvPicPr>
        <p:blipFill>
          <a:blip r:embed="rId1"/>
          <a:stretch/>
        </p:blipFill>
        <p:spPr>
          <a:xfrm>
            <a:off x="23760" y="0"/>
            <a:ext cx="912024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"/>
          <p:cNvSpPr/>
          <p:nvPr/>
        </p:nvSpPr>
        <p:spPr>
          <a:xfrm>
            <a:off x="1752480" y="-144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прос 3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акой должна быть игрушка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304920" y="68616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Она должна вызывать у ребенка положительные эмоции;  у нее должно быть приветливое выражение лица, лишенное внешней агрессивности, она должна быть выполнена в приятной для глаз ребенка цветовой гамме,  из качественных и безопасных материало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762120" y="305028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прос 4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: Надо ли запрещать так называемые военизированные игрушки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380880" y="425988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Нет, не надо, даже если убрать из квартиры и детского сада все пистолеты и автоматы, ребенок все равно найдет возможность поиграть 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йнушк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найдя для этого подходящую палочку, похожую на пистолет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" descr="C:\Users\Настя\Downloads\014.jpg"/>
          <p:cNvPicPr/>
          <p:nvPr/>
        </p:nvPicPr>
        <p:blipFill>
          <a:blip r:embed="rId1"/>
          <a:stretch/>
        </p:blipFill>
        <p:spPr>
          <a:xfrm>
            <a:off x="23760" y="0"/>
            <a:ext cx="912024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1"/>
          <p:cNvSpPr/>
          <p:nvPr/>
        </p:nvSpPr>
        <p:spPr>
          <a:xfrm>
            <a:off x="1295280" y="-336600"/>
            <a:ext cx="7848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прос 5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звать по группам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грушки, моделирующие семейные отношени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0" y="789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клы, кукольная мебель, комната и дом для кукол, телефон, посуда, одежда, расчески и др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0" y="1865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грушки, моделирующие отношения вне дома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52280" y="233388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Дикие и домашние животные, мягкие игрушки, различные виды транспорта и др.; техника, игрушки, связанные с трудом других людей (докторский чемоданчик, набор парикмахера и др.)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0" y="3863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грушки, предназначенные для выражения и ослабления эмоционального и психического состояний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457200" y="49309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Военизированные игрушки- солдатики, ножи, пистолеты, наручники, дротики, боксерская груша и перчатки, надувные мячи, маски, головные уборы и др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3" descr="C:\Users\Настя\Downloads\014.jpg"/>
          <p:cNvPicPr/>
          <p:nvPr/>
        </p:nvPicPr>
        <p:blipFill>
          <a:blip r:embed="rId1"/>
          <a:stretch/>
        </p:blipFill>
        <p:spPr>
          <a:xfrm>
            <a:off x="0" y="0"/>
            <a:ext cx="912024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1"/>
          <p:cNvSpPr/>
          <p:nvPr/>
        </p:nvSpPr>
        <p:spPr>
          <a:xfrm>
            <a:off x="0" y="-15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прос 6: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лжен ли воспитатель участвовать в сюжетно-ролевой игре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228600" y="5752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ечно должен. Воспитатель, совмещая приятное с полезным, может и должен подсказать своим воспитанникам что-нибудь, поддержать и развить сюжет, придуманный детьм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0" y="18316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прос 7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аким должен быть стиль общения между ребенком и взрослым в игре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0" y="320580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школьникам совсем не безразличен стиль общения, который складывается между нами взрослыми в игре. Малышу хочется почувствовать себя сильным, умным, смелым, строить, действовать, творить, видеть во взрослом не покровителя, а товарища по игр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8:57:56Z</dcterms:created>
  <dc:creator>Вадим</dc:creator>
  <dc:description/>
  <dc:language>en-US</dc:language>
  <cp:lastModifiedBy>1</cp:lastModifiedBy>
  <dcterms:modified xsi:type="dcterms:W3CDTF">2020-09-09T01:52:17Z</dcterms:modified>
  <cp:revision>252</cp:revision>
  <dc:subject/>
  <dc:title>Головкина  Елена Николаевна-  учитель начальных классов  МОУ «СОШ № 1 р.п. Дергачи»</dc:title>
</cp:coreProperties>
</file>