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8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85A-B596-413C-8F99-7D96645C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2A4-C94B-4F6F-8235-8A8B66AA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9BC-6986-4B00-B5F2-035E6140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D34-23F1-44C5-9CDF-71904C36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0418-CD1A-421B-8034-5589A884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B721-4CC3-4E6E-8AE5-3617477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665D-4516-45D0-BCF7-421B3DB0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E77-1887-43DE-9825-206DC048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C164-073B-4DD7-9B61-EEA722CF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31D-1520-4DF8-80F0-17981264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2C97-79F6-4BE3-9337-E054F5A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BE1-E47A-47F5-BE25-8F855225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2C6-05E1-4434-A598-9776504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33A1-9A52-4BC5-BBA8-253305E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F466-B146-4E4D-B9EF-409E3D68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1C69-057C-4D7D-970C-DFDFC0DD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8D8C-6EE1-438A-B477-C79866D5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B91-1E16-4158-962A-9DA133E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ED3-C86B-4A16-BD79-68372071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2FF-CD76-4057-BF44-2948AC44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040-C6B5-4F50-9AC3-D077656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A3D-8E18-4276-B419-4FE1CC0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09E-DBE6-47C5-AC3A-1C46606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EF5-301D-41BD-B2F0-05E3868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D6C7-669F-42B7-A7B1-3562193365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0E69-67E3-4403-8C75-7274F00D23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7" descr=""/>
          <p:cNvPicPr/>
          <p:nvPr/>
        </p:nvPicPr>
        <p:blipFill>
          <a:blip r:embed="rId1"/>
          <a:stretch/>
        </p:blipFill>
        <p:spPr>
          <a:xfrm>
            <a:off x="2066760" y="23760"/>
            <a:ext cx="7382160" cy="509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МОИ ДОКУМЕНТЫ\школьные работы\ВСЁ ДЛЯ БИОЛОГИИ\7 класс ЗООЛОГИЯ\рисунки\птицы\876422bgs38kym2w.gif"/>
          <p:cNvPicPr/>
          <p:nvPr/>
        </p:nvPicPr>
        <p:blipFill>
          <a:blip r:embed="rId2"/>
          <a:stretch/>
        </p:blipFill>
        <p:spPr>
          <a:xfrm>
            <a:off x="0" y="1143000"/>
            <a:ext cx="3048120" cy="493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ременные обитатели уголка природы – это объекты, которые вносятся для наблюдений на непродолжительный отрез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это будут осенние букеты и цветы из цветника, пересаженные в кашпо. А также в старших группах 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ой это могут быть ящики с посадками зелёного лука и веточки дерев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– ветки деревьев, лук, ящики с рассадой для огорода и клумбы детского сада, букеты весенних перво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голке необходимо вести дневники наблюдений  за объектами с детскими зарисов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делать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ухой» аквариу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43828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й группе детского сада должен быть календарь погоды. (природы). Отмечая погоду в календаре, дети закрепляют знания, полученные в ходе наблюдений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ладшей групп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овесить картину с изображением сезона, например, осенний пейзаж. И в уголке природы обязательно находится кукла, одетая по се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редней групп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может быть пособие, на котором нарисованы картинки с изображением состояний погоды с подвижной стрелкой посередине. После возвращения с прогулки и обсуждения погоды дети передвигают стрелку на нужную картинку. Также в уголок природы помещают детские рисунки на тему наблю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аршей и подготовительной группа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знакомятся с условными знаками для обозначения погоды. Ребята ежедневно отмечают погоду условными знаками. В конце месяца состояние погоды сравнивают, считают, сколько было ясных, пасмурных, дождливых и ветреных дней, и делают выводы о п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43828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оме этого, в уголке природы в каждой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обходимо и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ляжи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ы картинок с изображением животных, птиц, насекомых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бомы «Времена года»; книжки с иллюстрациями, на которых изображены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ки детей о природе и 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для тр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рудование для экспериментов.  Для изготовления поделок необходим природный и бросовый материал. Для детей подготовительной группы будет интересна работа с лупой, микроскопом, ве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игры природного содерж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1440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олнение уголка природы необходимым материалом будет зависеть от возраста детей и от требований Программы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ок природы необходим не только для наблюдений. Ещё он способствует формированию трудовых навыков. Уже с младшей группы детей привлекают к выполнению отдельных трудовых поручений. А со старшей группы вводятся дежурства по уголку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им образом, уголок природы в детском саду нужен не только как оформление детского сада, но и является необходимой составляющей педагогического процесса в дошкольном учре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1440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»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хомлинский В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440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оценки уголков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уголков природы возрасту детей и требованиям примерной основной общеобразовательной программы дошкольного образования  и нормативы СанПиН 2.4.1.304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ие дидактического материала и соответствие его возрастным особенностям, в т. ч. наличие материала инновационного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материала для детского экспериментирования, труда, изготовления поделок из природного материала, календарей прир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тетичное оформление уголка прир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размещения уголка природы и его доступ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игр с песком и во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астений и предметов, угрожающих здоровью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сезон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371600" y="4267080"/>
            <a:ext cx="320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1\Desktop\развивающая среда\DSCN2461.JPG"/>
          <p:cNvPicPr/>
          <p:nvPr/>
        </p:nvPicPr>
        <p:blipFill>
          <a:blip r:embed="rId1"/>
          <a:stretch/>
        </p:blipFill>
        <p:spPr>
          <a:xfrm>
            <a:off x="533520" y="457200"/>
            <a:ext cx="7718400" cy="5788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1\Desktop\развивающая среда\DSCN2462.JPG"/>
          <p:cNvPicPr/>
          <p:nvPr/>
        </p:nvPicPr>
        <p:blipFill>
          <a:blip r:embed="rId1"/>
          <a:stretch/>
        </p:blipFill>
        <p:spPr>
          <a:xfrm>
            <a:off x="380880" y="228600"/>
            <a:ext cx="8175600" cy="6130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1\Desktop\развивающая среда\DSCN2463.JPG"/>
          <p:cNvPicPr/>
          <p:nvPr/>
        </p:nvPicPr>
        <p:blipFill>
          <a:blip r:embed="rId1"/>
          <a:stretch/>
        </p:blipFill>
        <p:spPr>
          <a:xfrm>
            <a:off x="457200" y="380880"/>
            <a:ext cx="8327880" cy="6245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228600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1\Desktop\развивающая среда\DSCN2458.JPG"/>
          <p:cNvPicPr/>
          <p:nvPr/>
        </p:nvPicPr>
        <p:blipFill>
          <a:blip r:embed="rId1"/>
          <a:stretch/>
        </p:blipFill>
        <p:spPr>
          <a:xfrm>
            <a:off x="228600" y="152280"/>
            <a:ext cx="4567320" cy="3426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34" name="Picture 3" descr="C:\Users\1\Desktop\развивающая среда\DSCN2464.JPG"/>
          <p:cNvPicPr/>
          <p:nvPr/>
        </p:nvPicPr>
        <p:blipFill>
          <a:blip r:embed="rId2"/>
          <a:stretch/>
        </p:blipFill>
        <p:spPr>
          <a:xfrm>
            <a:off x="4724280" y="3352680"/>
            <a:ext cx="4059360" cy="3044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ление детского сада имеет большое значение для гармоничного развития ребёнка. Для того чтобы обучение было результативным, очень важна правильно подготовленная развивающая среда. Одно из условий, необходимое для всестороннего развития и воспитания детей в детском саду, это оборудованный в группе уголок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голок природы – это одна из игровых и учеб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упповой ком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E:\внеклассное мероприятие ПТИЧЬИ РАЗГОВОРЫ\bicg10op.gif"/>
          <p:cNvPicPr/>
          <p:nvPr/>
        </p:nvPicPr>
        <p:blipFill>
          <a:blip r:embed="rId1"/>
          <a:stretch/>
        </p:blipFill>
        <p:spPr>
          <a:xfrm>
            <a:off x="4572000" y="2800440"/>
            <a:ext cx="4572000" cy="372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E:\внеклассное мероприятие ПТИЧЬИ РАЗГОВОРЫ\bi20op.gif"/>
          <p:cNvPicPr/>
          <p:nvPr/>
        </p:nvPicPr>
        <p:blipFill>
          <a:blip r:embed="rId2"/>
          <a:stretch/>
        </p:blipFill>
        <p:spPr>
          <a:xfrm>
            <a:off x="304920" y="2011320"/>
            <a:ext cx="3962160" cy="48466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5" descr=""/>
          <p:cNvPicPr/>
          <p:nvPr/>
        </p:nvPicPr>
        <p:blipFill>
          <a:blip r:embed="rId3"/>
          <a:stretch/>
        </p:blipFill>
        <p:spPr>
          <a:xfrm>
            <a:off x="1719360" y="189000"/>
            <a:ext cx="713880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ок природы, который органично вписывается в интерьер, будет украшением групповой комнаты и позволит детям проводить наблюдения и экспериментальную деятельность. Кроме этого, дошкольникам прививаются такие чувства, как ответственность и забота, так как дети учатся ухаживать за  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голок природы в ДОУ – это одно из условий наглядного и действенного ознакомления детей дошкольного возраста с природ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олок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асширяются знания детей о природе, возникает интерес к ее познанию, стремление узнать новое, развивается любознательность, логическое мышление, внимание, наблюда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колого – эстетическое 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уется видение красоты природы, развивается творческое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ое 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уются нравственные качества и эмоционально-позитивное отношение к природе (бережное отношение, забота о живых существах, уважение к труду, чувства патриотизма, любовь к природе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09680" y="44197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ое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риобретение трудовых навыков по уходу за обитателями уголка природы и таких качеств, как трудолюбие, ответственность за порученное дело, инициа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здоровительное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растения оздоравливают микроклимат помещения, увлажняют воздух, очищают и обогащают его кислородом, лечебные растения используются в лечебных целя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438280" y="4343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ждой группы детского сада есть свой уголок природы. Подбор и размещение объектов в уголок природы проводят в соответствии с возрастом, руководствуясь Программой воспитания в детском саду и действующими Санитарными Правилами и Нормами (СанПин).  Природный уголок должен быть безопасным. Не допускается иметь в уголке природы ядовитые и колючие растения. Подбор растений проводят в соответствии с возрастом детей. И, конечно, обязательно осуществление ежедневного ухода за растениями. Цветы размещены на уровне глаз ребенка. Высота растения не должна превышать 25 см от кашпо. На цветах должны быть таблички с названием. В уголке- паспорт имеющихся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ПиН 2.4.1.3049-1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6.11. не допускают размещение аквариумов, животных, птиц в групповых помещениях, здесь помещают только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7.5. Не рекомендуется размещать цветы в горшках на подоконниках в групповых и спальных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обитатели уголка природы в детском саду можно разделить на постоянных и времен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ми обитателями уголка природы будут комнатные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 младш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дагог привлекает внимание детей и показывает, как ухаживать за растениями. Рекомендуют такие растения с крупными листьями и ярко цветущ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2 младш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комнатных растений рекомендуют 4-5 видов неприхотливых растений. Это растения, которые красиво и долго цветут, с ярко выраженными стеблем, листьями и цветами. Педагог знакомит с комнатными растениями, привлекает к уходу и показывает.  Дети должны знать название  2-3 комнатных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редн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ло комнатных растений увеличивается до 5-6 видов. Это будут растения с разной формой и величиной листьев. Педагог показывает,  как следует поливать растения, у разных растений неодинаковая потребность в воде. Дети должны знать названия 4-5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арше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голок природы помещают 6-7 видов растений по 2-3 экземпляра с разнообразными стеблями (вьющиеся, стелющиеся), имеющие луковицы и клубнелуков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дготовительной груп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голок природы размещают 6-7 видов растений, которые размножаются различными способами: луковицами, живородящие, а также цветы с разными условиями произрастания.  Дети должны знать названия 6-7 растений. Знакомим, что в зимнее время полив проводим реже, весной размножение растения (листо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276720" y="4267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7-03-15T06:31:34Z</dcterms:modified>
  <cp:revision>146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