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png" ContentType="image/png"/>
  <Override PartName="/ppt/media/image8.gif" ContentType="image/gi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0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5.png" ContentType="image/png"/>
  <Override PartName="/ppt/media/image19.gif" ContentType="image/gif"/>
  <Override PartName="/ppt/media/image1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8.gif" ContentType="image/gi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3563-6C5E-4E5D-B201-4D96BD87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F6C-512A-4D59-A41D-609073D3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DFF4-6FCE-40A1-9463-3F8B0D8E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29C-A4C7-4BC2-BC8A-4E7FFEAD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E334-5DB7-4CC9-801C-A5DB3955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88B4-04B0-4BCB-962E-B646104F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8520-5813-4EFA-BFB9-980C0097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7E3A-5FD9-4D91-8E54-B766F747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03B8-4E49-4808-9702-8D3BA9A7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4C6D-9AB1-423D-A65A-FB3CC05D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33E8-FF2D-44E8-AB7B-2B822F23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D70-583D-4026-A419-BE9DD82E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DBBC-0C6E-49FA-BA0D-6DC8356D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7B33-85D7-4D79-B7A6-F7FF1F53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3D2D-EDB4-4DCB-A25A-D5A84C22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B4EC-2761-484E-AB61-454623E2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3438-E26E-49C8-A660-AF55E07E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1E7-78E8-4B86-9422-9852DD7C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C9E-9AE2-42A8-9FDB-5C70BAE6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AFF5-80BD-4EB9-A697-C1AA7A36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F51-C11A-45A7-A2DB-29DCDE76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DA8-5CAD-4C59-80B1-D4AFFC18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0D08-CFA7-4059-8C81-2417A1DF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7BA-3677-4509-A289-1ADDCE34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AF96-1799-4EE6-B3FA-BDDEFD2B41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954B-4391-47D3-AD2B-F95935AC88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7" descr=""/>
          <p:cNvPicPr/>
          <p:nvPr/>
        </p:nvPicPr>
        <p:blipFill>
          <a:blip r:embed="rId1"/>
          <a:stretch/>
        </p:blipFill>
        <p:spPr>
          <a:xfrm>
            <a:off x="2066760" y="23760"/>
            <a:ext cx="7382160" cy="509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D:\МОИ ДОКУМЕНТЫ\школьные работы\ВСЁ ДЛЯ БИОЛОГИИ\7 класс ЗООЛОГИЯ\рисунки\птицы\876422bgs38kym2w.gif"/>
          <p:cNvPicPr/>
          <p:nvPr/>
        </p:nvPicPr>
        <p:blipFill>
          <a:blip r:embed="rId2"/>
          <a:stretch/>
        </p:blipFill>
        <p:spPr>
          <a:xfrm>
            <a:off x="0" y="1143000"/>
            <a:ext cx="3048120" cy="4930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6108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ременные обитатели уголка природы – это объекты, которые вносятся для наблюдений на непродолжительный отрезок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енью это будут осенние букеты и цветы из цветника, пересаженные в кашпо. А также в старших группах поделки из природн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имой это могут быть ящики с посадками зелёного лука и веточки деревь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ной – ветки деревьев, лук, ящики с рассадой для огорода и клумбы детского сада, букеты весенних первоц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уголке необходимо вести дневники наблюдений  за объектами с детскими зарисов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сделать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ухой» аквариу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438280" y="4267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ждой группе детского сада должен быть календарь погоды. (природы). Отмечая погоду в календаре, дети закрепляют знания, полученные в ходе наблюдений в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младшей групп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повесить картину с изображением сезона, например, осенний пейзаж. И в уголке природы обязательно находится кукла, одетая по сез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редней групп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может быть пособие, на котором нарисованы картинки с изображением состояний погоды с подвижной стрелкой посередине. После возвращения с прогулки и обсуждения погоды дети передвигают стрелку на нужную картинку. Также в уголок природы помещают детские рисунки на тему наблю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таршей и подготовительной группа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знакомятся с условными знаками для обозначения погоды. Ребята ежедневно отмечают погоду условными знаками. В конце месяца состояние погоды сравнивают, считают, сколько было ясных, пасмурных, дождливых и ветреных дней, и делают выводы о п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438280" y="4267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5345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оме этого, в уголке природы в каждой груп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обходимо име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ляжи овощей и фр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оры картинок с изображением животных, птиц, насекомых и проч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ьбомы «Времена года»; книжки с иллюстрациями, на которых изображены живот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унки детей о природе и поделки из природн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для тру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рудование для экспериментов.  Для изготовления поделок необходим природный и бросовый материал. Для детей подготовительной группы будет интересна работа с лупой, микроскопом, ве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ие игры природного содерж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914400" y="434340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70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8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олнение уголка природы необходимым материалом будет зависеть от возраста детей и от требований Программы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олок природы необходим не только для наблюдений. Ещё он способствует формированию трудовых навыков. Уже с младшей группы детей привлекают к выполнению отдельных трудовых поручений. А со старшей группы вводятся дежурства по уголку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ким образом, уголок природы в детском саду нужен не только как оформление детского сада, но и является необходимой составляющей педагогического процесса в дошкольном учреж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914400" y="434340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Умейте открыть перед ребёнком в окружающем мире что-то одно, но открыть так, чтобы кусочек жизни заиграл перед детьми всеми красками радуги. Оставляйте всегда что-то недосказанное, чтобы ребёнку захотелось ещё и ещё раз возвратиться к тому, что он узнал»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хомлинский В.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14400" y="434340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терии оценки уголков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ие уголков природы возрасту детей и требованиям примерной основной общеобразовательной программы дошкольного образования  и нормативы СанПиН 2.4.1.304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ообразие дидактического материала и соответствие его возрастным особенностям, в т. ч. наличие материала инновационного характ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материала для детского экспериментирования, труда, изготовления поделок из природного материала, календарей прир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стетичное оформление уголка прир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 размещения уголка природы и его доступ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условий для игр с песком и вод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растений и предметов, угрожающих здоровью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сезонн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371600" y="4267080"/>
            <a:ext cx="320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60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70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80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2286000" y="4267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1\Desktop\развивающая среда\DSCN2461.JPG"/>
          <p:cNvPicPr/>
          <p:nvPr/>
        </p:nvPicPr>
        <p:blipFill>
          <a:blip r:embed="rId1"/>
          <a:stretch/>
        </p:blipFill>
        <p:spPr>
          <a:xfrm>
            <a:off x="533520" y="457200"/>
            <a:ext cx="7718400" cy="57880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circl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2286000" y="4267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Users\1\Desktop\развивающая среда\DSCN2462.JPG"/>
          <p:cNvPicPr/>
          <p:nvPr/>
        </p:nvPicPr>
        <p:blipFill>
          <a:blip r:embed="rId1"/>
          <a:stretch/>
        </p:blipFill>
        <p:spPr>
          <a:xfrm>
            <a:off x="380880" y="228600"/>
            <a:ext cx="8175600" cy="61308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circl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2286000" y="4267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C:\Users\1\Desktop\развивающая среда\DSCN2463.JPG"/>
          <p:cNvPicPr/>
          <p:nvPr/>
        </p:nvPicPr>
        <p:blipFill>
          <a:blip r:embed="rId1"/>
          <a:stretch/>
        </p:blipFill>
        <p:spPr>
          <a:xfrm>
            <a:off x="457200" y="380880"/>
            <a:ext cx="8327880" cy="62452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circl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2286000" y="4267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Users\1\Desktop\развивающая среда\DSCN2458.JPG"/>
          <p:cNvPicPr/>
          <p:nvPr/>
        </p:nvPicPr>
        <p:blipFill>
          <a:blip r:embed="rId1"/>
          <a:stretch/>
        </p:blipFill>
        <p:spPr>
          <a:xfrm>
            <a:off x="228600" y="152280"/>
            <a:ext cx="4567320" cy="34261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34" name="Picture 3" descr="C:\Users\1\Desktop\развивающая среда\DSCN2464.JPG"/>
          <p:cNvPicPr/>
          <p:nvPr/>
        </p:nvPicPr>
        <p:blipFill>
          <a:blip r:embed="rId2"/>
          <a:stretch/>
        </p:blipFill>
        <p:spPr>
          <a:xfrm>
            <a:off x="4724280" y="3352680"/>
            <a:ext cx="4059360" cy="30448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circl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15998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ормление детского сада имеет большое значение для гармоничного развития ребёнка. Для того чтобы обучение было результативным, очень важна правильно подготовленная развивающая среда. Одно из условий, необходимое для всестороннего развития и воспитания детей в детском саду, это оборудованный в группе уголок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голок природы – это одна из игровых и учебных з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рупповой комн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E:\внеклассное мероприятие ПТИЧЬИ РАЗГОВОРЫ\bicg10op.gif"/>
          <p:cNvPicPr/>
          <p:nvPr/>
        </p:nvPicPr>
        <p:blipFill>
          <a:blip r:embed="rId1"/>
          <a:stretch/>
        </p:blipFill>
        <p:spPr>
          <a:xfrm>
            <a:off x="4572000" y="2800440"/>
            <a:ext cx="4572000" cy="3720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E:\внеклассное мероприятие ПТИЧЬИ РАЗГОВОРЫ\bi20op.gif"/>
          <p:cNvPicPr/>
          <p:nvPr/>
        </p:nvPicPr>
        <p:blipFill>
          <a:blip r:embed="rId2"/>
          <a:stretch/>
        </p:blipFill>
        <p:spPr>
          <a:xfrm>
            <a:off x="304920" y="2011320"/>
            <a:ext cx="3962160" cy="484668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5" descr=""/>
          <p:cNvPicPr/>
          <p:nvPr/>
        </p:nvPicPr>
        <p:blipFill>
          <a:blip r:embed="rId3"/>
          <a:stretch/>
        </p:blipFill>
        <p:spPr>
          <a:xfrm>
            <a:off x="1719360" y="189000"/>
            <a:ext cx="713880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лок природы, который органично вписывается в интерьер, будет украшением групповой комнаты и позволит детям проводить наблюдения и экспериментальную деятельность. Кроме этого, дошкольникам прививаются такие чувства, как ответственность и забота, так как дети учатся ухаживать за  раст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голок природы в ДОУ – это одно из условий наглядного и действенного ознакомления детей дошкольного возраста с природ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значение име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олок прир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ое развит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асширяются знания детей о природе, возникает интерес к ее познанию, стремление узнать новое, развивается любознательность, логическое мышление, внимание, наблюда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Эколого – эстетическое зна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формируется видение красоты природы, развивается творческое вооб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оспитательное зна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формируются нравственные качества и эмоционально-позитивное отношение к природе (бережное отношение, забота о живых существах, уважение к труду, чувства патриотизма, любовь к природе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209680" y="441972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43000" y="6858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ктическое зна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приобретение трудовых навыков по уходу за обитателями уголка природы и таких качеств, как трудолюбие, ответственность за порученное дело, инициатив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здоровительное зна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растения оздоравливают микроклимат помещения, увлажняют воздух, очищают и обогащают его кислородом, лечебные растения используются в лечебных целях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438280" y="43434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4582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аждой группы детского сада есть свой уголок природы. Подбор и размещение объектов в уголок природы проводят в соответствии с возрастом, руководствуясь Программой воспитания в детском саду и действующими Санитарными Правилами и Нормами (СанПин).  Природный уголок должен быть безопасным. Не допускается иметь в уголке природы ядовитые и колючие растения. Подбор растений проводят в соответствии с возрастом детей. И, конечно, обязательно осуществление ежедневного ухода за растениями. Цветы размещены на уровне глаз ребенка. Высота растения не должна превышать 25 см от кашпо. На цветах должны быть таблички с названием. В уголке- паспорт имеющихся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276720" y="4267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нПиН 2.4.1.3049-1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6.11. не допускают размещение аквариумов, животных, птиц в групповых помещениях, здесь помещают только раст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 7.5. Не рекомендуется размещать цветы в горшках на подоконниках в групповых и спальных помещ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276720" y="4267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е обитатели уголка природы в детском саду можно разделить на постоянных и временны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оянными обитателями уголка природы будут комнатные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 младшей групп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дагог привлекает внимание детей и показывает, как ухаживать за растениями. Рекомендуют такие растения с крупными листьями и ярко цветущ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2 младшей групп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комнатных растений рекомендуют 4-5 видов неприхотливых растений. Это растения, которые красиво и долго цветут, с ярко выраженными стеблем, листьями и цветами. Педагог знакомит с комнатными растениями, привлекает к уходу и показывает.  Дети должны знать название  2-3 комнатных раст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276720" y="4267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редней групп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исло комнатных растений увеличивается до 5-6 видов. Это будут растения с разной формой и величиной листьев. Педагог показывает,  как следует поливать растения, у разных растений неодинаковая потребность в воде. Дети должны знать названия 4-5 раст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таршей групп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уголок природы помещают 6-7 видов растений по 2-3 экземпляра с разнообразными стеблями (вьющиеся, стелющиеся), имеющие луковицы и клубнелуков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одготовительной групп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уголок природы размещают 6-7 видов растений, которые размножаются различными способами: луковицами, живородящие, а также цветы с разными условиями произрастания.  Дети должны знать названия 6-7 растений. Знакомим, что в зимнее время полив проводим реже, весной размножение растения (листо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276720" y="4267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user</cp:lastModifiedBy>
  <dcterms:modified xsi:type="dcterms:W3CDTF">2017-03-15T06:31:34Z</dcterms:modified>
  <cp:revision>146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