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786-A962-4EEB-88D2-816EC221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2B8-DBB3-46A3-ACC5-40442C1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97C-9DA3-47AD-A06E-E185BFA1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2BE-93FE-4DB3-8F90-531BB909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C27-08BA-497E-ABF5-2209A94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8A3-064B-49AD-AC0D-872F67B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7FD-D6F5-4074-81C6-F118E23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187-374A-4AE5-87B2-6B214C1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426-670A-49BA-883B-C6FB4997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2A7-1FB0-437D-AB17-7C4D559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354-1C8B-473C-9504-034C3A5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DDC-E790-4477-835D-4F893E2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735-A2E6-41AA-965F-CCB1F14A2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ПОУ ВО «Борисоглебскмедколлед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Чере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сцип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натомия и физиология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ила: Козлукова Т.В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подаватель анат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физиолог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Борисоглеб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6" descr="клиновидная кость (спереди)"/>
          <p:cNvPicPr/>
          <p:nvPr/>
        </p:nvPicPr>
        <p:blipFill>
          <a:blip r:embed="rId1"/>
          <a:stretch/>
        </p:blipFill>
        <p:spPr>
          <a:xfrm>
            <a:off x="1692360" y="3760920"/>
            <a:ext cx="5400720" cy="30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клиновидная кость (сзади)"/>
          <p:cNvPicPr/>
          <p:nvPr/>
        </p:nvPicPr>
        <p:blipFill>
          <a:blip r:embed="rId2"/>
          <a:stretch/>
        </p:blipFill>
        <p:spPr>
          <a:xfrm>
            <a:off x="1692360" y="981000"/>
            <a:ext cx="5327640" cy="3025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линовидная кость (вид сзади и спере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708360" y="836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77080" y="5516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ая паз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3716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яя глазничная щ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211640" y="1197000"/>
            <a:ext cx="7308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5076720" y="2708280"/>
            <a:ext cx="2232000" cy="22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2340000" y="6092640"/>
            <a:ext cx="122400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7380360" y="105264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е кр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580536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ыло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50920" y="191628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рецкое сед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380360" y="234936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е кр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H="1" flipV="1">
            <a:off x="4500360" y="5300280"/>
            <a:ext cx="2376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332000" y="4581360"/>
            <a:ext cx="2087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1619280" y="2565360"/>
            <a:ext cx="2736720" cy="22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H="1">
            <a:off x="6156360" y="1484280"/>
            <a:ext cx="12952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 flipV="1">
            <a:off x="5076720" y="1844280"/>
            <a:ext cx="223200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Решетчатая 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rietal_bone"/>
          <p:cNvPicPr/>
          <p:nvPr/>
        </p:nvPicPr>
        <p:blipFill>
          <a:blip r:embed="rId1"/>
          <a:stretch/>
        </p:blipFill>
        <p:spPr>
          <a:xfrm>
            <a:off x="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730920" y="141300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4284720" y="1844640"/>
            <a:ext cx="244800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4" descr="решетчатая (спереди и справа)"/>
          <p:cNvPicPr/>
          <p:nvPr/>
        </p:nvPicPr>
        <p:blipFill>
          <a:blip r:embed="rId1"/>
          <a:stretch/>
        </p:blipFill>
        <p:spPr>
          <a:xfrm>
            <a:off x="0" y="2484360"/>
            <a:ext cx="637236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решетчатая (сверху)"/>
          <p:cNvPicPr/>
          <p:nvPr/>
        </p:nvPicPr>
        <p:blipFill>
          <a:blip r:embed="rId2"/>
          <a:stretch/>
        </p:blipFill>
        <p:spPr>
          <a:xfrm>
            <a:off x="6273720" y="2268360"/>
            <a:ext cx="287028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1258920" y="608472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пендикуляр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Решетчатая кост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(вид спереди, справа и свер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88000" y="615636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912000" y="1403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тчатый лабир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050920" y="2052720"/>
            <a:ext cx="28814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5003280" y="2205000"/>
            <a:ext cx="57636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2340000" y="4716000"/>
            <a:ext cx="29527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716360" y="1413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нич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68360" y="1476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тушиный греб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7596360" y="4500360"/>
            <a:ext cx="21564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258560" y="4788000"/>
            <a:ext cx="108108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H="1">
            <a:off x="1258920" y="2052720"/>
            <a:ext cx="79200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>
            <a:off x="7092720" y="2195640"/>
            <a:ext cx="43164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7524720" y="2268360"/>
            <a:ext cx="79236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Височная 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parietal_bone"/>
          <p:cNvPicPr/>
          <p:nvPr/>
        </p:nvPicPr>
        <p:blipFill>
          <a:blip r:embed="rId1"/>
          <a:stretch/>
        </p:blipFill>
        <p:spPr>
          <a:xfrm>
            <a:off x="320364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324000" y="5157720"/>
            <a:ext cx="24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соч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 flipV="1">
            <a:off x="2700360" y="4799160"/>
            <a:ext cx="2303280" cy="57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0" descr="0_067"/>
          <p:cNvPicPr/>
          <p:nvPr/>
        </p:nvPicPr>
        <p:blipFill>
          <a:blip r:embed="rId1"/>
          <a:stretch/>
        </p:blipFill>
        <p:spPr>
          <a:xfrm>
            <a:off x="4788000" y="1666800"/>
            <a:ext cx="4356000" cy="428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9" descr="065"/>
          <p:cNvPicPr/>
          <p:nvPr/>
        </p:nvPicPr>
        <p:blipFill>
          <a:blip r:embed="rId2"/>
          <a:stretch/>
        </p:blipFill>
        <p:spPr>
          <a:xfrm>
            <a:off x="0" y="1700280"/>
            <a:ext cx="4537080" cy="4083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5867280" y="6156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исо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835280" y="907920"/>
            <a:ext cx="25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челюстная я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0" y="836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2555640" y="1413000"/>
            <a:ext cx="215640" cy="25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3708000" y="1557360"/>
            <a:ext cx="93492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 flipH="1" flipV="1">
            <a:off x="2843280" y="5229360"/>
            <a:ext cx="172872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98100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енно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7308720" y="83664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шуйчат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7019640" y="4365360"/>
            <a:ext cx="86508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1763280" y="5013000"/>
            <a:ext cx="79236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826920" y="1484280"/>
            <a:ext cx="72072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7093080" y="1484280"/>
            <a:ext cx="50328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 flipV="1">
            <a:off x="3850920" y="3789000"/>
            <a:ext cx="2305080" cy="230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380360" y="595008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ист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1908000" y="587700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це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3924360" y="5877000"/>
            <a:ext cx="19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ло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0" y="587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V="1">
            <a:off x="468360" y="4437000"/>
            <a:ext cx="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ерх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parietal_bone"/>
          <p:cNvPicPr/>
          <p:nvPr/>
        </p:nvPicPr>
        <p:blipFill>
          <a:blip r:embed="rId1"/>
          <a:stretch/>
        </p:blipFill>
        <p:spPr>
          <a:xfrm>
            <a:off x="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6516720" y="227664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ечелюст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H="1">
            <a:off x="4858920" y="2852640"/>
            <a:ext cx="158436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верхнечелюстная кость"/>
          <p:cNvPicPr/>
          <p:nvPr/>
        </p:nvPicPr>
        <p:blipFill>
          <a:blip r:embed="rId1"/>
          <a:stretch/>
        </p:blipFill>
        <p:spPr>
          <a:xfrm>
            <a:off x="4800600" y="1773360"/>
            <a:ext cx="4040280" cy="424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верхнечелюстная кость"/>
          <p:cNvPicPr/>
          <p:nvPr/>
        </p:nvPicPr>
        <p:blipFill>
          <a:blip r:embed="rId2"/>
          <a:stretch/>
        </p:blipFill>
        <p:spPr>
          <a:xfrm>
            <a:off x="468360" y="1700280"/>
            <a:ext cx="3887640" cy="4319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"/>
          <p:cNvSpPr/>
          <p:nvPr/>
        </p:nvSpPr>
        <p:spPr>
          <a:xfrm>
            <a:off x="6732720" y="9079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ерх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508720" y="603576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б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0" y="981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700000" y="1413000"/>
            <a:ext cx="1079640" cy="27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7308360" y="1268280"/>
            <a:ext cx="79236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 flipV="1">
            <a:off x="6227640" y="4581000"/>
            <a:ext cx="936720" cy="151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76720" y="981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2411280" y="4797000"/>
            <a:ext cx="7308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1042920" y="1773360"/>
            <a:ext cx="57636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116000" y="603576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веоляр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4572000" y="10526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рстие гайморовой пазу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5724360" y="1844640"/>
            <a:ext cx="432000" cy="13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6" descr="небная (правая, спереди)"/>
          <p:cNvPicPr/>
          <p:nvPr/>
        </p:nvPicPr>
        <p:blipFill>
          <a:blip r:embed="rId1"/>
          <a:stretch/>
        </p:blipFill>
        <p:spPr>
          <a:xfrm>
            <a:off x="2050920" y="1052640"/>
            <a:ext cx="4977000" cy="5805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79280" y="1268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ая плас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еб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227640" y="386064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ая плас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1403280" y="2133720"/>
            <a:ext cx="2089080" cy="20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300360" y="4653000"/>
            <a:ext cx="86364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ижняя носовая рако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1"/>
          <a:stretch/>
        </p:blipFill>
        <p:spPr>
          <a:xfrm>
            <a:off x="0" y="1413000"/>
            <a:ext cx="3649680" cy="4437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3854520" y="981000"/>
            <a:ext cx="52894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6" descr="087"/>
          <p:cNvPicPr/>
          <p:nvPr/>
        </p:nvPicPr>
        <p:blipFill>
          <a:blip r:embed="rId1"/>
          <a:stretch/>
        </p:blipFill>
        <p:spPr>
          <a:xfrm>
            <a:off x="324000" y="4221000"/>
            <a:ext cx="2519280" cy="2271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слезная (правая)"/>
          <p:cNvPicPr/>
          <p:nvPr/>
        </p:nvPicPr>
        <p:blipFill>
          <a:blip r:embed="rId2"/>
          <a:stretch/>
        </p:blipFill>
        <p:spPr>
          <a:xfrm>
            <a:off x="32400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07020203 изм"/>
          <p:cNvPicPr/>
          <p:nvPr/>
        </p:nvPicPr>
        <p:blipFill>
          <a:blip r:embed="rId3"/>
          <a:stretch/>
        </p:blipFill>
        <p:spPr>
          <a:xfrm>
            <a:off x="3311640" y="1025640"/>
            <a:ext cx="5832360" cy="5832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лезная и скуловая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340000" y="2924280"/>
            <a:ext cx="259236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V="1">
            <a:off x="2627280" y="4220640"/>
            <a:ext cx="331308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ий об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198900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ево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07020203 изм"/>
          <p:cNvPicPr/>
          <p:nvPr/>
        </p:nvPicPr>
        <p:blipFill>
          <a:blip r:embed="rId1"/>
          <a:stretch/>
        </p:blipFill>
        <p:spPr>
          <a:xfrm>
            <a:off x="3132000" y="105264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395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ш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4519440" y="549360"/>
            <a:ext cx="4624560" cy="4699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сошник"/>
          <p:cNvPicPr/>
          <p:nvPr/>
        </p:nvPicPr>
        <p:blipFill>
          <a:blip r:embed="rId2"/>
          <a:stretch/>
        </p:blipFill>
        <p:spPr>
          <a:xfrm>
            <a:off x="250920" y="4149720"/>
            <a:ext cx="6049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8" descr="нижняя челюсть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578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6300720" y="90792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щелков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Нижнечелюст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76720" y="83664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ая вет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9640" y="90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ч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H="1">
            <a:off x="3419640" y="1413000"/>
            <a:ext cx="79200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8101080" y="1484280"/>
            <a:ext cx="360360" cy="79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 flipV="1">
            <a:off x="468000" y="5229000"/>
            <a:ext cx="86364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580000" y="6237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 flipV="1">
            <a:off x="2843280" y="4508280"/>
            <a:ext cx="2665440" cy="18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1547640" y="1700280"/>
            <a:ext cx="129708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46836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ородочный выст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6" descr="092"/>
          <p:cNvPicPr/>
          <p:nvPr/>
        </p:nvPicPr>
        <p:blipFill>
          <a:blip r:embed="rId1"/>
          <a:stretch/>
        </p:blipFill>
        <p:spPr>
          <a:xfrm>
            <a:off x="1187280" y="1052640"/>
            <a:ext cx="5799240" cy="5805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156360" y="98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й 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ъязы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50920" y="10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е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1403280" y="1557360"/>
            <a:ext cx="432000" cy="18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6514920" y="1484280"/>
            <a:ext cx="649080" cy="252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59636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 flipV="1">
            <a:off x="5795640" y="5661000"/>
            <a:ext cx="1800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403280" y="1557360"/>
            <a:ext cx="352764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ид сп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1"/>
          <p:cNvPicPr/>
          <p:nvPr/>
        </p:nvPicPr>
        <p:blipFill>
          <a:blip r:embed="rId1"/>
          <a:stretch/>
        </p:blipFill>
        <p:spPr>
          <a:xfrm>
            <a:off x="2627280" y="1066680"/>
            <a:ext cx="40734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757440" y="11253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166520" y="2060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80" y="299736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41800" y="21337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42160" y="38606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52720" y="5877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406560" y="6165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8520" y="1197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42160" y="48690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7173000" y="34290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20000" y="40766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носовая рак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7094880" y="551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2050920" y="1484280"/>
            <a:ext cx="1873440" cy="86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2195640" y="2421000"/>
            <a:ext cx="79200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2340000" y="3284640"/>
            <a:ext cx="79200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2195640" y="4149720"/>
            <a:ext cx="100800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 flipV="1">
            <a:off x="2050920" y="3933360"/>
            <a:ext cx="2233800" cy="115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 flipV="1">
            <a:off x="2484360" y="4941360"/>
            <a:ext cx="1656000" cy="1008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2"/>
          <p:cNvSpPr/>
          <p:nvPr/>
        </p:nvSpPr>
        <p:spPr>
          <a:xfrm flipH="1">
            <a:off x="4643280" y="1484280"/>
            <a:ext cx="2592720" cy="23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 flipH="1">
            <a:off x="6300360" y="2349360"/>
            <a:ext cx="863640" cy="1079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5148360" y="3645000"/>
            <a:ext cx="201600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4642920" y="3645000"/>
            <a:ext cx="252108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4859280" y="4581360"/>
            <a:ext cx="2160720" cy="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 flipH="1" flipV="1">
            <a:off x="4642920" y="4723920"/>
            <a:ext cx="2449800" cy="10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H="1" flipV="1">
            <a:off x="5363640" y="5949720"/>
            <a:ext cx="100836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Глаз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1"/>
          <p:cNvPicPr/>
          <p:nvPr/>
        </p:nvPicPr>
        <p:blipFill>
          <a:blip r:embed="rId1"/>
          <a:stretch/>
        </p:blipFill>
        <p:spPr>
          <a:xfrm>
            <a:off x="1692360" y="1341360"/>
            <a:ext cx="6011640" cy="4578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613080" y="83664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60" y="1844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080" y="3357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50920" y="4941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53440" y="60213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7665480" y="1773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7695720" y="7650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173000" y="3284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6285240" y="6165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1979640" y="1125360"/>
            <a:ext cx="2016000" cy="93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1042920" y="2276640"/>
            <a:ext cx="93672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V="1">
            <a:off x="2195640" y="3500280"/>
            <a:ext cx="2016000" cy="1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908000" y="5373720"/>
            <a:ext cx="93528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V="1">
            <a:off x="1619280" y="4221000"/>
            <a:ext cx="360036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 flipH="1">
            <a:off x="6012000" y="1125360"/>
            <a:ext cx="1728720" cy="24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 flipH="1">
            <a:off x="7093080" y="2133720"/>
            <a:ext cx="574560" cy="93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5579640" y="3645000"/>
            <a:ext cx="1584360" cy="21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>
            <a:off x="7164360" y="3645000"/>
            <a:ext cx="21600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H="1" flipV="1">
            <a:off x="5076360" y="4724280"/>
            <a:ext cx="1582920" cy="144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V="1">
            <a:off x="2195640" y="2492280"/>
            <a:ext cx="287280" cy="115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4"/>
          <p:cNvPicPr/>
          <p:nvPr/>
        </p:nvPicPr>
        <p:blipFill>
          <a:blip r:embed="rId1"/>
          <a:stretch/>
        </p:blipFill>
        <p:spPr>
          <a:xfrm>
            <a:off x="1908000" y="1052640"/>
            <a:ext cx="5311800" cy="5805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Вид сб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6924240" y="5373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7238160" y="90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520" y="4724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50920" y="5877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6406560" y="6165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253440" y="2637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53440" y="38606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 flipH="1">
            <a:off x="5940000" y="1197000"/>
            <a:ext cx="136836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 flipH="1" flipV="1">
            <a:off x="5148360" y="4005000"/>
            <a:ext cx="230328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1547640" y="3068640"/>
            <a:ext cx="86364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7"/>
          <p:cNvSpPr/>
          <p:nvPr/>
        </p:nvSpPr>
        <p:spPr>
          <a:xfrm flipV="1">
            <a:off x="1692360" y="3933360"/>
            <a:ext cx="1079280" cy="1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 flipV="1">
            <a:off x="1692360" y="5084640"/>
            <a:ext cx="93492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 flipH="1">
            <a:off x="6732360" y="2205000"/>
            <a:ext cx="718920" cy="151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3779640" y="3860640"/>
            <a:ext cx="309708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"/>
          <p:cNvSpPr/>
          <p:nvPr/>
        </p:nvSpPr>
        <p:spPr>
          <a:xfrm flipH="1" flipV="1">
            <a:off x="3995640" y="6021000"/>
            <a:ext cx="237672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7165800" y="1797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3"/>
          <p:cNvSpPr/>
          <p:nvPr/>
        </p:nvSpPr>
        <p:spPr>
          <a:xfrm flipV="1">
            <a:off x="1619280" y="4365720"/>
            <a:ext cx="151272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"/>
          <p:cNvPicPr/>
          <p:nvPr/>
        </p:nvPicPr>
        <p:blipFill>
          <a:blip r:embed="rId1"/>
          <a:stretch/>
        </p:blipFill>
        <p:spPr>
          <a:xfrm>
            <a:off x="1187280" y="903240"/>
            <a:ext cx="6626520" cy="59547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Сагиттальный раз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924240" y="53737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238160" y="907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800" y="5300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50920" y="587700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яя челю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408000" y="61657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520" y="27082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160" y="1916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 flipH="1">
            <a:off x="5940000" y="1197000"/>
            <a:ext cx="136836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5"/>
          <p:cNvSpPr/>
          <p:nvPr/>
        </p:nvSpPr>
        <p:spPr>
          <a:xfrm flipH="1" flipV="1">
            <a:off x="5148360" y="4005000"/>
            <a:ext cx="230328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"/>
          <p:cNvSpPr/>
          <p:nvPr/>
        </p:nvSpPr>
        <p:spPr>
          <a:xfrm>
            <a:off x="1403280" y="4724280"/>
            <a:ext cx="936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1042920" y="3141720"/>
            <a:ext cx="792360" cy="1439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 flipV="1">
            <a:off x="1692360" y="6021360"/>
            <a:ext cx="64764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 flipH="1">
            <a:off x="7019640" y="2205000"/>
            <a:ext cx="129708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 flipH="1" flipV="1">
            <a:off x="3779640" y="3860640"/>
            <a:ext cx="309708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 flipV="1">
            <a:off x="3563640" y="5661000"/>
            <a:ext cx="280836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7165800" y="1797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 flipV="1">
            <a:off x="1403280" y="5300280"/>
            <a:ext cx="1873440" cy="289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0" y="393372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жняя носовая рак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1692360" y="2349360"/>
            <a:ext cx="1008000" cy="230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горизонтальный разрез (вид сверху)"/>
          <p:cNvPicPr/>
          <p:nvPr/>
        </p:nvPicPr>
        <p:blipFill>
          <a:blip r:embed="rId1"/>
          <a:stretch/>
        </p:blipFill>
        <p:spPr>
          <a:xfrm>
            <a:off x="2195640" y="981000"/>
            <a:ext cx="47782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Горизонтальный раз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97080" y="907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490520" y="450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6924240" y="278136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2160" y="32846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7173000" y="1052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763640" y="1268280"/>
            <a:ext cx="1656000" cy="9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 flipH="1">
            <a:off x="4571640" y="1268280"/>
            <a:ext cx="2592360" cy="10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 flipH="1" flipV="1">
            <a:off x="5866920" y="4005000"/>
            <a:ext cx="1584360" cy="71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1619280" y="3500280"/>
            <a:ext cx="93672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 flipH="1">
            <a:off x="4500360" y="2997360"/>
            <a:ext cx="244764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4"/>
          <p:cNvSpPr/>
          <p:nvPr/>
        </p:nvSpPr>
        <p:spPr>
          <a:xfrm flipH="1" flipV="1">
            <a:off x="4859280" y="5805000"/>
            <a:ext cx="1944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6805440" y="61657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Лоб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лобная"/>
          <p:cNvPicPr/>
          <p:nvPr/>
        </p:nvPicPr>
        <p:blipFill>
          <a:blip r:embed="rId1"/>
          <a:stretch/>
        </p:blipFill>
        <p:spPr>
          <a:xfrm>
            <a:off x="1763640" y="1197000"/>
            <a:ext cx="5543640" cy="518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251280" y="14590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бу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2560" y="60930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глазни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20" y="44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бровная 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948360" y="436572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белла (надперенос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128000" y="5877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лов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124000" y="1844640"/>
            <a:ext cx="1079640" cy="16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1835280" y="4797000"/>
            <a:ext cx="144144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2340000" y="5229000"/>
            <a:ext cx="100800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>
            <a:off x="4500360" y="4724280"/>
            <a:ext cx="24476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 flipV="1">
            <a:off x="6588000" y="5589720"/>
            <a:ext cx="43200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лобная (снизу)"/>
          <p:cNvPicPr/>
          <p:nvPr/>
        </p:nvPicPr>
        <p:blipFill>
          <a:blip r:embed="rId1"/>
          <a:stretch/>
        </p:blipFill>
        <p:spPr>
          <a:xfrm>
            <a:off x="684360" y="1700280"/>
            <a:ext cx="7956360" cy="3894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об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11280" y="5805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нич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11280" y="9079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ов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867280" y="5805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тчатая вы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300720" y="90792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рстия лобной паз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2124000" y="4292280"/>
            <a:ext cx="863640" cy="15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1979640" y="1557360"/>
            <a:ext cx="223344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5003280" y="1413000"/>
            <a:ext cx="1297080" cy="23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4500720" y="4581000"/>
            <a:ext cx="1366560" cy="136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Темен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arietal_bone"/>
          <p:cNvPicPr/>
          <p:nvPr/>
        </p:nvPicPr>
        <p:blipFill>
          <a:blip r:embed="rId1"/>
          <a:stretch/>
        </p:blipFill>
        <p:spPr>
          <a:xfrm>
            <a:off x="3203640" y="981000"/>
            <a:ext cx="5940360" cy="5524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95280" y="17002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ен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2276640"/>
            <a:ext cx="1800360" cy="43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058"/>
          <p:cNvPicPr/>
          <p:nvPr/>
        </p:nvPicPr>
        <p:blipFill>
          <a:blip r:embed="rId1"/>
          <a:stretch/>
        </p:blipFill>
        <p:spPr>
          <a:xfrm>
            <a:off x="4535640" y="1557360"/>
            <a:ext cx="4608360" cy="451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23"/>
          <p:cNvPicPr/>
          <p:nvPr/>
        </p:nvPicPr>
        <p:blipFill>
          <a:blip r:embed="rId2"/>
          <a:stretch/>
        </p:blipFill>
        <p:spPr>
          <a:xfrm>
            <a:off x="0" y="1628640"/>
            <a:ext cx="4537080" cy="4364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Темен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492360" y="61657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шуйчат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356000" y="981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б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0920" y="616572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24000" y="98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гитталь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2627280" y="5373720"/>
            <a:ext cx="122400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995640" y="1413000"/>
            <a:ext cx="1224000" cy="24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 flipV="1">
            <a:off x="250560" y="3933360"/>
            <a:ext cx="1368360" cy="230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1908000" y="1413000"/>
            <a:ext cx="43200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7" descr="wvgmxpzecf, blosja afaxkdczzzir"/>
          <p:cNvPicPr/>
          <p:nvPr/>
        </p:nvPicPr>
        <p:blipFill>
          <a:blip r:embed="rId1"/>
          <a:stretch/>
        </p:blipFill>
        <p:spPr>
          <a:xfrm>
            <a:off x="324000" y="1673280"/>
            <a:ext cx="3958920" cy="518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череп сзади"/>
          <p:cNvPicPr/>
          <p:nvPr/>
        </p:nvPicPr>
        <p:blipFill>
          <a:blip r:embed="rId2"/>
          <a:stretch/>
        </p:blipFill>
        <p:spPr>
          <a:xfrm>
            <a:off x="5003640" y="1844640"/>
            <a:ext cx="3813480" cy="403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единения теменной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400720" y="616572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ямбдовид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356000" y="98100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гитталь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24000" y="98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чный 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 flipV="1">
            <a:off x="6443280" y="3789000"/>
            <a:ext cx="144360" cy="23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410920" y="1413000"/>
            <a:ext cx="2808360" cy="33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300720" y="1413000"/>
            <a:ext cx="647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1619280" y="1413000"/>
            <a:ext cx="288720" cy="25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5" descr="затылочная"/>
          <p:cNvPicPr/>
          <p:nvPr/>
        </p:nvPicPr>
        <p:blipFill>
          <a:blip r:embed="rId1"/>
          <a:stretch/>
        </p:blipFill>
        <p:spPr>
          <a:xfrm>
            <a:off x="1835280" y="1096920"/>
            <a:ext cx="5521320" cy="576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Затылочная 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83664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ужный затылочный бу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342900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е (затылочное)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85080" y="60357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иляр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912000" y="90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ая чешу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2268360" y="5157360"/>
            <a:ext cx="100836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11280" y="1628640"/>
            <a:ext cx="223200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4642920" y="2421000"/>
            <a:ext cx="25210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4716360" y="623736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5805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тераль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7093080" y="206064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ый греб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667640" y="3573360"/>
            <a:ext cx="17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яя выйн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50920" y="1916280"/>
            <a:ext cx="165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няя выйная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308720" y="508464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щ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2268360" y="6092640"/>
            <a:ext cx="158292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H="1">
            <a:off x="5508720" y="5300640"/>
            <a:ext cx="1727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1619280" y="4292640"/>
            <a:ext cx="280836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1619280" y="2349360"/>
            <a:ext cx="172872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5435640" y="1341360"/>
            <a:ext cx="151272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H="1" flipV="1">
            <a:off x="5795640" y="3644640"/>
            <a:ext cx="1871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Соединение затылочной и клиновидной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затылоч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3640" y="2500200"/>
            <a:ext cx="5940360" cy="43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arietal_bone"/>
          <p:cNvPicPr/>
          <p:nvPr/>
        </p:nvPicPr>
        <p:blipFill>
          <a:blip r:embed="rId2"/>
          <a:stretch/>
        </p:blipFill>
        <p:spPr>
          <a:xfrm>
            <a:off x="0" y="765000"/>
            <a:ext cx="3564000" cy="3314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250920" y="602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ылоч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H="1" flipV="1">
            <a:off x="394920" y="2781360"/>
            <a:ext cx="647640" cy="31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1042920" y="5373360"/>
            <a:ext cx="2808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6588000" y="1557360"/>
            <a:ext cx="720720" cy="27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1979280" y="1268280"/>
            <a:ext cx="266364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4788000" y="105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иновид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21:38Z</dcterms:created>
  <dc:creator>Павел</dc:creator>
  <dc:description/>
  <dc:language>en-US</dc:language>
  <cp:lastModifiedBy>Пользователь Windows</cp:lastModifiedBy>
  <dcterms:modified xsi:type="dcterms:W3CDTF">2020-09-10T05:58:44Z</dcterms:modified>
  <cp:revision>13</cp:revision>
  <dc:subject/>
  <dc:title>Слайд 1</dc:title>
</cp:coreProperties>
</file>