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FFE-7772-4F27-9563-BAC1F5D9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A0D-74DC-4A67-8584-C6B15B66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2A2-B331-4D00-B8F6-5C983DC5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EA6-9587-4FA4-AD75-7E823701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11D-DF9B-4963-BA92-7FB5804B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6C7-D709-41AD-A98A-1D7E89C9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9CC-22F3-4A8A-97A7-F6C04E7B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29F-A358-4B12-BB88-AEF6D638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150-AE47-4A45-9D65-C4BEDB07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C50-94B9-4473-BCCB-9196B349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6D6-B111-4346-9E9B-8E6E0003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303-D263-4B86-91B6-D84A9797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0DE2-626D-4D7C-BA16-0DEECD83A1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015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773360" y="2816280"/>
            <a:ext cx="515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отовимся к школе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360520" y="4541760"/>
            <a:ext cx="51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Подготовиль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воспитатель первой  квалификационной категории Рубанова Т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457200" y="504720"/>
            <a:ext cx="83217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от настала пора идти вашему ребенку в школу.</a:t>
            </a: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Что он должен уметь при поступлении в учебное заведени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се зависит от индивидуальных особенностей ребенка, и тех требований которые предъявляются в той или иной школе. Но главное что вы, как родители, должны сделать для своего ребенка, это подготовить ребенка физически и психологически. Научить его общаться, укрепить иммунитет, а потом уже читать, считать и писа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Чему же следует учить дошкольника для того, чтобы он правильно, гармонично развивался и был готов к школе? Ребенка надо учить всему, не только непосредственно тем навыкам, которые необходимы в школьном обучении: чтению, письму, счету, - но и всем тем навыкам и умениям, которые необходимы в быту: правильно использовать предметы, окружающие его, именно действию, а не сухим знаниям о т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или ином предмете или явле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858960" y="712800"/>
            <a:ext cx="77914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еред поступлением в 1 класс ребенок должен знать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основные цвет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дни недел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месяц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ремена год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онятия «право - лево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основные професс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домашних и основные виды диких животны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детенышей животны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нать зимующих и перелетных птиц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иды транспорт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уметь ориентироваться на бумаг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нать что такое овощи и фрукты. Уметь отличать овощи от фрукт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должен уметь показать правый глаз, правую руку 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801720" y="523800"/>
            <a:ext cx="73152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Что должен знать ребенок по математик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рямой и обратный счет: от 0-10 и от 10 – 0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состав чисел (из двух меньших и из отдельных единиц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нать понятия «больше - меньше, поровну», «большой – маленький», «высокий - низкий», «широкий - узкий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нать основные геометрические фигуры: круг, квадрат, треугольник, овал, прямоугольни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уметь соотносить цифру и число предмет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ориентироваться на бумаге в клеточку – уметь писать графический диктант (одна клетка вправо, одна клетка влево и т.д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155600" y="560520"/>
            <a:ext cx="69296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амять, мышление, внимание и реч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ебенок должен уметь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ересказывать простое услышанное произведени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ассказывать по картинке (не отдельными словами, а составлять рассказ по картинк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нать стихотвор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сочинять сказ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отвечать на поставленные вопрос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делать какое-либо задание по образц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уметь описывать картинку по памя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апоминать до 10 увиденных картино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аканчивать предлож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находить лишнюю картинку или слов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уметь отгадывать загад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группировать предметы по призна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1379520" y="612720"/>
            <a:ext cx="6481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Что ребенок должен знать по чтению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букв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уметь соотносить звук с букв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ычленять звуки из слов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одбирать слова на заданный звук или букв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читать слова и простые предложения (по слогам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онимать, что такое предложение и где оно заканчив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Навыки пись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Не стоит забывать и про навыки письма</a:t>
            </a: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обводить картинки по контур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обводить печатные буквы по контор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равильно держать ручку в ру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копировать геометрическую фигуру по клеточк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368280" y="0"/>
            <a:ext cx="840744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85723"/>
                </a:solidFill>
                <a:latin typeface="Calibri"/>
              </a:rPr>
              <a:t>Тесты для подготовки к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Ребенок должен ориентироваться в окружающем мире, знать что такое день и ночь, правила поведения – здороваться при встрече и говор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до свидания, когда уходит, понимать что тако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живая и неживая природа и так далее. В общ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понимать окружающий его ми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Знать как его зовут, какого он пола, знать по именам всех членов своей семьи и даже называть имена друзей. Называть адрес где он жив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Ориентироваться пространстве направо, налево, высоко, низко, далеко, близко 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Речь у дошколенка должна быть осмысленной, стройными предложениями и законченной мыслью. Ребенок должен уметь пересказывать увиденн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Ребенок должен уметь считать (достаточно знать цифры до десяти) и узнавать буквы (знать половину алфавита – неплохой показатель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Дошкольник должен знать основные цвета и называть их, а так же отличать времена года, месяцы и дни нед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Дошкольник должен уметь собирать легкие паз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            </a:t>
            </a: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из нескольких фигур. Выполнять неслож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              </a:t>
            </a: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логические игры для детей своего возра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                     </a:t>
            </a: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Желаем успехов и терпени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5T13:44:52Z</dcterms:created>
  <dc:creator>Admin</dc:creator>
  <dc:description/>
  <dc:language>en-US</dc:language>
  <cp:lastModifiedBy>пользователь1</cp:lastModifiedBy>
  <dcterms:modified xsi:type="dcterms:W3CDTF">2020-09-10T13:03:43Z</dcterms:modified>
  <cp:revision>7</cp:revision>
  <dc:subject/>
  <dc:title>Презентация PowerPoint</dc:title>
</cp:coreProperties>
</file>