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7AD3-3202-44CE-A5E3-533075FA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0B80-323C-462C-B4E1-67F1BE35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CCCD-E390-41FA-B553-5851738B8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14A0-0802-44DE-94D4-1786E7A9D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5E50-7303-4D61-9FF4-F5EA8AE2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3EAE-E980-4C82-8943-A45E8B9E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AD9B-53D4-49F7-9B9C-AE2A00FD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1C47-4D19-45AA-91C3-D20A6752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64B5-6CF3-41B0-A8DD-41DDFF91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C0F6-B105-4100-A7D2-EE1C6FA7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7490-8B96-4E97-A13D-D6EE69B0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979B-4E4D-468F-89E4-FDF601E5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30EA-5BA3-4DD7-8731-B5406C4517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0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015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773360" y="2816280"/>
            <a:ext cx="5157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Готовимся к школе!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2360520" y="4541760"/>
            <a:ext cx="517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Подготовиль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воспитатель первой  квалификационной категории Рубанова Т.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457200" y="504720"/>
            <a:ext cx="83217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Вот настала пора идти вашему ребенку в школу.</a:t>
            </a: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Что он должен уметь при поступлении в учебное заведени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Все зависит от индивидуальных особенностей ребенка, и тех требований которые предъявляются в той или иной школе. Но главное что вы, как родители, должны сделать для своего ребенка, это подготовить ребенка физически и психологически. Научить его общаться, укрепить иммунитет, а потом уже читать, считать и писа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Чему же следует учить дошкольника для того, чтобы он правильно, гармонично развивался и был готов к школе? Ребенка надо учить всему, не только непосредственно тем навыкам, которые необходимы в школьном обучении: чтению, письму, счету, - но и всем тем навыкам и умениям, которые необходимы в быту: правильно использовать предметы, окружающие его, именно действию, а не сухим знаниям о то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или ином предмете или явлен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858960" y="712800"/>
            <a:ext cx="77914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Перед поступлением в 1 класс ребенок должен знать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основные цвет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дни недел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месяц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времена год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понятия «право - лево»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основные професси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домашних и основные виды диких животных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детенышей животных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знать зимующих и перелетных птиц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виды транспорт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уметь ориентироваться на бумаг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знать что такое овощи и фрукты. Уметь отличать овощи от фрукто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должен уметь показать правый глаз, правую руку и т.д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801720" y="523800"/>
            <a:ext cx="73152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Что должен знать ребенок по математике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прямой и обратный счет: от 0-10 и от 10 – 0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состав чисел (из двух меньших и из отдельных единиц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знать понятия «больше - меньше, поровну», «большой – маленький», «высокий - низкий», «широкий - узкий»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знать основные геометрические фигуры: круг, квадрат, треугольник, овал, прямоугольник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уметь соотносить цифру и число предмето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ориентироваться на бумаге в клеточку – уметь писать графический диктант (одна клетка вправо, одна клетка влево и т.д.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1155600" y="560520"/>
            <a:ext cx="69296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Память, мышление, внимание и речь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Ребенок должен уметь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пересказывать простое услышанное произведени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рассказывать по картинке (не отдельными словами, а составлять рассказ по картинке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знать стихотворе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сочинять сказк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отвечать на поставленные вопрос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делать какое-либо задание по образцу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уметь описывать картинку по памят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запоминать до 10 увиденных картинок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заканчивать предложе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находить лишнюю картинку или слов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уметь отгадывать загадк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группировать предметы по признак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1379520" y="612720"/>
            <a:ext cx="64818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Что ребенок должен знать по чтению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букв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уметь соотносить звук с букво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вычленять звуки из слов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подбирать слова на заданный звук или букву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читать слова и простые предложения (по слогам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понимать, что такое предложение и где оно заканчиваетс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Навыки письм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Не стоит забывать и про навыки письма</a:t>
            </a: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обводить картинки по контур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обводить печатные буквы по контор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правильно держать ручку в рук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копировать геометрическую фигуру по клеточка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368280" y="0"/>
            <a:ext cx="840744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85723"/>
                </a:solidFill>
                <a:latin typeface="Calibri"/>
              </a:rPr>
              <a:t>Тесты для подготовки к шко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85723"/>
                </a:solidFill>
                <a:latin typeface="Calibri"/>
              </a:rPr>
              <a:t>Ребенок должен ориентироваться в окружающем мире, знать что такое день и ночь, правила поведения – здороваться при встрече и говори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85723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385723"/>
                </a:solidFill>
                <a:latin typeface="Calibri"/>
              </a:rPr>
              <a:t>до свидания, когда уходит, понимать что тако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85723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385723"/>
                </a:solidFill>
                <a:latin typeface="Calibri"/>
              </a:rPr>
              <a:t>живая и неживая природа и так далее. В общ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85723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385723"/>
                </a:solidFill>
                <a:latin typeface="Calibri"/>
              </a:rPr>
              <a:t>понимать окружающий его ми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85723"/>
                </a:solidFill>
                <a:latin typeface="Calibri"/>
              </a:rPr>
              <a:t>Знать как его зовут, какого он пола, знать по именам всех членов своей семьи и даже называть имена друзей. Называть адрес где он жив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85723"/>
                </a:solidFill>
                <a:latin typeface="Calibri"/>
              </a:rPr>
              <a:t>Ориентироваться пространстве направо, налево, высоко, низко, далеко, близко и т.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85723"/>
                </a:solidFill>
                <a:latin typeface="Calibri"/>
              </a:rPr>
              <a:t>Речь у дошколенка должна быть осмысленной, стройными предложениями и законченной мыслью. Ребенок должен уметь пересказывать увиденно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85723"/>
                </a:solidFill>
                <a:latin typeface="Calibri"/>
              </a:rPr>
              <a:t>Ребенок должен уметь считать (достаточно знать цифры до десяти) и узнавать буквы (знать половину алфавита – неплохой показатель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85723"/>
                </a:solidFill>
                <a:latin typeface="Calibri"/>
              </a:rPr>
              <a:t>Дошкольник должен знать основные цвета и называть их, а так же отличать времена года, месяцы и дни неде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85723"/>
                </a:solidFill>
                <a:latin typeface="Calibri"/>
              </a:rPr>
              <a:t>Дошкольник должен уметь собирать легкие пазл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85723"/>
                </a:solidFill>
                <a:latin typeface="Calibri"/>
              </a:rPr>
              <a:t>            </a:t>
            </a:r>
            <a:r>
              <a:rPr b="1" lang="ru-RU" sz="2000" spc="-1" strike="noStrike">
                <a:solidFill>
                  <a:srgbClr val="385723"/>
                </a:solidFill>
                <a:latin typeface="Calibri"/>
              </a:rPr>
              <a:t>из нескольких фигур. Выполнять несложн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85723"/>
                </a:solidFill>
                <a:latin typeface="Calibri"/>
              </a:rPr>
              <a:t>              </a:t>
            </a:r>
            <a:r>
              <a:rPr b="1" lang="ru-RU" sz="2000" spc="-1" strike="noStrike">
                <a:solidFill>
                  <a:srgbClr val="385723"/>
                </a:solidFill>
                <a:latin typeface="Calibri"/>
              </a:rPr>
              <a:t>логические игры для детей своего возрас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85723"/>
                </a:solidFill>
                <a:latin typeface="Calibri"/>
              </a:rPr>
              <a:t>                     </a:t>
            </a:r>
            <a:r>
              <a:rPr b="1" lang="ru-RU" sz="2000" spc="-1" strike="noStrike">
                <a:solidFill>
                  <a:srgbClr val="385723"/>
                </a:solidFill>
                <a:latin typeface="Calibri"/>
              </a:rPr>
              <a:t>Желаем успехов и терпения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5T13:44:52Z</dcterms:created>
  <dc:creator>Admin</dc:creator>
  <dc:description/>
  <dc:language>en-US</dc:language>
  <cp:lastModifiedBy>пользователь1</cp:lastModifiedBy>
  <dcterms:modified xsi:type="dcterms:W3CDTF">2020-09-10T13:03:43Z</dcterms:modified>
  <cp:revision>7</cp:revision>
  <dc:subject/>
  <dc:title>Презентация PowerPoint</dc:title>
</cp:coreProperties>
</file>