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ADF-F9CD-4CF8-802D-87EBB8E3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5AE-2C1A-49E6-B546-BA94E2F9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121-2687-4A7E-ACC9-4E9FA0C2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AE6-59B4-407F-B496-7CCBF11B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23C-A577-4BD7-81D3-73CCEC05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453-50D4-4245-AC06-1BEB947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87F1-275E-4328-8AAE-54D2808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699-057D-4865-988D-057861F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BFF-68AF-4F7D-9C78-DB3E652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A7D-C3AB-4B29-9BCD-2A881B3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A8C7-1094-4B0A-A1FB-115CD41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847-C547-4F1D-8A9B-2545FB7B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F83B-DDF5-486C-9614-37376CE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891-2650-44B5-8E59-98601FE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B264-1F63-450C-8E68-435287D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7931-918F-4684-BB14-859253B6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79E0-5476-4975-8E86-C7BF9CF9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1EF-59E9-4740-A1D3-01DCA84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37A-A269-4DCA-86DA-4E529C6B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D7F-547A-44BD-AD7B-6C5FCAC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34F-C187-4742-8D7D-D8B3DCB4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7BA-0613-42A7-AA4A-0CF4F8B0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B4B-0E68-4C20-880A-5F96696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DAB-3E5B-456F-8C72-0C6312F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6B5-AE6D-475A-B81F-98BF45E082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680"/>
              <a:ext cx="1190520" cy="1938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920"/>
              <a:ext cx="1219320" cy="19987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0240"/>
              <a:ext cx="1231920" cy="40341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0600"/>
              <a:ext cx="979560" cy="21826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1280"/>
              <a:ext cx="914400" cy="5044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6400"/>
              <a:ext cx="909720" cy="3069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4320"/>
              <a:ext cx="576360" cy="3350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5760"/>
              <a:ext cx="300240" cy="3350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6480" y="3318120"/>
              <a:ext cx="68533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769-ECBE-43F9-A758-79D47F3CD64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1342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7d47d"/>
                </a:solidFill>
                <a:latin typeface="Book Antiqua"/>
              </a:rPr>
              <a:t>Красивые волосы – здоровые волосы</a:t>
            </a: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484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Подготовил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мастер п/о Боброва Е. 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428760" y="2858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b725"/>
                </a:solidFill>
                <a:latin typeface="Arial"/>
              </a:rPr>
              <a:t>ГОБ ПО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b725"/>
                </a:solidFill>
                <a:latin typeface="Arial"/>
              </a:rPr>
              <a:t>«Елецкий лицей сферы бытовых услуг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908000" y="580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Елец, 201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4249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настоящее время производится широкий ассортимент лечебной косметики для волос косметики с натуральными компонентами: козьим молоком, кокосовым маслом, экстрактами натуральных трав, медом и прополис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7" descr="6"/>
          <p:cNvPicPr/>
          <p:nvPr/>
        </p:nvPicPr>
        <p:blipFill>
          <a:blip r:embed="rId1"/>
          <a:stretch/>
        </p:blipFill>
        <p:spPr>
          <a:xfrm>
            <a:off x="4356000" y="1197000"/>
            <a:ext cx="4608720" cy="42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Современные мастера парикмахерского искусства учитывают при работе тенденции моды сегодняшнего дня, исторический опы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И в своей работе используют совершенно особенный исходный материал – волос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И какая будет модель современной прически целиком зависит от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А волосы надо «выращивать как сад», ухаживать за ними ежедневно, «питать их, кормить», чтобы в результате создать свой индивидуальный стиль, сделать внешность человека более привлекательно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196640"/>
            <a:ext cx="7386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5b781"/>
                </a:solidFill>
                <a:uFillTx/>
                <a:latin typeface="Arial"/>
              </a:rPr>
              <a:t>Гигиенические и функциональны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Уход за волосами и кожей голов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Предупреждение заболеваний кожи и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Предотвращение преждевременной седины и выпадения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5b781"/>
                </a:solidFill>
                <a:uFillTx/>
                <a:latin typeface="Arial"/>
              </a:rPr>
              <a:t>Эстетическ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Создать гармонию обра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Добиться образцового гигиенического состояния воло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5b7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b781"/>
                </a:solidFill>
                <a:latin typeface="Arial"/>
              </a:rPr>
              <a:t>Подчеркнуть индивидуальность внеш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оение волос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hair1"/>
          <p:cNvPicPr/>
          <p:nvPr/>
        </p:nvPicPr>
        <p:blipFill>
          <a:blip r:embed="rId1"/>
          <a:stretch/>
        </p:blipFill>
        <p:spPr>
          <a:xfrm>
            <a:off x="539640" y="1197000"/>
            <a:ext cx="6553440" cy="546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8" descr="2"/>
          <p:cNvPicPr/>
          <p:nvPr/>
        </p:nvPicPr>
        <p:blipFill>
          <a:blip r:embed="rId1"/>
          <a:stretch/>
        </p:blipFill>
        <p:spPr>
          <a:xfrm>
            <a:off x="4387680" y="1916280"/>
            <a:ext cx="3237120" cy="351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1"/>
          <p:cNvPicPr/>
          <p:nvPr/>
        </p:nvPicPr>
        <p:blipFill>
          <a:blip r:embed="rId2"/>
          <a:stretch/>
        </p:blipFill>
        <p:spPr>
          <a:xfrm>
            <a:off x="571680" y="1643040"/>
            <a:ext cx="3268440" cy="3521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4788000" y="9079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b781"/>
                </a:solidFill>
                <a:latin typeface="Arial"/>
              </a:rPr>
              <a:t>Поврежденный воло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39640" y="5373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b781"/>
                </a:solidFill>
                <a:latin typeface="Arial"/>
              </a:rPr>
              <a:t>Здоровый воло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вет вол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Цвет волос зависит от количества красящего вещества - пигмента, который находится в клетках коркового слоя волоса, от количества воздуха, которым разбавлен пигмент и от цвета кожи. Собственно говоря, определяющую роль играют два пигмента: эумеланин (черно-коричневый цвет) и феомеланин (желто-красный), сочетание которых дает всю гамму цветовых оттенков. Эти пигменты синтезируются специальными клетками (меланоцитами) только в соответствии с генетической программ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ктивность меланоцитов неодинакова, поэтому волосы одного человека различаются по цвету, что и придает волосам замечательный естественный вид, который ни за что не спутаешь с видом окрашенных волос, всегда одинаковы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 временем активность клеток, производящих пигмент, падает, волосы вырастают неокрашенными, то есть седым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5"/>
          <p:cNvGrpSpPr/>
          <p:nvPr/>
        </p:nvGrpSpPr>
        <p:grpSpPr>
          <a:xfrm>
            <a:off x="2419200" y="781200"/>
            <a:ext cx="3256200" cy="4333680"/>
            <a:chOff x="2419200" y="781200"/>
            <a:chExt cx="3256200" cy="4333680"/>
          </a:xfrm>
        </p:grpSpPr>
        <p:pic>
          <p:nvPicPr>
            <p:cNvPr id="207" name="Rectangle 5" descr=""/>
            <p:cNvPicPr/>
            <p:nvPr/>
          </p:nvPicPr>
          <p:blipFill>
            <a:blip r:embed="rId1"/>
            <a:stretch/>
          </p:blipFill>
          <p:spPr>
            <a:xfrm>
              <a:off x="2419200" y="781200"/>
              <a:ext cx="3256200" cy="43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428920" y="785880"/>
              <a:ext cx="324180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уктура вол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руктура волос определяется размером и формой волосяных фолликулов. Форма волоса зависит от формы и расположения фолликула по отношению к поверхности кожи. Это наследственные черты (генотип). Кроме индивидуальных особенностей важным определяющим фактором является расовая принадлежность: у азиатов волосы прямые и толстые, в то же время как у негроидов- курчавы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ямые волосы располагаются в коже почти перпендикулярно поверхности, вьющиеся - с легким изгибом, а курчавые - S-образно. Если разрезать волос поперек, то срез прямого волоса будет круглым, вьющегося - овальным, курчавого - еще более сплющенным, напоминающим лент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ип воло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Нормальные волосы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Они имеют хороший здоровый блеск. Их кончики могут быть несколько повреждены, пересушены, но обычно с такими волосами не возникают особых проблем, и они с легкостью отрастают до большой длины, радуя вас и окружающих. В них хорошо поддерживается водно-жировой балан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ухие волосы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Они обычно бывают тусклыми и слабыми, без блеска. Растут медленно, а при большой длине становятся непривлекательными. Именно про них говорят, что они растут до определенной длины. Они требуют особенно интенсивного и тщательного ухода. Даже нормальные волосы могут стать сухими после легкой окраски, если вы не сменили средства по уходу и препараты для укладк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Жирные волосы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Их приходится часто мыть. Такие волосы имеют достаточно глухой цвет, а при окраске только на кончиках становятся пересушенными. Поэтому уход за ними включает не только шампуни для жирной кожи. Но и средства для ухода за кончиками воло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мешанные волосы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К такому типу относятся волосы, имеющие жирные корни и сухие, секущиеся кончики. После мытья они держатся 2-3 дня, затем ближе к коже салятся и загрязняются, в то время как кончики еще выглядят чистыми. При неправильном уходе, подборе средств кончики сильно секутся и разрушаются. Пожалуй, это самый распространенный тип волос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веты по уходу за волосам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С незапамятных времен растения использовались для лечения, удовольствия и красоты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Arial"/>
              </a:rPr>
              <a:t>Натуральные компоненты, такие как травы и эфирные масла, могут помочь вам сделать волосы красиво-пышными. Природные масла, которые можно применять для ухода за волосами – растительные и ароматные: розмарин, артаботрис, бергамот, лавандовое, розовое, эвкалипт…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11" descr="Изображение 004"/>
          <p:cNvPicPr/>
          <p:nvPr/>
        </p:nvPicPr>
        <p:blipFill>
          <a:blip r:embed="rId1"/>
          <a:stretch/>
        </p:blipFill>
        <p:spPr>
          <a:xfrm>
            <a:off x="5148360" y="1125360"/>
            <a:ext cx="3671640" cy="3461040"/>
          </a:xfrm>
          <a:prstGeom prst="rect">
            <a:avLst/>
          </a:prstGeom>
          <a:ln w="0">
            <a:noFill/>
          </a:ln>
        </p:spPr>
      </p:pic>
      <p:grpSp>
        <p:nvGrpSpPr>
          <p:cNvPr id="216" name="Rectangle 12"/>
          <p:cNvGrpSpPr/>
          <p:nvPr/>
        </p:nvGrpSpPr>
        <p:grpSpPr>
          <a:xfrm>
            <a:off x="4346640" y="4138560"/>
            <a:ext cx="2395440" cy="2470320"/>
            <a:chOff x="4346640" y="4138560"/>
            <a:chExt cx="2395440" cy="2470320"/>
          </a:xfrm>
        </p:grpSpPr>
        <p:pic>
          <p:nvPicPr>
            <p:cNvPr id="217" name="Rectangle 12" descr=""/>
            <p:cNvPicPr/>
            <p:nvPr/>
          </p:nvPicPr>
          <p:blipFill>
            <a:blip r:embed="rId2"/>
            <a:stretch/>
          </p:blipFill>
          <p:spPr>
            <a:xfrm>
              <a:off x="4346640" y="4138560"/>
              <a:ext cx="239544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56000" y="4149720"/>
              <a:ext cx="237672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1:22:11Z</dcterms:created>
  <dc:creator>User</dc:creator>
  <dc:description/>
  <dc:language>en-US</dc:language>
  <cp:lastModifiedBy>Lada</cp:lastModifiedBy>
  <dcterms:modified xsi:type="dcterms:W3CDTF">2020-09-10T16:00:47Z</dcterms:modified>
  <cp:revision>8</cp:revision>
  <dc:subject/>
  <dc:title>Красивые волосы – здоровые волосы </dc:title>
</cp:coreProperties>
</file>