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3A5-9B01-4729-BC91-406096E6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C3E-1E5F-4A69-B3E1-5BF0B62B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1A8-85C1-4A51-950A-D8BC5BCF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5F3-FFCA-4FDB-A0B7-F3D5A3D9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916D-E3A0-4752-976C-F8054DB1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9D1F-0D13-4C23-B0A7-68F46F1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813B-FA22-4BC7-B718-59180DE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F400-9A81-4CDC-BCFD-D01372E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05A0-9863-431A-A4FB-77A7081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9779-C931-4BDB-93B8-7B981EF3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1D8D-E76B-46C7-9C9B-4416F023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26A-98B0-4719-8E4A-22E250A8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7E14-CB35-4605-BD83-6E6F5BB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3524-0ED6-4C6C-904E-8910E8D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2DBA-0B82-4ACD-BD76-B4DF3921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354-E1EA-4CB5-9DDD-0CB80513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5B70-13E4-48DA-B6B9-757ECCFC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556-1CE3-4694-8CC4-E95EC939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A64-728D-46E0-AE50-71D8327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24E-6409-4435-8338-B4E5397C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088-FC11-4B22-9922-3E2A498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A15-5108-4367-9D12-8D77795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2DB-AD3E-4503-8228-16FA044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E74-6CE1-42C7-9B2A-E5F1AB3A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81F-04CD-4631-B59C-74FB3817D8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AB2-F9D3-4497-A990-13B9835E629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1342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7d47d"/>
                </a:solidFill>
                <a:latin typeface="Book Antiqua"/>
              </a:rPr>
              <a:t>Красивые волосы – здоровые волосы</a:t>
            </a: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484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Подготовил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мастер п/о Боброва Е. 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28760" y="2858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b725"/>
                </a:solidFill>
                <a:latin typeface="Arial"/>
              </a:rPr>
              <a:t>ГОБ ПО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b725"/>
                </a:solidFill>
                <a:latin typeface="Arial"/>
              </a:rPr>
              <a:t>«Елецкий лицей сферы бытовых услуг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908000" y="580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Елец, 201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4249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настоящее время производится широкий ассортимент лечебной косметики для волос косметики с натуральными компонентами: козьим молоком, кокосовым маслом, экстрактами натуральных трав, медом и прополис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7" descr="6"/>
          <p:cNvPicPr/>
          <p:nvPr/>
        </p:nvPicPr>
        <p:blipFill>
          <a:blip r:embed="rId1"/>
          <a:stretch/>
        </p:blipFill>
        <p:spPr>
          <a:xfrm>
            <a:off x="4356000" y="1197000"/>
            <a:ext cx="4608720" cy="42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Современные мастера парикмахерского искусства учитывают при работе тенденции моды сегодняшнего дня, исторический опы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И в своей работе используют совершенно особенный исходный материал – волос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И какая будет модель современной прически целиком зависит от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А волосы надо «выращивать как сад», ухаживать за ними ежедневно, «питать их, кормить», чтобы в результате создать свой индивидуальный стиль, сделать внешность человека более привлекательно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196640"/>
            <a:ext cx="7386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5b781"/>
                </a:solidFill>
                <a:uFillTx/>
                <a:latin typeface="Arial"/>
              </a:rPr>
              <a:t>Гигиенические и функциональны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Уход за волосами и кожей голов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Предупреждение заболеваний кожи и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Предотвращение преждевременной седины и выпадения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5b781"/>
                </a:solidFill>
                <a:uFillTx/>
                <a:latin typeface="Arial"/>
              </a:rPr>
              <a:t>Эстетическ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Создать гармонию обра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Добиться образцового гигиенического состояния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Подчеркнуть индивидуальность внеш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роение волос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4" descr="hair1"/>
          <p:cNvPicPr/>
          <p:nvPr/>
        </p:nvPicPr>
        <p:blipFill>
          <a:blip r:embed="rId1"/>
          <a:stretch/>
        </p:blipFill>
        <p:spPr>
          <a:xfrm>
            <a:off x="539640" y="1197000"/>
            <a:ext cx="6553440" cy="546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2"/>
          <p:cNvPicPr/>
          <p:nvPr/>
        </p:nvPicPr>
        <p:blipFill>
          <a:blip r:embed="rId1"/>
          <a:stretch/>
        </p:blipFill>
        <p:spPr>
          <a:xfrm>
            <a:off x="4387680" y="1916280"/>
            <a:ext cx="3237120" cy="3512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1"/>
          <p:cNvPicPr/>
          <p:nvPr/>
        </p:nvPicPr>
        <p:blipFill>
          <a:blip r:embed="rId2"/>
          <a:stretch/>
        </p:blipFill>
        <p:spPr>
          <a:xfrm>
            <a:off x="571680" y="1643040"/>
            <a:ext cx="3268440" cy="3521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4788000" y="90792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b781"/>
                </a:solidFill>
                <a:latin typeface="Arial"/>
              </a:rPr>
              <a:t>Поврежденный воло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39640" y="5373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b781"/>
                </a:solidFill>
                <a:latin typeface="Arial"/>
              </a:rPr>
              <a:t>Здоровый воло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вет вол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Цвет волос зависит от количества красящего вещества - пигмента, который находится в клетках коркового слоя волоса, от количества воздуха, которым разбавлен пигмент и от цвета кожи. Собственно говоря, определяющую роль играют два пигмента: эумеланин (черно-коричневый цвет) и феомеланин (желто-красный), сочетание которых дает всю гамму цветовых оттенков. Эти пигменты синтезируются специальными клетками (меланоцитами) только в соответствии с генетической программ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ктивность меланоцитов неодинакова, поэтому волосы одного человека различаются по цвету, что и придает волосам замечательный естественный вид, который ни за что не спутаешь с видом окрашенных волос, всегда одинаковы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 временем активность клеток, производящих пигмент, падает, волосы вырастают неокрашенными, то есть седым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Rectangle 5"/>
          <p:cNvGrpSpPr/>
          <p:nvPr/>
        </p:nvGrpSpPr>
        <p:grpSpPr>
          <a:xfrm>
            <a:off x="2419200" y="781200"/>
            <a:ext cx="3256200" cy="4333680"/>
            <a:chOff x="2419200" y="781200"/>
            <a:chExt cx="3256200" cy="4333680"/>
          </a:xfrm>
        </p:grpSpPr>
        <p:pic>
          <p:nvPicPr>
            <p:cNvPr id="207" name="Rectangle 5" descr=""/>
            <p:cNvPicPr/>
            <p:nvPr/>
          </p:nvPicPr>
          <p:blipFill>
            <a:blip r:embed="rId1"/>
            <a:stretch/>
          </p:blipFill>
          <p:spPr>
            <a:xfrm>
              <a:off x="2419200" y="781200"/>
              <a:ext cx="3256200" cy="43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428920" y="785880"/>
              <a:ext cx="324180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руктура вол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руктура волос определяется размером и формой волосяных фолликулов. Форма волоса зависит от формы и расположения фолликула по отношению к поверхности кожи. Это наследственные черты (генотип). Кроме индивидуальных особенностей важным определяющим фактором является расовая принадлежность: у азиатов волосы прямые и толстые, в то же время как у негроидов- курчавы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ямые волосы располагаются в коже почти перпендикулярно поверхности, вьющиеся - с легким изгибом, а курчавые - S-образно. Если разрезать волос поперек, то срез прямого волоса будет круглым, вьющегося - овальным, курчавого - еще более сплющенным, напоминающим лент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ип воло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Нормальные волосы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Они имеют хороший здоровый блеск. Их кончики могут быть несколько повреждены, пересушены, но обычно с такими волосами не возникают особых проблем, и они с легкостью отрастают до большой длины, радуя вас и окружающих. В них хорошо поддерживается водно-жировой балан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ухие волосы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Они обычно бывают тусклыми и слабыми, без блеска. Растут медленно, а при большой длине становятся непривлекательными. Именно про них говорят, что они растут до определенной длины. Они требуют особенно интенсивного и тщательного ухода. Даже нормальные волосы могут стать сухими после легкой окраски, если вы не сменили средства по уходу и препараты для укладк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Жирные волосы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Их приходится часто мыть. Такие волосы имеют достаточно глухой цвет, а при окраске только на кончиках становятся пересушенными. Поэтому уход за ними включает не только шампуни для жирной кожи. Но и средства для ухода за кончиками воло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мешанные волосы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К такому типу относятся волосы, имеющие жирные корни и сухие, секущиеся кончики. После мытья они держатся 2-3 дня, затем ближе к коже салятся и загрязняются, в то время как кончики еще выглядят чистыми. При неправильном уходе, подборе средств кончики сильно секутся и разрушаются. Пожалуй, это самый распространенный тип волос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веты по уходу за волосам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176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С незапамятных времен растения использовались для лечения, удовольствия и красоты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Натуральные компоненты, такие как травы и эфирные масла, могут помочь вам сделать волосы красиво-пышными. Природные масла, которые можно применять для ухода за волосами – растительные и ароматные: розмарин, артаботрис, бергамот, лавандовое, розовое, эвкалипт…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11" descr="Изображение 004"/>
          <p:cNvPicPr/>
          <p:nvPr/>
        </p:nvPicPr>
        <p:blipFill>
          <a:blip r:embed="rId1"/>
          <a:stretch/>
        </p:blipFill>
        <p:spPr>
          <a:xfrm>
            <a:off x="5148360" y="1125360"/>
            <a:ext cx="3671640" cy="3461040"/>
          </a:xfrm>
          <a:prstGeom prst="rect">
            <a:avLst/>
          </a:prstGeom>
          <a:ln w="0">
            <a:noFill/>
          </a:ln>
        </p:spPr>
      </p:pic>
      <p:grpSp>
        <p:nvGrpSpPr>
          <p:cNvPr id="216" name="Rectangle 12"/>
          <p:cNvGrpSpPr/>
          <p:nvPr/>
        </p:nvGrpSpPr>
        <p:grpSpPr>
          <a:xfrm>
            <a:off x="4346640" y="4138560"/>
            <a:ext cx="2395440" cy="2470320"/>
            <a:chOff x="4346640" y="4138560"/>
            <a:chExt cx="2395440" cy="2470320"/>
          </a:xfrm>
        </p:grpSpPr>
        <p:pic>
          <p:nvPicPr>
            <p:cNvPr id="217" name="Rectangle 12" descr=""/>
            <p:cNvPicPr/>
            <p:nvPr/>
          </p:nvPicPr>
          <p:blipFill>
            <a:blip r:embed="rId2"/>
            <a:stretch/>
          </p:blipFill>
          <p:spPr>
            <a:xfrm>
              <a:off x="4346640" y="4138560"/>
              <a:ext cx="239544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356000" y="4149720"/>
              <a:ext cx="237672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1:22:11Z</dcterms:created>
  <dc:creator>User</dc:creator>
  <dc:description/>
  <dc:language>en-US</dc:language>
  <cp:lastModifiedBy>Lada</cp:lastModifiedBy>
  <dcterms:modified xsi:type="dcterms:W3CDTF">2020-09-10T16:00:47Z</dcterms:modified>
  <cp:revision>8</cp:revision>
  <dc:subject/>
  <dc:title>Красивые волосы – здоровые волосы </dc:title>
</cp:coreProperties>
</file>