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E14-F3BD-4C56-B160-2BAA0669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491-43C7-4775-AA31-87E1EED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C5F-9A76-4A06-8094-AACAA9F3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A62-33D4-4E01-A1CB-2CE54678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9345-D3AB-4972-BE62-9DFC3608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7AB9-1D57-4BAE-9D0D-974E3CE8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73B2-16B5-4DBF-9B52-A0D189BE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6DB0-DF3E-49CB-918C-C4A328F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A33D-DD5C-4D52-9D75-965452EB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3FD4-E24F-430F-82B8-0694EB0E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C688-FB4D-428E-8ED4-C05B3639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894-BDD6-436C-B3E7-EEA2752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2CA-E4C6-4392-81B6-30A29915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32DF-59DA-44C4-BD84-B0BB743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E6C-2E56-474C-87A9-F99A3C14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D59E-374A-4CEE-8E24-63E6EEE0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8A1A-70E0-4736-BA1D-ADD75512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B1C-B9CC-4153-991C-4807EB0E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ADA-B3D4-4315-9488-27DAA77E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FB6-6031-448D-B4C3-196F572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D3B-6B2A-4F7A-AD9A-08B06500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F6F-C315-4914-8B5F-9950103D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3F5-A0A6-4FED-B75C-E22EAB8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6FE-CA8F-4AD5-9FD9-7388DD4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3234-C377-4AD1-BC20-B8919D8D69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FEEB-91DB-4953-87B9-6AEB457C16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йонная научно – практическая конференция школьников «К вершинам знаний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ме: «Особенные люд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59312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обривцева Валер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ца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Советской С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 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либа Татьяна Иван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а купюра уже не выпускается Центробанком, но пока остается полноценным платежным средством. На зеленом фоне изображены стены Новгородского Кремля с одной стороны и мемориал «Тысячелетие России» — на друг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2" descr="купюры россии"/>
          <p:cNvPicPr/>
          <p:nvPr/>
        </p:nvPicPr>
        <p:blipFill>
          <a:blip r:embed="rId1"/>
          <a:stretch/>
        </p:blipFill>
        <p:spPr>
          <a:xfrm>
            <a:off x="1692360" y="3429000"/>
            <a:ext cx="56163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сять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лицевой стороне купюры присутствует изображение Коммунального моста Краснояр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торона украшена значимой для России электростанцией – Красноярской Г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3" descr=" деньги купюры"/>
          <p:cNvPicPr/>
          <p:nvPr/>
        </p:nvPicPr>
        <p:blipFill>
          <a:blip r:embed="rId1"/>
          <a:stretch/>
        </p:blipFill>
        <p:spPr>
          <a:xfrm>
            <a:off x="2124000" y="4437000"/>
            <a:ext cx="453384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десят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ая банкнота носит изображение прекрасной девы – Невы, символа культурной столицы России. На заднем плане величественно стоит Петропавловская креп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тной стороны купюры открывается вид на набережную Васильевского Острова с Биржей и Ростральной коло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4" descr="банкноты россии "/>
          <p:cNvPicPr/>
          <p:nvPr/>
        </p:nvPicPr>
        <p:blipFill>
          <a:blip r:embed="rId1"/>
          <a:stretch/>
        </p:blipFill>
        <p:spPr>
          <a:xfrm>
            <a:off x="2124000" y="4005360"/>
            <a:ext cx="44006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пюра номиналом в сто рублей представлена столицей страны и Большим театром, оборотная же сторона купюры посвящена Театральной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5" descr="купюры россии"/>
          <p:cNvPicPr/>
          <p:nvPr/>
        </p:nvPicPr>
        <p:blipFill>
          <a:blip r:embed="rId1"/>
          <a:stretch/>
        </p:blipFill>
        <p:spPr>
          <a:xfrm>
            <a:off x="1908000" y="3645000"/>
            <a:ext cx="440064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сот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купюры в 500 рублей – Архангельск. Лицевая сторона представляет статую Петру Вели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отная сторона купюры изображает Соловецкий монастырь, служивший когда-то местом ссылки политзаключенных. Сегодня это объект охраны ЮНЕС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6" descr="современные бумажные деньги"/>
          <p:cNvPicPr/>
          <p:nvPr/>
        </p:nvPicPr>
        <p:blipFill>
          <a:blip r:embed="rId1"/>
          <a:stretch/>
        </p:blipFill>
        <p:spPr>
          <a:xfrm>
            <a:off x="1979640" y="4005360"/>
            <a:ext cx="46958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ысяча руб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юра посвящена старинному Ярославлю. На зеленоватом фоне изображены стены городского Кремля и памятник Ярославу Мудрому. Оборотная сторона украшена храмом Иоанна Крест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7" descr="деньги купюры"/>
          <p:cNvPicPr/>
          <p:nvPr/>
        </p:nvPicPr>
        <p:blipFill>
          <a:blip r:embed="rId1"/>
          <a:stretch/>
        </p:blipFill>
        <p:spPr>
          <a:xfrm>
            <a:off x="1763640" y="3068640"/>
            <a:ext cx="480060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тысяч руб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м к банкноте номиналом 5000 рублей. Купюра посвящена городу-герою Хабаровску и памятнику Муравьеву-Амурскому. Яркая, оранжево-красная купюра имеет на лицевой стороне изображение памятника генерал-губернатору на фоне набережной прекрасного Ам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бороте можно рассмотреть мост через Амур (кстати, протяженность архитектурного сооружения — почти 3 километр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0" descr="5000 рублей купюра"/>
          <p:cNvPicPr/>
          <p:nvPr/>
        </p:nvPicPr>
        <p:blipFill>
          <a:blip r:embed="rId1"/>
          <a:stretch/>
        </p:blipFill>
        <p:spPr>
          <a:xfrm>
            <a:off x="1979640" y="4005360"/>
            <a:ext cx="46101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е тысяч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 тысячи рублей позволит упростить расчеты граждан за товары и услуги. А победителем стал  Дальний Во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24e6d166b7c332917de7ed50658cfccd"/>
          <p:cNvPicPr/>
          <p:nvPr/>
        </p:nvPicPr>
        <p:blipFill>
          <a:blip r:embed="rId1"/>
          <a:stretch/>
        </p:blipFill>
        <p:spPr>
          <a:xfrm>
            <a:off x="1042920" y="2781360"/>
            <a:ext cx="7129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4" descr="IMG_20170206_163035.jpg"/>
          <p:cNvPicPr/>
          <p:nvPr/>
        </p:nvPicPr>
        <p:blipFill>
          <a:blip r:embed="rId1"/>
          <a:srcRect l="3974" t="23861" r="570" b="25764"/>
          <a:stretch/>
        </p:blipFill>
        <p:spPr>
          <a:xfrm>
            <a:off x="4140360" y="4495680"/>
            <a:ext cx="4763880" cy="188604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3" descr="IMG_20170206_163058.jpg"/>
          <p:cNvPicPr/>
          <p:nvPr/>
        </p:nvPicPr>
        <p:blipFill>
          <a:blip r:embed="rId2"/>
          <a:srcRect l="4468" t="26534" r="2986" b="23047"/>
          <a:stretch/>
        </p:blipFill>
        <p:spPr>
          <a:xfrm>
            <a:off x="324000" y="2273400"/>
            <a:ext cx="4608360" cy="1882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 вариант купюры номиналом две тысячи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немного о ней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 посёлок-это небольшой, уютный уголок, где есть много прекрасного. Здесь созданы условия для спокойной и беззаботной жизни вдали от суеты и проблем города. Здесь люди могут отдохнуть и хорошо провести время. И таких мест у нас в стране много, поэтому мы и хотим, чтобы на одной из купюр было изображение сельской мес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 нашей исследователь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ли гражданин РФ способен, не задумываясь, ответить на вопрос: «Что изображено на бумажных рублях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мотря на то, что деньги попадают нам в руки каждый день и по несколько раз на день, на эти вопросы под силу ответить далеко не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практического 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79280" y="1989000"/>
          <a:ext cx="8964720" cy="4311720"/>
        </p:xfrm>
        <a:graphic>
          <a:graphicData uri="http://schemas.openxmlformats.org/drawingml/2006/table">
            <a:tbl>
              <a:tblPr/>
              <a:tblGrid>
                <a:gridCol w="1422360"/>
                <a:gridCol w="4554720"/>
                <a:gridCol w="298764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е ли вы деньги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- 11 челове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вы знаете, какие города изображены на бумажных купюрах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- 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т» - 10 челове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ете ли вы, что скоро выйдет в обращение купюра 2000 р.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-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т» -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трудняюсь ответить»- 1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се времена было особое отношение к деньгам. Их тратили, дарили, берегли, копили, отдавали в долг. Спустя столетия отношение к ним не изменилось. Надеемся, после нашего проекта ребята больше узнают о бумажных купю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от свою мудрость в денежном вопросе народ выразил в пословицах и поговорка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мей сто рублей, а имей сто  друз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ейка  рубль бережет, а рубль голову стере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ки не рожь, и зимой растут; денежки  не лед, и зимой  т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жба дружбой, а денежки  вро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чужого кошелька легко  платить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не богат, тот и копейке рад, а богатому – и тысяч  ма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купого рубль плачет, а у щедрого и полушка  скач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ри всем этом мы вам напоминаем, что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часы, но н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книгу, но не мудр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телохранителя, но не друг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еду, но не аппет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дом, но не сем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положение в обществе, но не уважение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клоунов, но не хорошее настро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лекарство, но не здоровь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развлечения, но не счаст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икону, но не ве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целый континент, но не Род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орден, но не подвиг, не ч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festival.1september.ru/articles/211792/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zankov.ru/article.asp?edition=5&amp;heading=28&amp;article=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fsmcapital.ru/uspeh/mykinder.s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znaikak.ru/babyandmoney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bankir.ru/analytics/manager/137599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terminomika.ru/data/library/authors/e_v_kar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е виде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наше видео.wmv" descr=""/>
          <p:cNvPicPr/>
          <p:nvPr/>
        </p:nvPicPr>
        <p:blipFill>
          <a:blip r:embed="rId1"/>
          <a:stretch/>
        </p:blipFill>
        <p:spPr>
          <a:xfrm>
            <a:off x="0" y="436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цель наше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историей денег, с видами современных российских бумажных купюр; создать свой вариант новой 2000 купю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историей возникновения денег, с изображением на бумажных купю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ять интервью у работников и обучающихся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полученные в ходе исследования зна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свой вариант новой купю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жные купю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в"/>
          <p:cNvPicPr/>
          <p:nvPr/>
        </p:nvPicPr>
        <p:blipFill>
          <a:blip r:embed="rId1"/>
          <a:stretch/>
        </p:blipFill>
        <p:spPr>
          <a:xfrm>
            <a:off x="1152360" y="2449440"/>
            <a:ext cx="655164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ноты России – это настоящий     экскурс по знаковым городам нашей Род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niceimage"/>
          <p:cNvPicPr/>
          <p:nvPr/>
        </p:nvPicPr>
        <p:blipFill>
          <a:blip r:embed="rId1"/>
          <a:stretch/>
        </p:blipFill>
        <p:spPr>
          <a:xfrm>
            <a:off x="1835280" y="3213000"/>
            <a:ext cx="5184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необходимой информации, опрос, сравнение, создание своего варианта бумажной купюры номиналом  2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бумажные деньги в России ввела Екатерина II, ее портрет был на купюре в 100 рублей. Эту купюру назвали «Катеньк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3" descr="купюра.jpg"/>
          <p:cNvPicPr/>
          <p:nvPr/>
        </p:nvPicPr>
        <p:blipFill>
          <a:blip r:embed="rId1"/>
          <a:stretch/>
        </p:blipFill>
        <p:spPr>
          <a:xfrm>
            <a:off x="1763640" y="3141720"/>
            <a:ext cx="6337440" cy="295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9T07:50:27Z</dcterms:created>
  <dc:creator>Ольга</dc:creator>
  <dc:description/>
  <dc:language>en-US</dc:language>
  <cp:lastModifiedBy>Пользователь</cp:lastModifiedBy>
  <dcterms:modified xsi:type="dcterms:W3CDTF">2020-02-21T04:37:07Z</dcterms:modified>
  <cp:revision>21</cp:revision>
  <dc:subject/>
  <dc:title>Районная научно – практическая конференция школьников «К вершинам знаний» Исследовательская работа по теме: «Бумажные банкноты»</dc:title>
</cp:coreProperties>
</file>