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36F-08CD-4343-B821-51D1B8C6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5BF-DB12-4D29-813A-834B289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67E-E6BF-4B28-B6F7-64488721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EEB-7DF4-437A-876D-A8066BE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197-1566-4E06-80F8-B95F23F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1B28-0901-4B4A-A734-6435D8B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101F-8389-4DD0-8B4B-E8DF66C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9449-B95A-4516-B4E4-F936F0C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505-E1BA-406A-BF8D-9EE8717E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7DB-130B-4BB6-A7E6-9083A88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2A68-2F21-435A-A92E-877E0B7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6C6-008D-4E63-9693-3C2FD0B5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9792-5E8C-446F-B6B7-046E9A0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A72B-A6E7-466E-8C9C-074CFDB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E14-1CA0-4AAC-8ABD-C583553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5DB-D5F7-416A-8E66-3530E6D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7FE-F8C2-4C28-ACF8-FD848BC3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D3E-5BD2-46A3-B00E-F5FC39A6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438-3AC8-4128-A9C8-29AF1DD0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029-C179-44A4-B1C5-1DAC310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7FC-4317-40B0-B20C-F10B552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183-A4DD-4B93-985F-2B35A71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CA1-094A-4E45-BD0A-17AE500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826-CA87-406A-836F-26FB34C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4B7A-E80E-492D-9BD5-DAC2FBE752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7FA-063D-40FF-9C07-E341F6DC2D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йонная научно – практическая конференция школьников «К вершинам знаний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ме: «Особенные люд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59312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обривцева Валер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оветской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иба Татьяна Иван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купюра уже не выпускается Центробанком, но пока остается полноценным платежным средством. На зеленом фоне изображены стены Новгородского Кремля с одной стороны и мемориал «Тысячелетие России» — на друг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2" descr="купюры россии"/>
          <p:cNvPicPr/>
          <p:nvPr/>
        </p:nvPicPr>
        <p:blipFill>
          <a:blip r:embed="rId1"/>
          <a:stretch/>
        </p:blipFill>
        <p:spPr>
          <a:xfrm>
            <a:off x="1692360" y="3429000"/>
            <a:ext cx="5616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сять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лицевой стороне купюры присутствует изображение Коммунального моста Краснояр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торона украшена значимой для России электростанцией – Красноярской Г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 деньги купюры"/>
          <p:cNvPicPr/>
          <p:nvPr/>
        </p:nvPicPr>
        <p:blipFill>
          <a:blip r:embed="rId1"/>
          <a:stretch/>
        </p:blipFill>
        <p:spPr>
          <a:xfrm>
            <a:off x="2124000" y="4437000"/>
            <a:ext cx="453384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десят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ая банкнота носит изображение прекрасной девы – Невы, символа культурной столицы России. На заднем плане величественно стоит Петропавловска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тной стороны купюры открывается вид на набережную Васильевского Острова с Биржей и Ростральной коло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банкноты россии "/>
          <p:cNvPicPr/>
          <p:nvPr/>
        </p:nvPicPr>
        <p:blipFill>
          <a:blip r:embed="rId1"/>
          <a:stretch/>
        </p:blipFill>
        <p:spPr>
          <a:xfrm>
            <a:off x="2124000" y="4005360"/>
            <a:ext cx="44006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пюра номиналом в сто рублей представлена столицей страны и Большим театром, оборотная же сторона купюры посвящена Театраль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5" descr="купюры россии"/>
          <p:cNvPicPr/>
          <p:nvPr/>
        </p:nvPicPr>
        <p:blipFill>
          <a:blip r:embed="rId1"/>
          <a:stretch/>
        </p:blipFill>
        <p:spPr>
          <a:xfrm>
            <a:off x="1908000" y="3645000"/>
            <a:ext cx="440064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сот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купюры в 500 рублей – Архангельск. Лицевая сторона представляет статую Петру Вели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ная сторона купюры изображает Соловецкий монастырь, служивший когда-то местом ссылки политзаключенных. Сегодня это объект охраны ЮНЕС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6" descr="современные бумажные деньги"/>
          <p:cNvPicPr/>
          <p:nvPr/>
        </p:nvPicPr>
        <p:blipFill>
          <a:blip r:embed="rId1"/>
          <a:stretch/>
        </p:blipFill>
        <p:spPr>
          <a:xfrm>
            <a:off x="1979640" y="4005360"/>
            <a:ext cx="4695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сяча руб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юра посвящена старинному Ярославлю. На зеленоватом фоне изображены стены городского Кремля и памятник Ярославу Мудрому. Оборотная сторона украшена храмом Иоанна Крест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7" descr="деньги купюры"/>
          <p:cNvPicPr/>
          <p:nvPr/>
        </p:nvPicPr>
        <p:blipFill>
          <a:blip r:embed="rId1"/>
          <a:stretch/>
        </p:blipFill>
        <p:spPr>
          <a:xfrm>
            <a:off x="1763640" y="3068640"/>
            <a:ext cx="480060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тысяч руб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м к банкноте номиналом 5000 рублей. Купюра посвящена городу-герою Хабаровску и памятнику Муравьеву-Амурскому. Яркая, оранжево-красная купюра имеет на лицевой стороне изображение памятника генерал-губернатору на фоне набережной прекрасного Ам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ороте можно рассмотреть мост через Амур (кстати, протяженность архитектурного сооружения — почти 3 километ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0" descr="5000 рублей купюра"/>
          <p:cNvPicPr/>
          <p:nvPr/>
        </p:nvPicPr>
        <p:blipFill>
          <a:blip r:embed="rId1"/>
          <a:stretch/>
        </p:blipFill>
        <p:spPr>
          <a:xfrm>
            <a:off x="1979640" y="4005360"/>
            <a:ext cx="46101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е тысяч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тысячи рублей позволит упростить расчеты граждан за товары и услуги. А победителем стал  Дальний 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24e6d166b7c332917de7ed50658cfccd"/>
          <p:cNvPicPr/>
          <p:nvPr/>
        </p:nvPicPr>
        <p:blipFill>
          <a:blip r:embed="rId1"/>
          <a:stretch/>
        </p:blipFill>
        <p:spPr>
          <a:xfrm>
            <a:off x="1042920" y="2781360"/>
            <a:ext cx="712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4" descr="IMG_20170206_163035.jpg"/>
          <p:cNvPicPr/>
          <p:nvPr/>
        </p:nvPicPr>
        <p:blipFill>
          <a:blip r:embed="rId1"/>
          <a:srcRect l="3974" t="23861" r="570" b="25764"/>
          <a:stretch/>
        </p:blipFill>
        <p:spPr>
          <a:xfrm>
            <a:off x="4140360" y="4495680"/>
            <a:ext cx="4763880" cy="18860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3" descr="IMG_20170206_163058.jpg"/>
          <p:cNvPicPr/>
          <p:nvPr/>
        </p:nvPicPr>
        <p:blipFill>
          <a:blip r:embed="rId2"/>
          <a:srcRect l="4468" t="26534" r="2986" b="23047"/>
          <a:stretch/>
        </p:blipFill>
        <p:spPr>
          <a:xfrm>
            <a:off x="324000" y="2273400"/>
            <a:ext cx="4608360" cy="1882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 вариант купюры номиналом две тысячи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немного о ней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посёлок-это небольшой, уютный уголок, где есть много прекрасного. Здесь созданы условия для спокойной и беззаботной жизни вдали от суеты и проблем города. Здесь люди могут отдохнуть и хорошо провести время. И таких мест у нас в стране много, поэтому мы и хотим, чтобы на одной из купюр было изображение сельской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нашей исследователь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ли гражданин РФ способен, не задумываясь, ответить на вопрос: «Что изображено на бумажных рублях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мотря на то, что деньги попадают нам в руки каждый день и по несколько раз на день, на эти вопросы под силу ответить далеко не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практического 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9280" y="1989000"/>
          <a:ext cx="8964720" cy="4311720"/>
        </p:xfrm>
        <a:graphic>
          <a:graphicData uri="http://schemas.openxmlformats.org/drawingml/2006/table">
            <a:tbl>
              <a:tblPr/>
              <a:tblGrid>
                <a:gridCol w="1422360"/>
                <a:gridCol w="4554720"/>
                <a:gridCol w="298764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е ли вы деньг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- 11 челове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вы знаете, какие города изображены на бумажных купюрах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- 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т» - 10 челове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ете ли вы, что скоро выйдет в обращение купюра 2000 р.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-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т» -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рудняюсь ответить»- 1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 времена было особое отношение к деньгам. Их тратили, дарили, берегли, копили, отдавали в долг. Спустя столетия отношение к ним не изменилось. Надеемся, после нашего проекта ребята больше узнают о бумажных купю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т свою мудрость в денежном вопросе народ выразил в пословицах и поговорка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мей сто рублей, а имей сто  др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ейка  рубль бережет, а рубль голову стере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ки не рожь, и зимой растут; денежки  не лед, и зимой  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жба дружбой, а денежки  вро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чужого кошелька легко  платить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не богат, тот и копейке рад, а богатому – и тысяч  ма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купого рубль плачет, а у щедрого и полушка  ска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и всем этом мы вам напоминаем, чт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часы, но н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книгу, но не муд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телохранителя, но не друг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еду, но не аппет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дом, но не сем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положение в обществе, но не уважение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клоунов, но не хорошее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лекарство, но не здоровь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развлечения, но не счаст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икону, но не ве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целый континент, но не Ро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еньги можно купить орден, но не подвиг, не ч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festival.1september.ru/articles/211792/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zankov.ru/article.asp?edition=5&amp;heading=28&amp;article=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fsmcapital.ru/uspeh/mykinder.s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znaikak.ru/babyandmoney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bankir.ru/analytics/manager/13759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terminomika.ru/data/library/authors/e_v_kar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е виде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наше видео.wmv" descr="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цель наше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историей денег, с видами современных российских бумажных купюр; создать свой вариант новой 2000 купю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историей возникновения денег, с изображением на бумажных купю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ять интервью у работников и обучающихся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полученные в ходе исследования зна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свой вариант новой купю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жные купю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в"/>
          <p:cNvPicPr/>
          <p:nvPr/>
        </p:nvPicPr>
        <p:blipFill>
          <a:blip r:embed="rId1"/>
          <a:stretch/>
        </p:blipFill>
        <p:spPr>
          <a:xfrm>
            <a:off x="1152360" y="2449440"/>
            <a:ext cx="65516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ноты России – это настоящий     экскурс по знаковым городам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niceimage"/>
          <p:cNvPicPr/>
          <p:nvPr/>
        </p:nvPicPr>
        <p:blipFill>
          <a:blip r:embed="rId1"/>
          <a:stretch/>
        </p:blipFill>
        <p:spPr>
          <a:xfrm>
            <a:off x="1835280" y="3213000"/>
            <a:ext cx="518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необходимой информации, опрос, сравнение, создание своего варианта бумажной купюры номиналом  2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бумажные деньги в России ввела Екатерина II, ее портрет был на купюре в 100 рублей. Эту купюру назвали «Катеньк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3" descr="купюра.jpg"/>
          <p:cNvPicPr/>
          <p:nvPr/>
        </p:nvPicPr>
        <p:blipFill>
          <a:blip r:embed="rId1"/>
          <a:stretch/>
        </p:blipFill>
        <p:spPr>
          <a:xfrm>
            <a:off x="1763640" y="3141720"/>
            <a:ext cx="6337440" cy="29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07:50:27Z</dcterms:created>
  <dc:creator>Ольга</dc:creator>
  <dc:description/>
  <dc:language>en-US</dc:language>
  <cp:lastModifiedBy>Пользователь</cp:lastModifiedBy>
  <dcterms:modified xsi:type="dcterms:W3CDTF">2020-02-21T04:37:07Z</dcterms:modified>
  <cp:revision>21</cp:revision>
  <dc:subject/>
  <dc:title>Районная научно – практическая конференция школьников «К вершинам знаний» Исследовательская работа по теме: «Бумажные банкноты»</dc:title>
</cp:coreProperties>
</file>