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F32-A993-4644-8CE7-F54B1899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FE0-D23B-496B-B5DC-5A283C1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D00-768E-474A-9110-30361B6B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E48-679A-4F5A-8CAA-6EC37A9E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B652-8116-4BEA-B0F7-31824266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83AD-181B-4094-93A4-4ABCCBB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9523-2B60-488D-8E1E-BCBB38B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CA80-7E92-4EB6-BBD5-97E51B56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2677-B4BE-4167-A9EB-0A0F9EF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EEB-8184-4F53-A99B-18F9FA3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0FC-3BC0-4F5B-A3D2-5A3D42C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6BE-F2FA-4377-92D3-0D8F7C2E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B39-006D-408E-8726-B7301C8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507-CD11-4FAB-A9D0-1ADB12E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17B-C0AB-463C-905E-C4042FF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C9D-CD2F-4422-8A22-39BF5C94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538-1647-4459-9364-D8F89679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767D-E089-4C88-A44C-7E0FFA51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8A90-B3F2-4BE7-A56E-1BF211C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9F6A-901D-48BD-8E68-BFB9B915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DBF0-72D8-4A10-8AD9-05D4AF64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657F-51C1-4F4C-8867-66DB2F10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78E-70AA-4A5D-A63A-C526C9C3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2FB9-4A9E-4F6C-8E79-BC4A498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2D90-15B0-4A3C-9E88-B2EFA80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5F0C4-FB54-4BFA-AC83-918D8D2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F229-7448-4048-B084-EB73339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6855-643F-4AF2-81E9-807A298B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6670-DC09-443F-B19D-1C9339F8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B5CF-D57C-43AE-BF3D-6845D86D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A168-4CF1-4744-B247-190BC01A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24A8-2CB7-4501-93B6-35D9AE3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3D6D-ECA5-4583-8316-6680F4D5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70E-6B2B-4FCA-8B21-E649CBA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B2FD-2090-4231-A5C4-EE28AB0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446F-03ED-4A2A-8E04-F255ABF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97CF-7B4A-4E0D-9185-9701DE3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A08B-8734-4C92-942C-9ACCA3F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4CE4-1815-4166-B357-C358078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938C-381A-4493-9350-6715CC8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4584-01CA-44F9-A43B-AF58B3E5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F63E-4D30-4A40-9531-B31FB2A5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B3B7-3A4D-44A5-B3A0-9DFB66D4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C15-25E3-424D-A39F-6A0E0C7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986-0132-4501-BC60-E777F514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FB5-E196-4485-BF64-E3698DA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037-B687-47A6-B0F6-F76AA14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D3F-B7C1-447E-AC61-52A708C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7D6-7EF2-4C0F-91BD-952DDEE4D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E78-7B90-4953-A054-F0C5D58FD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A605-D1BE-467E-9E80-4EF865048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10A-9F5D-4B6B-981A-7623A58B1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в 4 классе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о тем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«Несклоняемые имена существительны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резентацию подготов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Солошенко Н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1680" y="982440"/>
            <a:ext cx="748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го рода бывают имена существительные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наче называется изменение по падежам?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9640" y="260280"/>
            <a:ext cx="820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Чтобы определить падеж существительного, над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йти слово , к которому относится имя существительное и поставить от него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склоняйте существительные: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синица, хлеб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читайте предложения, спишите, определите падеж слова «пальто»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магазине продаются разные пальто. У пальто меховой воротник. К пальто пришили пуговицы. Мама купила мне пальто. Я доволен своим пальто. Мне было тепло в паль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Чтение сведений в учебнике на стр. 6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44622723-f9a9-224a-b7f7-157b4e47d22a"/>
          <p:cNvPicPr/>
          <p:nvPr/>
        </p:nvPicPr>
        <p:blipFill>
          <a:blip r:embed="rId1"/>
          <a:stretch/>
        </p:blipFill>
        <p:spPr>
          <a:xfrm>
            <a:off x="3203640" y="19162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9" descr="zuz_1001228999"/>
          <p:cNvPicPr/>
          <p:nvPr/>
        </p:nvPicPr>
        <p:blipFill>
          <a:blip r:embed="rId1"/>
          <a:stretch/>
        </p:blipFill>
        <p:spPr>
          <a:xfrm>
            <a:off x="2195640" y="620640"/>
            <a:ext cx="4751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302760"/>
            <a:ext cx="7488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ибри, кенгуру, шо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минго, пони, шимпан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о, кофе, дом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оэ, радио, к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си, метро, купе,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не, кофе, трюмо, ман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аду, драже, п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тервью, рагу, жю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ианино и фой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юре, бюро и ате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все слова запомин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икогда их не склоня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7250_0_2"/>
          <p:cNvPicPr/>
          <p:nvPr/>
        </p:nvPicPr>
        <p:blipFill>
          <a:blip r:embed="rId1"/>
          <a:stretch/>
        </p:blipFill>
        <p:spPr>
          <a:xfrm>
            <a:off x="7236000" y="1484280"/>
            <a:ext cx="1643040" cy="119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avatar-117224-20111215005130"/>
          <p:cNvPicPr/>
          <p:nvPr/>
        </p:nvPicPr>
        <p:blipFill>
          <a:blip r:embed="rId2"/>
          <a:stretch/>
        </p:blipFill>
        <p:spPr>
          <a:xfrm>
            <a:off x="0" y="0"/>
            <a:ext cx="1511280" cy="104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?id=538967408-32-72&amp;n=21"/>
          <p:cNvPicPr/>
          <p:nvPr/>
        </p:nvPicPr>
        <p:blipFill>
          <a:blip r:embed="rId3"/>
          <a:stretch/>
        </p:blipFill>
        <p:spPr>
          <a:xfrm>
            <a:off x="7236000" y="429264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i?id=185676225-13-72&amp;n=21"/>
          <p:cNvPicPr/>
          <p:nvPr/>
        </p:nvPicPr>
        <p:blipFill>
          <a:blip r:embed="rId4"/>
          <a:stretch/>
        </p:blipFill>
        <p:spPr>
          <a:xfrm>
            <a:off x="250920" y="4149720"/>
            <a:ext cx="15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i?id=75438619-18-72&amp;n=21"/>
          <p:cNvPicPr/>
          <p:nvPr/>
        </p:nvPicPr>
        <p:blipFill>
          <a:blip r:embed="rId5"/>
          <a:stretch/>
        </p:blipFill>
        <p:spPr>
          <a:xfrm>
            <a:off x="0" y="1557360"/>
            <a:ext cx="1547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стоятельная рабо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были в зоопарке. Там увидели розовых __________, большого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_________ был груст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бушке мы рассказали о розовых ___________, о том как _________ катал детей по зоопарку, а _____________ ел бан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лова для справок: фламинго, шимпанзе, по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были в зоопарке. Там увидели розовых фламинго, большого шимпан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енький пони был груст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бушке мы рассказали о розовых фламинго, о том как пони катал детей по зоопарку, а шимпанзе ел бан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59920"/>
            <a:ext cx="800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грамотными стат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исать отличн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огда нельзя менять 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адежах различ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кино, ни домин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бюро, ни метр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кашне и ни пенсн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шоссе, ни шимпанзе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песню распев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в гостях, и до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только не мен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ончань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кадий Хай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Познакомиться……………………………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Учиться правильно их …………………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Обобщить знания …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урок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0b32568cdf2919ddc685364ad37d717a"/>
          <p:cNvPicPr/>
          <p:nvPr/>
        </p:nvPicPr>
        <p:blipFill>
          <a:blip r:embed="rId1"/>
          <a:stretch/>
        </p:blipFill>
        <p:spPr>
          <a:xfrm>
            <a:off x="2124000" y="1700280"/>
            <a:ext cx="45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несклоняемыми существитель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ся правильно их употреблять в ре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ить знания об имени существитель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рфографическая размин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ога с рядами деревьев, посаженных по обеим её сторон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i?id=77396289-08-72&amp;n=21"/>
          <p:cNvPicPr/>
          <p:nvPr/>
        </p:nvPicPr>
        <p:blipFill>
          <a:blip r:embed="rId1"/>
          <a:stretch/>
        </p:blipFill>
        <p:spPr>
          <a:xfrm>
            <a:off x="1547640" y="2714760"/>
            <a:ext cx="6120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Учреждение, собирающее и хранящее произведения печати для общего пользования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9" descr="library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нимательный, любопытный, привлекающий интерес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Picture 6" descr="450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лея, библиотека, интересный, дорога, шо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0:32:45Z</dcterms:created>
  <dc:creator>User</dc:creator>
  <dc:description/>
  <dc:language>en-US</dc:language>
  <cp:lastModifiedBy>one</cp:lastModifiedBy>
  <dcterms:modified xsi:type="dcterms:W3CDTF">2015-10-21T04:55:47Z</dcterms:modified>
  <cp:revision>30</cp:revision>
  <dc:subject/>
  <dc:title>Слайд 1</dc:title>
</cp:coreProperties>
</file>