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10BB-1B26-4935-B7DA-53CEFF07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CF6-FCB0-4A97-88A6-DF7FBDDC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E02-95AB-4AAD-AE21-2F7989E0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728-1110-471B-8CB9-A2E25FA6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4775-58A7-4770-9B9A-69E645A6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5C25-BFEF-4D47-BA31-A7C101F3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5D50-CD23-482A-8DB4-19947947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B00C-9DDA-4548-802D-23BFDC58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9BE5-0AD5-4CE3-833E-9EF47459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3706-928E-4AC9-B498-F94DD477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EBCC-E82F-4D0E-86D9-168AFEC3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AF7-CD61-48DB-90C2-0FFC2D58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7A4E-B76E-4FE4-9E58-674C9903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F5DF-E0F5-40E2-8FF3-CFF8EC70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CA90-3B3E-4E34-BEC7-D8F0F8A7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2B18-06A8-4EED-A74D-3BB1567F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B747-28DC-4BFA-A0FC-155E4B43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479EB-B110-4630-BF85-67BCCC59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A273D-1452-4FBD-B31F-0A684572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775A-4A31-4493-8BAD-789DDD6A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076CF-C9E1-454E-8B97-EB382196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1A5FB-C978-4AB9-A2F9-28BCA375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0E2-945F-4FEF-BFD5-922EB327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FF5C-45F6-48EB-A542-333982D7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AFEB6-67F0-4B14-B287-6F322A5E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5B519-E88B-4AA3-B10C-DF37B2E8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45A32-2932-4829-B667-C756F8EA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4F9B3-AC78-47A7-A015-5E1DBCCD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A7CF1-A128-4F92-ADF9-8FA5B2FF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74317-4FB9-4746-ADD1-C5FF6F27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1249D-6086-45F0-8562-8E6A4918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5F9A1-F884-410B-8BEB-8D41E214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70CD7-FFA7-4DA7-B4F2-458BC868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CE5-5BC3-41D5-BF92-C4EB606D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A9151-FFEE-4772-A280-04BE2924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2B4E6-EFE4-445E-8DAB-5407BAF4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DBFF1-181C-4FB5-AA6B-F73CD247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D0D3D-7E15-47E6-8E5E-D8DD5C22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E37A9-B3BA-4F69-AACC-69F1F08D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69E5E-B8EC-4C35-8A48-4DCA226C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FBDEA-1C24-4C98-B04C-2580FC02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08E38-823B-498A-ADE5-726FAC91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DCF81-B5D4-4EE1-9B35-6B73C71D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0B6-F8B5-49EA-8C71-158CA4CE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D5F-FDE4-40E0-AC66-748D074D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7CE-335B-4EC2-9211-0514A426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260-C0D7-4BCF-891B-2E8B6206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6FF-ABAC-4B81-99DD-CC1B5A9E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ADA2-205B-44E9-954A-6E90F3BB9B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E121-C8F4-462B-9801-E4DB05272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395E-DBB2-49C4-A565-B91B2B31E0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4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4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51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5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2E5D-E2BA-44F9-AB57-E6BE9539FB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Урок русского языка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 в 4 классе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по тем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«Несклоняемые имена существительные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Презентацию подготовил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Солошенко Н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71680" y="982440"/>
            <a:ext cx="7488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го рода бывают имена существительные?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изменяются имена существительны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иначе называется изменение по падежам?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714240" y="214200"/>
            <a:ext cx="68709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мя существительно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539640" y="25124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539640" y="260280"/>
            <a:ext cx="820908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Чтобы определить падеж существительного, надо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Найти слово , к которому относится имя существительное и поставить от него 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По вопросу и предлогу                                                                                                                                                                         определить падеж.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осклоняйте существительные: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синица, хлеб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читайте предложения, спишите, определите падеж слова «пальто»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8920" y="2276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магазине продаются разные пальто. У пальто меховой воротник. К пальто пришили пуговицы. Мама купила мне пальто. Я доволен своим пальто. Мне было тепло в паль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Чтение сведений в учебнике на стр. 65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6" descr="44622723-f9a9-224a-b7f7-157b4e47d22a"/>
          <p:cNvPicPr/>
          <p:nvPr/>
        </p:nvPicPr>
        <p:blipFill>
          <a:blip r:embed="rId1"/>
          <a:stretch/>
        </p:blipFill>
        <p:spPr>
          <a:xfrm>
            <a:off x="3203640" y="191628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9" descr="zuz_1001228999"/>
          <p:cNvPicPr/>
          <p:nvPr/>
        </p:nvPicPr>
        <p:blipFill>
          <a:blip r:embed="rId1"/>
          <a:stretch/>
        </p:blipFill>
        <p:spPr>
          <a:xfrm>
            <a:off x="2195640" y="620640"/>
            <a:ext cx="4751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611280" y="302760"/>
            <a:ext cx="7488000" cy="66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либри, кенгуру, шо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ламинго, пони, шимпан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ао, кофе, доми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оэ, радио, ки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си, метро, купе, паль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шне, кофе, трюмо, ман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какаду, драже, па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интервью, рагу, жю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пианино и фой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юре, бюро и ател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ы все слова запомин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 никогда их не склоня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714240" y="214200"/>
            <a:ext cx="68709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7250_0_2"/>
          <p:cNvPicPr/>
          <p:nvPr/>
        </p:nvPicPr>
        <p:blipFill>
          <a:blip r:embed="rId1"/>
          <a:stretch/>
        </p:blipFill>
        <p:spPr>
          <a:xfrm>
            <a:off x="7236000" y="1484280"/>
            <a:ext cx="1643040" cy="1190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avatar-117224-20111215005130"/>
          <p:cNvPicPr/>
          <p:nvPr/>
        </p:nvPicPr>
        <p:blipFill>
          <a:blip r:embed="rId2"/>
          <a:stretch/>
        </p:blipFill>
        <p:spPr>
          <a:xfrm>
            <a:off x="0" y="0"/>
            <a:ext cx="1511280" cy="1044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i?id=538967408-32-72&amp;n=21"/>
          <p:cNvPicPr/>
          <p:nvPr/>
        </p:nvPicPr>
        <p:blipFill>
          <a:blip r:embed="rId3"/>
          <a:stretch/>
        </p:blipFill>
        <p:spPr>
          <a:xfrm>
            <a:off x="7236000" y="4292640"/>
            <a:ext cx="1547640" cy="1079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i?id=185676225-13-72&amp;n=21"/>
          <p:cNvPicPr/>
          <p:nvPr/>
        </p:nvPicPr>
        <p:blipFill>
          <a:blip r:embed="rId4"/>
          <a:stretch/>
        </p:blipFill>
        <p:spPr>
          <a:xfrm>
            <a:off x="250920" y="4149720"/>
            <a:ext cx="1547640" cy="1224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i?id=75438619-18-72&amp;n=21"/>
          <p:cNvPicPr/>
          <p:nvPr/>
        </p:nvPicPr>
        <p:blipFill>
          <a:blip r:embed="rId5"/>
          <a:stretch/>
        </p:blipFill>
        <p:spPr>
          <a:xfrm>
            <a:off x="0" y="1557360"/>
            <a:ext cx="15476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амостоятельная рабо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4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были в зоопарке. Там увидели розовых __________, большого 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енький _________ был груст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бушке мы рассказали о розовых ___________, о том как _________ катал детей по зоопарку, а _____________ ел бана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лова для справок: фламинго, шимпанзе, по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вер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8964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были в зоопарке. Там увидели розовых фламинго, большого шимпанз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енький пони был груст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бушке мы рассказали о розовых фламинго, о том как пони катал детей по зоопарку, а шимпанзе ел бана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259920"/>
            <a:ext cx="80074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бы грамотными стать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писать отлично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когда нельзя менять 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падежах различны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 кино, ни домино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 бюро, ни метро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 кашне и ни пенсне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 шоссе, ни шимпанзе. 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жно песню распева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в гостях, и дом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только не меня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кончанье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ркадий Хай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и и задачи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Познакомиться……………………………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Учиться правильно их …………………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Обобщить знания ………………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79280" y="-1755720"/>
          <a:ext cx="8964720" cy="8931240"/>
        </p:xfrm>
        <a:graphic>
          <a:graphicData uri="http://schemas.openxmlformats.org/drawingml/2006/table">
            <a:tbl>
              <a:tblPr/>
              <a:tblGrid>
                <a:gridCol w="4105440"/>
                <a:gridCol w="4859280"/>
              </a:tblGrid>
              <a:tr h="962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егодня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роке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узнал, открыл для себя…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аучился… 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огу похвалить себя и своих одноклассников за …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Text Box 17"/>
          <p:cNvSpPr/>
          <p:nvPr/>
        </p:nvSpPr>
        <p:spPr>
          <a:xfrm>
            <a:off x="2556000" y="2637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8"/>
          <p:cNvSpPr/>
          <p:nvPr/>
        </p:nvSpPr>
        <p:spPr>
          <a:xfrm flipV="1">
            <a:off x="3492360" y="836640"/>
            <a:ext cx="720720" cy="151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9"/>
          <p:cNvSpPr/>
          <p:nvPr/>
        </p:nvSpPr>
        <p:spPr>
          <a:xfrm>
            <a:off x="3492360" y="3502080"/>
            <a:ext cx="792360" cy="201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3564000" y="2852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асибо за урок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6" descr="0b32568cdf2919ddc685364ad37d717a"/>
          <p:cNvPicPr/>
          <p:nvPr/>
        </p:nvPicPr>
        <p:blipFill>
          <a:blip r:embed="rId1"/>
          <a:stretch/>
        </p:blipFill>
        <p:spPr>
          <a:xfrm>
            <a:off x="2124000" y="1700280"/>
            <a:ext cx="4572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и и задачи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ся с несклоняемыми существительн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ься правильно их употреблять в реч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бщить знания об имени существительн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рфографическая размин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628280"/>
            <a:ext cx="80074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рога с рядами деревьев, посаженных по обеим её сторон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i?id=77396289-08-72&amp;n=21"/>
          <p:cNvPicPr/>
          <p:nvPr/>
        </p:nvPicPr>
        <p:blipFill>
          <a:blip r:embed="rId1"/>
          <a:stretch/>
        </p:blipFill>
        <p:spPr>
          <a:xfrm>
            <a:off x="1547640" y="2714760"/>
            <a:ext cx="612000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Учреждение, собирающее и хранящее произведения печати для общего пользования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9" descr="library"/>
          <p:cNvPicPr/>
          <p:nvPr/>
        </p:nvPicPr>
        <p:blipFill>
          <a:blip r:embed="rId1"/>
          <a:stretch/>
        </p:blipFill>
        <p:spPr>
          <a:xfrm>
            <a:off x="1403280" y="1844640"/>
            <a:ext cx="6264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Занимательный, любопытный, привлекающий интерес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акой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8" name="Picture 6" descr="4506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вер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лея, библиотека, интересный, дорога, шос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0:32:45Z</dcterms:created>
  <dc:creator>User</dc:creator>
  <dc:description/>
  <dc:language>en-US</dc:language>
  <cp:lastModifiedBy>one</cp:lastModifiedBy>
  <dcterms:modified xsi:type="dcterms:W3CDTF">2015-10-21T04:55:47Z</dcterms:modified>
  <cp:revision>30</cp:revision>
  <dc:subject/>
  <dc:title>Слайд 1</dc:title>
</cp:coreProperties>
</file>