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33.png" ContentType="image/png"/>
  <Override PartName="/ppt/media/image13.png" ContentType="image/png"/>
  <Override PartName="/ppt/media/image24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2.gif" ContentType="image/gif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E33-AF37-40FD-B260-4CB1A1B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A44-DF5C-4DE1-8FF1-4081CFC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FFB-F986-4544-95F0-6B99F625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742-B634-4613-B536-386D4D64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236-950B-4796-BD7E-24F4C5C5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CB7-4671-46A3-8625-7800489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6C8-D8A3-4EE2-B54F-A1C3298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E36-4BD4-4B30-B492-A9E4E6C3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65F-C056-4935-99EC-7E8CE22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8C0-2602-4712-8006-D569277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FC1-6498-4DF9-AD2D-B6FB237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101-AB1C-46E0-9367-6DD8E4E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80F9-6B0A-4D1B-8822-44A734307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16360" y="5373360"/>
            <a:ext cx="4313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ькова Ольга Юр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70036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2268360" y="294120"/>
            <a:ext cx="662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Учите правила дорожного дви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0004"/>
          <p:cNvPicPr/>
          <p:nvPr/>
        </p:nvPicPr>
        <p:blipFill>
          <a:blip r:embed="rId1"/>
          <a:stretch/>
        </p:blipFill>
        <p:spPr>
          <a:xfrm>
            <a:off x="571680" y="1357200"/>
            <a:ext cx="321444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4479840" y="1878120"/>
            <a:ext cx="473724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5" descr=""/>
          <p:cNvPicPr/>
          <p:nvPr/>
        </p:nvPicPr>
        <p:blipFill>
          <a:blip r:embed="rId3"/>
          <a:stretch/>
        </p:blipFill>
        <p:spPr>
          <a:xfrm>
            <a:off x="1500120" y="128520"/>
            <a:ext cx="6357960" cy="134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108000" y="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7760" cy="41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859280" y="115920"/>
            <a:ext cx="3333960" cy="4876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68360" y="521028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2843280" y="521028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5003640" y="5210280"/>
            <a:ext cx="35434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785880" y="2000160"/>
            <a:ext cx="207180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96" name="Овал 6"/>
          <p:cNvSpPr/>
          <p:nvPr/>
        </p:nvSpPr>
        <p:spPr>
          <a:xfrm>
            <a:off x="4857840" y="1857240"/>
            <a:ext cx="1200240" cy="1071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6 0.02523 L -0.404 0.23519 E">
                                      <p:cBhvr>
                                        <p:cTn id="181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000080" y="1714680"/>
            <a:ext cx="1928880" cy="3714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4357800" y="214344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46836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7"/>
          <p:cNvSpPr/>
          <p:nvPr/>
        </p:nvSpPr>
        <p:spPr>
          <a:xfrm>
            <a:off x="5214960" y="1714680"/>
            <a:ext cx="1128600" cy="10713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41945 0.37223 E">
                                      <p:cBhvr>
                                        <p:cTn id="20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857160" y="1928880"/>
            <a:ext cx="1928880" cy="3643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250920" y="26028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8"/>
          <p:cNvSpPr/>
          <p:nvPr/>
        </p:nvSpPr>
        <p:spPr>
          <a:xfrm>
            <a:off x="5357880" y="1928880"/>
            <a:ext cx="1214280" cy="1071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0625 L -0.45157 0.07778 E">
                                      <p:cBhvr>
                                        <p:cTn id="22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733560" cy="552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4956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07484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003640" y="3263760"/>
            <a:ext cx="3810240" cy="359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3051360" cy="284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250920" y="1844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ем ребятам предостере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учите срочно правила движ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 не волновались каждый день род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 спокойны были за рулём в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37r3.gif"/>
          <p:cNvPicPr/>
          <p:nvPr/>
        </p:nvPicPr>
        <p:blipFill>
          <a:blip r:embed="rId1"/>
          <a:stretch/>
        </p:blipFill>
        <p:spPr>
          <a:xfrm>
            <a:off x="7020000" y="0"/>
            <a:ext cx="128592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4724b299125d23ce8ebc609554f3edeb.gif"/>
          <p:cNvPicPr/>
          <p:nvPr/>
        </p:nvPicPr>
        <p:blipFill>
          <a:blip r:embed="rId2"/>
          <a:stretch/>
        </p:blipFill>
        <p:spPr>
          <a:xfrm>
            <a:off x="179280" y="115920"/>
            <a:ext cx="533520" cy="134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rcRect l="0" t="6379" r="0" b="0"/>
          <a:stretch/>
        </p:blipFill>
        <p:spPr>
          <a:xfrm>
            <a:off x="4859280" y="1341360"/>
            <a:ext cx="352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4724b299125d23ce8ebc609554f3edeb.gif"/>
          <p:cNvPicPr/>
          <p:nvPr/>
        </p:nvPicPr>
        <p:blipFill>
          <a:blip r:embed="rId1"/>
          <a:stretch/>
        </p:blipFill>
        <p:spPr>
          <a:xfrm>
            <a:off x="250920" y="260280"/>
            <a:ext cx="57600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3340080" cy="308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4"/>
          <a:srcRect l="0" t="8380" r="0" b="13893"/>
          <a:stretch/>
        </p:blipFill>
        <p:spPr>
          <a:xfrm>
            <a:off x="250920" y="3860640"/>
            <a:ext cx="4802040" cy="266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4272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doroga-mnogo-mashin.jpg"/>
          <p:cNvPicPr/>
          <p:nvPr/>
        </p:nvPicPr>
        <p:blipFill>
          <a:blip r:embed="rId2"/>
          <a:stretch/>
        </p:blipFill>
        <p:spPr>
          <a:xfrm>
            <a:off x="1763640" y="1844640"/>
            <a:ext cx="550080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3478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" descr=""/>
          <p:cNvPicPr/>
          <p:nvPr/>
        </p:nvPicPr>
        <p:blipFill>
          <a:blip r:embed="rId2"/>
          <a:stretch/>
        </p:blipFill>
        <p:spPr>
          <a:xfrm>
            <a:off x="4479840" y="2962440"/>
            <a:ext cx="4237200" cy="247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6699.jpg"/>
          <p:cNvPicPr/>
          <p:nvPr/>
        </p:nvPicPr>
        <p:blipFill>
          <a:blip r:embed="rId3"/>
          <a:stretch/>
        </p:blipFill>
        <p:spPr>
          <a:xfrm>
            <a:off x="357120" y="1643040"/>
            <a:ext cx="4143600" cy="4500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4724b299125d23ce8ebc609554f3edeb.gif"/>
          <p:cNvPicPr/>
          <p:nvPr/>
        </p:nvPicPr>
        <p:blipFill>
          <a:blip r:embed="rId4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646280" y="96840"/>
            <a:ext cx="6070680" cy="134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peshehod2402.jpg"/>
          <p:cNvPicPr/>
          <p:nvPr/>
        </p:nvPicPr>
        <p:blipFill>
          <a:blip r:embed="rId2"/>
          <a:stretch/>
        </p:blipFill>
        <p:spPr>
          <a:xfrm>
            <a:off x="285840" y="1428840"/>
            <a:ext cx="314316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684.Deti.jpg"/>
          <p:cNvPicPr/>
          <p:nvPr/>
        </p:nvPicPr>
        <p:blipFill>
          <a:blip r:embed="rId3"/>
          <a:stretch/>
        </p:blipFill>
        <p:spPr>
          <a:xfrm>
            <a:off x="4859280" y="1285920"/>
            <a:ext cx="374508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picture.jpg"/>
          <p:cNvPicPr/>
          <p:nvPr/>
        </p:nvPicPr>
        <p:blipFill>
          <a:blip r:embed="rId4"/>
          <a:stretch/>
        </p:blipFill>
        <p:spPr>
          <a:xfrm>
            <a:off x="3000240" y="4286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4724b299125d23ce8ebc609554f3edeb.gif"/>
          <p:cNvPicPr/>
          <p:nvPr/>
        </p:nvPicPr>
        <p:blipFill>
          <a:blip r:embed="rId5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500040" y="-30240"/>
            <a:ext cx="8229600" cy="117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1215_4.jpg"/>
          <p:cNvPicPr/>
          <p:nvPr/>
        </p:nvPicPr>
        <p:blipFill>
          <a:blip r:embed="rId2"/>
          <a:srcRect l="2087" t="14290" r="51043" b="50015"/>
          <a:stretch/>
        </p:blipFill>
        <p:spPr>
          <a:xfrm>
            <a:off x="571680" y="1000080"/>
            <a:ext cx="321444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1215_4.jpg"/>
          <p:cNvPicPr/>
          <p:nvPr/>
        </p:nvPicPr>
        <p:blipFill>
          <a:blip r:embed="rId3"/>
          <a:srcRect l="1496" t="49513" r="50197" b="14733"/>
          <a:stretch/>
        </p:blipFill>
        <p:spPr>
          <a:xfrm>
            <a:off x="428760" y="371484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215_4.jpg"/>
          <p:cNvPicPr/>
          <p:nvPr/>
        </p:nvPicPr>
        <p:blipFill>
          <a:blip r:embed="rId4"/>
          <a:srcRect l="51339" t="14054" r="0" b="50901"/>
          <a:stretch/>
        </p:blipFill>
        <p:spPr>
          <a:xfrm>
            <a:off x="5072040" y="857160"/>
            <a:ext cx="335772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1215_4.jpg"/>
          <p:cNvPicPr/>
          <p:nvPr/>
        </p:nvPicPr>
        <p:blipFill>
          <a:blip r:embed="rId5"/>
          <a:srcRect l="51260" t="49483" r="0" b="13788"/>
          <a:stretch/>
        </p:blipFill>
        <p:spPr>
          <a:xfrm>
            <a:off x="4857840" y="3857760"/>
            <a:ext cx="371484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396720" y="3236760"/>
            <a:ext cx="367524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334800" y="6168960"/>
            <a:ext cx="373716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2" descr=""/>
          <p:cNvPicPr/>
          <p:nvPr/>
        </p:nvPicPr>
        <p:blipFill>
          <a:blip r:embed="rId8"/>
          <a:stretch/>
        </p:blipFill>
        <p:spPr>
          <a:xfrm>
            <a:off x="4260960" y="2951280"/>
            <a:ext cx="490212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13" descr=""/>
          <p:cNvPicPr/>
          <p:nvPr/>
        </p:nvPicPr>
        <p:blipFill>
          <a:blip r:embed="rId9"/>
          <a:stretch/>
        </p:blipFill>
        <p:spPr>
          <a:xfrm>
            <a:off x="4821120" y="6102360"/>
            <a:ext cx="389592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4" descr="4724b299125d23ce8ebc609554f3edeb.gif"/>
          <p:cNvPicPr/>
          <p:nvPr/>
        </p:nvPicPr>
        <p:blipFill>
          <a:blip r:embed="rId10"/>
          <a:stretch/>
        </p:blipFill>
        <p:spPr>
          <a:xfrm>
            <a:off x="108000" y="115920"/>
            <a:ext cx="662040" cy="1500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571680" y="30718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571680" y="6000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4786200" y="28576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478620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10002"/>
          <p:cNvPicPr/>
          <p:nvPr/>
        </p:nvPicPr>
        <p:blipFill>
          <a:blip r:embed="rId1"/>
          <a:stretch/>
        </p:blipFill>
        <p:spPr>
          <a:xfrm>
            <a:off x="500040" y="1571760"/>
            <a:ext cx="4143240" cy="45003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1212840" y="255600"/>
            <a:ext cx="5784840" cy="1353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5286240" y="178596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Разве можно так, подруж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Где ваши глаза и у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 такого повед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ожет быть не мало б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едь дорога не для чт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И не место для бе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4724b299125d23ce8ebc609554f3edeb.gif"/>
          <p:cNvPicPr/>
          <p:nvPr/>
        </p:nvPicPr>
        <p:blipFill>
          <a:blip r:embed="rId3"/>
          <a:stretch/>
        </p:blipFill>
        <p:spPr>
          <a:xfrm>
            <a:off x="179280" y="115920"/>
            <a:ext cx="662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7:53Z</dcterms:created>
  <dc:creator>User</dc:creator>
  <dc:description/>
  <dc:language>en-US</dc:language>
  <cp:lastModifiedBy>1</cp:lastModifiedBy>
  <dcterms:modified xsi:type="dcterms:W3CDTF">2020-09-10T14:09:21Z</dcterms:modified>
  <cp:revision>11</cp:revision>
  <dc:subject/>
  <dc:title>Слайд 1</dc:title>
</cp:coreProperties>
</file>