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2.jpeg" ContentType="image/jpeg"/>
  <Override PartName="/ppt/media/image11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91AE-7635-4032-BC31-C1BB9DFE7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6489-1954-4422-94C0-200D8582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4626-FC65-4FFC-86C1-010C8C070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35BE-5E08-48A6-B7DF-5EB80A9D0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9E7D-2CDA-485B-920A-0C701170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EA24-9C05-48E8-9677-F0A5F955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7663-8D36-484C-9FA1-C5910779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2AE5-B72D-4BCF-B4DE-4F752A52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A32E-8050-4383-95FC-797E329F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FF1E-327A-4045-9ED6-01E0D76F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0CD6-54BB-4536-8CF3-29C1E3AA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B889-56D7-4BF0-9E80-B8365742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50C3-5E60-4181-AA13-BBDF34B4D2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78920" y="189000"/>
            <a:ext cx="8209080" cy="9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тание. Бутерброды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1547640" y="476280"/>
            <a:ext cx="598500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1"/>
          <a:stretch/>
        </p:blipFill>
        <p:spPr>
          <a:xfrm>
            <a:off x="893880" y="1125360"/>
            <a:ext cx="6696000" cy="432468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2117880" y="5710320"/>
            <a:ext cx="54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учитель-дефект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балина Татьяна Юрье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БОУ школа-интернат №1 им. К.К. Грот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усочные бутерброды (канап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066920" y="1844280"/>
            <a:ext cx="493236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напе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малень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тербродики  разме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х3см.  Хлеб и  продукты дл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напе  вырезают разн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гурками острым ножом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очками  для  печень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бирают по цвету и вкус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затем скалываю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лочк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 или специальными шпаж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9" descr=""/>
          <p:cNvPicPr/>
          <p:nvPr/>
        </p:nvPicPr>
        <p:blipFill>
          <a:blip r:embed="rId1"/>
          <a:stretch/>
        </p:blipFill>
        <p:spPr>
          <a:xfrm>
            <a:off x="225360" y="4437000"/>
            <a:ext cx="3625920" cy="1656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3456000" cy="23749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2"/>
          <p:cNvSpPr/>
          <p:nvPr/>
        </p:nvSpPr>
        <p:spPr>
          <a:xfrm>
            <a:off x="539640" y="4437000"/>
            <a:ext cx="3311640" cy="151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ячие бутербр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3280" y="1413000"/>
            <a:ext cx="45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приготовл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рячих бутербродов хле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жаривают или вмес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леба можно использо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сладкое песочное тес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рячие бутерброды мо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готовить в микровол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й печи или выпекать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ухов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429912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ерброды - рул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56000" y="1341360"/>
            <a:ext cx="478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лет с мясом, колбасой и овощ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ПРИГОТОВЛЕНИЯ РЕЦЕП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 батона отрежьте концы, извлеките мякиш. Копчености, сыр, яйца, перец и помидоры мелко нарежь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ло разотрите  с  хреном,  горчицей и соедините с нарезанными продуктами, посолите. По желанию добавьте мякиш батона, нарезанный кубиками. Наполните батон полученной смесью и охладите, чтобы наполнитель затверде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подачей нарежьте ломти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Бутерброд-рулет с мясом и сыром"/>
          <p:cNvPicPr/>
          <p:nvPr/>
        </p:nvPicPr>
        <p:blipFill>
          <a:blip r:embed="rId1"/>
          <a:stretch/>
        </p:blipFill>
        <p:spPr>
          <a:xfrm>
            <a:off x="179280" y="1413000"/>
            <a:ext cx="3810240" cy="2047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Бутерброд-рулет с семгой"/>
          <p:cNvPicPr/>
          <p:nvPr/>
        </p:nvPicPr>
        <p:blipFill>
          <a:blip r:embed="rId2"/>
          <a:stretch/>
        </p:blipFill>
        <p:spPr>
          <a:xfrm>
            <a:off x="250920" y="3573360"/>
            <a:ext cx="38098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одают бутербр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40000" y="1600200"/>
            <a:ext cx="482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ерброды подают на тарелке, располагая их в один ря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енькие канапе протык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лочками-шпажками, с помощью которых берут бутерброд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Крекеры с крабовым мясом"/>
          <p:cNvPicPr/>
          <p:nvPr/>
        </p:nvPicPr>
        <p:blipFill>
          <a:blip r:embed="rId1"/>
          <a:stretch/>
        </p:blipFill>
        <p:spPr>
          <a:xfrm>
            <a:off x="539640" y="1341360"/>
            <a:ext cx="3527640" cy="2067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"/>
          <p:cNvPicPr/>
          <p:nvPr/>
        </p:nvPicPr>
        <p:blipFill>
          <a:blip r:embed="rId2"/>
          <a:stretch/>
        </p:blipFill>
        <p:spPr>
          <a:xfrm>
            <a:off x="539640" y="3789360"/>
            <a:ext cx="352764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к качеству готовых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ербр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48000" y="1600200"/>
            <a:ext cx="57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ерброды должны быть приготовлены непосредственно перед подачей на сто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ы, входящие в состав бутербродов должны быть свежи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щина хлеба для открыт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ербродов – 1 - 1,5см, для канапе и закрытых бутербродов – 0,5с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ы должны полн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рывать бутерброд, но не свисать с н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9" descr="Полосатый бутерброд с овощами"/>
          <p:cNvPicPr/>
          <p:nvPr/>
        </p:nvPicPr>
        <p:blipFill>
          <a:blip r:embed="rId1"/>
          <a:stretch/>
        </p:blipFill>
        <p:spPr>
          <a:xfrm>
            <a:off x="250920" y="1125360"/>
            <a:ext cx="2949480" cy="1727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Хлебные корзиночки"/>
          <p:cNvPicPr/>
          <p:nvPr/>
        </p:nvPicPr>
        <p:blipFill>
          <a:blip r:embed="rId2"/>
          <a:stretch/>
        </p:blipFill>
        <p:spPr>
          <a:xfrm>
            <a:off x="250920" y="2997360"/>
            <a:ext cx="3009960" cy="176364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11"/>
          <p:cNvSpPr/>
          <p:nvPr/>
        </p:nvSpPr>
        <p:spPr>
          <a:xfrm>
            <a:off x="3492360" y="1989000"/>
            <a:ext cx="189000" cy="216000"/>
          </a:xfrm>
          <a:custGeom>
            <a:avLst/>
            <a:gdLst/>
            <a:ahLst/>
            <a:rect l="l" t="t" r="r" b="b"/>
            <a:pathLst>
              <a:path w="188913" h="215900">
                <a:moveTo>
                  <a:pt x="0" y="82466"/>
                </a:moveTo>
                <a:lnTo>
                  <a:pt x="72159" y="82467"/>
                </a:lnTo>
                <a:lnTo>
                  <a:pt x="94457" y="0"/>
                </a:lnTo>
                <a:lnTo>
                  <a:pt x="116754" y="82467"/>
                </a:lnTo>
                <a:lnTo>
                  <a:pt x="188913" y="82466"/>
                </a:lnTo>
                <a:lnTo>
                  <a:pt x="130535" y="133433"/>
                </a:lnTo>
                <a:lnTo>
                  <a:pt x="152834" y="215899"/>
                </a:lnTo>
                <a:lnTo>
                  <a:pt x="94457" y="164932"/>
                </a:lnTo>
                <a:lnTo>
                  <a:pt x="36079" y="215899"/>
                </a:lnTo>
                <a:lnTo>
                  <a:pt x="5837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2"/>
          <p:cNvSpPr/>
          <p:nvPr/>
        </p:nvSpPr>
        <p:spPr>
          <a:xfrm>
            <a:off x="3419640" y="2997360"/>
            <a:ext cx="217440" cy="287280"/>
          </a:xfrm>
          <a:custGeom>
            <a:avLst/>
            <a:gdLst/>
            <a:ahLst/>
            <a:rect l="l" t="t" r="r" b="b"/>
            <a:pathLst>
              <a:path w="217488" h="287338">
                <a:moveTo>
                  <a:pt x="0" y="109753"/>
                </a:moveTo>
                <a:lnTo>
                  <a:pt x="83073" y="109754"/>
                </a:lnTo>
                <a:lnTo>
                  <a:pt x="108744" y="0"/>
                </a:lnTo>
                <a:lnTo>
                  <a:pt x="134415" y="109754"/>
                </a:lnTo>
                <a:lnTo>
                  <a:pt x="217488" y="109753"/>
                </a:lnTo>
                <a:lnTo>
                  <a:pt x="150280" y="177584"/>
                </a:lnTo>
                <a:lnTo>
                  <a:pt x="175951" y="287337"/>
                </a:lnTo>
                <a:lnTo>
                  <a:pt x="108744" y="219505"/>
                </a:lnTo>
                <a:lnTo>
                  <a:pt x="41537" y="287337"/>
                </a:lnTo>
                <a:lnTo>
                  <a:pt x="67208" y="177584"/>
                </a:lnTo>
                <a:lnTo>
                  <a:pt x="0" y="109753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4"/>
          <p:cNvSpPr/>
          <p:nvPr/>
        </p:nvSpPr>
        <p:spPr>
          <a:xfrm>
            <a:off x="3492360" y="3860640"/>
            <a:ext cx="216000" cy="360360"/>
          </a:xfrm>
          <a:custGeom>
            <a:avLst/>
            <a:gdLst/>
            <a:ahLst/>
            <a:rect l="l" t="t" r="r" b="b"/>
            <a:pathLst>
              <a:path w="215900" h="360363">
                <a:moveTo>
                  <a:pt x="0" y="137646"/>
                </a:moveTo>
                <a:lnTo>
                  <a:pt x="82467" y="137647"/>
                </a:lnTo>
                <a:lnTo>
                  <a:pt x="107950" y="0"/>
                </a:lnTo>
                <a:lnTo>
                  <a:pt x="133433" y="137647"/>
                </a:lnTo>
                <a:lnTo>
                  <a:pt x="215900" y="137646"/>
                </a:lnTo>
                <a:lnTo>
                  <a:pt x="149182" y="222716"/>
                </a:lnTo>
                <a:lnTo>
                  <a:pt x="174667" y="360362"/>
                </a:lnTo>
                <a:lnTo>
                  <a:pt x="107950" y="275291"/>
                </a:lnTo>
                <a:lnTo>
                  <a:pt x="41233" y="360362"/>
                </a:lnTo>
                <a:lnTo>
                  <a:pt x="66718" y="222716"/>
                </a:lnTo>
                <a:lnTo>
                  <a:pt x="0" y="13764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3348000" y="5300640"/>
            <a:ext cx="279360" cy="279360"/>
          </a:xfrm>
          <a:custGeom>
            <a:avLst/>
            <a:gdLst/>
            <a:ahLst/>
            <a:rect l="l" t="t" r="r" b="b"/>
            <a:pathLst>
              <a:path w="279400" h="279400">
                <a:moveTo>
                  <a:pt x="0" y="106721"/>
                </a:moveTo>
                <a:lnTo>
                  <a:pt x="106722" y="106722"/>
                </a:lnTo>
                <a:lnTo>
                  <a:pt x="139700" y="0"/>
                </a:lnTo>
                <a:lnTo>
                  <a:pt x="172678" y="106722"/>
                </a:lnTo>
                <a:lnTo>
                  <a:pt x="279400" y="106721"/>
                </a:lnTo>
                <a:lnTo>
                  <a:pt x="193060" y="172678"/>
                </a:lnTo>
                <a:lnTo>
                  <a:pt x="226039" y="279399"/>
                </a:lnTo>
                <a:lnTo>
                  <a:pt x="139700" y="213441"/>
                </a:lnTo>
                <a:lnTo>
                  <a:pt x="53361" y="279399"/>
                </a:lnTo>
                <a:lnTo>
                  <a:pt x="86340" y="172678"/>
                </a:lnTo>
                <a:lnTo>
                  <a:pt x="0" y="106721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26560" y="3933360"/>
            <a:ext cx="7993080" cy="24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Какие виды бутербродов вы запомни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785988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ить на  вопро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продукты можно использовать для приготовления бутербродов и где их хран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Цели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с историей возникновения бутербродов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зировать знания о видах бутербродов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качества готовых бутерброд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ист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713800" cy="553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ерброд был изобретен в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5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у. Изобретателем его является не кто-нибудь, 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лай Коперни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ак не странно изобретен он был в медицинских целях.  Во время эпидемии неизвестной болез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ерник заметил, что болели лишь те, кто ел хлеб. Коперник выяснил, что во время осады, оборонявшиеся часто роняли свой кусок хлеба на пол, поднимали его, отряхивали  мусор и … съедали.  На поверхности хлеба грязи не было видно, и Копернику пришла мысль, что хлеб надо смазать маслом, на нем легче определить загрязненность. Если загрязнение было видно, его счищали вместе с маслом. Болезнь через некоторое время отступила, а человечество получило бутербр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84978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ерброды относя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 холодным  блюда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можно подать к завтраку, полднику, ужину – к чаю, кофе и т.д.Незаменимы они в походе, на пикнике, на экскур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562788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79280" y="980640"/>
            <a:ext cx="53294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cccc"/>
                </a:solidFill>
                <a:latin typeface="Arial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еб занимает основное место  в питании  человека.  Основным продуктом для приготовления бутербродов  служит  ржаной и пшеничный хлеб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иготовления бутербродов  с острыми или жирными продуктами лучше использовать ржаной хлеб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ерброды с колбасой, сыром, молочными и сладкими продуктами обычно готовят на пшеничном хлеб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Бутерброды «Витаминные»"/>
          <p:cNvPicPr/>
          <p:nvPr/>
        </p:nvPicPr>
        <p:blipFill>
          <a:blip r:embed="rId1"/>
          <a:stretch/>
        </p:blipFill>
        <p:spPr>
          <a:xfrm>
            <a:off x="5219640" y="1916280"/>
            <a:ext cx="3673440" cy="3098520"/>
          </a:xfrm>
          <a:prstGeom prst="rect">
            <a:avLst/>
          </a:prstGeom>
          <a:ln w="0">
            <a:noFill/>
          </a:ln>
        </p:spPr>
      </p:pic>
      <p:sp>
        <p:nvSpPr>
          <p:cNvPr id="53" name="WordArt 9"/>
          <p:cNvSpPr txBox="1"/>
          <p:nvPr/>
        </p:nvSpPr>
        <p:spPr>
          <a:xfrm>
            <a:off x="1908000" y="549360"/>
            <a:ext cx="5286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еб всему го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ерброды могут быть разнообразной фор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лой, квадратной, в виде ромбиков, цветочков и так далее, для этого можно использовать формочки для печен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статков хлеба можно приготовить вкусные сухарики,  кондитерские издел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324000" y="3573360"/>
            <a:ext cx="4319280" cy="3025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4643280" y="3716280"/>
            <a:ext cx="424980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8435880" cy="489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пособу приготовления бутерброды делятся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лодные и горяч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  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терб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cccc"/>
                </a:solidFill>
                <a:latin typeface="Arial"/>
              </a:rPr>
              <a:t>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cccc"/>
                </a:solidFill>
                <a:latin typeface="Arial"/>
              </a:rPr>
              <a:t>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крытые </a:t>
            </a:r>
            <a:r>
              <a:rPr b="1" i="1" lang="ru-RU" sz="2400" spc="-1" strike="noStrike">
                <a:solidFill>
                  <a:srgbClr val="33cccc"/>
                </a:solidFill>
                <a:latin typeface="Arial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крытые         кана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стые     слож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cccc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cccc"/>
                </a:solidFill>
                <a:latin typeface="Arial"/>
              </a:rPr>
              <a:t>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3348000" y="2421000"/>
            <a:ext cx="2087640" cy="358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1619280" y="3284640"/>
            <a:ext cx="194292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6300720" y="3286080"/>
            <a:ext cx="1986120" cy="358920"/>
          </a:xfrm>
          <a:prstGeom prst="rect">
            <a:avLst/>
          </a:prstGeom>
          <a:solidFill>
            <a:srgbClr val="ffff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кусо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3995640" y="3284640"/>
            <a:ext cx="17985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3"/>
          <p:cNvSpPr/>
          <p:nvPr/>
        </p:nvSpPr>
        <p:spPr>
          <a:xfrm flipH="1">
            <a:off x="2627280" y="2781360"/>
            <a:ext cx="7207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4"/>
          <p:cNvSpPr/>
          <p:nvPr/>
        </p:nvSpPr>
        <p:spPr>
          <a:xfrm>
            <a:off x="4643280" y="27813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5"/>
          <p:cNvSpPr/>
          <p:nvPr/>
        </p:nvSpPr>
        <p:spPr>
          <a:xfrm>
            <a:off x="5435640" y="2781360"/>
            <a:ext cx="14414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6500880" y="4000680"/>
            <a:ext cx="1727280" cy="928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на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арти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ул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4214880" y="4000680"/>
            <a:ext cx="1785960" cy="1714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анд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избург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амбург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от-д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утебро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ор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2214720" y="4000680"/>
            <a:ext cx="165564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468360" y="4005360"/>
            <a:ext cx="165564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1"/>
          <p:cNvSpPr/>
          <p:nvPr/>
        </p:nvSpPr>
        <p:spPr>
          <a:xfrm flipH="1">
            <a:off x="1258560" y="36450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2"/>
          <p:cNvSpPr/>
          <p:nvPr/>
        </p:nvSpPr>
        <p:spPr>
          <a:xfrm>
            <a:off x="2643120" y="3643200"/>
            <a:ext cx="503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5"/>
          <p:cNvSpPr txBox="1"/>
          <p:nvPr/>
        </p:nvSpPr>
        <p:spPr>
          <a:xfrm>
            <a:off x="1763640" y="274680"/>
            <a:ext cx="5545080" cy="70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Овал 17"/>
          <p:cNvSpPr/>
          <p:nvPr/>
        </p:nvSpPr>
        <p:spPr>
          <a:xfrm>
            <a:off x="1403280" y="189000"/>
            <a:ext cx="6697800" cy="1008000"/>
          </a:xfrm>
          <a:prstGeom prst="ellipse">
            <a:avLst/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бутербр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356000" y="1628640"/>
            <a:ext cx="46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крытые бутерб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стые                  слож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стые открытые бутербр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товят  с  одним кусочком хлеб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одним продук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ожные открытые бутерброды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товят  с  одним кусочком хлеб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несколькими продук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Бутерброды мясные"/>
          <p:cNvPicPr/>
          <p:nvPr/>
        </p:nvPicPr>
        <p:blipFill>
          <a:blip r:embed="rId1"/>
          <a:stretch/>
        </p:blipFill>
        <p:spPr>
          <a:xfrm>
            <a:off x="0" y="189000"/>
            <a:ext cx="4541760" cy="2581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Бутерброды «Ассорти рыбное»"/>
          <p:cNvPicPr/>
          <p:nvPr/>
        </p:nvPicPr>
        <p:blipFill>
          <a:blip r:embed="rId2"/>
          <a:stretch/>
        </p:blipFill>
        <p:spPr>
          <a:xfrm>
            <a:off x="0" y="2924280"/>
            <a:ext cx="4264200" cy="2421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1"/>
          <p:cNvSpPr/>
          <p:nvPr/>
        </p:nvSpPr>
        <p:spPr>
          <a:xfrm>
            <a:off x="4932360" y="1700280"/>
            <a:ext cx="3600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2"/>
          <p:cNvSpPr/>
          <p:nvPr/>
        </p:nvSpPr>
        <p:spPr>
          <a:xfrm>
            <a:off x="4572000" y="2565360"/>
            <a:ext cx="1295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3"/>
          <p:cNvSpPr/>
          <p:nvPr/>
        </p:nvSpPr>
        <p:spPr>
          <a:xfrm>
            <a:off x="6948360" y="2565360"/>
            <a:ext cx="12970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4"/>
          <p:cNvSpPr/>
          <p:nvPr/>
        </p:nvSpPr>
        <p:spPr>
          <a:xfrm flipH="1">
            <a:off x="5435280" y="2060640"/>
            <a:ext cx="6490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5"/>
          <p:cNvSpPr/>
          <p:nvPr/>
        </p:nvSpPr>
        <p:spPr>
          <a:xfrm>
            <a:off x="7020000" y="2060640"/>
            <a:ext cx="7207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ытые бутербр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35280" y="1557360"/>
            <a:ext cx="460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рытые бутербро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готавливают с дву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более ломтиками хле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жду которыми наход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у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ие бутерброды готовя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лько с твердыми продук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539640" y="2565360"/>
            <a:ext cx="3600720" cy="230364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157320" y="2205000"/>
            <a:ext cx="433836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03:42:31Z</dcterms:created>
  <dc:creator>ADMIN</dc:creator>
  <dc:description/>
  <dc:language>en-US</dc:language>
  <cp:lastModifiedBy>medicina Ольга Александровна Сыркина</cp:lastModifiedBy>
  <dcterms:modified xsi:type="dcterms:W3CDTF">2020-09-10T14:10:19Z</dcterms:modified>
  <cp:revision>37</cp:revision>
  <dc:subject/>
  <dc:title>Слайд 1</dc:title>
</cp:coreProperties>
</file>