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0D4-1625-4A7A-9C44-4AA8DEAA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200-C38A-4A94-BD78-E1771B36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AD1-1C5C-43BB-98DC-C94BD181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585-84F3-4404-90A8-C764AE2F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8F4-8110-497C-B31D-08062D66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700-5309-44AF-9DCF-C2E9A35F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195-DFBC-4D4C-B6AE-A489659E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BA6-7AA3-47FD-9542-192B0B30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533-0864-401F-BEF7-F2685972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2F7-3657-4FDE-955B-0F2835A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2E5-15C0-4C4B-9068-A9145B7F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B3E-416E-41E0-A117-CB442D69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BB83-0397-4E0F-B52E-1E48E1CCB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189000"/>
            <a:ext cx="820908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ние. Бутерброды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547640" y="476280"/>
            <a:ext cx="59850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6696000" cy="4324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117880" y="571032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-дефект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алина Татьяна Ю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БОУ школа-интернат №1 им. К.К. Грот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усочные бутерброды (канап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6920" y="1844280"/>
            <a:ext cx="493236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напе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малень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тербродики  разм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х3см.  Хлеб и  продукты дл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апе  вырезают раз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гурками острым нож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очками  для  печен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бирают по цвету и вкус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затем скалываю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очк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 или специальными шпаж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225360" y="4437000"/>
            <a:ext cx="3625920" cy="165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456000" cy="2374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2"/>
          <p:cNvSpPr/>
          <p:nvPr/>
        </p:nvSpPr>
        <p:spPr>
          <a:xfrm>
            <a:off x="539640" y="4437000"/>
            <a:ext cx="331164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и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3280" y="141300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ригото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ячих бутербродов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жаривают или вмес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леба можно использ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ладкое песочное т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ячие бутерброды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готовить в микровол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 печи или выпек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хо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29912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- рул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лет с мясом, колбасой и овощ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 РЕЦЕП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 батона отрежьте концы, извлеките мякиш. Копчености, сыр, яйца, перец и помидоры мелко нарежь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 разотрите  с  хреном,  горчицей и соедините с нарезанными продуктами, посолите. По желанию добавьте мякиш батона, нарезанный кубиками. Наполните батон полученной смесью и охладите, чтобы наполнитель затверд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подачей нарежьте лом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Бутерброд-рулет с мясом и сыром"/>
          <p:cNvPicPr/>
          <p:nvPr/>
        </p:nvPicPr>
        <p:blipFill>
          <a:blip r:embed="rId1"/>
          <a:stretch/>
        </p:blipFill>
        <p:spPr>
          <a:xfrm>
            <a:off x="179280" y="1413000"/>
            <a:ext cx="3810240" cy="204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Бутерброд-рулет с семгой"/>
          <p:cNvPicPr/>
          <p:nvPr/>
        </p:nvPicPr>
        <p:blipFill>
          <a:blip r:embed="rId2"/>
          <a:stretch/>
        </p:blipFill>
        <p:spPr>
          <a:xfrm>
            <a:off x="250920" y="357336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дают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подают на тарелке, располагая их в один ря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е канапе протык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очками-шпажками, с помощью которых берут бутербро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Крекеры с крабовым мясом"/>
          <p:cNvPicPr/>
          <p:nvPr/>
        </p:nvPicPr>
        <p:blipFill>
          <a:blip r:embed="rId1"/>
          <a:stretch/>
        </p:blipFill>
        <p:spPr>
          <a:xfrm>
            <a:off x="539640" y="1341360"/>
            <a:ext cx="3527640" cy="206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5276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качеству готовы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7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должны быть приготовлены непосредственно перед подачей на ст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, входящие в состав бутербродов должны быть свежи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 хлеба для открыт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ов – 1 - 1,5см, для канапе и закрытых бутербродов – 0,5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должны пол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вать бутерброд, но не свисать с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Полосатый бутерброд с овощами"/>
          <p:cNvPicPr/>
          <p:nvPr/>
        </p:nvPicPr>
        <p:blipFill>
          <a:blip r:embed="rId1"/>
          <a:stretch/>
        </p:blipFill>
        <p:spPr>
          <a:xfrm>
            <a:off x="250920" y="1125360"/>
            <a:ext cx="2949480" cy="172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Хлебные корзиночки"/>
          <p:cNvPicPr/>
          <p:nvPr/>
        </p:nvPicPr>
        <p:blipFill>
          <a:blip r:embed="rId2"/>
          <a:stretch/>
        </p:blipFill>
        <p:spPr>
          <a:xfrm>
            <a:off x="250920" y="2997360"/>
            <a:ext cx="3009960" cy="17636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1"/>
          <p:cNvSpPr/>
          <p:nvPr/>
        </p:nvSpPr>
        <p:spPr>
          <a:xfrm>
            <a:off x="3492360" y="1989000"/>
            <a:ext cx="189000" cy="216000"/>
          </a:xfrm>
          <a:custGeom>
            <a:avLst/>
            <a:gdLst/>
            <a:ahLst/>
            <a:rect l="l" t="t" r="r" b="b"/>
            <a:pathLst>
              <a:path w="188913" h="215900">
                <a:moveTo>
                  <a:pt x="0" y="82466"/>
                </a:moveTo>
                <a:lnTo>
                  <a:pt x="72159" y="82467"/>
                </a:lnTo>
                <a:lnTo>
                  <a:pt x="94457" y="0"/>
                </a:lnTo>
                <a:lnTo>
                  <a:pt x="116754" y="82467"/>
                </a:lnTo>
                <a:lnTo>
                  <a:pt x="188913" y="82466"/>
                </a:lnTo>
                <a:lnTo>
                  <a:pt x="130535" y="133433"/>
                </a:lnTo>
                <a:lnTo>
                  <a:pt x="152834" y="215899"/>
                </a:lnTo>
                <a:lnTo>
                  <a:pt x="94457" y="164932"/>
                </a:lnTo>
                <a:lnTo>
                  <a:pt x="36079" y="215899"/>
                </a:lnTo>
                <a:lnTo>
                  <a:pt x="5837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3419640" y="2997360"/>
            <a:ext cx="217440" cy="287280"/>
          </a:xfrm>
          <a:custGeom>
            <a:avLst/>
            <a:gdLst/>
            <a:ahLst/>
            <a:rect l="l" t="t" r="r" b="b"/>
            <a:pathLst>
              <a:path w="217488" h="287338">
                <a:moveTo>
                  <a:pt x="0" y="109753"/>
                </a:moveTo>
                <a:lnTo>
                  <a:pt x="83073" y="109754"/>
                </a:lnTo>
                <a:lnTo>
                  <a:pt x="108744" y="0"/>
                </a:lnTo>
                <a:lnTo>
                  <a:pt x="134415" y="109754"/>
                </a:lnTo>
                <a:lnTo>
                  <a:pt x="217488" y="109753"/>
                </a:lnTo>
                <a:lnTo>
                  <a:pt x="150280" y="177584"/>
                </a:lnTo>
                <a:lnTo>
                  <a:pt x="175951" y="287337"/>
                </a:lnTo>
                <a:lnTo>
                  <a:pt x="108744" y="219505"/>
                </a:lnTo>
                <a:lnTo>
                  <a:pt x="41537" y="287337"/>
                </a:lnTo>
                <a:lnTo>
                  <a:pt x="67208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3492360" y="3860640"/>
            <a:ext cx="216000" cy="360360"/>
          </a:xfrm>
          <a:custGeom>
            <a:avLst/>
            <a:gdLst/>
            <a:ahLst/>
            <a:rect l="l" t="t" r="r" b="b"/>
            <a:pathLst>
              <a:path w="215900" h="360363">
                <a:moveTo>
                  <a:pt x="0" y="137646"/>
                </a:moveTo>
                <a:lnTo>
                  <a:pt x="82467" y="137647"/>
                </a:lnTo>
                <a:lnTo>
                  <a:pt x="107950" y="0"/>
                </a:lnTo>
                <a:lnTo>
                  <a:pt x="133433" y="137647"/>
                </a:lnTo>
                <a:lnTo>
                  <a:pt x="215900" y="137646"/>
                </a:lnTo>
                <a:lnTo>
                  <a:pt x="149182" y="222716"/>
                </a:lnTo>
                <a:lnTo>
                  <a:pt x="174667" y="360362"/>
                </a:lnTo>
                <a:lnTo>
                  <a:pt x="107950" y="275291"/>
                </a:lnTo>
                <a:lnTo>
                  <a:pt x="41233" y="360362"/>
                </a:lnTo>
                <a:lnTo>
                  <a:pt x="66718" y="222716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3348000" y="5300640"/>
            <a:ext cx="279360" cy="279360"/>
          </a:xfrm>
          <a:custGeom>
            <a:avLst/>
            <a:gdLst/>
            <a:ahLst/>
            <a:rect l="l" t="t" r="r" b="b"/>
            <a:pathLst>
              <a:path w="279400" h="279400">
                <a:moveTo>
                  <a:pt x="0" y="106721"/>
                </a:moveTo>
                <a:lnTo>
                  <a:pt x="106722" y="106722"/>
                </a:lnTo>
                <a:lnTo>
                  <a:pt x="139700" y="0"/>
                </a:lnTo>
                <a:lnTo>
                  <a:pt x="172678" y="106722"/>
                </a:lnTo>
                <a:lnTo>
                  <a:pt x="279400" y="106721"/>
                </a:lnTo>
                <a:lnTo>
                  <a:pt x="193060" y="172678"/>
                </a:lnTo>
                <a:lnTo>
                  <a:pt x="226039" y="279399"/>
                </a:lnTo>
                <a:lnTo>
                  <a:pt x="139700" y="213441"/>
                </a:lnTo>
                <a:lnTo>
                  <a:pt x="53361" y="279399"/>
                </a:lnTo>
                <a:lnTo>
                  <a:pt x="86340" y="172678"/>
                </a:lnTo>
                <a:lnTo>
                  <a:pt x="0" y="10672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6560" y="3933360"/>
            <a:ext cx="799308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ие виды бутербродов вы запомн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ить на 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одукты можно использовать для приготовления бутербродов и где их хран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историей возникновения бутерброд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знания о видах бутерброд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качества готовых бутербр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 был изобретен 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. Изобретателем его является не кто-нибудь, 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Коперн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 не странно изобретен он был в медицинских целях.  Во время эпидемии неизвестной боле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ерник заметил, что болели лишь те, кто ел хлеб. Коперник выяснил, что во время осады, оборонявшиеся часто роняли свой кусок хлеба на пол, поднимали его, отряхивали  мусор и … съедали.  На поверхности хлеба грязи не было видно, и Копернику пришла мысль, что хлеб надо смазать маслом, на нем легче определить загрязненность. Если загрязнение было видно, его счищали вместе с маслом. Болезнь через некоторое время отступила, а человечество получило бутерб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холодным  блюд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можно подать к завтраку, полднику, ужину – к чаю, кофе и т.д.Незаменимы они в походе, на пикнике, на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62788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532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cccc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занимает основное место  в питании  человека.  Основным продуктом для приготовления бутербродов  служит  ржаной и пшеничный хлеб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бутербродов  с острыми или жирными продуктами лучше использовать ржаной хлеб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с колбасой, сыром, молочными и сладкими продуктами обычно готовят на пшеничном хле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Бутерброды «Витаминные»"/>
          <p:cNvPicPr/>
          <p:nvPr/>
        </p:nvPicPr>
        <p:blipFill>
          <a:blip r:embed="rId1"/>
          <a:stretch/>
        </p:blipFill>
        <p:spPr>
          <a:xfrm>
            <a:off x="5219640" y="1916280"/>
            <a:ext cx="3673440" cy="309852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1908000" y="549360"/>
            <a:ext cx="5286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всему го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могут быть разнообразной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й, квадратной, в виде ромбиков, цветочков и так далее, для этого можно использовать формочки для пече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статков хлеба можно приготовить вкусные сухарики,  кондитерские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4319280" cy="302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2498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358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приготовления бутерброды делятс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е и горя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терб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крытые </a:t>
            </a: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рытые         кан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стые     с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cc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348000" y="2421000"/>
            <a:ext cx="2087640" cy="35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619280" y="3284640"/>
            <a:ext cx="194292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6300720" y="3286080"/>
            <a:ext cx="1986120" cy="358920"/>
          </a:xfrm>
          <a:prstGeom prst="rect">
            <a:avLst/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ус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3995640" y="3284640"/>
            <a:ext cx="17985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 flipH="1">
            <a:off x="2627280" y="278136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4643280" y="2781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5435640" y="2781360"/>
            <a:ext cx="1441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6500880" y="4000680"/>
            <a:ext cx="1727280" cy="92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на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л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4214880" y="4000680"/>
            <a:ext cx="1785960" cy="171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нд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збур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мбур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т-д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тебр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2214720" y="4000680"/>
            <a:ext cx="165564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468360" y="4005360"/>
            <a:ext cx="165564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1"/>
          <p:cNvSpPr/>
          <p:nvPr/>
        </p:nvSpPr>
        <p:spPr>
          <a:xfrm flipH="1">
            <a:off x="1258560" y="3645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2643120" y="364320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763640" y="274680"/>
            <a:ext cx="554508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Овал 17"/>
          <p:cNvSpPr/>
          <p:nvPr/>
        </p:nvSpPr>
        <p:spPr>
          <a:xfrm>
            <a:off x="1403280" y="189000"/>
            <a:ext cx="6697800" cy="1008000"/>
          </a:xfrm>
          <a:prstGeom prst="ellipse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бутерб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56000" y="162864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ые бутерб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ые                  сло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ые открытые бутерб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ят  с  одним кусочком хле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дним проду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ные открытые бутерброд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ят  с  одним кусочком хле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сколькими проду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Бутерброды мясные"/>
          <p:cNvPicPr/>
          <p:nvPr/>
        </p:nvPicPr>
        <p:blipFill>
          <a:blip r:embed="rId1"/>
          <a:stretch/>
        </p:blipFill>
        <p:spPr>
          <a:xfrm>
            <a:off x="0" y="189000"/>
            <a:ext cx="4541760" cy="2581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Бутерброды «Ассорти рыбное»"/>
          <p:cNvPicPr/>
          <p:nvPr/>
        </p:nvPicPr>
        <p:blipFill>
          <a:blip r:embed="rId2"/>
          <a:stretch/>
        </p:blipFill>
        <p:spPr>
          <a:xfrm>
            <a:off x="0" y="2924280"/>
            <a:ext cx="4264200" cy="2421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1"/>
          <p:cNvSpPr/>
          <p:nvPr/>
        </p:nvSpPr>
        <p:spPr>
          <a:xfrm>
            <a:off x="4932360" y="1700280"/>
            <a:ext cx="360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4572000" y="2565360"/>
            <a:ext cx="1295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6948360" y="2565360"/>
            <a:ext cx="12970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5435280" y="2060640"/>
            <a:ext cx="64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7020000" y="206064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35280" y="155736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ытые бутербр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готавливают с дву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олее ломтиками хл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которыми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е бутерброды готов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с твердыми продук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539640" y="2565360"/>
            <a:ext cx="3600720" cy="230364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57320" y="2205000"/>
            <a:ext cx="43383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42:31Z</dcterms:created>
  <dc:creator>ADMIN</dc:creator>
  <dc:description/>
  <dc:language>en-US</dc:language>
  <cp:lastModifiedBy>medicina Ольга Александровна Сыркина</cp:lastModifiedBy>
  <dcterms:modified xsi:type="dcterms:W3CDTF">2020-09-10T14:10:19Z</dcterms:modified>
  <cp:revision>37</cp:revision>
  <dc:subject/>
  <dc:title>Слайд 1</dc:title>
</cp:coreProperties>
</file>