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36.gif" ContentType="image/gif"/>
  <Override PartName="/ppt/media/image28.jpeg" ContentType="image/jpeg"/>
  <Override PartName="/ppt/media/image20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1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5.gif" ContentType="image/gif"/>
  <Override PartName="/ppt/media/image34.jpeg" ContentType="image/jpeg"/>
  <Override PartName="/ppt/media/image44.gif" ContentType="image/gif"/>
  <Override PartName="/ppt/media/image39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800-D877-4FEA-83E4-938F59B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D17-8E9F-4C7D-9628-CC6A38A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E30-DD36-4ABF-8A23-FE82280D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7C5-937F-47F8-861E-B105BD7B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81778-3C07-4D40-AA97-A97D7DCE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093AD-6B15-43B9-8B25-6EE7FCDF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D5D08-8F1A-4CFC-B40E-143A2C1C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965F-8A87-49B9-AE42-CF838AD1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033EB-0D82-465D-85AD-011804E2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25092-F692-4084-9CFD-E6689C5A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014C0-B544-4C26-95D7-55E81FA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A5B-4676-4869-94BF-02340FD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4F35B-20F1-4C61-B586-3D4BC873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17F6F-CA5C-4953-B680-7A956FF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8115D-F535-4CEE-AD75-ECD505E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D7992-6C45-4133-83FF-71C0F6F4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F33E1-27E0-4A8B-B96C-784AAFCE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1C4-432C-4B28-A5E9-AC2976A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F91-75D1-4815-B7A8-7CA5C32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092-0854-4050-A3AA-8AAF684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C62-212B-4357-97DD-3A76DF8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2E0-7D21-4B90-9404-87A60D6D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E09-B5FB-4277-9184-6C17272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3C4-B7A4-4578-B0A9-CAA892E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1D69-4973-4074-8911-26A55F102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DC0-DE40-4FBA-8216-9D28F111A6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live4fun.ru/pictures/img_4442563_452_3.jp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2421000"/>
            <a:ext cx="7056360" cy="1922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Плавание животных и  челове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C:\мама\Мои рисунки\аниме рыбы, птицы\sea61.gif"/>
          <p:cNvPicPr/>
          <p:nvPr/>
        </p:nvPicPr>
        <p:blipFill>
          <a:blip r:embed="rId1"/>
          <a:stretch/>
        </p:blipFill>
        <p:spPr>
          <a:xfrm>
            <a:off x="826920" y="5516640"/>
            <a:ext cx="95256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:\Documents and Settings\Aida\Рабочий стол\НОвая ГРАФИКА сборник\КАРТИНКИ СБОРНИК_ школьные\vi12.gif"/>
          <p:cNvPicPr/>
          <p:nvPr/>
        </p:nvPicPr>
        <p:blipFill>
          <a:blip r:embed="rId2"/>
          <a:stretch/>
        </p:blipFill>
        <p:spPr>
          <a:xfrm flipH="1" rot="786600">
            <a:off x="7451640" y="5949720"/>
            <a:ext cx="608040" cy="37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:\Documents and Settings\Aida\Рабочий стол\НОвая ГРАФИКА сборник\КАРТИНКИ СБОРНИК_ школьные\vi12.gif"/>
          <p:cNvPicPr/>
          <p:nvPr/>
        </p:nvPicPr>
        <p:blipFill>
          <a:blip r:embed="rId3"/>
          <a:stretch/>
        </p:blipFill>
        <p:spPr>
          <a:xfrm flipH="1" rot="786600">
            <a:off x="395280" y="3428640"/>
            <a:ext cx="608040" cy="37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мама\Мои рисунки\аниме рыбы, птицы\sea20.gif"/>
          <p:cNvPicPr/>
          <p:nvPr/>
        </p:nvPicPr>
        <p:blipFill>
          <a:blip r:embed="rId4"/>
          <a:stretch/>
        </p:blipFill>
        <p:spPr>
          <a:xfrm flipH="1">
            <a:off x="2411280" y="6093000"/>
            <a:ext cx="571680" cy="41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sea6"/>
          <p:cNvPicPr/>
          <p:nvPr/>
        </p:nvPicPr>
        <p:blipFill>
          <a:blip r:embed="rId5"/>
          <a:stretch/>
        </p:blipFill>
        <p:spPr>
          <a:xfrm>
            <a:off x="5651640" y="4508640"/>
            <a:ext cx="590400" cy="48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sea3"/>
          <p:cNvPicPr/>
          <p:nvPr/>
        </p:nvPicPr>
        <p:blipFill>
          <a:blip r:embed="rId6"/>
          <a:stretch/>
        </p:blipFill>
        <p:spPr>
          <a:xfrm rot="812400">
            <a:off x="7524360" y="4149360"/>
            <a:ext cx="1165320" cy="60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sea19"/>
          <p:cNvPicPr/>
          <p:nvPr/>
        </p:nvPicPr>
        <p:blipFill>
          <a:blip r:embed="rId7"/>
          <a:stretch/>
        </p:blipFill>
        <p:spPr>
          <a:xfrm rot="20620800">
            <a:off x="826920" y="4149360"/>
            <a:ext cx="828720" cy="62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8"/>
          <a:stretch/>
        </p:blipFill>
        <p:spPr>
          <a:xfrm>
            <a:off x="1763640" y="3573360"/>
            <a:ext cx="609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сятидневный человеческий эмбрион содержит воды 95%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оворожденный 72%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зрослый человек в среднем 6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Плавание челове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Содержимое 6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21480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2"/>
          <a:stretch/>
        </p:blipFill>
        <p:spPr>
          <a:xfrm>
            <a:off x="4357800" y="1500120"/>
            <a:ext cx="4143240" cy="2928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3"/>
          <a:stretch/>
        </p:blipFill>
        <p:spPr>
          <a:xfrm>
            <a:off x="2500200" y="4714920"/>
            <a:ext cx="5940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Картинка 11 из 76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3360"/>
            <a:ext cx="38512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4388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Мертвое море(солёное озеро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ивр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-Ям ha-мэлах — «Море сол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араб </a:t>
            </a:r>
            <a:r>
              <a:rPr b="0" lang="hi-IN" sz="2800" spc="-1" strike="noStrike">
                <a:solidFill>
                  <a:srgbClr val="ffcc00"/>
                </a:solidFill>
                <a:latin typeface="Tahoma"/>
                <a:ea typeface="Mangal"/>
              </a:rPr>
              <a:t>’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Mangal"/>
              </a:rPr>
              <a:t>Аль-Бахр Аль-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Маййит — «Мёртвое море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акже Асфальтовое море, Содомское мо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4284720" y="119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держит более 27% сол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4149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бережье озера является самым низким участком суши на Земле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ёртвое море это один из самых солёных водоемов на Земле, солёность достигает 33,7%. Длина моря 67 км, ширина 18 км в самом широком месте, максимальная глубина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78м.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800"/>
            </a:b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88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0" y="18864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074b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ртвом море</a:t>
            </a:r>
            <a:r>
              <a:rPr b="1" lang="ru-RU" sz="2400" spc="-1" strike="noStrike">
                <a:solidFill>
                  <a:srgbClr val="1f074b"/>
                </a:solidFill>
                <a:latin typeface="Tahoma"/>
              </a:rPr>
              <a:t> за счет большого количества растворенных солей (более 27% по весу) плотность воды достигает 1,16 г/см3. Купаясь в этом море, человек очень мало погружается в воду, находясь как бы на поверхности, поскольку средняя плотность тела человека меньше плотности во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Содержимое 5" descr=""/>
          <p:cNvPicPr/>
          <p:nvPr/>
        </p:nvPicPr>
        <p:blipFill>
          <a:blip r:embed="rId1"/>
          <a:stretch/>
        </p:blipFill>
        <p:spPr>
          <a:xfrm>
            <a:off x="324000" y="1181160"/>
            <a:ext cx="3456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В нашей стране ещё более высокая плотность воды наблюдаетс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274644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проливе Кара – Богаз – Гол на Касп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826920" y="1916280"/>
            <a:ext cx="18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озере Эльт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Первая помощь утопающем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539640" y="54450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D:\Семейная\Ирина\Анимашки\плавание 3gif"/>
          <p:cNvPicPr/>
          <p:nvPr/>
        </p:nvPicPr>
        <p:blipFill>
          <a:blip r:embed="rId2"/>
          <a:stretch/>
        </p:blipFill>
        <p:spPr>
          <a:xfrm>
            <a:off x="6381720" y="5516640"/>
            <a:ext cx="2762280" cy="67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:\Семейная\Ирина\Анимашки\плавание 1 gif"/>
          <p:cNvPicPr/>
          <p:nvPr/>
        </p:nvPicPr>
        <p:blipFill>
          <a:blip r:embed="rId3"/>
          <a:stretch/>
        </p:blipFill>
        <p:spPr>
          <a:xfrm>
            <a:off x="684360" y="1916280"/>
            <a:ext cx="2143080" cy="13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2700360" y="2133720"/>
            <a:ext cx="43909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Действия по спасению утопающе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985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мните, что при оказании помощи утопающему, вы имеете дело с потенциально опасным субъектом. Страх перед смертью заставляет утопающего совершать неконтролируемые действия, которые могут быть опасны для спасател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к для спасателя и утопающего можно снизить, если запастись специальным оборудованием: спасательным кругом или спасательным жилетом. Но даже находясь в лодке, постарайтесь подплывать к утопающему носом лодки или кормой. Если подплывете бортом, есть риск, что утопающий при попытке спастись перевернет лод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блюдение правил безопасности спасателя сохранит ему жизнь и здоровье, и поможет спасти попавшего в беду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7194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ЦЕЛЬ РАБОТЫ:ВЫЯСНИТЬ УСЛОВИЯ ПЛАВАНИЯ ЖИВОТНЫХ  И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4643280" y="386064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333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4388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Алгоритм оказания помощи тонущему человеку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кратить поступление воды в дыхательные пу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 достигается путем извлечения головы пострадавшего из-под воды. Для этого пострадавшего переворачивают на спину, голову запрокидывают так, чтобы рот и нос были над поверхностью вод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62560" y="-360"/>
            <a:ext cx="46814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можно быстрее доставить пострадавшего на судно или берег. В процессе транспортировки пострадавшего по воде, следует по возможности начать проводить искусственное дыхание «изо рта в рот» или «изо рта в нос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вободить дыхательные пути. Если во рту есть водоросли, песок, слюна, пена и т. п., пальцем, обернутым носовым платком или полотенцем, освободите рот от содержим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781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Дренажное положение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ернуть пострадавшего на живо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поднять таз пострадавшего так, чтобы он оказался выше головы. Подсунуть под таз свое коле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ками обхватить пострадавшего в области верхней части живота и слегка сдавить. При этом изо рта пострадавшего может политься вода. Это вода, выходящая из желудка, поэтому не стоит тратить время на её выдавливание. К моменту начала оказания помощи пострадавшему на берегу, воды в легких уже, как правило, нет. Вода, попавшая в легкие, всасывается в кровь уже через три минуты после того, как прекращает туда поступат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7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Соблюдайт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Правила поведения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на воде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1908000" y="3716280"/>
            <a:ext cx="463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43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Tahoma"/>
              </a:rPr>
              <a:t>Почему животные могут плавать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отность водной среды почти не уступает плотности тел обитающих в ней животн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быстро двигаться в воде, животное должно иметь обтекаемую 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агодаря сопротивлению воды лёгкого движения хвоста достаточно, чтобы стремительно ринуться вперё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Различают активное и пассивное пла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4000" spc="-1" strike="noStrike" u="sng">
                <a:solidFill>
                  <a:srgbClr val="010199"/>
                </a:solidFill>
                <a:uFillTx/>
                <a:latin typeface="Monotype Corsiva"/>
              </a:rPr>
              <a:t>Активное плав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Животные передвигаются  с помощью имеющихся у них гребных орга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1762200" cy="15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208584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4716360" y="5084640"/>
            <a:ext cx="2000520" cy="133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56167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стейш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рганизмы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ередвигаются с помощью жгутиков или ресничек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посредством волнообразных изгибаний тела или используют непарные плавн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70496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6227640" y="5661000"/>
            <a:ext cx="27338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2340000" y="5300640"/>
            <a:ext cx="1641600" cy="927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232236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525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ередвигаются в результате периодических выталкиваний во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2700360" y="4724280"/>
            <a:ext cx="295272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1419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0199"/>
                </a:solidFill>
                <a:latin typeface="Monotype Corsiva"/>
              </a:rPr>
              <a:t>Пассивное 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сто увлекаются движущейся водой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8" descr="Безымянный"/>
          <p:cNvPicPr/>
          <p:nvPr/>
        </p:nvPicPr>
        <p:blipFill>
          <a:blip r:embed="rId1"/>
          <a:stretch/>
        </p:blipFill>
        <p:spPr>
          <a:xfrm>
            <a:off x="1042920" y="4149720"/>
            <a:ext cx="1325520" cy="2160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14" name="Picture 17" descr="dedushka"/>
          <p:cNvPicPr/>
          <p:nvPr/>
        </p:nvPicPr>
        <p:blipFill>
          <a:blip r:embed="rId2"/>
          <a:stretch/>
        </p:blipFill>
        <p:spPr>
          <a:xfrm>
            <a:off x="4356000" y="4076640"/>
            <a:ext cx="2808360" cy="21160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15" name="Picture 13" descr="4"/>
          <p:cNvPicPr/>
          <p:nvPr/>
        </p:nvPicPr>
        <p:blipFill>
          <a:blip r:embed="rId3"/>
          <a:stretch/>
        </p:blipFill>
        <p:spPr>
          <a:xfrm>
            <a:off x="7164360" y="260280"/>
            <a:ext cx="1758960" cy="23749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КУЛЫ И СКУМБРИИ ПЛАВАЮТ СО СКОРОСТЬЮ 20 КМ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Ч И ВЫШ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2572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1728720" cy="1368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67280" y="1628280"/>
            <a:ext cx="30304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Летучие рыбы разгоняются до  скорости 65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М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еч – рыба развивает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корость до 130 КМ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Ч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17008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376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2:28:32Z</dcterms:created>
  <dc:creator>Макс</dc:creator>
  <dc:description/>
  <dc:language>en-US</dc:language>
  <cp:lastModifiedBy>1</cp:lastModifiedBy>
  <dcterms:modified xsi:type="dcterms:W3CDTF">2020-09-10T08:13:08Z</dcterms:modified>
  <cp:revision>72</cp:revision>
  <dc:subject/>
  <dc:title>Слайд 1</dc:title>
</cp:coreProperties>
</file>