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5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6.gif" ContentType="image/gif"/>
  <Override PartName="/ppt/media/image36.gif" ContentType="image/gif"/>
  <Override PartName="/ppt/media/image28.jpeg" ContentType="image/jpeg"/>
  <Override PartName="/ppt/media/image20.png" ContentType="image/png"/>
  <Override PartName="/ppt/media/image19.jpeg" ContentType="image/jpeg"/>
  <Override PartName="/ppt/media/image2.gif" ContentType="image/gif"/>
  <Override PartName="/ppt/media/image4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1.jpeg" ContentType="image/jpeg"/>
  <Override PartName="/ppt/media/image9.jpeg" ContentType="image/jpeg"/>
  <Override PartName="/ppt/media/image30.png" ContentType="image/png"/>
  <Override PartName="/ppt/media/image10.jpeg" ContentType="image/jpeg"/>
  <Override PartName="/ppt/media/image31.jpeg" ContentType="image/jpeg"/>
  <Override PartName="/ppt/media/image32.jpeg" ContentType="image/jpeg"/>
  <Override PartName="/ppt/media/image26.jpeg" ContentType="image/jpeg"/>
  <Override PartName="/ppt/media/image40.jpeg" ContentType="image/jpeg"/>
  <Override PartName="/ppt/media/image13.jpeg" ContentType="image/jpeg"/>
  <Override PartName="/ppt/media/image33.png" ContentType="image/png"/>
  <Override PartName="/ppt/media/image5.gif" ContentType="image/gif"/>
  <Override PartName="/ppt/media/image34.jpeg" ContentType="image/jpeg"/>
  <Override PartName="/ppt/media/image44.gif" ContentType="image/gif"/>
  <Override PartName="/ppt/media/image39.jpeg" ContentType="image/jpeg"/>
  <Override PartName="/ppt/media/image14.jpeg" ContentType="image/jpeg"/>
  <Override PartName="/ppt/media/image41.jpeg" ContentType="image/jpeg"/>
  <Override PartName="/ppt/media/image43.jpeg" ContentType="image/jpeg"/>
  <Override PartName="/ppt/media/image38.gif" ContentType="image/gif"/>
  <Override PartName="/ppt/media/image8.gif" ContentType="image/gif"/>
  <Override PartName="/ppt/media/image18.jpeg" ContentType="image/jpeg"/>
  <Override PartName="/ppt/media/image29.jpeg" ContentType="image/jpeg"/>
  <Override PartName="/ppt/media/image7.gif" ContentType="image/gif"/>
  <Override PartName="/ppt/media/image37.gif" ContentType="image/gif"/>
  <Override PartName="/ppt/media/image4.gif" ContentType="image/gif"/>
  <Override PartName="/ppt/media/image35.jpeg" ContentType="image/jpeg"/>
  <Override PartName="/ppt/media/image1.jpeg" ContentType="image/jpeg"/>
  <Override PartName="/ppt/media/image22.jpeg" ContentType="image/jpeg"/>
  <Override PartName="/ppt/media/image3.gif" ContentType="image/gi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3027-0DD4-429F-B0C9-A393A3CEC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97FA-DEC4-4D10-995E-C73CA314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69BE-0850-40C1-9390-DDABC7266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0A67-22EB-42F8-8646-E12157783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06326-3FD6-4F04-A8D3-48B0EE944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D80086-E0BF-400B-8DDA-0F4D6CAA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56940-15EF-4C33-A595-617548D3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E6C81-D7E9-48DE-8B48-87A55D02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59FF01-4960-4830-BF36-6E449BF7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F9D14-5AF1-4BA8-B221-EB623D59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FC2D8-DD3C-4423-8F41-764CF536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9C70-6612-4C5B-BBF7-952331D4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911A0-00C9-4C61-91EE-1ADF24C5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37908C-0854-40F2-8927-FBB6753B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63823B-21C4-4579-9AC3-E9FBE714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129CD7-A73F-4332-A7A3-50FAC67C4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09C18F-BBB0-44D7-B019-D1A3554E4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4E93-6E4E-4113-BAE6-E80F36C2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6C2A-4709-4E9C-B0BC-86FAD90C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FCD1-1621-4D47-BA5C-0767E8F0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2F79-8743-4EF4-B23F-4E61FA6B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AC5C-6C4F-4742-9F1F-EC6BFC6D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4899-C8FC-4524-8AAB-F4BB51B3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EEE4-07D3-4D36-B357-0F55DE64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6A2F-B36E-438C-BFCD-CDDD009925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6180-C32C-4F61-BD1C-9B93CCE4A6E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hyperlink" Target="http://live4fun.ru/pictures/img_4442563_452_3.jpg" TargetMode="External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gif"/><Relationship Id="rId3" Type="http://schemas.openxmlformats.org/officeDocument/2006/relationships/image" Target="../media/image38.gif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699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2920" y="2421000"/>
            <a:ext cx="7056360" cy="1922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1" lang="ru-RU" sz="6600" spc="-1" strike="noStrike">
                <a:solidFill>
                  <a:srgbClr val="ffcc00"/>
                </a:solidFill>
                <a:latin typeface="Monotype Corsiva"/>
              </a:rPr>
              <a:t>Плавание животных и  человека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3" descr="C:\мама\Мои рисунки\аниме рыбы, птицы\sea61.gif"/>
          <p:cNvPicPr/>
          <p:nvPr/>
        </p:nvPicPr>
        <p:blipFill>
          <a:blip r:embed="rId1"/>
          <a:stretch/>
        </p:blipFill>
        <p:spPr>
          <a:xfrm>
            <a:off x="826920" y="5516640"/>
            <a:ext cx="952560" cy="571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H:\Documents and Settings\Aida\Рабочий стол\НОвая ГРАФИКА сборник\КАРТИНКИ СБОРНИК_ школьные\vi12.gif"/>
          <p:cNvPicPr/>
          <p:nvPr/>
        </p:nvPicPr>
        <p:blipFill>
          <a:blip r:embed="rId2"/>
          <a:stretch/>
        </p:blipFill>
        <p:spPr>
          <a:xfrm flipH="1" rot="786600">
            <a:off x="7451640" y="5949720"/>
            <a:ext cx="608040" cy="376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H:\Documents and Settings\Aida\Рабочий стол\НОвая ГРАФИКА сборник\КАРТИНКИ СБОРНИК_ школьные\vi12.gif"/>
          <p:cNvPicPr/>
          <p:nvPr/>
        </p:nvPicPr>
        <p:blipFill>
          <a:blip r:embed="rId3"/>
          <a:stretch/>
        </p:blipFill>
        <p:spPr>
          <a:xfrm flipH="1" rot="786600">
            <a:off x="395280" y="3428640"/>
            <a:ext cx="608040" cy="376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мама\Мои рисунки\аниме рыбы, птицы\sea20.gif"/>
          <p:cNvPicPr/>
          <p:nvPr/>
        </p:nvPicPr>
        <p:blipFill>
          <a:blip r:embed="rId4"/>
          <a:stretch/>
        </p:blipFill>
        <p:spPr>
          <a:xfrm flipH="1">
            <a:off x="2411280" y="6093000"/>
            <a:ext cx="571680" cy="415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sea6"/>
          <p:cNvPicPr/>
          <p:nvPr/>
        </p:nvPicPr>
        <p:blipFill>
          <a:blip r:embed="rId5"/>
          <a:stretch/>
        </p:blipFill>
        <p:spPr>
          <a:xfrm>
            <a:off x="5651640" y="4508640"/>
            <a:ext cx="590400" cy="487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sea3"/>
          <p:cNvPicPr/>
          <p:nvPr/>
        </p:nvPicPr>
        <p:blipFill>
          <a:blip r:embed="rId6"/>
          <a:stretch/>
        </p:blipFill>
        <p:spPr>
          <a:xfrm rot="812400">
            <a:off x="7524360" y="4149360"/>
            <a:ext cx="1165320" cy="601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sea19"/>
          <p:cNvPicPr/>
          <p:nvPr/>
        </p:nvPicPr>
        <p:blipFill>
          <a:blip r:embed="rId7"/>
          <a:stretch/>
        </p:blipFill>
        <p:spPr>
          <a:xfrm rot="20620800">
            <a:off x="826920" y="4149360"/>
            <a:ext cx="828720" cy="622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"/>
          <p:cNvPicPr/>
          <p:nvPr/>
        </p:nvPicPr>
        <p:blipFill>
          <a:blip r:embed="rId8"/>
          <a:stretch/>
        </p:blipFill>
        <p:spPr>
          <a:xfrm>
            <a:off x="1763640" y="3573360"/>
            <a:ext cx="60984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Десятидневный человеческий эмбрион содержит воды 95%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Новорожденный 72%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Взрослый человек в среднем 60%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Monotype Corsiva"/>
              </a:rPr>
              <a:t>Плавание человек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Содержимое 6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3214800" cy="357192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7" descr=""/>
          <p:cNvPicPr/>
          <p:nvPr/>
        </p:nvPicPr>
        <p:blipFill>
          <a:blip r:embed="rId2"/>
          <a:stretch/>
        </p:blipFill>
        <p:spPr>
          <a:xfrm>
            <a:off x="4357800" y="1500120"/>
            <a:ext cx="4143240" cy="29289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8" descr=""/>
          <p:cNvPicPr/>
          <p:nvPr/>
        </p:nvPicPr>
        <p:blipFill>
          <a:blip r:embed="rId3"/>
          <a:stretch/>
        </p:blipFill>
        <p:spPr>
          <a:xfrm>
            <a:off x="2500200" y="4714920"/>
            <a:ext cx="594036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3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3816360" cy="3960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6" descr="Картинка 11 из 761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1773360"/>
            <a:ext cx="3851280" cy="38876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764388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Monotype Corsiva"/>
              </a:rPr>
              <a:t>Мертвое море(солёное озеро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8320" y="1412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6000" y="1916280"/>
            <a:ext cx="4038840" cy="41148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ивр.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-Ям ha-мэлах — «Море соли»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араб </a:t>
            </a:r>
            <a:r>
              <a:rPr b="0" lang="hi-IN" sz="2800" spc="-1" strike="noStrike">
                <a:solidFill>
                  <a:srgbClr val="ffcc00"/>
                </a:solidFill>
                <a:latin typeface="Tahoma"/>
                <a:ea typeface="Mangal"/>
              </a:rPr>
              <a:t>’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  <a:ea typeface="Mangal"/>
              </a:rPr>
              <a:t>Аль-Бахр Аль-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Маййит — «Мёртвое море»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также Асфальтовое море, Содомское мор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4284720" y="1197000"/>
            <a:ext cx="46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одержит более 27% соли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920" y="4149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обережье озера является самым низким участком суши на Земле.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ёртвое море это один из самых солёных водоемов на Земле, солёность достигает 33,7%. Длина моря 67 км, ширина 18 км в самом широком месте, максимальная глубина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378м.</a:t>
            </a: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800"/>
            </a:b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7" descr=""/>
          <p:cNvPicPr/>
          <p:nvPr/>
        </p:nvPicPr>
        <p:blipFill>
          <a:blip r:embed="rId1"/>
          <a:stretch/>
        </p:blipFill>
        <p:spPr>
          <a:xfrm>
            <a:off x="2050920" y="333360"/>
            <a:ext cx="38880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0" y="188640"/>
            <a:ext cx="40384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074b"/>
                </a:solidFill>
                <a:latin typeface="Tahoma"/>
              </a:rPr>
              <a:t>В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Мертвом море</a:t>
            </a:r>
            <a:r>
              <a:rPr b="1" lang="ru-RU" sz="2400" spc="-1" strike="noStrike">
                <a:solidFill>
                  <a:srgbClr val="1f074b"/>
                </a:solidFill>
                <a:latin typeface="Tahoma"/>
              </a:rPr>
              <a:t> за счет большого количества растворенных солей (более 27% по весу) плотность воды достигает 1,16 г/см3. Купаясь в этом море, человек очень мало погружается в воду, находясь как бы на поверхности, поскольку средняя плотность тела человека меньше плотности вод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Содержимое 5" descr=""/>
          <p:cNvPicPr/>
          <p:nvPr/>
        </p:nvPicPr>
        <p:blipFill>
          <a:blip r:embed="rId1"/>
          <a:stretch/>
        </p:blipFill>
        <p:spPr>
          <a:xfrm>
            <a:off x="324000" y="1181160"/>
            <a:ext cx="345600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Monotype Corsiva"/>
              </a:rPr>
              <a:t>В нашей стране ещё более высокая плотность воды наблюдается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63640" y="1700280"/>
            <a:ext cx="2746440" cy="109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 проливе Кара – Богаз – Гол на Касп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1"/>
          <a:stretch/>
        </p:blipFill>
        <p:spPr>
          <a:xfrm>
            <a:off x="468360" y="34290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"/>
          <p:cNvPicPr/>
          <p:nvPr/>
        </p:nvPicPr>
        <p:blipFill>
          <a:blip r:embed="rId2"/>
          <a:stretch/>
        </p:blipFill>
        <p:spPr>
          <a:xfrm>
            <a:off x="4572000" y="3357720"/>
            <a:ext cx="4032360" cy="28796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1"/>
          <p:cNvSpPr/>
          <p:nvPr/>
        </p:nvSpPr>
        <p:spPr>
          <a:xfrm>
            <a:off x="826920" y="1916280"/>
            <a:ext cx="181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 озере Эльт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Monotype Corsiva"/>
              </a:rPr>
              <a:t>Первая помощь утопающему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4" descr="D:\Семейная\Ирина\Анимашки\пляж 1.gif"/>
          <p:cNvPicPr/>
          <p:nvPr/>
        </p:nvPicPr>
        <p:blipFill>
          <a:blip r:embed="rId1"/>
          <a:stretch/>
        </p:blipFill>
        <p:spPr>
          <a:xfrm>
            <a:off x="539640" y="5445000"/>
            <a:ext cx="1067040" cy="1143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D:\Семейная\Ирина\Анимашки\плавание 3gif"/>
          <p:cNvPicPr/>
          <p:nvPr/>
        </p:nvPicPr>
        <p:blipFill>
          <a:blip r:embed="rId2"/>
          <a:stretch/>
        </p:blipFill>
        <p:spPr>
          <a:xfrm>
            <a:off x="6381720" y="5516640"/>
            <a:ext cx="2762280" cy="676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D:\Семейная\Ирина\Анимашки\плавание 1 gif"/>
          <p:cNvPicPr/>
          <p:nvPr/>
        </p:nvPicPr>
        <p:blipFill>
          <a:blip r:embed="rId3"/>
          <a:stretch/>
        </p:blipFill>
        <p:spPr>
          <a:xfrm>
            <a:off x="684360" y="1916280"/>
            <a:ext cx="2143080" cy="1357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"/>
          <p:cNvPicPr/>
          <p:nvPr/>
        </p:nvPicPr>
        <p:blipFill>
          <a:blip r:embed="rId4"/>
          <a:stretch/>
        </p:blipFill>
        <p:spPr>
          <a:xfrm>
            <a:off x="2700360" y="2133720"/>
            <a:ext cx="439092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0" y="-141120"/>
            <a:ext cx="9144000" cy="69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Monotype Corsiva"/>
              </a:rPr>
              <a:t>Действия по спасению утопающег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11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9850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58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мните, что при оказании помощи утопающему, вы имеете дело с потенциально опасным субъектом. Страх перед смертью заставляет утопающего совершать неконтролируемые действия, которые могут быть опасны для спасателя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иск для спасателя и утопающего можно снизить, если запастись специальным оборудованием: спасательным кругом или спасательным жилетом. Но даже находясь в лодке, постарайтесь подплывать к утопающему носом лодки или кормой. Если подплывете бортом, есть риск, что утопающий при попытке спастись перевернет лодк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Соблюдение правил безопасности спасателя сохранит ему жизнь и здоровье, и поможет спасти попавшего в беду челове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15" descr=""/>
          <p:cNvPicPr/>
          <p:nvPr/>
        </p:nvPicPr>
        <p:blipFill>
          <a:blip r:embed="rId1"/>
          <a:stretch/>
        </p:blipFill>
        <p:spPr>
          <a:xfrm>
            <a:off x="5867280" y="4581360"/>
            <a:ext cx="271944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Monotype Corsiva"/>
              </a:rPr>
              <a:t>ЦЕЛЬ РАБОТЫ:ВЫЯСНИТЬ УСЛОВИЯ ПЛАВАНИЯ ЖИВОТНЫХ  И ЧЕЛОВЕК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13" descr=""/>
          <p:cNvPicPr/>
          <p:nvPr/>
        </p:nvPicPr>
        <p:blipFill>
          <a:blip r:embed="rId1"/>
          <a:stretch/>
        </p:blipFill>
        <p:spPr>
          <a:xfrm>
            <a:off x="4643280" y="3860640"/>
            <a:ext cx="4064040" cy="2708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"/>
          <p:cNvPicPr/>
          <p:nvPr/>
        </p:nvPicPr>
        <p:blipFill>
          <a:blip r:embed="rId2"/>
          <a:stretch/>
        </p:blipFill>
        <p:spPr>
          <a:xfrm>
            <a:off x="684360" y="2565360"/>
            <a:ext cx="333360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764388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Monotype Corsiva"/>
              </a:rPr>
              <a:t>Алгоритм оказания помощи тонущему человеку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91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екратить поступление воды в дыхательные пу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Это достигается путем извлечения головы пострадавшего из-под воды. Для этого пострадавшего переворачивают на спину, голову запрокидывают так, чтобы рот и нос были над поверхностью воды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462560" y="-360"/>
            <a:ext cx="468144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ак можно быстрее доставить пострадавшего на судно или берег. В процессе транспортировки пострадавшего по воде, следует по возможности начать проводить искусственное дыхание «изо рта в рот» или «изо рта в нос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свободить дыхательные пути. Если во рту есть водоросли, песок, слюна, пена и т. п., пальцем, обернутым носовым платком или полотенцем, освободите рот от содержимог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15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37814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Дренажное положение.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вернуть пострадавшего на живо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иподнять таз пострадавшего так, чтобы он оказался выше головы. Подсунуть под таз свое колен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уками обхватить пострадавшего в области верхней части живота и слегка сдавить. При этом изо рта пострадавшего может политься вода. Это вода, выходящая из желудка, поэтому не стоит тратить время на её выдавливание. К моменту начала оказания помощи пострадавшему на берегу, воды в легких уже, как правило, нет. Вода, попавшая в легкие, всасывается в кровь уже через три минуты после того, как прекращает туда поступать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577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cc00"/>
                </a:solidFill>
                <a:latin typeface="Monotype Corsiva"/>
              </a:rPr>
              <a:t>Соблюдайте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cc00"/>
                </a:solidFill>
                <a:latin typeface="Monotype Corsiva"/>
              </a:rPr>
              <a:t>Правила поведения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cc00"/>
                </a:solidFill>
                <a:latin typeface="Monotype Corsiva"/>
              </a:rPr>
              <a:t>на воде!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9" descr="D:\Семейная\Ирина\Анимашки\прав купан 7"/>
          <p:cNvPicPr/>
          <p:nvPr/>
        </p:nvPicPr>
        <p:blipFill>
          <a:blip r:embed="rId1"/>
          <a:stretch/>
        </p:blipFill>
        <p:spPr>
          <a:xfrm>
            <a:off x="1908000" y="3716280"/>
            <a:ext cx="46389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436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cc00"/>
                </a:solidFill>
                <a:latin typeface="Monotype Corsiva"/>
              </a:rPr>
              <a:t>Спасибо за внимание!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Tahoma"/>
              </a:rPr>
              <a:t>Почему животные могут плавать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лотность водной среды почти не уступает плотности тел обитающих в ней животны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тобы быстро двигаться в воде, животное должно иметь обтекаемую форм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лагодаря сопротивлению воды лёгкого движения хвоста достаточно, чтобы стремительно ринуться вперёд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Monotype Corsiva"/>
              </a:rPr>
              <a:t>Различают активное и пассивное плава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1" lang="ru-RU" sz="4000" spc="-1" strike="noStrike" u="sng">
                <a:solidFill>
                  <a:srgbClr val="010199"/>
                </a:solidFill>
                <a:uFillTx/>
                <a:latin typeface="Monotype Corsiva"/>
              </a:rPr>
              <a:t>Активное плавани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Животные передвигаются  с помощью имеющихся у них гребных орган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4788000" y="1628640"/>
            <a:ext cx="1762200" cy="1524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"/>
          <p:cNvPicPr/>
          <p:nvPr/>
        </p:nvPicPr>
        <p:blipFill>
          <a:blip r:embed="rId2"/>
          <a:stretch/>
        </p:blipFill>
        <p:spPr>
          <a:xfrm>
            <a:off x="6804000" y="3429000"/>
            <a:ext cx="2085840" cy="1333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"/>
          <p:cNvPicPr/>
          <p:nvPr/>
        </p:nvPicPr>
        <p:blipFill>
          <a:blip r:embed="rId3"/>
          <a:stretch/>
        </p:blipFill>
        <p:spPr>
          <a:xfrm>
            <a:off x="4716360" y="5084640"/>
            <a:ext cx="2000520" cy="1333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79280" y="549360"/>
            <a:ext cx="561672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Простейши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организмы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,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передвигаются с помощью жгутиков или ресничек 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,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 посредством волнообразных изгибаний тела или используют непарные плавник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1"/>
          <a:stretch/>
        </p:blipFill>
        <p:spPr>
          <a:xfrm>
            <a:off x="6877080" y="260280"/>
            <a:ext cx="1704960" cy="1524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2"/>
          <a:stretch/>
        </p:blipFill>
        <p:spPr>
          <a:xfrm>
            <a:off x="6227640" y="5661000"/>
            <a:ext cx="2733840" cy="762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"/>
          <p:cNvPicPr/>
          <p:nvPr/>
        </p:nvPicPr>
        <p:blipFill>
          <a:blip r:embed="rId3"/>
          <a:stretch/>
        </p:blipFill>
        <p:spPr>
          <a:xfrm>
            <a:off x="2340000" y="5300640"/>
            <a:ext cx="1641600" cy="92700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4" descr=""/>
          <p:cNvPicPr/>
          <p:nvPr/>
        </p:nvPicPr>
        <p:blipFill>
          <a:blip r:embed="rId4"/>
          <a:stretch/>
        </p:blipFill>
        <p:spPr>
          <a:xfrm>
            <a:off x="6443640" y="2133720"/>
            <a:ext cx="2322360" cy="27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52563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ctr">
              <a:lnSpc>
                <a:spcPct val="80000"/>
              </a:lnSpc>
              <a:spcBef>
                <a:spcPts val="1349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Передвигаются в результате периодических выталкиваний воды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1"/>
          <a:stretch/>
        </p:blipFill>
        <p:spPr>
          <a:xfrm>
            <a:off x="2700360" y="4724280"/>
            <a:ext cx="2952720" cy="1381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"/>
          <p:cNvPicPr/>
          <p:nvPr/>
        </p:nvPicPr>
        <p:blipFill>
          <a:blip r:embed="rId2"/>
          <a:stretch/>
        </p:blipFill>
        <p:spPr>
          <a:xfrm>
            <a:off x="6372360" y="1700280"/>
            <a:ext cx="14191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10199"/>
                </a:solidFill>
                <a:latin typeface="Monotype Corsiva"/>
              </a:rPr>
              <a:t>Пассивное плавание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6600" spc="-1" strike="noStrike">
                <a:solidFill>
                  <a:srgbClr val="000000"/>
                </a:solidFill>
                <a:latin typeface="Monotype Corsiva"/>
              </a:rPr>
              <a:t>просто увлекаются движущейся водой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18" descr="Безымянный"/>
          <p:cNvPicPr/>
          <p:nvPr/>
        </p:nvPicPr>
        <p:blipFill>
          <a:blip r:embed="rId1"/>
          <a:stretch/>
        </p:blipFill>
        <p:spPr>
          <a:xfrm>
            <a:off x="1042920" y="4149720"/>
            <a:ext cx="1325520" cy="216072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pic>
        <p:nvPicPr>
          <p:cNvPr id="114" name="Picture 17" descr="dedushka"/>
          <p:cNvPicPr/>
          <p:nvPr/>
        </p:nvPicPr>
        <p:blipFill>
          <a:blip r:embed="rId2"/>
          <a:stretch/>
        </p:blipFill>
        <p:spPr>
          <a:xfrm>
            <a:off x="4356000" y="4076640"/>
            <a:ext cx="2808360" cy="211608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pic>
        <p:nvPicPr>
          <p:cNvPr id="115" name="Picture 13" descr="4"/>
          <p:cNvPicPr/>
          <p:nvPr/>
        </p:nvPicPr>
        <p:blipFill>
          <a:blip r:embed="rId3"/>
          <a:stretch/>
        </p:blipFill>
        <p:spPr>
          <a:xfrm>
            <a:off x="7164360" y="260280"/>
            <a:ext cx="1758960" cy="237492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547640" y="189000"/>
            <a:ext cx="540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АКУЛЫ И СКУМБРИИ ПЛАВАЮТ СО СКОРОСТЬЮ 20 КМ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/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Ч И ВЫШ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1"/>
          <a:stretch/>
        </p:blipFill>
        <p:spPr>
          <a:xfrm>
            <a:off x="5508720" y="3789360"/>
            <a:ext cx="2257200" cy="1523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"/>
          <p:cNvPicPr/>
          <p:nvPr/>
        </p:nvPicPr>
        <p:blipFill>
          <a:blip r:embed="rId2"/>
          <a:stretch/>
        </p:blipFill>
        <p:spPr>
          <a:xfrm>
            <a:off x="1692360" y="3429000"/>
            <a:ext cx="1728720" cy="13683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867280" y="1628280"/>
            <a:ext cx="3030480" cy="58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4038480" cy="56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Летучие рыбы разгоняются до  скорости 65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КМ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Ч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Меч – рыба развивает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скорость до 130 КМ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/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Ч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8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2170080" cy="244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"/>
          <p:cNvPicPr/>
          <p:nvPr/>
        </p:nvPicPr>
        <p:blipFill>
          <a:blip r:embed="rId2"/>
          <a:stretch/>
        </p:blipFill>
        <p:spPr>
          <a:xfrm>
            <a:off x="5940360" y="4365720"/>
            <a:ext cx="237672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3T02:28:32Z</dcterms:created>
  <dc:creator>Макс</dc:creator>
  <dc:description/>
  <dc:language>en-US</dc:language>
  <cp:lastModifiedBy>1</cp:lastModifiedBy>
  <dcterms:modified xsi:type="dcterms:W3CDTF">2020-09-10T08:13:08Z</dcterms:modified>
  <cp:revision>72</cp:revision>
  <dc:subject/>
  <dc:title>Слайд 1</dc:title>
</cp:coreProperties>
</file>