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1DD-06D4-4DCE-8C24-36E8A73E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63C-CF09-44AD-92DA-D4450EC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FE7-06B1-4BC5-ABB2-3F22E9C6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570-1110-4857-9BB4-1BD7E88E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88C-AD8E-4CEB-9E2B-F9344923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CC8-6F19-424A-8ED3-306BA75C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F2E-9613-447C-8DF5-153A5A4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CF6-04C0-4842-A60A-6188448C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5A0-B9FF-4DA7-9C5D-1E1A1707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830-A2C1-4169-83FC-B76A9B1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1C8-C6C8-4630-88A9-4CBAA89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917-1B79-4D52-A715-EB12FC4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5E8-A469-4DF9-B89F-D2665ABE9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adera.io.com.ua/album111786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nsultant.ru/popular/family/20_4.html#p116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aradera.io.com.ua/album11178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35090.ru/images/brak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1197000"/>
            <a:ext cx="4749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Брак, условия его заключения.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Права и обязанности супру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3802598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089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024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нципы семейного пра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ризнание брака, заключенного только в органах записи актов гражданского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Добровольность брачного сою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авенство супругов в сем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Разрешение внутрисемейных вопросов по взаимному согласи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иоритет семейного воспитания детей, забота об их благосостоянии и развитии, обеспечение приоритетной защиты их прав и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Обеспечение приоритетной защиты прав и интересов нетрудоспособных членов сем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ринцип единобрачия (моногами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вобода расторжения брака под контролем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дел II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КЛЮЧЕНИЕ И ПРЕКРАЩЕНИЕ БРА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лав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СЛОВИЯ И ПОРЯДОК ЗАКЛЮЧЕНИЯ Б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0. Заключение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. Брак заключается в органах записи актов гражданского со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. Права и обязанности супругов возникают со дня государственной регистрации заключения брака в органах записи актов гражданского со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атья 12. Условия заключения бра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. Для заключения брака необходимы взаимное добровольное согласие мужчины и женщины, вступающих в брак, и достижение ими брач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 Брак не может быть заключен при наличии обстоятельств, указанных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тье 14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настоящего Код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атья 13. Брачный возра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. Брачный возраст устанавливается в восемнадца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. При наличии уважительных причин органы местного самоуправления по месту жительства лиц, желающих вступить в брак, вправе по просьбе данных лиц разрешить вступить в брак лицам, достигшим возраста шестнадцати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         Порядок и условия, при наличии которых вступление в брак в виде исключения с учетом особых обстоятельств может быть разрешено до достижения возраста шестнадцати лет, могут быть установлены законами субъекто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атья 14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Обстоятельства, препятствующие заключению бра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 допускается заключение брака между:     лицами, из которых хотя бы одно лицо      уже состоит в другом зарегистрированном бра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лизкими родственниками (родственниками по прямой восходящей и нисходящей линии (родителями и детьми, дедушкой, бабушкой и внуками), полнородными и неполнородными (имеющими общих отца или мать) братьями и сестр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ыновителями и усыновлен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ицами, из которых хотя бы одно лицо признано судом недееспособным вследствие психического расстр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1. Порядок заключения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 Заключение брака производится в личном присутствии лиц, вступающих в брак, по истечении месяца со дня подачи ими заявления в органы записи актов гражданского состоя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При наличии уважительных причин орган записи актов гражданского состояния по месту государственной регистрации заключения брака может разрешить заключение брака до истечения месяца, а также может увеличить этот срок, но не более чем на меся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При наличии особых обстоятельств (беременности, рождения ребенка, непосредственной угрозы жизни одной из сторон и других особых обстоятельств) брак может быть заключен в день подачи зая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1. Порядок заключения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 Государственная регистрация заключения брака производится в порядке, установленном для государственной регистрации актов гражданского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. Отказ органа записи актов гражданского состояния в регистрации брака может быть обжалован в суд лицами, желающими вступить в брак (одним из ни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бъяс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чему Семейный кодекс РФ ограничивает брачный возраст 18 годами ( а не, например 15 или 20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чему выдерживается определённый срок с подачи заявления до регистрации бр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483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ртём и Ирина решили пожениться. Взяв паспорта пошли в ЗАГС. Там их попросили заполнить соответствующие бумаги и приходить через месяц. «Это безобразие! – возмутился Артём. – Почему мы должны ждать целый месяц, если мы всё уже решил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 бы Вы объяснили Артёму предъявленную законом нор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3802515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2533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ить полученные ранее знания и из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семейного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рава и обязанности родителей 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987280" y="404280"/>
            <a:ext cx="569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ыданное мужу и жене свидетельство о браке – условие возникновения по отношению друг к другу определённых прав и обяза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видетельство о браке (новый образец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277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250920" y="98100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875680" y="1100160"/>
            <a:ext cx="46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ируются в ограниченных масштаб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590920" y="1851120"/>
            <a:ext cx="9712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.31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128120" y="1916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ство суп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42640" y="2492280"/>
            <a:ext cx="6904440" cy="1739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право на свободу в выборе рода занятий, профессии, м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бывания и жи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совместное решение вопросов материнства, отцовства, в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итания, образования детей и других вопросов жизни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обязанность строить свои отношения в семье на основе вза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уважения и взаимо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74400" y="48690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упруги не обязаны проживать совмест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202040" y="5445000"/>
            <a:ext cx="6752160" cy="916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ции за нарушение этих прав не следуют, 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 лишь расторжение брака.(Но возможно угол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азание, или материальные санк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50920" y="116208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933920" y="946080"/>
            <a:ext cx="545832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чным неимущественным правам также 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сятся-выбор фамилии(общая, сохранение с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й, двойная-если одна уже не была двой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82600" y="3284640"/>
            <a:ext cx="68468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на фамилии одним из супругов не влечет автома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ны фамилии у другого суп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4160" y="2297160"/>
            <a:ext cx="66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фамилии после регистрации брака возможна лиш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и с Законом об актах гражданск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431640" y="4437000"/>
            <a:ext cx="824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 расторжении брак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353960" y="5013360"/>
            <a:ext cx="64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о фамилии решается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хранение общей фамилии (согласие другого супруг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звращение добрачной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50920" y="1109520"/>
            <a:ext cx="29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уществен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92360" y="836640"/>
            <a:ext cx="547236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мейное право регулирует режим общей собственности, нажитой суп-ругами во время бр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17720" y="2633760"/>
            <a:ext cx="69228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ходы каждого из супругов от трудовой, предприниматель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й, интеллектуа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енсии, пособия, и иные денежные выпл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ижимые и недвижимые вещи, ценные бумаги, паи, вк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р., приобретенные за счет общих д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не имеет значения на чьё имя оформлено и кем приобрете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им собственником признается даже не работающий суп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403280" y="2276640"/>
            <a:ext cx="64389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Общее совместное имущество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108000" y="61657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имеют равные права на общее имуществ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71280" y="350028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могут иметь и собственное имуществ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58760" y="549360"/>
            <a:ext cx="707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 совершении сделки с общим имуществом, предполаг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н действует с согласия другого суп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совершения сделки с особо важным для семьи им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ством (дом), требуется нотариальная регистрация согл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го суп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делка может быть аннулирована, если второй супруг пред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вил доказательства о том, что вторая сторона сделки заве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 знала о несогласии одного из супр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36960" y="3933720"/>
            <a:ext cx="6709680" cy="201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имущество принадлежавшее до бр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полученное в д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наслед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награды и премии не предусмотренные системой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вещи индивидуального пользования(за исключением драг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ценностей и предметов роскош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79280" y="83664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Разде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овместно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мущест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00360" y="765000"/>
            <a:ext cx="633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в период брака, так и после его растор-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224000" y="1676520"/>
            <a:ext cx="1760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добровольно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502240" y="1674720"/>
            <a:ext cx="262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 судебном порядк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46200" y="191628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лежит нотариа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стове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238000" y="191628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ет согла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размер д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231560" y="2781360"/>
            <a:ext cx="6680520" cy="916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щи, приобретенные для удовлетворения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тей разделу не подлежат и передаются супругу с кото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оживают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151280" y="4087800"/>
            <a:ext cx="70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 требованиям супругов о разделе имущества применяется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ий срок исковой да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27600" y="4875120"/>
            <a:ext cx="6918480" cy="1465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зделе имущество доли супругов признаются ра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ля может быть изменена, в пользу супруга у которого о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тся дети, или уменьшена если супруг не получал доходов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важительной причине, либо расходовал общее иму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щерб интересам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252360" y="90792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рачны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договор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00360" y="692280"/>
            <a:ext cx="633744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глашение, определяющее имуществен-ные права и обязанности супругов в браке или в случае его растор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80880" y="2637000"/>
            <a:ext cx="6615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 брачном договоре указываются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способы участия каждого из супругов в доходах друг д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порядок несения семейных расхо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имущество отходящее супругам в случае разв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233000" y="4392720"/>
            <a:ext cx="673380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рачный договор не мож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граничивать правоспособность и дееспособность супруг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егулировать личные неимущественные п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тавить одного из супругов в неблагоприят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196640" y="199872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ет установленный законом режим общей совмес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131840" y="5950080"/>
            <a:ext cx="68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екращается с момента прекращения брака, после исполн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всех по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Organization Chart 10"/>
          <p:cNvGrpSpPr/>
          <p:nvPr/>
        </p:nvGrpSpPr>
        <p:grpSpPr>
          <a:xfrm>
            <a:off x="179280" y="189000"/>
            <a:ext cx="8506800" cy="6478200"/>
            <a:chOff x="179280" y="189000"/>
            <a:chExt cx="8506800" cy="647820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272920" y="1938600"/>
              <a:ext cx="1296360" cy="2977920"/>
            </a:xfrm>
            <a:prstGeom prst="bentConnector3">
              <a:avLst>
                <a:gd name="adj1" fmla="val 20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5" idx="2"/>
            </p:cNvCxnSpPr>
            <p:nvPr/>
          </p:nvCxnSpPr>
          <p:spPr>
            <a:xfrm flipV="1">
              <a:off x="4432320" y="2779560"/>
              <a:ext cx="3240" cy="129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295720" y="1938960"/>
              <a:ext cx="1296360" cy="2977920"/>
            </a:xfrm>
            <a:prstGeom prst="bentConnector3">
              <a:avLst>
                <a:gd name="adj1" fmla="val 20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1"/>
            <p:cNvSpPr/>
            <p:nvPr/>
          </p:nvSpPr>
          <p:spPr>
            <a:xfrm>
              <a:off x="3156480" y="18900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ff"/>
                  </a:solidFill>
                  <a:latin typeface="Arial"/>
                </a:rPr>
                <a:t>Брачный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ff"/>
                  </a:solidFill>
                  <a:latin typeface="Arial"/>
                </a:rPr>
                <a:t>договор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17928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Д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государственн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регистраци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бра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315648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В любо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время в пери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бра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>
              <a:off x="613404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Меняет режим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совмест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собств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про заключение брачного догов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 виде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регулирует брачный догов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гда можно заключить брачный договор и что там о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гда происходит раздел имущества по брачному догово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ое имущество может быть записано в брачны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 происходит изменение брачного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каких случаях брачный договор можно признать недействите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ределите, содержание какого эпизода из следующих ниже соответствует норма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ейного кодекса РФ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зделе имущества супруга попросила оставить ей приватизированную ею до брака кварти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ж говорит своей жене: «Я решил, что в следующем месяце мы переедем в Нижний Новгород. Как бы ты к этому ни относилась, всё равно тебе придётся ехать со мной, потому что ты как жена обязана следовать за мужем туда, куда он хочет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и закрепить у учащихся знания по ранее изученному матери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умение грамотно применять нормы семейного права при решении конкрет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логическ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умение грамотно использовать в своей речи специальные юридические термины применительно к конкрет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ить чувство ответств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ь уважение к зак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ределите, содержание какого эпизода из следующих ниже соответствует норма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ейного кодекса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нин К. подал губернатору жалобу на отдел ЗАГСа, указав в ней, что сотрудники этого учреждения отказались регистрировать его брак с гражданкой С., которая живёт в другом городе, но прислала в ЗАГС письменное согласие на брак, заверенное у нотар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ление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№1 Гражданка Жукова зарегистрировала брак с гражданином Ивановым в июне 1995 г. В апреле 1998 г. в суде было возбуждено дело по иску прокурора о признании брака между Жуковой и Ивановым недействительным. Свое требование прокурор мотивировал тем, что в 1992 г. Иванов зарегистрировал брак с гражданкой Вакуленко, который до сих пор не прекращен. При регистрации брака с Жуковой Иванов скрыл от нее это обстоятельство. Отметки в паспорте гражданина Иванова о первом браке не было. Паспорт Ивановым был получен в 1993 г. в связи с утерей прежнего и при его выдаче в нем не была сделана отметка о состоянии в бра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ринцип семейного права был нарушен гражданином Ивановым при вступлении в брак с гражданкой Ивановой? Нормы какого закона подлежат применению в данном случае? Вправе ли прокурор потребовать ли признания брака недействительным в рассмотрении ситу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2 Волков и Силкина совместно проживали в течение десяти лет без регистрации брака. За это время они приобрели двухкомнатную квартиру, обставили ее мебелью, от совместной жизни имеют общего сына. Однако Волков стал сожительствовать с другой женщиной и решил зарегистрировать с ней брак. На этой почве между сторонами стали происходить ссоры, сканд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кина стала требовать, чтобы Волков освободил квартиру, затем сменила дверной замок и не пускала его в дом, утверждая, что квартира приобретена на деньги ее матери, оформлена на ее имя, а следовательно, принадлежит ей. Волков обратился в суд с требованием о разделе нажитого совместно иму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т ли место семейные отношения между сторонами? Какие нормы распространяются на отношения сторон? Оказывает ли сложившаяся ситуация влияние на правовое положение сына Волкова и Силк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75920"/>
            <a:ext cx="8578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3. В результате гибели родителей в автокатастрофе 12-летний Борис Буцаев остался сиротой. Желание взять Бориса на воспитание в свою семью изъявил его дядя Буцаев К. Л. (родной брат отца), проживающий в другом городе и находящийся в длительной командировке за границей. Телеграммой Буцаев К. Л. сообщил о своем намерении в орган опеки и попечительства, попросив отложить решение данного вопроса до его возвращения из командировки через три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четырех месяцев после смерти родителей ребенок проживал в семье соседей (с их согласия), ожидая прибытия дяди. Затем выяснилось, что срок командировки Буцаева К. Л. продлен его руководством еще на два месяца, о чем он проинформировал орган опеки и попечительства, сообщив при этом, что его решение в отношении племянника остается прежним. Однако орган опеки и попечительства расценил данное обещание Буцаева К. Л. как стремление уклониться от воспитания Бориса и устроил мальчика в учреждение для детей-сирот, решив вернуться к рассмотрению обращения Буцаева К. Л. через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озвращении из командировки Буцаев К. Л. обжаловал решение органа опеки и попечительства в судеб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ся ли основания для удовлетворения жалобы Буцаева К. Л.? Какой принцип семейного права не был соблюден органом опеки и попечитель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ализуемые знания и у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употреблять основные правовые понятия и катего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овать порядок заключения и расторжения брака, брачного контра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а и обязанности, ответственность гражданина как участника семейных право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нятие наследства и на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нятие наследования по зак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мя и место открытия насл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чередность на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нятие наследования по завещ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бязательная доля в завещ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бр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Образовалось от древнерусского «братичи» (отбирать, выбирать хорошее и отклонять плох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Брак – добровольный пожизненный союз мужчины и женщины, целью которого является создани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ейный кодекс РФ (СК РФ) от 29.12.1995 N 223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042920" y="274680"/>
            <a:ext cx="73454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064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1:46:45Z</dcterms:created>
  <dc:creator>User</dc:creator>
  <dc:description/>
  <cp:keywords/>
  <dc:language>en-US</dc:language>
  <cp:lastModifiedBy>Revenant</cp:lastModifiedBy>
  <dcterms:modified xsi:type="dcterms:W3CDTF">2015-10-13T16:52:0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