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8.gif" ContentType="image/gif"/>
  <Override PartName="/ppt/media/image21.wmf" ContentType="image/x-wmf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18.gif" ContentType="image/gif"/>
  <Override PartName="/ppt/media/image23.png" ContentType="image/png"/>
  <Override PartName="/ppt/media/image4.png" ContentType="image/png"/>
  <Override PartName="/ppt/media/bomb.wav" ContentType="audio/x-wav"/>
  <Override PartName="/ppt/media/image20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dt" idx="1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E9B6A7-1E64-472D-995A-5C482E5304B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44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2DE4F9-2AD2-467A-B459-7E0065DEAB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96F03-D3EA-4765-A485-801063759D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596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F1586-13B7-4632-947D-657FABE0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52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E3DB7-DCA4-414C-8E40-FBF4BABA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28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136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28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136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20ADD-0230-4BC2-9027-BDD3F1D97C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ED05A-77A3-40D7-810A-8F778CB613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96560-017D-446A-B184-E7D05813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44539-9E83-46D0-9A1C-1B72709B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76A6C-913B-4529-9834-B68325B4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72D51-EC8E-4113-8E79-C3D44899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347400"/>
            <a:ext cx="8259840" cy="53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DD189-8C62-4830-B8EC-E5443F3B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B28BA-A062-4FD6-BF09-2121FB09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EBB8F-D4AA-4C3E-824B-532A3BBA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083F1-4113-4B1F-BADD-DD9EB51B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6A3F7-22B9-45B8-9E86-548C2BE1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596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05F11-81E6-4031-9BDD-DFA8F0E3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63B22-DF1D-4F7B-9272-07779D38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1BA78-9998-4B75-BCC9-8927808D25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70A2-7AB6-4114-B44F-968E75A189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F673-968D-4988-8ACD-ABEED9FE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84F8-1F94-4DD6-97D6-58CA2928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2B25-5B18-4C2B-A6DF-068C8847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F324-6795-488C-814A-E54FA35D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1F25D-FF27-4DF8-BBF9-27E469E5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347400"/>
            <a:ext cx="8259840" cy="53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00A7-3A54-43EC-AA20-2DFB4D4D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63C7-6155-4245-9E13-F6754B84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352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C2EB-2D8B-4AEE-9DD0-5E45FB21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3A37-12E5-48D1-AA69-9FCEE2FA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596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45F9-BBEC-48B9-8AE9-877180DB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352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923D-6A69-4F00-9524-7C354CFE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28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136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28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136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C263-8F85-45AD-B3EF-AEC1CDE10F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0D891-EB72-47FC-8545-2BDA5FDA68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3F5C4-3DA2-4358-A78A-2B425831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483FE-4264-4429-9B4C-6F59E30E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5F5EF-4F67-454E-A9D7-F4D9CADC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C91D05-2091-425B-B7C5-6FE5F641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FEB52-A486-4240-A7F6-B855501D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25520" y="347400"/>
            <a:ext cx="8259840" cy="53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3F163D-247E-4423-BB9D-FDB92683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85EDB-70ED-4D61-90C1-83B45F4A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352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A2DF4F-5E38-47A9-BEE6-BB78A6CD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13FD3-6397-4847-B96B-A248C30D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403596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8BE7C-6FA1-4551-B62D-415D55A1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352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81A212-FB1A-424E-A6C8-82E11859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28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136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28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136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BC5153-ED23-4BC5-B4D0-330D4E8DE4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352224-5049-46B0-853A-4B4D276ED6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DA953-9DF7-41B4-BA9A-DB4BF5F9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AFF620-23C9-4DC1-B8ED-39035972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24389D-F740-4E28-BCE8-FE0B1D08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7D63B2-566F-4477-AF72-F4630B52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78C108-4B12-492B-B928-AF68A32B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25520" y="347400"/>
            <a:ext cx="8259840" cy="53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EB9CAB-BAC5-4449-99CD-8947EED6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9D6615-8C56-4EAF-B2B5-CF834A5C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352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595020-561D-402B-A984-89316BCD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FF6312-B26C-4592-B7A8-A8CD4BDC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03596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94AF38-64FD-4AB8-B243-DB0ED8FD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352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3D8F92-1C7C-403D-BE57-C6F3F9AE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347400"/>
            <a:ext cx="8259840" cy="53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0F5DF-B8AF-492E-80B2-CEEC3EEB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28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136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28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136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82AC79-5AF6-45CB-A5A2-A5E9AE913A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76452-8814-4F6B-81CB-D13F6C17D8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589E2-7FF6-47AD-A142-3F630076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96ED7-DEC9-435C-BA6E-1AF8E430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28758-C75E-47FA-9C07-5BCF539C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1CF4C-3FBF-4D0E-BDFF-46570321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347400"/>
            <a:ext cx="8259840" cy="53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7BE5D-2739-4B9B-9628-44D0B27A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33517-8DE1-4E19-8C8F-97837649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352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DF9BB-7802-41BF-8950-8E9089B7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5B65B-E62B-4C82-8593-C188296B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03195-244A-4AD4-8494-A6F4966F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596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E56E6-1B65-4AE0-BE14-1D5C7790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352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0E932-78B2-4030-A18A-FC253D81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28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136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28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136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4C3B3-76D9-4F0C-B01D-13A55BAD97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52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4C917-D7C2-4F6B-94D6-CCB2E76A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3306B-9583-4D01-BAC3-2DB48833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entury Gothic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entury Gothic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44B6BB-B7AF-4E37-AC31-4D0D0C1FBF57}" type="slidenum">
              <a:rPr b="0" lang="ru-RU" sz="1800" spc="-1" strike="noStrike">
                <a:solidFill>
                  <a:srgbClr val="000000"/>
                </a:solidFill>
                <a:latin typeface="Century Gothic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68200" y="274680"/>
            <a:ext cx="8605800" cy="1333440"/>
            <a:chOff x="268200" y="274680"/>
            <a:chExt cx="8605800" cy="1333440"/>
          </a:xfrm>
        </p:grpSpPr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268200" y="274680"/>
              <a:ext cx="860580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77920"/>
              <a:ext cx="8593200" cy="13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41280" y="2938320"/>
            <a:ext cx="7155000" cy="2473560"/>
            <a:chOff x="341280" y="2938320"/>
            <a:chExt cx="7155000" cy="247356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5000" cy="24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5960" y="2943360"/>
              <a:ext cx="714528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7564320" y="2938320"/>
            <a:ext cx="1206720" cy="2473560"/>
            <a:chOff x="7564320" y="2938320"/>
            <a:chExt cx="1206720" cy="2473560"/>
          </a:xfrm>
        </p:grpSpPr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7564320" y="2938320"/>
              <a:ext cx="1206720" cy="24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89080" cy="24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786800" y="4594320"/>
            <a:ext cx="7603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8A2CA5B-2325-4674-9F18-2ACED8E933C6}" type="slidenum">
              <a:rPr b="0" lang="ru-RU" sz="2800" spc="-1" strike="noStrike">
                <a:solidFill>
                  <a:srgbClr val="47534c"/>
                </a:solidFill>
                <a:latin typeface="Times New Roman"/>
                <a:ea typeface="Lucida Sans Unicode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44600" y="2938320"/>
            <a:ext cx="8277120" cy="2479680"/>
            <a:chOff x="444600" y="2938320"/>
            <a:chExt cx="8277120" cy="247968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444600" y="2938320"/>
              <a:ext cx="8277120" cy="24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272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28787A2-2484-4F68-9AE4-19A7690CC86C}" type="slidenum">
              <a: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54040" y="1500120"/>
            <a:ext cx="2730600" cy="3533760"/>
            <a:chOff x="554040" y="1500120"/>
            <a:chExt cx="2730600" cy="3533760"/>
          </a:xfrm>
        </p:grpSpPr>
        <p:pic>
          <p:nvPicPr>
            <p:cNvPr id="152" name="" descr=""/>
            <p:cNvPicPr/>
            <p:nvPr/>
          </p:nvPicPr>
          <p:blipFill>
            <a:blip r:embed="rId3"/>
            <a:stretch/>
          </p:blipFill>
          <p:spPr>
            <a:xfrm>
              <a:off x="554040" y="1500120"/>
              <a:ext cx="2730600" cy="35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60520" y="1504800"/>
              <a:ext cx="271440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262F857-BCF3-446A-BF82-F16BFE004464}" type="slidenum">
              <a: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2560" y="4950000"/>
            <a:ext cx="7783560" cy="1382400"/>
            <a:chOff x="682560" y="4950000"/>
            <a:chExt cx="7783560" cy="1382400"/>
          </a:xfrm>
        </p:grpSpPr>
        <p:pic>
          <p:nvPicPr>
            <p:cNvPr id="199" name="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83560" cy="13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85800" y="4952880"/>
              <a:ext cx="777096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D4F7A65-10BE-4206-8534-A134AD12DE93}" type="slidenum">
              <a: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41D89DA-4A27-4C79-B8BA-7984A5129800}" type="slidenum">
              <a: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audio" Target="../media/bomb.wav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audio" Target="../media/bomb.wav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audio" Target="../media/bomb.wav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audio" Target="../media/bomb.wav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audio" Target="../media/bomb.wav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audio" Target="../media/bomb.wav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8.gif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571680" y="357120"/>
            <a:ext cx="7559640" cy="61880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584280" y="307800"/>
            <a:ext cx="7559640" cy="6188400"/>
          </a:xfrm>
          <a:prstGeom prst="rect">
            <a:avLst/>
          </a:prstGeom>
          <a:ln w="0">
            <a:noFill/>
          </a:ln>
        </p:spPr>
      </p:pic>
      <p:grpSp>
        <p:nvGrpSpPr>
          <p:cNvPr id="298" name=""/>
          <p:cNvGrpSpPr/>
          <p:nvPr/>
        </p:nvGrpSpPr>
        <p:grpSpPr>
          <a:xfrm>
            <a:off x="493560" y="396720"/>
            <a:ext cx="7899480" cy="1814760"/>
            <a:chOff x="493560" y="396720"/>
            <a:chExt cx="7899480" cy="1814760"/>
          </a:xfrm>
        </p:grpSpPr>
        <p:pic>
          <p:nvPicPr>
            <p:cNvPr id="299" name="" descr=""/>
            <p:cNvPicPr/>
            <p:nvPr/>
          </p:nvPicPr>
          <p:blipFill>
            <a:blip r:embed="rId4"/>
            <a:stretch/>
          </p:blipFill>
          <p:spPr>
            <a:xfrm>
              <a:off x="493560" y="396720"/>
              <a:ext cx="789948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493560" y="396720"/>
              <a:ext cx="7899480" cy="18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143000" y="518148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419f9"/>
                </a:solidFill>
                <a:latin typeface="Georgia"/>
              </a:rPr>
              <a:t>Всем привет! Будьте внимательными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419f9"/>
                </a:solidFill>
                <a:latin typeface="Georgia"/>
              </a:rPr>
              <a:t>на уроке! Успехов и удачи вам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2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" dur="2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84360" y="342900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ти существительное, связанное с именем прилагательны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"/>
          <p:cNvSpPr/>
          <p:nvPr/>
        </p:nvSpPr>
        <p:spPr>
          <a:xfrm>
            <a:off x="3581280" y="1828800"/>
            <a:ext cx="316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 u="sng">
                <a:solidFill>
                  <a:srgbClr val="003300"/>
                </a:solidFill>
                <a:uFillTx/>
                <a:latin typeface="Comic Sans MS"/>
              </a:rPr>
              <a:t> </a:t>
            </a:r>
            <a:r>
              <a:rPr b="1" i="1" lang="ru-RU" sz="4800" spc="-1" strike="noStrike" u="sng">
                <a:solidFill>
                  <a:srgbClr val="003300"/>
                </a:solidFill>
                <a:uFillTx/>
                <a:latin typeface="Comic Sans MS"/>
              </a:rPr>
              <a:t>шаг 1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"/>
          <p:cNvSpPr/>
          <p:nvPr/>
        </p:nvSpPr>
        <p:spPr>
          <a:xfrm>
            <a:off x="1905120" y="380880"/>
            <a:ext cx="6275160" cy="703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Алгоритм работы</a:t>
            </a: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5254560" y="4200480"/>
            <a:ext cx="3889440" cy="26575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dur="indefinite" fill="hold">
                      <p:stCondLst>
                        <p:cond delay="indefinite"/>
                      </p:stCondLst>
                      <p:childTnLst>
                        <p:par>
                          <p:cTn id="2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826920" y="321300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ь падеж  имени существительного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"/>
          <p:cNvSpPr/>
          <p:nvPr/>
        </p:nvSpPr>
        <p:spPr>
          <a:xfrm>
            <a:off x="3809880" y="114300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 u="sng">
                <a:solidFill>
                  <a:srgbClr val="003300"/>
                </a:solidFill>
                <a:uFillTx/>
                <a:latin typeface="Comic Sans MS"/>
              </a:rPr>
              <a:t>Шаг 2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5254560" y="4200480"/>
            <a:ext cx="3889440" cy="26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dur="indefinite" fill="hold">
                      <p:stCondLst>
                        <p:cond delay="indefinite"/>
                      </p:stCondLst>
                      <p:childTnLst>
                        <p:par>
                          <p:cTn id="2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04920" y="266688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адежу существительного определить падеж прилагательного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"/>
          <p:cNvSpPr/>
          <p:nvPr/>
        </p:nvSpPr>
        <p:spPr>
          <a:xfrm>
            <a:off x="3352680" y="68580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 u="sng">
                <a:solidFill>
                  <a:srgbClr val="003300"/>
                </a:solidFill>
                <a:uFillTx/>
                <a:latin typeface="Comic Sans MS"/>
              </a:rPr>
              <a:t>Шаг 3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5254560" y="4200480"/>
            <a:ext cx="3889440" cy="26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dur="indefinite" fill="hold">
                      <p:stCondLst>
                        <p:cond delay="indefinite"/>
                      </p:stCondLst>
                      <p:childTnLst>
                        <p:par>
                          <p:cTn id="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52280" y="150840"/>
            <a:ext cx="8534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Book Antiqua"/>
              </a:rPr>
              <a:t>ИМЕНА ПРИЛАГАТЕЛЬНЫЕ СТАВЯТСЯ  В ТОМ ЖЕ ПАДЕЖЕ , ЧТО И ИМЕНА СУЩЕСТВИТЕЛЬНЫЕ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"/>
          <p:cNvSpPr/>
          <p:nvPr/>
        </p:nvSpPr>
        <p:spPr>
          <a:xfrm>
            <a:off x="152280" y="1989000"/>
            <a:ext cx="9144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spcBef>
                <a:spcPts val="1001"/>
              </a:spcBef>
              <a:tabLst>
                <a:tab algn="l" pos="0"/>
                <a:tab algn="l" pos="706320"/>
                <a:tab algn="l" pos="1620720"/>
                <a:tab algn="l" pos="2535120"/>
                <a:tab algn="l" pos="3449520"/>
                <a:tab algn="l" pos="4363920"/>
                <a:tab algn="l" pos="5278320"/>
                <a:tab algn="l" pos="6192720"/>
                <a:tab algn="l" pos="7107120"/>
                <a:tab algn="l" pos="8021520"/>
                <a:tab algn="l" pos="8935920"/>
                <a:tab algn="l" pos="9850320"/>
                <a:tab algn="l" pos="9883800"/>
                <a:tab algn="l" pos="10333080"/>
                <a:tab algn="l" pos="10782360"/>
              </a:tabLst>
            </a:pPr>
            <a:r>
              <a:rPr b="0" lang="kk-KZ" sz="4000" spc="-1" strike="noStrike">
                <a:solidFill>
                  <a:srgbClr val="564b3c"/>
                </a:solidFill>
                <a:latin typeface="Century Gothic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36440">
              <a:spcBef>
                <a:spcPts val="1001"/>
              </a:spcBef>
              <a:tabLst>
                <a:tab algn="l" pos="0"/>
                <a:tab algn="l" pos="706320"/>
                <a:tab algn="l" pos="1620720"/>
                <a:tab algn="l" pos="2535120"/>
                <a:tab algn="l" pos="3449520"/>
                <a:tab algn="l" pos="4363920"/>
                <a:tab algn="l" pos="5278320"/>
                <a:tab algn="l" pos="6192720"/>
                <a:tab algn="l" pos="7107120"/>
                <a:tab algn="l" pos="8021520"/>
                <a:tab algn="l" pos="8935920"/>
                <a:tab algn="l" pos="98503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36440">
              <a:spcBef>
                <a:spcPts val="1001"/>
              </a:spcBef>
              <a:tabLst>
                <a:tab algn="l" pos="0"/>
                <a:tab algn="l" pos="706320"/>
                <a:tab algn="l" pos="1620720"/>
                <a:tab algn="l" pos="2535120"/>
                <a:tab algn="l" pos="3449520"/>
                <a:tab algn="l" pos="4363920"/>
                <a:tab algn="l" pos="5278320"/>
                <a:tab algn="l" pos="6192720"/>
                <a:tab algn="l" pos="7107120"/>
                <a:tab algn="l" pos="8021520"/>
                <a:tab algn="l" pos="8935920"/>
                <a:tab algn="l" pos="9850320"/>
                <a:tab algn="l" pos="9883800"/>
                <a:tab algn="l" pos="10333080"/>
                <a:tab algn="l" pos="10782360"/>
              </a:tabLst>
            </a:pPr>
            <a:r>
              <a:rPr b="1" lang="kk-KZ" sz="40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kk-KZ" sz="4000" spc="-1" strike="noStrike">
                <a:solidFill>
                  <a:srgbClr val="c00000"/>
                </a:solidFill>
                <a:latin typeface="Century Gothic"/>
              </a:rPr>
              <a:t>Какой</a:t>
            </a:r>
            <a:r>
              <a:rPr b="1" lang="kk-KZ" sz="40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kk-KZ" sz="4000" spc="-1" strike="noStrike">
                <a:solidFill>
                  <a:srgbClr val="636042"/>
                </a:solidFill>
                <a:latin typeface="Century Gothic"/>
              </a:rPr>
              <a:t>город </a:t>
            </a:r>
            <a:r>
              <a:rPr b="1" lang="ru-RU" sz="4000" spc="-1" strike="noStrike">
                <a:solidFill>
                  <a:srgbClr val="636042"/>
                </a:solidFill>
                <a:latin typeface="Century Gothic"/>
              </a:rPr>
              <a:t>? </a:t>
            </a: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Больш</a:t>
            </a:r>
            <a:r>
              <a:rPr b="1" lang="ru-RU" sz="4000" spc="-1" strike="noStrike">
                <a:solidFill>
                  <a:srgbClr val="c00000"/>
                </a:solidFill>
                <a:latin typeface="Century Gothic"/>
              </a:rPr>
              <a:t>ой</a:t>
            </a: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 (И.п.)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36440">
              <a:spcBef>
                <a:spcPts val="1001"/>
              </a:spcBef>
              <a:tabLst>
                <a:tab algn="l" pos="0"/>
                <a:tab algn="l" pos="706320"/>
                <a:tab algn="l" pos="1620720"/>
                <a:tab algn="l" pos="2535120"/>
                <a:tab algn="l" pos="3449520"/>
                <a:tab algn="l" pos="4363920"/>
                <a:tab algn="l" pos="5278320"/>
                <a:tab algn="l" pos="6192720"/>
                <a:tab algn="l" pos="7107120"/>
                <a:tab algn="l" pos="8021520"/>
                <a:tab algn="l" pos="8935920"/>
                <a:tab algn="l" pos="98503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entury Gothic"/>
              </a:rPr>
              <a:t>Какого</a:t>
            </a: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ru-RU" sz="4000" spc="-1" strike="noStrike">
                <a:solidFill>
                  <a:srgbClr val="636042"/>
                </a:solidFill>
                <a:latin typeface="Century Gothic"/>
              </a:rPr>
              <a:t>города? </a:t>
            </a: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Больш</a:t>
            </a:r>
            <a:r>
              <a:rPr b="1" lang="ru-RU" sz="4000" spc="-1" strike="noStrike">
                <a:solidFill>
                  <a:srgbClr val="c00000"/>
                </a:solidFill>
                <a:latin typeface="Century Gothic"/>
              </a:rPr>
              <a:t>ого</a:t>
            </a: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(Р.п</a:t>
            </a:r>
            <a:r>
              <a:rPr b="1" lang="ru-RU" sz="4000" spc="-1" strike="noStrike">
                <a:solidFill>
                  <a:srgbClr val="564b3c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36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06320"/>
                <a:tab algn="l" pos="1620720"/>
                <a:tab algn="l" pos="2535120"/>
                <a:tab algn="l" pos="3449520"/>
                <a:tab algn="l" pos="4363920"/>
                <a:tab algn="l" pos="5278320"/>
                <a:tab algn="l" pos="6192720"/>
                <a:tab algn="l" pos="7107120"/>
                <a:tab algn="l" pos="8021520"/>
                <a:tab algn="l" pos="8935920"/>
                <a:tab algn="l" pos="98503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c1812"/>
                </a:solidFill>
                <a:latin typeface="Arial"/>
              </a:rPr>
              <a:t>Какому </a:t>
            </a:r>
            <a:r>
              <a:rPr b="1" lang="ru-RU" sz="4000" spc="-1" strike="noStrike">
                <a:solidFill>
                  <a:srgbClr val="564b3c"/>
                </a:solidFill>
                <a:latin typeface="Arial"/>
              </a:rPr>
              <a:t>городу? Больш</a:t>
            </a:r>
            <a:r>
              <a:rPr b="1" lang="ru-RU" sz="4000" spc="-1" strike="noStrike">
                <a:solidFill>
                  <a:srgbClr val="fc1812"/>
                </a:solidFill>
                <a:latin typeface="Arial"/>
              </a:rPr>
              <a:t>ому</a:t>
            </a: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(</a:t>
            </a:r>
            <a:r>
              <a:rPr b="1" lang="ru-RU" sz="4000" spc="-1" strike="noStrike">
                <a:solidFill>
                  <a:srgbClr val="564b3c"/>
                </a:solidFill>
                <a:latin typeface="Arial"/>
              </a:rPr>
              <a:t>Д</a:t>
            </a: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.п.)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457200" y="23796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Book Antiqua"/>
              </a:rPr>
              <a:t>ПАДЕЖНЫЕ ОКОНЧАНИЯ ИМЁН ПРИЛАГАТЕЛЬНЫХ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066680"/>
            <a:ext cx="87631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227160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64b3c"/>
                </a:solidFill>
                <a:latin typeface="Century Gothic"/>
              </a:rPr>
              <a:t>       </a:t>
            </a:r>
            <a:r>
              <a:rPr b="1" lang="ru-RU" sz="3600" spc="-1" strike="noStrike">
                <a:solidFill>
                  <a:srgbClr val="564b3c"/>
                </a:solidFill>
                <a:latin typeface="Century Gothic"/>
              </a:rPr>
              <a:t>Мужской    Женский   Средний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227160">
              <a:spcBef>
                <a:spcPts val="1001"/>
              </a:spcBef>
              <a:buClr>
                <a:srgbClr val="93a299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Р.п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227160">
              <a:spcBef>
                <a:spcPts val="1001"/>
              </a:spcBef>
              <a:buClr>
                <a:srgbClr val="93a299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Д.п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227160">
              <a:spcBef>
                <a:spcPts val="1001"/>
              </a:spcBef>
              <a:buClr>
                <a:srgbClr val="93a299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В.п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227160">
              <a:spcBef>
                <a:spcPts val="1001"/>
              </a:spcBef>
              <a:buClr>
                <a:srgbClr val="93a299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Т.п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227160">
              <a:spcBef>
                <a:spcPts val="1001"/>
              </a:spcBef>
              <a:buClr>
                <a:srgbClr val="93a299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П.п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"/>
          <p:cNvSpPr/>
          <p:nvPr/>
        </p:nvSpPr>
        <p:spPr>
          <a:xfrm>
            <a:off x="1447920" y="1981080"/>
            <a:ext cx="1295280" cy="60984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ff3300"/>
                </a:solidFill>
                <a:latin typeface="Century Gothic"/>
              </a:rPr>
              <a:t>ого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0" y="1905120"/>
            <a:ext cx="1600200" cy="60948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ff3300"/>
                </a:solidFill>
                <a:latin typeface="Century Gothic"/>
              </a:rPr>
              <a:t>ей,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ff3300"/>
                </a:solidFill>
                <a:latin typeface="Century Gothic"/>
              </a:rPr>
              <a:t>ой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"/>
          <p:cNvSpPr/>
          <p:nvPr/>
        </p:nvSpPr>
        <p:spPr>
          <a:xfrm>
            <a:off x="6372360" y="1905120"/>
            <a:ext cx="1171440" cy="60948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800" spc="-1" strike="noStrike">
                <a:solidFill>
                  <a:srgbClr val="ff3300"/>
                </a:solidFill>
                <a:latin typeface="Century Gothic"/>
              </a:rPr>
              <a:t>его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0" y="3789360"/>
            <a:ext cx="1600200" cy="55404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3300"/>
                </a:solidFill>
                <a:latin typeface="Century Gothic"/>
              </a:rPr>
              <a:t>ую,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3300"/>
                </a:solidFill>
                <a:latin typeface="Century Gothic"/>
              </a:rPr>
              <a:t>юю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"/>
          <p:cNvSpPr/>
          <p:nvPr/>
        </p:nvSpPr>
        <p:spPr>
          <a:xfrm>
            <a:off x="1523880" y="5257800"/>
            <a:ext cx="1371600" cy="53352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800" spc="-1" strike="noStrike">
                <a:solidFill>
                  <a:srgbClr val="ff3300"/>
                </a:solidFill>
                <a:latin typeface="Century Gothic"/>
              </a:rPr>
              <a:t>ом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"/>
          <p:cNvSpPr/>
          <p:nvPr/>
        </p:nvSpPr>
        <p:spPr>
          <a:xfrm>
            <a:off x="1523880" y="4581360"/>
            <a:ext cx="1295640" cy="57636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800" spc="-1" strike="noStrike">
                <a:solidFill>
                  <a:srgbClr val="ff3300"/>
                </a:solidFill>
                <a:latin typeface="Century Gothic"/>
              </a:rPr>
              <a:t>ым 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"/>
          <p:cNvSpPr/>
          <p:nvPr/>
        </p:nvSpPr>
        <p:spPr>
          <a:xfrm>
            <a:off x="1523880" y="3789360"/>
            <a:ext cx="1219320" cy="57636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800" spc="-1" strike="noStrike">
                <a:solidFill>
                  <a:srgbClr val="ff3300"/>
                </a:solidFill>
                <a:latin typeface="Century Gothic"/>
              </a:rPr>
              <a:t>ой 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0" y="2819520"/>
            <a:ext cx="1600200" cy="68580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ff3300"/>
                </a:solidFill>
                <a:latin typeface="Century Gothic"/>
              </a:rPr>
              <a:t>ей,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ff3300"/>
                </a:solidFill>
                <a:latin typeface="Century Gothic"/>
              </a:rPr>
              <a:t>ой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"/>
          <p:cNvSpPr/>
          <p:nvPr/>
        </p:nvSpPr>
        <p:spPr>
          <a:xfrm>
            <a:off x="1523880" y="2997360"/>
            <a:ext cx="1219320" cy="57600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000" spc="-1" strike="noStrike">
                <a:solidFill>
                  <a:srgbClr val="ff3300"/>
                </a:solidFill>
                <a:latin typeface="Century Gothic"/>
              </a:rPr>
              <a:t>ому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"/>
          <p:cNvSpPr/>
          <p:nvPr/>
        </p:nvSpPr>
        <p:spPr>
          <a:xfrm>
            <a:off x="6324480" y="2997360"/>
            <a:ext cx="1344600" cy="58392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ff3300"/>
                </a:solidFill>
                <a:latin typeface="Century Gothic"/>
              </a:rPr>
              <a:t>ему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"/>
          <p:cNvSpPr/>
          <p:nvPr/>
        </p:nvSpPr>
        <p:spPr>
          <a:xfrm>
            <a:off x="6443640" y="5373720"/>
            <a:ext cx="1225440" cy="57636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ff3300"/>
                </a:solidFill>
                <a:latin typeface="Century Gothic"/>
              </a:rPr>
              <a:t>ом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4581360"/>
            <a:ext cx="1219320" cy="57636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800" spc="-1" strike="noStrike">
                <a:solidFill>
                  <a:srgbClr val="ff3300"/>
                </a:solidFill>
                <a:latin typeface="Century Gothic"/>
              </a:rPr>
              <a:t>им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"/>
          <p:cNvSpPr/>
          <p:nvPr/>
        </p:nvSpPr>
        <p:spPr>
          <a:xfrm>
            <a:off x="6443640" y="3860640"/>
            <a:ext cx="1225440" cy="57636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ff3300"/>
                </a:solidFill>
                <a:latin typeface="Century Gothic"/>
              </a:rPr>
              <a:t>ое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"/>
          <p:cNvSpPr/>
          <p:nvPr/>
        </p:nvSpPr>
        <p:spPr>
          <a:xfrm>
            <a:off x="6443640" y="4581360"/>
            <a:ext cx="1225440" cy="57636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800" spc="-1" strike="noStrike">
                <a:solidFill>
                  <a:srgbClr val="ff3300"/>
                </a:solidFill>
                <a:latin typeface="Century Gothic"/>
              </a:rPr>
              <a:t>им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"/>
          <p:cNvSpPr/>
          <p:nvPr/>
        </p:nvSpPr>
        <p:spPr>
          <a:xfrm>
            <a:off x="7596360" y="1905120"/>
            <a:ext cx="1242720" cy="60948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800" spc="-1" strike="noStrike">
                <a:solidFill>
                  <a:srgbClr val="ff3300"/>
                </a:solidFill>
                <a:latin typeface="Century Gothic"/>
              </a:rPr>
              <a:t>ого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"/>
          <p:cNvSpPr/>
          <p:nvPr/>
        </p:nvSpPr>
        <p:spPr>
          <a:xfrm>
            <a:off x="7667640" y="2997360"/>
            <a:ext cx="1225440" cy="57600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ff3300"/>
                </a:solidFill>
                <a:latin typeface="Century Gothic"/>
              </a:rPr>
              <a:t>ому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"/>
          <p:cNvSpPr/>
          <p:nvPr/>
        </p:nvSpPr>
        <p:spPr>
          <a:xfrm>
            <a:off x="7667640" y="4581360"/>
            <a:ext cx="1225440" cy="57636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ff3300"/>
                </a:solidFill>
                <a:latin typeface="Century Gothic"/>
              </a:rPr>
              <a:t>ым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1" name=""/>
          <p:cNvSpPr/>
          <p:nvPr/>
        </p:nvSpPr>
        <p:spPr>
          <a:xfrm>
            <a:off x="2819520" y="3809880"/>
            <a:ext cx="1295280" cy="57636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800" spc="-1" strike="noStrike">
                <a:solidFill>
                  <a:srgbClr val="ff3300"/>
                </a:solidFill>
                <a:latin typeface="Century Gothic"/>
              </a:rPr>
              <a:t>ый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"/>
          <p:cNvSpPr/>
          <p:nvPr/>
        </p:nvSpPr>
        <p:spPr>
          <a:xfrm>
            <a:off x="2819520" y="2971800"/>
            <a:ext cx="1225440" cy="57636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ff3300"/>
                </a:solidFill>
                <a:latin typeface="Century Gothic"/>
              </a:rPr>
              <a:t>ему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1981080"/>
            <a:ext cx="1371600" cy="60984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ff3300"/>
                </a:solidFill>
                <a:latin typeface="Century Gothic"/>
              </a:rPr>
              <a:t>его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"/>
          <p:cNvSpPr/>
          <p:nvPr/>
        </p:nvSpPr>
        <p:spPr>
          <a:xfrm>
            <a:off x="7667640" y="5373720"/>
            <a:ext cx="1225440" cy="57636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ff3300"/>
                </a:solidFill>
                <a:latin typeface="Century Gothic"/>
              </a:rPr>
              <a:t>ем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5" name=""/>
          <p:cNvSpPr/>
          <p:nvPr/>
        </p:nvSpPr>
        <p:spPr>
          <a:xfrm>
            <a:off x="4648320" y="5410080"/>
            <a:ext cx="1460520" cy="56988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ff3300"/>
                </a:solidFill>
                <a:latin typeface="Century Gothic"/>
              </a:rPr>
              <a:t>ой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,-</a:t>
            </a:r>
            <a:r>
              <a:rPr b="0" lang="ru-RU" sz="3600" spc="-1" strike="noStrike">
                <a:solidFill>
                  <a:srgbClr val="ff3300"/>
                </a:solidFill>
                <a:latin typeface="Century Gothic"/>
              </a:rPr>
              <a:t>ей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"/>
          <p:cNvSpPr/>
          <p:nvPr/>
        </p:nvSpPr>
        <p:spPr>
          <a:xfrm>
            <a:off x="7667640" y="3860640"/>
            <a:ext cx="1225440" cy="57636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ff3300"/>
                </a:solidFill>
                <a:latin typeface="Century Gothic"/>
              </a:rPr>
              <a:t>ее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7" name=""/>
          <p:cNvSpPr/>
          <p:nvPr/>
        </p:nvSpPr>
        <p:spPr>
          <a:xfrm>
            <a:off x="2971800" y="5257800"/>
            <a:ext cx="1219320" cy="53352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800" spc="-1" strike="noStrike">
                <a:solidFill>
                  <a:srgbClr val="ff3300"/>
                </a:solidFill>
                <a:latin typeface="Century Gothic"/>
              </a:rPr>
              <a:t>ем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"/>
          <p:cNvSpPr/>
          <p:nvPr/>
        </p:nvSpPr>
        <p:spPr>
          <a:xfrm>
            <a:off x="4648320" y="4581360"/>
            <a:ext cx="1523880" cy="67644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ff3300"/>
                </a:solidFill>
                <a:latin typeface="Century Gothic"/>
              </a:rPr>
              <a:t>ой,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ff3300"/>
                </a:solidFill>
                <a:latin typeface="Century Gothic"/>
              </a:rPr>
              <a:t>ей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2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9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9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1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2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3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7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8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425520" y="395280"/>
            <a:ext cx="8261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 Antiqua"/>
                <a:ea typeface="Arial"/>
              </a:rPr>
              <a:t>СПИШИТЕ, ВСТАВИВ ПРОПУЩЕННЫЕ БУКВ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" y="1447920"/>
            <a:ext cx="822960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64b3c"/>
                </a:solidFill>
                <a:latin typeface="Century Gothic"/>
              </a:rPr>
              <a:t>                     </a:t>
            </a:r>
            <a:r>
              <a:rPr b="1" lang="ru-RU" sz="3200" spc="-1" strike="noStrike">
                <a:solidFill>
                  <a:srgbClr val="564b3c"/>
                </a:solidFill>
                <a:latin typeface="Arial"/>
              </a:rPr>
              <a:t>Село Моргауши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64b3c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Моргауши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–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один из 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современн….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сёл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Чувашск… Республики.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Он является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районн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… центром. На главн…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улице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села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возвысились красив….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обновлённые з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дания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 районн… администрации и ФСК. Спортивн… комплекс  б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ыл открыт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 совсем недавно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.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 Там очень много различн… кружков и секций. С каждым годом село  растёт и обновляется.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Мы любим на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ш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родн…..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районн… центр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04920" y="291960"/>
            <a:ext cx="8261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 Antiqua"/>
                <a:ea typeface="Arial"/>
              </a:rPr>
              <a:t>СПИШИТЕ, ВСТАВИВ ПРОПУЩЕННЫЕ БУКВ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1371600"/>
            <a:ext cx="91440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64b3c"/>
                </a:solidFill>
                <a:latin typeface="Century Gothic"/>
              </a:rPr>
              <a:t>                     </a:t>
            </a:r>
            <a:r>
              <a:rPr b="1" lang="ru-RU" sz="3200" spc="-1" strike="noStrike">
                <a:solidFill>
                  <a:srgbClr val="564b3c"/>
                </a:solidFill>
                <a:latin typeface="Arial"/>
              </a:rPr>
              <a:t>Село Моргауши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64b3c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Моргауши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–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один из 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современн</a:t>
            </a:r>
            <a:r>
              <a:rPr b="1" lang="ru-RU" sz="2800" spc="-1" strike="noStrike">
                <a:solidFill>
                  <a:srgbClr val="fc1812"/>
                </a:solidFill>
                <a:latin typeface="Century Gothic"/>
              </a:rPr>
              <a:t>ых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сёл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Чувашск</a:t>
            </a:r>
            <a:r>
              <a:rPr b="1" lang="ru-RU" sz="2800" spc="-1" strike="noStrike">
                <a:solidFill>
                  <a:srgbClr val="fc1812"/>
                </a:solidFill>
                <a:latin typeface="Arial"/>
              </a:rPr>
              <a:t>ой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 Республики.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Он является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районн</a:t>
            </a:r>
            <a:r>
              <a:rPr b="1" lang="ru-RU" sz="2800" spc="-1" strike="noStrike">
                <a:solidFill>
                  <a:srgbClr val="fc1812"/>
                </a:solidFill>
                <a:latin typeface="Century Gothic"/>
              </a:rPr>
              <a:t>ым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центром. На главн</a:t>
            </a:r>
            <a:r>
              <a:rPr b="1" lang="ru-RU" sz="2800" spc="-1" strike="noStrike">
                <a:solidFill>
                  <a:srgbClr val="fc1812"/>
                </a:solidFill>
                <a:latin typeface="Century Gothic"/>
              </a:rPr>
              <a:t>ой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улице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села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возвысились красив</a:t>
            </a:r>
            <a:r>
              <a:rPr b="1" lang="ru-RU" sz="2800" spc="-1" strike="noStrike">
                <a:solidFill>
                  <a:srgbClr val="fc1812"/>
                </a:solidFill>
                <a:latin typeface="Century Gothic"/>
              </a:rPr>
              <a:t>ые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обновлённые з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дания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 районн</a:t>
            </a:r>
            <a:r>
              <a:rPr b="1" lang="ru-RU" sz="2800" spc="-1" strike="noStrike">
                <a:solidFill>
                  <a:srgbClr val="fc1812"/>
                </a:solidFill>
                <a:latin typeface="Arial"/>
              </a:rPr>
              <a:t>ой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 администрации и ФСК. Спортивн</a:t>
            </a:r>
            <a:r>
              <a:rPr b="1" lang="ru-RU" sz="2800" spc="-1" strike="noStrike">
                <a:solidFill>
                  <a:srgbClr val="fc1812"/>
                </a:solidFill>
                <a:latin typeface="Arial"/>
              </a:rPr>
              <a:t>ый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 комплекс  б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ыл открыт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 совсем недавно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.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 Там очень много различн</a:t>
            </a:r>
            <a:r>
              <a:rPr b="1" lang="ru-RU" sz="2800" spc="-1" strike="noStrike">
                <a:solidFill>
                  <a:srgbClr val="fc1812"/>
                </a:solidFill>
                <a:latin typeface="Arial"/>
              </a:rPr>
              <a:t>ых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 кружков и секций. С каждым годом село  растёт и обновляется.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Мы любим на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ш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родн</a:t>
            </a:r>
            <a:r>
              <a:rPr b="1" lang="ru-RU" sz="2800" spc="-1" strike="noStrike">
                <a:solidFill>
                  <a:srgbClr val="fc1812"/>
                </a:solidFill>
                <a:latin typeface="Century Gothic"/>
              </a:rPr>
              <a:t>ой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районн</a:t>
            </a:r>
            <a:r>
              <a:rPr b="1" lang="ru-RU" sz="2800" spc="-1" strike="noStrike">
                <a:solidFill>
                  <a:srgbClr val="fc1812"/>
                </a:solidFill>
                <a:latin typeface="Arial"/>
              </a:rPr>
              <a:t>ый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 центр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248520" y="1676520"/>
            <a:ext cx="2232000" cy="115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знак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мет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"/>
          <p:cNvSpPr/>
          <p:nvPr/>
        </p:nvSpPr>
        <p:spPr>
          <a:xfrm>
            <a:off x="6248520" y="3200400"/>
            <a:ext cx="2232000" cy="115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мет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"/>
          <p:cNvSpPr/>
          <p:nvPr/>
        </p:nvSpPr>
        <p:spPr>
          <a:xfrm>
            <a:off x="6248520" y="4648320"/>
            <a:ext cx="2232000" cy="115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йствие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2438280" y="2057400"/>
            <a:ext cx="1720800" cy="37432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2209680" y="1960560"/>
            <a:ext cx="2332080" cy="3840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400760" y="380880"/>
            <a:ext cx="66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Gothic"/>
              </a:rPr>
              <a:t>Прилагательное обозначает</a:t>
            </a: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….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dur="indefinite" fill="hold">
                      <p:stCondLst>
                        <p:cond delay="0"/>
                      </p:stCondLst>
                      <p:childTnLst>
                        <p:par>
                          <p:cTn id="4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dur="indefinite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503" dur="indefinite" nodeType="clickEffect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50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33"/>
                                      </p:to>
                                    </p:animClr>
                                    <p:set>
                                      <p:cBhvr>
                                        <p:cTn id="50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dur="indefinite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521" dur="indefinite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5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bomb.wav"/>
                                  </p:tgtEl>
                                </p:cMediaNode>
                              </p:audio>
                              <p:par>
                                <p:cTn id="525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52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dur="indefinite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539" dur="indefinite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5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bomb.wav"/>
                                  </p:tgtEl>
                                </p:cMediaNode>
                              </p:audio>
                              <p:par>
                                <p:cTn id="543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54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127920" y="350352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числам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"/>
          <p:cNvSpPr/>
          <p:nvPr/>
        </p:nvSpPr>
        <p:spPr>
          <a:xfrm>
            <a:off x="6124680" y="4952880"/>
            <a:ext cx="244476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родам,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ислам и падежам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"/>
          <p:cNvSpPr/>
          <p:nvPr/>
        </p:nvSpPr>
        <p:spPr>
          <a:xfrm>
            <a:off x="6127920" y="2133720"/>
            <a:ext cx="2232000" cy="115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родам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1600200" y="2208240"/>
            <a:ext cx="2330280" cy="37432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2514600" cy="41148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533520" y="6094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Gothic"/>
              </a:rPr>
              <a:t>Как изменяется прилагательное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dur="indefinite" fill="hold">
                      <p:stCondLst>
                        <p:cond delay="0"/>
                      </p:stCondLst>
                      <p:childTnLst>
                        <p:par>
                          <p:cTn id="5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dur="indefinite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570" dur="indefinite" nodeType="clickEffect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5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bomb.wav"/>
                                  </p:tgtEl>
                                </p:cMediaNode>
                              </p:audio>
                              <p:par>
                                <p:cTn id="574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57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dur="indefinite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588" dur="indefinite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58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33"/>
                                      </p:to>
                                    </p:animClr>
                                    <p:set>
                                      <p:cBhvr>
                                        <p:cTn id="59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dur="indefinite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606" dur="indefinite" nodeType="clickEffect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60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bomb.wav"/>
                                  </p:tgtEl>
                                </p:cMediaNode>
                              </p:audio>
                              <p:par>
                                <p:cTn id="610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0" y="44280"/>
          <a:ext cx="4572000" cy="69375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1711440">
                <a:tc>
                  <a:txBody>
                    <a:bodyPr tIns="77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a23a28"/>
                          </a:solidFill>
                          <a:latin typeface="Century Gothic"/>
                        </a:rPr>
                        <a:t>Имя прилагательное – это…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1170720">
                <a:tc>
                  <a:txBody>
                    <a:bodyPr tIns="77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Обозначает…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1711440">
                <a:tc>
                  <a:txBody>
                    <a:bodyPr tIns="77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Отвечает на вопросы…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633600">
                <a:tc>
                  <a:txBody>
                    <a:bodyPr tIns="77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a23a28"/>
                          </a:solidFill>
                          <a:latin typeface="Century Gothic"/>
                        </a:rPr>
                        <a:t>Изменяется по…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1710360">
                <a:tc>
                  <a:txBody>
                    <a:bodyPr tIns="77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В предложении является……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4581360" y="19080"/>
          <a:ext cx="4562640" cy="1744560"/>
        </p:xfrm>
        <a:graphic>
          <a:graphicData uri="http://schemas.openxmlformats.org/drawingml/2006/table">
            <a:tbl>
              <a:tblPr/>
              <a:tblGrid>
                <a:gridCol w="4562640"/>
              </a:tblGrid>
              <a:tr h="174456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4400" spc="-1" strike="noStrike">
                          <a:solidFill>
                            <a:srgbClr val="a23a28"/>
                          </a:solidFill>
                          <a:latin typeface="Century Gothic"/>
                        </a:rPr>
                        <a:t>часть реч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4619520" y="1844640"/>
          <a:ext cx="4524480" cy="1333440"/>
        </p:xfrm>
        <a:graphic>
          <a:graphicData uri="http://schemas.openxmlformats.org/drawingml/2006/table">
            <a:tbl>
              <a:tblPr/>
              <a:tblGrid>
                <a:gridCol w="4524480"/>
              </a:tblGrid>
              <a:tr h="133344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п</a:t>
                      </a: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ризнак</a:t>
                      </a: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предмет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4643280" y="3068640"/>
          <a:ext cx="4500720" cy="146376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65600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Какой? Какая ? Какое? Какие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4643280" y="4581360"/>
          <a:ext cx="4500720" cy="133992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48176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по родам, числам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и .......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4572000" y="5791320"/>
          <a:ext cx="4537080" cy="121896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121896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определение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2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2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5715000" y="380988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.п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"/>
          <p:cNvSpPr/>
          <p:nvPr/>
        </p:nvSpPr>
        <p:spPr>
          <a:xfrm>
            <a:off x="5748480" y="518940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.п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"/>
          <p:cNvSpPr/>
          <p:nvPr/>
        </p:nvSpPr>
        <p:spPr>
          <a:xfrm>
            <a:off x="5692680" y="2154240"/>
            <a:ext cx="2232000" cy="115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.п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2590920" y="2286000"/>
            <a:ext cx="1720800" cy="37432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2239920" y="2133720"/>
            <a:ext cx="2484360" cy="39621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533520" y="4572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 падеж имен прилагательных в словосочетания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шел перед последним уроком,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юбуюсь вечерним небом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dur="indefinite" fill="hold">
                      <p:stCondLst>
                        <p:cond delay="0"/>
                      </p:stCondLst>
                      <p:childTnLst>
                        <p:par>
                          <p:cTn id="6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dur="indefinite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637" dur="indefinite" nodeType="clickEffect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63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1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33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dur="indefinite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655" dur="indefinite" nodeType="clickEffect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65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bomb.wav"/>
                                  </p:tgtEl>
                                </p:cMediaNode>
                              </p:audio>
                              <p:par>
                                <p:cTn id="659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2" dur="indefinite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673" dur="indefinite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67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bomb.wav"/>
                                  </p:tgtEl>
                                </p:cMediaNode>
                              </p:audio>
                              <p:par>
                                <p:cTn id="677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67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122880" y="1676520"/>
            <a:ext cx="2232000" cy="115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в…юбк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"/>
          <p:cNvSpPr/>
          <p:nvPr/>
        </p:nvSpPr>
        <p:spPr>
          <a:xfrm>
            <a:off x="6122880" y="3068640"/>
            <a:ext cx="2232000" cy="115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машн…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т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"/>
          <p:cNvSpPr/>
          <p:nvPr/>
        </p:nvSpPr>
        <p:spPr>
          <a:xfrm>
            <a:off x="6156360" y="457992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н… мор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2819520" y="2252520"/>
            <a:ext cx="1720800" cy="37436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2666880" y="1981080"/>
            <a:ext cx="2667240" cy="41148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1295280" y="45720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каком имени прилагательном нужно писать окончание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яя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dur="indefinite" fill="hold">
                      <p:stCondLst>
                        <p:cond delay="0"/>
                      </p:stCondLst>
                      <p:childTnLst>
                        <p:par>
                          <p:cTn id="6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dur="indefinite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704" dur="indefinite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70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bomb.wav"/>
                                  </p:tgtEl>
                                </p:cMediaNode>
                              </p:audio>
                              <p:par>
                                <p:cTn id="708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dur="indefinite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722" dur="indefinite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72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6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33"/>
                                      </p:to>
                                    </p:animClr>
                                    <p:set>
                                      <p:cBhvr>
                                        <p:cTn id="72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5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9" dur="indefinite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740" dur="indefinite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74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bomb.wav"/>
                                  </p:tgtEl>
                                </p:cMediaNode>
                              </p:audio>
                              <p:par>
                                <p:cTn id="744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74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6156360" y="3048120"/>
            <a:ext cx="2232000" cy="115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.п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"/>
          <p:cNvSpPr/>
          <p:nvPr/>
        </p:nvSpPr>
        <p:spPr>
          <a:xfrm>
            <a:off x="6178680" y="1695600"/>
            <a:ext cx="2232000" cy="1199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п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"/>
          <p:cNvSpPr/>
          <p:nvPr/>
        </p:nvSpPr>
        <p:spPr>
          <a:xfrm>
            <a:off x="6156360" y="457992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.п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2819520" y="2252520"/>
            <a:ext cx="1720800" cy="37436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2666880" y="1981080"/>
            <a:ext cx="2514600" cy="41148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152280" y="1270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 падеж имен прилагательных в словосочетаниях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дену синюю юбку,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итаю увлекательную книгу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dur="indefinite" fill="hold">
                      <p:stCondLst>
                        <p:cond delay="0"/>
                      </p:stCondLst>
                      <p:childTnLst>
                        <p:par>
                          <p:cTn id="7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0" dur="indefinite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771" dur="indefinite" nodeType="clickEffect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77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bomb.wav"/>
                                  </p:tgtEl>
                                </p:cMediaNode>
                              </p:audio>
                              <p:par>
                                <p:cTn id="775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77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8" dur="indefinite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789" dur="indefinite" nodeType="clickEffect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79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3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33"/>
                                      </p:to>
                                    </p:animClr>
                                    <p:set>
                                      <p:cBhvr>
                                        <p:cTn id="79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2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6" dur="indefinite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807" dur="indefinite" nodeType="clickEffect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80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bomb.wav"/>
                                  </p:tgtEl>
                                </p:cMediaNode>
                              </p:audio>
                              <p:par>
                                <p:cTn id="811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6156360" y="3048120"/>
            <a:ext cx="2232000" cy="115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полнени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"/>
          <p:cNvSpPr/>
          <p:nvPr/>
        </p:nvSpPr>
        <p:spPr>
          <a:xfrm>
            <a:off x="6178680" y="1695600"/>
            <a:ext cx="2232000" cy="1199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6" name=""/>
          <p:cNvSpPr/>
          <p:nvPr/>
        </p:nvSpPr>
        <p:spPr>
          <a:xfrm>
            <a:off x="6178680" y="4579920"/>
            <a:ext cx="244476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стоятельство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2819520" y="2252520"/>
            <a:ext cx="1720800" cy="374364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2666880" y="1981080"/>
            <a:ext cx="2514600" cy="41148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52280" y="127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"/>
          <p:cNvSpPr/>
          <p:nvPr/>
        </p:nvSpPr>
        <p:spPr>
          <a:xfrm>
            <a:off x="304920" y="5335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им членом предложения бывает имя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лагательное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dur="indefinite" fill="hold">
                      <p:stCondLst>
                        <p:cond delay="0"/>
                      </p:stCondLst>
                      <p:childTnLst>
                        <p:par>
                          <p:cTn id="8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7" dur="indefinite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838" dur="indefinite" nodeType="clickEffect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83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bomb.wav"/>
                                  </p:tgtEl>
                                </p:cMediaNode>
                              </p:audio>
                              <p:par>
                                <p:cTn id="842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84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5" dur="indefinite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856" dur="indefinite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8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0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33"/>
                                      </p:to>
                                    </p:animClr>
                                    <p:set>
                                      <p:cBhvr>
                                        <p:cTn id="86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3" dur="indefinite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874" dur="indefinite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87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bomb.wav"/>
                                  </p:tgtEl>
                                </p:cMediaNode>
                              </p:audio>
                              <p:par>
                                <p:cTn id="878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7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95280" y="33336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00"/>
                </a:solidFill>
                <a:latin typeface="Book Antiqua"/>
              </a:rPr>
              <a:t>   </a:t>
            </a:r>
            <a:r>
              <a:rPr b="1" lang="ru-RU" sz="4600" spc="-1" strike="noStrike">
                <a:solidFill>
                  <a:srgbClr val="006600"/>
                </a:solidFill>
                <a:latin typeface="Book Antiqua"/>
              </a:rPr>
              <a:t>ИМЯ ПРИЛАГАТЕЛЬНОЕ</a:t>
            </a:r>
            <a:endParaRPr b="0" lang="en-US" sz="4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Century Gothic"/>
              </a:rPr>
              <a:t>ЧАСТЬ РЕЧ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1280" indent="-2286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Century Gothic"/>
              </a:rPr>
              <a:t>ОБОЗНАЧАЕТ ПРИЗНАК ПРЕДМЕТ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1280" indent="-2286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Century Gothic"/>
              </a:rPr>
              <a:t>ОТВЕЧАЕТ НА ВОПРОСЫ КАКОЙ? ЧЕЙ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1280" indent="-2286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Century Gothic"/>
              </a:rPr>
              <a:t>ИЗМЕНЯЕТСЯ ПО РОДАМ В ЕД. ЧИСЛЕ, ПО ЧИСЛАМ И ПАДЕЖАМ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1280" indent="-2286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Century Gothic"/>
              </a:rPr>
              <a:t>В ПРЕДЛОЖЕНИИ МОЖЕТ БЫТЬ ОПРЕДЕЛЕНИЕМ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1280" indent="-2286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Century Gothic"/>
              </a:rPr>
              <a:t>ДЕЛАЕТ НАШУ РЕЧЬ ЯРКОЙ, ОБРАЗНОЙ, ТОЧНОЙ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ipe dir="d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dur="indefinite" nodeType="clickEffect" fill="hold">
                      <p:stCondLst>
                        <p:cond delay="0"/>
                      </p:stCondLst>
                      <p:childTnLst>
                        <p:par>
                          <p:cTn id="89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 fill="hold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898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75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75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572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dur="indefinite" nodeType="click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909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75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75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572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dur="indefinite" nodeType="click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16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75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175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572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dur="indefinite" nodeType="click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923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75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75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572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dur="indefinite" nodeType="click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30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75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75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572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dur="indefinite" fill="hold">
                            <p:stCondLst>
                              <p:cond delay="9750"/>
                            </p:stCondLst>
                            <p:childTnLst>
                              <p:par>
                                <p:cTn id="937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75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75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572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5d1203"/>
                </a:solidFill>
                <a:latin typeface="Georgia"/>
              </a:rPr>
              <a:t>Домашняя работа</a:t>
            </a:r>
            <a:endParaRPr b="0" lang="en-US" sz="31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1285920"/>
            <a:ext cx="3957480" cy="1927080"/>
          </a:xfrm>
          <a:prstGeom prst="cloudCallout">
            <a:avLst>
              <a:gd name="adj1" fmla="val 7870"/>
              <a:gd name="adj2" fmla="val 40708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ты оцениваешь работу своей группы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"/>
          <p:cNvSpPr/>
          <p:nvPr/>
        </p:nvSpPr>
        <p:spPr>
          <a:xfrm>
            <a:off x="4857840" y="285840"/>
            <a:ext cx="4286160" cy="1714320"/>
          </a:xfrm>
          <a:prstGeom prst="cloudCallout">
            <a:avLst>
              <a:gd name="adj1" fmla="val -28518"/>
              <a:gd name="adj2" fmla="val 3871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ты оцениваешь свою работу на уроке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1054080" y="3352680"/>
            <a:ext cx="4454640" cy="2559240"/>
            <a:chOff x="1054080" y="3352680"/>
            <a:chExt cx="4454640" cy="2559240"/>
          </a:xfrm>
        </p:grpSpPr>
        <p:pic>
          <p:nvPicPr>
            <p:cNvPr id="439" name="" descr=""/>
            <p:cNvPicPr/>
            <p:nvPr/>
          </p:nvPicPr>
          <p:blipFill>
            <a:blip r:embed="rId2"/>
            <a:stretch/>
          </p:blipFill>
          <p:spPr>
            <a:xfrm>
              <a:off x="1054080" y="3352680"/>
              <a:ext cx="4454640" cy="255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1682640" y="3713040"/>
              <a:ext cx="2890800" cy="153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Что тебе понравилось сегодня на уроке?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5357880" y="2428920"/>
            <a:ext cx="3786120" cy="1643040"/>
          </a:xfrm>
          <a:prstGeom prst="cloudCallout">
            <a:avLst>
              <a:gd name="adj1" fmla="val -28518"/>
              <a:gd name="adj2" fmla="val 38717"/>
            </a:avLst>
          </a:prstGeom>
          <a:gradFill rotWithShape="0">
            <a:gsLst>
              <a:gs pos="0">
                <a:srgbClr val="005cbf"/>
              </a:gs>
              <a:gs pos="100000">
                <a:srgbClr val="21d6e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крыл ли ты для себя сегодня что-то новое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714240" y="214200"/>
            <a:ext cx="7559640" cy="618804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468360" y="79200"/>
            <a:ext cx="8496360" cy="11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dur="indefinite" fill="hold">
                      <p:stCondLst>
                        <p:cond delay="indefinite"/>
                      </p:stCondLst>
                      <p:childTnLst>
                        <p:par>
                          <p:cTn id="9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1000" fill="hold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dur="indefinite" fill="hold">
                      <p:stCondLst>
                        <p:cond delay="indefinite"/>
                      </p:stCondLst>
                      <p:childTnLst>
                        <p:par>
                          <p:cTn id="9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1000" fill="hold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dur="indefinite" fill="hold">
                      <p:stCondLst>
                        <p:cond delay="indefinite"/>
                      </p:stCondLst>
                      <p:childTnLst>
                        <p:par>
                          <p:cTn id="9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1000" fill="hold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dur="indefinite" fill="hold">
                      <p:stCondLst>
                        <p:cond delay="indefinite"/>
                      </p:stCondLst>
                      <p:childTnLst>
                        <p:par>
                          <p:cTn id="9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1000" fill="hold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dur="indefinite" fill="hold">
                      <p:stCondLst>
                        <p:cond delay="indefinite"/>
                      </p:stCondLst>
                      <p:childTnLst>
                        <p:par>
                          <p:cTn id="9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1000" fill="hold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68360" y="40464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Род имен прилагательных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1066680"/>
            <a:ext cx="82296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64b3c"/>
                </a:solidFill>
                <a:latin typeface="Century Gothic"/>
              </a:rPr>
              <a:t>    </a:t>
            </a:r>
            <a:r>
              <a:rPr b="1" lang="ru-RU" sz="3600" spc="-1" strike="noStrike">
                <a:solidFill>
                  <a:srgbClr val="564b3c"/>
                </a:solidFill>
                <a:latin typeface="Century Gothic"/>
              </a:rPr>
              <a:t>Какой?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5261040" y="990720"/>
            <a:ext cx="34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23a28"/>
                </a:solidFill>
                <a:latin typeface="Tahoma"/>
              </a:rPr>
              <a:t>мужской род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1143000"/>
            <a:ext cx="1439640" cy="380880"/>
          </a:xfrm>
          <a:prstGeom prst="rightArrow">
            <a:avLst>
              <a:gd name="adj1" fmla="val 50000"/>
              <a:gd name="adj2" fmla="val 63591"/>
            </a:avLst>
          </a:prstGeom>
          <a:solidFill>
            <a:srgbClr val="93a2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"/>
          <p:cNvSpPr/>
          <p:nvPr/>
        </p:nvSpPr>
        <p:spPr>
          <a:xfrm>
            <a:off x="2441160" y="4673520"/>
            <a:ext cx="15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23a28"/>
                </a:solidFill>
                <a:latin typeface="Tahoma"/>
              </a:rPr>
              <a:t>город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313" name=""/>
          <p:cNvCxnSpPr/>
          <p:nvPr/>
        </p:nvCxnSpPr>
        <p:spPr>
          <a:xfrm flipH="1">
            <a:off x="2449080" y="5335560"/>
            <a:ext cx="82800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4" name=""/>
          <p:cNvCxnSpPr/>
          <p:nvPr/>
        </p:nvCxnSpPr>
        <p:spPr>
          <a:xfrm>
            <a:off x="6019920" y="5410080"/>
            <a:ext cx="721440" cy="55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-57240" y="56070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ужской род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"/>
          <p:cNvSpPr/>
          <p:nvPr/>
        </p:nvSpPr>
        <p:spPr>
          <a:xfrm flipH="1" flipV="1" rot="10800000">
            <a:off x="5362920" y="6005160"/>
            <a:ext cx="34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ужской род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024520" y="46735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красив</a:t>
            </a:r>
            <a:r>
              <a:rPr b="1" lang="ru-RU" sz="3600" spc="-1" strike="noStrike">
                <a:solidFill>
                  <a:srgbClr val="fc1812"/>
                </a:solidFill>
                <a:latin typeface="Tahoma"/>
              </a:rPr>
              <a:t>ый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2590920" y="1752480"/>
            <a:ext cx="426708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 fill="hold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64b3c"/>
                </a:solidFill>
                <a:latin typeface="Century Gothic"/>
              </a:rPr>
              <a:t>    </a:t>
            </a:r>
            <a:r>
              <a:rPr b="1" lang="ru-RU" sz="3600" spc="-1" strike="noStrike">
                <a:solidFill>
                  <a:srgbClr val="564b3c"/>
                </a:solidFill>
                <a:latin typeface="Century Gothic"/>
              </a:rPr>
              <a:t>Какая?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218920" y="404640"/>
            <a:ext cx="34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23a28"/>
                </a:solidFill>
                <a:latin typeface="Tahoma"/>
              </a:rPr>
              <a:t>женский род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"/>
          <p:cNvSpPr/>
          <p:nvPr/>
        </p:nvSpPr>
        <p:spPr>
          <a:xfrm>
            <a:off x="3287880" y="566640"/>
            <a:ext cx="1439640" cy="48420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93a2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"/>
          <p:cNvSpPr/>
          <p:nvPr/>
        </p:nvSpPr>
        <p:spPr>
          <a:xfrm>
            <a:off x="2057400" y="4673520"/>
            <a:ext cx="251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23a28"/>
                </a:solidFill>
                <a:latin typeface="Tahoma"/>
              </a:rPr>
              <a:t>столиц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323" name=""/>
          <p:cNvCxnSpPr/>
          <p:nvPr/>
        </p:nvCxnSpPr>
        <p:spPr>
          <a:xfrm flipH="1">
            <a:off x="2449080" y="5335560"/>
            <a:ext cx="82800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4" name=""/>
          <p:cNvCxnSpPr/>
          <p:nvPr/>
        </p:nvCxnSpPr>
        <p:spPr>
          <a:xfrm>
            <a:off x="5867280" y="5410080"/>
            <a:ext cx="721440" cy="55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5" name=""/>
          <p:cNvSpPr/>
          <p:nvPr/>
        </p:nvSpPr>
        <p:spPr>
          <a:xfrm>
            <a:off x="-57240" y="56070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женский род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"/>
          <p:cNvSpPr/>
          <p:nvPr/>
        </p:nvSpPr>
        <p:spPr>
          <a:xfrm flipH="1" flipV="1" rot="10800000">
            <a:off x="5362920" y="6005160"/>
            <a:ext cx="34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женский род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025960" y="4673520"/>
            <a:ext cx="34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современная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2362320" y="1219320"/>
            <a:ext cx="487656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 fill="hold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7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7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7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7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dur="indefinite" fill="hold">
                      <p:stCondLst>
                        <p:cond delay="indefinite"/>
                      </p:stCondLst>
                      <p:childTnLst>
                        <p:par>
                          <p:cTn id="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64b3c"/>
                </a:solidFill>
                <a:latin typeface="Century Gothic"/>
              </a:rPr>
              <a:t>    </a:t>
            </a:r>
            <a:r>
              <a:rPr b="1" lang="ru-RU" sz="3600" spc="-1" strike="noStrike">
                <a:solidFill>
                  <a:srgbClr val="564b3c"/>
                </a:solidFill>
                <a:latin typeface="Century Gothic"/>
              </a:rPr>
              <a:t>Какое?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5218920" y="404640"/>
            <a:ext cx="34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f543f"/>
                </a:solidFill>
                <a:latin typeface="Tahoma"/>
              </a:rPr>
              <a:t>средний род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"/>
          <p:cNvSpPr/>
          <p:nvPr/>
        </p:nvSpPr>
        <p:spPr>
          <a:xfrm>
            <a:off x="3287880" y="566640"/>
            <a:ext cx="1439640" cy="48420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93a2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"/>
          <p:cNvSpPr/>
          <p:nvPr/>
        </p:nvSpPr>
        <p:spPr>
          <a:xfrm>
            <a:off x="2446200" y="467352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c1812"/>
                </a:solidFill>
                <a:latin typeface="Tahoma"/>
              </a:rPr>
              <a:t>село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333" name=""/>
          <p:cNvCxnSpPr/>
          <p:nvPr/>
        </p:nvCxnSpPr>
        <p:spPr>
          <a:xfrm flipH="1">
            <a:off x="2449080" y="5335560"/>
            <a:ext cx="82800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4" name=""/>
          <p:cNvCxnSpPr/>
          <p:nvPr/>
        </p:nvCxnSpPr>
        <p:spPr>
          <a:xfrm>
            <a:off x="5638680" y="5333760"/>
            <a:ext cx="721440" cy="55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380880" y="579132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редний род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"/>
          <p:cNvSpPr/>
          <p:nvPr/>
        </p:nvSpPr>
        <p:spPr>
          <a:xfrm flipH="1" flipV="1" rot="10800000">
            <a:off x="5362920" y="6005160"/>
            <a:ext cx="34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редний род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024520" y="46735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русское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388620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 fill="hold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75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75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 fill="hold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260280"/>
            <a:ext cx="9540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 Antiqua"/>
              </a:rPr>
              <a:t>ИЗМЕНЕНИЕ ПРИЛАГАТЕЛЬНЫХ ПО ЧИСЛАМ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"/>
          <p:cNvSpPr/>
          <p:nvPr/>
        </p:nvSpPr>
        <p:spPr>
          <a:xfrm>
            <a:off x="468360" y="1614600"/>
            <a:ext cx="748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Единственное число     </a:t>
            </a:r>
            <a:r>
              <a:rPr b="1" lang="ru-RU" sz="3600" spc="-1" strike="noStrike">
                <a:solidFill>
                  <a:srgbClr val="cf543f"/>
                </a:solidFill>
                <a:latin typeface="Tahoma"/>
              </a:rPr>
              <a:t>какой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f543f"/>
                </a:solidFill>
                <a:latin typeface="Tahoma"/>
              </a:rPr>
              <a:t>                                         </a:t>
            </a:r>
            <a:r>
              <a:rPr b="1" lang="ru-RU" sz="3600" spc="-1" strike="noStrike">
                <a:solidFill>
                  <a:srgbClr val="cf543f"/>
                </a:solidFill>
                <a:latin typeface="Tahoma"/>
              </a:rPr>
              <a:t>какая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f543f"/>
                </a:solidFill>
                <a:latin typeface="Tahoma"/>
              </a:rPr>
              <a:t>                                         </a:t>
            </a:r>
            <a:r>
              <a:rPr b="1" lang="ru-RU" sz="3600" spc="-1" strike="noStrike">
                <a:solidFill>
                  <a:srgbClr val="cf543f"/>
                </a:solidFill>
                <a:latin typeface="Tahoma"/>
              </a:rPr>
              <a:t>какое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Множественное число      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1" lang="ru-RU" sz="3600" spc="-1" strike="noStrike">
                <a:solidFill>
                  <a:srgbClr val="cf543f"/>
                </a:solidFill>
                <a:latin typeface="Tahoma"/>
              </a:rPr>
              <a:t>какие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dur="indefinite" fill="hold">
                      <p:stCondLst>
                        <p:cond delay="indefinite"/>
                      </p:stCondLst>
                      <p:childTnLst>
                        <p:par>
                          <p:cTn id="2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04920" y="48769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c1812"/>
                </a:solidFill>
                <a:latin typeface="Tahoma"/>
              </a:rPr>
              <a:t>столицы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438280" y="548640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ahoma"/>
              </a:rPr>
              <a:t>(какие?)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"/>
          <p:cNvSpPr/>
          <p:nvPr/>
        </p:nvSpPr>
        <p:spPr>
          <a:xfrm>
            <a:off x="5334120" y="5141880"/>
            <a:ext cx="370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4419f9"/>
                </a:solidFill>
                <a:latin typeface="Tahoma"/>
              </a:rPr>
              <a:t>величав</a:t>
            </a:r>
            <a:r>
              <a:rPr b="1" lang="ru-RU" sz="4400" spc="-1" strike="noStrike">
                <a:solidFill>
                  <a:srgbClr val="fc1812"/>
                </a:solidFill>
                <a:latin typeface="Tahoma"/>
              </a:rPr>
              <a:t>ые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3962520" cy="32004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4876920" y="1066680"/>
            <a:ext cx="388620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dur="indefinite" fill="hold">
                      <p:stCondLst>
                        <p:cond delay="indefinite"/>
                      </p:stCondLst>
                      <p:childTnLst>
                        <p:par>
                          <p:cTn id="2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dur="indefinite" fill="hold">
                      <p:stCondLst>
                        <p:cond delay="indefinite"/>
                      </p:stCondLst>
                      <p:childTnLst>
                        <p:par>
                          <p:cTn id="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57200" y="1967040"/>
            <a:ext cx="80010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550b32"/>
                </a:solidFill>
                <a:latin typeface="Book Antiqua"/>
              </a:rPr>
              <a:t>ТЕМА  УРОКА:</a:t>
            </a:r>
            <a:br>
              <a:rPr sz="3600"/>
            </a:br>
            <a:r>
              <a:rPr b="1" lang="ru-RU" sz="3600" spc="-1" strike="noStrike">
                <a:solidFill>
                  <a:srgbClr val="550b32"/>
                </a:solidFill>
                <a:latin typeface="Book Antiqua"/>
              </a:rPr>
              <a:t>«СКЛОНЕНИЕ ИМЁН ПРИЛАГАТЕЛЬНЫХ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745560" y="1134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dur="indefinite" fill="hold">
                      <p:stCondLst>
                        <p:cond delay="indefinite"/>
                      </p:stCondLst>
                      <p:childTnLst>
                        <p:par>
                          <p:cTn id="2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3000" fill="hold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3657600"/>
            <a:ext cx="8261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9144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d0303"/>
                </a:solidFill>
                <a:latin typeface="Century Gothic"/>
              </a:rPr>
              <a:t>Вспомни, что  такое  СКЛОНЕНИЕ?</a:t>
            </a:r>
            <a:br>
              <a:rPr sz="3200"/>
            </a:br>
            <a:r>
              <a:rPr b="1" lang="ru-RU" sz="3200" spc="-1" strike="noStrike">
                <a:solidFill>
                  <a:srgbClr val="5d0303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12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d0303"/>
                </a:solidFill>
                <a:latin typeface="Century Gothic"/>
              </a:rPr>
              <a:t>Подумай, а как склоняются имена прилагательные? 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12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d0303"/>
                </a:solidFill>
                <a:latin typeface="Century Gothic"/>
              </a:rPr>
              <a:t>Что нужно знать?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dmin</cp:lastModifiedBy>
  <dcterms:modified xsi:type="dcterms:W3CDTF">2012-02-20T19:04:07Z</dcterms:modified>
  <cp:revision>37</cp:revision>
  <dc:subject/>
  <dc:title>                 Астана</dc:title>
</cp:coreProperties>
</file>