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21.wmf" ContentType="image/x-wmf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4.png" ContentType="image/png"/>
  <Override PartName="/ppt/media/bomb.wav" ContentType="audio/x-wav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dt" idx="1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CC7B8-C94B-4835-863E-51799994B73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0394D0-A0F9-4715-BA67-D054F87783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D43E-08FC-4852-B897-F758FAC90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6023-CC60-4B77-B0BB-992F2E0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F1BA-9D65-4C5D-B527-036B847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E05B-9AB9-4112-B6B7-D355CB401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420D6-4F02-4742-879A-D98B3ECB2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51089-1BA2-459A-AFD8-321B11A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AFC52-52C9-4984-9AFE-975C48A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1EF38-C4FD-4353-AEF4-54E789D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E0DB-6E8A-45D8-A6F0-62DFB0C1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BEF2-8948-468E-BFD4-03FD4C92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7AE84-30C1-4261-852D-726DA0F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AE17-6BEA-41E2-A13C-B5F9D4B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E10A3-C30E-4A0C-9477-B4BF5F2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2F9C5-8A64-4EEC-B5BF-B2442B2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42CE-1627-403D-B730-3A076E4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EFDE8-B969-4AAD-8C89-BC5B59B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564DA-9E79-46A9-8701-02CC5ACD5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216C-A8E7-452E-80AD-2C93FB0EA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219-B763-4A9A-8896-1A74B2E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723-BA4D-4B0A-BCC0-FDCC1A4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556-F7E3-4B9F-91EA-1CAC0A3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2AB7-F1C8-4E56-A9F0-294EB8BD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F086-E937-4CB6-8D4D-6124D1E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F8C-4DFC-46C5-ABB5-512ED19F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AB2E-94CD-4088-8232-B7853BA0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EACD-7401-4C6A-A049-007DBF6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EF2-4E1F-4F9E-A0B3-98DC6075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B01A-FE08-47E1-9EC7-5673745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4946-5816-4435-BAA7-B1ABD5DB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64CF-FD9D-420C-95D6-A8A6E5186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AC0E8-2AFF-4C1A-B683-012830615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14F64-F2ED-40C9-9FC6-5F91B879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0236F-C90A-4B65-A923-4F8E53FA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44B0-6673-4E24-AEB3-F03EA4FC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105D0-0C96-4879-B1E9-0E76F3E7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12EC8-8BA8-41E4-8341-E7C0A6BD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7A3BC-965F-4C4D-9C0C-A2790885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019D0-2088-4945-A926-F28B012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9897B-68B5-4E6E-915D-81A75F92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C39D1-B462-4611-82A2-210D5D9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9543-6F25-49EE-B2C6-7696A22E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BC8BF-7C56-4980-880A-23AE4F1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26456-2534-4850-892A-11D257877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78D3F-D362-4577-A4E4-99492366D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423B-81EC-44C0-840D-597382FF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7C453-B9BD-4A60-B480-1BC0824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442D2-9987-47BC-AAD6-08A6A837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9B7C9-9A73-43D3-96EB-EA589068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49C4A-7884-4773-B30D-7832C9A7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72957-9F3F-44FE-B015-B70AD353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5C142-20F6-4470-B282-44CEFDE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4D627-C422-4D3D-80CB-762FD90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5A070-B4C9-4CF4-B633-648FBDA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09412-8783-41B7-ADA0-87421B7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D58D4-DFC3-43B4-B0DC-AEAB200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9004-7AD5-4D4A-99B4-12D70A1A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D0A52-46FD-48BB-98CF-64EA18B87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0A8A-8326-42F6-8017-B90E87F7D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A699-3808-4FA0-B408-15B6653C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4C68-66B8-4F11-A83A-068E3A6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CB51-B46D-45AA-8DF9-4977B25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B051-90CE-4512-B644-961D4A5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347400"/>
            <a:ext cx="8259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389E-CC95-4080-9726-87424A0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19572-C7A0-4C7A-8E84-EDD239CF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68DA-9755-4430-AAB1-75B17DC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AD56-903B-46B0-B45B-783C522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05AA-D2E2-43DB-908E-C9AFB96E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DD88-D545-460B-9E8C-8806946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0194-7261-4651-9E42-C0E5886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28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1360" y="175212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28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1360" y="4035960"/>
            <a:ext cx="264924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CA8F-0611-4241-90E8-37F336941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403596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DD8F-2EE9-43B7-9FE4-A456FE3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752120"/>
            <a:ext cx="40150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822816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8D5E-4945-4EBF-B59C-85B0AF9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CD44D5-595D-423F-8670-97ED4F130C89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68200" y="274680"/>
            <a:ext cx="8605800" cy="1333440"/>
            <a:chOff x="268200" y="274680"/>
            <a:chExt cx="8605800" cy="13334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580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320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6CC8934-3F04-4A17-A581-6AFD83918198}" type="slidenum">
              <a:rPr b="0" lang="ru-RU" sz="2800" spc="-1" strike="noStrike">
                <a:solidFill>
                  <a:srgbClr val="47534c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DD5446-34AC-4394-B3EA-718ED00E6F68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3077A5-FB46-45E0-B69F-CCAC59590722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A08FD6-D486-4BB0-BFF3-F829F137ECDD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1942A7-48A8-44AE-9B2E-C79230636B6C}" type="slidenum">
              <a:rPr b="0" lang="ru-RU" sz="1200" spc="-1" strike="noStrike">
                <a:solidFill>
                  <a:srgbClr val="564b3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8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Georgia"/>
              </a:rPr>
              <a:t>Всем привет! Будьте внимательным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Georgia"/>
              </a:rPr>
              <a:t>на уроке! Успехов и удачи вам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существительное, связанное с именем прилагате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1828800"/>
            <a:ext cx="31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 </a:t>
            </a: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1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380880"/>
            <a:ext cx="6275160" cy="703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лгоритм работы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26920" y="3213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 падеж  имени существительн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1143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2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26668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адежу существительного определить падеж прилагательного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6858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Шаг 3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150840"/>
            <a:ext cx="8534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ИМЕНА ПРИЛАГАТЕЛЬНЫЕ СТАВЯТСЯ  В ТОМ ЖЕ ПАДЕЖЕ , ЧТО И ИМЕНА СУЩЕСТВИТЕЛЬНЫЕ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989000"/>
            <a:ext cx="914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0" lang="kk-KZ" sz="4000" spc="-1" strike="noStrike">
                <a:solidFill>
                  <a:srgbClr val="564b3c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kk-KZ" sz="4000" spc="-1" strike="noStrike">
                <a:solidFill>
                  <a:srgbClr val="c00000"/>
                </a:solidFill>
                <a:latin typeface="Century Gothic"/>
              </a:rPr>
              <a:t>Какой</a:t>
            </a:r>
            <a:r>
              <a:rPr b="1" lang="kk-KZ" sz="4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kk-KZ" sz="4000" spc="-1" strike="noStrike">
                <a:solidFill>
                  <a:srgbClr val="636042"/>
                </a:solidFill>
                <a:latin typeface="Century Gothic"/>
              </a:rPr>
              <a:t>город </a:t>
            </a:r>
            <a:r>
              <a:rPr b="1" lang="ru-RU" sz="4000" spc="-1" strike="noStrike">
                <a:solidFill>
                  <a:srgbClr val="636042"/>
                </a:solidFill>
                <a:latin typeface="Century Gothic"/>
              </a:rPr>
              <a:t>? 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Больш</a:t>
            </a: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ой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 (И.п.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Какого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636042"/>
                </a:solidFill>
                <a:latin typeface="Century Gothic"/>
              </a:rPr>
              <a:t>города? 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Больш</a:t>
            </a:r>
            <a:r>
              <a:rPr b="1" lang="ru-RU" sz="4000" spc="-1" strike="noStrike">
                <a:solidFill>
                  <a:srgbClr val="c00000"/>
                </a:solidFill>
                <a:latin typeface="Century Gothic"/>
              </a:rPr>
              <a:t>ого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(Р.п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06320"/>
                <a:tab algn="l" pos="1620720"/>
                <a:tab algn="l" pos="2535120"/>
                <a:tab algn="l" pos="3449520"/>
                <a:tab algn="l" pos="4363920"/>
                <a:tab algn="l" pos="5278320"/>
                <a:tab algn="l" pos="6192720"/>
                <a:tab algn="l" pos="7107120"/>
                <a:tab algn="l" pos="8021520"/>
                <a:tab algn="l" pos="8935920"/>
                <a:tab algn="l" pos="98503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c1812"/>
                </a:solidFill>
                <a:latin typeface="Arial"/>
              </a:rPr>
              <a:t>Какому 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городу? Больш</a:t>
            </a:r>
            <a:r>
              <a:rPr b="1" lang="ru-RU" sz="4000" spc="-1" strike="noStrike">
                <a:solidFill>
                  <a:srgbClr val="fc1812"/>
                </a:solidFill>
                <a:latin typeface="Arial"/>
              </a:rPr>
              <a:t>ому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1" lang="ru-RU" sz="4000" spc="-1" strike="noStrike">
                <a:solidFill>
                  <a:srgbClr val="564b3c"/>
                </a:solidFill>
                <a:latin typeface="Arial"/>
              </a:rPr>
              <a:t>Д</a:t>
            </a: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.п.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237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Book Antiqua"/>
              </a:rPr>
              <a:t>ПАДЕЖНЫЕ ОКОНЧАНИЯ ИМЁН ПРИЛАГАТЕЛЬНЫХ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6680"/>
            <a:ext cx="87631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22716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Мужской    Женский   Средни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Р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Д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В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Т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716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64b3c"/>
                </a:solidFill>
                <a:latin typeface="Century Gothic"/>
              </a:rPr>
              <a:t>П.п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1981080"/>
            <a:ext cx="1295280" cy="6098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го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1905120"/>
            <a:ext cx="160020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1905120"/>
            <a:ext cx="117144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ег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789360"/>
            <a:ext cx="1600200" cy="5540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ую,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3300"/>
                </a:solidFill>
                <a:latin typeface="Century Gothic"/>
              </a:rPr>
              <a:t>юю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5257800"/>
            <a:ext cx="1371600" cy="5335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/>
          <p:nvPr/>
        </p:nvSpPr>
        <p:spPr>
          <a:xfrm>
            <a:off x="1523880" y="4581360"/>
            <a:ext cx="12956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ым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3789360"/>
            <a:ext cx="121932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й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819520"/>
            <a:ext cx="1600200" cy="6858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2997360"/>
            <a:ext cx="1219320" cy="5760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ому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2997360"/>
            <a:ext cx="1344600" cy="5839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537372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581360"/>
            <a:ext cx="121932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"/>
          <p:cNvSpPr/>
          <p:nvPr/>
        </p:nvSpPr>
        <p:spPr>
          <a:xfrm>
            <a:off x="6443640" y="386064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"/>
          <p:cNvSpPr/>
          <p:nvPr/>
        </p:nvSpPr>
        <p:spPr>
          <a:xfrm>
            <a:off x="6443640" y="458136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"/>
          <p:cNvSpPr/>
          <p:nvPr/>
        </p:nvSpPr>
        <p:spPr>
          <a:xfrm>
            <a:off x="7596360" y="1905120"/>
            <a:ext cx="1242720" cy="6094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ого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2997360"/>
            <a:ext cx="1225440" cy="57600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о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458136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ы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809880"/>
            <a:ext cx="129528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297180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981080"/>
            <a:ext cx="1371600" cy="6098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го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7667640" y="537372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м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5410080"/>
            <a:ext cx="1460520" cy="5698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,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"/>
          <p:cNvSpPr/>
          <p:nvPr/>
        </p:nvSpPr>
        <p:spPr>
          <a:xfrm>
            <a:off x="7667640" y="3860640"/>
            <a:ext cx="1225440" cy="57636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е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5257800"/>
            <a:ext cx="1219320" cy="53352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ff3300"/>
                </a:solidFill>
                <a:latin typeface="Century Gothic"/>
              </a:rPr>
              <a:t>ем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581360"/>
            <a:ext cx="1523880" cy="67644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ой,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25520" y="395280"/>
            <a:ext cx="826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Arial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1447920"/>
            <a:ext cx="82296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Село Моргауш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Моргауши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–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овременн….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ёл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Чувашск… Республики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Он является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… центром. На главн…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улиц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ела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возвысились красив….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дания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айонн… администрации и ФСК. Спортивн… комплекс  б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ыл открыт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совсем недавно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Там очень много различн… кружков и секций. С каждым годом село  растёт и обновляется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Мы любим на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ш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родн….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… центр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91960"/>
            <a:ext cx="826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Arial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371600"/>
            <a:ext cx="9144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Село Моргауш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Моргауши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–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овремен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х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ёл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Чувашск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еспублики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Он является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м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центром. На глав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улиц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села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возвысились красив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ые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дания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район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администрации и ФСК. Спортив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комплекс  б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ыл открыт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совсем недавно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Там очень много различ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х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кружков и секций. С каждым годом село  растёт и обновляется.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Мы любим на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ш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родн</a:t>
            </a:r>
            <a:r>
              <a:rPr b="1" lang="ru-RU" sz="2800" spc="-1" strike="noStrike">
                <a:solidFill>
                  <a:srgbClr val="fc1812"/>
                </a:solidFill>
                <a:latin typeface="Century Gothic"/>
              </a:rPr>
              <a:t>ой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fc1812"/>
                </a:solidFill>
                <a:latin typeface="Arial"/>
              </a:rPr>
              <a:t>ый</a:t>
            </a:r>
            <a:r>
              <a:rPr b="1" lang="ru-RU" sz="2800" spc="-1" strike="noStrike">
                <a:solidFill>
                  <a:srgbClr val="564b3c"/>
                </a:solidFill>
                <a:latin typeface="Arial"/>
              </a:rPr>
              <a:t> центр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248520" y="16765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20040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46483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209680" y="1960560"/>
            <a:ext cx="2332080" cy="3840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00760" y="38088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Прилагательное обозначает</a:t>
            </a: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0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dur="indefinite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03" dur="indefinite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5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dur="indefinite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1" dur="indefinite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52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dur="indefinite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39" dur="indefinite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54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127920" y="35035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числ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"/>
          <p:cNvSpPr/>
          <p:nvPr/>
        </p:nvSpPr>
        <p:spPr>
          <a:xfrm>
            <a:off x="6124680" y="4952880"/>
            <a:ext cx="244476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родам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ам и падежам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"/>
          <p:cNvSpPr/>
          <p:nvPr/>
        </p:nvSpPr>
        <p:spPr>
          <a:xfrm>
            <a:off x="6127920" y="21337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род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600200" y="2208240"/>
            <a:ext cx="2330280" cy="3743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609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Как изменяется прилагательное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dur="indefinite" fill="hold">
                      <p:stCondLst>
                        <p:cond delay="0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dur="indefinite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70" dur="indefinite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57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dur="indefinite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88" dur="indefinite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dur="indefinite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06" dur="indefinite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6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0" y="44280"/>
          <a:ext cx="4572000" cy="69375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1144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117072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1144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3360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10360">
                <a:tc>
                  <a:txBody>
                    <a:bodyPr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В предложении является…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3344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65600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643280" y="4581360"/>
          <a:ext cx="4500720" cy="13399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481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.......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пределение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715000" y="380988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.п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"/>
          <p:cNvSpPr/>
          <p:nvPr/>
        </p:nvSpPr>
        <p:spPr>
          <a:xfrm>
            <a:off x="5748480" y="518940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.п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15424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п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1720800" cy="3743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239920" y="2133720"/>
            <a:ext cx="2484360" cy="3962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335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 падеж имен прилагательных в словосочетания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перед последним уроком,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буюсь вечерним неб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dur="indefinite" fill="hold">
                      <p:stCondLst>
                        <p:cond delay="0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dur="indefinite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37" dur="indefinite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dur="indefinite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55" dur="indefinite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65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dur="indefinite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673" dur="indefinite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6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67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122880" y="16765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…юб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6122880" y="306864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… мор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667240" cy="4114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295280" y="4572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ком имени прилагательном нужно писать окончани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яя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dur="indefinite" fill="hold">
                      <p:stCondLst>
                        <p:cond delay="0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dur="indefinite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704" dur="indefinite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0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70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dur="indefinite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22" dur="indefinite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7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dur="indefinite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40" dur="indefinite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74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156360" y="30481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"/>
          <p:cNvSpPr/>
          <p:nvPr/>
        </p:nvSpPr>
        <p:spPr>
          <a:xfrm>
            <a:off x="6178680" y="1695600"/>
            <a:ext cx="2232000" cy="1199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"/>
          <p:cNvSpPr/>
          <p:nvPr/>
        </p:nvSpPr>
        <p:spPr>
          <a:xfrm>
            <a:off x="6156360" y="4579920"/>
            <a:ext cx="2232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п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2280" y="127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 падеж имен прилагательных в словосочетания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ену синюю юбку,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ю увлекательную книг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dur="indefinite" fill="hold">
                      <p:stCondLst>
                        <p:cond delay="0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dur="indefinite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1" dur="indefinite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77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dur="indefinite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789" dur="indefinite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7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7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dur="indefinite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807" dur="indefinite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8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81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156360" y="3048120"/>
            <a:ext cx="2232000" cy="115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"/>
          <p:cNvSpPr/>
          <p:nvPr/>
        </p:nvSpPr>
        <p:spPr>
          <a:xfrm>
            <a:off x="6178680" y="1695600"/>
            <a:ext cx="2232000" cy="1199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"/>
          <p:cNvSpPr/>
          <p:nvPr/>
        </p:nvSpPr>
        <p:spPr>
          <a:xfrm>
            <a:off x="6178680" y="4579920"/>
            <a:ext cx="244476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819520" y="2252520"/>
            <a:ext cx="1720800" cy="3743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2514600" cy="4114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52280" y="12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м членом предложения бывает имя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агательное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dur="indefinite" fill="hold">
                      <p:stCondLst>
                        <p:cond delay="0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dur="indefinite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38" dur="indefinite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bomb.wav"/>
                                  </p:tgtEl>
                                </p:cMediaNode>
                              </p:audio>
                              <p:par>
                                <p:cTn id="84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dur="indefinite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856" dur="indefinite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8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dur="indefinite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74" dur="indefinite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bomb.wav"/>
                                  </p:tgtEl>
                                </p:cMediaNode>
                              </p:audio>
                              <p:par>
                                <p:cTn id="87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333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00"/>
                </a:solidFill>
                <a:latin typeface="Book Antiqua"/>
              </a:rPr>
              <a:t>   </a:t>
            </a:r>
            <a:r>
              <a:rPr b="1" lang="ru-RU" sz="4600" spc="-1" strike="noStrike">
                <a:solidFill>
                  <a:srgbClr val="006600"/>
                </a:solidFill>
                <a:latin typeface="Book Antiqua"/>
              </a:rPr>
              <a:t>ИМЯ ПРИЛАГАТЕЛЬНОЕ</a:t>
            </a:r>
            <a:endParaRPr b="0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ЧАСТЬ РЕЧ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ОБОЗНАЧАЕТ ПРИЗНАК ПРЕДМ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ИЗМЕНЯЕТСЯ ПО РОДАМ В ЕД. ЧИСЛЕ, ПО ЧИСЛАМ И ПАДЕЖАМ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В ПРЕДЛОЖЕНИИ МОЖЕТ БЫТЬ ОПРЕДЕЛЕНИЕМ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12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Century Gothic"/>
              </a:rPr>
              <a:t>ДЕЛАЕТ НАШУ РЕЧЬ ЯРКОЙ, ОБРАЗНОЙ, ТОЧНОЙ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dur="indefinite" nodeType="clickEffect" fill="hold">
                      <p:stCondLst>
                        <p:cond delay="0"/>
                      </p:stCondLst>
                      <p:childTnLst>
                        <p:par>
                          <p:cTn id="8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98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75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75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572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dur="indefinite" nodeType="click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0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75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75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572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75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75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72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dur="indefinite" nodeType="click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9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75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75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572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75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75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72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dur="indefinite" fill="hold">
                            <p:stCondLst>
                              <p:cond delay="9750"/>
                            </p:stCondLst>
                            <p:childTnLst>
                              <p:par>
                                <p:cTn id="93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75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75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572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5d1203"/>
                </a:solidFill>
                <a:latin typeface="Georgia"/>
              </a:rPr>
              <a:t>Домашняя работа</a:t>
            </a:r>
            <a:endParaRPr b="0" lang="en-US" sz="3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1285920"/>
            <a:ext cx="3957480" cy="1927080"/>
          </a:xfrm>
          <a:prstGeom prst="cloudCallout">
            <a:avLst>
              <a:gd name="adj1" fmla="val 7870"/>
              <a:gd name="adj2" fmla="val 40708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работу своей группы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"/>
          <p:cNvSpPr/>
          <p:nvPr/>
        </p:nvSpPr>
        <p:spPr>
          <a:xfrm>
            <a:off x="4857840" y="285840"/>
            <a:ext cx="4286160" cy="171432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свою работу на урок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054080" y="3352680"/>
            <a:ext cx="4454640" cy="2559240"/>
            <a:chOff x="1054080" y="3352680"/>
            <a:chExt cx="4454640" cy="255924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1054080" y="3352680"/>
              <a:ext cx="4454640" cy="25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682640" y="3713040"/>
              <a:ext cx="2890800" cy="15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Что тебе понравилось сегодня на уроке?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357880" y="2428920"/>
            <a:ext cx="3786120" cy="164304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005cbf"/>
              </a:gs>
              <a:gs pos="100000">
                <a:srgbClr val="21d6e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л ли ты для себя сегодня что-то ново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714240" y="21420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dur="indefinite" fill="hold">
                      <p:stCondLst>
                        <p:cond delay="indefinite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dur="indefinite" fill="hold">
                      <p:stCondLst>
                        <p:cond delay="indefinite"/>
                      </p:stCondLst>
                      <p:childTnLst>
                        <p:par>
                          <p:cTn id="9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dur="indefinite" fill="hold">
                      <p:stCondLst>
                        <p:cond delay="indefinite"/>
                      </p:stCondLst>
                      <p:childTnLst>
                        <p:par>
                          <p:cTn id="9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dur="indefinite" fill="hold">
                      <p:stCondLst>
                        <p:cond delay="indefinite"/>
                      </p:stCondLst>
                      <p:childTnLst>
                        <p:par>
                          <p:cTn id="9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dur="indefinite" fill="hold">
                      <p:stCondLst>
                        <p:cond delay="indefinite"/>
                      </p:stCondLst>
                      <p:childTnLst>
                        <p:par>
                          <p:cTn id="9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68360" y="40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од имен прилагательных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0666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ой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61040" y="990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мужско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1143000"/>
            <a:ext cx="1439640" cy="380880"/>
          </a:xfrm>
          <a:prstGeom prst="rightArrow">
            <a:avLst>
              <a:gd name="adj1" fmla="val 50000"/>
              <a:gd name="adj2" fmla="val 63591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"/>
          <p:cNvSpPr/>
          <p:nvPr/>
        </p:nvSpPr>
        <p:spPr>
          <a:xfrm>
            <a:off x="2441160" y="467352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1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/>
          <p:nvPr/>
        </p:nvCxnSpPr>
        <p:spPr>
          <a:xfrm>
            <a:off x="6019920" y="5410080"/>
            <a:ext cx="72144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-57240" y="5607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жско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жско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4520" y="46735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расив</a:t>
            </a:r>
            <a:r>
              <a:rPr b="1" lang="ru-RU" sz="3600" spc="-1" strike="noStrike">
                <a:solidFill>
                  <a:srgbClr val="fc1812"/>
                </a:solidFill>
                <a:latin typeface="Tahoma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ая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18920" y="40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женски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"/>
          <p:cNvSpPr/>
          <p:nvPr/>
        </p:nvSpPr>
        <p:spPr>
          <a:xfrm>
            <a:off x="3287880" y="566640"/>
            <a:ext cx="1439640" cy="48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4673520"/>
            <a:ext cx="25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ahoma"/>
              </a:rPr>
              <a:t>столиц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2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>
            <a:off x="5867280" y="5410080"/>
            <a:ext cx="72144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-57240" y="5607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енск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енск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025960" y="4673520"/>
            <a:ext cx="34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современна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48765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3600" spc="-1" strike="noStrike">
                <a:solidFill>
                  <a:srgbClr val="564b3c"/>
                </a:solidFill>
                <a:latin typeface="Century Gothic"/>
              </a:rPr>
              <a:t>Какое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18920" y="40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средний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"/>
          <p:cNvSpPr/>
          <p:nvPr/>
        </p:nvSpPr>
        <p:spPr>
          <a:xfrm>
            <a:off x="3287880" y="566640"/>
            <a:ext cx="1439640" cy="48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93a2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"/>
          <p:cNvSpPr/>
          <p:nvPr/>
        </p:nvSpPr>
        <p:spPr>
          <a:xfrm>
            <a:off x="2446200" y="467352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c1812"/>
                </a:solidFill>
                <a:latin typeface="Tahoma"/>
              </a:rPr>
              <a:t>село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33" name=""/>
          <p:cNvCxnSpPr/>
          <p:nvPr/>
        </p:nvCxnSpPr>
        <p:spPr>
          <a:xfrm flipH="1">
            <a:off x="2449080" y="5335560"/>
            <a:ext cx="8280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>
            <a:off x="5638680" y="5333760"/>
            <a:ext cx="721440" cy="55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380880" y="57913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едн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 flipH="1" flipV="1" rot="10800000">
            <a:off x="5362920" y="6005160"/>
            <a:ext cx="34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едний род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24520" y="46735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усско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8862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260280"/>
            <a:ext cx="954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ИЗМЕНЕНИЕ ПРИЛАГАТЕЛЬНЫХ ПО ЧИСЛА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1460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Единственное число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ой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Множественное число     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ru-RU" sz="3600" spc="-1" strike="noStrike">
                <a:solidFill>
                  <a:srgbClr val="cf543f"/>
                </a:solidFill>
                <a:latin typeface="Tahoma"/>
              </a:rPr>
              <a:t>какие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876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c1812"/>
                </a:solidFill>
                <a:latin typeface="Tahoma"/>
              </a:rPr>
              <a:t>столицы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438280" y="54864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</a:rPr>
              <a:t>(какие?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5141880"/>
            <a:ext cx="37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419f9"/>
                </a:solidFill>
                <a:latin typeface="Tahoma"/>
              </a:rPr>
              <a:t>величав</a:t>
            </a:r>
            <a:r>
              <a:rPr b="1" lang="ru-RU" sz="4400" spc="-1" strike="noStrike">
                <a:solidFill>
                  <a:srgbClr val="fc1812"/>
                </a:solidFill>
                <a:latin typeface="Tahoma"/>
              </a:rPr>
              <a:t>ы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1967040"/>
            <a:ext cx="80010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550b32"/>
                </a:solidFill>
                <a:latin typeface="Book Antiqua"/>
              </a:rPr>
              <a:t>ТЕМА  УРОКА:</a:t>
            </a:r>
            <a:br>
              <a:rPr sz="3600"/>
            </a:br>
            <a:r>
              <a:rPr b="1" lang="ru-RU" sz="3600" spc="-1" strike="noStrike">
                <a:solidFill>
                  <a:srgbClr val="550b32"/>
                </a:solidFill>
                <a:latin typeface="Book Antiqua"/>
              </a:rPr>
              <a:t>«СКЛОНЕНИЕ ИМЁН ПРИЛАГАТЕЛЬНЫХ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3657600"/>
            <a:ext cx="826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Вспомни, что  такое  СКЛОНЕНИЕ?</a:t>
            </a:r>
            <a:br>
              <a:rPr sz="3200"/>
            </a:b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Подумай, а как склоняются имена прилагательные?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12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d0303"/>
                </a:solidFill>
                <a:latin typeface="Century Gothic"/>
              </a:rPr>
              <a:t>Что нужно знать?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min</cp:lastModifiedBy>
  <dcterms:modified xsi:type="dcterms:W3CDTF">2012-02-20T19:04:07Z</dcterms:modified>
  <cp:revision>37</cp:revision>
  <dc:subject/>
  <dc:title>                 Астана</dc:title>
</cp:coreProperties>
</file>