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E8F-70FC-43D0-B517-65BFF0CD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E3B-5FAF-4373-AB2C-7596A336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222-4750-4678-BFF0-AA249E22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1DD-F831-41E7-BC4A-6AECE92A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C04-4865-45B0-A70B-99817DC4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BDF-48CB-4C91-B7C9-D86C0834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E1A-860F-4721-B9C9-E8B7E6AB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80E-333F-498E-A15F-A583BEE8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B23-D824-4FD3-A27A-9C685A47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ACB-B63D-4224-91AD-FF3A303A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6B9-9E10-44FA-9584-E626AA0B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720-B9FB-4F47-A12C-E60E241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CD861A0-B59D-4EAE-8A76-89628287A7D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"/>
          <p:cNvPicPr/>
          <p:nvPr/>
        </p:nvPicPr>
        <p:blipFill>
          <a:blip r:embed="rId2"/>
          <a:stretch/>
        </p:blipFill>
        <p:spPr>
          <a:xfrm>
            <a:off x="579600" y="2940120"/>
            <a:ext cx="8021520" cy="246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3"/>
          <a:stretch/>
        </p:blipFill>
        <p:spPr>
          <a:xfrm>
            <a:off x="949320" y="3178080"/>
            <a:ext cx="1311120" cy="1312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2921040" y="3255840"/>
            <a:ext cx="438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Информация для человека</a:t>
            </a:r>
            <a:r>
              <a:rPr b="0" lang="ru-RU" sz="16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 — это сообщения (содержание сигналов), которые человек воспринимает с помощью специальных устройст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6" descr=""/>
          <p:cNvPicPr/>
          <p:nvPr/>
        </p:nvPicPr>
        <p:blipFill>
          <a:blip r:embed="rId4"/>
          <a:stretch/>
        </p:blipFill>
        <p:spPr>
          <a:xfrm>
            <a:off x="3267000" y="255600"/>
            <a:ext cx="2297160" cy="255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2"/>
          <a:stretch/>
        </p:blipFill>
        <p:spPr>
          <a:xfrm>
            <a:off x="4919760" y="717480"/>
            <a:ext cx="4300560" cy="3665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711360" y="1789200"/>
            <a:ext cx="38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Актуальность информации</a:t>
            </a:r>
            <a:r>
              <a:rPr b="1" lang="en-US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—</a:t>
            </a: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</a:t>
            </a: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свойство своевременности, информация устарела, значит, в ней отпала надобно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5151600" y="1228680"/>
            <a:ext cx="3182760" cy="24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5254560" y="1901880"/>
            <a:ext cx="758880" cy="15573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" descr=""/>
          <p:cNvPicPr/>
          <p:nvPr/>
        </p:nvPicPr>
        <p:blipFill>
          <a:blip r:embed="rId4"/>
          <a:stretch/>
        </p:blipFill>
        <p:spPr>
          <a:xfrm>
            <a:off x="5772240" y="1335240"/>
            <a:ext cx="655560" cy="7538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3" descr=""/>
          <p:cNvPicPr/>
          <p:nvPr/>
        </p:nvPicPr>
        <p:blipFill>
          <a:blip r:embed="rId5"/>
          <a:stretch/>
        </p:blipFill>
        <p:spPr>
          <a:xfrm>
            <a:off x="7337520" y="1927080"/>
            <a:ext cx="950760" cy="15195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6" descr=""/>
          <p:cNvPicPr/>
          <p:nvPr/>
        </p:nvPicPr>
        <p:blipFill>
          <a:blip r:embed="rId6"/>
          <a:stretch/>
        </p:blipFill>
        <p:spPr>
          <a:xfrm rot="991200">
            <a:off x="6555960" y="2255760"/>
            <a:ext cx="446040" cy="811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7"/>
          <p:cNvSpPr/>
          <p:nvPr/>
        </p:nvSpPr>
        <p:spPr>
          <a:xfrm rot="1009200">
            <a:off x="6529680" y="2519280"/>
            <a:ext cx="520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00" spc="-1" strike="noStrike">
                <a:solidFill>
                  <a:srgbClr val="5c525a"/>
                </a:solidFill>
                <a:latin typeface="Segoe UI Light"/>
                <a:ea typeface="Segoe UI Light"/>
              </a:rPr>
              <a:t>Занятий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00" spc="-1" strike="noStrike">
                <a:solidFill>
                  <a:srgbClr val="5c525a"/>
                </a:solidFill>
                <a:latin typeface="Segoe UI Light"/>
                <a:ea typeface="Segoe UI Light"/>
              </a:rPr>
              <a:t>не будет!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2"/>
          <a:stretch/>
        </p:blipFill>
        <p:spPr>
          <a:xfrm>
            <a:off x="4387680" y="717480"/>
            <a:ext cx="4832640" cy="36655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750960" y="16113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олезность информации</a:t>
            </a:r>
            <a:r>
              <a:rPr b="1" lang="en-US" sz="20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</a:t>
            </a:r>
            <a:r>
              <a:rPr b="0" lang="ru-RU" sz="20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4762440" y="1228680"/>
            <a:ext cx="3571920" cy="24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49160" y="2039760"/>
            <a:ext cx="296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 Light"/>
                <a:ea typeface="Segoe UI Light"/>
              </a:rPr>
              <a:t>Только полезная информация может быть для одних важн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Segoe UI Light"/>
                <a:ea typeface="Segoe UI Light"/>
              </a:rPr>
              <a:t>а для других она совершенно бесполез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8" descr=""/>
          <p:cNvPicPr/>
          <p:nvPr/>
        </p:nvPicPr>
        <p:blipFill>
          <a:blip r:embed="rId3"/>
          <a:stretch/>
        </p:blipFill>
        <p:spPr>
          <a:xfrm>
            <a:off x="5703840" y="1617840"/>
            <a:ext cx="2548080" cy="17571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9"/>
          <p:cNvSpPr/>
          <p:nvPr/>
        </p:nvSpPr>
        <p:spPr>
          <a:xfrm>
            <a:off x="5045040" y="1362240"/>
            <a:ext cx="1579680" cy="21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4" descr=""/>
          <p:cNvPicPr/>
          <p:nvPr/>
        </p:nvPicPr>
        <p:blipFill>
          <a:blip r:embed="rId4"/>
          <a:srcRect l="7261" t="-335" r="29261" b="0"/>
          <a:stretch/>
        </p:blipFill>
        <p:spPr>
          <a:xfrm>
            <a:off x="4890960" y="1611360"/>
            <a:ext cx="16750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2" descr=""/>
          <p:cNvPicPr/>
          <p:nvPr/>
        </p:nvPicPr>
        <p:blipFill>
          <a:blip r:embed="rId2"/>
          <a:stretch/>
        </p:blipFill>
        <p:spPr>
          <a:xfrm>
            <a:off x="4919760" y="717480"/>
            <a:ext cx="4300560" cy="3665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843120" y="1920960"/>
            <a:ext cx="38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онятность информации</a:t>
            </a:r>
            <a:r>
              <a:rPr b="1" lang="en-US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—</a:t>
            </a: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</a:t>
            </a: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свойство очень важно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особенно для школьн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5151600" y="1228680"/>
            <a:ext cx="3182760" cy="24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8" descr=""/>
          <p:cNvPicPr/>
          <p:nvPr/>
        </p:nvPicPr>
        <p:blipFill>
          <a:blip r:embed="rId3"/>
          <a:stretch/>
        </p:blipFill>
        <p:spPr>
          <a:xfrm>
            <a:off x="5308560" y="1492200"/>
            <a:ext cx="2851200" cy="190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0" y="893880"/>
            <a:ext cx="9144000" cy="3423960"/>
          </a:xfrm>
          <a:prstGeom prst="rect">
            <a:avLst/>
          </a:prstGeom>
          <a:solidFill>
            <a:srgbClr val="ffffff">
              <a:alpha val="84000"/>
            </a:srgbClr>
          </a:solidFill>
          <a:ln w="12600">
            <a:solidFill>
              <a:srgbClr val="f1f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2"/>
          <a:stretch/>
        </p:blipFill>
        <p:spPr>
          <a:xfrm>
            <a:off x="6622920" y="2627280"/>
            <a:ext cx="2521080" cy="25164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065320" y="2085840"/>
            <a:ext cx="49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Спросить — стыдно на минут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а не знать — стыд на всю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0" y="671400"/>
            <a:ext cx="9144000" cy="3756240"/>
          </a:xfrm>
          <a:prstGeom prst="rect">
            <a:avLst/>
          </a:prstGeom>
          <a:solidFill>
            <a:srgbClr val="ffffff">
              <a:alpha val="84000"/>
            </a:srgbClr>
          </a:solidFill>
          <a:ln w="12600">
            <a:solidFill>
              <a:srgbClr val="f1f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2"/>
          <a:stretch/>
        </p:blipFill>
        <p:spPr>
          <a:xfrm>
            <a:off x="969840" y="973080"/>
            <a:ext cx="2359080" cy="3130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3"/>
          <a:stretch/>
        </p:blipFill>
        <p:spPr>
          <a:xfrm>
            <a:off x="3414600" y="977760"/>
            <a:ext cx="470232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798480" y="171360"/>
            <a:ext cx="7772400" cy="910584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2"/>
          <p:cNvSpPr/>
          <p:nvPr/>
        </p:nvSpPr>
        <p:spPr>
          <a:xfrm>
            <a:off x="1203480" y="487440"/>
            <a:ext cx="6710040" cy="4011480"/>
          </a:xfrm>
          <a:prstGeom prst="roundRect">
            <a:avLst>
              <a:gd name="adj" fmla="val 1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954080" y="1598760"/>
            <a:ext cx="27226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Информ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является </a:t>
            </a:r>
            <a:r>
              <a:rPr b="1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редметом</a:t>
            </a: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интеллектуальной (умственной) деятельности человека и </a:t>
            </a:r>
            <a:r>
              <a:rPr b="1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родуктом</a:t>
            </a: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 этой деятель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5"/>
          <p:cNvSpPr/>
          <p:nvPr/>
        </p:nvSpPr>
        <p:spPr>
          <a:xfrm>
            <a:off x="8018640" y="2243160"/>
            <a:ext cx="401400" cy="401760"/>
          </a:xfrm>
          <a:prstGeom prst="ellipse">
            <a:avLst/>
          </a:prstGeom>
          <a:solidFill>
            <a:srgbClr val="57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6" descr=""/>
          <p:cNvPicPr/>
          <p:nvPr/>
        </p:nvPicPr>
        <p:blipFill>
          <a:blip r:embed="rId3"/>
          <a:stretch/>
        </p:blipFill>
        <p:spPr>
          <a:xfrm>
            <a:off x="4697280" y="1149480"/>
            <a:ext cx="274824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tretch/>
        </p:blipFill>
        <p:spPr>
          <a:xfrm>
            <a:off x="0" y="-70344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2"/>
          <a:stretch/>
        </p:blipFill>
        <p:spPr>
          <a:xfrm>
            <a:off x="0" y="-182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6"/>
          <p:cNvSpPr/>
          <p:nvPr/>
        </p:nvSpPr>
        <p:spPr>
          <a:xfrm>
            <a:off x="-76320" y="0"/>
            <a:ext cx="9220320" cy="6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2" descr=""/>
          <p:cNvPicPr/>
          <p:nvPr/>
        </p:nvPicPr>
        <p:blipFill>
          <a:blip r:embed="rId2"/>
          <a:stretch/>
        </p:blipFill>
        <p:spPr>
          <a:xfrm>
            <a:off x="-60480" y="52560"/>
            <a:ext cx="1683000" cy="607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"/>
          <p:cNvPicPr/>
          <p:nvPr/>
        </p:nvPicPr>
        <p:blipFill>
          <a:blip r:embed="rId3"/>
          <a:stretch/>
        </p:blipFill>
        <p:spPr>
          <a:xfrm>
            <a:off x="1511280" y="52560"/>
            <a:ext cx="1682640" cy="607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4" descr=""/>
          <p:cNvPicPr/>
          <p:nvPr/>
        </p:nvPicPr>
        <p:blipFill>
          <a:blip r:embed="rId4"/>
          <a:stretch/>
        </p:blipFill>
        <p:spPr>
          <a:xfrm>
            <a:off x="6621480" y="60480"/>
            <a:ext cx="1682640" cy="606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"/>
          <p:cNvPicPr/>
          <p:nvPr/>
        </p:nvPicPr>
        <p:blipFill>
          <a:blip r:embed="rId5"/>
          <a:stretch/>
        </p:blipFill>
        <p:spPr>
          <a:xfrm>
            <a:off x="8193240" y="60480"/>
            <a:ext cx="1682640" cy="6062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с двумя усеченными противолежащими углами 10"/>
          <p:cNvSpPr/>
          <p:nvPr/>
        </p:nvSpPr>
        <p:spPr>
          <a:xfrm flipH="1">
            <a:off x="2382840" y="84240"/>
            <a:ext cx="4316400" cy="726840"/>
          </a:xfrm>
          <a:custGeom>
            <a:avLst/>
            <a:gdLst/>
            <a:ahLst/>
            <a:rect l="l" t="t" r="r" b="b"/>
            <a:pathLst>
              <a:path w="4316412" h="727075">
                <a:moveTo>
                  <a:pt x="0" y="0"/>
                </a:moveTo>
                <a:lnTo>
                  <a:pt x="4098290" y="0"/>
                </a:lnTo>
                <a:lnTo>
                  <a:pt x="4316412" y="218123"/>
                </a:lnTo>
                <a:lnTo>
                  <a:pt x="4316412" y="727075"/>
                </a:lnTo>
                <a:lnTo>
                  <a:pt x="4316412" y="727075"/>
                </a:lnTo>
                <a:lnTo>
                  <a:pt x="218123" y="727075"/>
                </a:lnTo>
                <a:lnTo>
                  <a:pt x="0" y="508953"/>
                </a:lnTo>
                <a:lnTo>
                  <a:pt x="0" y="0"/>
                </a:lnTo>
                <a:close/>
              </a:path>
            </a:pathLst>
          </a:custGeom>
          <a:solidFill>
            <a:srgbClr val="e0f2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с двумя усеченными противолежащими углами 8"/>
          <p:cNvSpPr/>
          <p:nvPr/>
        </p:nvSpPr>
        <p:spPr>
          <a:xfrm flipH="1">
            <a:off x="2444760" y="0"/>
            <a:ext cx="4314960" cy="727200"/>
          </a:xfrm>
          <a:custGeom>
            <a:avLst/>
            <a:gdLst/>
            <a:ahLst/>
            <a:rect l="l" t="t" r="r" b="b"/>
            <a:pathLst>
              <a:path w="4314825" h="727075">
                <a:moveTo>
                  <a:pt x="0" y="0"/>
                </a:moveTo>
                <a:lnTo>
                  <a:pt x="4139469" y="0"/>
                </a:lnTo>
                <a:lnTo>
                  <a:pt x="4314825" y="175356"/>
                </a:lnTo>
                <a:lnTo>
                  <a:pt x="4314825" y="727075"/>
                </a:lnTo>
                <a:lnTo>
                  <a:pt x="4314825" y="727075"/>
                </a:lnTo>
                <a:lnTo>
                  <a:pt x="175356" y="727075"/>
                </a:lnTo>
                <a:lnTo>
                  <a:pt x="0" y="551719"/>
                </a:lnTo>
                <a:lnTo>
                  <a:pt x="0" y="0"/>
                </a:lnTo>
                <a:close/>
              </a:path>
            </a:pathLst>
          </a:custGeom>
          <a:solidFill>
            <a:srgbClr val="42a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3313080" y="13320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Свойства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с двумя усеченными противолежащими углами 11"/>
          <p:cNvSpPr/>
          <p:nvPr/>
        </p:nvSpPr>
        <p:spPr>
          <a:xfrm flipH="1">
            <a:off x="2463840" y="968400"/>
            <a:ext cx="41464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Объ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с двумя усеченными противолежащими углами 17"/>
          <p:cNvSpPr/>
          <p:nvPr/>
        </p:nvSpPr>
        <p:spPr>
          <a:xfrm flipH="1">
            <a:off x="2444760" y="1587600"/>
            <a:ext cx="41464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Достовер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с двумя усеченными противолежащими углами 18"/>
          <p:cNvSpPr/>
          <p:nvPr/>
        </p:nvSpPr>
        <p:spPr>
          <a:xfrm flipH="1">
            <a:off x="2424960" y="2246400"/>
            <a:ext cx="41482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Полн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с двумя усеченными противолежащими углами 19"/>
          <p:cNvSpPr/>
          <p:nvPr/>
        </p:nvSpPr>
        <p:spPr>
          <a:xfrm flipH="1">
            <a:off x="2400480" y="2913120"/>
            <a:ext cx="4147920" cy="4903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Актуаль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с двумя усеченными противолежащими углами 21"/>
          <p:cNvSpPr/>
          <p:nvPr/>
        </p:nvSpPr>
        <p:spPr>
          <a:xfrm flipH="1">
            <a:off x="2367720" y="3597120"/>
            <a:ext cx="41482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Полез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с двумя усеченными противолежащими углами 23"/>
          <p:cNvSpPr/>
          <p:nvPr/>
        </p:nvSpPr>
        <p:spPr>
          <a:xfrm flipH="1">
            <a:off x="2348640" y="4262400"/>
            <a:ext cx="4148280" cy="492120"/>
          </a:xfrm>
          <a:prstGeom prst="pie">
            <a:avLst/>
          </a:prstGeom>
          <a:solidFill>
            <a:srgbClr val="ffffff"/>
          </a:solidFill>
          <a:ln w="28440">
            <a:solidFill>
              <a:srgbClr val="217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217b87"/>
                </a:solidFill>
                <a:latin typeface="Segoe UI Light"/>
                <a:ea typeface="Segoe UI Light"/>
              </a:rPr>
              <a:t>Понят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2"/>
          <a:stretch/>
        </p:blipFill>
        <p:spPr>
          <a:xfrm>
            <a:off x="4919760" y="717480"/>
            <a:ext cx="4300560" cy="3665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725400" y="1749600"/>
            <a:ext cx="3862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Объективная информация </a:t>
            </a: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— об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для всех информация, не завися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от мнения или суждения кого-либо. Данный вид информации можно получить при помощ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измерительных прибор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5262480" y="1374840"/>
            <a:ext cx="2933640" cy="22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5808600" y="1546200"/>
            <a:ext cx="1914480" cy="191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803160"/>
            <a:ext cx="669132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2"/>
          <a:stretch/>
        </p:blipFill>
        <p:spPr>
          <a:xfrm>
            <a:off x="4919760" y="717480"/>
            <a:ext cx="4300560" cy="3665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738360" y="1519200"/>
            <a:ext cx="386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Достоверность информации </a:t>
            </a: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оказывает истинное положение дел, помогает приня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57585a"/>
                </a:solidFill>
                <a:latin typeface="Segoe UI Light"/>
                <a:ea typeface="Segoe UI Light"/>
              </a:rPr>
              <a:t>правильное реш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5262480" y="1374840"/>
            <a:ext cx="2933640" cy="22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3"/>
          <a:stretch/>
        </p:blipFill>
        <p:spPr>
          <a:xfrm>
            <a:off x="5691240" y="1684440"/>
            <a:ext cx="1415880" cy="1801800"/>
          </a:xfrm>
          <a:prstGeom prst="rect">
            <a:avLst/>
          </a:prstGeom>
          <a:ln w="0">
            <a:noFill/>
          </a:ln>
        </p:spPr>
      </p:pic>
      <p:sp>
        <p:nvSpPr>
          <p:cNvPr id="83" name="Выноска-облако 9"/>
          <p:cNvSpPr/>
          <p:nvPr/>
        </p:nvSpPr>
        <p:spPr>
          <a:xfrm>
            <a:off x="6788160" y="1617840"/>
            <a:ext cx="1316160" cy="907920"/>
          </a:xfrm>
          <a:prstGeom prst="cloudCallout">
            <a:avLst>
              <a:gd name="adj1" fmla="val -64833"/>
              <a:gd name="adj2" fmla="val -29527"/>
            </a:avLst>
          </a:prstGeom>
          <a:solidFill>
            <a:srgbClr val="ffffff"/>
          </a:solidFill>
          <a:ln w="12600">
            <a:solidFill>
              <a:srgbClr val="00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8" descr=""/>
          <p:cNvPicPr/>
          <p:nvPr/>
        </p:nvPicPr>
        <p:blipFill>
          <a:blip r:embed="rId4"/>
          <a:stretch/>
        </p:blipFill>
        <p:spPr>
          <a:xfrm>
            <a:off x="7311960" y="1703520"/>
            <a:ext cx="297000" cy="7761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11"/>
          <p:cNvSpPr/>
          <p:nvPr/>
        </p:nvSpPr>
        <p:spPr>
          <a:xfrm>
            <a:off x="6703920" y="2546280"/>
            <a:ext cx="190440" cy="7776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12"/>
          <p:cNvSpPr/>
          <p:nvPr/>
        </p:nvSpPr>
        <p:spPr>
          <a:xfrm>
            <a:off x="6691320" y="2573280"/>
            <a:ext cx="190440" cy="7956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14"/>
          <p:cNvSpPr/>
          <p:nvPr/>
        </p:nvSpPr>
        <p:spPr>
          <a:xfrm>
            <a:off x="6678720" y="2600280"/>
            <a:ext cx="191880" cy="7956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730080" y="2874960"/>
            <a:ext cx="36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Segoe UI Light"/>
                <a:ea typeface="Segoe UI Light"/>
              </a:rPr>
              <a:t>Дезинформация </a:t>
            </a:r>
            <a:r>
              <a:rPr b="0" lang="ru-RU" sz="1800" spc="-1" strike="noStrike">
                <a:solidFill>
                  <a:srgbClr val="595959"/>
                </a:solidFill>
                <a:latin typeface="Segoe UI Light"/>
                <a:ea typeface="Segoe UI Light"/>
              </a:rPr>
              <a:t>— заведомо ложная информ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0" y="803160"/>
            <a:ext cx="9144000" cy="33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2041560" y="816120"/>
            <a:ext cx="5060880" cy="337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51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0" y="914400"/>
            <a:ext cx="9144000" cy="33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3"/>
          <p:cNvSpPr/>
          <p:nvPr/>
        </p:nvSpPr>
        <p:spPr>
          <a:xfrm>
            <a:off x="-76320" y="0"/>
            <a:ext cx="9220320" cy="6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6" descr=""/>
          <p:cNvPicPr/>
          <p:nvPr/>
        </p:nvPicPr>
        <p:blipFill>
          <a:blip r:embed="rId2"/>
          <a:stretch/>
        </p:blipFill>
        <p:spPr>
          <a:xfrm>
            <a:off x="-60480" y="52560"/>
            <a:ext cx="1683000" cy="607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7" descr=""/>
          <p:cNvPicPr/>
          <p:nvPr/>
        </p:nvPicPr>
        <p:blipFill>
          <a:blip r:embed="rId3"/>
          <a:stretch/>
        </p:blipFill>
        <p:spPr>
          <a:xfrm>
            <a:off x="1511280" y="52560"/>
            <a:ext cx="1682640" cy="607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8" descr=""/>
          <p:cNvPicPr/>
          <p:nvPr/>
        </p:nvPicPr>
        <p:blipFill>
          <a:blip r:embed="rId4"/>
          <a:stretch/>
        </p:blipFill>
        <p:spPr>
          <a:xfrm>
            <a:off x="6621480" y="60480"/>
            <a:ext cx="1682640" cy="606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9" descr=""/>
          <p:cNvPicPr/>
          <p:nvPr/>
        </p:nvPicPr>
        <p:blipFill>
          <a:blip r:embed="rId5"/>
          <a:stretch/>
        </p:blipFill>
        <p:spPr>
          <a:xfrm>
            <a:off x="8193240" y="60480"/>
            <a:ext cx="1682640" cy="6062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с двумя усеченными противолежащими углами 20"/>
          <p:cNvSpPr/>
          <p:nvPr/>
        </p:nvSpPr>
        <p:spPr>
          <a:xfrm flipH="1">
            <a:off x="2444760" y="0"/>
            <a:ext cx="4314960" cy="727200"/>
          </a:xfrm>
          <a:custGeom>
            <a:avLst/>
            <a:gdLst/>
            <a:ahLst/>
            <a:rect l="l" t="t" r="r" b="b"/>
            <a:pathLst>
              <a:path w="4314825" h="727075">
                <a:moveTo>
                  <a:pt x="0" y="0"/>
                </a:moveTo>
                <a:lnTo>
                  <a:pt x="4139469" y="0"/>
                </a:lnTo>
                <a:lnTo>
                  <a:pt x="4314825" y="175356"/>
                </a:lnTo>
                <a:lnTo>
                  <a:pt x="4314825" y="727075"/>
                </a:lnTo>
                <a:lnTo>
                  <a:pt x="4314825" y="727075"/>
                </a:lnTo>
                <a:lnTo>
                  <a:pt x="175356" y="727075"/>
                </a:lnTo>
                <a:lnTo>
                  <a:pt x="0" y="551719"/>
                </a:lnTo>
                <a:lnTo>
                  <a:pt x="0" y="0"/>
                </a:lnTo>
                <a:close/>
              </a:path>
            </a:pathLst>
          </a:custGeom>
          <a:solidFill>
            <a:srgbClr val="42a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3451320" y="15228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 Light"/>
                <a:ea typeface="Segoe UI Light"/>
              </a:rPr>
              <a:t>Полнота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TextBox 7" descr=""/>
          <p:cNvPicPr/>
          <p:nvPr/>
        </p:nvPicPr>
        <p:blipFill>
          <a:blip r:embed="rId6"/>
          <a:stretch/>
        </p:blipFill>
        <p:spPr>
          <a:xfrm>
            <a:off x="3651120" y="2004840"/>
            <a:ext cx="5742000" cy="46368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22" descr=""/>
          <p:cNvPicPr/>
          <p:nvPr/>
        </p:nvPicPr>
        <p:blipFill>
          <a:blip r:embed="rId7"/>
          <a:stretch/>
        </p:blipFill>
        <p:spPr>
          <a:xfrm>
            <a:off x="3565440" y="2712960"/>
            <a:ext cx="5743800" cy="4636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ая соединительная линия 23"/>
          <p:cNvSpPr/>
          <p:nvPr/>
        </p:nvSpPr>
        <p:spPr>
          <a:xfrm>
            <a:off x="6005520" y="2835360"/>
            <a:ext cx="125280" cy="2365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5" descr=""/>
          <p:cNvPicPr/>
          <p:nvPr/>
        </p:nvPicPr>
        <p:blipFill>
          <a:blip r:embed="rId8"/>
          <a:stretch/>
        </p:blipFill>
        <p:spPr>
          <a:xfrm>
            <a:off x="803160" y="1452600"/>
            <a:ext cx="352584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8:48:30Z</dcterms:created>
  <dc:creator>RePack by Diakov</dc:creator>
  <dc:description/>
  <dc:language>en-US</dc:language>
  <cp:lastModifiedBy>Учитель</cp:lastModifiedBy>
  <dcterms:modified xsi:type="dcterms:W3CDTF">2020-09-11T10:27:36Z</dcterms:modified>
  <cp:revision>55</cp:revision>
  <dc:subject/>
  <dc:title>Презентация PowerPoint</dc:title>
</cp:coreProperties>
</file>