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0.gif" ContentType="image/gif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4DA-CB7D-46BC-9DB9-8CE4552A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F5DA-DE40-4EFD-9023-34AD049D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B47-9303-4427-9905-703D229A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DA7-B023-4F28-9581-87382867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D865-966A-42FC-B61C-B48B8F15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A9C-1ECB-48FD-9EEE-0E65D30D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A23-5FFC-4744-BE80-2F7D95FE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B62-B669-4215-8F63-2F7B037F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087B-4FE4-4740-ADB5-1828B4C2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CDA5-FF0D-46FE-AC6A-9E3E16A8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2B7B-0510-4D46-A183-F3AD6578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2FD-4F28-4FBF-BC9F-9F299747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080B-1841-4035-A070-51587D2C03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oewe_individual_46_selection_200_white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МДОБУ Детский сад «Светлячок»</a:t>
            </a:r>
            <a:br>
              <a:rPr sz="14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воспит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Никитюк Татьяны Николае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91" descr="http://i066.radikal.ru/1006/50/dbf247de6241.png"/>
          <p:cNvPicPr/>
          <p:nvPr/>
        </p:nvPicPr>
        <p:blipFill>
          <a:blip r:embed="rId2"/>
          <a:stretch/>
        </p:blipFill>
        <p:spPr>
          <a:xfrm>
            <a:off x="5867280" y="3886200"/>
            <a:ext cx="262908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1" descr="http://i066.radikal.ru/1006/50/dbf247de6241.png"/>
          <p:cNvPicPr/>
          <p:nvPr/>
        </p:nvPicPr>
        <p:blipFill>
          <a:blip r:embed="rId3"/>
          <a:stretch/>
        </p:blipFill>
        <p:spPr>
          <a:xfrm>
            <a:off x="609480" y="762120"/>
            <a:ext cx="25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Loewe_individual_46_selection_200_white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Только человек с большой буквы</a:t>
            </a:r>
            <a:br>
              <a:rPr sz="1800"/>
            </a:b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может с гордостью сказать:</a:t>
            </a:r>
            <a:br>
              <a:rPr sz="1800"/>
            </a:b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"Я - Воспитатель!»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Скажите, вы знаете многих людей, которые возвращаются с работы с улыбкой? </a:t>
            </a:r>
            <a:br>
              <a:rPr sz="1400"/>
            </a:b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Это не странные люди, это - ВОСПИТАТЕЛИ. </a:t>
            </a:r>
            <a:br>
              <a:rPr sz="1400"/>
            </a:b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Почему они улыбаются? Да потому, что каждая минута их жизни проходит не зря.</a:t>
            </a:r>
            <a:br>
              <a:rPr sz="1400"/>
            </a:b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Воспитатели "играют в пазлы" и собирают из маленьких кусочков будущее. </a:t>
            </a:r>
            <a:br>
              <a:rPr sz="1400"/>
            </a:b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В каждом малыше навсегда останется частичка души, тепло и улыбка педагога, поэтому нет профессии важнее. Не может остановиться воспитатель на месте, нужно идти в ногу со временем, поэтому нет профессии интереснее. </a:t>
            </a:r>
            <a:br>
              <a:rPr sz="1400"/>
            </a:b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Своей работе воспитатель отдается на все 200% и всегда видит результат, </a:t>
            </a:r>
            <a:br>
              <a:rPr sz="1400"/>
            </a:b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поэтому нет профессии труднее и радостнее. </a:t>
            </a:r>
            <a:br>
              <a:rPr sz="1400"/>
            </a:b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Прекрасная профессия - воспитатель, и каждый знает, сколько сил мы прикладываем, сколько энергии нужно, иногда даже не замечаешь времени, </a:t>
            </a:r>
            <a:br>
              <a:rPr sz="1400"/>
            </a:b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все бегом и бегом. </a:t>
            </a:r>
            <a:br>
              <a:rPr sz="1400"/>
            </a:b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Однажды, после одного из таких дней мне в голову пришла </a:t>
            </a:r>
            <a:br>
              <a:rPr sz="1400"/>
            </a:b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вот такая мыс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91" descr="http://i066.radikal.ru/1006/50/dbf247de6241.png"/>
          <p:cNvPicPr/>
          <p:nvPr/>
        </p:nvPicPr>
        <p:blipFill>
          <a:blip r:embed="rId2"/>
          <a:stretch/>
        </p:blipFill>
        <p:spPr>
          <a:xfrm>
            <a:off x="685800" y="609480"/>
            <a:ext cx="2209680" cy="14572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1" descr="http://i066.radikal.ru/1006/50/dbf247de6241.png"/>
          <p:cNvPicPr/>
          <p:nvPr/>
        </p:nvPicPr>
        <p:blipFill>
          <a:blip r:embed="rId3"/>
          <a:stretch/>
        </p:blipFill>
        <p:spPr>
          <a:xfrm>
            <a:off x="6705720" y="4419720"/>
            <a:ext cx="178416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Loewe_individual_46_selection_200_white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Ах, как много у меня забот!</a:t>
            </a:r>
            <a:br>
              <a:rPr sz="1600"/>
            </a:b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Надо рассказать, где живет бегемот,</a:t>
            </a:r>
            <a:br>
              <a:rPr sz="1600"/>
            </a:b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К празднику выучить песню,</a:t>
            </a:r>
            <a:br>
              <a:rPr sz="1600"/>
            </a:b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На прогулку выйти вместе,</a:t>
            </a: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научить считать до десяти,</a:t>
            </a:r>
            <a:br>
              <a:rPr sz="1600"/>
            </a:b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И  девчонкам  всем косички заплести.</a:t>
            </a:r>
            <a:br>
              <a:rPr sz="1600"/>
            </a:b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У кого-то шарик лопнул,</a:t>
            </a:r>
            <a:br>
              <a:rPr sz="1600"/>
            </a:b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Тут же кто-то где-то топнул,</a:t>
            </a:r>
            <a:br>
              <a:rPr sz="1600"/>
            </a:b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Хлопнул, прыгнул, закричал,</a:t>
            </a:r>
            <a:br>
              <a:rPr sz="1600"/>
            </a:b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Засмеялся, убежал!...</a:t>
            </a:r>
            <a:br>
              <a:rPr sz="1600"/>
            </a:b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Так, что кажется мне иногда,</a:t>
            </a:r>
            <a:br>
              <a:rPr sz="1600"/>
            </a:b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Что я не </a:t>
            </a:r>
            <a:r>
              <a:rPr b="1" i="1" lang="ru-RU" sz="1600" spc="-1" strike="noStrike">
                <a:solidFill>
                  <a:srgbClr val="bbe0e3"/>
                </a:solidFill>
                <a:latin typeface="Arial"/>
              </a:rPr>
              <a:t>Татьяна Николаевна,</a:t>
            </a: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 А компьют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 rot="2181600">
            <a:off x="4571640" y="3962520"/>
            <a:ext cx="152280" cy="573120"/>
          </a:xfrm>
          <a:prstGeom prst="downArrow">
            <a:avLst>
              <a:gd name="adj1" fmla="val 42778"/>
              <a:gd name="adj2" fmla="val 114650"/>
            </a:avLst>
          </a:prstGeom>
          <a:solidFill>
            <a:srgbClr val="3184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1" descr="http://lisyonok.ucoz.ru/_ld/0/43287.png"/>
          <p:cNvPicPr/>
          <p:nvPr/>
        </p:nvPicPr>
        <p:blipFill>
          <a:blip r:embed="rId2"/>
          <a:stretch/>
        </p:blipFill>
        <p:spPr>
          <a:xfrm>
            <a:off x="3505320" y="4495680"/>
            <a:ext cx="2009520" cy="12081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91" descr="http://i066.radikal.ru/1006/50/dbf247de6241.png"/>
          <p:cNvPicPr/>
          <p:nvPr/>
        </p:nvPicPr>
        <p:blipFill>
          <a:blip r:embed="rId3"/>
          <a:stretch/>
        </p:blipFill>
        <p:spPr>
          <a:xfrm>
            <a:off x="609480" y="609480"/>
            <a:ext cx="2057400" cy="15242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91" descr="http://i066.radikal.ru/1006/50/dbf247de6241.png"/>
          <p:cNvPicPr/>
          <p:nvPr/>
        </p:nvPicPr>
        <p:blipFill>
          <a:blip r:embed="rId4"/>
          <a:stretch/>
        </p:blipFill>
        <p:spPr>
          <a:xfrm>
            <a:off x="6400800" y="4267080"/>
            <a:ext cx="20955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Loewe_individual_46_selection_200_white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7" descr="http://www.grafamania.net/uploads/posts/2008-05/1212071656_computer_5.jpg"/>
          <p:cNvPicPr/>
          <p:nvPr/>
        </p:nvPicPr>
        <p:blipFill>
          <a:blip r:embed="rId2"/>
          <a:stretch/>
        </p:blipFill>
        <p:spPr>
          <a:xfrm>
            <a:off x="685800" y="990720"/>
            <a:ext cx="1752480" cy="14475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7"/>
          <p:cNvSpPr/>
          <p:nvPr/>
        </p:nvSpPr>
        <p:spPr>
          <a:xfrm>
            <a:off x="2666880" y="1600200"/>
            <a:ext cx="1752840" cy="228600"/>
          </a:xfrm>
          <a:prstGeom prst="pie">
            <a:avLst/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4572000" y="1005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Монитор 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                                              Интерфейс меняется от                           Снегурочки до Бабы Я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4" descr="http://www.grafamania.net/uploads/posts/2008-05/1212071626_computer_4.jpg"/>
          <p:cNvPicPr/>
          <p:nvPr/>
        </p:nvPicPr>
        <p:blipFill>
          <a:blip r:embed="rId3"/>
          <a:stretch/>
        </p:blipFill>
        <p:spPr>
          <a:xfrm>
            <a:off x="685800" y="2514600"/>
            <a:ext cx="182880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2743200" y="3124080"/>
            <a:ext cx="1676520" cy="152640"/>
          </a:xfrm>
          <a:prstGeom prst="pie">
            <a:avLst/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4648320" y="2286000"/>
            <a:ext cx="358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Колонки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                                          Воспроизводят звук разных животных и сказочных героев, разных частот и децибел.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7" descr="http://www.grafamania.net/uploads/posts/2008-05/1212071656_computer_5.jpg"/>
          <p:cNvPicPr/>
          <p:nvPr/>
        </p:nvPicPr>
        <p:blipFill>
          <a:blip r:embed="rId4"/>
          <a:stretch/>
        </p:blipFill>
        <p:spPr>
          <a:xfrm>
            <a:off x="838080" y="4267080"/>
            <a:ext cx="1658880" cy="11160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4"/>
          <p:cNvSpPr/>
          <p:nvPr/>
        </p:nvSpPr>
        <p:spPr>
          <a:xfrm>
            <a:off x="2743200" y="4724280"/>
            <a:ext cx="1676520" cy="228600"/>
          </a:xfrm>
          <a:prstGeom prst="pie">
            <a:avLst/>
          </a:prstGeom>
          <a:solidFill>
            <a:srgbClr val="ffffff"/>
          </a:solidFill>
          <a:ln w="63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648320" y="40384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Вебкам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Угол обзора 360 градусов, охватывает всех детей в радиусе  10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oewe_individual_46_selection_200_white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3962520" y="4191120"/>
            <a:ext cx="464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2438280" y="4800600"/>
            <a:ext cx="1295640" cy="228600"/>
          </a:xfrm>
          <a:prstGeom prst="pie">
            <a:avLst/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3733920" y="419112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Карта памяти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 Хранит необходимые пословицы, поговорки, загадки на все случаи жизни, знания методик обучения и вос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25" descr="&amp;Vcy;&amp;iecy;&amp;kcy;&amp;tcy;&amp;ocy;&amp;rcy;&amp;ncy;&amp;ycy;&amp;jcy; &amp;kcy;&amp;lcy;&amp;icy;&amp;pcy;&amp;acy;&amp;rcy;&amp;tcy;: &quot;&amp;Kcy;&amp;ocy;&amp;mcy;&amp;pcy;&amp;softcy;&amp;yucy;&amp;tcy;&amp;iecy;&amp;rcy;&amp;ycy;&quot;"/>
          <p:cNvPicPr/>
          <p:nvPr/>
        </p:nvPicPr>
        <p:blipFill>
          <a:blip r:embed="rId2"/>
          <a:stretch/>
        </p:blipFill>
        <p:spPr>
          <a:xfrm>
            <a:off x="533520" y="1066680"/>
            <a:ext cx="1609560" cy="10573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12"/>
          <p:cNvSpPr/>
          <p:nvPr/>
        </p:nvSpPr>
        <p:spPr>
          <a:xfrm>
            <a:off x="2209680" y="1523880"/>
            <a:ext cx="1524240" cy="181080"/>
          </a:xfrm>
          <a:prstGeom prst="pie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3886200" y="1142640"/>
            <a:ext cx="454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Клавиатура 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Участвует в написании календарных и перспективных пл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2" descr="http://kbr.on-maps.ru/upload/1151_1355475341_8.jpg"/>
          <p:cNvPicPr/>
          <p:nvPr/>
        </p:nvPicPr>
        <p:blipFill>
          <a:blip r:embed="rId3"/>
          <a:stretch/>
        </p:blipFill>
        <p:spPr>
          <a:xfrm>
            <a:off x="533520" y="2590920"/>
            <a:ext cx="1657080" cy="11905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5"/>
          <p:cNvSpPr/>
          <p:nvPr/>
        </p:nvSpPr>
        <p:spPr>
          <a:xfrm>
            <a:off x="2286000" y="3048120"/>
            <a:ext cx="1295280" cy="228600"/>
          </a:xfrm>
          <a:prstGeom prst="pie">
            <a:avLst/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3809880" y="251424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Системный блок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остоянно анализирует сложившуюся ситуацию и выдает единственно правильное 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4" descr="http://fast.ulmart.ru/good_mid_pics/211703.jpg"/>
          <p:cNvPicPr/>
          <p:nvPr/>
        </p:nvPicPr>
        <p:blipFill>
          <a:blip r:embed="rId4"/>
          <a:stretch/>
        </p:blipFill>
        <p:spPr>
          <a:xfrm>
            <a:off x="533520" y="4191120"/>
            <a:ext cx="17618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Loewe_individual_46_selection_200_white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3581280" y="2438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Сетевой адаптер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озволяет адаптироваться к любым условиям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5" descr="&amp;Vcy;&amp;iecy;&amp;kcy;&amp;tcy;&amp;ocy;&amp;rcy;&amp;ncy;&amp;ycy;&amp;jcy; &amp;kcy;&amp;lcy;&amp;icy;&amp;pcy;&amp;acy;&amp;rcy;&amp;tcy;: &quot;&amp;Kcy;&amp;ocy;&amp;mcy;&amp;pcy;&amp;softcy;&amp;yucy;&amp;tcy;&amp;iecy;&amp;rcy;&amp;ycy;&quot;"/>
          <p:cNvPicPr/>
          <p:nvPr/>
        </p:nvPicPr>
        <p:blipFill>
          <a:blip r:embed="rId2"/>
          <a:stretch/>
        </p:blipFill>
        <p:spPr>
          <a:xfrm>
            <a:off x="533520" y="838080"/>
            <a:ext cx="1752480" cy="129564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0"/>
          <p:cNvSpPr/>
          <p:nvPr/>
        </p:nvSpPr>
        <p:spPr>
          <a:xfrm>
            <a:off x="2362320" y="1447920"/>
            <a:ext cx="1066680" cy="152280"/>
          </a:xfrm>
          <a:prstGeom prst="pie">
            <a:avLst/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3581280" y="762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Модем 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Используется для получения новой информации и передачи ей молодому поко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5" descr="&amp;Vcy;&amp;iecy;&amp;kcy;&amp;tcy;&amp;ocy;&amp;rcy;&amp;ncy;&amp;ycy;&amp;jcy; &amp;kcy;&amp;lcy;&amp;icy;&amp;pcy;&amp;acy;&amp;rcy;&amp;tcy;: &quot;&amp;Kcy;&amp;ocy;&amp;mcy;&amp;pcy;&amp;softcy;&amp;yucy;&amp;tcy;&amp;iecy;&amp;rcy;&amp;ycy;&quot;"/>
          <p:cNvPicPr/>
          <p:nvPr/>
        </p:nvPicPr>
        <p:blipFill>
          <a:blip r:embed="rId3"/>
          <a:stretch/>
        </p:blipFill>
        <p:spPr>
          <a:xfrm>
            <a:off x="457200" y="2514600"/>
            <a:ext cx="1762200" cy="125748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3"/>
          <p:cNvSpPr/>
          <p:nvPr/>
        </p:nvSpPr>
        <p:spPr>
          <a:xfrm>
            <a:off x="2286000" y="2895480"/>
            <a:ext cx="1143000" cy="228600"/>
          </a:xfrm>
          <a:prstGeom prst="pie">
            <a:avLst/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" descr="http://fast.ulmart.ru/good_big_pics/348225.jpg"/>
          <p:cNvPicPr/>
          <p:nvPr/>
        </p:nvPicPr>
        <p:blipFill>
          <a:blip r:embed="rId4"/>
          <a:stretch/>
        </p:blipFill>
        <p:spPr>
          <a:xfrm>
            <a:off x="533520" y="4191120"/>
            <a:ext cx="1809720" cy="12571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5"/>
          <p:cNvSpPr/>
          <p:nvPr/>
        </p:nvSpPr>
        <p:spPr>
          <a:xfrm>
            <a:off x="2438280" y="4724280"/>
            <a:ext cx="971640" cy="200160"/>
          </a:xfrm>
          <a:prstGeom prst="pie">
            <a:avLst/>
          </a:prstGeom>
          <a:solidFill>
            <a:srgbClr val="ffffff"/>
          </a:solidFill>
          <a:ln w="63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3581280" y="3660480"/>
            <a:ext cx="48736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66"/>
                </a:solidFill>
                <a:uFillTx/>
                <a:latin typeface="Arial"/>
              </a:rPr>
              <a:t>Материнская плата</a:t>
            </a: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Здесь собрана вся любовь, забота , ласка, уважение и все те трепетные чув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которые я испытываю к маленьким, но уже личностям, стремление насытить их детство счастьем. Здесь храниться радость от того, что каждый твой день начинается с детской улыбки.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Loewe_individual_46_selection_200_white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1981080" y="925560"/>
            <a:ext cx="5105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И все это потом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что я не компьюте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Я - ВОСПИТА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На свете нет легких рабо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а мне досталась самая важн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интересная, трудная професс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поэтому иду я домой и ... улыбаю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91" descr="http://i066.radikal.ru/1006/50/dbf247de6241.png"/>
          <p:cNvPicPr/>
          <p:nvPr/>
        </p:nvPicPr>
        <p:blipFill>
          <a:blip r:embed="rId2"/>
          <a:stretch/>
        </p:blipFill>
        <p:spPr>
          <a:xfrm>
            <a:off x="609480" y="60948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omputer Animated Gif"/>
          <p:cNvPicPr/>
          <p:nvPr/>
        </p:nvPicPr>
        <p:blipFill>
          <a:blip r:embed="rId3"/>
          <a:stretch/>
        </p:blipFill>
        <p:spPr>
          <a:xfrm>
            <a:off x="4038480" y="1752480"/>
            <a:ext cx="990720" cy="793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Анимашки Куклы от 5450 до 5500"/>
          <p:cNvPicPr/>
          <p:nvPr/>
        </p:nvPicPr>
        <p:blipFill>
          <a:blip r:embed="rId4"/>
          <a:stretch/>
        </p:blipFill>
        <p:spPr>
          <a:xfrm>
            <a:off x="4191120" y="4724280"/>
            <a:ext cx="823680" cy="1067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Угадай по голосу!"/>
          <p:cNvPicPr/>
          <p:nvPr/>
        </p:nvPicPr>
        <p:blipFill>
          <a:blip r:embed="rId5"/>
          <a:stretch/>
        </p:blipFill>
        <p:spPr>
          <a:xfrm>
            <a:off x="4952880" y="4952880"/>
            <a:ext cx="3429000" cy="789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1" descr="Угадай по голосу!"/>
          <p:cNvPicPr/>
          <p:nvPr/>
        </p:nvPicPr>
        <p:blipFill>
          <a:blip r:embed="rId6"/>
          <a:stretch/>
        </p:blipFill>
        <p:spPr>
          <a:xfrm rot="21462000">
            <a:off x="685800" y="5028840"/>
            <a:ext cx="342900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17:10:00Z</dcterms:created>
  <dc:creator>1</dc:creator>
  <dc:description/>
  <dc:language>en-US</dc:language>
  <cp:lastModifiedBy>1</cp:lastModifiedBy>
  <dcterms:modified xsi:type="dcterms:W3CDTF">2020-09-11T04:54:3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