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6FF-BF99-473C-99AF-41C94043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1CD-58EB-4926-A4C1-6F880F6C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D1A-DD30-4BAB-A39B-8BA87ADC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00C-5634-45EA-A6B7-E9E41B89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BA8-56EE-49B0-A9DB-16F61773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A68-BC20-4EAF-9BBE-8E30064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862-12F6-416E-B006-16C22179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C83-FCBC-4FD5-A0A1-EF14AA5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94C-0611-4072-884A-FB3B054B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927-9D4D-433B-8282-55392C68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09A-E68E-439D-874F-BD84B0B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749-4740-45CA-B3C0-F7AB6A2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FAF-8591-4951-91E2-0A5971B3D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МДОБУ Детский сад «Светлячок»</a:t>
            </a:r>
            <a:br>
              <a:rPr sz="14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оспит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Никитюк Татьяны Никола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91" descr="http://i066.radikal.ru/1006/50/dbf247de6241.png"/>
          <p:cNvPicPr/>
          <p:nvPr/>
        </p:nvPicPr>
        <p:blipFill>
          <a:blip r:embed="rId2"/>
          <a:stretch/>
        </p:blipFill>
        <p:spPr>
          <a:xfrm>
            <a:off x="5867280" y="3886200"/>
            <a:ext cx="26290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1" descr="http://i066.radikal.ru/1006/50/dbf247de6241.png"/>
          <p:cNvPicPr/>
          <p:nvPr/>
        </p:nvPicPr>
        <p:blipFill>
          <a:blip r:embed="rId3"/>
          <a:stretch/>
        </p:blipFill>
        <p:spPr>
          <a:xfrm>
            <a:off x="609480" y="76212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олько человек с большой буквы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может с гордостью сказать: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"Я - Воспитатель!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Скажите, вы знаете многих людей, которые возвращаются с работы с улыбкой?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Это не странные люди, это - ВОСПИТАТЕЛИ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Почему они улыбаются? Да потому, что каждая минута их жизни проходит не зря.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оспитатели "играют в пазлы" и собирают из маленьких кусочков будущее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 каждом малыше навсегда останется частичка души, тепло и улыбка педагога, поэтому нет профессии важнее. Не может остановиться воспитатель на месте, нужно идти в ногу со временем, поэтому нет профессии интереснее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Своей работе воспитатель отдается на все 200% и всегда видит результат,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поэтому нет профессии труднее и радостнее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Прекрасная профессия - воспитатель, и каждый знает, сколько сил мы прикладываем, сколько энергии нужно, иногда даже не замечаешь времени,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се бегом и бегом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Однажды, после одного из таких дней мне в голову пришла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от такая мыс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1" descr="http://i066.radikal.ru/1006/50/dbf247de6241.png"/>
          <p:cNvPicPr/>
          <p:nvPr/>
        </p:nvPicPr>
        <p:blipFill>
          <a:blip r:embed="rId2"/>
          <a:stretch/>
        </p:blipFill>
        <p:spPr>
          <a:xfrm>
            <a:off x="685800" y="609480"/>
            <a:ext cx="2209680" cy="1457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1" descr="http://i066.radikal.ru/1006/50/dbf247de6241.png"/>
          <p:cNvPicPr/>
          <p:nvPr/>
        </p:nvPicPr>
        <p:blipFill>
          <a:blip r:embed="rId3"/>
          <a:stretch/>
        </p:blipFill>
        <p:spPr>
          <a:xfrm>
            <a:off x="6705720" y="4419720"/>
            <a:ext cx="17841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Ах, как много у меня забот!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Надо рассказать, где живет бегемот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 празднику выучить песню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На прогулку выйти вместе,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научить считать до десяти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И  девчонкам  всем косички заплести.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У кого-то шарик лопнул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Тут же кто-то где-то топнул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Хлопнул, прыгнул, закричал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Засмеялся, убежал!...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Так, что кажется мне иногда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Что я не </a:t>
            </a:r>
            <a:r>
              <a:rPr b="1" i="1" lang="ru-RU" sz="1600" spc="-1" strike="noStrike">
                <a:solidFill>
                  <a:srgbClr val="bbe0e3"/>
                </a:solidFill>
                <a:latin typeface="Arial"/>
              </a:rPr>
              <a:t>Татьяна Николаевна,</a:t>
            </a: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 А компью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rot="2181600">
            <a:off x="4571640" y="3962520"/>
            <a:ext cx="152280" cy="573120"/>
          </a:xfrm>
          <a:prstGeom prst="downArrow">
            <a:avLst>
              <a:gd name="adj1" fmla="val 42778"/>
              <a:gd name="adj2" fmla="val 114650"/>
            </a:avLst>
          </a:prstGeom>
          <a:solidFill>
            <a:srgbClr val="3184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1" descr="http://lisyonok.ucoz.ru/_ld/0/43287.png"/>
          <p:cNvPicPr/>
          <p:nvPr/>
        </p:nvPicPr>
        <p:blipFill>
          <a:blip r:embed="rId2"/>
          <a:stretch/>
        </p:blipFill>
        <p:spPr>
          <a:xfrm>
            <a:off x="3505320" y="4495680"/>
            <a:ext cx="2009520" cy="1208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1" descr="http://i066.radikal.ru/1006/50/dbf247de6241.png"/>
          <p:cNvPicPr/>
          <p:nvPr/>
        </p:nvPicPr>
        <p:blipFill>
          <a:blip r:embed="rId3"/>
          <a:stretch/>
        </p:blipFill>
        <p:spPr>
          <a:xfrm>
            <a:off x="609480" y="6094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1" descr="http://i066.radikal.ru/1006/50/dbf247de6241.png"/>
          <p:cNvPicPr/>
          <p:nvPr/>
        </p:nvPicPr>
        <p:blipFill>
          <a:blip r:embed="rId4"/>
          <a:stretch/>
        </p:blipFill>
        <p:spPr>
          <a:xfrm>
            <a:off x="6400800" y="4267080"/>
            <a:ext cx="20955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7" descr="http://www.grafamania.net/uploads/posts/2008-05/1212071656_computer_5.jpg"/>
          <p:cNvPicPr/>
          <p:nvPr/>
        </p:nvPicPr>
        <p:blipFill>
          <a:blip r:embed="rId2"/>
          <a:stretch/>
        </p:blipFill>
        <p:spPr>
          <a:xfrm>
            <a:off x="685800" y="990720"/>
            <a:ext cx="1752480" cy="1447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7"/>
          <p:cNvSpPr/>
          <p:nvPr/>
        </p:nvSpPr>
        <p:spPr>
          <a:xfrm>
            <a:off x="2666880" y="1600200"/>
            <a:ext cx="175284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572000" y="1005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Монитор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                                             Интерфейс меняется от                           Снегурочки до Бабы Я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4" descr="http://www.grafamania.net/uploads/posts/2008-05/1212071626_computer_4.jpg"/>
          <p:cNvPicPr/>
          <p:nvPr/>
        </p:nvPicPr>
        <p:blipFill>
          <a:blip r:embed="rId3"/>
          <a:stretch/>
        </p:blipFill>
        <p:spPr>
          <a:xfrm>
            <a:off x="685800" y="2514600"/>
            <a:ext cx="182880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2743200" y="3124080"/>
            <a:ext cx="1676520" cy="152640"/>
          </a:xfrm>
          <a:prstGeom prst="pie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648320" y="228600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Колонки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                                        Воспроизводят звук разных животных и сказочных героев, разных частот и децибел.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7" descr="http://www.grafamania.net/uploads/posts/2008-05/1212071656_computer_5.jpg"/>
          <p:cNvPicPr/>
          <p:nvPr/>
        </p:nvPicPr>
        <p:blipFill>
          <a:blip r:embed="rId4"/>
          <a:stretch/>
        </p:blipFill>
        <p:spPr>
          <a:xfrm>
            <a:off x="838080" y="4267080"/>
            <a:ext cx="1658880" cy="1116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4"/>
          <p:cNvSpPr/>
          <p:nvPr/>
        </p:nvSpPr>
        <p:spPr>
          <a:xfrm>
            <a:off x="2743200" y="4724280"/>
            <a:ext cx="167652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648320" y="4038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Вебкам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Угол обзора 360 градусов, охватывает всех детей в радиусе  1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962520" y="41911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2438280" y="4800600"/>
            <a:ext cx="129564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733920" y="4191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Карта памяти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Хранит необходимые пословицы, поговорки, загадки на все случаи жизни, знания методик обучения и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5" descr="&amp;Vcy;&amp;iecy;&amp;kcy;&amp;tcy;&amp;ocy;&amp;rcy;&amp;ncy;&amp;ycy;&amp;jcy; &amp;kcy;&amp;lcy;&amp;icy;&amp;pcy;&amp;acy;&amp;rcy;&amp;tcy;: &quot;&amp;Kcy;&amp;ocy;&amp;mcy;&amp;pcy;&amp;softcy;&amp;yucy;&amp;tcy;&amp;iecy;&amp;rcy;&amp;ycy;&quot;"/>
          <p:cNvPicPr/>
          <p:nvPr/>
        </p:nvPicPr>
        <p:blipFill>
          <a:blip r:embed="rId2"/>
          <a:stretch/>
        </p:blipFill>
        <p:spPr>
          <a:xfrm>
            <a:off x="533520" y="1066680"/>
            <a:ext cx="1609560" cy="10573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2"/>
          <p:cNvSpPr/>
          <p:nvPr/>
        </p:nvSpPr>
        <p:spPr>
          <a:xfrm>
            <a:off x="2209680" y="1523880"/>
            <a:ext cx="1524240" cy="181080"/>
          </a:xfrm>
          <a:prstGeom prst="pi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886200" y="1142640"/>
            <a:ext cx="45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Клавиатура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Участвует в написании календарных и перспективных пл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2" descr="http://kbr.on-maps.ru/upload/1151_1355475341_8.jpg"/>
          <p:cNvPicPr/>
          <p:nvPr/>
        </p:nvPicPr>
        <p:blipFill>
          <a:blip r:embed="rId3"/>
          <a:stretch/>
        </p:blipFill>
        <p:spPr>
          <a:xfrm>
            <a:off x="533520" y="2590920"/>
            <a:ext cx="1657080" cy="1190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5"/>
          <p:cNvSpPr/>
          <p:nvPr/>
        </p:nvSpPr>
        <p:spPr>
          <a:xfrm>
            <a:off x="2286000" y="3048120"/>
            <a:ext cx="129528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809880" y="25142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Системный блок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стоянно анализирует сложившуюся ситуацию и выдает единственно правильное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http://fast.ulmart.ru/good_mid_pics/211703.jpg"/>
          <p:cNvPicPr/>
          <p:nvPr/>
        </p:nvPicPr>
        <p:blipFill>
          <a:blip r:embed="rId4"/>
          <a:stretch/>
        </p:blipFill>
        <p:spPr>
          <a:xfrm>
            <a:off x="533520" y="4191120"/>
            <a:ext cx="1761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3581280" y="2438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Сетевой адаптер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зволяет адаптироваться к любым условиям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5" descr="&amp;Vcy;&amp;iecy;&amp;kcy;&amp;tcy;&amp;ocy;&amp;rcy;&amp;ncy;&amp;ycy;&amp;jcy; &amp;kcy;&amp;lcy;&amp;icy;&amp;pcy;&amp;acy;&amp;rcy;&amp;tcy;: &quot;&amp;Kcy;&amp;ocy;&amp;mcy;&amp;pcy;&amp;softcy;&amp;yucy;&amp;tcy;&amp;iecy;&amp;rcy;&amp;ycy;&quot;"/>
          <p:cNvPicPr/>
          <p:nvPr/>
        </p:nvPicPr>
        <p:blipFill>
          <a:blip r:embed="rId2"/>
          <a:stretch/>
        </p:blipFill>
        <p:spPr>
          <a:xfrm>
            <a:off x="533520" y="838080"/>
            <a:ext cx="1752480" cy="12956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2362320" y="1447920"/>
            <a:ext cx="1066680" cy="152280"/>
          </a:xfrm>
          <a:prstGeom prst="pie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3581280" y="762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Модем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спользуется для получения новой информации и передачи ей молодому поко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5" descr="&amp;Vcy;&amp;iecy;&amp;kcy;&amp;tcy;&amp;ocy;&amp;rcy;&amp;ncy;&amp;ycy;&amp;jcy; &amp;kcy;&amp;lcy;&amp;icy;&amp;pcy;&amp;acy;&amp;rcy;&amp;tcy;: &quot;&amp;Kcy;&amp;ocy;&amp;mcy;&amp;pcy;&amp;softcy;&amp;yucy;&amp;tcy;&amp;iecy;&amp;rcy;&amp;ycy;&quot;"/>
          <p:cNvPicPr/>
          <p:nvPr/>
        </p:nvPicPr>
        <p:blipFill>
          <a:blip r:embed="rId3"/>
          <a:stretch/>
        </p:blipFill>
        <p:spPr>
          <a:xfrm>
            <a:off x="457200" y="2514600"/>
            <a:ext cx="1762200" cy="12574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3"/>
          <p:cNvSpPr/>
          <p:nvPr/>
        </p:nvSpPr>
        <p:spPr>
          <a:xfrm>
            <a:off x="2286000" y="2895480"/>
            <a:ext cx="114300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http://fast.ulmart.ru/good_big_pics/348225.jpg"/>
          <p:cNvPicPr/>
          <p:nvPr/>
        </p:nvPicPr>
        <p:blipFill>
          <a:blip r:embed="rId4"/>
          <a:stretch/>
        </p:blipFill>
        <p:spPr>
          <a:xfrm>
            <a:off x="533520" y="4191120"/>
            <a:ext cx="1809720" cy="1257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5"/>
          <p:cNvSpPr/>
          <p:nvPr/>
        </p:nvSpPr>
        <p:spPr>
          <a:xfrm>
            <a:off x="2438280" y="4724280"/>
            <a:ext cx="971640" cy="200160"/>
          </a:xfrm>
          <a:prstGeom prst="pie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581280" y="3660480"/>
            <a:ext cx="4873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66"/>
                </a:solidFill>
                <a:uFillTx/>
                <a:latin typeface="Arial"/>
              </a:rPr>
              <a:t>Материнская плата</a:t>
            </a: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Здесь собрана вся любовь, забота , ласка, уважение и все те трепетные чув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торые я испытываю к маленьким, но уже личностям, стремление насытить их детство счастьем. Здесь храниться радость от того, что каждый твой день начинается с детской улыбки.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981080" y="925560"/>
            <a:ext cx="5105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И все это пото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что я не компьют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Я - ВОСПИТ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На свете нет легких рабо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а мне досталась самая важ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интересная, трудная професс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этому иду я домой и ... улыбаю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91" descr="http://i066.radikal.ru/1006/50/dbf247de6241.png"/>
          <p:cNvPicPr/>
          <p:nvPr/>
        </p:nvPicPr>
        <p:blipFill>
          <a:blip r:embed="rId2"/>
          <a:stretch/>
        </p:blipFill>
        <p:spPr>
          <a:xfrm>
            <a:off x="609480" y="60948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omputer Animated Gif"/>
          <p:cNvPicPr/>
          <p:nvPr/>
        </p:nvPicPr>
        <p:blipFill>
          <a:blip r:embed="rId3"/>
          <a:stretch/>
        </p:blipFill>
        <p:spPr>
          <a:xfrm>
            <a:off x="4038480" y="175248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Анимашки Куклы от 5450 до 5500"/>
          <p:cNvPicPr/>
          <p:nvPr/>
        </p:nvPicPr>
        <p:blipFill>
          <a:blip r:embed="rId4"/>
          <a:stretch/>
        </p:blipFill>
        <p:spPr>
          <a:xfrm>
            <a:off x="4191120" y="4724280"/>
            <a:ext cx="823680" cy="106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Угадай по голосу!"/>
          <p:cNvPicPr/>
          <p:nvPr/>
        </p:nvPicPr>
        <p:blipFill>
          <a:blip r:embed="rId5"/>
          <a:stretch/>
        </p:blipFill>
        <p:spPr>
          <a:xfrm>
            <a:off x="4952880" y="4952880"/>
            <a:ext cx="3429000" cy="78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Угадай по голосу!"/>
          <p:cNvPicPr/>
          <p:nvPr/>
        </p:nvPicPr>
        <p:blipFill>
          <a:blip r:embed="rId6"/>
          <a:stretch/>
        </p:blipFill>
        <p:spPr>
          <a:xfrm rot="21462000">
            <a:off x="685800" y="5028840"/>
            <a:ext cx="34290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7:10:00Z</dcterms:created>
  <dc:creator>1</dc:creator>
  <dc:description/>
  <dc:language>en-US</dc:language>
  <cp:lastModifiedBy>1</cp:lastModifiedBy>
  <dcterms:modified xsi:type="dcterms:W3CDTF">2020-09-11T04:54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