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2ED-6B73-4F1E-9B17-F71326E8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057-9221-45D6-B217-38F19F01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CD7-6FF6-4D43-AC9D-C6534BF4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82B-C471-41FD-B645-31766895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00C-6FB7-4969-A5C5-2A0941AA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BEB-6A00-470B-835E-D614F599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D69-F73E-41EC-A5BA-E2D387B0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806-DE99-48FA-BE99-B944CC1A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CA5-1134-4792-9B23-A19F1389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99D-E5CD-4F64-9EAE-AC374E94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AC5-2260-4300-9E37-7400AAB6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19B-628C-412C-9DFB-D27C93D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12FC-956A-41F3-AE34-48871B745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booksiti.net.ru/books/image/54000005340.jpg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конституция.jpg"/>
          <p:cNvPicPr/>
          <p:nvPr/>
        </p:nvPicPr>
        <p:blipFill>
          <a:blip r:embed="rId1"/>
          <a:stretch/>
        </p:blipFill>
        <p:spPr>
          <a:xfrm rot="1387800">
            <a:off x="3357360" y="4755960"/>
            <a:ext cx="1881000" cy="2081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ук.jpg"/>
          <p:cNvPicPr/>
          <p:nvPr/>
        </p:nvPicPr>
        <p:blipFill>
          <a:blip r:embed="rId2"/>
          <a:stretch/>
        </p:blipFill>
        <p:spPr>
          <a:xfrm>
            <a:off x="1116000" y="3670200"/>
            <a:ext cx="1992240" cy="29019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адм кодекс.jpg"/>
          <p:cNvPicPr/>
          <p:nvPr/>
        </p:nvPicPr>
        <p:blipFill>
          <a:blip r:embed="rId3"/>
          <a:stretch/>
        </p:blipFill>
        <p:spPr>
          <a:xfrm rot="21378600">
            <a:off x="6781320" y="3024000"/>
            <a:ext cx="2067120" cy="230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Картинка 35 из 19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237960" y="3193920"/>
            <a:ext cx="1993680" cy="2895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2080" y="1125360"/>
            <a:ext cx="864396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Ответственность родителей за воспитание своих дет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5" descr="устав.jpg"/>
          <p:cNvPicPr/>
          <p:nvPr/>
        </p:nvPicPr>
        <p:blipFill>
          <a:blip r:embed="rId6"/>
          <a:stretch/>
        </p:blipFill>
        <p:spPr>
          <a:xfrm rot="644400">
            <a:off x="5468400" y="4278240"/>
            <a:ext cx="1446480" cy="2028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s://sun9-23.userapi.com/c854028/v854028192/1d4918/vN8GDnuR-Wc.jpg"/>
          <p:cNvPicPr/>
          <p:nvPr/>
        </p:nvPicPr>
        <p:blipFill>
          <a:blip r:embed="rId7"/>
          <a:stretch/>
        </p:blipFill>
        <p:spPr>
          <a:xfrm>
            <a:off x="3254400" y="2957400"/>
            <a:ext cx="2336760" cy="172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826920" y="37162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правонарушения и преступления, состоящих на учёте ОД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ались в то время, когда учащиеся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под присмотром родителей (летний период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о внеурочное время (праздничные, выходные  д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1476360" y="1159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6ba"/>
                </a:solidFill>
                <a:latin typeface="Arial"/>
              </a:rPr>
              <a:t>Учащиеся и семьи СО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6b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b06ba"/>
                </a:solidFill>
                <a:latin typeface="Arial"/>
              </a:rPr>
              <a:t>состоящие на учёте ОД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6ba"/>
                </a:solidFill>
                <a:latin typeface="Arial"/>
              </a:rPr>
              <a:t>2019-2020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2"/>
          <p:cNvSpPr/>
          <p:nvPr/>
        </p:nvSpPr>
        <p:spPr>
          <a:xfrm>
            <a:off x="4341960" y="5025960"/>
            <a:ext cx="358560" cy="384120"/>
          </a:xfrm>
          <a:prstGeom prst="downArrow">
            <a:avLst>
              <a:gd name="adj1" fmla="val 50000"/>
              <a:gd name="adj2" fmla="val 4811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1547640" y="537372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илить контроль со стороны родителей во внеуроч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Диаграмма 4" descr=""/>
          <p:cNvPicPr/>
          <p:nvPr/>
        </p:nvPicPr>
        <p:blipFill>
          <a:blip r:embed="rId1"/>
          <a:stretch/>
        </p:blipFill>
        <p:spPr>
          <a:xfrm>
            <a:off x="-303120" y="1074600"/>
            <a:ext cx="553716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Диаграмма 5" descr=""/>
          <p:cNvPicPr/>
          <p:nvPr/>
        </p:nvPicPr>
        <p:blipFill>
          <a:blip r:embed="rId2"/>
          <a:stretch/>
        </p:blipFill>
        <p:spPr>
          <a:xfrm>
            <a:off x="4737240" y="1152360"/>
            <a:ext cx="4263840" cy="2295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WordArt 4" descr=""/>
          <p:cNvPicPr/>
          <p:nvPr/>
        </p:nvPicPr>
        <p:blipFill>
          <a:blip r:embed="rId1"/>
          <a:stretch/>
        </p:blipFill>
        <p:spPr>
          <a:xfrm>
            <a:off x="1835280" y="401760"/>
            <a:ext cx="6705360" cy="1298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08000" y="191700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венция о правах ребе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ституция РФ (ст.38,ст.4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мейный кодекс РФ (ст.63,ст.6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З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 образовании в РФ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(ст.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дминистративный кодекс РФ (ст.5.3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головный кодекс РФ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ст.15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Cj03002590000[1]"/>
          <p:cNvPicPr/>
          <p:nvPr/>
        </p:nvPicPr>
        <p:blipFill>
          <a:blip r:embed="rId2"/>
          <a:stretch/>
        </p:blipFill>
        <p:spPr>
          <a:xfrm>
            <a:off x="7164360" y="5157720"/>
            <a:ext cx="1655640" cy="1622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MCj03197580000[1]"/>
          <p:cNvPicPr/>
          <p:nvPr/>
        </p:nvPicPr>
        <p:blipFill>
          <a:blip r:embed="rId3"/>
          <a:stretch/>
        </p:blipFill>
        <p:spPr>
          <a:xfrm>
            <a:off x="108000" y="403200"/>
            <a:ext cx="125568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324000" y="189000"/>
            <a:ext cx="66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 Black"/>
              </a:rPr>
              <a:t>Неблагоприятные условия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457200" y="1071720"/>
            <a:ext cx="822960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Асоциальное поведение родит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!Недостаточное внимание и любовь со стороны родит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Гиперопе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Чрезмерное удовлетворение потребностей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Чрезмерная требовательность и авторитарность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Arial"/>
              </a:rPr>
              <a:t>Сложившаяся ситуация в семье (потеря кормильца, алкоголизм  родителей и т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49612_html_48633229"/>
          <p:cNvPicPr/>
          <p:nvPr/>
        </p:nvPicPr>
        <p:blipFill>
          <a:blip r:embed="rId1"/>
          <a:stretch/>
        </p:blipFill>
        <p:spPr>
          <a:xfrm>
            <a:off x="6826320" y="63360"/>
            <a:ext cx="231768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322200" y="2207880"/>
            <a:ext cx="7500960" cy="1191240"/>
          </a:xfrm>
          <a:prstGeom prst="rect">
            <a:avLst/>
          </a:prstGeom>
          <a:solidFill>
            <a:srgbClr val="558ed5"/>
          </a:soli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ы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353880" y="3662280"/>
            <a:ext cx="7500960" cy="825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 flipV="1" rot="10800000">
            <a:off x="371520" y="4723200"/>
            <a:ext cx="6084720" cy="825480"/>
          </a:xfrm>
          <a:prstGeom prst="rect">
            <a:avLst/>
          </a:prstGeom>
          <a:solidFill>
            <a:srgbClr val="558ed5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2711520" y="2016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6ba"/>
                </a:solidFill>
                <a:latin typeface="Arial Black"/>
              </a:rPr>
              <a:t>Права и обязанности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iCA55FVQ6"/>
          <p:cNvPicPr/>
          <p:nvPr/>
        </p:nvPicPr>
        <p:blipFill>
          <a:blip r:embed="rId1"/>
          <a:stretch/>
        </p:blipFill>
        <p:spPr>
          <a:xfrm>
            <a:off x="6595920" y="4797360"/>
            <a:ext cx="2451240" cy="18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inashideti.ru/wp-content/uploads/2011/10/Deti-i-roditeli.jpg"/>
          <p:cNvPicPr/>
          <p:nvPr/>
        </p:nvPicPr>
        <p:blipFill>
          <a:blip r:embed="rId2"/>
          <a:stretch/>
        </p:blipFill>
        <p:spPr>
          <a:xfrm>
            <a:off x="371520" y="274680"/>
            <a:ext cx="234144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одержимое 2"/>
          <p:cNvSpPr/>
          <p:nvPr/>
        </p:nvSpPr>
        <p:spPr>
          <a:xfrm>
            <a:off x="0" y="1628640"/>
            <a:ext cx="7848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ffff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70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должного ухода (пища, одежда, жилищные услов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жедневный  контроль  успеваемости, поведения и посещаемости уро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жедневная проверка дневника, домашних заданий, помощь в выполне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о не делать за ребёнка!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гирование на замечания учителей и представителей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улярное посещение  родительских собр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тересоваться жизнью ваших дете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771640" y="26028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b06ba"/>
                </a:solidFill>
                <a:uFillTx/>
                <a:latin typeface="Times New Roman"/>
              </a:rPr>
              <a:t>Обязанности</a:t>
            </a:r>
            <a:r>
              <a:rPr b="1" lang="ru-RU" sz="3200" spc="-1" strike="noStrike">
                <a:solidFill>
                  <a:srgbClr val="1b06b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b06ba"/>
                </a:solidFill>
                <a:uFillTx/>
                <a:latin typeface="Times New Roman"/>
              </a:rPr>
              <a:t>родителей по воспитанию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954278b5a233c0465af56667f3a5212"/>
          <p:cNvPicPr/>
          <p:nvPr/>
        </p:nvPicPr>
        <p:blipFill>
          <a:blip r:embed="rId1"/>
          <a:stretch/>
        </p:blipFill>
        <p:spPr>
          <a:xfrm>
            <a:off x="176040" y="208080"/>
            <a:ext cx="245124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179280" y="189000"/>
            <a:ext cx="864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1b06ba"/>
                </a:solidFill>
                <a:latin typeface="Times New Roman"/>
              </a:rPr>
              <a:t>Меры воздействия администрации школы к </a:t>
            </a:r>
            <a:r>
              <a:rPr b="1" lang="ru-RU" sz="3100" spc="-1" strike="noStrike" u="sng">
                <a:solidFill>
                  <a:srgbClr val="1b06ba"/>
                </a:solidFill>
                <a:uFillTx/>
                <a:latin typeface="Times New Roman"/>
              </a:rPr>
              <a:t>родителя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324000" y="1125360"/>
            <a:ext cx="8208720" cy="790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ая беседа с учащим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оводу выявленной 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50920" y="2276640"/>
            <a:ext cx="835164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зов родителей в школу для решения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24000" y="3429000"/>
            <a:ext cx="856908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сложившейся ситуации на Сов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илактики школы в присутствии админист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ителей школы,инспектора ОД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179280" y="4724280"/>
            <a:ext cx="8964720" cy="201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ращение администрации школы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охранительные органы (ОДН, КДН и ЗП) с ц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лечения родителей (законных представителе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вершеннолетнего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.5.35. АКР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если они не исполня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бо исполняют не должным образом обязанности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ю, воспитанию, обучению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140360" y="1989000"/>
            <a:ext cx="36036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4140360" y="4437000"/>
            <a:ext cx="431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4140360" y="3141720"/>
            <a:ext cx="43164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1835280" y="1052640"/>
            <a:ext cx="62481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06ba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1b06ba"/>
                </a:solidFill>
                <a:latin typeface="Times New Roman"/>
              </a:rPr>
              <a:t>Только вместе с родителями, общими усилиями, учителя могут дать детям большое человеческое счастье</a:t>
            </a:r>
            <a:r>
              <a:rPr b="1" lang="ru-RU" sz="3200" spc="-1" strike="noStrike">
                <a:solidFill>
                  <a:srgbClr val="1b06ba"/>
                </a:solidFill>
                <a:latin typeface="Calibri"/>
              </a:rPr>
              <a:t>»</a:t>
            </a:r>
            <a:r>
              <a:rPr b="1" lang="ru-RU" sz="3200" spc="-1" strike="noStrike">
                <a:solidFill>
                  <a:srgbClr val="1b06b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862520" y="4005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06ba"/>
                </a:solidFill>
                <a:latin typeface="Times New Roman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s://static.tildacdn.com/tild3736-3730-4837-a366-313262363264/2__.jpg"/>
          <p:cNvPicPr/>
          <p:nvPr/>
        </p:nvPicPr>
        <p:blipFill>
          <a:blip r:embed="rId1"/>
          <a:stretch/>
        </p:blipFill>
        <p:spPr>
          <a:xfrm>
            <a:off x="826920" y="3284640"/>
            <a:ext cx="373248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оцпедагог</dc:creator>
  <dc:description/>
  <dc:language>en-US</dc:language>
  <cp:lastModifiedBy>Сецпедагог</cp:lastModifiedBy>
  <cp:lastPrinted>2020-03-14T05:28:50Z</cp:lastPrinted>
  <dcterms:modified xsi:type="dcterms:W3CDTF">2020-03-14T05:53:26Z</dcterms:modified>
  <cp:revision>60</cp:revision>
  <dc:subject/>
  <dc:title>ПРОСТУПОК. ПРАВОНАРУШЕНИЕ. ПРЕСТУПЛЕНИЕ</dc:title>
</cp:coreProperties>
</file>