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5B920-572F-4E81-8588-D4EAF134AC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DE1C6-7279-4AB6-AD39-0CAF2F7B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6392E-C466-4F74-B0E3-11EA37B1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29DF5-17A7-4040-B5F4-700ADBB94B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BAA70-C921-4783-B086-860E2109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641D6-F53E-40F5-BAB4-095057A2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51409-0251-4EB4-BDA3-7CBBF535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9719F-CADC-4D19-AD70-A2540798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DF09C-0887-42BA-9D69-4AB92038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8A127-9340-433D-A714-B5798C6E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3A862-4068-4B31-B3BA-73E97AE2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9F6DD-E0D9-430C-B729-F5A9F727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87B99-B9B6-4F17-82BE-34223230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B138F-BE8B-4772-9D16-908273C2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50989-A4D0-4B85-9B2A-5D2EC124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3F7C4-B96A-49FF-8F71-31283102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A7424-1696-46C9-B1FD-CDCAC4BD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4DA7C-73E7-487F-98E8-235B4CB9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E25E6-AB7A-4322-B825-FBDC58D0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3E7B8-DE67-4D78-A989-79E93C08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B6AD2-E772-4CB6-960A-7CE6F76F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174D4-61CE-45DA-A020-382DB53C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936EF-3179-473F-944F-2466F4EA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11BA8-1089-44E1-9BF3-98FDD2A4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4A9ACA-6528-48E7-9996-C4718734EBBC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2DC4EE-ACAE-4863-9CAE-7E078796B8F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10620360" y="5979960"/>
            <a:ext cx="13921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6" descr="http://graphics.in.ua/cat/PSD.Kindergarten.Poster.Template.06.3508x24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6985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Гимназия им. Н.В. Пушкова»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е отделение №2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«Взаимосвязь учителя-логопеда и воспитателя в коррекционной работе с детьми ОВЗ в условиях логопункт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учитель-логопед Аверина О.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s://ds02.infourok.ru/uploads/ex/0790/00076e17-c7e9f7f1/img25.jpg"/>
          <p:cNvPicPr/>
          <p:nvPr/>
        </p:nvPicPr>
        <p:blipFill>
          <a:blip r:embed="rId1"/>
          <a:stretch/>
        </p:blipFill>
        <p:spPr>
          <a:xfrm>
            <a:off x="-135000" y="-100080"/>
            <a:ext cx="9299520" cy="6958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30000" y="620640"/>
            <a:ext cx="788652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f5597"/>
                </a:solidFill>
                <a:latin typeface="Calibri"/>
              </a:rPr>
              <a:t>Отличие работы по формированию звукопроизношения от работы по исправлению звукопроизношения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45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оспитат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2133360"/>
            <a:ext cx="403056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аботает с детьми, которые имеют возрастные особенности звукопроизношения, характерные для определённых этапов речевого развития. При правильном речевом воспитании эти особенности ликвидируются и не задерживают речевое развитие ребёнк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Формирование звукопроизношен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систематическая работа со всеми детьми, которая способствует своевременному усвоению произношения всех звуков родного языка и развитию фонематического слух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(Звуковая культура реч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45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читель-логопе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28880" y="2133360"/>
            <a:ext cx="38876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тает с детьми, у которых в ходе непосредственно образовательной деятельности с воспитателем неправильное произношение не ликвидируется и мешает дельнейшему развитию ре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Исправление звукопроизношен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работа с детьми, имеющими стойкие затруднения при овладении звукопроизношением, направленная на преодоление этих недостатк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ttps://ds02.infourok.ru/uploads/ex/0790/00076e17-c7e9f7f1/img25.jpg"/>
          <p:cNvPicPr/>
          <p:nvPr/>
        </p:nvPicPr>
        <p:blipFill>
          <a:blip r:embed="rId1"/>
          <a:stretch/>
        </p:blipFill>
        <p:spPr>
          <a:xfrm>
            <a:off x="0" y="0"/>
            <a:ext cx="92995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764640"/>
            <a:ext cx="78868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трудничество логопедов и воспитателей в ДО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28200" y="1989000"/>
            <a:ext cx="82645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 информирует воспитателя о том какие звуки поставлены у того или иного ребёнка, просит в группа исправлять детей, с целью автоматизации поставленных звуков в реч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результатов совместной работы с детьми, которая велась на занятиях и в режимных моментах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ая подготовка к детским праздникам(подбор речевого материала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общих рекомендаций для родителей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связь логопед – воспитатель - родител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, мастер-классы, совместные беседы, открытые заняти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ами разработана папка «Логопед в помощь воспитателю», которая будет представлена воспитателям в 2020 -21 уч. году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10620360" y="5979960"/>
            <a:ext cx="13921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http://graphics.in.ua/cat/PSD.Kindergarten.Poster.Template.06.3508x24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5640" y="504720"/>
            <a:ext cx="69850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10620360" y="5979960"/>
            <a:ext cx="13921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6" descr="http://graphics.in.ua/cat/PSD.Kindergarten.Poster.Template.06.3508x24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360" y="692640"/>
            <a:ext cx="698508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ети с ограниченными возможностями здоровья – это дети, имеющие различные отклонения психического или физического плана, которые обуславливают нарушения общего развития.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15640" y="2852280"/>
            <a:ext cx="6985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етьми с ограниченными возможностями здоровья можно считать детей с нарушениями психофизического развития, нуждающихся в специальном(</a:t>
            </a:r>
            <a:r>
              <a:rPr b="1" i="1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оррекционном</a:t>
            </a:r>
            <a:r>
              <a:rPr b="1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) обучении и воспита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s://ds02.infourok.ru/uploads/ex/0790/00076e17-c7e9f7f1/img25.jpg"/>
          <p:cNvPicPr/>
          <p:nvPr/>
        </p:nvPicPr>
        <p:blipFill>
          <a:blip r:embed="rId1"/>
          <a:stretch/>
        </p:blipFill>
        <p:spPr>
          <a:xfrm>
            <a:off x="0" y="0"/>
            <a:ext cx="92995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764640"/>
            <a:ext cx="788688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категории детей с ОВЗ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28200" y="1825560"/>
            <a:ext cx="82645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нарушением слух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арушением зр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нарушением речи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огопаты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нарушением опорно-двигательного аппара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умственной отсталость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задержкой психического развит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нарушением поведения и общени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комплексными нарушениями психофизического развития, с так называемыми сложными дефект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10620360" y="5979960"/>
            <a:ext cx="13921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http://graphics.in.ua/cat/PSD.Kindergarten.Poster.Template.06.3508x24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6360" y="692640"/>
            <a:ext cx="698508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целью осуществления коррекционной работы на базе нашего дошкольного отделения функционирует логопунк, который обеспечивает индивидуализированный и системный подход к коррекции речевых нарушений.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15640" y="2637000"/>
            <a:ext cx="69850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огопункте обучаются 50 детей, из н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ребёнка имеют статус ОВЗ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НР, ЗПР +    системное нарушение речи и с нарушением слух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s://ds02.infourok.ru/uploads/ex/0790/00076e17-c7e9f7f1/img25.jpg"/>
          <p:cNvPicPr/>
          <p:nvPr/>
        </p:nvPicPr>
        <p:blipFill>
          <a:blip r:embed="rId1"/>
          <a:stretch/>
        </p:blipFill>
        <p:spPr>
          <a:xfrm>
            <a:off x="0" y="-54000"/>
            <a:ext cx="92995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764640"/>
            <a:ext cx="788688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9" name="Рисунок 1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8675640" cy="5904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" descr=""/>
          <p:cNvPicPr/>
          <p:nvPr/>
        </p:nvPicPr>
        <p:blipFill>
          <a:blip r:embed="rId3"/>
          <a:stretch/>
        </p:blipFill>
        <p:spPr>
          <a:xfrm>
            <a:off x="468360" y="620640"/>
            <a:ext cx="86756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s://ds02.infourok.ru/uploads/ex/0790/00076e17-c7e9f7f1/img25.jpg"/>
          <p:cNvPicPr/>
          <p:nvPr/>
        </p:nvPicPr>
        <p:blipFill>
          <a:blip r:embed="rId1"/>
          <a:stretch/>
        </p:blipFill>
        <p:spPr>
          <a:xfrm>
            <a:off x="0" y="0"/>
            <a:ext cx="92995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764640"/>
            <a:ext cx="788688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8200" y="1268280"/>
            <a:ext cx="82645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ый рост нарушений приводит к тому, что дети с ОНР(ОВЗ) нуждаются в более детальной и постоянной поддержке не только специалистов дошкольного отделения(учителей-логопедов), но и воспитателей массовых групп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возникла необходимость тесного взаимодействия и взаимопомощи между логопедом и воспитателями той возрастной группы, дети которой посещают логопедические занятия. В этом союзе логопед выступает как организатор и координатор коррекционной работы, именно он оказывает максимальную логопедическую помощь. А воспитатель, в свою очередь, ежедневно и достаточно продолжительно общаясь с детьми, знает их интересы и возможности, следовательно, может определить оптимальные формы включения необходимых заданий коррекционной и развивающей направлен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s://ds02.infourok.ru/uploads/ex/0790/00076e17-c7e9f7f1/img25.jpg"/>
          <p:cNvPicPr/>
          <p:nvPr/>
        </p:nvPicPr>
        <p:blipFill>
          <a:blip r:embed="rId1"/>
          <a:stretch/>
        </p:blipFill>
        <p:spPr>
          <a:xfrm>
            <a:off x="-135000" y="-100080"/>
            <a:ext cx="9299520" cy="69580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30000" y="836640"/>
            <a:ext cx="7886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Взаимосвязь в осуществлении</a:t>
            </a:r>
            <a:br>
              <a:rPr sz="2800"/>
            </a:br>
            <a:r>
              <a:rPr b="1" lang="ru-RU" sz="2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коррекционной работы: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Учитель-логоп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30360" y="2504880"/>
            <a:ext cx="386856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ервичных речевых навыков у детей с нарушениями реч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оспита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28880" y="2504880"/>
            <a:ext cx="388764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 сформированных речевых навы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s://ds02.infourok.ru/uploads/ex/0790/00076e17-c7e9f7f1/img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0000" y="764640"/>
            <a:ext cx="788652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Направления работы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Учитель-логоп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30360" y="2504880"/>
            <a:ext cx="386856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пределение  структуры и степени выраженности дефек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становка, автоматизация и дифференциация зву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офилактика нарушений письменной реч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казание консультативной помощи родителям и педагога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оспита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28880" y="2504880"/>
            <a:ext cx="388764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стоянный контроль за речью дет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азвитие мелкой мотори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епосредственно образовательная деятельность по познавательному, речевому развити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нтегрированные формы НО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s://ds02.infourok.ru/uploads/ex/0790/00076e17-c7e9f7f1/img25.jpg"/>
          <p:cNvPicPr/>
          <p:nvPr/>
        </p:nvPicPr>
        <p:blipFill>
          <a:blip r:embed="rId1"/>
          <a:stretch/>
        </p:blipFill>
        <p:spPr>
          <a:xfrm>
            <a:off x="-135000" y="-100080"/>
            <a:ext cx="9299520" cy="6958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0000" y="691920"/>
            <a:ext cx="788652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Совместная диагностика учителя-логопеда и воспитателя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Логопедаческое обслед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30360" y="2504880"/>
            <a:ext cx="386856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пределение уровня речевых расстройст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становление заключительного диагноз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ыбор программ и методов, специальных методических пособий и дидактических материал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едагогическая диагнос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29240" y="2504880"/>
            <a:ext cx="404640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ценка индивидуального развития детей, с целью определения эффективности педагогического воздействия, которое лежит в основе планирования образовательной деятель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REPINA-63</cp:lastModifiedBy>
  <dcterms:modified xsi:type="dcterms:W3CDTF">2020-05-18T23:53:07Z</dcterms:modified>
  <cp:revision>142</cp:revision>
  <dc:subject/>
  <dc:title>Слайд 1</dc:title>
</cp:coreProperties>
</file>