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1F244-71D1-4E45-8620-4FD0EC30AD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A197F-8396-4FDF-866E-EC3B60B7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42650-7D25-4789-8EA3-266A1BE3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F5FEC-3BA3-43A0-83CC-2C24236894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B7631-5E48-42B8-8EE6-A453AB64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78655-F85D-4B28-A31C-FE8C3644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E7F7C-8289-4D79-AAAF-5A590CFA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4E798-EE70-474B-99AF-697D76F7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1202F-2660-4DFF-8F0C-D07EE719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0AAB6-8DC3-4144-920E-7C46067E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C118C-6F3F-4ABF-80BC-607F9A53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620DD-0273-4CD3-B97B-A97A2CCA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1DEFC-04D6-4CEA-8631-24D8E0EB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12DF1-ABBC-4F3A-A416-BFF92031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09897-2999-4C9A-ACA0-3CDFA591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D1CBC-5202-4C01-ADDF-6FEE5E524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B3F87-9017-44B9-8F9A-3A6F4CBF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909C2-AF0C-4FCA-9257-F72EFF05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17305-F5DA-49A5-8867-088B1FE7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243FC-A26A-4109-B627-3A3A48E8B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78239-868C-479B-BA42-AF1E25EFC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BB172-228E-4E30-90D9-9DFC8137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8FB73-6661-4DD2-BAB7-05298AE1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E0999-9872-4DA9-BD80-6FD9211A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15CA2A-9C72-46D0-A5A3-AEB292864EFA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96D344-CFE5-4DF2-A770-5B1DBC4A8E3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10620360" y="5979960"/>
            <a:ext cx="13921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6" descr="http://graphics.in.ua/cat/PSD.Kindergarten.Poster.Template.06.3508x248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6985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Гимназия им. Н.В. Пушкова»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ое отделение №2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«Взаимосвязь учителя-логопеда и воспитателя в коррекционной работе с детьми ОВЗ в условиях логопункт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учитель-логопед Аверина О.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s://ds02.infourok.ru/uploads/ex/0790/00076e17-c7e9f7f1/img25.jpg"/>
          <p:cNvPicPr/>
          <p:nvPr/>
        </p:nvPicPr>
        <p:blipFill>
          <a:blip r:embed="rId1"/>
          <a:stretch/>
        </p:blipFill>
        <p:spPr>
          <a:xfrm>
            <a:off x="-135000" y="-100080"/>
            <a:ext cx="9299520" cy="69580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30000" y="620640"/>
            <a:ext cx="788652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f5597"/>
                </a:solidFill>
                <a:latin typeface="Calibri"/>
              </a:rPr>
              <a:t>Отличие работы по формированию звукопроизношения от работы по исправлению звукопроизношения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45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оспитат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2133360"/>
            <a:ext cx="403056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Работает с детьми, которые имеют возрастные особенности звукопроизношения, характерные для определённых этапов речевого развития. При правильном речевом воспитании эти особенности ликвидируются и не задерживают речевое развитие ребёнк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Формирование звукопроизношен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это систематическая работа со всеми детьми, которая способствует своевременному усвоению произношения всех звуков родного языка и развитию фонематического слух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(Звуковая культура реч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45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Учитель-логопе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28880" y="2133360"/>
            <a:ext cx="388764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ботает с детьми, у которых в ходе непосредственно образовательной деятельности с воспитателем неправильное произношение не ликвидируется и мешает дельнейшему развитию ре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Исправление звукопроизношен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это работа с детьми, имеющими стойкие затруднения при овладении звукопроизношением, направленная на преодоление этих недостатк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https://ds02.infourok.ru/uploads/ex/0790/00076e17-c7e9f7f1/img25.jpg"/>
          <p:cNvPicPr/>
          <p:nvPr/>
        </p:nvPicPr>
        <p:blipFill>
          <a:blip r:embed="rId1"/>
          <a:stretch/>
        </p:blipFill>
        <p:spPr>
          <a:xfrm>
            <a:off x="0" y="0"/>
            <a:ext cx="92995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764640"/>
            <a:ext cx="78868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трудничество логопедов и воспитателей в ДО.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28200" y="1989000"/>
            <a:ext cx="82645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 информирует воспитателя о том какие звуки поставлены у того или иного ребёнка, просит в группа исправлять детей, с целью автоматизации поставленных звуков в реч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результатов совместной работы с детьми, которая велась на занятиях и в режимных моментах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ая подготовка к детским праздникам(подбор речевого материала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общих рекомендаций для родителей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связь логопед – воспитатель - родитель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, мастер-классы, совместные беседы, открытые занятия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ами разработана папка «Логопед в помощь воспитателю», которая будет представлена воспитателям в 2020 -21 уч. году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10620360" y="5979960"/>
            <a:ext cx="13921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http://graphics.in.ua/cat/PSD.Kindergarten.Poster.Template.06.3508x248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5640" y="504720"/>
            <a:ext cx="69850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10620360" y="5979960"/>
            <a:ext cx="13921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6" descr="http://graphics.in.ua/cat/PSD.Kindergarten.Poster.Template.06.3508x248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360" y="692640"/>
            <a:ext cx="698508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Дети с ограниченными возможностями здоровья – это дети, имеющие различные отклонения психического или физического плана, которые обуславливают нарушения общего развития.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115640" y="2852280"/>
            <a:ext cx="6985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Детьми с ограниченными возможностями здоровья можно считать детей с нарушениями психофизического развития, нуждающихся в специальном(</a:t>
            </a:r>
            <a:r>
              <a:rPr b="1" i="1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коррекционном</a:t>
            </a:r>
            <a:r>
              <a:rPr b="1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) обучении и воспита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s://ds02.infourok.ru/uploads/ex/0790/00076e17-c7e9f7f1/img25.jpg"/>
          <p:cNvPicPr/>
          <p:nvPr/>
        </p:nvPicPr>
        <p:blipFill>
          <a:blip r:embed="rId1"/>
          <a:stretch/>
        </p:blipFill>
        <p:spPr>
          <a:xfrm>
            <a:off x="0" y="0"/>
            <a:ext cx="929952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764640"/>
            <a:ext cx="788688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категории детей с ОВЗ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28200" y="1825560"/>
            <a:ext cx="826452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нарушением слух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арушением зр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нарушением речи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огопаты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нарушением опорно-двигательного аппара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умственной отсталость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задержкой психического развит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нарушением поведения и общени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комплексными нарушениями психофизического развития, с так называемыми сложными дефект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10620360" y="5979960"/>
            <a:ext cx="13921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6" descr="http://graphics.in.ua/cat/PSD.Kindergarten.Poster.Template.06.3508x248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6360" y="692640"/>
            <a:ext cx="698508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целью осуществления коррекционной работы на базе нашего дошкольного отделения функционирует логопунк, который обеспечивает индивидуализированный и системный подход к коррекции речевых нарушений.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15640" y="2637000"/>
            <a:ext cx="69850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логопункте обучаются 50 детей, из н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 ребёнка имеют статус ОВЗ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НР, ЗПР +    системное нарушение речи и с нарушением слух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s://ds02.infourok.ru/uploads/ex/0790/00076e17-c7e9f7f1/img25.jpg"/>
          <p:cNvPicPr/>
          <p:nvPr/>
        </p:nvPicPr>
        <p:blipFill>
          <a:blip r:embed="rId1"/>
          <a:stretch/>
        </p:blipFill>
        <p:spPr>
          <a:xfrm>
            <a:off x="0" y="-54000"/>
            <a:ext cx="92995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764640"/>
            <a:ext cx="788688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9" name="Рисунок 1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8675640" cy="5904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" descr=""/>
          <p:cNvPicPr/>
          <p:nvPr/>
        </p:nvPicPr>
        <p:blipFill>
          <a:blip r:embed="rId3"/>
          <a:stretch/>
        </p:blipFill>
        <p:spPr>
          <a:xfrm>
            <a:off x="468360" y="620640"/>
            <a:ext cx="86756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s://ds02.infourok.ru/uploads/ex/0790/00076e17-c7e9f7f1/img25.jpg"/>
          <p:cNvPicPr/>
          <p:nvPr/>
        </p:nvPicPr>
        <p:blipFill>
          <a:blip r:embed="rId1"/>
          <a:stretch/>
        </p:blipFill>
        <p:spPr>
          <a:xfrm>
            <a:off x="0" y="0"/>
            <a:ext cx="92995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764640"/>
            <a:ext cx="788688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28200" y="1268280"/>
            <a:ext cx="82645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ый рост нарушений приводит к тому, что дети с ОНР(ОВЗ) нуждаются в более детальной и постоянной поддержке не только специалистов дошкольного отделения(учителей-логопедов), но и воспитателей массовых групп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возникла необходимость тесного взаимодействия и взаимопомощи между логопедом и воспитателями той возрастной группы, дети которой посещают логопедические занятия. В этом союзе логопед выступает как организатор и координатор коррекционной работы, именно он оказывает максимальную логопедическую помощь. А воспитатель, в свою очередь, ежедневно и достаточно продолжительно общаясь с детьми, знает их интересы и возможности, следовательно, может определить оптимальные формы включения необходимых заданий коррекционной и развивающей направленно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ttps://ds02.infourok.ru/uploads/ex/0790/00076e17-c7e9f7f1/img25.jpg"/>
          <p:cNvPicPr/>
          <p:nvPr/>
        </p:nvPicPr>
        <p:blipFill>
          <a:blip r:embed="rId1"/>
          <a:stretch/>
        </p:blipFill>
        <p:spPr>
          <a:xfrm>
            <a:off x="-135000" y="-100080"/>
            <a:ext cx="9299520" cy="69580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30000" y="836640"/>
            <a:ext cx="7886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Взаимосвязь в осуществлении</a:t>
            </a:r>
            <a:br>
              <a:rPr sz="2800"/>
            </a:br>
            <a:r>
              <a:rPr b="1" lang="ru-RU" sz="2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коррекционной работы: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Учитель-логопе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30360" y="2504880"/>
            <a:ext cx="386856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ервичных речевых навыков у детей с нарушениями реч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оспита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28880" y="2504880"/>
            <a:ext cx="388764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е сформированных речевых навык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ttps://ds02.infourok.ru/uploads/ex/0790/00076e17-c7e9f7f1/img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30000" y="764640"/>
            <a:ext cx="788652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Направления работы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Учитель-логопе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30360" y="2504880"/>
            <a:ext cx="386856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пределение  структуры и степени выраженности дефек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становка, автоматизация и дифференциация звук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офилактика нарушений письменной реч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казание консультативной помощи родителям и педагога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оспита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28880" y="2504880"/>
            <a:ext cx="388764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стоянный контроль за речью дет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азвитие мелкой моторик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епосредственно образовательная деятельность по познавательному, речевому развити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нтегрированные формы НО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s://ds02.infourok.ru/uploads/ex/0790/00076e17-c7e9f7f1/img25.jpg"/>
          <p:cNvPicPr/>
          <p:nvPr/>
        </p:nvPicPr>
        <p:blipFill>
          <a:blip r:embed="rId1"/>
          <a:stretch/>
        </p:blipFill>
        <p:spPr>
          <a:xfrm>
            <a:off x="-135000" y="-100080"/>
            <a:ext cx="9299520" cy="6958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0000" y="691920"/>
            <a:ext cx="788652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Совместная диагностика учителя-логопеда и воспитателя 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Логопедаческое обслед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30360" y="2504880"/>
            <a:ext cx="386856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пределение уровня речевых расстройст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установление заключительного диагноз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ыбор программ и методов, специальных методических пособий и дидактических материал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едагогическая диагност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29240" y="2504880"/>
            <a:ext cx="404640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ценка индивидуального развития детей, с целью определения эффективности педагогического воздействия, которое лежит в основе планирования образовательной деятельн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REPINA-63</cp:lastModifiedBy>
  <dcterms:modified xsi:type="dcterms:W3CDTF">2020-05-18T23:53:07Z</dcterms:modified>
  <cp:revision>142</cp:revision>
  <dc:subject/>
  <dc:title>Слайд 1</dc:title>
</cp:coreProperties>
</file>