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6C6-805D-48E9-94A7-59B3C592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ED9-839B-4974-975F-4331BDC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7AA-8B99-42D7-9155-2CD9143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D69-7E68-4512-A658-598ED5E5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D42-C9B2-42FB-B540-2A247B5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038-FCE6-4241-815E-D20A6E3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5C0-F8E0-4457-BBBE-65D555E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1FA-9264-4B21-9332-E0DD1E8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620-D081-4038-8A7E-F7C7940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8F2-7847-4872-B83C-B32A56A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3AF-AEE2-44DE-B469-128AD37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379-E092-43FB-AAEA-1EF79AD8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D21D-7754-4D48-9F83-127936743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476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ДОУ «Детский сад «лесная сказ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зентация дл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Есть такая профессия – Родину защищать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охмянина Лариса Владими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3456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920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ть формировать представления детей об армии, о родах войск,  об особенностях военной службы. Совершенствование грамматического строя ре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сообразительность, смекалку, логическое мышление, память, внимание; стимулировать речевую активность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ывать чувство гордости за свою армию;  вызвать желание быть похожими на сильных, смелых российских вои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09480" y="693720"/>
            <a:ext cx="331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, ребята на границ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землю стережё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б работать и учи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г спокойно наш народ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нты реют за плечам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вно чайки над волн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не страшен вал девят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– бывалые ребя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страшны нам мель, торос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отважные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ова в бой машина мчит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жут землю гусен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 машина в поле чис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яется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лёт парит, как птиц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 – воздушная гран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осту и днём, и ночь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 солдат – военный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 готовит всё по – флотс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ароны, борщ и клёц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шу, блинчики, компо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хню камбузом зовёт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6" descr="http://im0-tub-ru.yandex.net/i?id=35d98f45ebacdea55b25330cd33a82c8&amp;n=21"/>
          <p:cNvPicPr/>
          <p:nvPr/>
        </p:nvPicPr>
        <p:blipFill>
          <a:blip r:embed="rId1"/>
          <a:stretch/>
        </p:blipFill>
        <p:spPr>
          <a:xfrm>
            <a:off x="4859280" y="907920"/>
            <a:ext cx="1225440" cy="1368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http://im0-tub-ru.yandex.net/i?id=b4159b6f3d82527130410f188deb4501&amp;n=24"/>
          <p:cNvPicPr/>
          <p:nvPr/>
        </p:nvPicPr>
        <p:blipFill>
          <a:blip r:embed="rId2"/>
          <a:stretch/>
        </p:blipFill>
        <p:spPr>
          <a:xfrm>
            <a:off x="4975200" y="4581360"/>
            <a:ext cx="1233360" cy="1535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http://im1-tub-ru.yandex.net/i?id=f1427bc341955f333e8f83ef80cf95a2&amp;n=21"/>
          <p:cNvPicPr/>
          <p:nvPr/>
        </p:nvPicPr>
        <p:blipFill>
          <a:blip r:embed="rId3"/>
          <a:stretch/>
        </p:blipFill>
        <p:spPr>
          <a:xfrm>
            <a:off x="6588000" y="4245120"/>
            <a:ext cx="1587600" cy="1407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http://im2-tub-ru.yandex.net/i?id=578985a5b75bc29ab4c5bff9526131a2&amp;n=21"/>
          <p:cNvPicPr/>
          <p:nvPr/>
        </p:nvPicPr>
        <p:blipFill>
          <a:blip r:embed="rId4"/>
          <a:stretch/>
        </p:blipFill>
        <p:spPr>
          <a:xfrm>
            <a:off x="6386400" y="1592280"/>
            <a:ext cx="1617840" cy="1401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http://im1-tub-ru.yandex.net/i?id=703cdc10049f4b3862d6498e4e49a818&amp;n=21"/>
          <p:cNvPicPr/>
          <p:nvPr/>
        </p:nvPicPr>
        <p:blipFill>
          <a:blip r:embed="rId5"/>
          <a:stretch/>
        </p:blipFill>
        <p:spPr>
          <a:xfrm>
            <a:off x="4975200" y="2762280"/>
            <a:ext cx="1109520" cy="151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771640" y="366840"/>
            <a:ext cx="48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  отгадку с карти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796680"/>
            <a:ext cx="5338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 бойца, который надевают во время бо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бы защитить голову от ранений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 танкис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который носят воины – десантни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часть летнего обмундирования солда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ловной убор, предназначенный для офицерского состав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это флот военны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тогда уж непременно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удах его матро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ленточками это нося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3" descr="http://im0-tub-ru.yandex.net/i?id=76a066e8db261d404851dd5f9224f5eb&amp;n=21"/>
          <p:cNvPicPr/>
          <p:nvPr/>
        </p:nvPicPr>
        <p:blipFill>
          <a:blip r:embed="rId1"/>
          <a:stretch/>
        </p:blipFill>
        <p:spPr>
          <a:xfrm>
            <a:off x="1077840" y="46926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im1-tub-ru.yandex.net/i?id=8f383fdce9204614fc2d5f5a699fe2a5&amp;n=21"/>
          <p:cNvPicPr/>
          <p:nvPr/>
        </p:nvPicPr>
        <p:blipFill>
          <a:blip r:embed="rId2"/>
          <a:stretch/>
        </p:blipFill>
        <p:spPr>
          <a:xfrm>
            <a:off x="4162320" y="304956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im0-tub-ru.yandex.net/i?id=03cbedfbcbf8f268750d4c6484b8d4d1&amp;n=24"/>
          <p:cNvPicPr/>
          <p:nvPr/>
        </p:nvPicPr>
        <p:blipFill>
          <a:blip r:embed="rId3"/>
          <a:stretch/>
        </p:blipFill>
        <p:spPr>
          <a:xfrm>
            <a:off x="3230640" y="4788000"/>
            <a:ext cx="1971720" cy="1238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im0-tub-ru.yandex.net/i?id=467c07b08de67753261254b143e892d0&amp;n=24"/>
          <p:cNvPicPr/>
          <p:nvPr/>
        </p:nvPicPr>
        <p:blipFill>
          <a:blip r:embed="rId4"/>
          <a:stretch/>
        </p:blipFill>
        <p:spPr>
          <a:xfrm>
            <a:off x="6265800" y="776160"/>
            <a:ext cx="1730520" cy="1105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http://im0-tub-ru.yandex.net/i?id=5b0aa0ac6c355b60506729d1fa3b2e6d&amp;n=24"/>
          <p:cNvPicPr/>
          <p:nvPr/>
        </p:nvPicPr>
        <p:blipFill>
          <a:blip r:embed="rId5"/>
          <a:stretch/>
        </p:blipFill>
        <p:spPr>
          <a:xfrm>
            <a:off x="6585120" y="2205000"/>
            <a:ext cx="154116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http://im3-tub-ru.yandex.net/i?id=6dbdf3da2e821079f5b1ecbd8e3d6f9a&amp;n=21"/>
          <p:cNvPicPr/>
          <p:nvPr/>
        </p:nvPicPr>
        <p:blipFill>
          <a:blip r:embed="rId6"/>
          <a:stretch/>
        </p:blipFill>
        <p:spPr>
          <a:xfrm>
            <a:off x="6659640" y="4129200"/>
            <a:ext cx="1609560" cy="1428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2452680" y="376200"/>
            <a:ext cx="49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 отгадку с карти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йди лабири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:\Новая папка (4)\img001.jpg"/>
          <p:cNvPicPr/>
          <p:nvPr/>
        </p:nvPicPr>
        <p:blipFill>
          <a:blip r:embed="rId1"/>
          <a:stretch/>
        </p:blipFill>
        <p:spPr>
          <a:xfrm>
            <a:off x="826920" y="981000"/>
            <a:ext cx="7639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 отлич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M:\Новая папка (4)\img008.jpg"/>
          <p:cNvPicPr/>
          <p:nvPr/>
        </p:nvPicPr>
        <p:blipFill>
          <a:blip r:embed="rId1"/>
          <a:stretch/>
        </p:blipFill>
        <p:spPr>
          <a:xfrm>
            <a:off x="611280" y="105264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:\Новая папка (4)\img008.jpg"/>
          <p:cNvPicPr/>
          <p:nvPr/>
        </p:nvPicPr>
        <p:blipFill>
          <a:blip r:embed="rId2"/>
          <a:stretch/>
        </p:blipFill>
        <p:spPr>
          <a:xfrm>
            <a:off x="4716360" y="1054080"/>
            <a:ext cx="3943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692360" y="2492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Лариса</cp:lastModifiedBy>
  <dcterms:modified xsi:type="dcterms:W3CDTF">2020-09-12T19:38:23Z</dcterms:modified>
  <cp:revision>21</cp:revision>
  <dc:subject/>
  <dc:title>Слайд 1</dc:title>
</cp:coreProperties>
</file>