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8F4-864B-4A6F-A541-3E4075CF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A45-0F83-4150-9F4E-221EA0A4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783-D4EC-4A8E-B50A-D91C88D7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947-9029-4E96-9653-A55EEC29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B43-E161-4CFC-AD74-797167AC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328-FD13-4BBB-A402-82D32FE1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6E3-B145-4B7F-B2C4-EED525B9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855-6144-471E-B727-43FE8FFF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9E4-2236-45A1-A6EF-0644A02F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416-DE4D-46C0-A884-060B666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DF4-34D6-47C2-8E35-B0317123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A65-6712-47FA-AD91-E4CEE99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B6E7-F2DB-420F-99DE-3F0AC0505C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47640" y="47628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ДОУ «Детский сад «лесная сказ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зентация дл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Есть такая профессия – Родину защищать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охмянина Лариса Владимир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268360" y="2781360"/>
            <a:ext cx="3456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920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ать формировать представления детей об армии, о родах войск,  об особенностях военной службы. Совершенствование грамматического строя ре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сообразительность, смекалку, логическое мышление, память, внимание; стимулировать речевую активность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ывать чувство гордости за свою армию;  вызвать желание быть похожими на сильных, смелых российских вои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609480" y="693720"/>
            <a:ext cx="331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то, ребята на границ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у землю стережё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б работать и учить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г спокойно наш народ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енты реют за плечам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вно чайки над волн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м не страшен вал девяты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– бывалые ребя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страшны нам мель, торос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отважные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ова в бой машина мчитс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жут землю гусен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 машина в поле чист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вляется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лёт парит, как птиц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м – воздушная грани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осту и днём, и ночь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 солдат – военный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то готовит всё по – флотс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ароны, борщ и клёц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шу, блинчики, компо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хню камбузом зовёт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6" descr="http://im0-tub-ru.yandex.net/i?id=35d98f45ebacdea55b25330cd33a82c8&amp;n=21"/>
          <p:cNvPicPr/>
          <p:nvPr/>
        </p:nvPicPr>
        <p:blipFill>
          <a:blip r:embed="rId1"/>
          <a:stretch/>
        </p:blipFill>
        <p:spPr>
          <a:xfrm>
            <a:off x="4859280" y="907920"/>
            <a:ext cx="1225440" cy="1368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http://im0-tub-ru.yandex.net/i?id=b4159b6f3d82527130410f188deb4501&amp;n=24"/>
          <p:cNvPicPr/>
          <p:nvPr/>
        </p:nvPicPr>
        <p:blipFill>
          <a:blip r:embed="rId2"/>
          <a:stretch/>
        </p:blipFill>
        <p:spPr>
          <a:xfrm>
            <a:off x="4975200" y="4581360"/>
            <a:ext cx="1233360" cy="15354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http://im1-tub-ru.yandex.net/i?id=f1427bc341955f333e8f83ef80cf95a2&amp;n=21"/>
          <p:cNvPicPr/>
          <p:nvPr/>
        </p:nvPicPr>
        <p:blipFill>
          <a:blip r:embed="rId3"/>
          <a:stretch/>
        </p:blipFill>
        <p:spPr>
          <a:xfrm>
            <a:off x="6588000" y="4245120"/>
            <a:ext cx="1587600" cy="1407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http://im2-tub-ru.yandex.net/i?id=578985a5b75bc29ab4c5bff9526131a2&amp;n=21"/>
          <p:cNvPicPr/>
          <p:nvPr/>
        </p:nvPicPr>
        <p:blipFill>
          <a:blip r:embed="rId4"/>
          <a:stretch/>
        </p:blipFill>
        <p:spPr>
          <a:xfrm>
            <a:off x="6386400" y="1592280"/>
            <a:ext cx="1617840" cy="1401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http://im1-tub-ru.yandex.net/i?id=703cdc10049f4b3862d6498e4e49a818&amp;n=21"/>
          <p:cNvPicPr/>
          <p:nvPr/>
        </p:nvPicPr>
        <p:blipFill>
          <a:blip r:embed="rId5"/>
          <a:stretch/>
        </p:blipFill>
        <p:spPr>
          <a:xfrm>
            <a:off x="4975200" y="2762280"/>
            <a:ext cx="1109520" cy="1511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771640" y="366840"/>
            <a:ext cx="48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  отгадку с карти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796680"/>
            <a:ext cx="5338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ловной убор бойца, который надевают во время бо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бы защитить голову от ранений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ловной убор танкист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ловной убор, который носят воины – десантник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ловной убор, часть летнего обмундирования солдат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ловной убор, предназначенный для офицерского состав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это флот военны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тогда уж непременно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удах его матро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ленточками это нося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3" descr="http://im0-tub-ru.yandex.net/i?id=76a066e8db261d404851dd5f9224f5eb&amp;n=21"/>
          <p:cNvPicPr/>
          <p:nvPr/>
        </p:nvPicPr>
        <p:blipFill>
          <a:blip r:embed="rId1"/>
          <a:stretch/>
        </p:blipFill>
        <p:spPr>
          <a:xfrm>
            <a:off x="1077840" y="46926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http://im1-tub-ru.yandex.net/i?id=8f383fdce9204614fc2d5f5a699fe2a5&amp;n=21"/>
          <p:cNvPicPr/>
          <p:nvPr/>
        </p:nvPicPr>
        <p:blipFill>
          <a:blip r:embed="rId2"/>
          <a:stretch/>
        </p:blipFill>
        <p:spPr>
          <a:xfrm>
            <a:off x="4162320" y="304956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im0-tub-ru.yandex.net/i?id=03cbedfbcbf8f268750d4c6484b8d4d1&amp;n=24"/>
          <p:cNvPicPr/>
          <p:nvPr/>
        </p:nvPicPr>
        <p:blipFill>
          <a:blip r:embed="rId3"/>
          <a:stretch/>
        </p:blipFill>
        <p:spPr>
          <a:xfrm>
            <a:off x="3230640" y="4788000"/>
            <a:ext cx="1971720" cy="1238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http://im0-tub-ru.yandex.net/i?id=467c07b08de67753261254b143e892d0&amp;n=24"/>
          <p:cNvPicPr/>
          <p:nvPr/>
        </p:nvPicPr>
        <p:blipFill>
          <a:blip r:embed="rId4"/>
          <a:stretch/>
        </p:blipFill>
        <p:spPr>
          <a:xfrm>
            <a:off x="6265800" y="776160"/>
            <a:ext cx="1730520" cy="1105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http://im0-tub-ru.yandex.net/i?id=5b0aa0ac6c355b60506729d1fa3b2e6d&amp;n=24"/>
          <p:cNvPicPr/>
          <p:nvPr/>
        </p:nvPicPr>
        <p:blipFill>
          <a:blip r:embed="rId5"/>
          <a:stretch/>
        </p:blipFill>
        <p:spPr>
          <a:xfrm>
            <a:off x="6585120" y="2205000"/>
            <a:ext cx="154116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http://im3-tub-ru.yandex.net/i?id=6dbdf3da2e821079f5b1ecbd8e3d6f9a&amp;n=21"/>
          <p:cNvPicPr/>
          <p:nvPr/>
        </p:nvPicPr>
        <p:blipFill>
          <a:blip r:embed="rId6"/>
          <a:stretch/>
        </p:blipFill>
        <p:spPr>
          <a:xfrm>
            <a:off x="6659640" y="4129200"/>
            <a:ext cx="1609560" cy="1428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2452680" y="376200"/>
            <a:ext cx="49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 отгадку с карти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йди лабири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M:\Новая папка (4)\img001.jpg"/>
          <p:cNvPicPr/>
          <p:nvPr/>
        </p:nvPicPr>
        <p:blipFill>
          <a:blip r:embed="rId1"/>
          <a:stretch/>
        </p:blipFill>
        <p:spPr>
          <a:xfrm>
            <a:off x="826920" y="981000"/>
            <a:ext cx="76392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ди отлич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M:\Новая папка (4)\img008.jpg"/>
          <p:cNvPicPr/>
          <p:nvPr/>
        </p:nvPicPr>
        <p:blipFill>
          <a:blip r:embed="rId1"/>
          <a:stretch/>
        </p:blipFill>
        <p:spPr>
          <a:xfrm>
            <a:off x="611280" y="1052640"/>
            <a:ext cx="3960720" cy="460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:\Новая папка (4)\img008.jpg"/>
          <p:cNvPicPr/>
          <p:nvPr/>
        </p:nvPicPr>
        <p:blipFill>
          <a:blip r:embed="rId2"/>
          <a:stretch/>
        </p:blipFill>
        <p:spPr>
          <a:xfrm>
            <a:off x="4716360" y="1054080"/>
            <a:ext cx="3943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692360" y="2492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1:24:37Z</dcterms:created>
  <dc:creator>Елена</dc:creator>
  <dc:description/>
  <dc:language>en-US</dc:language>
  <cp:lastModifiedBy>Лариса</cp:lastModifiedBy>
  <dcterms:modified xsi:type="dcterms:W3CDTF">2020-09-12T19:38:23Z</dcterms:modified>
  <cp:revision>21</cp:revision>
  <dc:subject/>
  <dc:title>Слайд 1</dc:title>
</cp:coreProperties>
</file>