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093-A244-4E41-9689-04A8B8A3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E0D-7F8C-41EC-9926-8F5C907C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0D1-51C2-4DCD-851A-DDA04B65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A92-08E5-45A8-A55F-964DEA4C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279C-9AE4-4158-8EE4-64D7E3DC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1BF7-C0DC-4976-946C-0DEB45C0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E5F9-24F5-4DFF-B861-209832C2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584F-5071-4498-9F2D-05CF9EA9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937B-07FB-4DA8-B4B6-B9CA0DC1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41E5-9480-4322-9E48-B87C4618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00F8-6E6F-4EFA-AF12-B27FA9F5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740-3560-44DC-BB8B-61FBCA37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B615-6003-4163-A2F0-0936C1E6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4B2E-DD21-4C1D-AE29-DC94F8DB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4CE0-8DD4-4C10-8559-86759A29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62BF-C866-4BD1-A848-1CD0B63C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5F03-B8E4-45DA-97F2-2E6DFE41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7C04-FAF0-4B48-87F5-0C38DAF9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2FBCA-FE1F-436E-88A0-D58E0A36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920E9-025C-42AF-AE7C-9D47D79D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97AA-533F-420E-A4E8-2B32F5AC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CBCFD-E1CD-4E37-AA07-6A426F90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5EF-9D66-41FA-A458-6628D0DC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CC90D-7FAF-47E2-96FC-E27A7D3E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73572-5009-4A92-9075-DA83054B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126F-E81C-4FE0-9C49-B9EF92C5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443F2-25B0-4ABF-B9D6-5069A762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47DC7-B590-4D80-9DAC-5AC76D3D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CB05-30AE-499D-84B1-C2F6D25F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736D9-E92A-4C22-ADCE-1A659368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4706F-C956-4C88-A286-1416F10C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5DCEE-1A75-48D7-A43D-752CC7EA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3DFDF-1021-48F4-8FEF-07834AF5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F05-C3A7-4396-8D93-784CAF90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0193-8E17-4A08-B9A5-4BD60608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15667-1BD8-47DF-B8DE-8C7F377E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9392E-7816-4C38-BB02-549C2A20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19E22-7574-4A61-8947-1D6C20BC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15ED5-CCF6-4C2C-AAFE-968C75C4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423D9-C4F8-498D-A5A6-87CEF571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27181-EC0C-42B1-A250-73A08E61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15BD7-68F3-465C-AD5F-A98B3088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8B1E9-324C-4ADC-BEB8-A8CF8FEF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F4270-479F-4057-9D8E-00032DB4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558-FFA4-49ED-BF64-7D69EA4D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0C4B2-C5EC-49A1-807D-E8EC953E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BB2B1-1290-4B44-A076-5A9A4527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54686-A829-47F2-949A-67EC49FD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0660C-BB92-4DCB-9EA8-3A9B3D02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637CA-DB71-482E-8D1E-2A32949C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BAC25-A03B-4470-85D6-D1430D30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964D4-4611-454E-AAC7-E752D4B3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0761B-3D8C-4A21-A508-2C236575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517EC-7030-4E14-A860-BE780F2F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12053-B666-4D85-B9E4-31DD6E7B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650-BD17-46DB-BD46-CF8B8F5F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E5EF3-D934-4D51-B3B4-711758CA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06B48-4B89-4ACE-AADC-21F7442E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405C5-E9B3-4882-AC2A-BE1DFCCF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1D413-35E4-442E-89D0-D6EBFF65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EC7E8-6630-4C0B-B112-60F7D698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26EB3-0EB6-4338-BD05-54B0677F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C99B9-B648-432A-A4C2-74F7AE92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93F2B-C312-43F3-AA51-FDA8B96C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05214-3669-45D9-84B7-162F0302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6103B-A0A3-4ADD-945D-5AE379C3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FEF-257E-4E21-8839-BAED3089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81D99-FD36-442F-8AD7-41F173F8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E6940-9B46-40E2-8251-D2F986CD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58B57-8C97-4311-8D93-6D494DE6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98208-80D6-4172-AA3B-153CCE43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79428-948A-47DB-A26B-CA9840C8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7065D-8925-4787-B493-C9315101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119F7-EEC3-45E1-A155-F9002CDC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715C3-7AFB-4F39-AE25-27AF8651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13240-FACB-44EB-BB4B-874E68E3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36677-4E5E-473A-B7BD-413327F5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6DC-BDBC-4E09-A818-F0B6D25E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B7B5B-CBA6-4A19-B754-39F9B69D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E5552-7D90-4ED3-846B-2B30EEAB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2560D-6AC3-4992-8DD9-73D912F9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3AD1C-2CCF-4C29-ADC9-EEB0A8EA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E5C74-1C73-4758-BC2C-741C7EE7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6B4-2F82-4A68-BBE1-54552FE2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E447-5757-463C-9044-EB4250D55D4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2AEC-5332-4BC5-A1FB-EC509D0F64C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1EB9-FE9D-4FBF-BFFC-FA92776DB3D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8216-67C9-447F-A917-BE6252E0BA2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2B5F-8BB8-407C-B5D3-35ADBD951F6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388B-AB92-4949-ACFE-2882B34D80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1E6A-7201-4DEB-B85E-EEF220CFA61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21384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 Дюймовочка»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85920" y="1341000"/>
            <a:ext cx="7632720" cy="137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«Бизиборд как средство развития детей Во второй младшей групп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Колокольчик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2214720" y="585792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оветский, 2019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5072040" y="3643200"/>
            <a:ext cx="3786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8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цик Н.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ешко М.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" name="Picture 5" descr="C:\Users\Adminlog\Desktop\Ясли, бизиборд\myagkiy-bizibord-5-600x293.jpg"/>
          <p:cNvPicPr/>
          <p:nvPr/>
        </p:nvPicPr>
        <p:blipFill>
          <a:blip r:embed="rId1"/>
          <a:stretch/>
        </p:blipFill>
        <p:spPr>
          <a:xfrm>
            <a:off x="1116000" y="2567160"/>
            <a:ext cx="1693800" cy="33271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C:\Users\Adminlog\Desktop\Ясли, бизиборд\myagkiy-bizibord-5-600x293.jpg"/>
          <p:cNvPicPr/>
          <p:nvPr/>
        </p:nvPicPr>
        <p:blipFill>
          <a:blip r:embed="rId2"/>
          <a:stretch/>
        </p:blipFill>
        <p:spPr>
          <a:xfrm>
            <a:off x="2975040" y="3852720"/>
            <a:ext cx="1841400" cy="36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715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ктуальность</a:t>
            </a:r>
            <a:br>
              <a:rPr sz="3600"/>
            </a:br>
            <a:br>
              <a:rPr sz="29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иборды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sy board) – развивающая доска (стенд, модуль) со всевозможными кнопками, выключателями, крючками и прочими маленькими «опасностями», которые ребёнку трогать обычно запрещено – это не просто модное веяние. Это полезные игры на усидчивость, внимательность, умение концентрироваться, развитие мышления и мозговой активности. Недаром бизиборды ещё называют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лшебная доска», «Чудо-доска», «Доска – стенд для мелкой моторики».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6156360" y="3068640"/>
            <a:ext cx="16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71880" y="213840"/>
            <a:ext cx="33163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ель Бизиборда: 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6156360" y="3068640"/>
            <a:ext cx="16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1214280" y="928800"/>
            <a:ext cx="73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ребенка с окружающим миром, теми вещами, которые встречаются ему в быт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8" descr="D:\Мои документы\1 сентября\Про бизиборды_Загрузить\Мастер-класс_Бизи\Бизиборд1 - копия\Слайд4.JPG"/>
          <p:cNvPicPr/>
          <p:nvPr/>
        </p:nvPicPr>
        <p:blipFill>
          <a:blip r:embed="rId1"/>
          <a:stretch/>
        </p:blipFill>
        <p:spPr>
          <a:xfrm>
            <a:off x="2071800" y="2571840"/>
            <a:ext cx="5099040" cy="34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76500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6156360" y="3068640"/>
            <a:ext cx="16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1000080" y="642960"/>
            <a:ext cx="7632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мелкую моторику рук, развитие речи, логики и мышления; памяти, внима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причинно-следственные связ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самостоятельность и познавательную активность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развитию произвольности (умение играть по правилам и выполнять инструкци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6b07e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99760" y="142560"/>
            <a:ext cx="62866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8"/>
                </a:solidFill>
                <a:latin typeface="Times New Roman"/>
                <a:ea typeface="Times New Roman"/>
              </a:rPr>
              <a:t>Бизиборды своими  руками. Работа с родителями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8" descr="C:\Users\Колокольчики\Desktop\бизиборд\Альбом 5\20190221_102654.jpg"/>
          <p:cNvPicPr/>
          <p:nvPr/>
        </p:nvPicPr>
        <p:blipFill>
          <a:blip r:embed="rId1"/>
          <a:stretch/>
        </p:blipFill>
        <p:spPr>
          <a:xfrm>
            <a:off x="2143080" y="2071800"/>
            <a:ext cx="5041800" cy="37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500800" y="213840"/>
            <a:ext cx="364320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теперь об элементах</a:t>
            </a:r>
            <a:br>
              <a:rPr sz="3900"/>
            </a:br>
            <a:br>
              <a:rPr sz="39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6156360" y="3068640"/>
            <a:ext cx="16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1571760" y="500040"/>
            <a:ext cx="714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ыключатели, розетк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лкой моторики рук, развитие познавательных интересов, мышления, усидчив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Picture 8" descr="C:\Users\Колокольчики\Desktop\бизиборд\Альбом 5\20190221_100426.jpg"/>
          <p:cNvPicPr/>
          <p:nvPr/>
        </p:nvPicPr>
        <p:blipFill>
          <a:blip r:embed="rId1"/>
          <a:stretch/>
        </p:blipFill>
        <p:spPr>
          <a:xfrm>
            <a:off x="2428920" y="2000160"/>
            <a:ext cx="5929200" cy="39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6"/>
          <p:cNvSpPr/>
          <p:nvPr/>
        </p:nvSpPr>
        <p:spPr>
          <a:xfrm>
            <a:off x="6156360" y="3068640"/>
            <a:ext cx="16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1"/>
          <p:cNvSpPr/>
          <p:nvPr/>
        </p:nvSpPr>
        <p:spPr>
          <a:xfrm>
            <a:off x="1500120" y="153360"/>
            <a:ext cx="71438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олн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Цель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е детей застегиванию и расстёгиванию застежки-молнии, развитие ручной умел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1547640" y="5084640"/>
            <a:ext cx="60487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7" descr="C:\Users\Колокольчики\Desktop\бизиборд\Альбом 5\20190221_100130.jpg"/>
          <p:cNvPicPr/>
          <p:nvPr/>
        </p:nvPicPr>
        <p:blipFill>
          <a:blip r:embed="rId1"/>
          <a:stretch/>
        </p:blipFill>
        <p:spPr>
          <a:xfrm>
            <a:off x="1332000" y="1916280"/>
            <a:ext cx="7235640" cy="45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2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6156360" y="3068640"/>
            <a:ext cx="16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1071720" y="285840"/>
            <a:ext cx="728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Шнуровка, ленточк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ние развитию тонких движений пальцев рук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онкой моторики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Развитие глазомера, внимания, укрепление пальцев и кисти рук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лкая моторик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учение завязыванию и развязыванию узелков, бант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C:\Users\Колокольчики\Desktop\бизиборд\Альбом 5\20190221_102645.jpg"/>
          <p:cNvPicPr/>
          <p:nvPr/>
        </p:nvPicPr>
        <p:blipFill>
          <a:blip r:embed="rId1"/>
          <a:stretch/>
        </p:blipFill>
        <p:spPr>
          <a:xfrm>
            <a:off x="971640" y="2565360"/>
            <a:ext cx="7524720" cy="408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7:07:47Z</dcterms:created>
  <dc:creator>домашний</dc:creator>
  <dc:description/>
  <dc:language>en-US</dc:language>
  <cp:lastModifiedBy>Романов</cp:lastModifiedBy>
  <dcterms:modified xsi:type="dcterms:W3CDTF">2020-09-12T15:56:45Z</dcterms:modified>
  <cp:revision>231</cp:revision>
  <dc:subject/>
  <dc:title>Представляем наш детский сад</dc:title>
</cp:coreProperties>
</file>