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99A-B436-4704-8C02-BDCDAAF7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108-6490-44E1-B419-BD1ED304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9DF-EB1D-41AC-81C0-E901A9A2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ADB-0433-457A-B42C-52419A08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C703-43A8-48EC-8B9B-5BF1DDBB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648A-DDB5-4388-9019-105894C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219-9E1B-4DBF-A97D-13E0A8B5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4DE-56ED-459F-BDAE-F1C183E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6725-80BC-49D4-936A-9043A58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0A58-6FD2-4588-9E2B-88F89CBB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BBC2-D991-4C8E-A26A-1E39332F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324-17BD-4929-919C-AF17798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7568-92FF-48E1-82AF-86D3BFC2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E257-5EF3-4C2E-97D6-FE122DC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F29E-72FD-424F-9410-C66738F1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0F3-F0D9-425A-A5D7-58E81D39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E645-2EE2-4213-8EEA-2BB60F82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97F6-BD15-40DC-8D0F-E1DBF38C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9F98-DC1D-4391-9CFC-67ECEDF1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A39D-77B4-4D7B-927B-95425C7B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ED2B-CF53-4C56-9A94-7FBC54F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B7A9-0B45-43CA-8FE4-54C4A9AE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9C6-4777-4EC1-9DD6-6F33D18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7EB5-0A0F-44CF-B781-0E1A18A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BC06-8ACB-4AF9-8E06-315C7B7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ADE7-FD5A-4420-9273-CE15271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01D5-BE4E-41E7-8116-394B437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1718-8E9C-4440-ACAD-382E602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0CE6-66BE-4C52-9BC2-EA8796BB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15A4-97A9-4E8A-B55E-B948D3EC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E691-6295-472B-949F-1BDC1E74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6524-CFA9-4E86-9FCF-D929E68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1DC5-88EA-4B52-9988-F37C23AA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526-B20A-47F9-9597-D2442E2B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46EF-E62B-4B45-B42B-49F82760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E083-A6B6-4E97-93A4-393D8ACB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0037-0BB1-484B-8232-8354CAA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4E05-D1ED-4F34-9A75-0476C7B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D9DA-A0F6-4C69-BC61-56C9043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40A5-C928-41D7-895D-C9F045F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B867-C5FB-4109-BB6C-ECA87CA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4446-DD60-4EC5-B62D-5CB07507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7642-7FD3-4C30-8606-4E944A78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63B49-0C8B-4C34-96BA-6F08F784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A5-BFF5-41D0-B51E-95A6BDE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7EB5-16D8-41D4-9625-FC75F77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FF7B-123A-4D35-888B-D8580CCB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B526E-2B27-4B06-82CA-1B47950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8933-6D07-490C-9C03-E2C39E3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7E8E-F2B6-4025-A385-982968A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A616-05A8-458D-B923-45FE547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61DC-634A-4E93-A180-4CB6256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BCD38-E4AF-46FB-B73A-43D91B3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20C8-4CCC-4487-A56A-C10B466A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D238-2BEC-47D2-BAD0-A3FB802B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7E5-F112-4A5C-91EF-DC92603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1776-8444-49B2-BFAA-6229A303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2038-6B65-4C73-8409-364434EA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7C320-118A-406A-B8BC-9AAA65E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0686D-125F-42A1-AB12-C3CC71E6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DC920-509B-4BA4-919D-DD72DB0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A6CB-9004-4265-8A9F-0BABD3D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2CA8-7022-4137-B1E3-7B408DD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A438-C141-493A-8792-2F14F49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E8CF-BCAE-4960-BC10-190A47F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90DF-0EFA-46DA-9807-F5D3A47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A02-7908-433F-8411-A2479AA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A945-BAA7-4D83-95D9-EF55E9C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2B8E-8FAD-46E3-AD48-E66B1FB0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F845-D0AA-4027-9C69-4B3D35EC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0407C-AE43-4A35-9911-CFF6FE6E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0AD4F-CBFE-471F-BCB7-E08328A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EFBD-52D4-4E3D-BB0B-90EBC43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6F50-0304-496C-86DF-E8BD521F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FBEF-0B5B-40EB-8BAA-FEE5535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F90F-D981-4DD6-9CED-DEC263C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E501-2E2F-4A41-96C8-4110AD7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12D-F989-4605-B9E3-0D53680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0B856-4CBC-410A-9274-22C3191E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C373-608F-4C44-9486-E239175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76BA-22F6-4EA3-B0BF-DA24FD5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012C-6EC1-4E5E-A350-B434C698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9644C-5D80-4CC2-A3EC-A1936FB1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9F3-98AE-4C28-B4D2-48DFCE4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602-C9B8-448A-88C9-903AED4EA1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37B-22DD-404B-A3BF-2ADA34BD35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6EF-A48C-4CE4-9748-AE75E39684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29A0-98D5-4B9E-89B0-350465F3E3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5B27-BFE4-49DA-A9CD-849B224A08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073-8F8D-4866-9120-FCB9D6B24C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FE6-5F77-41EE-B275-9C5E40E68A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 Дюймовочка»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920" y="1341000"/>
            <a:ext cx="7632720" cy="137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«Бизиборд как средство развития детей Во второй младшей групп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олокольчик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214720" y="58579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, 2019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5072040" y="3643200"/>
            <a:ext cx="3786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цик Н.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шко М.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5" descr="C:\Users\Adminlog\Desktop\Ясли, бизиборд\myagkiy-bizibord-5-600x293.jpg"/>
          <p:cNvPicPr/>
          <p:nvPr/>
        </p:nvPicPr>
        <p:blipFill>
          <a:blip r:embed="rId1"/>
          <a:stretch/>
        </p:blipFill>
        <p:spPr>
          <a:xfrm>
            <a:off x="1116000" y="2567160"/>
            <a:ext cx="1693800" cy="3327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C:\Users\Adminlog\Desktop\Ясли, бизиборд\myagkiy-bizibord-5-600x293.jpg"/>
          <p:cNvPicPr/>
          <p:nvPr/>
        </p:nvPicPr>
        <p:blipFill>
          <a:blip r:embed="rId2"/>
          <a:stretch/>
        </p:blipFill>
        <p:spPr>
          <a:xfrm>
            <a:off x="2975040" y="3852720"/>
            <a:ext cx="184140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15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уальность</a:t>
            </a:r>
            <a:br>
              <a:rPr sz="3600"/>
            </a:br>
            <a:br>
              <a:rPr sz="29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иборды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sy board) – развивающая доска (стенд, модуль) со всевозможными кнопками, выключателями, крючками и прочими маленькими «опасностями», которые ребёнку трогать обычно запрещено – это не просто модное веяние. Это полезные игры на усидчивость, внимательность, умение концентрироваться, развитие мышления и мозговой активности. Недаром бизиборды ещё 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ая доска», «Чудо-доска», «Доска – стенд для мелкой моторики».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3316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Бизиборда: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214280" y="928800"/>
            <a:ext cx="73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ребенка с окружающим миром, теми вещами, которые встречаются ему в бы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8" descr="D:\Мои документы\1 сентября\Про бизиборды_Загрузить\Мастер-класс_Бизи\Бизиборд1 - копия\Слайд4.JPG"/>
          <p:cNvPicPr/>
          <p:nvPr/>
        </p:nvPicPr>
        <p:blipFill>
          <a:blip r:embed="rId1"/>
          <a:stretch/>
        </p:blipFill>
        <p:spPr>
          <a:xfrm>
            <a:off x="2071800" y="2571840"/>
            <a:ext cx="50990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000080" y="642960"/>
            <a:ext cx="7632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елкую моторику рук, развитие речи, логики и мышления; памяти, вним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причинно-следственные связ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самостоятельность и познавательную активнос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произвольности (умение играть по правилам и выполнять инструкци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6b07e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99760" y="142560"/>
            <a:ext cx="62866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8"/>
                </a:solidFill>
                <a:latin typeface="Times New Roman"/>
                <a:ea typeface="Times New Roman"/>
              </a:rPr>
              <a:t>Бизиборды своими  руками. Работа с родителя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8" descr="C:\Users\Колокольчики\Desktop\бизиборд\Альбом 5\20190221_102654.jpg"/>
          <p:cNvPicPr/>
          <p:nvPr/>
        </p:nvPicPr>
        <p:blipFill>
          <a:blip r:embed="rId1"/>
          <a:stretch/>
        </p:blipFill>
        <p:spPr>
          <a:xfrm>
            <a:off x="2143080" y="2071800"/>
            <a:ext cx="5041800" cy="37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500800" y="213840"/>
            <a:ext cx="36432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об элементах</a:t>
            </a:r>
            <a:br>
              <a:rPr sz="3900"/>
            </a:b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571760" y="50004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ыключатели, розет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, развитие познавательных интересов, мышления, усидчив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8" descr="C:\Users\Колокольчики\Desktop\бизиборд\Альбом 5\20190221_100426.jpg"/>
          <p:cNvPicPr/>
          <p:nvPr/>
        </p:nvPicPr>
        <p:blipFill>
          <a:blip r:embed="rId1"/>
          <a:stretch/>
        </p:blipFill>
        <p:spPr>
          <a:xfrm>
            <a:off x="2428920" y="2000160"/>
            <a:ext cx="5929200" cy="39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1500120" y="153360"/>
            <a:ext cx="7143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ол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детей застегиванию и расстёгиванию застежки-молнии, развитие ручной умел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547640" y="5084640"/>
            <a:ext cx="6048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7" descr="C:\Users\Колокольчики\Desktop\бизиборд\Альбом 5\20190221_100130.jpg"/>
          <p:cNvPicPr/>
          <p:nvPr/>
        </p:nvPicPr>
        <p:blipFill>
          <a:blip r:embed="rId1"/>
          <a:stretch/>
        </p:blipFill>
        <p:spPr>
          <a:xfrm>
            <a:off x="1332000" y="1916280"/>
            <a:ext cx="72356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2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071720" y="285840"/>
            <a:ext cx="728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Шнуровка, ленточ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ние развитию тонких движений пальцев рук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нкой моторик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Развитие глазомера, внимания, укрепление пальцев и кисти ру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лкая моторик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ение завязыванию и развязыванию узелков, бант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C:\Users\Колокольчики\Desktop\бизиборд\Альбом 5\20190221_102645.jpg"/>
          <p:cNvPicPr/>
          <p:nvPr/>
        </p:nvPicPr>
        <p:blipFill>
          <a:blip r:embed="rId1"/>
          <a:stretch/>
        </p:blipFill>
        <p:spPr>
          <a:xfrm>
            <a:off x="971640" y="2565360"/>
            <a:ext cx="75247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7:07:47Z</dcterms:created>
  <dc:creator>домашний</dc:creator>
  <dc:description/>
  <dc:language>en-US</dc:language>
  <cp:lastModifiedBy>Романов</cp:lastModifiedBy>
  <dcterms:modified xsi:type="dcterms:W3CDTF">2020-09-12T15:56:45Z</dcterms:modified>
  <cp:revision>231</cp:revision>
  <dc:subject/>
  <dc:title>Представляем наш детский сад</dc:title>
</cp:coreProperties>
</file>