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30DA-7D6A-4B80-AE6A-89DECCAC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ACC8-F256-49B4-9047-43E43C9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C8D9-BA1F-4BD6-B6DD-27CC9538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C848-126E-4521-A139-59066D72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F9BE-9CCD-4B44-ABEF-F77E2772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5ED5-067D-4122-A1E6-D4BC3AE7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BAEF-CAC2-4BA6-B4A8-B24DCAD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23B2-0DC1-48F6-ACC8-F8709F1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61A-F104-4FBE-A053-587D4100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485-FB19-4EBE-9EF8-4269ED8F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A62-05DA-4CF9-ABE1-5A9D6FC5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4358-4531-4F66-9BDA-A546FDD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2929-9F13-4E84-BDB4-4C3E3404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067-1088-4731-A49A-0411752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5B3-2AE0-4DD5-8EF3-F708382E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321-26E8-40E7-8741-FF6371A3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0690-87CA-45BC-85F1-708F92EA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EF5B-16DB-4D1B-975F-39784ADB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3B14-6E13-4C37-8677-520942DF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36AE-AC64-426D-BD0A-9ACC0E9D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6860-3550-4717-9466-F6583ADB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5C91-6B29-47A9-8119-1BB0421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475E-FEC7-4C47-A5E1-5C9130E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C769-289F-4919-802C-47D7AC3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d88256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7950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c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C84-3062-4D54-A8F9-78E9EC2139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9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d88256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7950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79463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9c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ACA-CBD4-4E72-9AC7-17BE1E1C0E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«Сравнительных психологический анализ героев произведени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А.Н. Островского «Гроза». Тихон и Катерина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Катерин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сумрачной обстановке в семье Кабанихи у Катерины  появились другие желания, мысли, стрем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10" descr="1870-ый год"/>
          <p:cNvPicPr/>
          <p:nvPr/>
        </p:nvPicPr>
        <p:blipFill>
          <a:blip r:embed="rId1"/>
          <a:stretch/>
        </p:blipFill>
        <p:spPr>
          <a:xfrm>
            <a:off x="4719600" y="1125360"/>
            <a:ext cx="3576600" cy="5034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Образование Катерин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829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образованная женщ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ующий, религиозный челов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ло знаний – много доверчив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инимум самосто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чинение окружающ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7" descr="0056"/>
          <p:cNvPicPr/>
          <p:nvPr/>
        </p:nvPicPr>
        <p:blipFill>
          <a:blip r:embed="rId1"/>
          <a:stretch/>
        </p:blipFill>
        <p:spPr>
          <a:xfrm>
            <a:off x="5364000" y="1484280"/>
            <a:ext cx="2324160" cy="4992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Мечты Катерины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лавная мечта о взаимной люб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чты о свобо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0" descr="FedotovaG-003-Katerina"/>
          <p:cNvPicPr/>
          <p:nvPr/>
        </p:nvPicPr>
        <p:blipFill>
          <a:blip r:embed="rId1"/>
          <a:stretch/>
        </p:blipFill>
        <p:spPr>
          <a:xfrm>
            <a:off x="4500720" y="1484280"/>
            <a:ext cx="361476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Особенности характеров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 Катерины и Тихона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4500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Такая уж я зародилась горячая!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 не удержат меня никакой силой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манывать не уме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й сильный протест тот, который выходит из груди самых слаб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детстве от обиды уже убегала из до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ится самодурную силу, склоняется перед н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ое подчинение тиран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Любовь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ТЕР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това любить мужа, но не находит отклика в н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ИХО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 отца ничего не написа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ец не научил Тихона любить и проявлять свои чув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006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Поступк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Катерины и Тихо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упки Катерины находятся в гармонии с ее натур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ется при всем народе в своем грех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может выдержать ун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то время другого выбора у Катерины не бы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оубийство – протест «темному царству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не помышляет жить отдельно от мат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требованию матери побил Катерину после ее признания в изме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ится проклятия мат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лько после самоубийства жены первый раз подал голос против матери, обвинив ее в тирании и самодурст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Groza"/>
          <p:cNvPicPr/>
          <p:nvPr/>
        </p:nvPicPr>
        <p:blipFill>
          <a:blip r:embed="rId1"/>
          <a:stretch/>
        </p:blipFill>
        <p:spPr>
          <a:xfrm>
            <a:off x="1332000" y="981000"/>
            <a:ext cx="67215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СПАСИБО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ЗА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ВНИМАНИЕ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Герои и среда в драме А.Н. Островского «Гроза»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001 Кабаниха"/>
          <p:cNvPicPr/>
          <p:nvPr/>
        </p:nvPicPr>
        <p:blipFill>
          <a:blip r:embed="rId1"/>
          <a:stretch/>
        </p:blipFill>
        <p:spPr>
          <a:xfrm>
            <a:off x="1979640" y="2276640"/>
            <a:ext cx="50403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«Гроза» написана в 1859 г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60-х годах в России сложилась напряженная обстановка. Ожидались реформы, крестьянские восстания выливались в бунты, трещали устои крепостничества и в душной, тревожной атмосфере действительно собиралась гро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5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В центре внимания русских писателей 50-х – 60-х годов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 главные темы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3070080"/>
            <a:ext cx="821844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ПОСТНОЕ ПРА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ОЧИННАЯ ИНТЕЛЛИГЕН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ЖЕНИЕ ЖЕНЩИНЫ В СТ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АНИЯ САМОДУ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АСТЬ ДЕНЕ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Со слов Добролюбова Н.А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«Жить в «темном царстве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уж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мерт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10" descr="0"/>
          <p:cNvPicPr/>
          <p:nvPr/>
        </p:nvPicPr>
        <p:blipFill>
          <a:blip r:embed="rId1"/>
          <a:stretch/>
        </p:blipFill>
        <p:spPr>
          <a:xfrm>
            <a:off x="4859280" y="1677960"/>
            <a:ext cx="361800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Воспитание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Катерины и Тихо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ть растит од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ть очень любила доч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ботала дочь только по желан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асто ходила в церков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слаждалась природой и свобод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доме было принято милосердие и гостеприим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50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ь растит од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ь – тиран (воспитание по типу гиперопе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исим от матери во всех делах, поступках, сл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зкая  само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 считает, что у него нет своих мозг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дивительно, что он вообще женил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жчина «группы риска» - маменькин сын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Основные черты характеров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Катерины и Тихона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обр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чтательн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«От чего люди не летают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идающ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деа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емится к красоте, природе, любви и гармо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ть и общество превратило Тихона в забитого человека и раба судьб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звольный, но добр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чтает в командировках вырваться из-под опеки матер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Тихон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понимает, что от него надо его ж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достоин ее люб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юбит, как уме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6" descr="005"/>
          <p:cNvPicPr/>
          <p:nvPr/>
        </p:nvPicPr>
        <p:blipFill>
          <a:blip r:embed="rId1"/>
          <a:stretch/>
        </p:blipFill>
        <p:spPr>
          <a:xfrm>
            <a:off x="971640" y="1341360"/>
            <a:ext cx="2879640" cy="453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Катерина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иста душ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ступается за му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утко чувствует несправедлив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ижается на свекров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7" descr="010"/>
          <p:cNvPicPr/>
          <p:nvPr/>
        </p:nvPicPr>
        <p:blipFill>
          <a:blip r:embed="rId1"/>
          <a:stretch/>
        </p:blipFill>
        <p:spPr>
          <a:xfrm>
            <a:off x="5589720" y="1268280"/>
            <a:ext cx="25826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9:18:40Z</dcterms:created>
  <dc:creator>Admin</dc:creator>
  <dc:description/>
  <dc:language>en-US</dc:language>
  <cp:lastModifiedBy>nadezhda.pronskaya</cp:lastModifiedBy>
  <dcterms:modified xsi:type="dcterms:W3CDTF">2013-04-12T13:14:26Z</dcterms:modified>
  <cp:revision>11</cp:revision>
  <dc:subject/>
  <dc:title>А.Н.Островский</dc:title>
</cp:coreProperties>
</file>