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8717-BFCF-4DCC-AC25-9D117471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FFD6-979A-4553-A2B8-28F5E22D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5E95-B93F-4A6A-95C0-4AA3BB68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A566-8266-4462-B0D1-4F5284A6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AD74-37B3-42D5-8F37-8243C734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2C01-C233-4D54-9123-E995780F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AF91-FDDF-4411-9A0A-A3BA579F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5558-FEEA-4321-85B1-F72BA57C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1376-2BA6-4D8F-8779-8852D917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E7D3-3DFA-4CD4-B2A3-0B82C018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EA03-FCBA-4BB7-8295-7F8106C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3F3C-A033-4318-8638-6AD90DE7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68D8-9FAB-4C98-B89D-9493503C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A4F3-119A-45DB-9EEE-3595F10B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D853-C191-4C05-8ECB-13E85B4E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2C96-5B7F-424F-8873-AF82FB71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29D9-96F3-4AE6-8ECD-517521DA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D7CE-D844-49F1-829B-E796E19F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F560-8F63-454E-8D91-76476C2F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6CC7-A2FC-4FD4-B615-0A6E3ED5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3FAD-A0EB-479B-87F2-D0E4072E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18DF-1365-4AB3-AE17-1529EADF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1CE6-CD3F-4922-A560-4573E832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83DD-E000-427C-AED9-7B1F2FD0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d88256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7950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79463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79463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9c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8BF0-AEE3-4A9D-933C-2734CB5C25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d88256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7950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79463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79463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9c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97C3-DBAF-4E30-A62F-E41B72A9B2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«Сравнительных психологический анализ героев произведения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А.Н. Островского «Гроза». Тихон и Катерина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Катерина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сумрачной обстановке в семье Кабанихи у Катерины  появились другие желания, мысли, стрем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10" descr="1870-ый год"/>
          <p:cNvPicPr/>
          <p:nvPr/>
        </p:nvPicPr>
        <p:blipFill>
          <a:blip r:embed="rId1"/>
          <a:stretch/>
        </p:blipFill>
        <p:spPr>
          <a:xfrm>
            <a:off x="4719600" y="1125360"/>
            <a:ext cx="3576600" cy="5034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Образование Катерины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829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образованная женщ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рующий, религиозный челове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ло знаний – много доверчив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инимум самосто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чинение окружающ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7" descr="0056"/>
          <p:cNvPicPr/>
          <p:nvPr/>
        </p:nvPicPr>
        <p:blipFill>
          <a:blip r:embed="rId1"/>
          <a:stretch/>
        </p:blipFill>
        <p:spPr>
          <a:xfrm>
            <a:off x="5364000" y="1484280"/>
            <a:ext cx="2324160" cy="4992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Мечты Катерины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лавная мечта о взаимной люб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чты о свобо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0" descr="FedotovaG-003-Katerina"/>
          <p:cNvPicPr/>
          <p:nvPr/>
        </p:nvPicPr>
        <p:blipFill>
          <a:blip r:embed="rId1"/>
          <a:stretch/>
        </p:blipFill>
        <p:spPr>
          <a:xfrm>
            <a:off x="4500720" y="1484280"/>
            <a:ext cx="3614760" cy="5106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768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768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4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6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Особенности характеров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 Катерины и Тихона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4500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«Такая уж я зародилась горячая!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 не удержат меня никакой силой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манывать не уме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ый сильный протест тот, который выходит из груди самых слаб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детстве от обиды уже убегала из до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ится самодурную силу, склоняется перед н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ное подчинение тиран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Любовь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ТЕР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това любить мужа, но не находит отклика в н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ИХ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 отца ничего не написа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ец не научил Тихона любить и проявлять свои чув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4" descr="006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Поступк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Катерины и Тихона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упки Катерины находятся в гармонии с ее натур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ется при всем народе в своем грех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может выдержать ун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то время другого выбора у Катерины не был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оубийство – протест «темному царству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же не помышляет жить отдельно от мате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требованию матери побил Катерину после ее признания в изме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ится проклятия мате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лько после самоубийства жены первый раз подал голос против матери, обвинив ее в тирании и самодурств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Groza"/>
          <p:cNvPicPr/>
          <p:nvPr/>
        </p:nvPicPr>
        <p:blipFill>
          <a:blip r:embed="rId1"/>
          <a:stretch/>
        </p:blipFill>
        <p:spPr>
          <a:xfrm>
            <a:off x="1332000" y="981000"/>
            <a:ext cx="67215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29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СПАСИБО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ЗА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ВНИМАНИЕ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Герои и среда в драме А.Н. Островского «Гроза»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001 Кабаниха"/>
          <p:cNvPicPr/>
          <p:nvPr/>
        </p:nvPicPr>
        <p:blipFill>
          <a:blip r:embed="rId1"/>
          <a:stretch/>
        </p:blipFill>
        <p:spPr>
          <a:xfrm>
            <a:off x="1979640" y="2276640"/>
            <a:ext cx="504036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«Гроза» написана в 1859 г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60-х годах в России сложилась напряженная обстановка. Ожидались реформы, крестьянские восстания выливались в бунты, трещали устои крепостничества и в душной, тревожной атмосфере действительно собиралась гроз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5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В центре внимания русских писателей 50-х – 60-х годов 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 главные темы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3070080"/>
            <a:ext cx="821844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ЕПОСТНОЕ ПРА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ОЧИННАЯ ИНТЕЛЛИГЕН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ЖЕНИЕ ЖЕНЩИНЫ В СТРА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АНИЯ САМОДУР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ЛАСТЬ ДЕНЕ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Со слов Добролюбова Н.А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«Жить в «темном царстве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хуж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мерт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10" descr="0"/>
          <p:cNvPicPr/>
          <p:nvPr/>
        </p:nvPicPr>
        <p:blipFill>
          <a:blip r:embed="rId1"/>
          <a:stretch/>
        </p:blipFill>
        <p:spPr>
          <a:xfrm>
            <a:off x="4859280" y="1677960"/>
            <a:ext cx="3618000" cy="4703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Воспитание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Катерины и Тихона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ть растит од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ть очень любила доч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ботала дочь только по желан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асто ходила в церков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слаждалась природой и свобод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доме было принято милосердие и гостеприим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3280" y="1599840"/>
            <a:ext cx="450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ь растит од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ь – тиран (воспитание по типу гиперопе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висим от матери во всех делах, поступках, слов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зкая  само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 считает, что у него нет своих мозг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дивительно, что он вообще женил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жчина «группы риска» - маменькин сын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Основные черты характеров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Катерины и Тихона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обр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чтательн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«От чего люди не летают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зидающ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деа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емится к красоте, природе, любви и гармо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ть и общество превратило Тихона в забитого человека и раба судьб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звольный, но добр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чтает в командировках вырваться из-под опеки матер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Тихон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понимает, что от него надо его ж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достоин ее люб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юбит, как уме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6" descr="005"/>
          <p:cNvPicPr/>
          <p:nvPr/>
        </p:nvPicPr>
        <p:blipFill>
          <a:blip r:embed="rId1"/>
          <a:stretch/>
        </p:blipFill>
        <p:spPr>
          <a:xfrm>
            <a:off x="971640" y="1341360"/>
            <a:ext cx="2879640" cy="453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Катерина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иста душ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ступается за му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утко чувствует несправедлив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ижается на свекров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7" descr="010"/>
          <p:cNvPicPr/>
          <p:nvPr/>
        </p:nvPicPr>
        <p:blipFill>
          <a:blip r:embed="rId1"/>
          <a:stretch/>
        </p:blipFill>
        <p:spPr>
          <a:xfrm>
            <a:off x="5589720" y="1268280"/>
            <a:ext cx="258264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9:18:40Z</dcterms:created>
  <dc:creator>Admin</dc:creator>
  <dc:description/>
  <dc:language>en-US</dc:language>
  <cp:lastModifiedBy>nadezhda.pronskaya</cp:lastModifiedBy>
  <dcterms:modified xsi:type="dcterms:W3CDTF">2013-04-12T13:14:26Z</dcterms:modified>
  <cp:revision>11</cp:revision>
  <dc:subject/>
  <dc:title>А.Н.Островский</dc:title>
</cp:coreProperties>
</file>