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6.png" ContentType="image/png"/>
  <Override PartName="/ppt/media/image36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BFA-E09D-4D08-8929-EFC50880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4BA-464E-4CFD-993A-356F7729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841-97EC-40B6-911A-A22AD669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A80-E18D-43DB-8DB0-EC217569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F3AC-3A3A-41CE-A6AA-B526F500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927B-DA32-4181-BC90-61AB7E8C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30EC-CB70-48B0-B647-1CC550D5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8317-F07B-4BBA-8579-8CD0AD34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E5AE-F9FD-4220-9B3A-B1CC72F8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4654-A542-46FB-8E41-4A82AB73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6223-FA49-4902-93D6-37006DDB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C62-B2DF-44AD-9D8A-364C2A57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6D60-6691-457F-9043-3CB256B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3D11-7F29-4D5F-9D6C-AFCED256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77EB-F888-4D75-856D-64BC4A49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BE6A-9CDD-4A7B-A5F6-C660B26D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E612-666A-48DD-885E-D4206D8C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7924A-E34D-48E0-9451-F68CA328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6D16F-C91A-4041-A9BE-FB3B951F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FC7C6-9180-405F-8423-AF0085AC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96096-2D51-4DAA-925A-70FC4697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88897-FE51-4832-B49F-0A41EC5D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3CC-6BCE-4032-BE27-A410369E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01B4F-1103-4475-9A01-94670176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379EF-0D44-4A73-9A5F-BD65BD9B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9B320-1FFA-471E-9F3B-7C070F1B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33309-0809-4408-8B94-487E5C74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55297-5EDC-4EFF-8E6F-C0804195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D1B60-A82D-4F97-9521-8B42AA15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8245D-96F1-4439-9ED4-47462810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C21-E196-492D-ACBB-A9CE9095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7FC1-44DE-4ADD-B1F3-9139FC1B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6FF-4FCF-4FB1-9DCF-87353410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587-F5FA-4C21-A954-A2AAC10C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9CD-1DCC-48AA-BAF4-CCC9F38F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F2C-A7B1-4BF5-B368-74AC03EB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AC10513-BC61-4AA2-8571-40020258BDB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BF904DD-6960-4610-A193-58A045DE7F1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F773765-2B09-43F5-8168-5D910C4C49C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sebelarusy.by/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Белорусы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4024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6000"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Белорусы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восточнославянский   народ. Общая численность — 9,4 млн. человек. Проживают преимущественно на территории Республики Беларусь, где являются доминирующей национальностью. Значительное число белорусов населяют смежные с Белоруссией территории России, Польши, Украины, Латвии и Литвы, где являются национальным меньшинством. Белорусы также широко расселились по территории бывшего СССР, а также мигрировали в ряд стран за его пределам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6" name="Picture 4" descr="Супермода. Портал модной одежды"/>
          <p:cNvPicPr/>
          <p:nvPr/>
        </p:nvPicPr>
        <p:blipFill>
          <a:blip r:embed="rId1"/>
          <a:stretch/>
        </p:blipFill>
        <p:spPr>
          <a:xfrm>
            <a:off x="4860000" y="1772640"/>
            <a:ext cx="3818880" cy="36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Крестьянский быт: жилище и хозяйственные постройки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827640" y="1052640"/>
            <a:ext cx="7383240" cy="511236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6"/>
          <p:cNvSpPr/>
          <p:nvPr/>
        </p:nvSpPr>
        <p:spPr>
          <a:xfrm>
            <a:off x="3164760" y="188640"/>
            <a:ext cx="2979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Жилищ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5"/>
          <p:cNvSpPr/>
          <p:nvPr/>
        </p:nvSpPr>
        <p:spPr>
          <a:xfrm>
            <a:off x="1043640" y="188640"/>
            <a:ext cx="7344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Constantia"/>
              </a:rPr>
              <a:t>Национальные блюд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39640" y="1772640"/>
            <a:ext cx="3840120" cy="2880000"/>
          </a:xfrm>
          <a:prstGeom prst="rect">
            <a:avLst/>
          </a:prstGeom>
          <a:ln w="9525">
            <a:noFill/>
          </a:ln>
        </p:spPr>
      </p:pic>
      <p:sp>
        <p:nvSpPr>
          <p:cNvPr id="158" name="TextBox 6"/>
          <p:cNvSpPr/>
          <p:nvPr/>
        </p:nvSpPr>
        <p:spPr>
          <a:xfrm>
            <a:off x="2555640" y="836640"/>
            <a:ext cx="4104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</a:rPr>
              <a:t>«Драники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2771640" y="4725000"/>
            <a:ext cx="5616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"Как вкусны белорусские дран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С луком, салом, перчинкой о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В сковородке умело поджар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из картошки с родной стороны…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22 Апреля 2014 - Персональный сайт"/>
          <p:cNvPicPr/>
          <p:nvPr/>
        </p:nvPicPr>
        <p:blipFill>
          <a:blip r:embed="rId2"/>
          <a:stretch/>
        </p:blipFill>
        <p:spPr>
          <a:xfrm>
            <a:off x="4428000" y="1772640"/>
            <a:ext cx="4277880" cy="288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4524840" cy="3024000"/>
          </a:xfrm>
          <a:prstGeom prst="rect">
            <a:avLst/>
          </a:prstGeom>
          <a:ln w="9525">
            <a:noFill/>
          </a:ln>
        </p:spPr>
      </p:pic>
      <p:sp>
        <p:nvSpPr>
          <p:cNvPr id="162" name="Прямоугольник 2"/>
          <p:cNvSpPr/>
          <p:nvPr/>
        </p:nvSpPr>
        <p:spPr>
          <a:xfrm>
            <a:off x="5076000" y="3717000"/>
            <a:ext cx="3888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- холодный суп из свеклы, щавеля, крапивы.  Холодные супы – это исключительно белорусская кулинарная традиц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732960" y="332640"/>
            <a:ext cx="7674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Constantia"/>
              </a:rPr>
              <a:t>Национальные блюд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2267640" y="1052640"/>
            <a:ext cx="5579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</a:rPr>
              <a:t>«Свекольник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899640" y="332640"/>
            <a:ext cx="7776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Промыслы и 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Масштабный праздник народного творчества прошел в Слуцке ВИДЕО НОВОСТИ БЕЛАРУСИ И МИРА ОТ СТВ"/>
          <p:cNvPicPr/>
          <p:nvPr/>
        </p:nvPicPr>
        <p:blipFill>
          <a:blip r:embed="rId1"/>
          <a:stretch/>
        </p:blipFill>
        <p:spPr>
          <a:xfrm>
            <a:off x="179640" y="1124640"/>
            <a:ext cx="3986280" cy="2989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Музей гончарства в вышгороде мастер класс стоимость - Master class"/>
          <p:cNvPicPr/>
          <p:nvPr/>
        </p:nvPicPr>
        <p:blipFill>
          <a:blip r:embed="rId2"/>
          <a:stretch/>
        </p:blipFill>
        <p:spPr>
          <a:xfrm>
            <a:off x="3492000" y="1845000"/>
            <a:ext cx="2948400" cy="309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Расположение печи определяло планировку избы - Фото 3859/29"/>
          <p:cNvPicPr/>
          <p:nvPr/>
        </p:nvPicPr>
        <p:blipFill>
          <a:blip r:embed="rId3"/>
          <a:stretch/>
        </p:blipFill>
        <p:spPr>
          <a:xfrm>
            <a:off x="5364000" y="3645000"/>
            <a:ext cx="3528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1114200" y="260640"/>
            <a:ext cx="72342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Промыслы и 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Традиции народного орнамента презентация - отличная школа"/>
          <p:cNvPicPr/>
          <p:nvPr/>
        </p:nvPicPr>
        <p:blipFill>
          <a:blip r:embed="rId1"/>
          <a:stretch/>
        </p:blipFill>
        <p:spPr>
          <a:xfrm>
            <a:off x="611640" y="1268640"/>
            <a:ext cx="4896360" cy="367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Рушник. Обсуждение на LiveInternet - Российский Сервис Онлай…"/>
          <p:cNvPicPr/>
          <p:nvPr/>
        </p:nvPicPr>
        <p:blipFill>
          <a:blip r:embed="rId2"/>
          <a:stretch/>
        </p:blipFill>
        <p:spPr>
          <a:xfrm>
            <a:off x="3564000" y="2421000"/>
            <a:ext cx="5298840" cy="397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1186200" y="188640"/>
            <a:ext cx="72342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Промыслы и 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У Бабаева появился город-побратим в Белоруссии"/>
          <p:cNvPicPr/>
          <p:nvPr/>
        </p:nvPicPr>
        <p:blipFill>
          <a:blip r:embed="rId1"/>
          <a:stretch/>
        </p:blipFill>
        <p:spPr>
          <a:xfrm>
            <a:off x="755640" y="1052640"/>
            <a:ext cx="2981880" cy="259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ВИТЕБСКИЙ ГОРОДСКОЙ ИНТЕРНЕТ-ПОРТАЛ - GorodVitebsk.by - ВСЁ О ГОРОДЕ ВИТЕБСКЕ!Новости Витебска,Каталог организаций,фирмы витебск"/>
          <p:cNvPicPr/>
          <p:nvPr/>
        </p:nvPicPr>
        <p:blipFill>
          <a:blip r:embed="rId2"/>
          <a:stretch/>
        </p:blipFill>
        <p:spPr>
          <a:xfrm>
            <a:off x="4860000" y="1052640"/>
            <a:ext cx="3384000" cy="253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Музей старинных ремесел и технологий Дудутки в плане Минск /…"/>
          <p:cNvPicPr/>
          <p:nvPr/>
        </p:nvPicPr>
        <p:blipFill>
          <a:blip r:embed="rId3"/>
          <a:stretch/>
        </p:blipFill>
        <p:spPr>
          <a:xfrm>
            <a:off x="4788000" y="3789000"/>
            <a:ext cx="3744000" cy="275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Психология и соционика * Про Беларусь и не только"/>
          <p:cNvPicPr/>
          <p:nvPr/>
        </p:nvPicPr>
        <p:blipFill>
          <a:blip r:embed="rId4"/>
          <a:stretch/>
        </p:blipFill>
        <p:spPr>
          <a:xfrm>
            <a:off x="467640" y="3861000"/>
            <a:ext cx="3816000" cy="267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8226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200" spc="-100" strike="noStrike">
                <a:solidFill>
                  <a:srgbClr val="f9f9f9"/>
                </a:solidFill>
                <a:latin typeface="Constantia"/>
              </a:rPr>
              <a:t>Государственные праздники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2877120" cy="3096000"/>
          </a:xfrm>
          <a:prstGeom prst="rect">
            <a:avLst/>
          </a:prstGeom>
          <a:ln w="9525">
            <a:noFill/>
          </a:ln>
        </p:spPr>
      </p:pic>
      <p:sp>
        <p:nvSpPr>
          <p:cNvPr id="179" name="Прямоугольник 5"/>
          <p:cNvSpPr/>
          <p:nvPr/>
        </p:nvSpPr>
        <p:spPr>
          <a:xfrm>
            <a:off x="395640" y="4293000"/>
            <a:ext cx="3240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нь Независимости – главный государственный праздник. Он отмечается 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3 июля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– в день освобождения в 1944 году города Минска от немецко-фашистских захватч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Содержимое 7" descr="загруженное.jpg"/>
          <p:cNvPicPr/>
          <p:nvPr/>
        </p:nvPicPr>
        <p:blipFill>
          <a:blip r:embed="rId2"/>
          <a:stretch/>
        </p:blipFill>
        <p:spPr>
          <a:xfrm>
            <a:off x="4356000" y="1124640"/>
            <a:ext cx="3168000" cy="23727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7"/>
          <p:cNvSpPr/>
          <p:nvPr/>
        </p:nvSpPr>
        <p:spPr>
          <a:xfrm>
            <a:off x="3780000" y="3573000"/>
            <a:ext cx="482400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2-е воскресенье мая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– День Государственного флага Республики Беларусь и Государственного герба Республики Беларусь. Праздник посвящен главным символам страны, которые воплощают идеи национального единства и являются важнейшими атрибутами суверенитета и независимости Белару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115640" y="188640"/>
            <a:ext cx="69123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Пасха –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один из главных праздников христиа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2" descr="Пасха в Беларуси, источник: usebelarusy.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3640" y="1845000"/>
            <a:ext cx="7488360" cy="396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http://probelarus.by/tmp/generate_pic/upload/page/4081.jpg!250!10000!reduce.jpg"/>
          <p:cNvPicPr/>
          <p:nvPr/>
        </p:nvPicPr>
        <p:blipFill>
          <a:blip r:embed="rId1"/>
          <a:stretch/>
        </p:blipFill>
        <p:spPr>
          <a:xfrm>
            <a:off x="467640" y="620640"/>
            <a:ext cx="4464000" cy="3744000"/>
          </a:xfrm>
          <a:prstGeom prst="rect">
            <a:avLst/>
          </a:prstGeom>
          <a:ln w="9525">
            <a:noFill/>
          </a:ln>
        </p:spPr>
      </p:pic>
      <p:pic>
        <p:nvPicPr>
          <p:cNvPr id="185" name="Picture 2" descr="Как готовить кулич :: BlogRider.ru"/>
          <p:cNvPicPr/>
          <p:nvPr/>
        </p:nvPicPr>
        <p:blipFill>
          <a:blip r:embed="rId2"/>
          <a:stretch/>
        </p:blipFill>
        <p:spPr>
          <a:xfrm>
            <a:off x="3780000" y="2781000"/>
            <a:ext cx="4678560" cy="35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3" descr="http://www.wonderfulnature.ru/statji/Easter_divine%20service.jpg"/>
          <p:cNvPicPr/>
          <p:nvPr/>
        </p:nvPicPr>
        <p:blipFill>
          <a:blip r:embed="rId1"/>
          <a:stretch/>
        </p:blipFill>
        <p:spPr>
          <a:xfrm>
            <a:off x="899640" y="620640"/>
            <a:ext cx="3960000" cy="2880000"/>
          </a:xfrm>
          <a:prstGeom prst="rect">
            <a:avLst/>
          </a:prstGeom>
          <a:ln w="9525">
            <a:noFill/>
          </a:ln>
        </p:spPr>
      </p:pic>
      <p:pic>
        <p:nvPicPr>
          <p:cNvPr id="187" name="Picture 2" descr="Вкус Польши - РУССКАЯ СЛУЖБА"/>
          <p:cNvPicPr/>
          <p:nvPr/>
        </p:nvPicPr>
        <p:blipFill>
          <a:blip r:embed="rId2"/>
          <a:stretch/>
        </p:blipFill>
        <p:spPr>
          <a:xfrm>
            <a:off x="3852000" y="2997000"/>
            <a:ext cx="4680000" cy="31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Этногенез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68000" y="1484640"/>
            <a:ext cx="48963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тногенез белорусов происходил на территории Верхнего Поднепровья, Среднего Подвинья, и Верхнего Понемонья. Нет единого мнения о хронологических рамках формирования белорусской народности. Первый зафиксированный  случай употребления термина «белорус» относится к 1586 году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9" name="Содержимое 14" descr="267870.jpg"/>
          <p:cNvPicPr/>
          <p:nvPr/>
        </p:nvPicPr>
        <p:blipFill>
          <a:blip r:embed="rId1"/>
          <a:stretch/>
        </p:blipFill>
        <p:spPr>
          <a:xfrm>
            <a:off x="683640" y="1628640"/>
            <a:ext cx="3434400" cy="432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Пасха 2014 в Гатчине. Славянка Инфо - информационный портал Санкт-Петербурга и Ленинградской области"/>
          <p:cNvPicPr/>
          <p:nvPr/>
        </p:nvPicPr>
        <p:blipFill>
          <a:blip r:embed="rId1"/>
          <a:stretch/>
        </p:blipFill>
        <p:spPr>
          <a:xfrm>
            <a:off x="899640" y="692640"/>
            <a:ext cx="6912360" cy="51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3" descr="http://www.wonderfulnature.ru/statji/Easter_hristosovanie.jpg"/>
          <p:cNvPicPr/>
          <p:nvPr/>
        </p:nvPicPr>
        <p:blipFill>
          <a:blip r:embed="rId1"/>
          <a:stretch/>
        </p:blipFill>
        <p:spPr>
          <a:xfrm>
            <a:off x="5292000" y="4077000"/>
            <a:ext cx="3289320" cy="1832760"/>
          </a:xfrm>
          <a:prstGeom prst="rect">
            <a:avLst/>
          </a:prstGeom>
          <a:ln w="9525">
            <a:noFill/>
          </a:ln>
        </p:spPr>
      </p:pic>
      <p:pic>
        <p:nvPicPr>
          <p:cNvPr id="190" name="Picture 2" descr="Архив материалов - МАОУ Приданниковская СОШ"/>
          <p:cNvPicPr/>
          <p:nvPr/>
        </p:nvPicPr>
        <p:blipFill>
          <a:blip r:embed="rId2"/>
          <a:stretch/>
        </p:blipFill>
        <p:spPr>
          <a:xfrm>
            <a:off x="755640" y="764640"/>
            <a:ext cx="3456000" cy="2592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Пасха 06-5 / Превью / О Открытки Христианские / Сортировка по дате возр. / Картинки пользователя Prostota / Все картинки / Фотог"/>
          <p:cNvPicPr/>
          <p:nvPr/>
        </p:nvPicPr>
        <p:blipFill>
          <a:blip r:embed="rId3"/>
          <a:stretch/>
        </p:blipFill>
        <p:spPr>
          <a:xfrm>
            <a:off x="4572000" y="692640"/>
            <a:ext cx="3816000" cy="2647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Оренбург: Orki.ru - Новости Оренбург, Объявления Оренбург, погода, Оренбург online: все новости"/>
          <p:cNvPicPr/>
          <p:nvPr/>
        </p:nvPicPr>
        <p:blipFill>
          <a:blip r:embed="rId4"/>
          <a:stretch/>
        </p:blipFill>
        <p:spPr>
          <a:xfrm>
            <a:off x="611640" y="3717000"/>
            <a:ext cx="4122000" cy="23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Совместные покупки на МИРСП.РФ * Просмотр темы - Скоро Пасха…"/>
          <p:cNvPicPr/>
          <p:nvPr/>
        </p:nvPicPr>
        <p:blipFill>
          <a:blip r:embed="rId1"/>
          <a:stretch/>
        </p:blipFill>
        <p:spPr>
          <a:xfrm>
            <a:off x="467640" y="476640"/>
            <a:ext cx="3767040" cy="306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Мастерклассы &quot; Страница 1693"/>
          <p:cNvPicPr/>
          <p:nvPr/>
        </p:nvPicPr>
        <p:blipFill>
          <a:blip r:embed="rId2"/>
          <a:stretch/>
        </p:blipFill>
        <p:spPr>
          <a:xfrm>
            <a:off x="4716000" y="476640"/>
            <a:ext cx="3816000" cy="3124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&quot;Волшебный мир цветов и рукоделия&quot;: темы"/>
          <p:cNvPicPr/>
          <p:nvPr/>
        </p:nvPicPr>
        <p:blipFill>
          <a:blip r:embed="rId3"/>
          <a:stretch/>
        </p:blipFill>
        <p:spPr>
          <a:xfrm>
            <a:off x="827640" y="3645000"/>
            <a:ext cx="2968920" cy="273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Готовимся к пасхе. Идеи. Декупаж яиц."/>
          <p:cNvPicPr/>
          <p:nvPr/>
        </p:nvPicPr>
        <p:blipFill>
          <a:blip r:embed="rId4"/>
          <a:stretch/>
        </p:blipFill>
        <p:spPr>
          <a:xfrm>
            <a:off x="4860000" y="3717000"/>
            <a:ext cx="3603600" cy="26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Страна проживания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1640" y="1523880"/>
            <a:ext cx="324000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marL="250560" indent="-2505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еларусь -Государство в Восточной Европе. Граничит с Россией на востоке, Украиной на юге, Польшей на западе, Литвой и Латвией на северо-запад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0560" indent="-2505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административном отношении состоит из шести областей, которые, в свою очередь, делятся на районы и могут включать города областного подчинения. Столица Республики Беларусь — Минск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2" name="Picture 3" descr="C:\Documents and Settings\Maxim\Мои документы\Downloads\139b53e93e6502046aebf218fd261e0c.jpg"/>
          <p:cNvPicPr/>
          <p:nvPr/>
        </p:nvPicPr>
        <p:blipFill>
          <a:blip r:embed="rId1"/>
          <a:stretch/>
        </p:blipFill>
        <p:spPr>
          <a:xfrm>
            <a:off x="3636000" y="1772640"/>
            <a:ext cx="4968360" cy="4510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5508000" y="476640"/>
            <a:ext cx="1816200" cy="907920"/>
          </a:xfrm>
          <a:prstGeom prst="rect">
            <a:avLst/>
          </a:prstGeom>
          <a:ln w="9525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3"/>
          <a:stretch/>
        </p:blipFill>
        <p:spPr>
          <a:xfrm>
            <a:off x="7524360" y="332640"/>
            <a:ext cx="1223640" cy="121572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240" cy="8226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4200" spc="-100" strike="noStrike">
                <a:solidFill>
                  <a:srgbClr val="f9f9f9"/>
                </a:solidFill>
                <a:latin typeface="Constantia"/>
              </a:rPr>
              <a:t>Мужской национальный костюм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7" name="Picture 4" descr="Костюм"/>
          <p:cNvPicPr/>
          <p:nvPr/>
        </p:nvPicPr>
        <p:blipFill>
          <a:blip r:embed="rId1"/>
          <a:stretch/>
        </p:blipFill>
        <p:spPr>
          <a:xfrm>
            <a:off x="2771640" y="1484640"/>
            <a:ext cx="2520000" cy="478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Культура Белоруссии - Фото 16582/37"/>
          <p:cNvPicPr/>
          <p:nvPr/>
        </p:nvPicPr>
        <p:blipFill>
          <a:blip r:embed="rId2"/>
          <a:stretch/>
        </p:blipFill>
        <p:spPr>
          <a:xfrm>
            <a:off x="251640" y="1124640"/>
            <a:ext cx="2781000" cy="424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Тесты по курсу &quot;Краеведение и этнография Белеруси&quot; для студентов 1 курса специальности"/>
          <p:cNvPicPr/>
          <p:nvPr/>
        </p:nvPicPr>
        <p:blipFill>
          <a:blip r:embed="rId3"/>
          <a:stretch/>
        </p:blipFill>
        <p:spPr>
          <a:xfrm>
            <a:off x="6876360" y="1124640"/>
            <a:ext cx="1848600" cy="470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Мужские костюмы беларусь"/>
          <p:cNvPicPr/>
          <p:nvPr/>
        </p:nvPicPr>
        <p:blipFill>
          <a:blip r:embed="rId4"/>
          <a:stretch/>
        </p:blipFill>
        <p:spPr>
          <a:xfrm>
            <a:off x="5220000" y="2205000"/>
            <a:ext cx="1656000" cy="43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640" y="260640"/>
            <a:ext cx="8229240" cy="6786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200" spc="-100" strike="noStrike">
                <a:solidFill>
                  <a:srgbClr val="f9f9f9"/>
                </a:solidFill>
                <a:latin typeface="Constantia"/>
              </a:rPr>
              <a:t>Женский национальный костюм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Содержимое 9" descr="Beloruska_zhenska_nosija.jpg"/>
          <p:cNvPicPr/>
          <p:nvPr/>
        </p:nvPicPr>
        <p:blipFill>
          <a:blip r:embed="rId1"/>
          <a:stretch/>
        </p:blipFill>
        <p:spPr>
          <a:xfrm>
            <a:off x="395640" y="980640"/>
            <a:ext cx="2736000" cy="457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Белорусская национальная одежда - МИНСК - СТОЛИЦА БЕЛАРУСИ"/>
          <p:cNvPicPr/>
          <p:nvPr/>
        </p:nvPicPr>
        <p:blipFill>
          <a:blip r:embed="rId2"/>
          <a:srcRect l="0" t="-380" r="0" b="0"/>
          <a:stretch/>
        </p:blipFill>
        <p:spPr>
          <a:xfrm>
            <a:off x="5364000" y="980640"/>
            <a:ext cx="3322080" cy="4560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Мужские костюмы беларусь"/>
          <p:cNvPicPr/>
          <p:nvPr/>
        </p:nvPicPr>
        <p:blipFill>
          <a:blip r:embed="rId3"/>
          <a:srcRect l="0" t="-1593" r="0" b="0"/>
          <a:stretch/>
        </p:blipFill>
        <p:spPr>
          <a:xfrm>
            <a:off x="3492000" y="1196640"/>
            <a:ext cx="1563120" cy="46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04000" y="332640"/>
            <a:ext cx="2746440" cy="7560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00" strike="noStrike">
                <a:solidFill>
                  <a:srgbClr val="f9f9f9"/>
                </a:solidFill>
                <a:latin typeface="Constantia"/>
              </a:rPr>
              <a:t>Жилище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6" name="Picture 2" descr="Изба, крытая соломой. Молдаване. Бессарабская губ. Начало XX в - Смотреть на Мета Фото онлайн бесплатно - 19 век"/>
          <p:cNvPicPr/>
          <p:nvPr/>
        </p:nvPicPr>
        <p:blipFill>
          <a:blip r:embed="rId1"/>
          <a:stretch/>
        </p:blipFill>
        <p:spPr>
          <a:xfrm>
            <a:off x="3996000" y="2997000"/>
            <a:ext cx="4752000" cy="3285720"/>
          </a:xfrm>
          <a:prstGeom prst="rect">
            <a:avLst/>
          </a:prstGeom>
          <a:ln w="0">
            <a:noFill/>
          </a:ln>
        </p:spPr>
      </p:pic>
      <p:pic>
        <p:nvPicPr>
          <p:cNvPr id="147" name="Содержимое 9" descr="800px-Stroczycy_2008_06.jpg"/>
          <p:cNvPicPr/>
          <p:nvPr/>
        </p:nvPicPr>
        <p:blipFill>
          <a:blip r:embed="rId2"/>
          <a:stretch/>
        </p:blipFill>
        <p:spPr>
          <a:xfrm>
            <a:off x="251640" y="1052640"/>
            <a:ext cx="460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4"/>
          <p:cNvSpPr/>
          <p:nvPr/>
        </p:nvSpPr>
        <p:spPr>
          <a:xfrm>
            <a:off x="3020760" y="332640"/>
            <a:ext cx="2979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Жилищ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971640" y="1124640"/>
            <a:ext cx="7128360" cy="534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5"/>
          <p:cNvSpPr/>
          <p:nvPr/>
        </p:nvSpPr>
        <p:spPr>
          <a:xfrm>
            <a:off x="3020760" y="188640"/>
            <a:ext cx="2979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Жилищ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115640" y="1052640"/>
            <a:ext cx="6912360" cy="518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4"/>
          <p:cNvSpPr/>
          <p:nvPr/>
        </p:nvSpPr>
        <p:spPr>
          <a:xfrm>
            <a:off x="2948760" y="260640"/>
            <a:ext cx="2979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Жилищ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827640" y="1124640"/>
            <a:ext cx="7351920" cy="489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379</TotalTime>
  <Application>LibreOffice/7.4.7.2$Linux_X86_64 LibreOffice_project/40$Build-2</Application>
  <AppVersion>15.0000</AppVersion>
  <Words>96</Words>
  <Paragraphs>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кулич</cp:lastModifiedBy>
  <dcterms:modified xsi:type="dcterms:W3CDTF">2016-01-20T17:23:37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