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781-C65C-4FB6-903A-3A9E3B3E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C59-4C4D-4035-9ACE-99E87A69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061-8C77-4BA0-82FC-C86833FD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E05-8E33-47FD-AE89-902D05AB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E82E-9A0D-410D-8592-4A237E3A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7E87-E307-4510-BCE7-99738B3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BD3-2090-433D-A604-05E5DDB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643E-D418-407B-AF2B-CBB918AF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4133-D46F-459C-A031-96F0B2F5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90F-8472-439E-AE56-0943C88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13EB-752A-4D8B-9AEB-0AC6BEEB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DE1-2CC1-4966-A76D-DCE05755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17B0-B820-482D-838C-D6103E0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AB72-419C-4F05-A373-20B8A92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13D0-7E45-4392-B5DE-315B9F43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AA2-4B8D-4B7B-B7FB-1F06B511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B66E-B569-42B2-9442-6FAE57E1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36444-BFE3-4957-AB04-35692E48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80E47-D2A8-4F11-8770-52C1A55B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9891D-0901-4234-942C-5C792A18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12600-C4A0-4DA9-A936-16E4D912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CF66B-587E-4F05-AC2B-A6FD8EC5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231-E60B-4F3F-8D5D-85FE18A7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41B1D-E224-4B6E-BA19-DA7FD086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6ABE8-5EC7-4256-8D54-F1C50D8B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26ABC-00D7-463A-9100-00FD6564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692BA-9617-4EEE-BFAA-891BECCA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8E924-BEA9-4CB6-939D-422715BB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283C2-2964-4795-9969-FCCC819C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1B09A-010C-4630-A245-F8625156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357-0072-43C4-8BDE-60E54348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F8A-C774-48D7-ADAB-AE29FBF9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C76-66CC-47F8-9DA6-E7A6817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4EB-F660-4D64-8AC9-94EF82D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883-C91A-40BC-8233-E47961B1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69A-FF47-495F-A1CA-1A6EF6B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3A28A2-42DC-4D2B-9373-8542F8CDB6B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3256646-0AA9-4608-8FE8-EAE48141D1D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074AFD2-ADCF-4580-93AE-75806A5D872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sebelarusy.by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Белорус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4024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елорусы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восточнославянский   народ. Общая численность — 9,4 млн. человек. Проживают преимущественно на территории Республики Беларусь, где являются доминирующей национальностью. Значительное число белорусов населяют смежные с Белоруссией территории России, Польши, Украины, Латвии и Литвы, где являются национальным меньшинством. Белорусы также широко расселились по территории бывшего СССР, а также мигрировали в ряд стран за его пределам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6" name="Picture 4" descr="Супермода. Портал модной одежды"/>
          <p:cNvPicPr/>
          <p:nvPr/>
        </p:nvPicPr>
        <p:blipFill>
          <a:blip r:embed="rId1"/>
          <a:stretch/>
        </p:blipFill>
        <p:spPr>
          <a:xfrm>
            <a:off x="4860000" y="1772640"/>
            <a:ext cx="381888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Крестьянский быт: жилище и хозяйственные постройки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827640" y="1052640"/>
            <a:ext cx="7383240" cy="51123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3164760" y="188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1043640" y="188640"/>
            <a:ext cx="7344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onstantia"/>
              </a:rPr>
              <a:t>Национальные блюд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9640" y="1772640"/>
            <a:ext cx="3840120" cy="288000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6"/>
          <p:cNvSpPr/>
          <p:nvPr/>
        </p:nvSpPr>
        <p:spPr>
          <a:xfrm>
            <a:off x="2555640" y="836640"/>
            <a:ext cx="4104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</a:rPr>
              <a:t>«Драники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2771640" y="4725000"/>
            <a:ext cx="561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"Как вкусны белорусские дра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С луком, салом, перчинкой о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В сковородке умело поджар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из картошки с родной стороны…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22 Апреля 2014 - Персональный сайт"/>
          <p:cNvPicPr/>
          <p:nvPr/>
        </p:nvPicPr>
        <p:blipFill>
          <a:blip r:embed="rId2"/>
          <a:stretch/>
        </p:blipFill>
        <p:spPr>
          <a:xfrm>
            <a:off x="4428000" y="1772640"/>
            <a:ext cx="4277880" cy="288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524840" cy="3024000"/>
          </a:xfrm>
          <a:prstGeom prst="rect">
            <a:avLst/>
          </a:prstGeom>
          <a:ln w="9525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5076000" y="3717000"/>
            <a:ext cx="388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 холодный суп из свеклы, щавеля, крапивы.  Холодные супы – это исключительно белорусская кулинарная традиц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732960" y="332640"/>
            <a:ext cx="7674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Constantia"/>
              </a:rPr>
              <a:t>Национальные блюд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2267640" y="1052640"/>
            <a:ext cx="55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</a:rPr>
              <a:t>«Свекольни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899640" y="332640"/>
            <a:ext cx="777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ромыслы и 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Масштабный праздник народного творчества прошел в Слуцке ВИДЕО НОВОСТИ БЕЛАРУСИ И МИРА ОТ СТВ"/>
          <p:cNvPicPr/>
          <p:nvPr/>
        </p:nvPicPr>
        <p:blipFill>
          <a:blip r:embed="rId1"/>
          <a:stretch/>
        </p:blipFill>
        <p:spPr>
          <a:xfrm>
            <a:off x="179640" y="1124640"/>
            <a:ext cx="3986280" cy="2989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Музей гончарства в вышгороде мастер класс стоимость - Master class"/>
          <p:cNvPicPr/>
          <p:nvPr/>
        </p:nvPicPr>
        <p:blipFill>
          <a:blip r:embed="rId2"/>
          <a:stretch/>
        </p:blipFill>
        <p:spPr>
          <a:xfrm>
            <a:off x="3492000" y="1845000"/>
            <a:ext cx="2948400" cy="309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Расположение печи определяло планировку избы - Фото 3859/29"/>
          <p:cNvPicPr/>
          <p:nvPr/>
        </p:nvPicPr>
        <p:blipFill>
          <a:blip r:embed="rId3"/>
          <a:stretch/>
        </p:blipFill>
        <p:spPr>
          <a:xfrm>
            <a:off x="5364000" y="3645000"/>
            <a:ext cx="3528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1114200" y="260640"/>
            <a:ext cx="7234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ромыслы и 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Традиции народного орнамента презентация - отличная школа"/>
          <p:cNvPicPr/>
          <p:nvPr/>
        </p:nvPicPr>
        <p:blipFill>
          <a:blip r:embed="rId1"/>
          <a:stretch/>
        </p:blipFill>
        <p:spPr>
          <a:xfrm>
            <a:off x="611640" y="1268640"/>
            <a:ext cx="4896360" cy="367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Рушник. Обсуждение на LiveInternet - Российский Сервис Онлай…"/>
          <p:cNvPicPr/>
          <p:nvPr/>
        </p:nvPicPr>
        <p:blipFill>
          <a:blip r:embed="rId2"/>
          <a:stretch/>
        </p:blipFill>
        <p:spPr>
          <a:xfrm>
            <a:off x="3564000" y="2421000"/>
            <a:ext cx="5298840" cy="39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1186200" y="188640"/>
            <a:ext cx="7234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ромыслы и 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У Бабаева появился город-побратим в Белоруссии"/>
          <p:cNvPicPr/>
          <p:nvPr/>
        </p:nvPicPr>
        <p:blipFill>
          <a:blip r:embed="rId1"/>
          <a:stretch/>
        </p:blipFill>
        <p:spPr>
          <a:xfrm>
            <a:off x="755640" y="1052640"/>
            <a:ext cx="2981880" cy="259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ВИТЕБСКИЙ ГОРОДСКОЙ ИНТЕРНЕТ-ПОРТАЛ - GorodVitebsk.by - ВСЁ О ГОРОДЕ ВИТЕБСКЕ!Новости Витебска,Каталог организаций,фирмы витебск"/>
          <p:cNvPicPr/>
          <p:nvPr/>
        </p:nvPicPr>
        <p:blipFill>
          <a:blip r:embed="rId2"/>
          <a:stretch/>
        </p:blipFill>
        <p:spPr>
          <a:xfrm>
            <a:off x="4860000" y="1052640"/>
            <a:ext cx="3384000" cy="253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Музей старинных ремесел и технологий Дудутки в плане Минск /…"/>
          <p:cNvPicPr/>
          <p:nvPr/>
        </p:nvPicPr>
        <p:blipFill>
          <a:blip r:embed="rId3"/>
          <a:stretch/>
        </p:blipFill>
        <p:spPr>
          <a:xfrm>
            <a:off x="4788000" y="3789000"/>
            <a:ext cx="3744000" cy="275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Психология и соционика * Про Беларусь и не только"/>
          <p:cNvPicPr/>
          <p:nvPr/>
        </p:nvPicPr>
        <p:blipFill>
          <a:blip r:embed="rId4"/>
          <a:stretch/>
        </p:blipFill>
        <p:spPr>
          <a:xfrm>
            <a:off x="467640" y="3861000"/>
            <a:ext cx="3816000" cy="267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822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200" spc="-100" strike="noStrike">
                <a:solidFill>
                  <a:srgbClr val="f9f9f9"/>
                </a:solidFill>
                <a:latin typeface="Constantia"/>
              </a:rPr>
              <a:t>Государственные праздники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877120" cy="3096000"/>
          </a:xfrm>
          <a:prstGeom prst="rect">
            <a:avLst/>
          </a:prstGeom>
          <a:ln w="9525">
            <a:noFill/>
          </a:ln>
        </p:spPr>
      </p:pic>
      <p:sp>
        <p:nvSpPr>
          <p:cNvPr id="179" name="Прямоугольник 5"/>
          <p:cNvSpPr/>
          <p:nvPr/>
        </p:nvSpPr>
        <p:spPr>
          <a:xfrm>
            <a:off x="395640" y="4293000"/>
            <a:ext cx="324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 Независимости – главный государственный праздник. Он отмечается 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3 июля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– в день освобождения в 1944 году города Минска от немецко-фашистских захват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Содержимое 7" descr="загруженное.jpg"/>
          <p:cNvPicPr/>
          <p:nvPr/>
        </p:nvPicPr>
        <p:blipFill>
          <a:blip r:embed="rId2"/>
          <a:stretch/>
        </p:blipFill>
        <p:spPr>
          <a:xfrm>
            <a:off x="4356000" y="1124640"/>
            <a:ext cx="3168000" cy="23727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7"/>
          <p:cNvSpPr/>
          <p:nvPr/>
        </p:nvSpPr>
        <p:spPr>
          <a:xfrm>
            <a:off x="3780000" y="3573000"/>
            <a:ext cx="48240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2-е воскресенье мая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– День Государственного флага Республики Беларусь и Государственного герба Республики Беларусь. Праздник посвящен главным символам страны, которые воплощают идеи национального единства и являются важнейшими атрибутами суверенитета и независимости Бела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115640" y="188640"/>
            <a:ext cx="6912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Пасха –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один из главных праздников христи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Пасха в Беларуси, источник: usebelarusy.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3640" y="1845000"/>
            <a:ext cx="7488360" cy="396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3" descr="http://probelarus.by/tmp/generate_pic/upload/page/4081.jpg!250!10000!reduce.jpg"/>
          <p:cNvPicPr/>
          <p:nvPr/>
        </p:nvPicPr>
        <p:blipFill>
          <a:blip r:embed="rId1"/>
          <a:stretch/>
        </p:blipFill>
        <p:spPr>
          <a:xfrm>
            <a:off x="467640" y="620640"/>
            <a:ext cx="4464000" cy="374400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2" descr="Как готовить кулич :: BlogRider.ru"/>
          <p:cNvPicPr/>
          <p:nvPr/>
        </p:nvPicPr>
        <p:blipFill>
          <a:blip r:embed="rId2"/>
          <a:stretch/>
        </p:blipFill>
        <p:spPr>
          <a:xfrm>
            <a:off x="3780000" y="2781000"/>
            <a:ext cx="4678560" cy="35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http://www.wonderfulnature.ru/statji/Easter_divine%20service.jpg"/>
          <p:cNvPicPr/>
          <p:nvPr/>
        </p:nvPicPr>
        <p:blipFill>
          <a:blip r:embed="rId1"/>
          <a:stretch/>
        </p:blipFill>
        <p:spPr>
          <a:xfrm>
            <a:off x="899640" y="620640"/>
            <a:ext cx="3960000" cy="288000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2" descr="Вкус Польши - РУССКАЯ СЛУЖБА"/>
          <p:cNvPicPr/>
          <p:nvPr/>
        </p:nvPicPr>
        <p:blipFill>
          <a:blip r:embed="rId2"/>
          <a:stretch/>
        </p:blipFill>
        <p:spPr>
          <a:xfrm>
            <a:off x="3852000" y="2997000"/>
            <a:ext cx="4680000" cy="31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тногенез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68000" y="1484640"/>
            <a:ext cx="48963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тногенез белорусов происходил на территории Верхнего Поднепровья, Среднего Подвинья, и Верхнего Понемонья. Нет единого мнения о хронологических рамках формирования белорусской народности. Первый зафиксированный  случай употребления термина «белорус» относится к 1586 году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9" name="Содержимое 14" descr="267870.jpg"/>
          <p:cNvPicPr/>
          <p:nvPr/>
        </p:nvPicPr>
        <p:blipFill>
          <a:blip r:embed="rId1"/>
          <a:stretch/>
        </p:blipFill>
        <p:spPr>
          <a:xfrm>
            <a:off x="683640" y="1628640"/>
            <a:ext cx="3434400" cy="43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Пасха 2014 в Гатчине. Славянка Инфо - информационный портал Санкт-Петербурга и Ленинградской области"/>
          <p:cNvPicPr/>
          <p:nvPr/>
        </p:nvPicPr>
        <p:blipFill>
          <a:blip r:embed="rId1"/>
          <a:stretch/>
        </p:blipFill>
        <p:spPr>
          <a:xfrm>
            <a:off x="899640" y="692640"/>
            <a:ext cx="6912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http://www.wonderfulnature.ru/statji/Easter_hristosovanie.jpg"/>
          <p:cNvPicPr/>
          <p:nvPr/>
        </p:nvPicPr>
        <p:blipFill>
          <a:blip r:embed="rId1"/>
          <a:stretch/>
        </p:blipFill>
        <p:spPr>
          <a:xfrm>
            <a:off x="5292000" y="4077000"/>
            <a:ext cx="3289320" cy="183276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2" descr="Архив материалов - МАОУ Приданниковская СОШ"/>
          <p:cNvPicPr/>
          <p:nvPr/>
        </p:nvPicPr>
        <p:blipFill>
          <a:blip r:embed="rId2"/>
          <a:stretch/>
        </p:blipFill>
        <p:spPr>
          <a:xfrm>
            <a:off x="755640" y="764640"/>
            <a:ext cx="3456000" cy="259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Пасха 06-5 / Превью / О Открытки Христианские / Сортировка по дате возр. / Картинки пользователя Prostota / Все картинки / Фотог"/>
          <p:cNvPicPr/>
          <p:nvPr/>
        </p:nvPicPr>
        <p:blipFill>
          <a:blip r:embed="rId3"/>
          <a:stretch/>
        </p:blipFill>
        <p:spPr>
          <a:xfrm>
            <a:off x="4572000" y="692640"/>
            <a:ext cx="3816000" cy="2647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Оренбург: Orki.ru - Новости Оренбург, Объявления Оренбург, погода, Оренбург online: все новости"/>
          <p:cNvPicPr/>
          <p:nvPr/>
        </p:nvPicPr>
        <p:blipFill>
          <a:blip r:embed="rId4"/>
          <a:stretch/>
        </p:blipFill>
        <p:spPr>
          <a:xfrm>
            <a:off x="611640" y="3717000"/>
            <a:ext cx="4122000" cy="23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Совместные покупки на МИРСП.РФ * Просмотр темы - Скоро Пасха…"/>
          <p:cNvPicPr/>
          <p:nvPr/>
        </p:nvPicPr>
        <p:blipFill>
          <a:blip r:embed="rId1"/>
          <a:stretch/>
        </p:blipFill>
        <p:spPr>
          <a:xfrm>
            <a:off x="467640" y="476640"/>
            <a:ext cx="3767040" cy="306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Мастерклассы &quot; Страница 1693"/>
          <p:cNvPicPr/>
          <p:nvPr/>
        </p:nvPicPr>
        <p:blipFill>
          <a:blip r:embed="rId2"/>
          <a:stretch/>
        </p:blipFill>
        <p:spPr>
          <a:xfrm>
            <a:off x="4716000" y="476640"/>
            <a:ext cx="3816000" cy="3124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&quot;Волшебный мир цветов и рукоделия&quot;: темы"/>
          <p:cNvPicPr/>
          <p:nvPr/>
        </p:nvPicPr>
        <p:blipFill>
          <a:blip r:embed="rId3"/>
          <a:stretch/>
        </p:blipFill>
        <p:spPr>
          <a:xfrm>
            <a:off x="827640" y="3645000"/>
            <a:ext cx="2968920" cy="273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Готовимся к пасхе. Идеи. Декупаж яиц."/>
          <p:cNvPicPr/>
          <p:nvPr/>
        </p:nvPicPr>
        <p:blipFill>
          <a:blip r:embed="rId4"/>
          <a:stretch/>
        </p:blipFill>
        <p:spPr>
          <a:xfrm>
            <a:off x="4860000" y="3717000"/>
            <a:ext cx="3603600" cy="26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Страна проживани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1640" y="1523880"/>
            <a:ext cx="324000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marL="250560" indent="-2505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еларусь -Государство в Восточной Европе. Граничит с Россией на востоке, Украиной на юге, Польшей на западе, Литвой и Латвией на северо-запад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0560" indent="-2505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административном отношении состоит из шести областей, которые, в свою очередь, делятся на районы и могут включать города областного подчинения. Столица Республики Беларусь — Минск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3" descr="C:\Documents and Settings\Maxim\Мои документы\Downloads\139b53e93e6502046aebf218fd261e0c.jpg"/>
          <p:cNvPicPr/>
          <p:nvPr/>
        </p:nvPicPr>
        <p:blipFill>
          <a:blip r:embed="rId1"/>
          <a:stretch/>
        </p:blipFill>
        <p:spPr>
          <a:xfrm>
            <a:off x="3636000" y="1772640"/>
            <a:ext cx="4968360" cy="451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5508000" y="476640"/>
            <a:ext cx="1816200" cy="90792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7524360" y="332640"/>
            <a:ext cx="1223640" cy="12157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240" cy="822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200" spc="-100" strike="noStrike">
                <a:solidFill>
                  <a:srgbClr val="f9f9f9"/>
                </a:solidFill>
                <a:latin typeface="Constantia"/>
              </a:rPr>
              <a:t>Мужской национальный костю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Picture 4" descr="Костюм"/>
          <p:cNvPicPr/>
          <p:nvPr/>
        </p:nvPicPr>
        <p:blipFill>
          <a:blip r:embed="rId1"/>
          <a:stretch/>
        </p:blipFill>
        <p:spPr>
          <a:xfrm>
            <a:off x="2771640" y="1484640"/>
            <a:ext cx="2520000" cy="478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Культура Белоруссии - Фото 16582/37"/>
          <p:cNvPicPr/>
          <p:nvPr/>
        </p:nvPicPr>
        <p:blipFill>
          <a:blip r:embed="rId2"/>
          <a:stretch/>
        </p:blipFill>
        <p:spPr>
          <a:xfrm>
            <a:off x="251640" y="1124640"/>
            <a:ext cx="2781000" cy="42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Тесты по курсу &quot;Краеведение и этнография Белеруси&quot; для студентов 1 курса специальности"/>
          <p:cNvPicPr/>
          <p:nvPr/>
        </p:nvPicPr>
        <p:blipFill>
          <a:blip r:embed="rId3"/>
          <a:stretch/>
        </p:blipFill>
        <p:spPr>
          <a:xfrm>
            <a:off x="6876360" y="1124640"/>
            <a:ext cx="1848600" cy="470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Мужские костюмы беларусь"/>
          <p:cNvPicPr/>
          <p:nvPr/>
        </p:nvPicPr>
        <p:blipFill>
          <a:blip r:embed="rId4"/>
          <a:stretch/>
        </p:blipFill>
        <p:spPr>
          <a:xfrm>
            <a:off x="5220000" y="2205000"/>
            <a:ext cx="165600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678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200" spc="-100" strike="noStrike">
                <a:solidFill>
                  <a:srgbClr val="f9f9f9"/>
                </a:solidFill>
                <a:latin typeface="Constantia"/>
              </a:rPr>
              <a:t>Женский национальный костюм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9" descr="Beloruska_zhenska_nosija.jpg"/>
          <p:cNvPicPr/>
          <p:nvPr/>
        </p:nvPicPr>
        <p:blipFill>
          <a:blip r:embed="rId1"/>
          <a:stretch/>
        </p:blipFill>
        <p:spPr>
          <a:xfrm>
            <a:off x="395640" y="980640"/>
            <a:ext cx="2736000" cy="45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Белорусская национальная одежда - МИНСК - СТОЛИЦА БЕЛАРУСИ"/>
          <p:cNvPicPr/>
          <p:nvPr/>
        </p:nvPicPr>
        <p:blipFill>
          <a:blip r:embed="rId2"/>
          <a:srcRect l="0" t="-380" r="0" b="0"/>
          <a:stretch/>
        </p:blipFill>
        <p:spPr>
          <a:xfrm>
            <a:off x="5364000" y="980640"/>
            <a:ext cx="3322080" cy="456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Мужские костюмы беларусь"/>
          <p:cNvPicPr/>
          <p:nvPr/>
        </p:nvPicPr>
        <p:blipFill>
          <a:blip r:embed="rId3"/>
          <a:srcRect l="0" t="-1593" r="0" b="0"/>
          <a:stretch/>
        </p:blipFill>
        <p:spPr>
          <a:xfrm>
            <a:off x="3492000" y="1196640"/>
            <a:ext cx="156312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4000" y="332640"/>
            <a:ext cx="2746440" cy="756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00" strike="noStrike">
                <a:solidFill>
                  <a:srgbClr val="f9f9f9"/>
                </a:solidFill>
                <a:latin typeface="Constantia"/>
              </a:rPr>
              <a:t>Жилище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Picture 2" descr="Изба, крытая соломой. Молдаване. Бессарабская губ. Начало XX в - Смотреть на Мета Фото онлайн бесплатно - 19 век"/>
          <p:cNvPicPr/>
          <p:nvPr/>
        </p:nvPicPr>
        <p:blipFill>
          <a:blip r:embed="rId1"/>
          <a:stretch/>
        </p:blipFill>
        <p:spPr>
          <a:xfrm>
            <a:off x="3996000" y="2997000"/>
            <a:ext cx="4752000" cy="328572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9" descr="800px-Stroczycy_2008_06.jpg"/>
          <p:cNvPicPr/>
          <p:nvPr/>
        </p:nvPicPr>
        <p:blipFill>
          <a:blip r:embed="rId2"/>
          <a:stretch/>
        </p:blipFill>
        <p:spPr>
          <a:xfrm>
            <a:off x="251640" y="1052640"/>
            <a:ext cx="460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4"/>
          <p:cNvSpPr/>
          <p:nvPr/>
        </p:nvSpPr>
        <p:spPr>
          <a:xfrm>
            <a:off x="3020760" y="332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71640" y="1124640"/>
            <a:ext cx="7128360" cy="534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5"/>
          <p:cNvSpPr/>
          <p:nvPr/>
        </p:nvSpPr>
        <p:spPr>
          <a:xfrm>
            <a:off x="3020760" y="188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115640" y="1052640"/>
            <a:ext cx="6912360" cy="518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4"/>
          <p:cNvSpPr/>
          <p:nvPr/>
        </p:nvSpPr>
        <p:spPr>
          <a:xfrm>
            <a:off x="2948760" y="260640"/>
            <a:ext cx="297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827640" y="1124640"/>
            <a:ext cx="7351920" cy="48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379</TotalTime>
  <Application>LibreOffice/7.4.7.2$Linux_X86_64 LibreOffice_project/40$Build-2</Application>
  <AppVersion>15.0000</AppVersion>
  <Words>96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кулич</cp:lastModifiedBy>
  <dcterms:modified xsi:type="dcterms:W3CDTF">2016-01-20T17:23:37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